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wmf" ContentType="image/x-wmf"/>
  <Override PartName="/ppt/media/image6.wmf" ContentType="image/x-wmf"/>
  <Override PartName="/ppt/media/image19.jpeg" ContentType="image/jpeg"/>
  <Override PartName="/ppt/media/image4.wmf" ContentType="image/x-wmf"/>
  <Override PartName="/ppt/media/image3.wmf" ContentType="image/x-wmf"/>
  <Override PartName="/ppt/media/image2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5.png" ContentType="image/png"/>
  <Override PartName="/ppt/media/image14.wmf" ContentType="image/x-wmf"/>
  <Override PartName="/ppt/media/image13.jpeg" ContentType="image/jpeg"/>
  <Override PartName="/ppt/media/image24.png" ContentType="image/png"/>
  <Override PartName="/ppt/media/image1.png" ContentType="image/png"/>
  <Override PartName="/ppt/media/image16.png" ContentType="image/png"/>
  <Override PartName="/ppt/media/wind.wav" ContentType="audio/x-wav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06DD-6350-4069-9DFE-DA5FC1F905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Мбоу Полх-Майданская сош  учитель физики и математики КозинаТ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DD84-D349-4BE2-99E7-21886EEA6B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Задачи на прогрес – сии,дошедшие до нас из древности,  были связаны с запросами хозяйственной жизни: распределение продуктов,деление наследства,строи-  тельство,размеже- вание земельных наде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6E29-E3B1-4A43-9893-ED126B5314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Задача из египетского папируса Ахмеса: «Пусть тебе сказано: раздели 10 мер ячменя между 10 человеками,разность же между каждым человеком и его соседом равна одной восьмой 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65B4-F4A0-4025-9BAC-37E452ED83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Карл Гаусс(1777-185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шёл моменталь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умму всех натураль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х чисел от 1 д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будучи ещё ученик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чальной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Решение:1+2+3+4+….+99+100=(1+100)+(2+99)+ (3+98)+…..=101*50=5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51B4-FE9C-464F-9F57-91F125FC31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Индийский царь Шерам позвал к себе изобрета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ля шахматной игры,своего подданного Сету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тобы наградить его за остроумную выдум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ета,издеваясь над царём,по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ребовал за первую клетку шах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матной доски 1 зерно,за втор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2 зерна,за третью 4 зерн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Обрадованный царь посмеял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д Сетой,и приказал выда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ему такую награду.Решение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Геометрическая прогре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 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1;2;4;8;….  b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=1;q=2;n=64.S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64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=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                   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313F-6F11-40DC-806C-2380498353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Прогрессии в наше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4EB9-433B-4AAB-8485-1AE2F87093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А.С Пушкин «Евгений Онеги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…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.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Как мы не бились отличить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Ямб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чётных слогах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2;4;6;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Хорей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нечётных слогах сти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: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1;3;5;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6873-5649-4F46-83BC-9584A37D52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Ямб: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«Мой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дя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дя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мых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чест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х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ра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вил…»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Арифметическая прогрессия: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2;4;6;8;……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Хорей: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«Я про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ал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как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зверь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в за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го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е .» Б.Л.Пастернак. 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рифметическая прогрессия:</a:t>
            </a:r>
            <a:br>
              <a:rPr sz="1200"/>
            </a:b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;3;5;7;…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5E58-25E3-41D5-811C-539AC711A9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При хранение брёвен строевого леса,их укладывают так,как показано на рису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колько брёвен находи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одной кладке,если в её ос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ании положить 12 брёвен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Решение:а</a:t>
            </a:r>
            <a:r>
              <a:rPr b="0" lang="ru-RU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=12;а</a:t>
            </a:r>
            <a:r>
              <a:rPr b="0" lang="ru-RU" sz="9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=11;а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d=1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a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+(n-1)d;n=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;S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78.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1666-4495-4B70-BE93-0F1098CA20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 благоприятных условиях бактерии размножаются так,что на протяжении одной минуты одна из них делится на две.Указать количество бактерий,рождённых одной бактерией за 7 минут.  Решение:Геометри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кая прогрессия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;q=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n=7.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1C2E-473E-478B-AFCF-6CD7CEAA5D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Бесконечно убывающая  геометрическая про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Геометрическая прогрессия называется бесконечно убывающей,если модуль её знаменателя меньше еди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уммой бесконечно убывающей геометрической прогрессии называют  число,к которому стремится сумма её первых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членов при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 n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  <a:ea typeface="Arial"/>
              </a:rPr>
              <a:t>→</a:t>
            </a:r>
            <a:r>
              <a:rPr b="1" i="1" lang="en-US" sz="1200" spc="-1" strike="noStrike">
                <a:solidFill>
                  <a:srgbClr val="ff33cc"/>
                </a:solidFill>
                <a:latin typeface="Century Schoolbook"/>
                <a:ea typeface="Arial"/>
              </a:rPr>
              <a:t>∞</a:t>
            </a:r>
            <a:r>
              <a:rPr b="1" i="1" lang="ru-RU" sz="1200" spc="-1" strike="noStrike">
                <a:solidFill>
                  <a:srgbClr val="ff33cc"/>
                </a:solidFill>
                <a:latin typeface="Century Schoolbook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DBC7-E947-44E9-BF30-AADC15985B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Закончился двадцатый 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Куда стремится челове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Изучен космос и мор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Строенье звёзд и вся зем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Но математиков зов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Известный лозун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«Прогрессия-движение вперёд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456F-B18C-41FD-A1E5-0424BE0B53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Формирование: понятий последовательность, арифметическая и геометрическая прогрессии, бесконечно убывающая геометрическая прогрессия,  умений работать с формулами.  Формирование умений видеть связь математики с жиз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Развитие у учащихся познавательного интереса, памяти,речи,мышления,внимания,навыков самостоятельной работы,умения проводить аналогию,сравн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Воспитание у учащихся ответственности,   добросовестности,дисциплины,самостоятельности,навыков общения со сверстниками,интерес к истории математики,инициативу и твор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94E5-227E-4DD3-AA65-A3D2043F06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знать:определение арифметической,геометрической, бесконечно  убывающей геометрической прогрессий, 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 прогрессий,знать,что такое числовая последовательность и способы её зад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уметь:распознавать арифметическую и геометрическую прогрессии,применять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 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прогрессий к решению задач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3F14-FE7F-4A0C-9379-12320F53F0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исловая последовательность-одно  из основных понятий матема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В математике изучаются бесконеч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е числовые последова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…а</a:t>
            </a:r>
            <a:r>
              <a:rPr b="1" i="1" lang="en-US" sz="1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исло 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называют первым членом  последовательности,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2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зывают вторым членом последовательнос- ти и т.д. а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зывают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м членом последова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B38E-2D94-4D7F-866C-0759822C9C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Прогрессии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частные виды после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довательнос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встречаются в древ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них египетских папи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русах и в клинопис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ных табличках вавилоня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13AE-8C4E-485E-8008-54B8C66344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рифметическая и геометрическая прогр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6AB2-1CF2-49A7-B688-6B4815228B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Зная эти формулы, можно решить много интересных задач  исторического,  литературного и   практического содерж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A344-F717-4F0F-A0D7-4460656102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таринные  задачи через   века 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797F-BE73-4437-A532-3B29A0F7D4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8B1-8668-42DD-A462-A35BB7FB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1BD-D93F-435F-9F00-5CBBB60F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A32-1E35-4B55-8B10-A1794CD4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7FED-A09E-4B9A-8166-DA59D6DA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8A23-E466-46F2-8966-9E521F55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E91D-9A9D-4AB8-9690-DB76DE1C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F65B-9537-47DE-B1FF-AC2283D5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3FC9-7768-4448-801C-2835AA53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684B-9391-4174-84B0-B59A0954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CAD9-942A-47D0-A11B-DBFF69E6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C737-C529-4A9D-A125-AC7C2A9D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2E4-DC46-4617-8110-549AA6A5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8B71-C00E-493E-B087-B785CAA7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1E23-597C-4114-8EA8-14F30210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6631-A9AE-4779-AF6D-D6DA4741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D4DF-10D8-4E21-B5B6-3790BBD6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DBDC-EDAE-4EDA-BA52-A7B0D1EA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4226-3518-4FA8-B2A1-0B18EBD5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A34-8271-4B8D-86DB-A737EBA9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5D8-D1EE-4492-902C-08AFBD13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197-0BAC-4AFE-B8AA-3F2431A4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8A8-6ACD-4823-808F-3D8FE5C3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1DC-1ECE-4ECA-9FD0-629F1271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2B1-3433-48FF-B472-5B5BF7C3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796C-494B-4DD6-9147-22D44664F4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D21A-1477-4D73-9875-30C738929FB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1116000" y="1557360"/>
            <a:ext cx="7586640" cy="29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2f"/>
                    </a:gs>
                    <a:gs pos="100000">
                      <a:srgbClr val="ff0066"/>
                    </a:gs>
                  </a:gsLst>
                  <a:lin ang="2700000"/>
                </a:gradFill>
                <a:latin typeface="Impact"/>
              </a:rPr>
              <a:t>прогр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2f"/>
                  </a:gs>
                  <a:gs pos="100000">
                    <a:srgbClr val="ff0066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19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Мбоу Полх-Майданская сош  учитель физики и математики КозинаТ.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35640" y="1653840"/>
            <a:ext cx="40370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Задачи на прогрес – сии,дошедшие до нас из древности,  были связаны с запросами хозяйственной жизни: распределение продуктов,деление наследства,строи-  тельство,размеже- вание земельных наде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2400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468360" y="1628640"/>
            <a:ext cx="822960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4209840" cy="3254400"/>
          </a:xfrm>
          <a:prstGeom prst="rect">
            <a:avLst/>
          </a:prstGeom>
          <a:ln w="0">
            <a:noFill/>
          </a:ln>
        </p:spPr>
      </p:pic>
      <p:sp>
        <p:nvSpPr>
          <p:cNvPr id="263" name="WordArt 7"/>
          <p:cNvSpPr txBox="1"/>
          <p:nvPr/>
        </p:nvSpPr>
        <p:spPr>
          <a:xfrm>
            <a:off x="826920" y="0"/>
            <a:ext cx="713592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древности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Задача из египетского папируса Ахмеса: «Пусть тебе сказано: раздели 10 мер ячменя между 10 человеками,разность же между каждым человеком и его соседом равна одной восьмой ме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1835280" y="-243000"/>
            <a:ext cx="4868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3809880" cy="25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Object 6"/>
          <p:cNvGraphicFramePr/>
          <p:nvPr/>
        </p:nvGraphicFramePr>
        <p:xfrm>
          <a:off x="4430880" y="4127400"/>
          <a:ext cx="2990520" cy="12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30880" y="4127400"/>
                    <a:ext cx="2990520" cy="1251000"/>
                  </a:xfrm>
                  <a:prstGeom prst="rect">
                    <a:avLst/>
                  </a:prstGeom>
                  <a:ln w="381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71" name="Picture 7" descr=""/>
          <p:cNvPicPr/>
          <p:nvPr/>
        </p:nvPicPr>
        <p:blipFill>
          <a:blip r:embed="rId4"/>
          <a:stretch/>
        </p:blipFill>
        <p:spPr>
          <a:xfrm>
            <a:off x="4500720" y="5589720"/>
            <a:ext cx="3036600" cy="9158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5" name="wind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016160" y="1630080"/>
            <a:ext cx="407988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Карл Гаусс(1777-185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шёл момента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сумму всех натураль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ых чисел от 1 до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будучи ещё учени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чальной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Решение: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1+2+3+4+….+99+100=(1+100)+(2+99)+ (3+98)+…..=101*50=50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24000" y="1700280"/>
            <a:ext cx="3771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1077840" y="1884240"/>
            <a:ext cx="2282760" cy="340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3"/>
          <a:stretch/>
        </p:blipFill>
        <p:spPr>
          <a:xfrm>
            <a:off x="684360" y="1773360"/>
            <a:ext cx="2979720" cy="3819240"/>
          </a:xfrm>
          <a:prstGeom prst="rect">
            <a:avLst/>
          </a:prstGeom>
          <a:ln w="0">
            <a:noFill/>
          </a:ln>
        </p:spPr>
      </p:pic>
      <p:sp>
        <p:nvSpPr>
          <p:cNvPr id="279" name="WordArt 8"/>
          <p:cNvSpPr txBox="1"/>
          <p:nvPr/>
        </p:nvSpPr>
        <p:spPr>
          <a:xfrm>
            <a:off x="2195640" y="0"/>
            <a:ext cx="422100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Герм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Индийский царь Шерам позвал к себе изобретат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ля шахматной игры,своего подданного Сету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чтобы наградить его за остроумную выдум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Сета,издеваясь над царём,по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ребовал за первую клетку шах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матной доски 1 зерно,за втор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2 зерна,за третью 4 зерна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Обрадованный царь посмеял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д Сетой,и приказал выд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ему такую награду.Решение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Геометрическая прог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1;2;4;8;….  b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=1;q=2;n=64.S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64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=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                   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WordArt 4"/>
          <p:cNvSpPr txBox="1"/>
          <p:nvPr/>
        </p:nvSpPr>
        <p:spPr>
          <a:xfrm>
            <a:off x="1979640" y="0"/>
            <a:ext cx="49658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Задача-леген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4500720" y="6093000"/>
            <a:ext cx="1539720" cy="67932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332000" cy="1185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2922480" cy="36464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cc"/>
                </a:solidFill>
                <a:latin typeface="Arial"/>
              </a:rPr>
              <a:t>Прогрессии в нашей жизни.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2916360" y="3645000"/>
            <a:ext cx="2903400" cy="2870280"/>
          </a:xfrm>
          <a:prstGeom prst="rect">
            <a:avLst/>
          </a:prstGeom>
          <a:ln w="0">
            <a:noFill/>
          </a:ln>
        </p:spPr>
      </p:pic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А.С Пушкин «Евгений Онегин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…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.Не мог он ямба от хоре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Как мы не бились отличить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Ямб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чётных слогах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2;4;6;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Хорей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нечётных слогах сти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: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1;3;5;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1042920" y="115920"/>
            <a:ext cx="74851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литерату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71280" y="292428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Ямб: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«Мой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я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дя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мых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ест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ных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ра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вил…»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Арифметическая прогрессия: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2;4;6;8;……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орей: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«Я про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ал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как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верь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в за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го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не .» Б.Л.Пастернак. 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рифметическая прогрессия: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;3;5;7;…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936800" cy="2259000"/>
          </a:xfrm>
          <a:prstGeom prst="rect">
            <a:avLst/>
          </a:prstGeom>
          <a:ln w="0">
            <a:noFill/>
          </a:ln>
        </p:spPr>
      </p:pic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При хранение брёвен строевого леса,их укладывают так,как показано на рису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Сколько брёвен находится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одной кладке,если в её осн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вании положить 12 брёвен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Решение:а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=12;а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=11;а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=1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a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+(n-1)d;n=1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;S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78.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WordArt 4"/>
          <p:cNvSpPr txBox="1"/>
          <p:nvPr/>
        </p:nvSpPr>
        <p:spPr>
          <a:xfrm>
            <a:off x="1979640" y="0"/>
            <a:ext cx="51530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Строитель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3127320" cy="2251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2"/>
          <a:stretch/>
        </p:blipFill>
        <p:spPr>
          <a:xfrm>
            <a:off x="3995640" y="5157720"/>
            <a:ext cx="2178000" cy="6588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В благоприятных условиях бактерии размножаются так,что на протяжении одной минуты одна из них делится на две.Указать количество бактерий,рождённых одной бактерией за 7 минут.  Решение:Геометриче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ская прогрессия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;q=2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n=7.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2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WordArt 4"/>
          <p:cNvSpPr txBox="1"/>
          <p:nvPr/>
        </p:nvSpPr>
        <p:spPr>
          <a:xfrm>
            <a:off x="1042920" y="260280"/>
            <a:ext cx="6402600" cy="13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биолог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250920" y="3867120"/>
            <a:ext cx="2952720" cy="2990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1828800" cy="8082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8840" y="430200"/>
            <a:ext cx="7956360" cy="98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Бесконечно убывающая  геометрическая прогресси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Геометрическая прогрессия называется бесконечно убывающей,если модуль её знаменателя меньше един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Суммой бесконечно убывающей геометрической прогрессии называют  число,к которому стремится сумма её первых 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членов при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 n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  <a:ea typeface="Arial"/>
              </a:rPr>
              <a:t>→</a:t>
            </a:r>
            <a:r>
              <a:rPr b="1" i="1" lang="en-US" sz="2800" spc="-1" strike="noStrike">
                <a:solidFill>
                  <a:srgbClr val="ff33cc"/>
                </a:solidFill>
                <a:latin typeface="Century Schoolbook"/>
                <a:ea typeface="Arial"/>
              </a:rPr>
              <a:t>∞</a:t>
            </a:r>
            <a:r>
              <a:rPr b="1" i="1" lang="ru-RU" sz="2800" spc="-1" strike="noStrike">
                <a:solidFill>
                  <a:srgbClr val="ff33cc"/>
                </a:solidFill>
                <a:latin typeface="Century Schoolbook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771640" y="5373720"/>
            <a:ext cx="3440160" cy="11937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Закончился двадцатый 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Куда стремится челов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зучен космос и мор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Строенье звёзд и вся зем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Но математиков зовё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звестный лозунг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«Прогрессия-движение вперёд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WordArt 3"/>
          <p:cNvSpPr txBox="1"/>
          <p:nvPr/>
        </p:nvSpPr>
        <p:spPr>
          <a:xfrm>
            <a:off x="1042920" y="836640"/>
            <a:ext cx="6265800" cy="20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316" name="WordArt 4"/>
          <p:cNvSpPr txBox="1"/>
          <p:nvPr/>
        </p:nvSpPr>
        <p:spPr>
          <a:xfrm>
            <a:off x="1476360" y="3429000"/>
            <a:ext cx="691668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Формирование: понятий последовательность, арифметическая и геометрическая прогрессии, бесконечно убывающая геометрическая прогрессия,  умений работать с формулами.  Формирование умений видеть связь математики с жизн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Развитие у учащихся познавательного интереса, памяти,речи,мышления,внимания,навыков самостоятельной работы,умения проводить аналогию,сравни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Воспитание у учащихся ответственности,   добросовестности,дисциплины,самостоятельности,навыков общения со сверстниками,интерес к истории математики,инициативу и твор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476360" y="189000"/>
            <a:ext cx="542304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Основные ц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знать:определение арифметической,геометрической, бесконечно  убывающей геометрической прогрессий, 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 прогрессий,знать,что такое числовая последовательность и способы её зада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уметь:распознавать арифметическую и геометрическую прогрессии,применять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 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прогрессий к решению задач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324000" y="0"/>
            <a:ext cx="869148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Требования к математической подготов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Числовая последовательность-одно  из основных понятий матема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В математике изучаются бесконеч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ые числовые последова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…а</a:t>
            </a:r>
            <a:r>
              <a:rPr b="1" i="1" lang="en-US" sz="2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Число 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 называют первым членом  последовательности,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2 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азывают вторым членом последовательнос- ти и т.д. а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азывают </a:t>
            </a:r>
            <a:r>
              <a:rPr b="1" i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-м членом последова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250920" y="0"/>
            <a:ext cx="8572320" cy="17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Числовая последовате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Прогрессии ка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частные виды после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довательност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встречаются в древ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их египетских папи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русах и в клинопи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ых табличках вавилоня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1403280" y="189000"/>
            <a:ext cx="51134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971640" y="1701720"/>
            <a:ext cx="2985840" cy="433224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рифметическая и геометрическая прогресси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24000" y="1844640"/>
          <a:ext cx="8662680" cy="4753080"/>
        </p:xfrm>
        <a:graphic>
          <a:graphicData uri="http://schemas.openxmlformats.org/drawingml/2006/table">
            <a:tbl>
              <a:tblPr/>
              <a:tblGrid>
                <a:gridCol w="2867040"/>
                <a:gridCol w="2952720"/>
                <a:gridCol w="284292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Прогресс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Арифметиче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Геометриче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=a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+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=b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Формула </a:t>
                      </a: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-го  член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умма </a:t>
                      </a: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-первых чле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вой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Picture 29" descr="Рисунок1"/>
          <p:cNvPicPr/>
          <p:nvPr/>
        </p:nvPicPr>
        <p:blipFill>
          <a:blip r:embed="rId1"/>
          <a:stretch/>
        </p:blipFill>
        <p:spPr>
          <a:xfrm>
            <a:off x="3780000" y="5805360"/>
            <a:ext cx="1871640" cy="776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0" descr="Рисунок2"/>
          <p:cNvPicPr/>
          <p:nvPr/>
        </p:nvPicPr>
        <p:blipFill>
          <a:blip r:embed="rId2"/>
          <a:stretch/>
        </p:blipFill>
        <p:spPr>
          <a:xfrm>
            <a:off x="6372360" y="5805360"/>
            <a:ext cx="2382840" cy="639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1" descr=""/>
          <p:cNvPicPr/>
          <p:nvPr/>
        </p:nvPicPr>
        <p:blipFill>
          <a:blip r:embed="rId3"/>
          <a:stretch/>
        </p:blipFill>
        <p:spPr>
          <a:xfrm>
            <a:off x="6443640" y="4508640"/>
            <a:ext cx="2300400" cy="10141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7" name="Picture 32" descr="Рисунок1"/>
          <p:cNvPicPr/>
          <p:nvPr/>
        </p:nvPicPr>
        <p:blipFill>
          <a:blip r:embed="rId4"/>
          <a:stretch/>
        </p:blipFill>
        <p:spPr>
          <a:xfrm>
            <a:off x="3203640" y="3573360"/>
            <a:ext cx="2817720" cy="6098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8" name="Picture 33" descr="Рисунок2"/>
          <p:cNvPicPr/>
          <p:nvPr/>
        </p:nvPicPr>
        <p:blipFill>
          <a:blip r:embed="rId5"/>
          <a:stretch/>
        </p:blipFill>
        <p:spPr>
          <a:xfrm>
            <a:off x="6516720" y="3500280"/>
            <a:ext cx="2162160" cy="6732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9" name="Picture 34" descr=""/>
          <p:cNvPicPr/>
          <p:nvPr/>
        </p:nvPicPr>
        <p:blipFill>
          <a:blip r:embed="rId6"/>
          <a:stretch/>
        </p:blipFill>
        <p:spPr>
          <a:xfrm>
            <a:off x="3276720" y="4797360"/>
            <a:ext cx="2854080" cy="5540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7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cc"/>
                </a:solidFill>
                <a:latin typeface="Arial"/>
              </a:rPr>
              <a:t>Зная эти формулы, можно решить много интересных задач  исторического,  литературного и   практического содержания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4653000"/>
            <a:ext cx="1940040" cy="21034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cc"/>
                </a:solidFill>
                <a:latin typeface="Arial"/>
              </a:rPr>
              <a:t>Старинные  задачи через   века и страны.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585120" y="0"/>
            <a:ext cx="2558880" cy="1790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0" y="4960800"/>
            <a:ext cx="2371680" cy="18972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12:37Z</dcterms:created>
  <dc:creator>Admin</dc:creator>
  <dc:description/>
  <dc:language>en-US</dc:language>
  <cp:lastModifiedBy>LEGION</cp:lastModifiedBy>
  <dcterms:modified xsi:type="dcterms:W3CDTF">2015-03-30T08:27:48Z</dcterms:modified>
  <cp:revision>93</cp:revision>
  <dc:subject/>
  <dc:title>Слайд 1</dc:title>
</cp:coreProperties>
</file>