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C944-4A39-4A89-8835-876C014BDD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146F-6039-4750-862D-116D984001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щади меньш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4378-75BD-43F3-B15B-4A9CD1A1A13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Приме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C170-F0E4-48ED-9AE2-051E6AC3EA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47DF-1162-4F54-A353-BC663A91F75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8ADF-4A9E-45BE-BF1F-18935073D8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весом 500 Н, находящийся на поршне площадь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00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A249-FD89-4D95-949B-213C6C86EE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силу нужно приложить к меньшему поршню площадью 0,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днять тело массой 200 кг, находящееся на поршне площадью 10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2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4A99-1CAF-42EF-806E-FBE12FDB4A7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ие механизмы необходимы в жизн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озволяют доби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а  в си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1B0A-1190-4E1E-96D9-A02983A9C1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ξ 47, вопро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невматические машины и  инструмен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готовить действующий макет гидравлического пр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ва шприца разных объемов, соломинку для коктейля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066A-1BFC-4CA1-827A-45A742657A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м. Рт. Ст.-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=9,8 н/кг*13600кг/м*0,001м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мм.рт.ст.=133,3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422-AADB-4C7E-80B8-B2355B5EE8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5 мм рт ст = ? 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06D-F328-4B72-B505-0B547B8D4D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554F-5DA5-4E1C-AA6F-A95AACB57D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равлический  п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C2AA-BC30-46FD-888C-8C50AE5AD9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, работающие при помощи какой-нибудь жидкости,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дравлическ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гре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ид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 -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да, жидк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D8BD-6AE0-401A-9DB3-3A415AF99E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0BE6-29EC-43CD-AD7C-3A0CDE8511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авлического п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зак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аска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ообщаю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S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По закону Паскаля имеем равенство давлений в обоих цилиндрах: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=p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6E86-CD6B-4DCB-A320-2EAB652F1C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CD0F-A1F1-45DF-8376-E80F26019D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A1A-FEDC-4DCB-961D-57155E8A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6B3-C39D-4FDD-AFE5-E6ADAF38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B88-22A2-4A6A-84FD-F791FDBE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C83-953A-4608-A0D6-63B12914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1D0F-A2A1-4080-B71F-43692A1C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CC5F-346F-407A-9795-B47EAA9D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79E-7EB7-4597-A5A8-5DFF3C91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35DF-E19F-4033-9C23-4143E00B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51FD-51C1-414A-B770-7629206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4EC5-B841-4CD6-B8CD-6FE5688E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8CC6-F1D1-4477-A3FA-721597C7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4BD-0B54-49DD-8E2F-16E9F02A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4282-41E6-4DD8-A65E-28661F12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27B8-A573-4E4D-A736-908B75E4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F022-800E-4EEB-BBD8-FF7CCABB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6036-903D-405E-8CB9-D3D6CCAA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A966-C7D3-4B2D-9E45-EC443E29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EE8-B04F-4832-9E5B-B8BA7D30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9E9-47D8-4853-8681-5EFB5B2F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134-5FDF-4831-8951-7B66B32B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18E-BC44-47C7-93B5-1D4E4E09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2DD-AD1B-4FB9-ABCB-04EDC87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922-82B0-4704-B27F-265CD16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92F-4036-4A8C-9CEB-3F24EB7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225-0E8D-45D0-A143-4EF59237A46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5347-A264-48FC-8537-CBC304FA0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0DF-7FDC-4525-9022-2364079CF64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907A-A3A2-49E2-AB65-3AC7AC625A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2.tif"/>
          <p:cNvPicPr/>
          <p:nvPr/>
        </p:nvPicPr>
        <p:blipFill>
          <a:blip r:embed="rId1"/>
          <a:stretch/>
        </p:blipFill>
        <p:spPr>
          <a:xfrm>
            <a:off x="2071800" y="285840"/>
            <a:ext cx="3429000" cy="605448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3" descr="1.tif"/>
          <p:cNvPicPr/>
          <p:nvPr/>
        </p:nvPicPr>
        <p:blipFill>
          <a:blip r:embed="rId2"/>
          <a:stretch/>
        </p:blipFill>
        <p:spPr>
          <a:xfrm>
            <a:off x="1928880" y="285840"/>
            <a:ext cx="3643200" cy="6229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2854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 работе гидравлического пресса создается выигрыш в силе, равный отношению площади большего порш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 площади меньшего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Группа 16"/>
          <p:cNvGrpSpPr/>
          <p:nvPr/>
        </p:nvGrpSpPr>
        <p:grpSpPr>
          <a:xfrm>
            <a:off x="2857680" y="4286160"/>
            <a:ext cx="2961360" cy="2262960"/>
            <a:chOff x="2857680" y="4286160"/>
            <a:chExt cx="2961360" cy="22629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2862720" y="435744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оугольник 4"/>
            <p:cNvSpPr/>
            <p:nvPr/>
          </p:nvSpPr>
          <p:spPr>
            <a:xfrm>
              <a:off x="2857680" y="5357880"/>
              <a:ext cx="9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F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оугольник 5"/>
            <p:cNvSpPr/>
            <p:nvPr/>
          </p:nvSpPr>
          <p:spPr>
            <a:xfrm>
              <a:off x="4863240" y="428616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оугольник 6"/>
            <p:cNvSpPr/>
            <p:nvPr/>
          </p:nvSpPr>
          <p:spPr>
            <a:xfrm>
              <a:off x="4934520" y="5357880"/>
              <a:ext cx="88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r>
                <a:rPr b="0" lang="ru-RU" sz="4400" spc="-1" strike="noStrike">
                  <a:solidFill>
                    <a:srgbClr val="c00000"/>
                  </a:solidFill>
                  <a:latin typeface="Calibri"/>
                </a:rPr>
                <a:t>2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8"/>
            <p:cNvSpPr/>
            <p:nvPr/>
          </p:nvSpPr>
          <p:spPr>
            <a:xfrm>
              <a:off x="29289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9"/>
            <p:cNvSpPr/>
            <p:nvPr/>
          </p:nvSpPr>
          <p:spPr>
            <a:xfrm>
              <a:off x="5000760" y="550080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1"/>
            <p:cNvSpPr/>
            <p:nvPr/>
          </p:nvSpPr>
          <p:spPr>
            <a:xfrm>
              <a:off x="4000680" y="564372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2"/>
            <p:cNvSpPr/>
            <p:nvPr/>
          </p:nvSpPr>
          <p:spPr>
            <a:xfrm>
              <a:off x="4000680" y="5357880"/>
              <a:ext cx="785520" cy="1440"/>
            </a:xfrm>
            <a:prstGeom prst="line">
              <a:avLst/>
            </a:prstGeom>
            <a:ln w="38160">
              <a:solidFill>
                <a:srgbClr val="00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Управляющая кнопка: назад 13">
            <a:hlinkClick r:id="rId1" action="ppaction://hlinksldjump"/>
          </p:cNvPr>
          <p:cNvSpPr/>
          <p:nvPr/>
        </p:nvSpPr>
        <p:spPr>
          <a:xfrm>
            <a:off x="821520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Arial"/>
              </a:rPr>
              <a:t>Применение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600200"/>
            <a:ext cx="461484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2" descr="D:\Кривобокова\физика\открытый урок\i.jpg"/>
          <p:cNvPicPr/>
          <p:nvPr/>
        </p:nvPicPr>
        <p:blipFill>
          <a:blip r:embed="rId1"/>
          <a:stretch/>
        </p:blipFill>
        <p:spPr>
          <a:xfrm>
            <a:off x="0" y="0"/>
            <a:ext cx="3002040" cy="3214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D:\Кривобокова\физика\открытый урок\i1.jpg"/>
          <p:cNvPicPr/>
          <p:nvPr/>
        </p:nvPicPr>
        <p:blipFill>
          <a:blip r:embed="rId2"/>
          <a:stretch/>
        </p:blipFill>
        <p:spPr>
          <a:xfrm>
            <a:off x="2928960" y="0"/>
            <a:ext cx="2428920" cy="3255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D:\Кривобокова\физика\открытый урок\i4.jpg"/>
          <p:cNvPicPr/>
          <p:nvPr/>
        </p:nvPicPr>
        <p:blipFill>
          <a:blip r:embed="rId3"/>
          <a:stretch/>
        </p:blipFill>
        <p:spPr>
          <a:xfrm>
            <a:off x="5786280" y="0"/>
            <a:ext cx="2826000" cy="3473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:\Кривобокова\физика\открытый урок\i7.jpg"/>
          <p:cNvPicPr/>
          <p:nvPr/>
        </p:nvPicPr>
        <p:blipFill>
          <a:blip r:embed="rId4"/>
          <a:stretch/>
        </p:blipFill>
        <p:spPr>
          <a:xfrm>
            <a:off x="214200" y="3497400"/>
            <a:ext cx="2286000" cy="3360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D:\Кривобокова\физика\открытый урок\i2.jpg"/>
          <p:cNvPicPr/>
          <p:nvPr/>
        </p:nvPicPr>
        <p:blipFill>
          <a:blip r:embed="rId5"/>
          <a:stretch/>
        </p:blipFill>
        <p:spPr>
          <a:xfrm>
            <a:off x="2928960" y="3500280"/>
            <a:ext cx="2610000" cy="335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D:\Кривобокова\физика\открытый урок\i5.jpg"/>
          <p:cNvPicPr/>
          <p:nvPr/>
        </p:nvPicPr>
        <p:blipFill>
          <a:blip r:embed="rId6"/>
          <a:stretch/>
        </p:blipFill>
        <p:spPr>
          <a:xfrm>
            <a:off x="6000840" y="3500280"/>
            <a:ext cx="2528640" cy="33577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4" name="Picture 2" descr="D:\Кривобокова\физика\открытый урок\гайковерт.jpg"/>
          <p:cNvPicPr/>
          <p:nvPr/>
        </p:nvPicPr>
        <p:blipFill>
          <a:blip r:embed="rId1"/>
          <a:stretch/>
        </p:blipFill>
        <p:spPr>
          <a:xfrm>
            <a:off x="0" y="714240"/>
            <a:ext cx="2847960" cy="2847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D:\Кривобокова\физика\открытый урок\гидроножницы.jpg"/>
          <p:cNvPicPr/>
          <p:nvPr/>
        </p:nvPicPr>
        <p:blipFill>
          <a:blip r:embed="rId2"/>
          <a:stretch/>
        </p:blipFill>
        <p:spPr>
          <a:xfrm>
            <a:off x="3000240" y="714240"/>
            <a:ext cx="3048120" cy="2500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D:\Кривобокова\физика\открытый урок\для масла.jpg"/>
          <p:cNvPicPr/>
          <p:nvPr/>
        </p:nvPicPr>
        <p:blipFill>
          <a:blip r:embed="rId3"/>
          <a:srcRect l="20600" t="0" r="21474" b="0"/>
          <a:stretch/>
        </p:blipFill>
        <p:spPr>
          <a:xfrm>
            <a:off x="6072120" y="79200"/>
            <a:ext cx="2786040" cy="34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D:\Кривобокова\физика\открытый урок\дд.jpg"/>
          <p:cNvPicPr/>
          <p:nvPr/>
        </p:nvPicPr>
        <p:blipFill>
          <a:blip r:embed="rId4"/>
          <a:stretch/>
        </p:blipFill>
        <p:spPr>
          <a:xfrm>
            <a:off x="-77760" y="364320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D:\Кривобокова\физика\открытый урок\для поднятия грузов.jpg"/>
          <p:cNvPicPr/>
          <p:nvPr/>
        </p:nvPicPr>
        <p:blipFill>
          <a:blip r:embed="rId5"/>
          <a:stretch/>
        </p:blipFill>
        <p:spPr>
          <a:xfrm>
            <a:off x="3214800" y="3214800"/>
            <a:ext cx="2898720" cy="36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D:\Кривобокова\физика\открытый урок\домкрат.jpg"/>
          <p:cNvPicPr/>
          <p:nvPr/>
        </p:nvPicPr>
        <p:blipFill>
          <a:blip r:embed="rId6"/>
          <a:stretch/>
        </p:blipFill>
        <p:spPr>
          <a:xfrm>
            <a:off x="6500880" y="3571920"/>
            <a:ext cx="2643120" cy="3286080"/>
          </a:xfrm>
          <a:prstGeom prst="rect">
            <a:avLst/>
          </a:prstGeom>
          <a:ln w="0">
            <a:noFill/>
          </a:ln>
        </p:spPr>
      </p:pic>
      <p:sp>
        <p:nvSpPr>
          <p:cNvPr id="320" name="Управляющая кнопка: далее 9">
            <a:hlinkClick r:id="rId7" action="ppaction://hlinksldjump"/>
          </p:cNvPr>
          <p:cNvSpPr/>
          <p:nvPr/>
        </p:nvSpPr>
        <p:spPr>
          <a:xfrm>
            <a:off x="8643960" y="635796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3794"/>
                </a:moveTo>
                <a:lnTo>
                  <a:pt x="25890" y="10800"/>
                </a:lnTo>
                <a:lnTo>
                  <a:pt x="1187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весом 500 Н, находящийся на поршне площадью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760" y="214308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00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ая соединительная линия 4"/>
          <p:cNvSpPr/>
          <p:nvPr/>
        </p:nvSpPr>
        <p:spPr>
          <a:xfrm flipH="1">
            <a:off x="2142720" y="2357280"/>
            <a:ext cx="1800" cy="2502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ая соединительная линия 6"/>
          <p:cNvSpPr/>
          <p:nvPr/>
        </p:nvSpPr>
        <p:spPr>
          <a:xfrm>
            <a:off x="500040" y="4357800"/>
            <a:ext cx="1643040" cy="1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2786040" y="17859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Группа 29"/>
          <p:cNvGrpSpPr/>
          <p:nvPr/>
        </p:nvGrpSpPr>
        <p:grpSpPr>
          <a:xfrm>
            <a:off x="2857680" y="4000680"/>
            <a:ext cx="2131920" cy="825120"/>
            <a:chOff x="2857680" y="4000680"/>
            <a:chExt cx="2131920" cy="825120"/>
          </a:xfrm>
        </p:grpSpPr>
        <p:sp>
          <p:nvSpPr>
            <p:cNvPr id="328" name="Прямоугольник 10"/>
            <p:cNvSpPr/>
            <p:nvPr/>
          </p:nvSpPr>
          <p:spPr>
            <a:xfrm>
              <a:off x="2857680" y="4000680"/>
              <a:ext cx="7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оугольник 11"/>
            <p:cNvSpPr/>
            <p:nvPr/>
          </p:nvSpPr>
          <p:spPr>
            <a:xfrm>
              <a:off x="3714480" y="4000680"/>
              <a:ext cx="127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·</a:t>
              </a: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14"/>
            <p:cNvSpPr/>
            <p:nvPr/>
          </p:nvSpPr>
          <p:spPr>
            <a:xfrm flipV="1">
              <a:off x="3714120" y="4286160"/>
              <a:ext cx="12747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12"/>
          <p:cNvSpPr/>
          <p:nvPr/>
        </p:nvSpPr>
        <p:spPr>
          <a:xfrm>
            <a:off x="2857680" y="52149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3571920" y="5000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5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6"/>
          <p:cNvSpPr/>
          <p:nvPr/>
        </p:nvSpPr>
        <p:spPr>
          <a:xfrm>
            <a:off x="4071960" y="550080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18"/>
          <p:cNvSpPr/>
          <p:nvPr/>
        </p:nvSpPr>
        <p:spPr>
          <a:xfrm>
            <a:off x="3571920" y="5500800"/>
            <a:ext cx="214308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5857920" y="5214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3214800" y="607212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25000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Группа 28"/>
          <p:cNvGrpSpPr/>
          <p:nvPr/>
        </p:nvGrpSpPr>
        <p:grpSpPr>
          <a:xfrm>
            <a:off x="2857680" y="2714760"/>
            <a:ext cx="1668240" cy="940680"/>
            <a:chOff x="2857680" y="2714760"/>
            <a:chExt cx="1668240" cy="940680"/>
          </a:xfrm>
        </p:grpSpPr>
        <p:sp>
          <p:nvSpPr>
            <p:cNvPr id="338" name="TextBox 8"/>
            <p:cNvSpPr/>
            <p:nvPr/>
          </p:nvSpPr>
          <p:spPr>
            <a:xfrm>
              <a:off x="2857680" y="271476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оугольник 17"/>
            <p:cNvSpPr/>
            <p:nvPr/>
          </p:nvSpPr>
          <p:spPr>
            <a:xfrm>
              <a:off x="286092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оугольник 22"/>
            <p:cNvSpPr/>
            <p:nvPr/>
          </p:nvSpPr>
          <p:spPr>
            <a:xfrm>
              <a:off x="4003560" y="27147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оугольник 23"/>
            <p:cNvSpPr/>
            <p:nvPr/>
          </p:nvSpPr>
          <p:spPr>
            <a:xfrm>
              <a:off x="4003560" y="3074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25"/>
            <p:cNvSpPr/>
            <p:nvPr/>
          </p:nvSpPr>
          <p:spPr>
            <a:xfrm>
              <a:off x="2928960" y="321480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26"/>
            <p:cNvSpPr/>
            <p:nvPr/>
          </p:nvSpPr>
          <p:spPr>
            <a:xfrm>
              <a:off x="4000680" y="3214800"/>
              <a:ext cx="500040" cy="288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Box 27"/>
            <p:cNvSpPr/>
            <p:nvPr/>
          </p:nvSpPr>
          <p:spPr>
            <a:xfrm>
              <a:off x="3429000" y="289440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Управляющая кнопка: далее 24">
            <a:hlinkClick r:id="rId1" action="ppaction://hlinksldjump"/>
          </p:cNvPr>
          <p:cNvSpPr/>
          <p:nvPr/>
        </p:nvSpPr>
        <p:spPr>
          <a:xfrm>
            <a:off x="8215200" y="6286680"/>
            <a:ext cx="714600" cy="285480"/>
          </a:xfrm>
          <a:custGeom>
            <a:avLst/>
            <a:gdLst>
              <a:gd name="textAreaLeft" fmla="*/ 18360 w 714600"/>
              <a:gd name="textAreaRight" fmla="*/ 696240 w 71460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акую силу нужно приложить к меньшему поршню площадью 0,1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, чтобы поднять тело массой 200 кг, находящееся на поршне площадью 10 м</a:t>
            </a:r>
            <a:r>
              <a:rPr b="0" lang="ru-RU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1828800" cy="28288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,1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0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 flipH="1">
            <a:off x="2141640" y="1714680"/>
            <a:ext cx="1440" cy="2501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500040" y="3786120"/>
            <a:ext cx="1643040" cy="18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2714760" y="2071800"/>
            <a:ext cx="2571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9"/>
          <p:cNvSpPr/>
          <p:nvPr/>
        </p:nvSpPr>
        <p:spPr>
          <a:xfrm>
            <a:off x="2643120" y="128592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0"/>
          <p:cNvSpPr/>
          <p:nvPr/>
        </p:nvSpPr>
        <p:spPr>
          <a:xfrm>
            <a:off x="2934000" y="3143160"/>
            <a:ext cx="7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1"/>
          <p:cNvSpPr/>
          <p:nvPr/>
        </p:nvSpPr>
        <p:spPr>
          <a:xfrm>
            <a:off x="3714840" y="364320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V="1">
            <a:off x="3714120" y="3929040"/>
            <a:ext cx="1274760" cy="144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571680" y="54291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1285920" y="5143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96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· 0,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1571760" y="578628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>
            <a:off x="1285920" y="5715000"/>
            <a:ext cx="2357280" cy="0"/>
          </a:xfrm>
          <a:prstGeom prst="line">
            <a:avLst/>
          </a:prstGeom>
          <a:ln w="9360">
            <a:solidFill>
              <a:srgbClr val="008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9"/>
          <p:cNvSpPr/>
          <p:nvPr/>
        </p:nvSpPr>
        <p:spPr>
          <a:xfrm>
            <a:off x="3786120" y="535788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5143680" y="60008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19,6 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7"/>
          <p:cNvSpPr/>
          <p:nvPr/>
        </p:nvSpPr>
        <p:spPr>
          <a:xfrm>
            <a:off x="285768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 = m ·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Box 20"/>
          <p:cNvSpPr/>
          <p:nvPr/>
        </p:nvSpPr>
        <p:spPr>
          <a:xfrm>
            <a:off x="3071880" y="435780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20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г · 9,8 Н/кг=196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Группа 22"/>
          <p:cNvGrpSpPr/>
          <p:nvPr/>
        </p:nvGrpSpPr>
        <p:grpSpPr>
          <a:xfrm>
            <a:off x="3071880" y="1643040"/>
            <a:ext cx="1668240" cy="1152720"/>
            <a:chOff x="3071880" y="1643040"/>
            <a:chExt cx="1668240" cy="1152720"/>
          </a:xfrm>
        </p:grpSpPr>
        <p:sp>
          <p:nvSpPr>
            <p:cNvPr id="365" name="TextBox 23"/>
            <p:cNvSpPr/>
            <p:nvPr/>
          </p:nvSpPr>
          <p:spPr>
            <a:xfrm>
              <a:off x="3071880" y="1643040"/>
              <a:ext cx="85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оугольник 24"/>
            <p:cNvSpPr/>
            <p:nvPr/>
          </p:nvSpPr>
          <p:spPr>
            <a:xfrm>
              <a:off x="307512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оугольник 25"/>
            <p:cNvSpPr/>
            <p:nvPr/>
          </p:nvSpPr>
          <p:spPr>
            <a:xfrm>
              <a:off x="4217760" y="164304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оугольник 26"/>
            <p:cNvSpPr/>
            <p:nvPr/>
          </p:nvSpPr>
          <p:spPr>
            <a:xfrm>
              <a:off x="4217760" y="2214360"/>
              <a:ext cx="52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27"/>
            <p:cNvSpPr/>
            <p:nvPr/>
          </p:nvSpPr>
          <p:spPr>
            <a:xfrm>
              <a:off x="314316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28"/>
            <p:cNvSpPr/>
            <p:nvPr/>
          </p:nvSpPr>
          <p:spPr>
            <a:xfrm>
              <a:off x="4214880" y="2214360"/>
              <a:ext cx="50004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TextBox 29"/>
            <p:cNvSpPr/>
            <p:nvPr/>
          </p:nvSpPr>
          <p:spPr>
            <a:xfrm>
              <a:off x="3643200" y="1928520"/>
              <a:ext cx="2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идравлические механизмы необходимы в жизни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ни позволяют добиватьс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игрыша  в си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Управляющая кнопка: назад 3">
            <a:hlinkClick r:id="rId1" action="ppaction://hlinksldjump"/>
          </p:cNvPr>
          <p:cNvSpPr/>
          <p:nvPr/>
        </p:nvSpPr>
        <p:spPr>
          <a:xfrm>
            <a:off x="8358120" y="6357960"/>
            <a:ext cx="428760" cy="28584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86" h="21600">
                <a:moveTo>
                  <a:pt x="0" y="0"/>
                </a:moveTo>
                <a:lnTo>
                  <a:pt x="32386" y="0"/>
                </a:lnTo>
                <a:lnTo>
                  <a:pt x="32386" y="21600"/>
                </a:lnTo>
                <a:lnTo>
                  <a:pt x="0" y="21600"/>
                </a:lnTo>
                <a:close/>
              </a:path>
              <a:path fill="lightenLess" w="32386" h="21600">
                <a:moveTo>
                  <a:pt x="0" y="0"/>
                </a:moveTo>
                <a:lnTo>
                  <a:pt x="32386" y="0"/>
                </a:lnTo>
                <a:lnTo>
                  <a:pt x="30986" y="1400"/>
                </a:lnTo>
                <a:lnTo>
                  <a:pt x="1400" y="1400"/>
                </a:lnTo>
                <a:close/>
              </a:path>
              <a:path fill="darken" w="32386" h="21600">
                <a:moveTo>
                  <a:pt x="32386" y="0"/>
                </a:moveTo>
                <a:lnTo>
                  <a:pt x="32386" y="21600"/>
                </a:lnTo>
                <a:lnTo>
                  <a:pt x="30986" y="20200"/>
                </a:lnTo>
                <a:lnTo>
                  <a:pt x="30986" y="1400"/>
                </a:lnTo>
                <a:close/>
              </a:path>
              <a:path fill="darkenLess" w="32386" h="21600">
                <a:moveTo>
                  <a:pt x="32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6" y="20200"/>
                </a:lnTo>
                <a:close/>
              </a:path>
              <a:path fill="lighten" w="32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6" h="21600">
                <a:moveTo>
                  <a:pt x="9187" y="10800"/>
                </a:moveTo>
                <a:lnTo>
                  <a:pt x="23200" y="3794"/>
                </a:lnTo>
                <a:lnTo>
                  <a:pt x="23200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3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ξ 47, вопросы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Пневматические машины и  инструменты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- Изготовить действующий макет гидравлического пре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два шприца разных объемов, соломинку для коктейля)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928800"/>
            <a:ext cx="21859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lnSpc>
                <a:spcPct val="60000"/>
              </a:lnSpc>
              <a:spcBef>
                <a:spcPts val="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 мм. Рт. Ст.-? П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=9,8 н/кг*13600кг/м*0,001м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мм.рт.ст.=133,3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680" y="2785680"/>
            <a:ext cx="81151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765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1 мм рт ст = ? П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42960" y="164304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1 мм рт сс = 133,3 П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214200" y="4357800"/>
            <a:ext cx="821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765 мм рт ст = 133,3 Па · 765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01974,5 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C:\Documents and Settings\Кривобокова\Мои документы\Мои рисунки\003.tif"/>
          <p:cNvPicPr/>
          <p:nvPr/>
        </p:nvPicPr>
        <p:blipFill>
          <a:blip r:embed="rId1"/>
          <a:stretch/>
        </p:blipFill>
        <p:spPr>
          <a:xfrm>
            <a:off x="119160" y="214200"/>
            <a:ext cx="9024840" cy="635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Кривобокова\Мои документы\Мои рисунки\01.tif"/>
          <p:cNvPicPr/>
          <p:nvPr/>
        </p:nvPicPr>
        <p:blipFill>
          <a:blip r:embed="rId2"/>
          <a:srcRect l="4156" t="8788" r="5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Arial"/>
              </a:rPr>
              <a:t>Рано или поздно каждый автомобилист сталкивается с проблемой замены пробитых колес. Масса легкового автомобиля приблизительно 1,5 т. Как поменять пробитое колесо?</a:t>
            </a:r>
            <a:br>
              <a:rPr sz="3600"/>
            </a:b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D:\Кривобокова\физика\открытый урок\колеса.jpg"/>
          <p:cNvPicPr/>
          <p:nvPr/>
        </p:nvPicPr>
        <p:blipFill>
          <a:blip r:embed="rId1"/>
          <a:stretch/>
        </p:blipFill>
        <p:spPr>
          <a:xfrm>
            <a:off x="1857240" y="2500200"/>
            <a:ext cx="5400720" cy="387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D:\Кривобокова\физика\открытый урок\замдам.jpg"/>
          <p:cNvPicPr/>
          <p:nvPr/>
        </p:nvPicPr>
        <p:blipFill>
          <a:blip r:embed="rId2"/>
          <a:stretch/>
        </p:blipFill>
        <p:spPr>
          <a:xfrm>
            <a:off x="1571760" y="2143080"/>
            <a:ext cx="5943600" cy="4462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Гидравлический  пресс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599840"/>
            <a:ext cx="72579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8e66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ханизмы, работающие при помощи какой-нибудь жидкости, называются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идравлическими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греч.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гидо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" - </a:t>
            </a: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вода, жидкость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хема гидравлического п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Содержимое 3" descr="http://www.fizika.ru/theory/tema-15/15e-i2.gif"/>
          <p:cNvPicPr/>
          <p:nvPr/>
        </p:nvPicPr>
        <p:blipFill>
          <a:blip r:embed="rId1"/>
          <a:srcRect l="18362" t="0" r="0" b="0"/>
          <a:stretch/>
        </p:blipFill>
        <p:spPr>
          <a:xfrm>
            <a:off x="1857240" y="1285920"/>
            <a:ext cx="5715000" cy="47149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2858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1,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Прямая со стрелкой 6"/>
          <p:cNvCxnSpPr>
            <a:stCxn id="245" idx="2"/>
          </p:cNvCxnSpPr>
          <p:nvPr/>
        </p:nvCxnSpPr>
        <p:spPr>
          <a:xfrm>
            <a:off x="1176840" y="2513160"/>
            <a:ext cx="965880" cy="1488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7" name="TextBox 7"/>
          <p:cNvSpPr/>
          <p:nvPr/>
        </p:nvSpPr>
        <p:spPr>
          <a:xfrm>
            <a:off x="707220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ршень 2,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 flipH="1" flipV="1">
            <a:off x="6857280" y="3285360"/>
            <a:ext cx="894600" cy="1786680"/>
          </a:xfrm>
          <a:prstGeom prst="straightConnector1">
            <a:avLst/>
          </a:prstGeom>
          <a:ln w="9360">
            <a:solidFill>
              <a:srgbClr val="0088e8"/>
            </a:solidFill>
            <a:miter/>
            <a:tailEnd len="med" type="arrow" w="med"/>
          </a:ln>
        </p:spPr>
      </p:cxnSp>
      <p:sp>
        <p:nvSpPr>
          <p:cNvPr id="2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786120" y="428760"/>
            <a:ext cx="5143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стройство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гидравлического пресс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сновано на законе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0000"/>
                </a:solidFill>
                <a:latin typeface="Arial"/>
              </a:rPr>
              <a:t>Паска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ва сообщающихся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lnSpc>
                <a:spcPct val="7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суда наполнены однородной жидкостью и закрыты двумя поршнями, площади которых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и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ru-RU" sz="31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 По закону Паскаля имеем равенство давлений в обоих цилиндрах: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 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=p</a:t>
            </a:r>
            <a:r>
              <a:rPr b="0" lang="ru-RU" sz="4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11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Содержимое 3" descr="http://www.fizika.ru/theory/tema-15/15e-i2.gif"/>
          <p:cNvPicPr/>
          <p:nvPr/>
        </p:nvPicPr>
        <p:blipFill>
          <a:blip r:embed="rId1"/>
          <a:srcRect l="18756" t="0" r="0" b="0"/>
          <a:stretch/>
        </p:blipFill>
        <p:spPr>
          <a:xfrm>
            <a:off x="428760" y="1643040"/>
            <a:ext cx="3857400" cy="35006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Содержимое 5" descr="http://www.fizika.ru/theory/tema-15/15e-i3.gif"/>
          <p:cNvPicPr/>
          <p:nvPr/>
        </p:nvPicPr>
        <p:blipFill>
          <a:blip r:embed="rId1"/>
          <a:stretch/>
        </p:blipFill>
        <p:spPr>
          <a:xfrm>
            <a:off x="0" y="0"/>
            <a:ext cx="5857920" cy="45007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6643800" y="164304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2"/>
          <p:cNvSpPr/>
          <p:nvPr/>
        </p:nvSpPr>
        <p:spPr>
          <a:xfrm>
            <a:off x="6143760" y="4643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3"/>
          <p:cNvSpPr/>
          <p:nvPr/>
        </p:nvSpPr>
        <p:spPr>
          <a:xfrm>
            <a:off x="5801400" y="585792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4"/>
          <p:cNvSpPr/>
          <p:nvPr/>
        </p:nvSpPr>
        <p:spPr>
          <a:xfrm>
            <a:off x="4861080" y="4500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1290240" y="4500720"/>
            <a:ext cx="6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6572160" y="114300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АСК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Группа 68"/>
          <p:cNvGrpSpPr/>
          <p:nvPr/>
        </p:nvGrpSpPr>
        <p:grpSpPr>
          <a:xfrm>
            <a:off x="6643800" y="2500200"/>
            <a:ext cx="1928880" cy="1203480"/>
            <a:chOff x="6643800" y="2500200"/>
            <a:chExt cx="1928880" cy="1203480"/>
          </a:xfrm>
        </p:grpSpPr>
        <p:sp>
          <p:nvSpPr>
            <p:cNvPr id="263" name="Прямоугольник 19"/>
            <p:cNvSpPr/>
            <p:nvPr/>
          </p:nvSpPr>
          <p:spPr>
            <a:xfrm>
              <a:off x="7505280" y="3000240"/>
              <a:ext cx="59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7500960" y="2500200"/>
              <a:ext cx="107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Группа 41"/>
            <p:cNvGrpSpPr/>
            <p:nvPr/>
          </p:nvGrpSpPr>
          <p:grpSpPr>
            <a:xfrm>
              <a:off x="6643800" y="2786040"/>
              <a:ext cx="1428840" cy="703440"/>
              <a:chOff x="6643800" y="2786040"/>
              <a:chExt cx="1428840" cy="703440"/>
            </a:xfrm>
          </p:grpSpPr>
          <p:sp>
            <p:nvSpPr>
              <p:cNvPr id="266" name="Прямоугольник 8"/>
              <p:cNvSpPr/>
              <p:nvPr/>
            </p:nvSpPr>
            <p:spPr>
              <a:xfrm>
                <a:off x="6643800" y="2786040"/>
                <a:ext cx="1000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p</a:t>
                </a: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r>
                  <a:rPr b="0" lang="ru-RU" sz="4000" spc="-1" strike="noStrike">
                    <a:solidFill>
                      <a:srgbClr val="ffffff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Прямая соединительная линия 25"/>
              <p:cNvSpPr/>
              <p:nvPr/>
            </p:nvSpPr>
            <p:spPr>
              <a:xfrm>
                <a:off x="7572600" y="3071880"/>
                <a:ext cx="500040" cy="1440"/>
              </a:xfrm>
              <a:prstGeom prst="line">
                <a:avLst/>
              </a:prstGeom>
              <a:ln w="38160">
                <a:solidFill>
                  <a:srgbClr val="008a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Прямоугольник 27"/>
          <p:cNvSpPr/>
          <p:nvPr/>
        </p:nvSpPr>
        <p:spPr>
          <a:xfrm>
            <a:off x="7500960" y="421488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7434000" y="3500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6647760" y="3857760"/>
            <a:ext cx="8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30"/>
          <p:cNvSpPr/>
          <p:nvPr/>
        </p:nvSpPr>
        <p:spPr>
          <a:xfrm>
            <a:off x="7572240" y="4214880"/>
            <a:ext cx="500040" cy="1440"/>
          </a:xfrm>
          <a:prstGeom prst="line">
            <a:avLst/>
          </a:prstGeom>
          <a:ln w="381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>
            <a:off x="614808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2"/>
          <p:cNvSpPr/>
          <p:nvPr/>
        </p:nvSpPr>
        <p:spPr>
          <a:xfrm>
            <a:off x="7362720" y="464328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3"/>
          <p:cNvSpPr/>
          <p:nvPr/>
        </p:nvSpPr>
        <p:spPr>
          <a:xfrm>
            <a:off x="7434000" y="5214960"/>
            <a:ext cx="5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Группа 43"/>
          <p:cNvGrpSpPr/>
          <p:nvPr/>
        </p:nvGrpSpPr>
        <p:grpSpPr>
          <a:xfrm>
            <a:off x="6143760" y="4929120"/>
            <a:ext cx="1857240" cy="703440"/>
            <a:chOff x="6143760" y="4929120"/>
            <a:chExt cx="1857240" cy="703440"/>
          </a:xfrm>
        </p:grpSpPr>
        <p:sp>
          <p:nvSpPr>
            <p:cNvPr id="276" name="Прямая соединительная линия 35"/>
            <p:cNvSpPr/>
            <p:nvPr/>
          </p:nvSpPr>
          <p:spPr>
            <a:xfrm>
              <a:off x="614376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39"/>
            <p:cNvSpPr/>
            <p:nvPr/>
          </p:nvSpPr>
          <p:spPr>
            <a:xfrm>
              <a:off x="7429680" y="5286240"/>
              <a:ext cx="57132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Box 40"/>
            <p:cNvSpPr/>
            <p:nvPr/>
          </p:nvSpPr>
          <p:spPr>
            <a:xfrm>
              <a:off x="6858000" y="492912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Прямоугольник 44"/>
          <p:cNvSpPr/>
          <p:nvPr/>
        </p:nvSpPr>
        <p:spPr>
          <a:xfrm>
            <a:off x="121860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46"/>
          <p:cNvSpPr/>
          <p:nvPr/>
        </p:nvSpPr>
        <p:spPr>
          <a:xfrm>
            <a:off x="121860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51"/>
          <p:cNvSpPr/>
          <p:nvPr/>
        </p:nvSpPr>
        <p:spPr>
          <a:xfrm>
            <a:off x="2576160" y="51436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52"/>
          <p:cNvSpPr/>
          <p:nvPr/>
        </p:nvSpPr>
        <p:spPr>
          <a:xfrm>
            <a:off x="2576160" y="571500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Группа 65"/>
          <p:cNvGrpSpPr/>
          <p:nvPr/>
        </p:nvGrpSpPr>
        <p:grpSpPr>
          <a:xfrm>
            <a:off x="1214280" y="5357880"/>
            <a:ext cx="2000520" cy="764280"/>
            <a:chOff x="1214280" y="5357880"/>
            <a:chExt cx="2000520" cy="764280"/>
          </a:xfrm>
        </p:grpSpPr>
        <p:sp>
          <p:nvSpPr>
            <p:cNvPr id="284" name="Прямая соединительная линия 48"/>
            <p:cNvSpPr/>
            <p:nvPr/>
          </p:nvSpPr>
          <p:spPr>
            <a:xfrm>
              <a:off x="121428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оугольник 49"/>
            <p:cNvSpPr/>
            <p:nvPr/>
          </p:nvSpPr>
          <p:spPr>
            <a:xfrm>
              <a:off x="2002680" y="5357880"/>
              <a:ext cx="45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=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64"/>
            <p:cNvSpPr/>
            <p:nvPr/>
          </p:nvSpPr>
          <p:spPr>
            <a:xfrm>
              <a:off x="2571840" y="5786640"/>
              <a:ext cx="642960" cy="1440"/>
            </a:xfrm>
            <a:prstGeom prst="line">
              <a:avLst/>
            </a:prstGeom>
            <a:ln w="38160">
              <a:solidFill>
                <a:srgbClr val="008a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Управляющая кнопка: далее 37">
            <a:hlinkClick r:id="rId2" action="ppaction://hlinksldjump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f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3a1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9:24Z</dcterms:created>
  <dc:creator>Осичковская сош</dc:creator>
  <dc:description/>
  <dc:language>en-US</dc:language>
  <cp:lastModifiedBy>LEGION</cp:lastModifiedBy>
  <dcterms:modified xsi:type="dcterms:W3CDTF">2015-03-30T08:36:57Z</dcterms:modified>
  <cp:revision>60</cp:revision>
  <dc:subject/>
  <dc:title>Слайд 1</dc:title>
</cp:coreProperties>
</file>