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9B4D-8C99-427F-9EB8-68AF7F6E80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C3B7-7AAA-454A-8E38-5C9004081A4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гидравлического пресса создается выигрыш в силе, равный отношению площади большего пор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лощади меньш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80EC-F220-4BA5-9CD8-62F499265D2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Приме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4D9A-9E5E-460F-9B81-9A00A90BF93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57B9-05DC-46EE-8A9F-96C60D85D80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25CC-F57C-4EFB-9FE6-2C9B59E9768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силу нужно приложить к меньшему поршню площадью 0,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поднять тело весом 500 Н, находящийся на поршне площадь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500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C7EF-18E9-4927-8F9D-B7247268CAF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силу нужно приложить к меньшему поршню площадью 0,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поднять тело массой 200 кг, находящееся на поршне площадью 10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2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C5DA-A09F-4EF7-B207-9D2A4C34A1F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авлические механизмы необходимы в жизн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озволяют доби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игрыша  в си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F603-37EC-415F-9D93-13D46C70A5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ξ 47, вопро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невматические машины и  инструмен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готовить действующий макет гидравлического пр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ва шприца разных объемов, соломинку для коктейля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D76C-1634-4ED1-9B41-6EBCF0B35C1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м. Рт. Ст.-? 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=9,8 н/кг*13600кг/м*0,001м=133,3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мм.рт.ст.=133,3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3A0D-DAD2-43D5-936B-628864F2BA9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5 мм рт ст = ? 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4D3D-5D8E-429B-8854-B7E331CEB38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о или поздно каждый автомобилист сталкивается с проблемой замены пробитых колес. Масса легкового автомобиля приблизительно 1,5 т. Как поменять пробитое колесо?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7973-F194-41B0-8D24-21CC59E99F1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идравлический  п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BA8A-36A4-4118-9485-7FB6CA84FC0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, работающие при помощи какой-нибудь жидкости,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дравлически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греч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ид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-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ода, жидк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DD17-D8DC-4B91-9C71-5BA1AAE7278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гидравлического п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0421-8DFC-46DD-BD4C-4CAB859D515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авлического п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о на зак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аска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ообщаю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уда наполнены однородной жидкостью и закрыты двумя поршнями, площади которых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&gt;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По закону Паскаля имеем равенство давлений в обоих цилиндрах: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p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=p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DCD1-2E50-4A31-8EEF-94B68D57076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8691-56DA-4191-A34B-F44D5C2EE40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E9D-FBCD-4C17-926E-D9794122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4C4-67A6-4349-ADF3-1F163C77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9D5-43FF-4E9F-8626-7A310A1A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88AF-449C-4554-8D9C-3D7AD3F6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9BA6-A118-45D4-B24E-0C0917E1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5317-F811-470E-99C3-F284D9CC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2DB2-275F-4E3E-B573-EC09735E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ADD3-34B3-408E-B02F-548B8A61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2F5C-25A1-465F-B9D3-444D83C7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88C0-3754-4763-88AE-71EC8D77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0535-2870-43CC-B255-AE1D2252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A11-7980-49FB-9C21-3175A49D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01BF-D851-4A91-AAD3-F2CC36A2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BAED-0215-4F6F-8B69-DDF2914B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D1AB-7712-404B-97DE-58A7C950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9621-4C0A-4CF6-AAB7-DF4C37BD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BB82-C317-4DF9-BE84-FF1536F9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4A4-8F7E-40C7-A5E1-EA2850FA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BCF-E119-4FC2-BBD7-E41F9980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F90-93FB-45F9-AB56-590DA520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C41-97F2-42B3-9E08-759F2195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044-C7FC-47BC-8BD9-91EEE5F6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746-4122-4BB7-9BD2-C783E3F5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D2C-0510-42C1-BC46-814E3FA6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3F8A-304D-4F7B-A213-BA1F5F64406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D9C0-D11E-4F0A-8693-F5A3957895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21FB-DB49-4F89-B469-F17B2718600B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8967-E9AD-4ADB-9434-A61A5B025A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Содержимое 3" descr="2.tif"/>
          <p:cNvPicPr/>
          <p:nvPr/>
        </p:nvPicPr>
        <p:blipFill>
          <a:blip r:embed="rId1"/>
          <a:stretch/>
        </p:blipFill>
        <p:spPr>
          <a:xfrm>
            <a:off x="2071800" y="285840"/>
            <a:ext cx="3429000" cy="6054480"/>
          </a:xfrm>
          <a:prstGeom prst="rect">
            <a:avLst/>
          </a:prstGeom>
          <a:ln w="0">
            <a:noFill/>
          </a:ln>
        </p:spPr>
      </p:pic>
      <p:pic>
        <p:nvPicPr>
          <p:cNvPr id="220" name="Содержимое 3" descr="1.tif"/>
          <p:cNvPicPr/>
          <p:nvPr/>
        </p:nvPicPr>
        <p:blipFill>
          <a:blip r:embed="rId2"/>
          <a:stretch/>
        </p:blipFill>
        <p:spPr>
          <a:xfrm>
            <a:off x="1928880" y="285840"/>
            <a:ext cx="3643200" cy="62294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0040" y="28548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и работе гидравлического пресса создается выигрыш в силе, равный отношению площади большего порш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 площади меньшего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Группа 16"/>
          <p:cNvGrpSpPr/>
          <p:nvPr/>
        </p:nvGrpSpPr>
        <p:grpSpPr>
          <a:xfrm>
            <a:off x="2857680" y="4286160"/>
            <a:ext cx="2961360" cy="2262960"/>
            <a:chOff x="2857680" y="4286160"/>
            <a:chExt cx="2961360" cy="2262960"/>
          </a:xfrm>
        </p:grpSpPr>
        <p:sp>
          <p:nvSpPr>
            <p:cNvPr id="292" name="Прямоугольник 3"/>
            <p:cNvSpPr/>
            <p:nvPr/>
          </p:nvSpPr>
          <p:spPr>
            <a:xfrm>
              <a:off x="2862720" y="435744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F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оугольник 4"/>
            <p:cNvSpPr/>
            <p:nvPr/>
          </p:nvSpPr>
          <p:spPr>
            <a:xfrm>
              <a:off x="2857680" y="5357880"/>
              <a:ext cx="9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F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оугольник 5"/>
            <p:cNvSpPr/>
            <p:nvPr/>
          </p:nvSpPr>
          <p:spPr>
            <a:xfrm>
              <a:off x="4863240" y="428616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оугольник 6"/>
            <p:cNvSpPr/>
            <p:nvPr/>
          </p:nvSpPr>
          <p:spPr>
            <a:xfrm>
              <a:off x="4934520" y="535788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8"/>
            <p:cNvSpPr/>
            <p:nvPr/>
          </p:nvSpPr>
          <p:spPr>
            <a:xfrm>
              <a:off x="2928960" y="550080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9"/>
            <p:cNvSpPr/>
            <p:nvPr/>
          </p:nvSpPr>
          <p:spPr>
            <a:xfrm>
              <a:off x="5000760" y="550080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1"/>
            <p:cNvSpPr/>
            <p:nvPr/>
          </p:nvSpPr>
          <p:spPr>
            <a:xfrm>
              <a:off x="4000680" y="564372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Прямая соединительная линия 12"/>
            <p:cNvSpPr/>
            <p:nvPr/>
          </p:nvSpPr>
          <p:spPr>
            <a:xfrm>
              <a:off x="4000680" y="535788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Управляющая кнопка: назад 13">
            <a:hlinkClick r:id="rId1" action="ppaction://hlinksldjump"/>
          </p:cNvPr>
          <p:cNvSpPr/>
          <p:nvPr/>
        </p:nvSpPr>
        <p:spPr>
          <a:xfrm>
            <a:off x="821520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Arial"/>
              </a:rPr>
              <a:t>Применение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600200"/>
            <a:ext cx="461484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6" name="Picture 2" descr="D:\Кривобокова\физика\открытый урок\i.jpg"/>
          <p:cNvPicPr/>
          <p:nvPr/>
        </p:nvPicPr>
        <p:blipFill>
          <a:blip r:embed="rId1"/>
          <a:stretch/>
        </p:blipFill>
        <p:spPr>
          <a:xfrm>
            <a:off x="0" y="0"/>
            <a:ext cx="3002040" cy="3214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D:\Кривобокова\физика\открытый урок\i1.jpg"/>
          <p:cNvPicPr/>
          <p:nvPr/>
        </p:nvPicPr>
        <p:blipFill>
          <a:blip r:embed="rId2"/>
          <a:stretch/>
        </p:blipFill>
        <p:spPr>
          <a:xfrm>
            <a:off x="2928960" y="0"/>
            <a:ext cx="2428920" cy="3255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D:\Кривобокова\физика\открытый урок\i4.jpg"/>
          <p:cNvPicPr/>
          <p:nvPr/>
        </p:nvPicPr>
        <p:blipFill>
          <a:blip r:embed="rId3"/>
          <a:stretch/>
        </p:blipFill>
        <p:spPr>
          <a:xfrm>
            <a:off x="5786280" y="0"/>
            <a:ext cx="2826000" cy="3473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D:\Кривобокова\физика\открытый урок\i7.jpg"/>
          <p:cNvPicPr/>
          <p:nvPr/>
        </p:nvPicPr>
        <p:blipFill>
          <a:blip r:embed="rId4"/>
          <a:stretch/>
        </p:blipFill>
        <p:spPr>
          <a:xfrm>
            <a:off x="214200" y="3497400"/>
            <a:ext cx="2286000" cy="3360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D:\Кривобокова\физика\открытый урок\i2.jpg"/>
          <p:cNvPicPr/>
          <p:nvPr/>
        </p:nvPicPr>
        <p:blipFill>
          <a:blip r:embed="rId5"/>
          <a:stretch/>
        </p:blipFill>
        <p:spPr>
          <a:xfrm>
            <a:off x="2928960" y="3500280"/>
            <a:ext cx="2610000" cy="3357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D:\Кривобокова\физика\открытый урок\i5.jpg"/>
          <p:cNvPicPr/>
          <p:nvPr/>
        </p:nvPicPr>
        <p:blipFill>
          <a:blip r:embed="rId6"/>
          <a:stretch/>
        </p:blipFill>
        <p:spPr>
          <a:xfrm>
            <a:off x="6000840" y="3500280"/>
            <a:ext cx="2528640" cy="335772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4" name="Picture 2" descr="D:\Кривобокова\физика\открытый урок\гайковерт.jpg"/>
          <p:cNvPicPr/>
          <p:nvPr/>
        </p:nvPicPr>
        <p:blipFill>
          <a:blip r:embed="rId1"/>
          <a:stretch/>
        </p:blipFill>
        <p:spPr>
          <a:xfrm>
            <a:off x="0" y="714240"/>
            <a:ext cx="2847960" cy="2847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D:\Кривобокова\физика\открытый урок\гидроножницы.jpg"/>
          <p:cNvPicPr/>
          <p:nvPr/>
        </p:nvPicPr>
        <p:blipFill>
          <a:blip r:embed="rId2"/>
          <a:stretch/>
        </p:blipFill>
        <p:spPr>
          <a:xfrm>
            <a:off x="3000240" y="714240"/>
            <a:ext cx="3048120" cy="2500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D:\Кривобокова\физика\открытый урок\для масла.jpg"/>
          <p:cNvPicPr/>
          <p:nvPr/>
        </p:nvPicPr>
        <p:blipFill>
          <a:blip r:embed="rId3"/>
          <a:srcRect l="20600" t="0" r="21474" b="0"/>
          <a:stretch/>
        </p:blipFill>
        <p:spPr>
          <a:xfrm>
            <a:off x="6072120" y="79200"/>
            <a:ext cx="2786040" cy="3492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D:\Кривобокова\физика\открытый урок\дд.jpg"/>
          <p:cNvPicPr/>
          <p:nvPr/>
        </p:nvPicPr>
        <p:blipFill>
          <a:blip r:embed="rId4"/>
          <a:stretch/>
        </p:blipFill>
        <p:spPr>
          <a:xfrm>
            <a:off x="-77760" y="364320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D:\Кривобокова\физика\открытый урок\для поднятия грузов.jpg"/>
          <p:cNvPicPr/>
          <p:nvPr/>
        </p:nvPicPr>
        <p:blipFill>
          <a:blip r:embed="rId5"/>
          <a:stretch/>
        </p:blipFill>
        <p:spPr>
          <a:xfrm>
            <a:off x="3214800" y="3214800"/>
            <a:ext cx="2898720" cy="3643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D:\Кривобокова\физика\открытый урок\домкрат.jpg"/>
          <p:cNvPicPr/>
          <p:nvPr/>
        </p:nvPicPr>
        <p:blipFill>
          <a:blip r:embed="rId6"/>
          <a:stretch/>
        </p:blipFill>
        <p:spPr>
          <a:xfrm>
            <a:off x="6500880" y="357192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320" name="Управляющая кнопка: далее 9">
            <a:hlinkClick r:id="rId7" action="ppaction://hlinksldjump"/>
          </p:cNvPr>
          <p:cNvSpPr/>
          <p:nvPr/>
        </p:nvSpPr>
        <p:spPr>
          <a:xfrm>
            <a:off x="8643960" y="635796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акую силу нужно приложить к меньшему поршню площадью 0,1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чтобы поднять тело весом 500 Н, находящийся на поршне площадью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760" y="2143080"/>
            <a:ext cx="1828800" cy="28288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00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ая соединительная линия 4"/>
          <p:cNvSpPr/>
          <p:nvPr/>
        </p:nvSpPr>
        <p:spPr>
          <a:xfrm flipH="1">
            <a:off x="2142720" y="2357280"/>
            <a:ext cx="1800" cy="25020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ая соединительная линия 6"/>
          <p:cNvSpPr/>
          <p:nvPr/>
        </p:nvSpPr>
        <p:spPr>
          <a:xfrm>
            <a:off x="500040" y="4357800"/>
            <a:ext cx="1643040" cy="14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9"/>
          <p:cNvSpPr/>
          <p:nvPr/>
        </p:nvSpPr>
        <p:spPr>
          <a:xfrm>
            <a:off x="2786040" y="178596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Группа 29"/>
          <p:cNvGrpSpPr/>
          <p:nvPr/>
        </p:nvGrpSpPr>
        <p:grpSpPr>
          <a:xfrm>
            <a:off x="2857680" y="4000680"/>
            <a:ext cx="2131920" cy="825120"/>
            <a:chOff x="2857680" y="4000680"/>
            <a:chExt cx="2131920" cy="825120"/>
          </a:xfrm>
        </p:grpSpPr>
        <p:sp>
          <p:nvSpPr>
            <p:cNvPr id="328" name="Прямоугольник 10"/>
            <p:cNvSpPr/>
            <p:nvPr/>
          </p:nvSpPr>
          <p:spPr>
            <a:xfrm>
              <a:off x="2857680" y="4000680"/>
              <a:ext cx="7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оугольник 11"/>
            <p:cNvSpPr/>
            <p:nvPr/>
          </p:nvSpPr>
          <p:spPr>
            <a:xfrm>
              <a:off x="3714480" y="4000680"/>
              <a:ext cx="127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·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14"/>
            <p:cNvSpPr/>
            <p:nvPr/>
          </p:nvSpPr>
          <p:spPr>
            <a:xfrm flipV="1">
              <a:off x="3714120" y="4286160"/>
              <a:ext cx="12747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12"/>
          <p:cNvSpPr/>
          <p:nvPr/>
        </p:nvSpPr>
        <p:spPr>
          <a:xfrm>
            <a:off x="2857680" y="52149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3571920" y="500076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00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· 5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16"/>
          <p:cNvSpPr/>
          <p:nvPr/>
        </p:nvSpPr>
        <p:spPr>
          <a:xfrm>
            <a:off x="4071960" y="550080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ая соединительная линия 18"/>
          <p:cNvSpPr/>
          <p:nvPr/>
        </p:nvSpPr>
        <p:spPr>
          <a:xfrm>
            <a:off x="3571920" y="5500800"/>
            <a:ext cx="2143080" cy="1440"/>
          </a:xfrm>
          <a:prstGeom prst="line">
            <a:avLst/>
          </a:prstGeom>
          <a:ln w="381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19"/>
          <p:cNvSpPr/>
          <p:nvPr/>
        </p:nvSpPr>
        <p:spPr>
          <a:xfrm>
            <a:off x="5857920" y="521496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 25000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3214800" y="607212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25000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Группа 28"/>
          <p:cNvGrpSpPr/>
          <p:nvPr/>
        </p:nvGrpSpPr>
        <p:grpSpPr>
          <a:xfrm>
            <a:off x="2857680" y="2714760"/>
            <a:ext cx="1668240" cy="940680"/>
            <a:chOff x="2857680" y="2714760"/>
            <a:chExt cx="1668240" cy="940680"/>
          </a:xfrm>
        </p:grpSpPr>
        <p:sp>
          <p:nvSpPr>
            <p:cNvPr id="338" name="TextBox 8"/>
            <p:cNvSpPr/>
            <p:nvPr/>
          </p:nvSpPr>
          <p:spPr>
            <a:xfrm>
              <a:off x="2857680" y="2714760"/>
              <a:ext cx="85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оугольник 17"/>
            <p:cNvSpPr/>
            <p:nvPr/>
          </p:nvSpPr>
          <p:spPr>
            <a:xfrm>
              <a:off x="2860920" y="3074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оугольник 22"/>
            <p:cNvSpPr/>
            <p:nvPr/>
          </p:nvSpPr>
          <p:spPr>
            <a:xfrm>
              <a:off x="4003560" y="27147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оугольник 23"/>
            <p:cNvSpPr/>
            <p:nvPr/>
          </p:nvSpPr>
          <p:spPr>
            <a:xfrm>
              <a:off x="4003560" y="3074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25"/>
            <p:cNvSpPr/>
            <p:nvPr/>
          </p:nvSpPr>
          <p:spPr>
            <a:xfrm>
              <a:off x="2928960" y="321480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26"/>
            <p:cNvSpPr/>
            <p:nvPr/>
          </p:nvSpPr>
          <p:spPr>
            <a:xfrm>
              <a:off x="4000680" y="3214800"/>
              <a:ext cx="500040" cy="288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Box 27"/>
            <p:cNvSpPr/>
            <p:nvPr/>
          </p:nvSpPr>
          <p:spPr>
            <a:xfrm>
              <a:off x="3429000" y="2894400"/>
              <a:ext cx="2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Управляющая кнопка: далее 24">
            <a:hlinkClick r:id="rId1" action="ppaction://hlinksldjump"/>
          </p:cNvPr>
          <p:cNvSpPr/>
          <p:nvPr/>
        </p:nvSpPr>
        <p:spPr>
          <a:xfrm>
            <a:off x="8215200" y="6286680"/>
            <a:ext cx="714600" cy="285480"/>
          </a:xfrm>
          <a:custGeom>
            <a:avLst/>
            <a:gdLst>
              <a:gd name="textAreaLeft" fmla="*/ 18360 w 714600"/>
              <a:gd name="textAreaRight" fmla="*/ 696240 w 71460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Місце для нижнього колонтитула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акую силу нужно приложить к меньшему поршню площадью 0,1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чтобы поднять тело массой 200 кг, находящееся на поршне площадью 10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1828800" cy="28288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2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ая соединительная линия 4"/>
          <p:cNvSpPr/>
          <p:nvPr/>
        </p:nvSpPr>
        <p:spPr>
          <a:xfrm flipH="1">
            <a:off x="2141640" y="1714680"/>
            <a:ext cx="1440" cy="2501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ая соединительная линия 6"/>
          <p:cNvSpPr/>
          <p:nvPr/>
        </p:nvSpPr>
        <p:spPr>
          <a:xfrm>
            <a:off x="500040" y="3786120"/>
            <a:ext cx="1643040" cy="18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2714760" y="2071800"/>
            <a:ext cx="2571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9"/>
          <p:cNvSpPr/>
          <p:nvPr/>
        </p:nvSpPr>
        <p:spPr>
          <a:xfrm>
            <a:off x="2643120" y="128592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10"/>
          <p:cNvSpPr/>
          <p:nvPr/>
        </p:nvSpPr>
        <p:spPr>
          <a:xfrm>
            <a:off x="2934000" y="3143160"/>
            <a:ext cx="7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11"/>
          <p:cNvSpPr/>
          <p:nvPr/>
        </p:nvSpPr>
        <p:spPr>
          <a:xfrm>
            <a:off x="3714840" y="3643200"/>
            <a:ext cx="12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ая соединительная линия 14"/>
          <p:cNvSpPr/>
          <p:nvPr/>
        </p:nvSpPr>
        <p:spPr>
          <a:xfrm flipV="1">
            <a:off x="3714120" y="3929040"/>
            <a:ext cx="1274760" cy="1440"/>
          </a:xfrm>
          <a:prstGeom prst="line">
            <a:avLst/>
          </a:prstGeom>
          <a:ln w="9360">
            <a:solidFill>
              <a:srgbClr val="008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12"/>
          <p:cNvSpPr/>
          <p:nvPr/>
        </p:nvSpPr>
        <p:spPr>
          <a:xfrm>
            <a:off x="571680" y="54291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1285920" y="514368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960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· 0,1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1571760" y="578628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0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>
            <a:off x="1285920" y="5715000"/>
            <a:ext cx="2357280" cy="0"/>
          </a:xfrm>
          <a:prstGeom prst="line">
            <a:avLst/>
          </a:prstGeom>
          <a:ln w="9360">
            <a:solidFill>
              <a:srgbClr val="008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19"/>
          <p:cNvSpPr/>
          <p:nvPr/>
        </p:nvSpPr>
        <p:spPr>
          <a:xfrm>
            <a:off x="3786120" y="535788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 19,6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21"/>
          <p:cNvSpPr/>
          <p:nvPr/>
        </p:nvSpPr>
        <p:spPr>
          <a:xfrm>
            <a:off x="5143680" y="600084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19,6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17"/>
          <p:cNvSpPr/>
          <p:nvPr/>
        </p:nvSpPr>
        <p:spPr>
          <a:xfrm>
            <a:off x="2857680" y="27147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 = m ·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Box 20"/>
          <p:cNvSpPr/>
          <p:nvPr/>
        </p:nvSpPr>
        <p:spPr>
          <a:xfrm>
            <a:off x="3071880" y="435780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20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г · 9,8 Н/кг=1960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Группа 22"/>
          <p:cNvGrpSpPr/>
          <p:nvPr/>
        </p:nvGrpSpPr>
        <p:grpSpPr>
          <a:xfrm>
            <a:off x="3071880" y="1643040"/>
            <a:ext cx="1668240" cy="1152720"/>
            <a:chOff x="3071880" y="1643040"/>
            <a:chExt cx="1668240" cy="1152720"/>
          </a:xfrm>
        </p:grpSpPr>
        <p:sp>
          <p:nvSpPr>
            <p:cNvPr id="365" name="TextBox 23"/>
            <p:cNvSpPr/>
            <p:nvPr/>
          </p:nvSpPr>
          <p:spPr>
            <a:xfrm>
              <a:off x="3071880" y="1643040"/>
              <a:ext cx="85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оугольник 24"/>
            <p:cNvSpPr/>
            <p:nvPr/>
          </p:nvSpPr>
          <p:spPr>
            <a:xfrm>
              <a:off x="3075120" y="22143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оугольник 25"/>
            <p:cNvSpPr/>
            <p:nvPr/>
          </p:nvSpPr>
          <p:spPr>
            <a:xfrm>
              <a:off x="4217760" y="1643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оугольник 26"/>
            <p:cNvSpPr/>
            <p:nvPr/>
          </p:nvSpPr>
          <p:spPr>
            <a:xfrm>
              <a:off x="4217760" y="22143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27"/>
            <p:cNvSpPr/>
            <p:nvPr/>
          </p:nvSpPr>
          <p:spPr>
            <a:xfrm>
              <a:off x="3143160" y="221436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28"/>
            <p:cNvSpPr/>
            <p:nvPr/>
          </p:nvSpPr>
          <p:spPr>
            <a:xfrm>
              <a:off x="4214880" y="221436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TextBox 29"/>
            <p:cNvSpPr/>
            <p:nvPr/>
          </p:nvSpPr>
          <p:spPr>
            <a:xfrm>
              <a:off x="3643200" y="1928520"/>
              <a:ext cx="2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тог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идравлические механизмы необходимы в жизни челове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ни позволяют добиватьс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ыигрыша  в сил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Управляющая кнопка: назад 3">
            <a:hlinkClick r:id="rId1" action="ppaction://hlinksldjump"/>
          </p:cNvPr>
          <p:cNvSpPr/>
          <p:nvPr/>
        </p:nvSpPr>
        <p:spPr>
          <a:xfrm>
            <a:off x="8358120" y="63579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0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3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ξ 47, вопросы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Пневматические машины и  инструменты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Изготовить действующий макет гидравлического пресса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(два шприца разных объемов, соломинку для коктейля)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928800"/>
            <a:ext cx="218592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lnSpc>
                <a:spcPct val="60000"/>
              </a:lnSpc>
              <a:spcBef>
                <a:spcPts val="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 мм. Рт. Ст.-? П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=9,8 н/кг*13600кг/м*0,001м=133,3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мм.рт.ст.=133,3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680" y="2785680"/>
            <a:ext cx="81151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765 мм рт ст = ? П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428760" y="3571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1 мм рт ст = ? П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642960" y="1643040"/>
            <a:ext cx="807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1 мм рт сс = 133,3 П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214200" y="4357800"/>
            <a:ext cx="821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765 мм рт ст = 133,3 Па · 765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01974,5 П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C:\Documents and Settings\Кривобокова\Мои документы\Мои рисунки\003.tif"/>
          <p:cNvPicPr/>
          <p:nvPr/>
        </p:nvPicPr>
        <p:blipFill>
          <a:blip r:embed="rId1"/>
          <a:stretch/>
        </p:blipFill>
        <p:spPr>
          <a:xfrm>
            <a:off x="119160" y="214200"/>
            <a:ext cx="9024840" cy="6357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Documents and Settings\Кривобокова\Мои документы\Мои рисунки\01.tif"/>
          <p:cNvPicPr/>
          <p:nvPr/>
        </p:nvPicPr>
        <p:blipFill>
          <a:blip r:embed="rId2"/>
          <a:srcRect l="4156" t="8788" r="59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Рано или поздно каждый автомобилист сталкивается с проблемой замены пробитых колес. Масса легкового автомобиля приблизительно 1,5 т. Как поменять пробитое колесо?</a:t>
            </a:r>
            <a:br>
              <a:rPr sz="3600"/>
            </a:b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2" descr="D:\Кривобокова\физика\открытый урок\колеса.jpg"/>
          <p:cNvPicPr/>
          <p:nvPr/>
        </p:nvPicPr>
        <p:blipFill>
          <a:blip r:embed="rId1"/>
          <a:stretch/>
        </p:blipFill>
        <p:spPr>
          <a:xfrm>
            <a:off x="1857240" y="2500200"/>
            <a:ext cx="5400720" cy="3875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D:\Кривобокова\физика\открытый урок\замдам.jpg"/>
          <p:cNvPicPr/>
          <p:nvPr/>
        </p:nvPicPr>
        <p:blipFill>
          <a:blip r:embed="rId2"/>
          <a:stretch/>
        </p:blipFill>
        <p:spPr>
          <a:xfrm>
            <a:off x="1571760" y="2143080"/>
            <a:ext cx="5943600" cy="44625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Гидравлический  пресс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599840"/>
            <a:ext cx="72579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8e66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еханизмы, работающие при помощи какой-нибудь жидкости, называются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гидравлическими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греч.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гидор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" - 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вода, жидкость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хема гидравлического п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Содержимое 3" descr="http://www.fizika.ru/theory/tema-15/15e-i2.gif"/>
          <p:cNvPicPr/>
          <p:nvPr/>
        </p:nvPicPr>
        <p:blipFill>
          <a:blip r:embed="rId1"/>
          <a:srcRect l="18362" t="0" r="0" b="0"/>
          <a:stretch/>
        </p:blipFill>
        <p:spPr>
          <a:xfrm>
            <a:off x="1857240" y="1285920"/>
            <a:ext cx="5715000" cy="4714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2858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шень 1,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Прямая со стрелкой 6"/>
          <p:cNvCxnSpPr>
            <a:stCxn id="245" idx="2"/>
          </p:cNvCxnSpPr>
          <p:nvPr/>
        </p:nvCxnSpPr>
        <p:spPr>
          <a:xfrm>
            <a:off x="1176840" y="2513160"/>
            <a:ext cx="965880" cy="14882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7" name="TextBox 7"/>
          <p:cNvSpPr/>
          <p:nvPr/>
        </p:nvSpPr>
        <p:spPr>
          <a:xfrm>
            <a:off x="7072200" y="5072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шень 2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Прямая со стрелкой 9"/>
          <p:cNvCxnSpPr/>
          <p:nvPr/>
        </p:nvCxnSpPr>
        <p:spPr>
          <a:xfrm flipH="1" flipV="1">
            <a:off x="6857280" y="3285360"/>
            <a:ext cx="894600" cy="1786680"/>
          </a:xfrm>
          <a:prstGeom prst="straightConnector1">
            <a:avLst/>
          </a:prstGeom>
          <a:ln w="9360">
            <a:solidFill>
              <a:srgbClr val="0088e8"/>
            </a:solidFill>
            <a:miter/>
            <a:tailEnd len="med" type="arrow" w="med"/>
          </a:ln>
        </p:spPr>
      </p:cxnSp>
      <p:sp>
        <p:nvSpPr>
          <p:cNvPr id="24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786120" y="428760"/>
            <a:ext cx="5143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Устройство             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гидравлического пресс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сновано на законе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Arial"/>
              </a:rPr>
              <a:t>Паскаля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Два сообщающихся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осуда наполнены однородной жидкостью и закрыты двумя поршнями, площади которых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и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(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). По закону Паскаля имеем равенство давлений в обоих цилиндрах:</a:t>
            </a: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 p</a:t>
            </a:r>
            <a:r>
              <a:rPr b="0" lang="ru-RU" sz="4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=p</a:t>
            </a:r>
            <a:r>
              <a:rPr b="0" lang="ru-RU" sz="4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11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Содержимое 3" descr="http://www.fizika.ru/theory/tema-15/15e-i2.gif"/>
          <p:cNvPicPr/>
          <p:nvPr/>
        </p:nvPicPr>
        <p:blipFill>
          <a:blip r:embed="rId1"/>
          <a:srcRect l="18756" t="0" r="0" b="0"/>
          <a:stretch/>
        </p:blipFill>
        <p:spPr>
          <a:xfrm>
            <a:off x="428760" y="1643040"/>
            <a:ext cx="3857400" cy="35006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Содержимое 5" descr="http://www.fizika.ru/theory/tema-15/15e-i3.gif"/>
          <p:cNvPicPr/>
          <p:nvPr/>
        </p:nvPicPr>
        <p:blipFill>
          <a:blip r:embed="rId1"/>
          <a:stretch/>
        </p:blipFill>
        <p:spPr>
          <a:xfrm>
            <a:off x="0" y="0"/>
            <a:ext cx="5857920" cy="45007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6"/>
          <p:cNvSpPr/>
          <p:nvPr/>
        </p:nvSpPr>
        <p:spPr>
          <a:xfrm>
            <a:off x="6643800" y="164304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12"/>
          <p:cNvSpPr/>
          <p:nvPr/>
        </p:nvSpPr>
        <p:spPr>
          <a:xfrm>
            <a:off x="6143760" y="46432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13"/>
          <p:cNvSpPr/>
          <p:nvPr/>
        </p:nvSpPr>
        <p:spPr>
          <a:xfrm>
            <a:off x="5801400" y="585792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4"/>
          <p:cNvSpPr/>
          <p:nvPr/>
        </p:nvSpPr>
        <p:spPr>
          <a:xfrm>
            <a:off x="4861080" y="450072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5"/>
          <p:cNvSpPr/>
          <p:nvPr/>
        </p:nvSpPr>
        <p:spPr>
          <a:xfrm>
            <a:off x="1290240" y="4500720"/>
            <a:ext cx="6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6572160" y="11430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АСКА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Группа 68"/>
          <p:cNvGrpSpPr/>
          <p:nvPr/>
        </p:nvGrpSpPr>
        <p:grpSpPr>
          <a:xfrm>
            <a:off x="6643800" y="2500200"/>
            <a:ext cx="1928880" cy="1203480"/>
            <a:chOff x="6643800" y="2500200"/>
            <a:chExt cx="1928880" cy="1203480"/>
          </a:xfrm>
        </p:grpSpPr>
        <p:sp>
          <p:nvSpPr>
            <p:cNvPr id="263" name="Прямоугольник 19"/>
            <p:cNvSpPr/>
            <p:nvPr/>
          </p:nvSpPr>
          <p:spPr>
            <a:xfrm>
              <a:off x="7505280" y="3000240"/>
              <a:ext cx="59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Box 17"/>
            <p:cNvSpPr/>
            <p:nvPr/>
          </p:nvSpPr>
          <p:spPr>
            <a:xfrm>
              <a:off x="7500960" y="2500200"/>
              <a:ext cx="107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Группа 41"/>
            <p:cNvGrpSpPr/>
            <p:nvPr/>
          </p:nvGrpSpPr>
          <p:grpSpPr>
            <a:xfrm>
              <a:off x="6643800" y="2786040"/>
              <a:ext cx="1428840" cy="703440"/>
              <a:chOff x="6643800" y="2786040"/>
              <a:chExt cx="1428840" cy="703440"/>
            </a:xfrm>
          </p:grpSpPr>
          <p:sp>
            <p:nvSpPr>
              <p:cNvPr id="266" name="Прямоугольник 8"/>
              <p:cNvSpPr/>
              <p:nvPr/>
            </p:nvSpPr>
            <p:spPr>
              <a:xfrm>
                <a:off x="6643800" y="2786040"/>
                <a:ext cx="1000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p</a:t>
                </a: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r>
                  <a:rPr b="0" lang="ru-RU" sz="4000" spc="-1" strike="noStrike">
                    <a:solidFill>
                      <a:srgbClr val="ffffff"/>
                    </a:solidFill>
                    <a:latin typeface="Calibri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Прямая соединительная линия 25"/>
              <p:cNvSpPr/>
              <p:nvPr/>
            </p:nvSpPr>
            <p:spPr>
              <a:xfrm>
                <a:off x="7572600" y="3071880"/>
                <a:ext cx="500040" cy="1440"/>
              </a:xfrm>
              <a:prstGeom prst="line">
                <a:avLst/>
              </a:prstGeom>
              <a:ln w="38160">
                <a:solidFill>
                  <a:srgbClr val="008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Прямоугольник 27"/>
          <p:cNvSpPr/>
          <p:nvPr/>
        </p:nvSpPr>
        <p:spPr>
          <a:xfrm>
            <a:off x="7500960" y="421488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7434000" y="35002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11"/>
          <p:cNvSpPr/>
          <p:nvPr/>
        </p:nvSpPr>
        <p:spPr>
          <a:xfrm>
            <a:off x="6647760" y="3857760"/>
            <a:ext cx="8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30"/>
          <p:cNvSpPr/>
          <p:nvPr/>
        </p:nvSpPr>
        <p:spPr>
          <a:xfrm>
            <a:off x="7572240" y="4214880"/>
            <a:ext cx="500040" cy="1440"/>
          </a:xfrm>
          <a:prstGeom prst="line">
            <a:avLst/>
          </a:prstGeom>
          <a:ln w="381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>
            <a:off x="6148080" y="521496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32"/>
          <p:cNvSpPr/>
          <p:nvPr/>
        </p:nvSpPr>
        <p:spPr>
          <a:xfrm>
            <a:off x="7362720" y="46432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33"/>
          <p:cNvSpPr/>
          <p:nvPr/>
        </p:nvSpPr>
        <p:spPr>
          <a:xfrm>
            <a:off x="7434000" y="521496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Группа 43"/>
          <p:cNvGrpSpPr/>
          <p:nvPr/>
        </p:nvGrpSpPr>
        <p:grpSpPr>
          <a:xfrm>
            <a:off x="6143760" y="4929120"/>
            <a:ext cx="1857240" cy="703440"/>
            <a:chOff x="6143760" y="4929120"/>
            <a:chExt cx="1857240" cy="703440"/>
          </a:xfrm>
        </p:grpSpPr>
        <p:sp>
          <p:nvSpPr>
            <p:cNvPr id="276" name="Прямая соединительная линия 35"/>
            <p:cNvSpPr/>
            <p:nvPr/>
          </p:nvSpPr>
          <p:spPr>
            <a:xfrm>
              <a:off x="6143760" y="5286240"/>
              <a:ext cx="57132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39"/>
            <p:cNvSpPr/>
            <p:nvPr/>
          </p:nvSpPr>
          <p:spPr>
            <a:xfrm>
              <a:off x="7429680" y="5286240"/>
              <a:ext cx="57132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Box 40"/>
            <p:cNvSpPr/>
            <p:nvPr/>
          </p:nvSpPr>
          <p:spPr>
            <a:xfrm>
              <a:off x="6858000" y="492912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Прямоугольник 44"/>
          <p:cNvSpPr/>
          <p:nvPr/>
        </p:nvSpPr>
        <p:spPr>
          <a:xfrm>
            <a:off x="1218600" y="51436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46"/>
          <p:cNvSpPr/>
          <p:nvPr/>
        </p:nvSpPr>
        <p:spPr>
          <a:xfrm>
            <a:off x="1218600" y="571500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51"/>
          <p:cNvSpPr/>
          <p:nvPr/>
        </p:nvSpPr>
        <p:spPr>
          <a:xfrm>
            <a:off x="2576160" y="51436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52"/>
          <p:cNvSpPr/>
          <p:nvPr/>
        </p:nvSpPr>
        <p:spPr>
          <a:xfrm>
            <a:off x="2576160" y="571500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Группа 65"/>
          <p:cNvGrpSpPr/>
          <p:nvPr/>
        </p:nvGrpSpPr>
        <p:grpSpPr>
          <a:xfrm>
            <a:off x="1214280" y="5357880"/>
            <a:ext cx="2000520" cy="764280"/>
            <a:chOff x="1214280" y="5357880"/>
            <a:chExt cx="2000520" cy="764280"/>
          </a:xfrm>
        </p:grpSpPr>
        <p:sp>
          <p:nvSpPr>
            <p:cNvPr id="284" name="Прямая соединительная линия 48"/>
            <p:cNvSpPr/>
            <p:nvPr/>
          </p:nvSpPr>
          <p:spPr>
            <a:xfrm>
              <a:off x="1214280" y="5786640"/>
              <a:ext cx="6429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оугольник 49"/>
            <p:cNvSpPr/>
            <p:nvPr/>
          </p:nvSpPr>
          <p:spPr>
            <a:xfrm>
              <a:off x="2002680" y="5357880"/>
              <a:ext cx="45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64"/>
            <p:cNvSpPr/>
            <p:nvPr/>
          </p:nvSpPr>
          <p:spPr>
            <a:xfrm>
              <a:off x="2571840" y="5786640"/>
              <a:ext cx="6429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Управляющая кнопка: далее 37">
            <a:hlinkClick r:id="rId2" action="ppaction://hlinksldjump"/>
          </p:cNvPr>
          <p:cNvSpPr/>
          <p:nvPr/>
        </p:nvSpPr>
        <p:spPr>
          <a:xfrm>
            <a:off x="8429760" y="621504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4:09:24Z</dcterms:created>
  <dc:creator>Осичковская сош</dc:creator>
  <dc:description/>
  <dc:language>en-US</dc:language>
  <cp:lastModifiedBy>LEGION</cp:lastModifiedBy>
  <dcterms:modified xsi:type="dcterms:W3CDTF">2015-03-30T08:36:57Z</dcterms:modified>
  <cp:revision>60</cp:revision>
  <dc:subject/>
  <dc:title>Слайд 1</dc:title>
</cp:coreProperties>
</file>