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607-0CF5-4201-B05A-38ECB2582B5B}" type="slidenum">
              <a:rPr b="1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Фирмы в эконом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ир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и бухгалтерские 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издержки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уплачиваемые 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58D2-0188-4C94-88C4-3A547ADA40CD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Верны ли суждения о прибыли фирм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номическая прибыль учитывает внутренние и внешни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оба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а суждения невер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4BED-497A-4177-A709-ACF1209F7D87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значит эффективный бизне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 (в экономике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ив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ентабель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65F9-0FF4-4F4C-85D8-52D3B74328BD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логи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 физических и юридических лиц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899D-111C-4162-B334-387A8527DB57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4, задания 3, 4 на странице 54 - выполнить письменно, текст лекции - 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8049-A0E2-4773-B422-BD88C2D94969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603-AB8D-4B3F-9876-C29E180D5C85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условиях рыночной экономики производитель формирует предложение товаров и ус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ыручка (или валовый доход)  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производителя от реализуемой им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ибыл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ица между доходами и издерж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Цель производителя в рыночной экономике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лучить максимальную прибыль при минимальных затр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256C-B6ED-4F5F-8EDD-6EA0D4A92FF4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ыберите правильный ответ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ход производителя от реализуемой им продукции наз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ч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827C-67BC-4C9E-9133-06CD701497DF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утренние (неявны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ешние (бухгалтерски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денежных выплат, которые фирма осуществляет для оплаты необходимых ресурс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611-3298-4395-BDB9-D8DE8A2A26C6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ортиза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C3BF-9876-474E-B158-53FF61A045A7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телье производит закупку тканей, ниток и фурнитуры для пошива одежды. Затраты фирм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остоя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ка кор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воль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A5A9-2ACB-4549-BCF4-4FA93D2366BC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F3E-3994-44EF-A92F-8505A390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866-E539-4D08-B94B-DA7A3FA8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8FC-8B9E-4E34-9997-BBB692E8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F56-E2BC-493C-9193-C7768781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FB6B-2B67-4C90-A905-AA249A05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964B-73B5-4426-9558-0EB45424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647-E445-4EB3-8F03-04414CD3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651B-9FC5-49C9-9D04-A62D0848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F7B5-18D8-410A-9819-582A9AA4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C32B-08EE-4508-871C-DE0AF382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804B-1D99-4C10-B1FA-4265AF4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3C7-115A-4F94-9351-D23CE4F1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6241-AC95-4B89-AB2E-DDAB4B2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B55A-C5EF-42E9-A607-4C7814F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1BC9-4A0B-4AB0-BDA3-CD70E3BA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EEE0-3DBF-4E60-8D8D-04BC37E9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5B5-9F3B-4556-834D-B22A58AE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C20-3675-40DD-88AD-49D2843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9FA-52EC-407A-A766-F80C2C67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8F3-9DC6-4E22-8900-9339FD83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AF2-1F82-4BE2-80E9-236124E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76D-11A0-4C78-AB0B-FB752C9C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C23-96B2-46DE-BEBD-AD3882F5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38A-6CCF-4D8B-9D45-A052FBAE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59D8-87D8-49C3-9DA5-95DFF3B9200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FAA-747F-4FFA-A7C4-6210013E4CA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MH900412568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5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5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8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1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1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53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54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55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56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11:15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