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AF34-7034-495A-8CD0-82E35B2CA225}" type="slidenum">
              <a:rPr b="1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Фирмы в эконом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ир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и бухгалтерские из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издержки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уплачиваемые предприят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A74E-33E0-4122-989F-2D80D9F6EBF0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Верны ли суждения о прибыли фирмы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ономическая прибыль учитывает внутренние и внешни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только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оба 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а суждения невер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F1B-DB89-4E5B-A0E6-AB7D10897EE0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значит эффективный бизне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 (в экономике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ффектив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ентабельность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FA10-43B3-4160-8B41-195E8665FAF9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логи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 физических и юридических лиц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433C-178D-4F76-B209-D3E6869AE783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4, задания 3, 4 на странице 54 - выполнить письменно, текст лекции - у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A8C-75FE-4E24-90E7-1CE6432D4FB1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2820-5C9C-4898-A53A-C1B2918CAD6F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условиях рыночной экономики производитель формирует предложение товаров и услу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ыручка (или валовый доход)  -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производителя от реализуемой им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ибыл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ица между доходами и издерж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Цель производителя в рыночной экономике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лучить максимальную прибыль при минимальных затра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15D-7333-4663-94B3-DDD854B4DA1D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ыберите правильный ответ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ход производителя от реализуемой им продукции наз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ч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9EEF-7074-4299-B715-DA570F46FFFC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утренние (неявны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нешние (бухгалтерские) издержки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денежных выплат, которые фирма осуществляет для оплаты необходимых ресурс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E969-AAA8-426D-B44D-D349DEA7EC40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ортиза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A72-AD1B-4120-996A-CC4EAA89622B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телье производит закупку тканей, ниток и фурнитуры для пошива одежды. Затраты фирм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е, 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, постоян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ка кор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воль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F9B-9D7F-4B43-B2A6-7948B0C4DDB8}" type="slidenum">
              <a:rPr b="1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493-751D-4CE0-9B2C-0B28BA41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CE4-F2F3-4B0A-8140-D8F1061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742-6179-428E-8311-FCA23ACD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79A-854B-4502-9FF3-B4398853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60D-E43C-414C-B514-9A7D9B46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300-DB72-4368-9AED-AE60B6C6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82DE-6BB1-4A36-BAAE-1626EA5A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4A71-36B8-4131-983F-86A79FB2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3A56-6D18-4E70-9DB3-1DD11F0C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FF6B-A30B-4621-ACC7-878E20A3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22D2-B85F-4BCD-BFC8-48D817E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59D-3E85-402A-B852-6B1D707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9455-EDF5-4F6A-95E7-2DE2942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EC8E-09E8-463E-8278-4AFC8E9A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8E07-8ACC-4F56-B4D8-6DD6764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3156-0507-4E75-AEDA-7F527491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952-5714-4F87-AADF-6E846415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CE5-B673-4386-A3CC-31804E6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6E5-6330-4280-9487-A81B299A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BF7-1847-4D06-8221-03AC30D3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935-E81D-41F9-AB33-204B2AA5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381-0B13-45E3-9693-32E36E3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557-E2EB-4019-AAAB-22FC73D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AAD-3119-45A6-ADA8-83ADF1B9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B85E-109C-47D3-AB47-B564430DB89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328-4738-4FBF-99D2-A26DE8DABEB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Фирмы в экономи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фирм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кторы производства и факторные дох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е и бухгалтерские издер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оянные и переменные издержки произво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и, уплачиваемые предприяти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MH900412568"/>
          <p:cNvPicPr/>
          <p:nvPr/>
        </p:nvPicPr>
        <p:blipFill>
          <a:blip r:embed="rId1"/>
          <a:stretch/>
        </p:blipFill>
        <p:spPr>
          <a:xfrm>
            <a:off x="6048360" y="358128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2915640" y="762120"/>
            <a:ext cx="2631240" cy="70344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1523520" y="1600200"/>
            <a:ext cx="1295640" cy="38088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5562720" y="1600200"/>
            <a:ext cx="1371600" cy="4572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28600" y="2209680"/>
            <a:ext cx="335268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фирмы и экономическими 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419720" y="2209680"/>
            <a:ext cx="3444840" cy="265428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Бухгалтерская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разница между совокупно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ручкой и бухгалтерски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ерны ли суждения о прибыли фирмы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Экономическая прибыль учитывает внутренние и внешние издержки фир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ухгалтерская прибыль получается путем вычитания суммы внешних издержек фирмы из выручки от продаж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о только 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ны оба су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а суждения невер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Что значит эффективный бизнес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 (в экономике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ный положительный результат какой-либо деятельности (например, прирост прибыли, полученной фирмой по сравнению с прошлым годо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ффектив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зультативность процесса, определяемая как отношение эффекта, результата к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ентабельность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прибыли, полученной предприятием за определенный период, к сделанным за тот же период затр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38080" y="4800600"/>
            <a:ext cx="77882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Рентабельность =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прибыль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0066"/>
                </a:solidFill>
                <a:latin typeface="Tahoma"/>
              </a:rPr>
              <a:t>     </a:t>
            </a:r>
            <a:r>
              <a:rPr b="1" lang="ru-RU" sz="4000" spc="-1" strike="noStrike" baseline="30000">
                <a:solidFill>
                  <a:srgbClr val="ff0066"/>
                </a:solidFill>
                <a:latin typeface="Tahoma"/>
              </a:rPr>
              <a:t>затраты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4419720" y="5867280"/>
            <a:ext cx="16761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алоги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то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язательные платежи физических и юридических лиц государству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2971800" y="1752480"/>
            <a:ext cx="3352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ри систем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ообложени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1371600" y="2666880"/>
            <a:ext cx="236232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Line 9"/>
          <p:cNvSpPr/>
          <p:nvPr/>
        </p:nvSpPr>
        <p:spPr>
          <a:xfrm>
            <a:off x="4495680" y="2666880"/>
            <a:ext cx="0" cy="7621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791320" y="2666880"/>
            <a:ext cx="2133360" cy="5335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04920" y="3429000"/>
            <a:ext cx="28191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порциональ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00800" y="342900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Про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3429000" y="3505320"/>
            <a:ext cx="25146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Регрессивный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налог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3960" y="4724280"/>
            <a:ext cx="268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умма налога пр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рциональна до-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ходам работников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09888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ниж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22960" y="4730760"/>
            <a:ext cx="24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тем выше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ем выше доход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895480" y="457200"/>
            <a:ext cx="38862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Налог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5"/>
          <p:cNvSpPr/>
          <p:nvPr/>
        </p:nvSpPr>
        <p:spPr>
          <a:xfrm flipH="1">
            <a:off x="1295280" y="1371600"/>
            <a:ext cx="2895840" cy="5335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5105520" y="1371600"/>
            <a:ext cx="2438280" cy="6094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4920" y="2057400"/>
            <a:ext cx="327636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638680" y="2057400"/>
            <a:ext cx="32767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127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63800" y="3206880"/>
            <a:ext cx="559260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язательные платежи, взимаем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осударством с доходов или имуществ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юридических и физических лиц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доходный налог с насел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прибыль с фирм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имущество, недвижимость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рение, наследство, финансовы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ерации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5693400" y="3098880"/>
            <a:ext cx="3518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танавливаются в вид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бавок к цене товара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услуг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цизные сбор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с продаж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ично НДС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аможенные пошлины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лог на экспор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752480" y="685800"/>
            <a:ext cx="495324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логи, уплачиваемы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едприятиям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6"/>
          <p:cNvSpPr/>
          <p:nvPr/>
        </p:nvSpPr>
        <p:spPr>
          <a:xfrm flipH="1">
            <a:off x="1904760" y="1600200"/>
            <a:ext cx="1600200" cy="6094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4952880" y="1600200"/>
            <a:ext cx="152424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685800" y="228600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рямо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4419720" y="2286000"/>
            <a:ext cx="373356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свенный налог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с фирм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228600" y="3657600"/>
            <a:ext cx="36576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прибыл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419720" y="3657600"/>
            <a:ext cx="403848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Налог на добавленную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тоимость (НДС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4, задания 3, 4 на странице 54 - выполнить письменно, текст лекции - уч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Oval 5"/>
          <p:cNvSpPr/>
          <p:nvPr/>
        </p:nvSpPr>
        <p:spPr>
          <a:xfrm>
            <a:off x="1828800" y="228600"/>
            <a:ext cx="5943600" cy="335268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Фирма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-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то коммерческая  организация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уществляющая затрат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кономических ресурсов для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готовления товаров и услуг,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ализуемых на рын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514600" y="3505320"/>
            <a:ext cx="4572000" cy="3352680"/>
          </a:xfrm>
          <a:prstGeom prst="upArrowCallout">
            <a:avLst>
              <a:gd name="adj1" fmla="val 34095"/>
              <a:gd name="adj2" fmla="val 34092"/>
              <a:gd name="adj3" fmla="val 16667"/>
              <a:gd name="adj4" fmla="val 66660"/>
            </a:avLst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Цель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лучение дохода с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омощью рационального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использования  основных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есурсов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2057400" y="152280"/>
            <a:ext cx="5181480" cy="137160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ы производства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факторные доходы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5"/>
          <p:cNvSpPr/>
          <p:nvPr/>
        </p:nvSpPr>
        <p:spPr>
          <a:xfrm rot="2744400">
            <a:off x="1224000" y="132372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9718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952880" y="1523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8"/>
          <p:cNvSpPr/>
          <p:nvPr/>
        </p:nvSpPr>
        <p:spPr>
          <a:xfrm rot="18910800">
            <a:off x="7313760" y="1387080"/>
            <a:ext cx="485640" cy="1089000"/>
          </a:xfrm>
          <a:prstGeom prst="downArrow">
            <a:avLst>
              <a:gd name="adj1" fmla="val 50000"/>
              <a:gd name="adj2" fmla="val 5606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2590920"/>
            <a:ext cx="190512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руд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981080" y="2590920"/>
            <a:ext cx="2057400" cy="9144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Земл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4267080" y="2590920"/>
            <a:ext cx="221004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Капитал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781680" y="2438280"/>
            <a:ext cx="2362320" cy="1219320"/>
          </a:xfrm>
          <a:prstGeom prst="rect">
            <a:avLst/>
          </a:prstGeom>
          <a:solidFill>
            <a:srgbClr val="eaeae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Предпринима-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тельск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ff"/>
                </a:solidFill>
                <a:latin typeface="Tahoma"/>
              </a:rPr>
              <a:t>способн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33"/>
          <p:cNvSpPr/>
          <p:nvPr/>
        </p:nvSpPr>
        <p:spPr>
          <a:xfrm flipH="1">
            <a:off x="3657600" y="3581280"/>
            <a:ext cx="4572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35"/>
          <p:cNvSpPr/>
          <p:nvPr/>
        </p:nvSpPr>
        <p:spPr>
          <a:xfrm>
            <a:off x="5715000" y="350532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6172200" y="3505320"/>
            <a:ext cx="45720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2133720" y="3962520"/>
            <a:ext cx="152388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зически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38098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Финансов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41"/>
          <p:cNvSpPr/>
          <p:nvPr/>
        </p:nvSpPr>
        <p:spPr>
          <a:xfrm>
            <a:off x="5181480" y="3962520"/>
            <a:ext cx="129564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Инвестиции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42"/>
          <p:cNvSpPr/>
          <p:nvPr/>
        </p:nvSpPr>
        <p:spPr>
          <a:xfrm>
            <a:off x="6705720" y="3962520"/>
            <a:ext cx="12189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Ссудный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капитал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7"/>
          <p:cNvSpPr/>
          <p:nvPr/>
        </p:nvSpPr>
        <p:spPr>
          <a:xfrm>
            <a:off x="2193840" y="513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990720" y="3505320"/>
            <a:ext cx="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50"/>
          <p:cNvSpPr/>
          <p:nvPr/>
        </p:nvSpPr>
        <p:spPr>
          <a:xfrm>
            <a:off x="1981080" y="3505320"/>
            <a:ext cx="152640" cy="167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51"/>
          <p:cNvSpPr/>
          <p:nvPr/>
        </p:nvSpPr>
        <p:spPr>
          <a:xfrm>
            <a:off x="8305920" y="3657600"/>
            <a:ext cx="0" cy="1600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52"/>
          <p:cNvSpPr/>
          <p:nvPr/>
        </p:nvSpPr>
        <p:spPr>
          <a:xfrm>
            <a:off x="5791320" y="457200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53"/>
          <p:cNvSpPr/>
          <p:nvPr/>
        </p:nvSpPr>
        <p:spPr>
          <a:xfrm>
            <a:off x="0" y="518148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работная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лат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54"/>
          <p:cNvSpPr/>
          <p:nvPr/>
        </p:nvSpPr>
        <p:spPr>
          <a:xfrm>
            <a:off x="2133720" y="51055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55"/>
          <p:cNvSpPr/>
          <p:nvPr/>
        </p:nvSpPr>
        <p:spPr>
          <a:xfrm>
            <a:off x="4648320" y="533412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цент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Oval 56"/>
          <p:cNvSpPr/>
          <p:nvPr/>
        </p:nvSpPr>
        <p:spPr>
          <a:xfrm>
            <a:off x="6934320" y="5257800"/>
            <a:ext cx="198108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быль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 условиях рыночной экономики производитель формирует предложение товаров и услуг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ыручка (или валовый доход)  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ход производителя от реализуемой им проду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рибыль 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ица между доходами и издерж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ель производителя в рыночной экономике -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получить максимальную прибыль при минимальных затрат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ерите правильный ответ.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Доход производителя от реализуемой им продукции назыв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бы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руч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держк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л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402000" y="152280"/>
            <a:ext cx="2125440" cy="5205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Издержк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H="1">
            <a:off x="2590920" y="762120"/>
            <a:ext cx="76176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562720" y="762120"/>
            <a:ext cx="685800" cy="5331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0" y="1600200"/>
            <a:ext cx="4125960" cy="164844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Издержки производств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затраты производителя н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иобретение и использование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кторов производства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381560" y="1371600"/>
            <a:ext cx="4472280" cy="18313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Экономически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те выплаты, которая фирм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лжна произвести поставщикам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обходимых ресурсов, чтобы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твлечь эти ресурсы от использо-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ания в других производства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0"/>
          <p:cNvSpPr/>
          <p:nvPr/>
        </p:nvSpPr>
        <p:spPr>
          <a:xfrm flipH="1">
            <a:off x="2057400" y="3276720"/>
            <a:ext cx="3581280" cy="7617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019920" y="3276720"/>
            <a:ext cx="236196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64400" y="4267080"/>
            <a:ext cx="315720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оимость собственного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а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479840" y="4191120"/>
            <a:ext cx="4340160" cy="155700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латы поставщикам трудовых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сурсов, сырья, топлива, услуг и т.д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утренние (неявны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вны денежным выплатам, которые могли бы быть получены за самостоятельно используемый ресурс, если бы его собственник вложил его в чужое дело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нешние (бухгалтерские) издержки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умма денежных выплат, которые фирма осуществляет для оплаты необходимых ресурсов.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1828800" y="4114800"/>
            <a:ext cx="1371600" cy="53352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5334120" y="4114800"/>
            <a:ext cx="1371600" cy="380880"/>
          </a:xfrm>
          <a:prstGeom prst="line">
            <a:avLst/>
          </a:prstGeom>
          <a:ln w="5724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2860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остоя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724280"/>
            <a:ext cx="396252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Переменные издержк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Амортизация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ьшение стоимости капитальных ресурсов по мере их износа в процессе производственного использова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телье производит закупку тканей, ниток и фурнитуры для пошива одежды. Затраты фирмы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утренние, постоя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ерем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шние, постоян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Гражданин организовал на принадлежащем ему загородном участке гостиницу для собак и кошек: построил дом и открытые вольеры, закупил корма. Сам гражданин и его семья работают в гостинице. Что относится к внутренним затрата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упка корм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оительство воль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рудование д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11:15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