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1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4.jpeg" ContentType="image/jpeg"/>
  <Override PartName="/ppt/media/image28.gif" ContentType="image/gif"/>
  <Override PartName="/ppt/media/image8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38.jpeg" ContentType="image/jpeg"/>
  <Override PartName="/ppt/media/image1.gif" ContentType="image/gif"/>
  <Override PartName="/ppt/media/image15.jpeg" ContentType="image/jpeg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A48E-FB47-4692-BCDD-ADA8B2183E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10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1200"/>
            </a:br>
            <a:r>
              <a:rPr b="1" i="1" lang="ru-RU" sz="11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11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A21-E4C6-412B-8F02-CB36D656AB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152C-5C12-47B9-8548-D5ED730A9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6E7C-82EE-4B3A-8497-153211CA34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742-28D8-42C2-ABAA-AB0059274A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F66-7D92-484E-97A8-242FEF4B86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25C8-3086-4F5F-83F9-4F70C4A290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74F4-9257-4680-9620-B37A2BEB0A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1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AEAC-D5E4-4C6B-9FBD-20B37D17CF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7243-5E10-4F63-B75D-84EFFECA31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12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EBCA-5B5C-47CC-8CE9-ABF579007C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D9A4-CB76-4854-A318-364520984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3098-2044-48CF-853D-996EA346E9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5F46-A359-47F0-9B9E-932480713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1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52AD-317B-4F35-809F-2D46D8E23F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эксперимент:</a:t>
            </a:r>
            <a:br>
              <a:rPr sz="1000"/>
            </a:br>
            <a:br>
              <a:rPr sz="9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26C5-B0B8-488C-8C63-818A39B812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45FF-13F7-4904-A88F-8CAB17D9B6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483-C771-479F-A928-E2A46DA1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FE6-C07E-4A12-A399-502562C9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229-7466-41B2-8456-BFA687D1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733-4100-4AE1-B416-FE7B15E7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7FB-E602-4FCE-8A12-8D2C2955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31E-7C48-4DE4-ACE5-4FE8AD74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4BA-B1DD-4324-ABCC-DF6CC32B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93F-593B-4B86-91D3-8A3734B9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C40-C141-48F4-9A6C-A73F921B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EBA-9400-4D63-8183-FB341E6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D1B-09E0-446F-9970-51CB1959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AA7-33F7-42E7-ADB7-10BF1D5C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3683-E844-4723-B5B0-B9D7B64B58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E68D-CDCB-4F5C-B425-61BF47B41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1&amp;ed=1&amp;text=&#1074;&#1086;&#1079;&#1076;&#1091;&#1096;&#1085;&#1099;&#1081;%20&#1096;&#1072;&#1088;&#1080;&#1082;&amp;spsite=fake-031-313283.ru&amp;img_url=forum.materinstvo.ru/uploads/1248474579/post-65700-1248515210.jpg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79;&#1076;&#1091;&#1096;&#1085;&#1099;&#1081;%20&#1096;&#1072;&#1088;&#1080;&#1082;&amp;spsite=fake-018-2870643.ru&amp;img_url=www.proza.ru/pics/2009/05/19/135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search?p=12&amp;ed=1&amp;text=&#1074;&#1077;&#1083;&#1086;&#1089;&#1080;&#1087;&#1077;&#1076;&amp;spsite=fake-026-1898921.ru&amp;img_url=www.sportlend.ru/images/Image/velo_5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5;&#1077;&#1079;&#1085;&#1072;&#1081;&#1082;&#1072;%20&#1085;&#1072;%20&#1083;&#1091;&#1085;&#1077;&amp;spsite=fake-005-1089736.ru&amp;img_url=www.avalon.ru/_images/OpenLessons/Illustrator/Lessons/Intro/vid.jpg&amp;rpt=simage&amp;nl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4;&#1099;&#1083;&#1100;&#1085;&#1099;&#1077;%20&#1087;&#1091;&#1079;&#1099;&#1088;&#1080;%20&#1082;&#1072;&#1088;&#1090;&#1080;&#1085;&#1082;&#1080;&amp;spsite=fake-020-491188.ru&amp;img_url=s54.radikal.ru/i146/0904/f6/1da9e9900975.jpg&amp;rpt=simag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search?p=16&amp;ed=1&amp;text=&#1084;&#1099;&#1083;&#1100;&#1085;&#1099;&#1077;%20&#1087;&#1091;&#1079;&#1099;&#1088;&#1080;%20&#1082;&#1072;&#1088;&#1090;&#1080;&#1085;&#1082;&#1080;&amp;spsite=fake-021-4734236.ru&amp;img_url=m.vgorode.ru/media_image/2579651/2842752/6.jpeg&amp;rpt=simage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0;&#1102;&#1073;&#1080;&#1082;%20&#1079;&#1091;&#1073;&#1085;&#1086;&#1081;%20&#1087;&#1072;&#1089;&#1090;&#1099;&amp;spsite=fake-030-139481.ru&amp;img_url=dobrochan.ru/src/jpg/0910/125636580318268.jpg&amp;rpt=simage&amp;nl=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6;&#1083;&#1080;&#1092;&#1086;&#1074;&#1072;&#1083;&#1100;&#1085;&#1072;&#1103;%20&#1084;&#1072;&#1096;&#1080;&#1085;&#1072;&amp;spsite=fake-002-2012321.ru&amp;img_url=i037.radikal.ru/0908/97/b9ee2f14c503.jpg&amp;rpt=simage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search?p=16&amp;ed=1&amp;text=&#1096;&#1083;&#1080;&#1092;&#1086;&#1074;&#1072;&#1083;&#1100;&#1085;&#1072;&#1103;%20&#1084;&#1072;&#1096;&#1080;&#1085;&#1072;&amp;spsite=fake-002-573764.ru&amp;img_url=instrument.isolux.ru/img_out/143351_9558NB(1).jpg&amp;rpt=simage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search?p=11&amp;text=&#1087;&#1085;&#1077;&#1074;&#1084;&#1072;&#1090;&#1080;&#1095;&#1077;&#1089;&#1082;&#1080;&#1077;%20&#1090;&#1080;&#1089;&#1082;&#1080;&amp;spsite=www.termoplast.udm.ru&amp;img_url=www.termoplast.udm.ru/eng/devices/tisky_top.jpg&amp;rpt=simage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search?p=18&amp;ed=1&amp;text=&#1074;&#1080;&#1073;&#1088;&#1072;&#1090;&#1086;&#1088;&#1099;%20&#1087;&#1085;&#1077;&#1074;&#1084;&#1072;&#1090;&#1080;&#1095;&#1077;&#1089;&#1082;&#1080;&#1077;%20&#1092;&#1086;&#1090;&#1086;&amp;spsite=www.vibrostroy-m.ru&amp;img_url=www.vibrostroy-m.ru/pictures/ru/shtepselniesoed/ploschadochnii.jpg&amp;rpt=simage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search?p=2&amp;ed=1&amp;text=%20%20&#1087;&#1085;&#1077;&#1074;&#1084;&#1072;&#1090;&#1080;&#1095;&#1077;&#1089;&#1082;&#1080;&#1077;%20&#1080;&#1079;&#1084;&#1077;&#1088;&#1080;&#1090;&#1077;&#1083;&#1100;&#1085;&#1099;&#1077;%20&#1087;&#1088;&#1080;&#1073;&#1086;&#1088;&#1099;&amp;spsite=community.livejournal.com&amp;img_url=i128.photobucket.com/albums/p195/dn2a/photos/things/CRW_2864.jpg&amp;rpt=simage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search?p=15&amp;ed=1&amp;text=%20%20&#1087;&#1077;&#1089;&#1082;&#1086;&#1089;&#1090;&#1088;&#1091;&#1081;&#1085;&#1072;&#1103;%20&#1084;&#1072;&#1096;&#1080;&#1085;&#1072;&amp;spsite=www.9410029.ru&amp;img_url=www.9410029.ru/images/sblast/sblast_071.jpg&amp;rpt=simage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101;&#1082;&#1089;&#1087;&#1077;&#1088;&#1080;&#1084;&#1077;&#1085;&#1090;%20&#1082;%20&#1079;&#1072;&#1082;&#1086;&#1085;&#1091;%20&#1055;&#1040;&#1057;&#1050;&#1040;&#1051;&#1071;.%20doc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2;&#1086;&#1090;&#1086;%20&#1055;&#1072;&#1089;&#1082;&#1072;&#1083;&#1103;&amp;spsite=fake-021-174771.ru&amp;img_url=img.encyc.yandex.net/illustrations/krugosvet/pictures/a/a5/1010475-PH07395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7&amp;ed=1&amp;text=&#1096;&#1072;&#1088;%20&#1055;&#1072;&#1089;&#1082;&#1072;&#1083;&#1103;&amp;spsite=lab-plus.com.ua&amp;img_url=cs.getfrag.ru/np_8_9/2008/equipment/olma_ph/images/fullsize/1.35.jpg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search?p=13&amp;ed=1&amp;text=&#1096;&#1072;&#1088;%20&#1055;&#1072;&#1089;&#1082;&#1072;&#1083;&#1103;&amp;spsite=vpl54.narod.ru&amp;img_url=vpl54.narod.ru/images/Shar_Paskalja.gif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search?p=5&amp;ed=1&amp;text=%20&#1086;&#1087;&#1099;&#1090;%20&#1089;%20&#1096;&#1072;&#1088;&#1086;&#1084;%20%20&#1055;&#1072;&#1089;&#1082;&#1072;&#1083;&#1103;&amp;spsite=www.hde.kurganobl.ru&amp;img_url=www.hde.kurganobl.ru/dist/disk/Shcool/Book/Sprav_material/Mech/pic/0051r1.jpg&amp;rpt=simage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Monotype Corsiva"/>
              </a:rPr>
              <a:t>        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24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3600"/>
            </a:br>
            <a:r>
              <a:rPr b="1" i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Documents and Settings\МАМИК\Рабочий стол\Мои рисунки\вся ерунда\цветы\Shamrock.gif"/>
          <p:cNvPicPr/>
          <p:nvPr/>
        </p:nvPicPr>
        <p:blipFill>
          <a:blip r:embed="rId1"/>
          <a:stretch/>
        </p:blipFill>
        <p:spPr>
          <a:xfrm>
            <a:off x="700092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Documents and Settings\МАМИК\Мои документы\Мои рисунки\экология\165.gif"/>
          <p:cNvPicPr/>
          <p:nvPr/>
        </p:nvPicPr>
        <p:blipFill>
          <a:blip r:embed="rId2"/>
          <a:stretch/>
        </p:blipFill>
        <p:spPr>
          <a:xfrm>
            <a:off x="4786200" y="3786120"/>
            <a:ext cx="3071880" cy="25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Documents and Settings\МАМИК\Мои документы\Мои рисунки\экология\Солнце.gif"/>
          <p:cNvPicPr/>
          <p:nvPr/>
        </p:nvPicPr>
        <p:blipFill>
          <a:blip r:embed="rId3"/>
          <a:stretch/>
        </p:blipFill>
        <p:spPr>
          <a:xfrm>
            <a:off x="428760" y="2858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85880" y="3625920"/>
            <a:ext cx="279540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еперь порешаем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гад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й, круглый, но не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ыгает он вскач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евочке вис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ваюсь – улетит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нажать на шарик, то можно ли сказать, в каком месте он лоп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im4-tub.yandex.net/i?id=5092995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5716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358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Задачи от Григория Ос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8568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давление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http://im0-tub.yandex.net/i?id=2408605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http://im4-tub.yandex.net/i?id=9979033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00680" y="3429000"/>
            <a:ext cx="19285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ipfLO9sC6CqhNNlnM:" descr="http://t0.gstatic.com/images?q=tbn:LO9sC6CqhNNlnM:http://modernlib.ru/books/oster_grigoriy_bencionovich/photo.jpg"/>
          <p:cNvPicPr/>
          <p:nvPr/>
        </p:nvPicPr>
        <p:blipFill>
          <a:blip r:embed="rId5"/>
          <a:stretch/>
        </p:blipFill>
        <p:spPr>
          <a:xfrm>
            <a:off x="214200" y="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im0-tub.yandex.net/i?id=550766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000680"/>
            <a:ext cx="271476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im4-tub.yandex.net/i?id=6856957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im6-tub.yandex.net/i?id=11104386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7680" y="2357280"/>
            <a:ext cx="1214280" cy="1357560"/>
          </a:xfrm>
          <a:prstGeom prst="rect">
            <a:avLst/>
          </a:prstGeom>
          <a:ln w="0">
            <a:noFill/>
          </a:ln>
        </p:spPr>
      </p:pic>
      <p:pic>
        <p:nvPicPr>
          <p:cNvPr id="116" name="ipfVu5uH-0Y1vMCGM:" descr="http://t2.gstatic.com/images?q=tbn:Vu5uH-0Y1vMCGM:http://gdb.rferl.org/3CD9594F-C6F7-4164-A660-CB9978628965_mw800_s.jpg"/>
          <p:cNvPicPr/>
          <p:nvPr/>
        </p:nvPicPr>
        <p:blipFill>
          <a:blip r:embed="rId5"/>
          <a:stretch/>
        </p:blipFill>
        <p:spPr>
          <a:xfrm>
            <a:off x="928800" y="4929120"/>
            <a:ext cx="17906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http://t0.gstatic.com/images?q=tbn:Mf80dTOLUrBlsM:http://byaki.net/uploads/posts/2008-07/1216963344_01.jpg"/>
          <p:cNvPicPr/>
          <p:nvPr/>
        </p:nvPicPr>
        <p:blipFill>
          <a:blip r:embed="rId6"/>
          <a:stretch/>
        </p:blipFill>
        <p:spPr>
          <a:xfrm>
            <a:off x="6357960" y="478620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Documents and Settings\МАМИК\Рабочий стол\Мои рисунки\вся ерунда\драконы и водоплавающие\дельфи.gif"/>
          <p:cNvPicPr/>
          <p:nvPr/>
        </p:nvPicPr>
        <p:blipFill>
          <a:blip r:embed="rId7"/>
          <a:stretch/>
        </p:blipFill>
        <p:spPr>
          <a:xfrm>
            <a:off x="3286080" y="4786200"/>
            <a:ext cx="264312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://im6-tub.yandex.net/i?id=20926120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616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ipfGHNLkN8RbALh8M:" descr="http://t3.gstatic.com/images?q=tbn:GHNLkN8RbALh8M:http://xmages.net/out.php/i74555_255.jpg"/>
          <p:cNvPicPr/>
          <p:nvPr/>
        </p:nvPicPr>
        <p:blipFill>
          <a:blip r:embed="rId3"/>
          <a:stretch/>
        </p:blipFill>
        <p:spPr>
          <a:xfrm>
            <a:off x="7286760" y="535788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9880"/>
            <a:ext cx="8686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8-tub.yandex.net/i?id=10633246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42920"/>
            <a:ext cx="1733760" cy="1071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http://im6-tub.yandex.net/i?id=7810590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2968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http://im7-tub.yandex.net/i?id=341337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785880"/>
            <a:ext cx="15714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8-tub.yandex.net/i?id=29091887&amp;tov=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0200" y="150012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http://im2-tub.yandex.net/i?id=21737720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1785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ttp://im0-tub.yandex.net/i?id=78438675&amp;tov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14680" y="4214880"/>
            <a:ext cx="1785600" cy="1290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http://im0-tub.yandex.net/i?id=129326398&amp;tov=0"/>
          <p:cNvPicPr/>
          <p:nvPr/>
        </p:nvPicPr>
        <p:blipFill>
          <a:blip r:embed="rId13"/>
          <a:stretch/>
        </p:blipFill>
        <p:spPr>
          <a:xfrm>
            <a:off x="5643720" y="4214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http://im5-tub.yandex.net/i?id=8420856&amp;tov=5"/>
          <p:cNvPicPr/>
          <p:nvPr/>
        </p:nvPicPr>
        <p:blipFill>
          <a:blip r:embed="rId14"/>
          <a:stretch/>
        </p:blipFill>
        <p:spPr>
          <a:xfrm>
            <a:off x="2857680" y="1643040"/>
            <a:ext cx="30715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Documents and Settings\МАМИК\Рабочий стол\Мои рисунки\вся ерунда\цветы\14.gif"/>
          <p:cNvPicPr/>
          <p:nvPr/>
        </p:nvPicPr>
        <p:blipFill>
          <a:blip r:embed="rId1"/>
          <a:stretch/>
        </p:blipFill>
        <p:spPr>
          <a:xfrm>
            <a:off x="5715000" y="3071880"/>
            <a:ext cx="292896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29080"/>
            <a:ext cx="72010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30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Documents and Settings\МАМИК\Рабочий стол\Мои рисунки\вся ерунда\смайлики\39.gif"/>
          <p:cNvPicPr/>
          <p:nvPr/>
        </p:nvPicPr>
        <p:blipFill>
          <a:blip r:embed="rId1"/>
          <a:stretch/>
        </p:blipFill>
        <p:spPr>
          <a:xfrm>
            <a:off x="785880" y="2500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Documents and Settings\МАМИК\Рабочий стол\Мои рисунки\вся ерунда\смайлики\01.gif"/>
          <p:cNvPicPr/>
          <p:nvPr/>
        </p:nvPicPr>
        <p:blipFill>
          <a:blip r:embed="rId2"/>
          <a:stretch/>
        </p:blipFill>
        <p:spPr>
          <a:xfrm>
            <a:off x="8001000" y="2357280"/>
            <a:ext cx="476280" cy="438480"/>
          </a:xfrm>
          <a:prstGeom prst="rect">
            <a:avLst/>
          </a:prstGeom>
          <a:ln w="0">
            <a:noFill/>
          </a:ln>
        </p:spPr>
      </p:pic>
      <p:pic>
        <p:nvPicPr>
          <p:cNvPr id="58" name="ipf9gww05d9Lhp-uM:" descr="http://t0.gstatic.com/images?q=tbn:9gww05d9Lhp-uM:http://festival.1september.ru/articles/515901/img4.jpg"/>
          <p:cNvPicPr/>
          <p:nvPr/>
        </p:nvPicPr>
        <p:blipFill>
          <a:blip r:embed="rId3"/>
          <a:stretch/>
        </p:blipFill>
        <p:spPr>
          <a:xfrm>
            <a:off x="4000680" y="3071880"/>
            <a:ext cx="171432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Documents and Settings\МАМИК\Рабочий стол\Мои рисунки\вся ерунда\смайлики\05.gif"/>
          <p:cNvPicPr/>
          <p:nvPr/>
        </p:nvPicPr>
        <p:blipFill>
          <a:blip r:embed="rId1"/>
          <a:stretch/>
        </p:blipFill>
        <p:spPr>
          <a:xfrm>
            <a:off x="1500120" y="6429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ipfRE3h9iGjetn_wM:" descr="http://t1.gstatic.com/images?q=tbn:RE3h9iGjetn_wM:http://festival.1september.ru/articles/314864/img2.jpg"/>
          <p:cNvPicPr/>
          <p:nvPr/>
        </p:nvPicPr>
        <p:blipFill>
          <a:blip r:embed="rId2"/>
          <a:stretch/>
        </p:blipFill>
        <p:spPr>
          <a:xfrm>
            <a:off x="4143240" y="371484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500200" y="47862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786040" y="4500720"/>
            <a:ext cx="7142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286160" y="4214880"/>
            <a:ext cx="285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Documents and Settings\МАМИК\Рабочий стол\Мои рисунки\вся ерунда\знаки\2h3.gif"/>
          <p:cNvPicPr/>
          <p:nvPr/>
        </p:nvPicPr>
        <p:blipFill>
          <a:blip r:embed="rId1"/>
          <a:stretch/>
        </p:blipFill>
        <p:spPr>
          <a:xfrm>
            <a:off x="8072280" y="114300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8880" y="1571760"/>
          <a:ext cx="5357880" cy="1131840"/>
        </p:xfrm>
        <a:graphic>
          <a:graphicData uri="http://schemas.openxmlformats.org/drawingml/2006/table">
            <a:tbl>
              <a:tblPr/>
              <a:tblGrid>
                <a:gridCol w="1297080"/>
                <a:gridCol w="1382400"/>
                <a:gridCol w="1338480"/>
                <a:gridCol w="1339920"/>
              </a:tblGrid>
              <a:tr h="80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" descr="F:\Documents and Settings\МАМИК\Рабочий стол\Мои рисунки\вся ерунда\знаки\penciler.gif"/>
          <p:cNvPicPr/>
          <p:nvPr/>
        </p:nvPicPr>
        <p:blipFill>
          <a:blip r:embed="rId1"/>
          <a:stretch/>
        </p:blipFill>
        <p:spPr>
          <a:xfrm>
            <a:off x="1643040" y="3357720"/>
            <a:ext cx="2000160" cy="95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Documents and Settings\МАМИК\Мои документы\Мои рисунки\экология\164.gif"/>
          <p:cNvPicPr/>
          <p:nvPr/>
        </p:nvPicPr>
        <p:blipFill>
          <a:blip r:embed="rId2"/>
          <a:stretch/>
        </p:blipFill>
        <p:spPr>
          <a:xfrm>
            <a:off x="5500800" y="3857760"/>
            <a:ext cx="278604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эксперимент:_x000b_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9976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F:\Documents and Settings\МАМИК\Рабочий стол\Мои рисунки\вся ерунда\Рисунки\Копия forum.gif"/>
          <p:cNvPicPr/>
          <p:nvPr/>
        </p:nvPicPr>
        <p:blipFill>
          <a:blip r:embed="rId2"/>
          <a:stretch/>
        </p:blipFill>
        <p:spPr>
          <a:xfrm>
            <a:off x="7000920" y="357120"/>
            <a:ext cx="1324080" cy="1190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6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pfTrq6kUClJyeSqM:" descr="http://t2.gstatic.com/images?q=tbn:Trq6kUClJyeSqM:http://dic.academic.ru/pictures/ntes/104-2.jpg"/>
          <p:cNvPicPr/>
          <p:nvPr/>
        </p:nvPicPr>
        <p:blipFill>
          <a:blip r:embed="rId1"/>
          <a:stretch/>
        </p:blipFill>
        <p:spPr>
          <a:xfrm>
            <a:off x="5214960" y="9288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  ПАСКА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авление , производимое на жидкость или газ, передается  в каждую точку жидкости или газа одинаково  по всем направлениям</a:t>
            </a: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im8-tub.yandex.net/i?id=144376778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4-tub.yandex.net/i?id=3577072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4500720"/>
            <a:ext cx="2071440" cy="105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4-tub.yandex.net/i?id=106980757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214880"/>
            <a:ext cx="14335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3-tub.yandex.net/i?id=33399056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421488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5:41Z</dcterms:created>
  <dc:creator>МАМИК</dc:creator>
  <dc:description/>
  <dc:language>en-US</dc:language>
  <cp:lastModifiedBy>LEGION</cp:lastModifiedBy>
  <dcterms:modified xsi:type="dcterms:W3CDTF">2015-03-30T08:45:38Z</dcterms:modified>
  <cp:revision>110</cp:revision>
  <dc:subject/>
  <dc:title>ТЕМА УРОКА «Передача давления жидкостями и газами.  Закон Паскаля» </dc:title>
</cp:coreProperties>
</file>