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0.gif" ContentType="image/gif"/>
  <Override PartName="/ppt/media/image21.gif" ContentType="image/gif"/>
  <Override PartName="/ppt/media/image10.jpeg" ContentType="image/jpeg"/>
  <Override PartName="/ppt/media/image19.gif" ContentType="image/gif"/>
  <Override PartName="/ppt/media/image14.jpeg" ContentType="image/jpeg"/>
  <Override PartName="/ppt/media/image17.png" ContentType="image/png"/>
  <Override PartName="/ppt/media/image24.gif" ContentType="image/gif"/>
  <Override PartName="/ppt/media/image32.jpeg" ContentType="image/jpeg"/>
  <Override PartName="/ppt/media/image16.gif" ContentType="image/gif"/>
  <Override PartName="/ppt/media/image15.jpeg" ContentType="image/jpeg"/>
  <Override PartName="/ppt/media/image27.gif" ContentType="image/gif"/>
  <Override PartName="/ppt/media/image28.jpeg" ContentType="image/jpeg"/>
  <Override PartName="/ppt/media/image1.jpeg" ContentType="image/jpeg"/>
  <Override PartName="/ppt/media/image35.jpeg" ContentType="image/jpeg"/>
  <Override PartName="/ppt/media/image8.png" ContentType="image/png"/>
  <Override PartName="/ppt/media/image11.jpeg" ContentType="image/jpeg"/>
  <Override PartName="/ppt/media/image36.jpeg" ContentType="image/jpeg"/>
  <Override PartName="/ppt/media/image9.jpeg" ContentType="image/jpeg"/>
  <Override PartName="/ppt/media/image13.gif" ContentType="image/gif"/>
  <Override PartName="/ppt/media/image33.jpeg" ContentType="image/jpeg"/>
  <Override PartName="/ppt/media/image42.gif" ContentType="image/gif"/>
  <Override PartName="/ppt/media/image34.jpeg" ContentType="image/jpeg"/>
  <Override PartName="/ppt/media/image7.jpeg" ContentType="image/jpeg"/>
  <Override PartName="/ppt/media/image31.jpeg" ContentType="image/jpeg"/>
  <Override PartName="/ppt/media/image2.png" ContentType="image/png"/>
  <Override PartName="/ppt/media/image22.gif" ContentType="image/gif"/>
  <Override PartName="/ppt/media/image38.gif" ContentType="image/gif"/>
  <Override PartName="/ppt/media/image43.png" ContentType="image/png"/>
  <Override PartName="/ppt/media/image39.png" ContentType="image/png"/>
  <Override PartName="/ppt/media/image30.jpeg" ContentType="image/jpeg"/>
  <Override PartName="/ppt/media/image6.png" ContentType="image/png"/>
  <Override PartName="/ppt/media/image26.gif" ContentType="image/gif"/>
  <Override PartName="/ppt/media/image18.png" ContentType="image/png"/>
  <Override PartName="/ppt/media/image25.gif" ContentType="image/gif"/>
  <Override PartName="/ppt/media/image29.jpeg" ContentType="image/jpeg"/>
  <Override PartName="/ppt/media/image37.gif" ContentType="image/gif"/>
  <Override PartName="/ppt/media/image5.jpeg" ContentType="image/jpeg"/>
  <Override PartName="/ppt/media/image41.gif" ContentType="image/gif"/>
  <Override PartName="/ppt/media/image12.jpeg" ContentType="image/jpeg"/>
  <Override PartName="/ppt/media/image4.png" ContentType="image/png"/>
  <Override PartName="/ppt/media/image40.gif" ContentType="image/gif"/>
  <Override PartName="/ppt/media/image3.png" ContentType="image/png"/>
  <Override PartName="/ppt/media/image23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C550-9332-4E0C-A0C9-202AB8E26C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по теме: « Звуковые волны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яснительная запи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проводится в 8 – ом классе . Начинается урок с эпиграфа, который определяет тему урока. Эпиграф раскрывает с неожиданной стороны содержание учебного материала . Урок изучения нового материала проводится в форме физической сказки. Сказка  делает материал для учеников ближе и понятнее: ведь в детстве каждый из них любил сказки. Сказка используется как средство связать физику с жизнью, как возможность задать в интересной форме физические вопросы, как способ углубить межпредметную связь физика – лите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креплении нового материала используется групповая работа учащихся. Рассматривается влияние звуковых волн на организ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6BA3-4873-41D0-95C7-03B0B2CD1C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звуков помогает нам выражать свои эмоции и чувства. Изобразите звуки: выиграла ваша любимая хоккейная команда, отменили любимый урок, вы долго были на морозе и зашли в тёплое поме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нимательно прислушаться к царству звуковых волн, то можно услышать какие они разные: кричат, пищат, шепчут, басят, спокойно разговаривают. Одни звуки вызывают у нас раздражение, другие звуки успокаивают, третьи ласкают слух. Причиной такого разного поведения звуковых волн является тембр голоса, благодаря ему мы различаем голоса, отличаем музыкальные инстру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8917-7F76-4B15-B6C6-631C9309B8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 царстве звуковых волн бывает и ураган. Волны начинают шуметь. Шум – звуки разных частот, имеют разную продолжительность и интенсивность, в пространстве накладываются друг на друга. Например: школьная переме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ороть шум можно по - разному, но лучший способ – убрать источник шума. Шум воздействует на организм человека: раздражает,  утомляет, вызывает головную боль, действует на нервную сист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A6FA-0C88-47A6-A92B-71F859922B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редние века существовала казнь «под колоколом». Гул колокольного звона мучил и медленно убивал человека. С шумом,  поэтому нужно бороться. В царстве можно услышать, о чём шепчутся волны – это эх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вуковое эхо – волна, отражённая от различных препятств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1F43-7F01-417A-9B29-BBF0E80175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алерее шёпота в Соборе Св. Павла в Лондоне эхо такое, что, стоя у одной стены собора, вы можете услышать, о чём шепчутся люди у другой стены собора, находящейся от вас в 36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арстве звуков часто слышны звучание гитар, скрипок , балала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 по себе струны этих инструментов создают слабый звук, их укрепляют на деревянном ящике и звук получается громкий. Почем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EC72-8005-4DCE-ABB1-73F426F49C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уса инструментов (резонаторы) устроены так, что частота звуковой волны в корпусе равна частоте колебания струны. При этом звук усиливается, возникает звуковой резон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аем путешествовать по царству звуков,  и замечаем,  что звуковые волны всё время работают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но замечено, многие прибрежные животные и морские точно определяют приближение шторма. Зарождающийся шторм создаёт инфразвуки, их называют «голос моря», животные их хорошо слышат. При землетрясениях возникают колебания земной коры,  образуются инфразвуки, они сообщают об опас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2A6E-E7DD-4DE4-A36F-F200EE15E0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аки слышат ультразвуки, этим пользуется дрессировщик, чтобы подавать команды, неслышимые челове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3FB5-1F68-450E-9A7C-57FB1D9438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учие мыши испускают  ультразвук и хорошо ориентируются в пространстве ночью, улавливая отразившуюся от препятствия вол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ьфины тоже испускают и принимают ультразвук. Дельфины могут лечить. Ультразвуки, которые они издают, как бы просвечивают организм человека, если внутри есть очаг воспаления, то ультразвук воздействует на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ьтразвук, обрабатывая растворы, уничтожает в них микробы (они погибают от вибрации), так можно дезинфицировать воду без хл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4E35-E833-4932-88E8-0D1D373E27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и влияют на рост и развитие растений, оказывают влияние на животных (увеличивают надои молока у кор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4ED8-8C09-4E5D-8330-6CD473BE38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и природного происхождения: морской прибой, дождь, шелест листвы, журчание ручья – благоприятно влияют на организм, расслабляют, успокаива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AB99-024D-4889-AD58-37DCEC79D7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мощью ультразвука обследуют больных, ставят диагноз, разрушают камни в по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ендоскоп позволяет услышать звуки сердца, хрипы в лёгк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71C7-FF56-47C8-B355-D6416276C9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и урок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ировать понятие о звуковой волне, шуме, эхе, звуковом резонансе; раскрыть физическую суть звуковых явлений; уметь объяснять наблюдаемые явления на основе законов физ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орудование урок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,  мультимедийный проектор, слай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орудование для демонстраций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ертон, музыкальные инструменты, насос Комовского, электрический звонок, колокол, магнитофон, мини – тес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од уро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Организация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Изучение нового матери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2075-0973-4395-B42D-85A6B7DAB7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ые волны используют в дефектоскопии, акустоэлектронике, работы звуковым волнам хват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707A-04DB-4BD6-B2E7-29BDED92E9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III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.Закрепление изученного материал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и подошла к концу наша сказка. Сказка ложь, да в ней намёк добрым молодцам у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зка дала намёк для ответов на вопросы. Разделимся на 2 группы. Отвечать будем по очереди, но право на ответ имеет тот участник, который быстрее всех знает отв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81D0-0F95-4373-896D-99DFBE1F3E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груп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руппа.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руп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D0DF-4C28-49A4-8784-F42109AACC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работа в группах показала, что вы творческие люди. Вы не просто отвечали на вопросы, а пытались дойти до самой сути. 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E40D-E25E-4545-9749-DB8355447C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488b"/>
                </a:solidFill>
                <a:latin typeface="Calibri"/>
              </a:rPr>
              <a:t>IV</a:t>
            </a:r>
            <a:r>
              <a:rPr b="0" lang="ru-RU" sz="1600" spc="-1" strike="noStrike">
                <a:solidFill>
                  <a:srgbClr val="11488b"/>
                </a:solidFill>
                <a:latin typeface="Calibri"/>
              </a:rPr>
              <a:t>.Самостоятельная рабо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,  теперь применим свои знания в работе с тестами. Они перед вами на пар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616A-927D-44E9-9D8D-E71883A31D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ес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. Какой диапазон частот имеют звуковые волны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16 – 20Гц                        б) 20 – 30кГц                       в) 16Гц – 20кГ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. Что является источником звука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любое тело     б) любое колеблющиеся тело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любое колеблющиеся тело с частотой 16Гц – 20кГ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. 2 космонавта находятся в космическом пространстве. Услышат ли они друг друга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услышат, так как голосовые связки издают звук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не услышат, так как звуковые волны могут распространяться только в упругой среде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4. Почему комар пищит, а шмель жужжит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частота колебания крыльев комара больша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частота колебаний крыльев шмеля меньш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частота колебаний одинакова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5. Почему бабочки летают беззвучно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крылья покрыты звукопоглощающим вещество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частота колебаний крыльев меньше частоты звуковой волн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6. Когда возникает акустический резонанс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частота колебаний тела равна частоте колебаний звуковой волн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частота колебаний тела меньше частоты колебаний звуковой волн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частота колебаний тела больше частоты колебаний звуковой волн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7. Когда возникает эхо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звуковые волны поглощаются телам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звуковые волны проходят сквозь тел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звуковые волны отражаются от тел, находящихся на их пут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8. Какие волны применяют в дефектоскопии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поперечные        б)световые            в) звуковы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EFF1-8F27-4E28-A8B7-A4813B4989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V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. Итог уро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лючении нашего урока свяжем звуковые волны с процессами, протекающими в нашем организме. На низких частотах от 3Гц до 12Гц работают сердце, лёгкие, циркулирует кровь, движутся суставы. При заболевании организма у звуков внутри его изменяются громкость, тембр, высота тона, дли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ердце работает нормально, то слышны звуки  2 тонов: низкий и высокий, при сердечных заболеваниях, при сбоях в работе сердца звук меняется, прослушиваются шумы, возникает аритмия. Сердце надо лечить. Из -  за чего могут появиться сбои в работе организма? Причины могут быть разные: расстройство, обиды, нервничает человек. Проблемы экологические, медицинские, нравственные связаны друг с другом, чтобы излечить одну,  не надо отвергать другие. Давайте же стараться быть безопасными друг для друг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ё в мире взаимосвязано, чтобы понять эту взаимосвязь, надо дойти до основания, до корней, такова диалек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авление оценок за урок с учётом всех видов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очень плодотворно работали с вами на уроке, спасибо за урок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55AE-0D5B-423B-AC34-55FE461426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VI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. Домашнее зада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написать сочинение на тему «Звуковые волн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рок оконче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CD47-C812-444D-9578-3946558A95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VII.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 Литерату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 Уроки физики в современной школе.  В. Г. Разумовский;    Москва «Просвещение»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 Физика 8 – 9 классы. В. А. Попов;  Волгоград  200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 Как подготовить и провести открытый у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М. Поташник, М. В. Левит;  Педагогическое общество России  Москва  20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 Уроки физики в 10 классе.  С. Л. Вольштейн, А. М. Качинский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М. Круглей, М. С. Кузей;  Минск «Народная  Асвета» 198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 Физические викторины.   Б. Ф. Билимович;  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свещение» 197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 Мир физики в художественной литератур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А. Тихомирова; Москва 198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       Игровые ситуации на уроках физики.  И.Я.Ланина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нинград 198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      Уроки физики 7 – 11 классы.  Серия «Современная школа»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 Издательство «Глобус» 200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BB5B-3BC4-4767-AD9D-8E0034269C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Эпиграф нашего урока: </a:t>
            </a:r>
            <a:br>
              <a:rPr sz="1400"/>
            </a:b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                          «Во всём мне хочется дойти </a:t>
            </a:r>
            <a:br>
              <a:rPr sz="1400"/>
            </a:b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                       до самой сути…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 нашего урока: «Во всём мне хочется дойти до самой сути…»- строки из стихотворения Бориса Пастернака, казалось бы, как эти строки связаны с темой нашего урока? Но смысл этих строк и определяет цель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суть,  узнать истину – это издавна привлекало человека, но эта черта характерна для человека творческого. Давайте попробуем применить свои творческие способности, а они есть у каждого из вас я увер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расскажу вам сказку. В некотором царстве, в некотором государстве живут волны световые, механические. Одной из разновидностей механических волн  являются звуковые или акустические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A804-D457-4FB6-8E5F-2F9A23C1F0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едставляют собой волн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распространение колебаний в пространстве с течением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являются звуковые волны - продольные или поперечны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продоль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вы так дум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распространяются в воздух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волны называют продоль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колебания происходят вдоль направления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ые волны образуются так: в проходящей струе неравномерно нагретого воздуха образуются чередующиеся участки сжатия и растяжения; в результате, возникают продольные колебания частиц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их ещё средах могут распространяться звуковые вол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в газах, жидкостях, твёрдых тел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9B91-8E0B-46EF-A0D3-B22E2D60E2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могут ли распространяться  звуковые волны в вакуум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затрудняетесь ответить на этот вопрос, давайте обратимся к опы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едить за волнами сложно. Скорость распространения звуковой волны  зависит от взаимодействия частиц среды: чем сильнее взаимодействие, тем больше скорость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DAA3-81A4-4C56-A4B9-12CCEE03C0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же является источником вол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любое колеблющееся те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сточники звуковых вол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музыкальные инструменты, писк комара, шелест листьев, дрожание стёк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совые связки вместе с проходящим воздухом позволяют нам общаться. Мы слышим звуки благодаря органам слуха. Главная часть слухового аппарата человека – барабанная перепонка, способная колебаться под действием звуковых волн. Эти колебания по слуховому нерву передаются в мозг и там обрабаты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13DD-E3A1-44CD-AFC6-2F66384D86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нстрац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ертон – прибор, создающий звук одной частоты, получается чистый тон. Ветви камертона создают слабый звук, для усиления звука камертон укрепляют на деревянном ящике, с большей площадью поверхностью, - усилителе, резонаторе.    У музыкальных  инструментах резонаторами являются де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6C3D-78EE-4452-A424-11C63B05FE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слышите звучание музыкальных инструментов. Отгадай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арстве механических волн звуковыми  считаются волны, которые вызывают слуховые ощущения, а это волны,  диапазон которых находиться в интервале от 16Гц  до 20000Гц. У пожилых людей  этот интервал меньше, так как с возрастом утрачивается способность слышать звуки большой част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м царстве звуковые волны очень гордые, так    как с помощью этих волн человек, животные, птицы, насекомые получают информацию об окружающем мире. Информация поступает не только с помощью звуковых волн, но и ультразвуковых волн. Информация поступает не только через речь, но и с помощью звуковых сигналов: свисток, гудок, различные сирены, колокольный звон, звучание буди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F1B5-ED49-433C-B7E8-AD2375EE91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нстрац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ые сигналы. Угадай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звуков окружают нас в повседневной жизни. Приведите прим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ывание ветра, крики, звуки работающего транспорта, шум текущей воды, скрип сне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372F-0211-4552-B22B-3FEF247C36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29F5-D7C4-4F59-A03B-94524E38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5E95-1B9D-4500-8439-338B2EFE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D5D2-3EFF-441D-A786-83893303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D424-8B52-4CF6-A6F8-859687ED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EFAB-CB17-49EE-BDAE-9A0CE89F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9A50-A0C7-41C5-AEAD-E91040F9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4FE9-FBD2-4D20-8077-F4E16DC3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A4DA-28A1-47B5-8682-626E16F8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0140-E181-466B-9EB9-DBCE08D7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E336-83B0-44E3-B4F5-2879BDD8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DC78-DC66-4948-91A4-9FAB8C4F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4FEB-EBE5-4708-A090-4CFADF4C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CFF2-0891-46FE-B779-3195FC1A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B46B-2343-40F8-B49D-6AF9DD0C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5F17-F466-4F7C-BC42-28106489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CCEC-89A7-443B-A512-F0CB0BAA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1406-28BD-4A8F-9AC1-CAC48EAB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0194E-3450-4324-B52A-CD2DC52E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87488-A233-463F-9A04-D1BA1244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429DB-87DB-444C-A4EC-B119BEAE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A21C2-A3D6-45EB-8CA5-2C914AE8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BE1D9-0F9B-4CFB-87FC-A158A87A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1E5F-B4AE-41C8-BA4E-096FAC28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EC0F1-2A01-41EA-8F57-1FA110C9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9C95E-716C-4B02-A578-B85AAB11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E214A-EBBF-4238-B240-32D80A9D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CC138-3CC5-4541-8F6A-710D6C31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AAC8F-6C47-4109-B126-0C8F2887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3E8A8-65AB-4751-A038-7AD35778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4713A-5646-4B6D-98D8-326294B7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0BE13-A3D2-43D2-8852-B1E26B6B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F2929-D72D-4A3F-92A9-59B942D5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0328D-68D8-4B26-9BB1-5A9A5708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3D7F-AB1D-4ADA-BB68-2A65743F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3B963-091A-4A0E-A540-9593711A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F59C6-6169-40E1-A648-3ECB8118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5E467-77B6-494A-9F76-CC336A34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A3ED1-B10B-43FA-831E-BAEA114E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4455B-5A61-4610-9560-F615E5D1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300D1-4281-46D0-B957-ED54DB9A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288D3-7E84-4E9E-8450-8873844F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AA037-EC62-4229-A92B-4F085276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C4110-1E85-4E0A-8EC7-0D90859A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F9A49-C891-4C71-A84F-282B5542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20FB-0C35-42EB-B5F9-728418DC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D4C9D-BD52-4463-BAB7-990A6D82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0ADF8-2EB7-41A5-B59E-7EA4F5D3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3164A-EFFE-4B16-A323-AF4ECBED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DC8EC-CE02-4EF5-9C22-7F3C6C01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407B5-75BA-4B8F-84D5-66B15469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AC899-189B-4F51-98A2-E685C389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8AEEF-ABC0-4A31-AE7F-408DB2C2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ACE9A-92A0-45AA-BACB-158136D8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D9DDF-DFB9-48E3-AB3C-9F8E8485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E2159-43A8-4C5F-8FFB-97BBE00B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9B87-BBDB-4FA6-A6EC-6A668217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1E4CB-9577-4DD5-B298-3E4F9CFB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44C2B-84EE-4D10-AE43-179C92F5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ABABF-7D84-4CA5-B51F-0EF7B913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9F400-106B-4DAA-A74E-CE75148F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D0AB4-E205-4579-9100-E6982EE6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3A3C8-B738-4308-8252-AADE6837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72BFD-0266-454D-8DAE-FB029DE9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23123-CC89-41CC-86E0-E4B34FA5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4E8DD-B888-472C-A3FF-255C5634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50984-FB0F-417E-959D-0FD438DD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501B-EC2B-4AA8-9A9C-261E0371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6C814-1365-447E-9AC2-CE734AD7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B2B93-DAA4-4B58-B6F1-DBCD5510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06290-9E72-4B01-B367-717C0D74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7885-5AD7-425D-9A1C-47D8FC76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2828-1EB4-41F0-90AE-B0D9092B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EA2B-056F-4BEC-B2AA-35AE92BA364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F6C4-5739-4950-8670-A43ED96C83C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38C1-1440-4901-B1D6-40B47C80343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095A-7B3F-4BED-8ACE-AF23D9FE5E1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C8D6-106E-46FB-8839-26DC6FE448A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B64C-F9B8-42BF-A0B6-8F8E2D9311A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3F53-5394-4862-A66D-511742BCC4D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23AE-0D6C-4C80-BB46-29BE5C2544F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A1BE-7B8E-4D1B-9FCB-B693E0F32AB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F7B4-7B9E-48A5-B8A3-055081BDCBC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оугольник 7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30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4057-862D-498A-A463-81F20BE639C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4963-EB6C-4ABF-A7AE-11E89DDA72A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ondontrip.narod.ru/Library1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guitartime.ru/images/af/guitar_instr/acoustic_guitar_notes.gif" TargetMode="External"/><Relationship Id="rId4" Type="http://schemas.openxmlformats.org/officeDocument/2006/relationships/image" Target="../media/image13.gif"/><Relationship Id="rId5" Type="http://schemas.openxmlformats.org/officeDocument/2006/relationships/hyperlink" Target="http://england-london.narod.ru/icon/048.jpg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050.radikal.ru/0801/46/a1cb8f2041bd.jpg" TargetMode="External"/><Relationship Id="rId8" Type="http://schemas.openxmlformats.org/officeDocument/2006/relationships/image" Target="../media/image15.jpeg"/><Relationship Id="rId9" Type="http://schemas.openxmlformats.org/officeDocument/2006/relationships/hyperlink" Target="http://lesha-01.narod.ru/files/notes.gif" TargetMode="External"/><Relationship Id="rId10" Type="http://schemas.openxmlformats.org/officeDocument/2006/relationships/image" Target="../media/image16.gif"/><Relationship Id="rId11" Type="http://schemas.openxmlformats.org/officeDocument/2006/relationships/hyperlink" Target="http://photodizayn.narod.ru/images/fig/f66.gif" TargetMode="External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it.vvsu.ru/MIRROR/www.fizika.ru/theory/tema-16/16f-i6.gif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oksanavorobieva.ucoz.ru/_si/0/96640.gif" TargetMode="External"/><Relationship Id="rId2" Type="http://schemas.openxmlformats.org/officeDocument/2006/relationships/image" Target="../media/image19.gif"/><Relationship Id="rId3" Type="http://schemas.openxmlformats.org/officeDocument/2006/relationships/hyperlink" Target="http://www.nivagold.ru/raznoe/dogi6/chien68.gif" TargetMode="External"/><Relationship Id="rId4" Type="http://schemas.openxmlformats.org/officeDocument/2006/relationships/image" Target="../media/image20.gif"/><Relationship Id="rId5" Type="http://schemas.openxmlformats.org/officeDocument/2006/relationships/hyperlink" Target="http://son75196.narod.ru/an1/05.gif" TargetMode="External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biggif.ru/images/jivotnie/jivotnie009.gif" TargetMode="External"/><Relationship Id="rId2" Type="http://schemas.openxmlformats.org/officeDocument/2006/relationships/image" Target="../media/image22.gif"/><Relationship Id="rId3" Type="http://schemas.openxmlformats.org/officeDocument/2006/relationships/hyperlink" Target="http://s58.radikal.ru/i160/0907/66/672a7e6fd001.gif" TargetMode="External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rtgif.ru/JIVOTNIE/animals079.gif" TargetMode="External"/><Relationship Id="rId2" Type="http://schemas.openxmlformats.org/officeDocument/2006/relationships/image" Target="../media/image24.gif"/><Relationship Id="rId3" Type="http://schemas.openxmlformats.org/officeDocument/2006/relationships/hyperlink" Target="http://img.liveinternet.ru/images/attach/4/10646/10646145_lyutiki.gif" TargetMode="External"/><Relationship Id="rId4" Type="http://schemas.openxmlformats.org/officeDocument/2006/relationships/image" Target="../media/image25.gif"/><Relationship Id="rId5" Type="http://schemas.openxmlformats.org/officeDocument/2006/relationships/hyperlink" Target="http://wap.wapuk.ru/download/anim/128x128/52.gif" TargetMode="External"/><Relationship Id="rId6" Type="http://schemas.openxmlformats.org/officeDocument/2006/relationships/image" Target="../media/image26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2/2/211/2211718_1190220976_dozhdik.gif" TargetMode="External"/><Relationship Id="rId2" Type="http://schemas.openxmlformats.org/officeDocument/2006/relationships/image" Target="../media/image27.gif"/><Relationship Id="rId3" Type="http://schemas.openxmlformats.org/officeDocument/2006/relationships/hyperlink" Target="http://gorod.tomsk.ru/uploads/25037/1238639496/40n.jpg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img.rutube.ru/thumbs/f0/e2/f0e2eb3e0389418c35cd0a97bacafbea-1.jpg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s49.radikal.ru/i124/0907/38/1246d8887cae.jpg" TargetMode="External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preview.unian.net/160/156/156865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www.fmcenter.ru/images/pm/IMG_8781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cs262.vkontakte.ru/u7189329/24835154/x_85fd2599.jpg" TargetMode="External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png"/><Relationship Id="rId3" Type="http://schemas.openxmlformats.org/officeDocument/2006/relationships/image" Target="../media/image40.gif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rosv.informika.ru/metod/mansurov/Images/image080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llgoodfree.ucoz.ru/Pictures/Zvuki/veter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yellowchel.ucoz.ru/_nw/1/66080644.gif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img-fotki.yandex.ru/get/36/anatchurin.2/0_17cce_9b3c0937_XL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art5.karelia.ru/photo/1/4/5565_mini.jpg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content.foto.mail.ru/mail/azamova-nika/dog1/i-98.jpg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Урок по теме: « Звуковые волны»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4365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20e04"/>
                </a:solidFill>
                <a:latin typeface="Corbel"/>
              </a:rPr>
              <a:t>Пояснительная записка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Урок проводится в 8 – ом классе . Начинается урок с эпиграфа, который определяет тему урока. Эпиграф раскрывает с неожиданной стороны содержание учебного материала . Урок изучения нового материала проводится в форме физической сказки. Сказка  делает материал для учеников ближе и понятнее: ведь в детстве каждый из них любил сказки. Сказка используется как средство связать физику с жизнью, как возможность задать в интересной форме физические вопросы, как способ углубить межпредметную связь физика – литератур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При закреплении нового материала используется групповая работа учащихся. Рассматривается влияние звуковых волн на организм челове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2848680" y="6216480"/>
            <a:ext cx="40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Щетинина Татья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СОШ № 6 г. 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428480" y="1714680"/>
            <a:ext cx="749772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Царство звуков помогает нам выражать свои эмоции и чувства. Изобразите звуки: выиграла ваша любимая хоккейная команда, отменили любимый урок, вы долго были на морозе и зашли в тёплое помещени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Если внимательно прислушаться к царству звуковых волн, то можно услышать какие они разные: кричат, пищат, шепчут, басят, спокойно разговаривают. Одни звуки вызывают у нас раздражение, другие звуки успокаивают, третьи ласкают слух. Причиной такого разного поведения звуковых волн является тембр голоса, благодаря ему мы различаем голоса, отличаем музыкальные инструмент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1428840" y="1785600"/>
            <a:ext cx="72151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о в царстве звуковых волн бывает и ураган. Волны начинают шуметь. Шум – звуки разных частот, имеют разную продолжительность и интенсивность, в пространстве накладываются друг на друга. Например: школьная перемена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бороть шум можно по - разному, но лучший способ – убрать источник шума. Шум воздействует на организм человека: раздражает,  утомляет, вызывает головную боль, действует на нервную систему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356840" y="1928520"/>
            <a:ext cx="749772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средние века существовала казнь «под колоколом». Гул колокольного звона мучил и медленно убивал человека. С шумом,  поэтому нужно бороться. В царстве можно услышать, о чём шепчутся волны – это эхо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вуковое эхо – волна, отражённая от различных препятстви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18" descr="Картинка 17 из 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1428480" y="1571400"/>
            <a:ext cx="749772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Галерее шёпота в Соборе Св. Павла в Лондоне эхо такое, что, стоя у одной стены собора, вы можете услышать, о чём шепчутся люди у другой стены собора, находящейся от вас в 36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царстве звуков часто слышны звучание гитар, скрипок , балалаек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ами по себе струны этих инструментов создают слабый звук, их укрепляют на деревянном ящике и звук получается громкий. Почему?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Picture 8" descr="Картинка 91 из 84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0120" y="50720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0" descr="Картинка 20 из 2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1857240"/>
            <a:ext cx="1662120" cy="25005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2" descr="Картинка 1 из 2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57200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6" descr="Картинка 117 из 40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715160" y="357120"/>
            <a:ext cx="1000080" cy="10954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Картинка 1 из 40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357720" y="5214960"/>
            <a:ext cx="1571400" cy="91764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6" descr="Картинка 9 из 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58040" y="2643120"/>
            <a:ext cx="1379520" cy="112896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357200" y="285480"/>
            <a:ext cx="7407360" cy="6357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Корпуса инструментов (резонаторы) устроены так, что частота звуковой волны в корпусе равна частоте колебания струны. При этом звук усиливается, возникает звуковой резонанс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20e04"/>
                </a:solidFill>
                <a:latin typeface="Corbel"/>
              </a:rPr>
              <a:t>          </a:t>
            </a: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Продолжаем путешествовать по царству звуков,  и замечаем,  что звуковые волны всё время работают.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Давно замечено, многие прибрежные животные и морские точно определяют приближение шторма. Зарождающийся шторм создаёт инфразвуки, их называют «голос моря», животные их хорошо слышат. При землетрясениях возникают колебания земной коры,  образуются инфразвуки, они сообщают об опасност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оугольник 3"/>
          <p:cNvSpPr/>
          <p:nvPr/>
        </p:nvSpPr>
        <p:spPr>
          <a:xfrm>
            <a:off x="1428840" y="1714680"/>
            <a:ext cx="7286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емонстрац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2 камертона, ударить молоточком по одному камертону, второй начинает зву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434960" y="1447560"/>
            <a:ext cx="74995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обаки слышат ультразвуки, этим пользуется дрессировщик, чтобы подавать команды, неслышимые человеком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10" descr="Картинка 97 из 3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240" y="4857840"/>
            <a:ext cx="2121120" cy="15667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Картинка 107 из 33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71720" y="4838760"/>
            <a:ext cx="1928520" cy="2019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Картинка 535 из 103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00240" y="2143080"/>
            <a:ext cx="3403800" cy="371016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10" descr="Картинка 1 из 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6200" y="3595680"/>
            <a:ext cx="4357800" cy="32623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Картинка 9 из 71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643120" cy="24400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1434960" y="1447920"/>
            <a:ext cx="749952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Летучие мыши испускают  ультразвук и хорошо ориентируются в пространстве ночью, улавливая отразившуюся от препятствия волну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ельфины тоже испускают и принимают ультразвук. Дельфины могут лечить. Ультразвуки, которые они издают, как бы просвечивают организм человека, если внутри есть очаг воспаления, то ультразвук воздействует на нег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Ультразвук, обрабатывая растворы, уничтожает в них микробы (они погибают от вибрации), так можно дезинфицировать воду без хлор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434960" y="1447560"/>
            <a:ext cx="74995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вуки влияют на рост и развитие растений, оказывают влияние на животных (увеличивают надои молока у коров)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4" descr="Картинка 21 из 5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7760" y="2643120"/>
            <a:ext cx="3946320" cy="37148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http://img.liveinternet.ru/images/attach/4/10646/10646145_lyutiki.gif">
            <a:hlinkClick r:id="rId3"/>
          </p:cNvPr>
          <p:cNvPicPr/>
          <p:nvPr/>
        </p:nvPicPr>
        <p:blipFill>
          <a:blip r:embed="rId4"/>
          <a:stretch/>
        </p:blipFill>
        <p:spPr>
          <a:xfrm flipH="1">
            <a:off x="7643880" y="5286240"/>
            <a:ext cx="952560" cy="1019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Картинка 56 из 16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00080" y="4071960"/>
            <a:ext cx="2214720" cy="221472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Картинка 3 из 4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71760"/>
            <a:ext cx="2092320" cy="14284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1434960" y="1447920"/>
            <a:ext cx="749952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вуки природного происхождения: морской прибой, дождь, шелест листвы, журчание ручья – благоприятно влияют на организм, расслабляют, успокаивают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2" descr="Картинка 37 из 66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138400" cy="1428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Картинка 100 из 11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07188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Картинка 14 из 153717">
            <a:hlinkClick r:id="rId7"/>
          </p:cNvPr>
          <p:cNvPicPr/>
          <p:nvPr/>
        </p:nvPicPr>
        <p:blipFill>
          <a:blip r:embed="rId8"/>
          <a:srcRect l="0" t="23947" r="0" b="0"/>
          <a:stretch/>
        </p:blipFill>
        <p:spPr>
          <a:xfrm>
            <a:off x="0" y="4757760"/>
            <a:ext cx="2071800" cy="210024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8" descr="Картинка 477 из 5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43120"/>
            <a:ext cx="2341440" cy="17859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Картинка 165 из 5448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-85680"/>
            <a:ext cx="2357280" cy="25858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1434960" y="1447560"/>
            <a:ext cx="7499520" cy="16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 помощью ультразвука обследуют больных, ставят диагноз, разрушают камни в почка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Фонендоскоп позволяет услышать звуки сердца, хрипы в лёгки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Picture 2" descr="Картинка 96 из 663">
            <a:hlinkClick r:id="rId5"/>
          </p:cNvPr>
          <p:cNvPicPr/>
          <p:nvPr/>
        </p:nvPicPr>
        <p:blipFill>
          <a:blip r:embed="rId6"/>
          <a:srcRect l="0" t="0" r="34688" b="0"/>
          <a:stretch/>
        </p:blipFill>
        <p:spPr>
          <a:xfrm>
            <a:off x="7072200" y="3048120"/>
            <a:ext cx="2071800" cy="3809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Картинка 108 из 663"/>
          <p:cNvPicPr/>
          <p:nvPr/>
        </p:nvPicPr>
        <p:blipFill>
          <a:blip r:embed="rId7"/>
          <a:stretch/>
        </p:blipFill>
        <p:spPr>
          <a:xfrm>
            <a:off x="1428840" y="4929120"/>
            <a:ext cx="2786040" cy="159228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28840" y="785520"/>
            <a:ext cx="7407360" cy="5357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20e04"/>
                </a:solidFill>
                <a:latin typeface="Corbel"/>
              </a:rPr>
              <a:t>Цели урока: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сформировать понятие о звуковой волне, шуме, эхе, звуковом резонансе; раскрыть физическую суть звуковых явлений; уметь объяснять наблюдаемые явления на основе законов физик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20e04"/>
                </a:solidFill>
                <a:latin typeface="Corbel"/>
              </a:rPr>
              <a:t>Оборудование урока: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компьютер,  мультимедийный проектор, слайд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Оборудование для демонстраций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камертон, музыкальные инструменты, насос Комовского, электрический звонок, колокол, магнитофон, мини – тест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Ход урок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0e04"/>
                </a:solidFill>
                <a:latin typeface="Gill Sans MT"/>
              </a:rPr>
              <a:t>I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.Организация класс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0e04"/>
                </a:solidFill>
                <a:latin typeface="Gill Sans MT"/>
              </a:rPr>
              <a:t>II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.Изучение нового материал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434960" y="1447920"/>
            <a:ext cx="7499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вуковые волны используют в дефектоскопии, акустоэлектронике, работы звуковым волнам хватает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2" descr="Картинка 9 из 1816"/>
          <p:cNvPicPr/>
          <p:nvPr/>
        </p:nvPicPr>
        <p:blipFill>
          <a:blip r:embed="rId1"/>
          <a:stretch/>
        </p:blipFill>
        <p:spPr>
          <a:xfrm>
            <a:off x="1785960" y="2714760"/>
            <a:ext cx="3171960" cy="2381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Картинка 38 из 1816"/>
          <p:cNvPicPr/>
          <p:nvPr/>
        </p:nvPicPr>
        <p:blipFill>
          <a:blip r:embed="rId2"/>
          <a:stretch/>
        </p:blipFill>
        <p:spPr>
          <a:xfrm>
            <a:off x="5286240" y="2786040"/>
            <a:ext cx="3051360" cy="228600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142720" y="1071720"/>
            <a:ext cx="56437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III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Закрепление изученного материал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28480" y="2428920"/>
            <a:ext cx="749772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от и подошла к концу наша сказка. Сказка ложь, да в ней намёк добрым молодцам урок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казка дала намёк для ответов на вопросы. Разделимся на 2 группы. Отвечать будем по очереди, но право на ответ имеет тот участник, который быстрее всех знает ответ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428840" y="285840"/>
            <a:ext cx="7407360" cy="714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опросы для групп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</a:t>
            </a:r>
            <a:r>
              <a:rPr b="0" lang="en-US" sz="2200" spc="-1" strike="noStrike">
                <a:solidFill>
                  <a:srgbClr val="320e04"/>
                </a:solidFill>
                <a:latin typeface="Gill Sans MT"/>
              </a:rPr>
              <a:t>I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группа.                                               </a:t>
            </a:r>
            <a:r>
              <a:rPr b="0" lang="en-US" sz="2200" spc="-1" strike="noStrike">
                <a:solidFill>
                  <a:srgbClr val="320e04"/>
                </a:solidFill>
                <a:latin typeface="Gill Sans MT"/>
              </a:rPr>
              <a:t>II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групп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285920" y="1000080"/>
          <a:ext cx="7500960" cy="5643720"/>
        </p:xfrm>
        <a:graphic>
          <a:graphicData uri="http://schemas.openxmlformats.org/drawingml/2006/table">
            <a:tbl>
              <a:tblPr/>
              <a:tblGrid>
                <a:gridCol w="3749760"/>
                <a:gridCol w="3751200"/>
              </a:tblGrid>
              <a:tr h="130644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Никто его не видыва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 слышать – всякий слыхивал, Без тела, а живёт оно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 языка – кричи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: о каком явлении идёт речь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длинялись причудливо тени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 казалось, внимая словам, Неотступно гудели ступен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 пустой резонировал хра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: почему пустое помещение резонирует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 вы знаете об ультразвуковой локации в мире живой природы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. Приведите примеры использования инфразвука в мире живой приро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ев остановился и, опустившись на колени, припал ухом к земле. Рёв повторился. Вопрос: почему лев припал ухом к земле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2286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В тихий безветренный день на одно единственное слово эхо отвечало целых пятнадцать мину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: почему безветренный день наиболее удобен для наблюдения эх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вук – это вол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ичём кака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 бежит она везде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 какой среде бежит звуковая волн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огут ли космонавты разговаривать в открытом космосе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 .   Почему в пустыне нет эх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чему не издаёт звук колеблющаяся линейк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Доставляет ли комфорт человеку абсолютная тишин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ой прибор был изобретён для настройки музыкальных инструментов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При полёте большинство насекомых издают звук. Чем это вызываетс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865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Итак, работа в группах показала, что вы творческие люди. Вы не просто отвечали на вопросы, а пытались дойти до самой сути. Молодцы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6" name="Picture 4" descr=" "/>
          <p:cNvPicPr/>
          <p:nvPr/>
        </p:nvPicPr>
        <p:blipFill>
          <a:blip r:embed="rId1"/>
          <a:stretch/>
        </p:blipFill>
        <p:spPr>
          <a:xfrm>
            <a:off x="6715080" y="4500720"/>
            <a:ext cx="1809720" cy="1809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43080" y="1285920"/>
            <a:ext cx="5857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IV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Самостоятельная работ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428840" y="2786040"/>
            <a:ext cx="7407360" cy="642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Давайте,  теперь применим свои знания в работе с тестами. Они перед вами на парта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434960" y="285840"/>
            <a:ext cx="74995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Тест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1. Какой диапазон частот имеют звуковые волны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16 – 20Гц                        б) 20 – 30кГц                       в) 16Гц – 20кГц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2. Что является источником звука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любое тело     б) любое колеблющиеся тело  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любое колеблющиеся тело с частотой 16Гц – 20кГц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3. 2 космонавта находятся в космическом пространстве. Услышат ли они друг друга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услышат, так как голосовые связки издают звук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не услышат, так как звуковые волны могут распространяться только в упругой среде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4. Почему комар пищит, а шмель жужжит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частота колебания крыльев комара большая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частота колебаний крыльев шмеля меньше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частота колебаний одинаковая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5. Почему бабочки летают беззвучно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крылья покрыты звукопоглощающим веществом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частота колебаний крыльев меньше частоты звуковой волны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6. Когда возникает акустический резонанс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частота колебаний тела равна частоте колебаний звуковой волны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частота колебаний тела меньше частоты колебаний звуковой волны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частота колебаний тела больше частоты колебаний звуковой волны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7. Когда возникает эхо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звуковые волны поглощаются телами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звуковые волны проходят сквозь тела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звуковые волны отражаются от тел, находящихся на их пути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8. Какие волны применяют в дефектоскопии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поперечные        б)световые            в) звуковые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14" descr="Картинка 138 из 1568"/>
          <p:cNvPicPr/>
          <p:nvPr/>
        </p:nvPicPr>
        <p:blipFill>
          <a:blip r:embed="rId1"/>
          <a:stretch/>
        </p:blipFill>
        <p:spPr>
          <a:xfrm>
            <a:off x="1143000" y="2143080"/>
            <a:ext cx="1725480" cy="15001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571560" y="285840"/>
            <a:ext cx="31366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V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 Итог урок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28480" y="999720"/>
            <a:ext cx="7497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заключении нашего урока свяжем звуковые волны с процессами, протекающими в нашем организме. На низких частотах от 3Гц до 12Гц работают сердце, лёгкие, циркулирует кровь, движутся суставы. При заболевании организма у звуков внутри его изменяются громкость, тембр, высота тона, длительность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Если сердце работает нормально, то слышны звуки  2 тонов: низкий и высокий, при сердечных заболеваниях, при сбоях в работе сердца звук меняется, прослушиваются шумы, возникает аритмия. Сердце надо лечить. Из -  за чего могут появиться сбои в работе организма? Причины могут быть разные: расстройство, обиды, нервничает человек. Проблемы экологические, медицинские, нравственные связаны друг с другом, чтобы излечить одну,  не надо отвергать другие. Давайте же стараться быть безопасными друг для друга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сё в мире взаимосвязано, чтобы понять эту взаимосвязь, надо дойти до основания, до корней, такова диалекти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ыставление оценок за урок с учётом всех видов деятельнос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ы очень плодотворно работали с вами на уроке, спасибо за урок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6" name="Picture 2" descr="Картинка 20 из 4965"/>
          <p:cNvPicPr/>
          <p:nvPr/>
        </p:nvPicPr>
        <p:blipFill>
          <a:blip r:embed="rId2"/>
          <a:stretch/>
        </p:blipFill>
        <p:spPr>
          <a:xfrm>
            <a:off x="7500960" y="0"/>
            <a:ext cx="1643040" cy="10825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Картинка 43 из 56"/>
          <p:cNvPicPr/>
          <p:nvPr/>
        </p:nvPicPr>
        <p:blipFill>
          <a:blip r:embed="rId3"/>
          <a:stretch/>
        </p:blipFill>
        <p:spPr>
          <a:xfrm>
            <a:off x="0" y="0"/>
            <a:ext cx="1789200" cy="1000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Картинка 72 из 1568"/>
          <p:cNvPicPr/>
          <p:nvPr/>
        </p:nvPicPr>
        <p:blipFill>
          <a:blip r:embed="rId4"/>
          <a:stretch/>
        </p:blipFill>
        <p:spPr>
          <a:xfrm>
            <a:off x="142920" y="1071720"/>
            <a:ext cx="1743120" cy="10047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Картинка 114 из 1568"/>
          <p:cNvPicPr/>
          <p:nvPr/>
        </p:nvPicPr>
        <p:blipFill>
          <a:blip r:embed="rId5"/>
          <a:stretch/>
        </p:blipFill>
        <p:spPr>
          <a:xfrm>
            <a:off x="285840" y="2214720"/>
            <a:ext cx="834840" cy="150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6" descr="Картинка 313 из 1568"/>
          <p:cNvPicPr/>
          <p:nvPr/>
        </p:nvPicPr>
        <p:blipFill>
          <a:blip r:embed="rId6"/>
          <a:stretch/>
        </p:blipFill>
        <p:spPr>
          <a:xfrm>
            <a:off x="357120" y="5443560"/>
            <a:ext cx="1428840" cy="120024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714400" y="1071720"/>
            <a:ext cx="47797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VI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 Домашнее задание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428480" y="2643120"/>
            <a:ext cx="749772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омашнее задание: написать сочинение на тему «Звуковые волны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рок окончен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43080" y="357120"/>
            <a:ext cx="378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VII.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Литератур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285920"/>
            <a:ext cx="7499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.       Уроки физики в современной школе.  В. Г. Разумовский;    Москва «Просвещение» 199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2.       Физика 8 – 9 классы. В. А. Попов;  Волгоград  2008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3.       Как подготовить и провести открытый урок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. М. Поташник, М. В. Левит;  Педагогическое общество России  Москва  200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4.       Уроки физики в 10 классе.  С. Л. Вольштейн, А. М. Качинский,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. М. Круглей, М. С. Кузей;  Минск «Народная  Асвета» 1980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5.       Физические викторины.   Б. Ф. Билимович;   Москв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«Просвещение» 1977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6.       Мир физики в художественной литературе.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. А. Тихомирова; Москва 1988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7.        Игровые ситуации на уроках физики.  И.Я.Ланина;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енинград 1989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8.       Уроки физики 7 – 11 классы.  Серия «Современная школа»;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осква  Издательство «Глобус» 2009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28480" y="356760"/>
            <a:ext cx="735804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Эпиграф нашего урока: 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                         «Во всём мне хочется дойти 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                      до самой сути…»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428840" y="2357280"/>
            <a:ext cx="7407360" cy="4143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Эпиграф нашего урока: «Во всём мне хочется дойти до самой сути…»- строки из стихотворения Бориса Пастернака, казалось бы, как эти строки связаны с темой нашего урока? Но смысл этих строк и определяет цель урок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пределить суть,  узнать истину – это издавна привлекало человека, но эта черта характерна для человека творческого. Давайте попробуем применить свои творческие способности, а они есть у каждого из вас я уверен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Я расскажу вам сказку. В некотором царстве, в некотором государстве живут волны световые, механические. Одной из разновидностей механических волн  являются звуковые или акустические волн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356840" y="499680"/>
            <a:ext cx="7410600" cy="6072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Что представляют собой волны?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распространение колебаний в пространстве с течением времен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Какими являются звуковые волны - продольные или поперечные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продольны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Почему вы так думаете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распространяются в воздух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Какие волны называют продольными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колебания происходят вдоль направления волн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Звуковые волны образуются так: в проходящей струе неравномерно нагретого воздуха образуются чередующиеся участки сжатия и растяжения; в результате, возникают продольные колебания частиц воздух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 каких ещё средах могут распространяться звуковые волны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в газах, жидкостях, твёрдых тела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285920" y="500040"/>
            <a:ext cx="7572240" cy="5857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А могут ли распространяться  звуковые волны в вакууме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ы затрудняетесь ответить на этот вопрос, давайте обратимся к опыту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Уследить за волнами сложно. Скорость распространения звуковой волны  зависит от взаимодействия частиц среды: чем сильнее взаимодействие, тем больше скорость волн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Rectangle 1"/>
          <p:cNvSpPr/>
          <p:nvPr/>
        </p:nvSpPr>
        <p:spPr>
          <a:xfrm>
            <a:off x="1500120" y="1941120"/>
            <a:ext cx="72867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Демонстрац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д колокол поместить электрический звонок, откачивая воздух из – под колокола, звук становится всё ти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ывод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Звуковые волны распространяются только в упругих средах, в вакууме они не распространя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Картинка 18 из 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4960" y="1276200"/>
            <a:ext cx="3362400" cy="124308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214280" y="1285560"/>
            <a:ext cx="75693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Что же является источником волны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твет: любое колеблющееся тел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азовите источники звуковых волн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твет: музыкальные инструменты, писк комара, шелест листьев, дрожание стёко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Голосовые связки вместе с проходящим воздухом позволяют нам общаться. Мы слышим звуки благодаря органам слуха. Главная часть слухового аппарата человека – барабанная перепонка, способная колебаться под действием звуковых волн. Эти колебания по слуховому нерву передаются в мозг и там обрабатываютс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нстрация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амертон – прибор, создающий звук одной частоты, получается чистый тон. Ветви камертона создают слабый звук, для усиления звука камертон укрепляют на деревянном ящике, с большей площадью поверхностью, - усилителе, резонаторе.    У музыкальных  инструментах резонаторами являются дек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0" name="Picture 2" descr="http://cit.vvsu.ru/MIRROR/www.fizika.ru/theory/tema-16/16f-i4.gif"/>
          <p:cNvPicPr/>
          <p:nvPr/>
        </p:nvPicPr>
        <p:blipFill>
          <a:blip r:embed="rId1"/>
          <a:stretch/>
        </p:blipFill>
        <p:spPr>
          <a:xfrm>
            <a:off x="6786720" y="4929120"/>
            <a:ext cx="1618920" cy="164304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1428480" y="785880"/>
            <a:ext cx="74977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ы слышите звучание музыкальных инструментов. Отгадайте и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царстве механических волн звуковыми  считаются волны, которые вызывают слуховые ощущения, а это волны,  диапазон которых находиться в интервале от 16Гц  до 20000Гц. У пожилых людей  этот интервал меньше, так как с возрастом утрачивается способность слышать звуки большой частот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нашем царстве звуковые волны очень гордые, так    как с помощью этих волн человек, животные, птицы, насекомые получают информацию об окружающем мире. Информация поступает не только с помощью звуковых волн, но и ультразвуковых волн. Информация поступает не только через речь, но и с помощью звуковых сигналов: свисток, гудок, различные сирены, колокольный звон, звучание будильник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428480" y="1285560"/>
            <a:ext cx="7497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нстраци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вуковые сигналы. Угадайте и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Царство звуков окружают нас в повседневной жизни. Приведите пример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вывание ветра, крики, звуки работающего транспорта, шум текущей воды, скрип снег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5" name="Picture 2" descr="Картинка 1 из 6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286000" cy="1557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Картинка 1 из 64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214800"/>
            <a:ext cx="2274840" cy="1785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Картинка 6 из 19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160960"/>
            <a:ext cx="2260440" cy="16970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http://art5.karelia.ru/photo/1/4/5565_mini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15717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" descr="Картинка 136 из 733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0200" y="5195880"/>
            <a:ext cx="2214720" cy="166212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3:50:52Z</dcterms:created>
  <dc:creator>Вольный</dc:creator>
  <dc:description/>
  <dc:language>en-US</dc:language>
  <cp:lastModifiedBy>LEGION</cp:lastModifiedBy>
  <dcterms:modified xsi:type="dcterms:W3CDTF">2015-03-30T08:46:46Z</dcterms:modified>
  <cp:revision>74</cp:revision>
  <dc:subject/>
  <dc:title>Урок по теме: « Звуковые волны». </dc:title>
</cp:coreProperties>
</file>