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0.gif" ContentType="image/gif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17.png" ContentType="image/png"/>
  <Override PartName="/ppt/media/image24.gif" ContentType="image/gif"/>
  <Override PartName="/ppt/media/image32.jpeg" ContentType="image/jpeg"/>
  <Override PartName="/ppt/media/image16.gif" ContentType="image/gif"/>
  <Override PartName="/ppt/media/image15.jpeg" ContentType="image/jpeg"/>
  <Override PartName="/ppt/media/image27.gif" ContentType="image/gif"/>
  <Override PartName="/ppt/media/image28.jpeg" ContentType="image/jpeg"/>
  <Override PartName="/ppt/media/image1.jpeg" ContentType="image/jpeg"/>
  <Override PartName="/ppt/media/image35.jpeg" ContentType="image/jpeg"/>
  <Override PartName="/ppt/media/image8.png" ContentType="image/png"/>
  <Override PartName="/ppt/media/image11.jpeg" ContentType="image/jpeg"/>
  <Override PartName="/ppt/media/image36.jpeg" ContentType="image/jpeg"/>
  <Override PartName="/ppt/media/image9.jpeg" ContentType="image/jpeg"/>
  <Override PartName="/ppt/media/image13.gif" ContentType="image/gif"/>
  <Override PartName="/ppt/media/image33.jpeg" ContentType="image/jpeg"/>
  <Override PartName="/ppt/media/image42.gif" ContentType="image/gif"/>
  <Override PartName="/ppt/media/image34.jpeg" ContentType="image/jpeg"/>
  <Override PartName="/ppt/media/image7.jpeg" ContentType="image/jpeg"/>
  <Override PartName="/ppt/media/image31.jpeg" ContentType="image/jpeg"/>
  <Override PartName="/ppt/media/image2.png" ContentType="image/png"/>
  <Override PartName="/ppt/media/image22.gif" ContentType="image/gif"/>
  <Override PartName="/ppt/media/image38.gif" ContentType="image/gif"/>
  <Override PartName="/ppt/media/image43.png" ContentType="image/png"/>
  <Override PartName="/ppt/media/image39.png" ContentType="image/png"/>
  <Override PartName="/ppt/media/image30.jpeg" ContentType="image/jpeg"/>
  <Override PartName="/ppt/media/image6.png" ContentType="image/png"/>
  <Override PartName="/ppt/media/image26.gif" ContentType="image/gif"/>
  <Override PartName="/ppt/media/image18.png" ContentType="image/png"/>
  <Override PartName="/ppt/media/image25.gif" ContentType="image/gif"/>
  <Override PartName="/ppt/media/image29.jpeg" ContentType="image/jpeg"/>
  <Override PartName="/ppt/media/image37.gif" ContentType="image/gif"/>
  <Override PartName="/ppt/media/image5.jpeg" ContentType="image/jpeg"/>
  <Override PartName="/ppt/media/image41.gif" ContentType="image/gif"/>
  <Override PartName="/ppt/media/image12.jpeg" ContentType="image/jpeg"/>
  <Override PartName="/ppt/media/image4.png" ContentType="image/png"/>
  <Override PartName="/ppt/media/image40.gif" ContentType="image/gif"/>
  <Override PartName="/ppt/media/image3.png" ContentType="image/png"/>
  <Override PartName="/ppt/media/image23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4BF3-F6FC-4614-8B20-A0081F44FE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по теме: « Звуковые волны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яснительная запи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роводится в 8 – ом классе . Начинается урок с эпиграфа, который определяет тему урока. Эпиграф раскрывает с неожиданной стороны содержание учебного материала . Урок изучения нового материала проводится в форме физической сказки. Сказка  делает материал для учеников ближе и понятнее: ведь в детстве каждый из них любил сказки. Сказка используется как средство связать физику с жизнью, как возможность задать в интересной форме физические вопросы, как способ углубить межпредметную связь физика – лите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креплении нового материала используется групповая работа учащихся. Рассматривается влияние звуковых волн на организ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4DC1-A0B4-457D-B44A-79A9BD4E65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звуков помогает нам выражать свои эмоции и чувства. Изобразите звуки: выиграла ваша любимая хоккейная команда, отменили любимый урок, вы долго были на морозе и зашли в тёплое поме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нимательно прислушаться к царству звуковых волн, то можно услышать какие они разные: кричат, пищат, шепчут, басят, спокойно разговаривают. Одни звуки вызывают у нас раздражение, другие звуки успокаивают, третьи ласкают слух. Причиной такого разного поведения звуковых волн является тембр голоса, благодаря ему мы различаем голоса, отличаем музыкальные инстру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C01A-3604-4094-8CFD-70A01E1094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 царстве звуковых волн бывает и ураган. Волны начинают шуметь. Шум – звуки разных частот, имеют разную продолжительность и интенсивность, в пространстве накладываются друг на друга. Например: школьная перем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ороть шум можно по - разному, но лучший способ – убрать источник шума. Шум воздействует на организм человека: раздражает,  утомляет, вызывает головную боль, действует на нервную сист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5829-D356-4DBA-9F96-2ECCBE6A26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редние века существовала казнь «под колоколом». Гул колокольного звона мучил и медленно убивал человека. С шумом,  поэтому нужно бороться. В царстве можно услышать, о чём шепчутся волны – это эх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вуковое эхо – волна, отражённая от различных препятств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C3E4-4133-4A75-9A28-8548C38DA2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алерее шёпота в Соборе Св. Павла в Лондоне эхо такое, что, стоя у одной стены собора, вы можете услышать, о чём шепчутся люди у другой стены собора, находящейся от вас в 36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арстве звуков часто слышны звучание гитар, скрипок , балала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 по себе струны этих инструментов создают слабый звук, их укрепляют на деревянном ящике и звук получается громкий. Почем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86A4-240C-4DB5-A586-BAB5F27BE2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уса инструментов (резонаторы) устроены так, что частота звуковой волны в корпусе равна частоте колебания струны. При этом звук усиливается, возникает звуковой резон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аем путешествовать по царству звуков,  и замечаем,  что звуковые волны всё время работают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но замечено, многие прибрежные животные и морские точно определяют приближение шторма. Зарождающийся шторм создаёт инфразвуки, их называют «голос моря», животные их хорошо слышат. При землетрясениях возникают колебания земной коры,  образуются инфразвуки, они сообщают об опас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EF6B-10D7-4FAE-98E9-EEEA339512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аки слышат ультразвуки, этим пользуется дрессировщик, чтобы подавать команды, неслышимые челове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ECC0-919E-4340-B71C-D510E84E95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учие мыши испускают  ультразвук и хорошо ориентируются в пространстве ночью, улавливая отразившуюся от препятствия вол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ьфины тоже испускают и принимают ультразвук. Дельфины могут лечить. Ультразвуки, которые они издают, как бы просвечивают организм человека, если внутри есть очаг воспаления, то ультразвук воздействует на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ьтразвук, обрабатывая растворы, уничтожает в них микробы (они погибают от вибрации), так можно дезинфицировать воду без хл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121B-3B18-458C-9143-30B3C9C512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и влияют на рост и развитие растений, оказывают влияние на животных (увеличивают надои молока у кор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5D1C-B71C-468D-A177-3BB74E4D75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и природного происхождения: морской прибой, дождь, шелест листвы, журчание ручья – благоприятно влияют на организм, расслабляют, успокаива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B256-9772-4F1C-918C-597D24E551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мощью ультразвука обследуют больных, ставят диагноз, разрушают камни в по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ендоскоп позволяет услышать звуки сердца, хрипы в лёгк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2CD6-814F-47CD-8058-66100F67A6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и урок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понятие о звуковой волне, шуме, эхе, звуковом резонансе; раскрыть физическую суть звуковых явлений; уметь объяснять наблюдаемые явления на основе законов физ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орудование урок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,  мультимедийный проектор, слай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орудование для демонстраций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ертон, музыкальные инструменты, насос Комовского, электрический звонок, колокол, магнитофон, мини – тес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д уро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Организация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Изучение нового матери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0452-3857-4AF6-8FED-4354968A19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волны используют в дефектоскопии, акустоэлектронике, работы звуковым волнам хват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5F6C-565A-4C97-98FB-FF77CACAC6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III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.Закрепление изученного материа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и подошла к концу наша сказка. Сказка ложь, да в ней намёк добрым молодцам у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зка дала намёк для ответов на вопросы. Разделимся на 2 группы. Отвечать будем по очереди, но право на ответ имеет тот участник, который быстрее всех знает от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B12F-BCBB-476E-A845-5DAED9E690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груп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уппа.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уп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A8FF-9DF3-4732-AACF-609F962116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работа в группах показала, что вы творческие люди. Вы не просто отвечали на вопросы, а пытались дойти до самой сути. 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4440-268A-44CE-87B2-5702058CAB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488b"/>
                </a:solidFill>
                <a:latin typeface="Calibri"/>
              </a:rPr>
              <a:t>IV</a:t>
            </a:r>
            <a:r>
              <a:rPr b="0" lang="ru-RU" sz="1600" spc="-1" strike="noStrike">
                <a:solidFill>
                  <a:srgbClr val="11488b"/>
                </a:solidFill>
                <a:latin typeface="Calibri"/>
              </a:rPr>
              <a:t>.Самостоятельная рабо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,  теперь применим свои знания в работе с тестами. Они перед вами на пар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4C0D-A242-477D-B992-99F6389781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с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. Какой диапазон частот имеют звуковые волны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16 – 20Гц                        б) 20 – 30кГц                       в) 16Гц – 20кГ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. Что является источником звука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любое тело     б) любое колеблющиеся тело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любое колеблющиеся тело с частотой 16Гц – 20кГ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. 2 космонавта находятся в космическом пространстве. Услышат ли они друг друга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услышат, так как голосовые связки издают звук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не услышат, так как звуковые волны могут распространяться только в упругой сред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4. Почему комар пищит, а шмель жужжит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частота колебания крыльев комара больша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частота колебаний крыльев шмеля меньш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частота колебаний одинакова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5. Почему бабочки летают беззвучно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крылья покрыты звукопоглощающим вещество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частота колебаний крыльев меньше частоты звуковой вол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6. Когда возникает акустический резонанс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частота колебаний тела равна частоте колебаний звуковой волн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частота колебаний тела меньше частоты колебаний звуковой волн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частота колебаний тела больше частоты колебаний звуковой вол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7. Когда возникает эхо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звуковые волны поглощаются телам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звуковые волны проходят сквозь тел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звуковые волны отражаются от тел, находящихся на их пут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8. Какие волны применяют в дефектоскопии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поперечные        б)световые            в) звуковы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DD88-F5AE-42F6-ACCF-0536420DD4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V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. Итог уро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лючении нашего урока свяжем звуковые волны с процессами, протекающими в нашем организме. На низких частотах от 3Гц до 12Гц работают сердце, лёгкие, циркулирует кровь, движутся суставы. При заболевании организма у звуков внутри его изменяются громкость, тембр, высота тона, дли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ердце работает нормально, то слышны звуки  2 тонов: низкий и высокий, при сердечных заболеваниях, при сбоях в работе сердца звук меняется, прослушиваются шумы, возникает аритмия. Сердце надо лечить. Из -  за чего могут появиться сбои в работе организма? Причины могут быть разные: расстройство, обиды, нервничает человек. Проблемы экологические, медицинские, нравственные связаны друг с другом, чтобы излечить одну,  не надо отвергать другие. Давайте же стараться быть безопасными друг для друг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ё в мире взаимосвязано, чтобы понять эту взаимосвязь, надо дойти до основания, до корней, такова диалек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авление оценок за урок с учётом все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очень плодотворно работали с вами на уроке, спасибо за урок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5E5E-42FA-4343-B39C-38C98A9489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VI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. Домашнее зада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написать сочинение на тему «Звуковые волн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рок оконче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995F-B5D4-44BC-A432-5E41C4D87C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VII.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 Литерату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 Уроки физики в современной школе.  В. Г. Разумовский;    Москва «Просвещение»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 Физика 8 – 9 классы. В. А. Попов;  Волгоград 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 Как подготовить и провести открытый у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М. Поташник, М. В. Левит;  Педагогическое общество России  Москва  20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 Уроки физики в 10 классе.  С. Л. Вольштейн, А. М. Качинский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М. Круглей, М. С. Кузей;  Минск «Народная  Асвета» 19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 Физические викторины.   Б. Ф. Билимович;  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свещение» 197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 Мир физики в художественной литератур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А. Тихомирова; Москва 198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       Игровые ситуации на уроках физики.  И.Я.Ланин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нинград 198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      Уроки физики 7 – 11 классы.  Серия «Современная школа»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 Издательство «Глобус» 200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C3B6-C6BE-4D25-83A2-C1886CFF59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Эпиграф нашего урока: </a:t>
            </a:r>
            <a:br>
              <a:rPr sz="1400"/>
            </a:b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                          «Во всём мне хочется дойти </a:t>
            </a:r>
            <a:br>
              <a:rPr sz="1400"/>
            </a:b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                       до самой сути…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 нашего урока: «Во всём мне хочется дойти до самой сути…»- строки из стихотворения Бориса Пастернака, казалось бы, как эти строки связаны с темой нашего урока? Но смысл этих строк и определяет цель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суть,  узнать истину – это издавна привлекало человека, но эта черта характерна для человека творческого. Давайте попробуем применить свои творческие способности, а они есть у каждого из вас я увер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расскажу вам сказку. В некотором царстве, в некотором государстве живут волны световые, механические. Одной из разновидностей механических волн  являются звуковые или акустические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93A1-AA5C-4170-8B91-FF65A1CA7A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едставляют собой волн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распространение колебаний в пространстве с течением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являются звуковые волны - продольные или поперечны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продоль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вы так дум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распространяются в воздух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волны называют продоль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колебания происходят вдоль направления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волны образуются так: в проходящей струе неравномерно нагретого воздуха образуются чередующиеся участки сжатия и растяжения; в результате, возникают продольные колебания частиц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их ещё средах могут распространяться звуковые вол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в газах, жидкостях, твёрдых тел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500A-0752-497C-8F31-CA3FD68E96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могут ли распространяться  звуковые волны в вакуум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затрудняетесь ответить на этот вопрос, давайте обратимся к опы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едить за волнами сложно. Скорость распространения звуковой волны  зависит от взаимодействия частиц среды: чем сильнее взаимодействие, тем больше скорость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40AB-7FFE-40AB-8B42-85CE76F014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же является источником вол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любое колеблющееся те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сточники звуковых вол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музыкальные инструменты, писк комара, шелест листьев, дрожание стёк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совые связки вместе с проходящим воздухом позволяют нам общаться. Мы слышим звуки благодаря органам слуха. Главная часть слухового аппарата человека – барабанная перепонка, способная колебаться под действием звуковых волн. Эти колебания по слуховому нерву передаются в мозг и там обрабаты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7445-5EE6-45B3-B370-10D0471197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нстрац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ертон – прибор, создающий звук одной частоты, получается чистый тон. Ветви камертона создают слабый звук, для усиления звука камертон укрепляют на деревянном ящике, с большей площадью поверхностью, - усилителе, резонаторе.    У музыкальных  инструментах резонаторами являются де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D819-77EA-443A-8B13-CA43FB4FD0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слышите звучание музыкальных инструментов. Отгадай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арстве механических волн звуковыми  считаются волны, которые вызывают слуховые ощущения, а это волны,  диапазон которых находиться в интервале от 16Гц  до 20000Гц. У пожилых людей  этот интервал меньше, так как с возрастом утрачивается способность слышать звуки большой част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м царстве звуковые волны очень гордые, так    как с помощью этих волн человек, животные, птицы, насекомые получают информацию об окружающем мире. Информация поступает не только с помощью звуковых волн, но и ультразвуковых волн. Информация поступает не только через речь, но и с помощью звуковых сигналов: свисток, гудок, различные сирены, колокольный звон, звучание буди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E4C2-8CD0-4716-9859-22EDC7C2D7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нстра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сигналы. Угадай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звуков окружают нас в повседневной жизни. Приведите прим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ывание ветра, крики, звуки работающего транспорта, шум текущей воды, скрип сне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F185-DE16-4B5B-8A1E-64DFC89E58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B819-078C-4907-A956-F1C4BE41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D42E-681E-491F-8354-F80C08D4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3C48-FA79-4F00-B2BD-65E8A571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9354-D473-4802-BC1E-73A733F0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0BC1-27D8-4580-A8A6-A1DCED0E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C8A0-E42C-4129-BA9F-7D33AF9D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858A-BD04-4491-9AFF-8FCA61FA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A91E-9E08-4914-907E-FDD1B724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6290-5BE4-42D1-AF18-E5E8C5D7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EB4F-A05E-4494-9635-3FCBBACB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B2C0-0261-43B5-AD6E-81ADB1A5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2D15-3094-434C-920E-6406F3F4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5A03-529D-4895-B7B2-EDCB57B1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E0B4-E267-4591-AA76-4AE26C33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A5CE-EE44-497E-AB61-521CDE77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C86C-6318-456C-9DED-633232DF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3166-361A-4D91-A155-23C82FD3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8260E-5C2D-4E22-8039-06141EA0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70D9E-B3BF-42B6-ABD1-EB27EFC7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8B0D2-0F68-41F3-BACB-348E4310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D4059-0CBF-482E-BBF0-22D3D642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0900E-0BBB-4BE2-A455-99E91F21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683B-445E-48C3-882C-29DF7D44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074E3-7ADD-43BC-B523-037DC101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3604A-C3F7-4971-9792-EFA39A1B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53CAC-A08F-4D03-914E-A0BBE7EF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9DDBF-F556-495C-AACE-B2B6648E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A19D8-5048-48EA-9F39-C4EB2FE7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89FA1-6843-4B9A-AFF2-5230C123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0F584-F99E-4CBF-B394-4FC3117B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E084D-AF65-475A-9185-B1A32BE3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53B8A-4EE9-4202-AC9D-32568DA6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DF61F-4AC1-4B24-9038-9BEC2179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41D2-B9CC-47B0-8609-04B59917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2C782-3828-4D87-A2B8-5CE12CB9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6FAFB-1CD7-473C-8577-E5BD0A80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50665-25F3-4492-B696-FD78DE80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1D807-AB1B-42D7-9AA6-443FC798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F932A-BA89-4AD3-8619-941D69C2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F1E48-2BFC-4233-9DA5-0C1754B4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8939D-0A7B-415B-A113-9C0EBA37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17F92-DCA9-4426-84E4-20B9D487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A4C3A-CA87-45F2-8F7B-21B1238B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96C07-8438-4C1B-B5B0-829BA5A0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A231-5ACF-499E-92F7-D08990CE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B0D95-402E-405A-9892-ADF078FC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7C684-9CED-4E5C-92E4-3FC22626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732C0-ED46-4864-83AD-4E000E28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9F2D6-95EC-47B5-BE28-62A420B8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D4CA7-966E-4900-AC14-9C2BBA11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028C8-CBE1-4D86-8D34-48E6F1CF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6D08B-E979-4048-90B8-AAF2AC47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04D7E-AEE8-4F88-98C0-A5CA68D6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3AC08-DC83-4B38-ADC7-97F3B00D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DB514-9F45-42BC-973B-83112630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C7B9-7E26-4EB0-93AA-76B42CD5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A38D2-4D75-4698-BC95-36149678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DEF00-0C68-4601-A8FC-6F4897C6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EB3D5-0887-46B6-871C-70EA7E08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F8C8B-E001-4AEE-B238-1A1505C4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9B29C-7C51-4B17-89C1-FBE45338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0154F-44DF-412C-8360-60F78FAC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27D37-1056-4575-ADD3-2CC26768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584CD-A8F5-4AA9-9383-81FE2D8A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967AD-9053-42C7-81AF-48DE4379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DBDD4-A993-4740-B42B-918334CB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2CE2-C29F-46AC-8508-93546122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B72D7-EFC5-49F6-A3D0-CC216E95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A1C4E-79DE-4F4C-B29D-E0E438F8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C41B3-7C40-4374-B0EB-DF4507A4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3B2-7CB1-4505-9434-E0BC6CC7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37D3-9E1D-4B68-B5F4-3E7FB824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43DC-B590-4016-8442-46621186F16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F65A-6FFB-42FA-85A5-3D74F2CEA5B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E131-E00F-416F-B29D-F505D53986A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7E51-92CF-4BB9-B31B-055593E25DB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71FC-AA94-441A-BE33-9BDE419D75A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CE61-E612-42C6-8427-AF849EE4B91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5523-9D0F-4D5B-B103-F52E1A2674C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6158-DF92-4DAC-823C-B0B18A05EF3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DC82-3A74-433C-9250-8DB3E043C6C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7F3C-51B0-4722-90D7-B2108B23AEA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оугольник 7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30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163C-0C64-4436-94CB-F70F45EED01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D6B0-251A-4DB3-BB39-1176C3B895E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ondontrip.narod.ru/Library1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guitartime.ru/images/af/guitar_instr/acoustic_guitar_notes.gif" TargetMode="External"/><Relationship Id="rId4" Type="http://schemas.openxmlformats.org/officeDocument/2006/relationships/image" Target="../media/image13.gif"/><Relationship Id="rId5" Type="http://schemas.openxmlformats.org/officeDocument/2006/relationships/hyperlink" Target="http://england-london.narod.ru/icon/048.jpg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050.radikal.ru/0801/46/a1cb8f2041bd.jpg" TargetMode="External"/><Relationship Id="rId8" Type="http://schemas.openxmlformats.org/officeDocument/2006/relationships/image" Target="../media/image15.jpeg"/><Relationship Id="rId9" Type="http://schemas.openxmlformats.org/officeDocument/2006/relationships/hyperlink" Target="http://lesha-01.narod.ru/files/notes.gif" TargetMode="External"/><Relationship Id="rId10" Type="http://schemas.openxmlformats.org/officeDocument/2006/relationships/image" Target="../media/image16.gif"/><Relationship Id="rId11" Type="http://schemas.openxmlformats.org/officeDocument/2006/relationships/hyperlink" Target="http://photodizayn.narod.ru/images/fig/f66.gif" TargetMode="External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it.vvsu.ru/MIRROR/www.fizika.ru/theory/tema-16/16f-i6.gif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oksanavorobieva.ucoz.ru/_si/0/96640.gif" TargetMode="External"/><Relationship Id="rId2" Type="http://schemas.openxmlformats.org/officeDocument/2006/relationships/image" Target="../media/image19.gif"/><Relationship Id="rId3" Type="http://schemas.openxmlformats.org/officeDocument/2006/relationships/hyperlink" Target="http://www.nivagold.ru/raznoe/dogi6/chien68.gif" TargetMode="External"/><Relationship Id="rId4" Type="http://schemas.openxmlformats.org/officeDocument/2006/relationships/image" Target="../media/image20.gif"/><Relationship Id="rId5" Type="http://schemas.openxmlformats.org/officeDocument/2006/relationships/hyperlink" Target="http://son75196.narod.ru/an1/05.gif" TargetMode="External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iggif.ru/images/jivotnie/jivotnie009.gif" TargetMode="External"/><Relationship Id="rId2" Type="http://schemas.openxmlformats.org/officeDocument/2006/relationships/image" Target="../media/image22.gif"/><Relationship Id="rId3" Type="http://schemas.openxmlformats.org/officeDocument/2006/relationships/hyperlink" Target="http://s58.radikal.ru/i160/0907/66/672a7e6fd001.gif" TargetMode="External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rtgif.ru/JIVOTNIE/animals079.gif" TargetMode="External"/><Relationship Id="rId2" Type="http://schemas.openxmlformats.org/officeDocument/2006/relationships/image" Target="../media/image24.gif"/><Relationship Id="rId3" Type="http://schemas.openxmlformats.org/officeDocument/2006/relationships/hyperlink" Target="http://img.liveinternet.ru/images/attach/4/10646/10646145_lyutiki.gif" TargetMode="External"/><Relationship Id="rId4" Type="http://schemas.openxmlformats.org/officeDocument/2006/relationships/image" Target="../media/image25.gif"/><Relationship Id="rId5" Type="http://schemas.openxmlformats.org/officeDocument/2006/relationships/hyperlink" Target="http://wap.wapuk.ru/download/anim/128x128/52.gif" TargetMode="External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2/2/211/2211718_1190220976_dozhdik.gif" TargetMode="External"/><Relationship Id="rId2" Type="http://schemas.openxmlformats.org/officeDocument/2006/relationships/image" Target="../media/image27.gif"/><Relationship Id="rId3" Type="http://schemas.openxmlformats.org/officeDocument/2006/relationships/hyperlink" Target="http://gorod.tomsk.ru/uploads/25037/1238639496/40n.jpg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img.rutube.ru/thumbs/f0/e2/f0e2eb3e0389418c35cd0a97bacafbea-1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s49.radikal.ru/i124/0907/38/1246d8887cae.jpg" TargetMode="External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review.unian.net/160/156/156865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fmcenter.ru/images/pm/IMG_8781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cs262.vkontakte.ru/u7189329/24835154/x_85fd2599.jpg" TargetMode="External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png"/><Relationship Id="rId3" Type="http://schemas.openxmlformats.org/officeDocument/2006/relationships/image" Target="../media/image40.gif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rosv.informika.ru/metod/mansurov/Images/image080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llgoodfree.ucoz.ru/Pictures/Zvuki/veter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yellowchel.ucoz.ru/_nw/1/66080644.gif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img-fotki.yandex.ru/get/36/anatchurin.2/0_17cce_9b3c0937_XL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art5.karelia.ru/photo/1/4/5565_mini.jpg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content.foto.mail.ru/mail/azamova-nika/dog1/i-98.jpg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Урок по теме: « Звуковые волны»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65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0e04"/>
                </a:solidFill>
                <a:latin typeface="Corbel"/>
              </a:rPr>
              <a:t>Пояснительная записка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Урок проводится в 8 – ом классе . Начинается урок с эпиграфа, который определяет тему урока. Эпиграф раскрывает с неожиданной стороны содержание учебного материала . Урок изучения нового материала проводится в форме физической сказки. Сказка  делает материал для учеников ближе и понятнее: ведь в детстве каждый из них любил сказки. Сказка используется как средство связать физику с жизнью, как возможность задать в интересной форме физические вопросы, как способ углубить межпредметную связь физика – литерату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При закреплении нового материала используется групповая работа учащихся. Рассматривается влияние звуковых волн на организм челове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2848680" y="6216480"/>
            <a:ext cx="40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Щетинина Татья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СОШ № 6 г. 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428480" y="1714680"/>
            <a:ext cx="74977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Царство звуков помогает нам выражать свои эмоции и чувства. Изобразите звуки: выиграла ваша любимая хоккейная команда, отменили любимый урок, вы долго были на морозе и зашли в тёплое помещени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Если внимательно прислушаться к царству звуковых волн, то можно услышать какие они разные: кричат, пищат, шепчут, басят, спокойно разговаривают. Одни звуки вызывают у нас раздражение, другие звуки успокаивают, третьи ласкают слух. Причиной такого разного поведения звуковых волн является тембр голоса, благодаря ему мы различаем голоса, отличаем музыкальные инструмент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1428840" y="1785600"/>
            <a:ext cx="72151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о в царстве звуковых волн бывает и ураган. Волны начинают шуметь. Шум – звуки разных частот, имеют разную продолжительность и интенсивность, в пространстве накладываются друг на друга. Например: школьная перемена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бороть шум можно по - разному, но лучший способ – убрать источник шума. Шум воздействует на организм человека: раздражает,  утомляет, вызывает головную боль, действует на нервную систему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356840" y="1928520"/>
            <a:ext cx="749772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средние века существовала казнь «под колоколом». Гул колокольного звона мучил и медленно убивал человека. С шумом,  поэтому нужно бороться. В царстве можно услышать, о чём шепчутся волны – это эхо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вуковое эхо – волна, отражённая от различных препятств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8" descr="Картинка 17 из 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1428480" y="1571400"/>
            <a:ext cx="749772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Галерее шёпота в Соборе Св. Павла в Лондоне эхо такое, что, стоя у одной стены собора, вы можете услышать, о чём шепчутся люди у другой стены собора, находящейся от вас в 36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царстве звуков часто слышны звучание гитар, скрипок , балалаек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ами по себе струны этих инструментов создают слабый звук, их укрепляют на деревянном ящике и звук получается громкий. Почему?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8" descr="Картинка 91 из 8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0120" y="5072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0" descr="Картинка 20 из 2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1857240"/>
            <a:ext cx="1662120" cy="2500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2" descr="Картинка 1 из 2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57200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6" descr="Картинка 117 из 40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715160" y="357120"/>
            <a:ext cx="1000080" cy="1095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Картинка 1 из 40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357720" y="5214960"/>
            <a:ext cx="1571400" cy="91764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6" descr="Картинка 9 из 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58040" y="2643120"/>
            <a:ext cx="1379520" cy="11289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357200" y="285480"/>
            <a:ext cx="7407360" cy="6357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орпуса инструментов (резонаторы) устроены так, что частота звуковой волны в корпусе равна частоте колебания струны. При этом звук усиливается, возникает звуковой резонанс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20e04"/>
                </a:solidFill>
                <a:latin typeface="Corbel"/>
              </a:rPr>
              <a:t>          </a:t>
            </a: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Продолжаем путешествовать по царству звуков,  и замечаем,  что звуковые волны всё время работают.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Давно замечено, многие прибрежные животные и морские точно определяют приближение шторма. Зарождающийся шторм создаёт инфразвуки, их называют «голос моря», животные их хорошо слышат. При землетрясениях возникают колебания земной коры,  образуются инфразвуки, они сообщают об опасност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оугольник 3"/>
          <p:cNvSpPr/>
          <p:nvPr/>
        </p:nvSpPr>
        <p:spPr>
          <a:xfrm>
            <a:off x="1428840" y="1714680"/>
            <a:ext cx="7286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монстрац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 камертона, ударить молоточком по одному камертону, второй начинает зву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434960" y="1447560"/>
            <a:ext cx="74995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обаки слышат ультразвуки, этим пользуется дрессировщик, чтобы подавать команды, неслышимые человеком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10" descr="Картинка 97 из 3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240" y="4857840"/>
            <a:ext cx="2121120" cy="15667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Картинка 107 из 33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71720" y="4838760"/>
            <a:ext cx="1928520" cy="2019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Картинка 535 из 103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00240" y="2143080"/>
            <a:ext cx="3403800" cy="371016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0" descr="Картинка 1 из 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6200" y="3595680"/>
            <a:ext cx="4357800" cy="32623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Картинка 9 из 71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643120" cy="24400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1434960" y="1447920"/>
            <a:ext cx="749952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Летучие мыши испускают  ультразвук и хорошо ориентируются в пространстве ночью, улавливая отразившуюся от препятствия волну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ельфины тоже испускают и принимают ультразвук. Дельфины могут лечить. Ультразвуки, которые они издают, как бы просвечивают организм человека, если внутри есть очаг воспаления, то ультразвук воздействует на нег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Ультразвук, обрабатывая растворы, уничтожает в них микробы (они погибают от вибрации), так можно дезинфицировать воду без хло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434960" y="1447560"/>
            <a:ext cx="74995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вуки влияют на рост и развитие растений, оказывают влияние на животных (увеличивают надои молока у коров)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4" descr="Картинка 21 из 5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7760" y="2643120"/>
            <a:ext cx="3946320" cy="37148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http://img.liveinternet.ru/images/attach/4/10646/10646145_lyutiki.gif">
            <a:hlinkClick r:id="rId3"/>
          </p:cNvPr>
          <p:cNvPicPr/>
          <p:nvPr/>
        </p:nvPicPr>
        <p:blipFill>
          <a:blip r:embed="rId4"/>
          <a:stretch/>
        </p:blipFill>
        <p:spPr>
          <a:xfrm flipH="1">
            <a:off x="7643880" y="5286240"/>
            <a:ext cx="952560" cy="1019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Картинка 56 из 16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00080" y="4071960"/>
            <a:ext cx="2214720" cy="221472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Картинка 3 из 4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71760"/>
            <a:ext cx="2092320" cy="14284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1434960" y="1447920"/>
            <a:ext cx="74995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вуки природного происхождения: морской прибой, дождь, шелест листвы, журчание ручья – благоприятно влияют на организм, расслабляют, успокаивают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2" descr="Картинка 37 из 66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38400" cy="1428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Картинка 100 из 11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07188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Картинка 14 из 153717">
            <a:hlinkClick r:id="rId7"/>
          </p:cNvPr>
          <p:cNvPicPr/>
          <p:nvPr/>
        </p:nvPicPr>
        <p:blipFill>
          <a:blip r:embed="rId8"/>
          <a:srcRect l="0" t="23947" r="0" b="0"/>
          <a:stretch/>
        </p:blipFill>
        <p:spPr>
          <a:xfrm>
            <a:off x="0" y="4757760"/>
            <a:ext cx="2071800" cy="210024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8" descr="Картинка 477 из 5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43120"/>
            <a:ext cx="2341440" cy="17859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Картинка 165 из 5448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-85680"/>
            <a:ext cx="2357280" cy="25858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1434960" y="1447560"/>
            <a:ext cx="7499520" cy="16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 помощью ультразвука обследуют больных, ставят диагноз, разрушают камни в почк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Фонендоскоп позволяет услышать звуки сердца, хрипы в лёгки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2" descr="Картинка 96 из 663">
            <a:hlinkClick r:id="rId5"/>
          </p:cNvPr>
          <p:cNvPicPr/>
          <p:nvPr/>
        </p:nvPicPr>
        <p:blipFill>
          <a:blip r:embed="rId6"/>
          <a:srcRect l="0" t="0" r="34688" b="0"/>
          <a:stretch/>
        </p:blipFill>
        <p:spPr>
          <a:xfrm>
            <a:off x="7072200" y="3048120"/>
            <a:ext cx="2071800" cy="3809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Картинка 108 из 663"/>
          <p:cNvPicPr/>
          <p:nvPr/>
        </p:nvPicPr>
        <p:blipFill>
          <a:blip r:embed="rId7"/>
          <a:stretch/>
        </p:blipFill>
        <p:spPr>
          <a:xfrm>
            <a:off x="1428840" y="4929120"/>
            <a:ext cx="2786040" cy="159228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28840" y="785520"/>
            <a:ext cx="7407360" cy="5357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0e04"/>
                </a:solidFill>
                <a:latin typeface="Corbel"/>
              </a:rPr>
              <a:t>Цели урока: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сформировать понятие о звуковой волне, шуме, эхе, звуковом резонансе; раскрыть физическую суть звуковых явлений; уметь объяснять наблюдаемые явления на основе законов физик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0e04"/>
                </a:solidFill>
                <a:latin typeface="Corbel"/>
              </a:rPr>
              <a:t>Оборудование урока: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компьютер,  мультимедийный проектор, слайд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Оборудование для демонстраций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камертон, музыкальные инструменты, насос Комовского, электрический звонок, колокол, магнитофон, мини – тест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Ход урок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0e04"/>
                </a:solidFill>
                <a:latin typeface="Gill Sans MT"/>
              </a:rPr>
              <a:t>I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.Организация класс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0e04"/>
                </a:solidFill>
                <a:latin typeface="Gill Sans MT"/>
              </a:rPr>
              <a:t>II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.Изучение нового материал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434960" y="1447920"/>
            <a:ext cx="7499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вуковые волны используют в дефектоскопии, акустоэлектронике, работы звуковым волнам хватает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2" descr="Картинка 9 из 1816"/>
          <p:cNvPicPr/>
          <p:nvPr/>
        </p:nvPicPr>
        <p:blipFill>
          <a:blip r:embed="rId1"/>
          <a:stretch/>
        </p:blipFill>
        <p:spPr>
          <a:xfrm>
            <a:off x="1785960" y="2714760"/>
            <a:ext cx="3171960" cy="2381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Картинка 38 из 1816"/>
          <p:cNvPicPr/>
          <p:nvPr/>
        </p:nvPicPr>
        <p:blipFill>
          <a:blip r:embed="rId2"/>
          <a:stretch/>
        </p:blipFill>
        <p:spPr>
          <a:xfrm>
            <a:off x="5286240" y="2786040"/>
            <a:ext cx="3051360" cy="228600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42720" y="1071720"/>
            <a:ext cx="56437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III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Закрепление изученного материал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28480" y="2428920"/>
            <a:ext cx="749772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от и подошла к концу наша сказка. Сказка ложь, да в ней намёк добрым молодцам урок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казка дала намёк для ответов на вопросы. Разделимся на 2 группы. Отвечать будем по очереди, но право на ответ имеет тот участник, который быстрее всех знает ответ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428840" y="285840"/>
            <a:ext cx="7407360" cy="714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опросы для групп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</a:t>
            </a:r>
            <a:r>
              <a:rPr b="0" lang="en-US" sz="2200" spc="-1" strike="noStrike">
                <a:solidFill>
                  <a:srgbClr val="320e04"/>
                </a:solidFill>
                <a:latin typeface="Gill Sans MT"/>
              </a:rPr>
              <a:t>I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группа.                                               </a:t>
            </a:r>
            <a:r>
              <a:rPr b="0" lang="en-US" sz="2200" spc="-1" strike="noStrike">
                <a:solidFill>
                  <a:srgbClr val="320e04"/>
                </a:solidFill>
                <a:latin typeface="Gill Sans MT"/>
              </a:rPr>
              <a:t>II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групп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285920" y="1000080"/>
          <a:ext cx="7500960" cy="5643720"/>
        </p:xfrm>
        <a:graphic>
          <a:graphicData uri="http://schemas.openxmlformats.org/drawingml/2006/table">
            <a:tbl>
              <a:tblPr/>
              <a:tblGrid>
                <a:gridCol w="3749760"/>
                <a:gridCol w="3751200"/>
              </a:tblGrid>
              <a:tr h="130644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Никто его не видыва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 слышать – всякий слыхивал, Без тела, а живёт оно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 языка – кричи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: о каком явлении идёт речь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длинялись причудливо тени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казалось, внимая словам, Неотступно гудели ступен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пустой резонировал хра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: почему пустое помещение резонирует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вы знаете об ультразвуковой локации в мире живой природы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. Приведите примеры использования инфразвука в мире живой приро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ев остановился и, опустившись на колени, припал ухом к земле. Рёв повторился. Вопрос: почему лев припал ухом к земл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2286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В тихий безветренный день на одно единственное слово эхо отвечало целых пятнадцать мину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: почему безветренный день наиболее удобен для наблюдения эх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вук – это вол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чём кака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бежит она везде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какой среде бежит звуковая волн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гут ли космонавты разговаривать в открытом космос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 .   Почему в пустыне нет эх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чему не издаёт звук колеблющаяся линейк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Доставляет ли комфорт человеку абсолютная тишин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 прибор был изобретён для настройки музыкальных инструментов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При полёте большинство насекомых издают звук. Чем это вызываетс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865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Итак, работа в группах показала, что вы творческие люди. Вы не просто отвечали на вопросы, а пытались дойти до самой сути. Молодцы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Picture 4" descr=" "/>
          <p:cNvPicPr/>
          <p:nvPr/>
        </p:nvPicPr>
        <p:blipFill>
          <a:blip r:embed="rId1"/>
          <a:stretch/>
        </p:blipFill>
        <p:spPr>
          <a:xfrm>
            <a:off x="6715080" y="4500720"/>
            <a:ext cx="1809720" cy="1809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43080" y="1285920"/>
            <a:ext cx="5857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IV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Самостоятельная работ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428840" y="2786040"/>
            <a:ext cx="7407360" cy="642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Давайте,  теперь применим свои знания в работе с тестами. Они перед вами на парт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434960" y="285840"/>
            <a:ext cx="74995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Тес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1. Какой диапазон частот имеют звуковые волны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16 – 20Гц                        б) 20 – 30кГц                       в) 16Гц – 20кГц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2. Что является источником звука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любое тело     б) любое колеблющиеся тело  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любое колеблющиеся тело с частотой 16Гц – 20кГц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3. 2 космонавта находятся в космическом пространстве. Услышат ли они друг друга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услышат, так как голосовые связки издают звук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не услышат, так как звуковые волны могут распространяться только в упругой среде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4. Почему комар пищит, а шмель жужжит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частота колебания крыльев комара большая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частота колебаний крыльев шмеля меньше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частота колебаний одинаковая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5. Почему бабочки летают беззвучно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крылья покрыты звукопоглощающим веществом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частота колебаний крыльев меньше частоты звуковой волны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6. Когда возникает акустический резонанс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частота колебаний тела равна частоте колебаний звуковой волны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частота колебаний тела меньше частоты колебаний звуковой волны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частота колебаний тела больше частоты колебаний звуковой волны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7. Когда возникает эхо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звуковые волны поглощаются телами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звуковые волны проходят сквозь тела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звуковые волны отражаются от тел, находящихся на их пути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8. Какие волны применяют в дефектоскопии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поперечные        б)световые            в) звуковые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14" descr="Картинка 138 из 1568"/>
          <p:cNvPicPr/>
          <p:nvPr/>
        </p:nvPicPr>
        <p:blipFill>
          <a:blip r:embed="rId1"/>
          <a:stretch/>
        </p:blipFill>
        <p:spPr>
          <a:xfrm>
            <a:off x="1143000" y="2143080"/>
            <a:ext cx="1725480" cy="15001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571560" y="285840"/>
            <a:ext cx="31366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 Итог урок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28480" y="999720"/>
            <a:ext cx="7497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заключении нашего урока свяжем звуковые волны с процессами, протекающими в нашем организме. На низких частотах от 3Гц до 12Гц работают сердце, лёгкие, циркулирует кровь, движутся суставы. При заболевании организма у звуков внутри его изменяются громкость, тембр, высота тона, длительност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Если сердце работает нормально, то слышны звуки  2 тонов: низкий и высокий, при сердечных заболеваниях, при сбоях в работе сердца звук меняется, прослушиваются шумы, возникает аритмия. Сердце надо лечить. Из -  за чего могут появиться сбои в работе организма? Причины могут быть разные: расстройство, обиды, нервничает человек. Проблемы экологические, медицинские, нравственные связаны друг с другом, чтобы излечить одну,  не надо отвергать другие. Давайте же стараться быть безопасными друг для друга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сё в мире взаимосвязано, чтобы понять эту взаимосвязь, надо дойти до основания, до корней, такова диалекти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ыставление оценок за урок с учётом всех видов деятельно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ы очень плодотворно работали с вами на уроке, спасибо за урок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Picture 2" descr="Картинка 20 из 4965"/>
          <p:cNvPicPr/>
          <p:nvPr/>
        </p:nvPicPr>
        <p:blipFill>
          <a:blip r:embed="rId2"/>
          <a:stretch/>
        </p:blipFill>
        <p:spPr>
          <a:xfrm>
            <a:off x="7500960" y="0"/>
            <a:ext cx="1643040" cy="10825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Картинка 43 из 56"/>
          <p:cNvPicPr/>
          <p:nvPr/>
        </p:nvPicPr>
        <p:blipFill>
          <a:blip r:embed="rId3"/>
          <a:stretch/>
        </p:blipFill>
        <p:spPr>
          <a:xfrm>
            <a:off x="0" y="0"/>
            <a:ext cx="1789200" cy="1000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Картинка 72 из 1568"/>
          <p:cNvPicPr/>
          <p:nvPr/>
        </p:nvPicPr>
        <p:blipFill>
          <a:blip r:embed="rId4"/>
          <a:stretch/>
        </p:blipFill>
        <p:spPr>
          <a:xfrm>
            <a:off x="142920" y="1071720"/>
            <a:ext cx="1743120" cy="10047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Картинка 114 из 1568"/>
          <p:cNvPicPr/>
          <p:nvPr/>
        </p:nvPicPr>
        <p:blipFill>
          <a:blip r:embed="rId5"/>
          <a:stretch/>
        </p:blipFill>
        <p:spPr>
          <a:xfrm>
            <a:off x="285840" y="2214720"/>
            <a:ext cx="834840" cy="150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6" descr="Картинка 313 из 1568"/>
          <p:cNvPicPr/>
          <p:nvPr/>
        </p:nvPicPr>
        <p:blipFill>
          <a:blip r:embed="rId6"/>
          <a:stretch/>
        </p:blipFill>
        <p:spPr>
          <a:xfrm>
            <a:off x="357120" y="5443560"/>
            <a:ext cx="1428840" cy="120024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714400" y="1071720"/>
            <a:ext cx="47797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I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 Домашнее задание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428480" y="2643120"/>
            <a:ext cx="749772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омашнее задание: написать сочинение на тему «Звуковые волны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рок окончен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43080" y="357120"/>
            <a:ext cx="378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II.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Литератур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285920"/>
            <a:ext cx="7499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.       Уроки физики в современной школе.  В. Г. Разумовский;    Москва «Просвещение» 199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.       Физика 8 – 9 классы. В. А. Попов;  Волгоград  2008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.       Как подготовить и провести открытый урок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. М. Поташник, М. В. Левит;  Педагогическое общество России  Москва  200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4.       Уроки физики в 10 классе.  С. Л. Вольштейн, А. М. Качинский,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. М. Круглей, М. С. Кузей;  Минск «Народная  Асвета» 1980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.       Физические викторины.   Б. Ф. Билимович;   Моск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«Просвещение» 1977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.       Мир физики в художественной литературе.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. А. Тихомирова; Москва 1988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7.        Игровые ситуации на уроках физики.  И.Я.Ланина;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енинград 1989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8.       Уроки физики 7 – 11 классы.  Серия «Современная школа»;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осква  Издательство «Глобус» 2009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735804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Эпиграф нашего урока: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                         «Во всём мне хочется дойти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                      до самой сути…»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428840" y="2357280"/>
            <a:ext cx="7407360" cy="4143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Эпиграф нашего урока: «Во всём мне хочется дойти до самой сути…»- строки из стихотворения Бориса Пастернака, казалось бы, как эти строки связаны с темой нашего урока? Но смысл этих строк и определяет цель уро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пределить суть,  узнать истину – это издавна привлекало человека, но эта черта характерна для человека творческого. Давайте попробуем применить свои творческие способности, а они есть у каждого из вас я уверен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Я расскажу вам сказку. В некотором царстве, в некотором государстве живут волны световые, механические. Одной из разновидностей механических волн  являются звуковые или акустические вол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356840" y="499680"/>
            <a:ext cx="7410600" cy="6072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Что представляют собой волны?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распространение колебаний в пространстве с течением времен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акими являются звуковые волны - продольные или поперечны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продольны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Почему вы так думает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распространяются в воздух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акие волны называют продольными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колебания происходят вдоль направления вол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Звуковые волны образуются так: в проходящей струе неравномерно нагретого воздуха образуются чередующиеся участки сжатия и растяжения; в результате, возникают продольные колебания частиц воздух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 каких ещё средах могут распространяться звуковые волны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в газах, жидкостях, твёрдых тел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285920" y="500040"/>
            <a:ext cx="7572240" cy="5857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А могут ли распространяться  звуковые волны в вакуум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ы затрудняетесь ответить на этот вопрос, давайте обратимся к опыту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Уследить за волнами сложно. Скорость распространения звуковой волны  зависит от взаимодействия частиц среды: чем сильнее взаимодействие, тем больше скорость вол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Rectangle 1"/>
          <p:cNvSpPr/>
          <p:nvPr/>
        </p:nvSpPr>
        <p:spPr>
          <a:xfrm>
            <a:off x="1500120" y="1941120"/>
            <a:ext cx="72867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Демонстрац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д колокол поместить электрический звонок, откачивая воздух из – под колокола, звук становится всё ти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ыво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Звуковые волны распространяются только в упругих средах, в вакууме они не распространя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Картинка 18 из 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4960" y="1276200"/>
            <a:ext cx="3362400" cy="124308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214280" y="1285560"/>
            <a:ext cx="75693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Что же является источником волны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твет: любое колеблющееся тел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азовите источники звуковых волн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твет: музыкальные инструменты, писк комара, шелест листьев, дрожание стёко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Голосовые связки вместе с проходящим воздухом позволяют нам общаться. Мы слышим звуки благодаря органам слуха. Главная часть слухового аппарата человека – барабанная перепонка, способная колебаться под действием звуковых волн. Эти колебания по слуховому нерву передаются в мозг и там обрабатываютс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нстрация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мертон – прибор, создающий звук одной частоты, получается чистый тон. Ветви камертона создают слабый звук, для усиления звука камертон укрепляют на деревянном ящике, с большей площадью поверхностью, - усилителе, резонаторе.    У музыкальных  инструментах резонаторами являются дек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0" name="Picture 2" descr="http://cit.vvsu.ru/MIRROR/www.fizika.ru/theory/tema-16/16f-i4.gif"/>
          <p:cNvPicPr/>
          <p:nvPr/>
        </p:nvPicPr>
        <p:blipFill>
          <a:blip r:embed="rId1"/>
          <a:stretch/>
        </p:blipFill>
        <p:spPr>
          <a:xfrm>
            <a:off x="6786720" y="4929120"/>
            <a:ext cx="1618920" cy="164304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428480" y="785880"/>
            <a:ext cx="74977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ы слышите звучание музыкальных инструментов. Отгадайте и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царстве механических волн звуковыми  считаются волны, которые вызывают слуховые ощущения, а это волны,  диапазон которых находиться в интервале от 16Гц  до 20000Гц. У пожилых людей  этот интервал меньше, так как с возрастом утрачивается способность слышать звуки большой частот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нашем царстве звуковые волны очень гордые, так    как с помощью этих волн человек, животные, птицы, насекомые получают информацию об окружающем мире. Информация поступает не только с помощью звуковых волн, но и ультразвуковых волн. Информация поступает не только через речь, но и с помощью звуковых сигналов: свисток, гудок, различные сирены, колокольный звон, звучание будильни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428480" y="1285560"/>
            <a:ext cx="7497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нстраци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вуковые сигналы. Угадайте и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Царство звуков окружают нас в повседневной жизни. Приведите пример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вывание ветра, крики, звуки работающего транспорта, шум текущей воды, скрип снег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5" name="Picture 2" descr="Картинка 1 из 6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86000" cy="1557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Картинка 1 из 64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214800"/>
            <a:ext cx="2274840" cy="1785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Картинка 6 из 19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160960"/>
            <a:ext cx="2260440" cy="16970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http://art5.karelia.ru/photo/1/4/5565_mini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15717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Картинка 136 из 733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0200" y="5195880"/>
            <a:ext cx="2214720" cy="166212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3:50:52Z</dcterms:created>
  <dc:creator>Вольный</dc:creator>
  <dc:description/>
  <dc:language>en-US</dc:language>
  <cp:lastModifiedBy>LEGION</cp:lastModifiedBy>
  <dcterms:modified xsi:type="dcterms:W3CDTF">2015-03-30T08:46:46Z</dcterms:modified>
  <cp:revision>74</cp:revision>
  <dc:subject/>
  <dc:title>Урок по теме: « Звуковые волны». </dc:title>
</cp:coreProperties>
</file>