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EF59-AEAC-4118-806C-9B6A3C3FECF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свенные нал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0039-71D7-49BF-A9BC-E12D54544B08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диный социальный нал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обязательным платежом и поэтому учитывается при расчете налогового бремени экономического субъек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94CB-78DA-43DC-9111-F28BFB55E707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ривая спрос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ного товара (работы, услуги) зачастую отличается от классических ситуаций, приводимых в качестве примеров в учебных пособиях по экономической те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2281-0226-4B49-851D-4827DA07369F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бсолютная налоговая нагрузка экономического субъект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алоги и сборы, подлежащие перечислению в бюджет и во внебюджетные фонды, т. е. абсолютная величина налоговых обязательств перед государств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BC6D-FEC3-4C70-BF76-AD5137126B61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носительная налоговая нагрузка экономического субъект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тношение абсолютной налоговой нагрузки к вновь созданной стоимости, т. е. доля налогов с учетом недоимки и пеней во вновь созданной сто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47B9-3145-425B-AFF1-B4573EB6CEA2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состав добавленной стоимости включаютс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тизационные отчисления, поэтому при исчислении величины налоговой нагрузки экономического субъекта не учитывается объективное различие доли амортизации в ее объ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3633-3517-4433-B1FD-5CAF1883C34D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оговая нагрузка в данном случае определяется как соотношение налоговых издержек к соответствующей группе по источнику покрыт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грузку экономического субъект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нагрузка на реализацию (НБр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нагрузка на себестоимость (НБс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нагрузка на прибыль до налогообложения (НБфр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нагрузка на чистую прибыль и фонды специального назначения (НБчп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57FA-ACD1-4A94-99C4-19351074445A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обобщающим показателям, характеризующим налоговую нагрузку экономического субъекта, относятся следующие показател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нагрузка на доходы предприятия (НБд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нагрузка на финансовые ресурсы предприятия (НБф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нагрузка на собственный капитал (НБск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нагрузка на прибыль до налогообложения (НБп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показатели рассчитываются по следующим формул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50A9-EFBF-4427-A1F5-B2A46CA5BB24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сточником уплаты налоговых платежей, как и в предыдущих методиках, признается добавленная стоимост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товаров, работ и услуг за вычетом промежуточного потребления, т. е. за вычетом потребления ради последующего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DE78-8255-46D7-8D61-0D6DB8D4E64E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ь абсолютной налоговой нагрузки не отражает напряженности налоговых обязательств экономического субъек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дополнительно рассчитывается показатель относительной налоговой нагруз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D770-B042-4976-9BC8-EEBC12AEA142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6407-F160-4338-96A4-C91541037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B668-8C48-4AB0-8E1C-54EE9B3C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52FA-F91C-46EA-ADEF-BAA2C1B59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DCD3-6574-4E55-93D9-783743973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0B02-5CFD-440B-922D-93E8D25A6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ABC3-9E6F-404B-887C-4F2114CB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261C-95F6-42DE-A788-EAD23334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1E76-2072-44BE-8C01-9CE69C1D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B17C-E35A-4014-A319-DC6E9EA2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B4F1-4940-4795-AA8B-A5151870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05E7-D858-4E1F-BE51-BCF645D2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0270-1254-40A7-BDAE-A59BC686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5DAE-B513-4FD1-B476-988469A9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8D3D-B359-4014-9C87-8118AB63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3555-49CF-4B6F-93E0-7457909D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A95E-18AF-4922-A6E6-B80BFC9B6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3D8B-F239-425C-A6E4-DD03C5A2A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808E-8CB2-4898-AED4-5BC5B3B0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B56E-03D3-417A-903F-581AE64E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3FF0-AC9B-47D7-9C45-87BD8F7E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9745-2BA8-4F80-8903-2341DD04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2763-A023-4132-8765-D6967B9B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7F1E-3705-4055-AA8B-66044736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8423-A16B-47E6-9800-F3CCD1A3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BA89-4AA2-49A0-9D6C-36E9E6A7BF5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FBD6-6968-45F4-A88F-135954BD6F8A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ccecff"/>
                </a:solidFill>
                <a:latin typeface="Arial"/>
              </a:rPr>
              <a:t>косвенные налоги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единый социальный налог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является обязательным платежом и поэтому учитывается при расчете налогового бремени экономического субъекта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кривая спроса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пределенного товара (работы, услуги) зачастую отличается от классических ситуаций, приводимых в качестве примеров в учебных пособиях по экономической теори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Абсолютная налоговая нагрузка экономического субъекта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это налоги и сборы, подлежащие перечислению в бюджет и во внебюджетные фонды, т. е. абсолютная величина налоговых обязательств перед государством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тносительная налоговая нагрузка экономического субъекта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4920" y="2205000"/>
            <a:ext cx="828684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это отношение абсолютной налоговой нагрузки к вновь созданной стоимости, т. е. доля налогов с учетом недоимки и пеней во вновь созданной стоимост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 состав добавленной стоимости включаются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амортизационные отчисления, поэтому при исчислении величины налоговой нагрузки экономического субъекта не учитывается объективное различие доли амортизации в ее объем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4920" y="272520"/>
            <a:ext cx="8286840" cy="2435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логовая нагрузка в данном случае определяется как соотношение налоговых издержек к соответствующей группе по источнику покрытия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3640" y="2924280"/>
            <a:ext cx="83581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грузку экономического субъекта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логовая нагрузка на реализацию (НБр);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логовая нагрузка на себестоимость (НБс)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логовая нагрузка на прибыль до налогообложения (НБфр)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логовая нагрузка на чистую прибыль и фонды специального назначения (НБчп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4920" y="272880"/>
            <a:ext cx="8286840" cy="2724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 обобщающим показателям, характеризующим налоговую нагрузку экономического субъекта, относятся следующие показатели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4920" y="3213000"/>
            <a:ext cx="82868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налоговая нагрузка на доходы предприятия (НБд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налоговая нагрузка на финансовые ресурсы предприятия (НБф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налоговая нагрузка на собственный капитал (НБск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налоговая нагрузка на прибыль до налогообложения (НБп)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Эти показатели рассчитываются по следующим формулам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272520"/>
            <a:ext cx="8213760" cy="265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Источником уплаты налоговых платежей, как и в предыдущих методиках, признается добавленная стоимость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9640" y="3573000"/>
            <a:ext cx="8142480" cy="25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тоимость товаров, работ и услуг за вычетом промежуточного потребления, т. е. за вычетом потребления ради последующего производств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13760" cy="194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оказатель абсолютной налоговой нагрузки не отражает напряженности налоговых обязательств экономического субъекта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0920" y="3573000"/>
            <a:ext cx="8070840" cy="25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этому дополнительно рассчитывается показатель относительной налоговой нагрузк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22:55:13Z</dcterms:created>
  <dc:creator>КИРЯ</dc:creator>
  <dc:description/>
  <dc:language>en-US</dc:language>
  <cp:lastModifiedBy>LEGION</cp:lastModifiedBy>
  <dcterms:modified xsi:type="dcterms:W3CDTF">2014-11-10T11:35:17Z</dcterms:modified>
  <cp:revision>7</cp:revision>
  <dc:subject/>
  <dc:title>косвенные налоги</dc:title>
</cp:coreProperties>
</file>