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.wmf" ContentType="image/x-wmf"/>
  <Override PartName="/ppt/media/image25.gif" ContentType="image/gif"/>
  <Override PartName="/ppt/media/image17.png" ContentType="image/png"/>
  <Override PartName="/ppt/media/image23.png" ContentType="image/png"/>
  <Override PartName="/ppt/media/image22.gif" ContentType="image/gif"/>
  <Override PartName="/ppt/media/image24.png" ContentType="image/png"/>
  <Override PartName="/ppt/media/image21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C400-7811-4EFD-A418-2BB5FC5745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еще не устал удивля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десам, что есть на земл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визору, голосу ра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нтилятору на сто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 по проволоке струи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утник мчится по небеса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у стоит диви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м чудесам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09ED-6EFB-4FC2-A98D-A340B5CA33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ρ = кг/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BE71-CE30-4A96-86F7-BEFFC5476B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C862-07CB-466C-AB0F-7A770255AB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ь объем, массу тел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числить плотность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C9E3-D12D-43F8-AD29-4FB2ED5BA6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казывает, чему равна масса вещества, взятого в объеме 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1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=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=78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580F-60B7-4075-97B1-89E539A222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редкого металла осмия равна 22600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то эт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4F86-8134-44B6-9A55-63C52671C0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йдите по таблице плотности льда, воды и водяного п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  -  9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 – 10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0,59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45A2-E5C7-49A4-95E4-E76E941532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A46E-0A5F-4001-8634-1EA863BB03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ашках уравновешенных весов лежа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ики. Одинаковы ли плотности веществ, из которых сделаны куб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D703-C30B-4131-90E3-1F6A055DF7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839D-548A-4658-B0A5-EDDCE073BD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FEAD-AB79-4E59-9381-FF1A8F1BA3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DF4F-DF5F-42CC-823D-257FE18786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30F9-B30C-4851-9BBF-E1B2B01501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D439-EEA4-40AB-8874-9A0E96BF62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EA8D-C546-45BD-962B-AC62AB97C6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и достижения на этом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 у вас получ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ы ли вы своими результат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3FE9-C493-42D9-BF59-63F80C5307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  21; упражнение 7 №3;4 (определить плотность картофе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9C7A-8E6E-4DAA-AA44-34157772C3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cc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1200"/>
            </a:b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05AD-9143-40DE-907F-082B8FC774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физическ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54E2-B296-48A5-8CA0-F1AE2300E1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это физическая величина, которая равна отношению массы тела к его объ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C394-8BD4-408B-BB93-8BD773CBEC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реческая буква «р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C3F9-C13B-4890-9F57-A08C00701D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5245-B512-4128-856B-3A4BF92A75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4B5-831E-46F9-B019-66CC9110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982-A501-4EC2-8AAF-27A25E3A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A4E-8932-463D-839C-3EF7AB47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2CB-C288-48ED-AE50-A423BE4D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1A2C-E43F-4A2B-BC1D-E43D06F9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5E7E-9E5B-4886-99C8-7FE3A627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E5C3-20A4-458C-8871-965E1D3F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A78E-1B7E-4AE9-9361-31677185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2D2E-3683-4F55-915D-F28C5BB4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673A-96E7-423A-B9E7-5FC9D998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593E-A4E1-4C54-B494-3C42579C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B91-B30B-4C24-8B70-8C0C88DD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DAD9-E9B5-4AE5-BEEF-5F703D44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B144-3F78-4E60-AAA6-080647B1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5FF3-B5D2-4FE5-8703-03DD21AB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0D9-1E7A-4C59-9FA1-25A7B4EF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2DC9-2B12-4EDC-9479-F3148A3B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19C09-1E87-4728-AC27-AF968192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0AFA8-63DF-421E-8CCC-3456D6E0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C0B76-B7C9-47C4-A270-74054A42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576D-BC2B-4EB7-870A-682AEF98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7FB0-4941-484A-8465-8E52F240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5A7-9E61-4B9A-9F72-6FDE6D51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7CA2-825F-497F-BD5D-B7D53984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8E03-1F59-45E1-A528-F92A6F1E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C841-555A-4436-96E2-0B9E308C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51F1-F8A1-4A4A-8C68-2AFC6F9C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0805-2F59-48CB-A3A0-34BC54E1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FEAF-4FB1-41C0-9524-BACED54B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BFC6-0CF2-4988-BB86-85E08CA6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8CBD1-E5CB-44BF-95F2-8FFB6C12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6AF7-23BC-41C0-84C1-DABB59E9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7160A-2031-461E-847C-0F9531C2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BFC-B054-4B89-9973-7C9BE383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2F6FD-82D5-4679-A89A-700621A2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C2684-6D44-4A1A-A879-A0A7E37B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A6E98-602E-4EFF-A87B-B15C55F1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45C0C-2519-4790-8598-D91D917D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2315-D7DF-4037-8159-970B612A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38BA-304C-40C1-9EC0-70B0819B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65FA-0A41-4A8B-ABCF-5840C6F3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8F46E-1FBA-4082-8D16-467E7326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5C439-BDD4-432C-86FF-E96031D8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DA9-A3F4-40BD-83D6-2103185F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1F3-15BE-40FF-9259-3AC76C34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BE4-CA29-45E7-87FD-1D86B6D7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BB9-9CF3-4B7A-B34A-84F6F03A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58E-9E6C-433A-A147-8013091C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0F0F-A444-4623-A37D-752631E943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CC78-F95F-4F34-8D40-1B15024221D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B543-6D39-4731-99B4-EA44161E9A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E542-899A-4C38-9CA0-D021F63975D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ческим чудесам…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168200" y="6143760"/>
            <a:ext cx="7293240" cy="368280"/>
          </a:xfrm>
          <a:prstGeom prst="rect">
            <a:avLst/>
          </a:prstGeom>
          <a:solidFill>
            <a:srgbClr val="fed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диницы измер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ρ = кг/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2195640" y="3716280"/>
            <a:ext cx="93636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195640" y="2205000"/>
            <a:ext cx="100800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268360" y="3573360"/>
            <a:ext cx="568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ρ  = г/с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сифицирующий призна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j0349131"/>
          <p:cNvPicPr/>
          <p:nvPr/>
        </p:nvPicPr>
        <p:blipFill>
          <a:blip r:embed="rId1"/>
          <a:stretch/>
        </p:blipFill>
        <p:spPr>
          <a:xfrm>
            <a:off x="5435640" y="1773360"/>
            <a:ext cx="2838240" cy="398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AutoShape 6"/>
          <p:cNvSpPr/>
          <p:nvPr/>
        </p:nvSpPr>
        <p:spPr>
          <a:xfrm rot="16200000">
            <a:off x="913680" y="1613520"/>
            <a:ext cx="3066840" cy="4392360"/>
          </a:xfrm>
          <a:prstGeom prst="wedgeEllipseCallout">
            <a:avLst>
              <a:gd name="adj1" fmla="val 8953"/>
              <a:gd name="adj2" fmla="val 801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для данного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пособы измер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227640" y="2133720"/>
            <a:ext cx="1257480" cy="1257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40360" y="2781360"/>
            <a:ext cx="14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443640" y="342900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738180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79200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896760" cy="158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Весы школьные двучашечные с разновесами"/>
          <p:cNvPicPr/>
          <p:nvPr/>
        </p:nvPicPr>
        <p:blipFill>
          <a:blip r:embed="rId3"/>
          <a:stretch/>
        </p:blipFill>
        <p:spPr>
          <a:xfrm>
            <a:off x="900000" y="2060640"/>
            <a:ext cx="201636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"/>
          <p:cNvSpPr/>
          <p:nvPr/>
        </p:nvSpPr>
        <p:spPr>
          <a:xfrm flipV="1" rot="10800000">
            <a:off x="826920" y="4149720"/>
            <a:ext cx="7848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ерить объем, массу тела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плотность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отность показывает, чему равна масса вещества, взятого в объеме 1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или 1с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5640" y="3223800"/>
            <a:ext cx="2669040" cy="218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ез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7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932360" y="2276640"/>
            <a:ext cx="2882880" cy="360036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m=1130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205000"/>
            <a:ext cx="77929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отность редкого металла осмия равна 22600кг/м</a:t>
            </a:r>
            <a:r>
              <a:rPr b="0" lang="ru-RU" sz="40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. Что это означает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c7789ef720a16d577d30e362a45fa30e"/>
          <p:cNvPicPr/>
          <p:nvPr/>
        </p:nvPicPr>
        <p:blipFill>
          <a:blip r:embed="rId1"/>
          <a:stretch/>
        </p:blipFill>
        <p:spPr>
          <a:xfrm>
            <a:off x="0" y="40464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йдите по таблице плотности льда, воды и водяного пар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д  -  9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 – 10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яной пар – 0,59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24000" y="2637000"/>
            <a:ext cx="158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Н</a:t>
            </a:r>
            <a:r>
              <a:rPr b="1" lang="ru-RU" sz="6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63e88de767d6637a447f6d35f1be6d75"/>
          <p:cNvPicPr/>
          <p:nvPr/>
        </p:nvPicPr>
        <p:blipFill>
          <a:blip r:embed="rId1"/>
          <a:stretch/>
        </p:blipFill>
        <p:spPr>
          <a:xfrm>
            <a:off x="-181080" y="620640"/>
            <a:ext cx="1440000" cy="14382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4" descr="0200301"/>
          <p:cNvPicPr/>
          <p:nvPr/>
        </p:nvPicPr>
        <p:blipFill>
          <a:blip r:embed="rId1"/>
          <a:stretch/>
        </p:blipFill>
        <p:spPr>
          <a:xfrm>
            <a:off x="0" y="145584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6957720" y="55879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635280" y="5587920"/>
            <a:ext cx="17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11280" y="5589720"/>
            <a:ext cx="18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9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79280" y="404640"/>
            <a:ext cx="936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47280" y="21420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чашках уравновешенных весов лежат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убики. Одинаковы ли плотности веществ, из которых сделаны кубик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7596360" cy="4032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765000"/>
            <a:ext cx="2663640" cy="18259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2830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0" y="549360"/>
            <a:ext cx="2664000" cy="18255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8028000" cy="4608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1619280" y="5229360"/>
            <a:ext cx="2448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140360" y="5157720"/>
            <a:ext cx="28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c7789ef720a16d577d30e362a45fa30e"/>
          <p:cNvPicPr/>
          <p:nvPr/>
        </p:nvPicPr>
        <p:blipFill>
          <a:blip r:embed="rId2"/>
          <a:stretch/>
        </p:blipFill>
        <p:spPr>
          <a:xfrm>
            <a:off x="-324000" y="90792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907640" y="2276640"/>
            <a:ext cx="5185080" cy="29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2195640" y="47628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тори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7" descr="j0345852"/>
          <p:cNvPicPr/>
          <p:nvPr/>
        </p:nvPicPr>
        <p:blipFill>
          <a:blip r:embed="rId1"/>
          <a:stretch/>
        </p:blipFill>
        <p:spPr>
          <a:xfrm>
            <a:off x="6588000" y="5229360"/>
            <a:ext cx="2233800" cy="13698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759280" cy="2673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549360"/>
            <a:ext cx="266364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50920" y="3645000"/>
            <a:ext cx="2546640" cy="2882880"/>
            <a:chOff x="250920" y="3645000"/>
            <a:chExt cx="2546640" cy="2882880"/>
          </a:xfrm>
        </p:grpSpPr>
        <p:pic>
          <p:nvPicPr>
            <p:cNvPr id="298" name="Picture 4" descr="mal"/>
            <p:cNvPicPr/>
            <p:nvPr/>
          </p:nvPicPr>
          <p:blipFill>
            <a:blip r:embed="rId1"/>
            <a:stretch/>
          </p:blipFill>
          <p:spPr>
            <a:xfrm>
              <a:off x="1763640" y="5186160"/>
              <a:ext cx="10339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professor01"/>
            <p:cNvPicPr/>
            <p:nvPr/>
          </p:nvPicPr>
          <p:blipFill>
            <a:blip r:embed="rId2"/>
            <a:stretch/>
          </p:blipFill>
          <p:spPr>
            <a:xfrm>
              <a:off x="250920" y="3645000"/>
              <a:ext cx="1656360" cy="280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2916360" y="2017800"/>
            <a:ext cx="6038640" cy="34988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1547640" y="4508640"/>
            <a:ext cx="63374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а  золо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ы меди в 2,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3456000" y="2017800"/>
            <a:ext cx="5688000" cy="2058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ите свои достижения на этом урок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ли у вас получилось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ольны ли вы своими результатам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5" descr="1cc20268d3f08596e8cddf3e92cdf132"/>
          <p:cNvPicPr/>
          <p:nvPr/>
        </p:nvPicPr>
        <p:blipFill>
          <a:blip r:embed="rId1"/>
          <a:stretch/>
        </p:blipFill>
        <p:spPr>
          <a:xfrm>
            <a:off x="3348000" y="4797360"/>
            <a:ext cx="1655640" cy="15890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  21; упражнение 7 №3;4 (определить плотность картофел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311640" cy="24667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0160" cy="6989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8672400" y="62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8672400" y="3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лаборатория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6163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cc"/>
                </a:solidFill>
                <a:latin typeface="Georgia"/>
              </a:rPr>
              <a:t>      </a:t>
            </a: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7200"/>
            </a:b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ан изучения физической величин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иц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ифицирующий призн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отность – это физическая величина, которая равна отношению массы тела к его объем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6048360" cy="27781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8172360" y="6165720"/>
            <a:ext cx="971640" cy="503280"/>
          </a:xfrm>
          <a:custGeom>
            <a:avLst/>
            <a:gdLst>
              <a:gd name="textAreaLeft" fmla="*/ 32400 w 971640"/>
              <a:gd name="textAreaRight" fmla="*/ 939240 w 9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1687" h="21600">
                <a:moveTo>
                  <a:pt x="0" y="0"/>
                </a:moveTo>
                <a:lnTo>
                  <a:pt x="41687" y="0"/>
                </a:lnTo>
                <a:lnTo>
                  <a:pt x="41687" y="21600"/>
                </a:lnTo>
                <a:lnTo>
                  <a:pt x="0" y="21600"/>
                </a:lnTo>
                <a:close/>
              </a:path>
              <a:path fill="lightenLess" w="41687" h="21600">
                <a:moveTo>
                  <a:pt x="0" y="0"/>
                </a:moveTo>
                <a:lnTo>
                  <a:pt x="41687" y="0"/>
                </a:lnTo>
                <a:lnTo>
                  <a:pt x="40287" y="1400"/>
                </a:lnTo>
                <a:lnTo>
                  <a:pt x="1400" y="1400"/>
                </a:lnTo>
                <a:close/>
              </a:path>
              <a:path fill="darken" w="41687" h="21600">
                <a:moveTo>
                  <a:pt x="41687" y="0"/>
                </a:moveTo>
                <a:lnTo>
                  <a:pt x="41687" y="21600"/>
                </a:lnTo>
                <a:lnTo>
                  <a:pt x="40287" y="20200"/>
                </a:lnTo>
                <a:lnTo>
                  <a:pt x="40287" y="1400"/>
                </a:lnTo>
                <a:close/>
              </a:path>
              <a:path fill="darkenLess" w="41687" h="21600">
                <a:moveTo>
                  <a:pt x="4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87" y="20200"/>
                </a:lnTo>
                <a:close/>
              </a:path>
              <a:path fill="lighten" w="4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87" h="21600">
                <a:moveTo>
                  <a:pt x="13837" y="7493"/>
                </a:moveTo>
                <a:lnTo>
                  <a:pt x="17345" y="7493"/>
                </a:lnTo>
                <a:lnTo>
                  <a:pt x="17345" y="12828"/>
                </a:lnTo>
                <a:cubicBezTo>
                  <a:pt x="17345" y="13751"/>
                  <a:pt x="18145" y="14482"/>
                  <a:pt x="19181" y="14482"/>
                </a:cubicBezTo>
                <a:lnTo>
                  <a:pt x="20843" y="14482"/>
                </a:lnTo>
                <a:cubicBezTo>
                  <a:pt x="21879" y="14482"/>
                  <a:pt x="22680" y="13751"/>
                  <a:pt x="22680" y="12828"/>
                </a:cubicBezTo>
                <a:lnTo>
                  <a:pt x="22680" y="7493"/>
                </a:lnTo>
                <a:lnTo>
                  <a:pt x="20843" y="7493"/>
                </a:lnTo>
                <a:lnTo>
                  <a:pt x="24351" y="3985"/>
                </a:lnTo>
                <a:lnTo>
                  <a:pt x="28024" y="7493"/>
                </a:lnTo>
                <a:lnTo>
                  <a:pt x="26188" y="7493"/>
                </a:lnTo>
                <a:lnTo>
                  <a:pt x="26188" y="12828"/>
                </a:lnTo>
                <a:cubicBezTo>
                  <a:pt x="26188" y="15596"/>
                  <a:pt x="23611" y="18155"/>
                  <a:pt x="20843" y="18155"/>
                </a:cubicBezTo>
                <a:lnTo>
                  <a:pt x="19181" y="18155"/>
                </a:lnTo>
                <a:cubicBezTo>
                  <a:pt x="16413" y="18155"/>
                  <a:pt x="13837" y="15596"/>
                  <a:pt x="13837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gas"/>
          <p:cNvPicPr/>
          <p:nvPr/>
        </p:nvPicPr>
        <p:blipFill>
          <a:blip r:embed="rId1"/>
          <a:stretch/>
        </p:blipFill>
        <p:spPr>
          <a:xfrm>
            <a:off x="611280" y="3860640"/>
            <a:ext cx="100944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(греческая буква «ро»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8244000" y="609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7493"/>
                </a:moveTo>
                <a:lnTo>
                  <a:pt x="8671" y="7493"/>
                </a:lnTo>
                <a:lnTo>
                  <a:pt x="8671" y="12828"/>
                </a:lnTo>
                <a:cubicBezTo>
                  <a:pt x="8671" y="13751"/>
                  <a:pt x="9471" y="14482"/>
                  <a:pt x="10507" y="14482"/>
                </a:cubicBezTo>
                <a:lnTo>
                  <a:pt x="12169" y="14482"/>
                </a:lnTo>
                <a:cubicBezTo>
                  <a:pt x="13205" y="14482"/>
                  <a:pt x="14006" y="13751"/>
                  <a:pt x="14006" y="12828"/>
                </a:cubicBezTo>
                <a:lnTo>
                  <a:pt x="14006" y="7493"/>
                </a:lnTo>
                <a:lnTo>
                  <a:pt x="12169" y="7493"/>
                </a:lnTo>
                <a:lnTo>
                  <a:pt x="15677" y="3985"/>
                </a:lnTo>
                <a:lnTo>
                  <a:pt x="19350" y="7493"/>
                </a:lnTo>
                <a:lnTo>
                  <a:pt x="17513" y="7493"/>
                </a:lnTo>
                <a:lnTo>
                  <a:pt x="17513" y="12828"/>
                </a:lnTo>
                <a:cubicBezTo>
                  <a:pt x="17513" y="15596"/>
                  <a:pt x="14937" y="18155"/>
                  <a:pt x="12169" y="18155"/>
                </a:cubicBezTo>
                <a:lnTo>
                  <a:pt x="10507" y="18155"/>
                </a:lnTo>
                <a:cubicBezTo>
                  <a:pt x="7739" y="18155"/>
                  <a:pt x="5163" y="15596"/>
                  <a:pt x="516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j0344853"/>
          <p:cNvPicPr/>
          <p:nvPr/>
        </p:nvPicPr>
        <p:blipFill>
          <a:blip r:embed="rId2"/>
          <a:stretch/>
        </p:blipFill>
        <p:spPr>
          <a:xfrm>
            <a:off x="1619280" y="4508640"/>
            <a:ext cx="1309680" cy="16524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77521E-008 L 1.38889E-006 -0.85291 E">
                                      <p:cBhvr>
                                        <p:cTn id="9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3631 C -0.01302 0.02151 -0.0243 0.07955 0.02014 0.0858 C 0.06476 0.09227 0.24132 0.00879 0.26597 0.00139 C 0.2908 -0.00578 0.18247 0.03561 0.16771 0.04209 E">
                                      <p:cBhvr>
                                        <p:cTn id="9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j0365295"/>
          <p:cNvPicPr/>
          <p:nvPr/>
        </p:nvPicPr>
        <p:blipFill>
          <a:blip r:embed="rId1"/>
          <a:stretch/>
        </p:blipFill>
        <p:spPr>
          <a:xfrm>
            <a:off x="179280" y="3382920"/>
            <a:ext cx="2735280" cy="26161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2700360" y="1341360"/>
            <a:ext cx="4535640" cy="2664000"/>
          </a:xfrm>
          <a:prstGeom prst="wedgeRectCallout">
            <a:avLst>
              <a:gd name="adj1" fmla="val -65574"/>
              <a:gd name="adj2" fmla="val 6656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4032000" cy="230328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7:28:17Z</dcterms:created>
  <dc:creator>олег</dc:creator>
  <dc:description/>
  <dc:language>en-US</dc:language>
  <cp:lastModifiedBy>LEGION</cp:lastModifiedBy>
  <dcterms:modified xsi:type="dcterms:W3CDTF">2015-03-30T08:53:59Z</dcterms:modified>
  <cp:revision>20</cp:revision>
  <dc:subject/>
  <dc:title>Повторим</dc:title>
</cp:coreProperties>
</file>