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.wmf" ContentType="image/x-wmf"/>
  <Override PartName="/ppt/media/image25.gif" ContentType="image/gif"/>
  <Override PartName="/ppt/media/image17.png" ContentType="image/png"/>
  <Override PartName="/ppt/media/image23.png" ContentType="image/png"/>
  <Override PartName="/ppt/media/image22.gif" ContentType="image/gif"/>
  <Override PartName="/ppt/media/image24.png" ContentType="image/png"/>
  <Override PartName="/ppt/media/image21.gif" ContentType="image/gif"/>
  <Override PartName="/ppt/media/image19.png" ContentType="image/png"/>
  <Override PartName="/ppt/media/image16.gif" ContentType="image/gif"/>
  <Override PartName="/ppt/media/image14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19E6-F395-4B11-A975-829DB332B4F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еще не устал удивля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десам, что есть на земл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визору, голосу ра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нтилятору на сто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 по проволоке струи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утник мчится по небеса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у стоит диви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м чудесам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0990-B985-43BE-84BD-C443D9BC5C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ρ = кг/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D89B-ED6B-4DA9-9827-ABDD5534D0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BA1F-60AF-45B7-8243-20082CA70E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ь объем, массу тел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числить плотность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CA0D-7D34-48AB-93CE-CFC2B4C77B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казывает, чему равна масса вещества, взятого в объеме 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1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=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=78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40FF-52C2-4812-8BB1-0D5D0C1FE7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редкого металла осмия равна 22600к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то эт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0536-EA1A-4085-BDE3-45398E6FB9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йдите по таблице плотности льда, воды и водяного па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  -  9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 – 10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0,59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10C3-FF5C-4E6D-A6C9-850A755DFF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ED9F-48F0-47EE-AE7D-A1E3C6A457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ашках уравновешенных весов лежа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ики. Одинаковы ли плотности веществ, из которых сделаны куб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47FA-6174-4E07-B169-8E93A4F7BF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F559-1D8A-4D55-BF4E-C603D20E49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E633-1719-47AE-B449-73840C248D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FDE5-F558-4193-9A54-4A8FC86E6C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55CE-84BB-460C-8932-F32D084264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E2DF-4534-4C1E-977F-C30A3F82AD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0328-EC65-4D28-8FBD-561B966E3E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и достижения на этом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 у вас получ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ы ли вы своими результат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1092-FE1C-4EB8-B5E3-0D830DC218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  21; упражнение 7 №3;4 (определить плотность картофе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6787-6F4D-45C9-A36F-D22B04FD6B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cc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1200"/>
            </a:b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7C86-6618-4E78-83E1-75A6F586FD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физическ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F33F-F842-44B3-95C5-71D8A57C42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это физическая величина, которая равна отношению массы тела к его объ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FE42-9630-43D5-9905-6E51B9AFE5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реческая буква «р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8802-961B-4B81-9BBB-91BFD1BB76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929C-16F7-4D52-A279-EAB2243D8A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282-0B85-436C-9A96-890B3C72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E55-0B24-4444-9606-05BE763E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60E-FBD6-4B27-A490-A5F57E4B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BBE-B431-41B9-A574-CF073424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3334-F3A1-4EDF-B967-C7C3A7A7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61CF-EED6-45B2-A996-96E11562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ACDD-6DC6-4556-803E-EB2F3CF5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A407-9680-4547-AB08-A4F939DC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08AE-3DF9-4970-8537-5F3DD86B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0646-4974-4835-B5DB-CD741D7E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C60E-9E0D-4952-B5DF-69F71983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C40-57DF-48F3-B672-C54C0305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6982-0C8E-4A3C-A576-62EDE0F3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E035-2059-4A13-A37A-43616F59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6DA5-01B9-427E-A9BB-7104C6BB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5F01-A0CA-4B3D-AFC5-1AD5020B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9D8F-AF53-4ACF-BC3E-55E2BC62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C11C-C5BF-434A-803B-15157F07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594DD-A278-4749-853D-F523C4C2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8DC3-8967-40C1-8312-8E5E8882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A1A8-666A-48BD-8AD9-3540013B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A7BB-4D5E-494D-8420-1C290512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DF7-2EB5-4052-BFE0-0A4B9B22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3FFE6-481C-448F-B113-808C642E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6A220-542E-4F80-968A-522E86FD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34C0-500F-42EA-B4B9-D19BF6A5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B9474-024E-42D0-9D69-269D6FF2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ADF6-14D0-4FDD-92C9-1570E2AE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BE0B-D523-4DE1-A6F6-71965AF3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AC76-E7F1-451B-AF65-D08686BB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3E128-2837-45BB-BC37-2E62BD74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2B89-9CC8-488B-B110-BEE8442B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890DD-0A22-4D52-8977-408CE771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46A-BFA6-4B1A-97C4-2EF7AE39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DC51B-2EB0-4F7E-B2C0-F5206B55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AB16D-7EB8-4475-A426-43F92BC4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6E967-5012-44C8-ACE4-25CEF503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8D2F0-115E-47C0-8990-A67FB058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216E-E80D-4558-A4CA-3011B1E6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D2D0A-91D7-4ACA-BBEB-FC81B45F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967A-DBD6-4072-BBF0-97C0C4DF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0D1C0-89A9-4B24-BE34-55920D8C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2082C-A5D9-4FFB-A835-42173F82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89F-2235-4838-9DAC-5F04C7C8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A84-B8E1-46E2-9534-DDC4F777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3C7-4A92-4F8E-A59A-FB79CEDD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23D-956D-44E4-B3BC-E3B642AF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0C5-C97B-49CB-81EB-367D4F09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D6A9-A41A-4029-BDC9-A238D82A7BD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95C1-413E-4345-A2A0-6E374516DB0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A9E8-8CA8-4CEB-B396-0B50DBD1EE3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4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4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F4F0-CD1D-47FE-B2A4-FB2016F27D7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Winter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627680" cy="504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Я еще не устал удивля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удесам, что есть на земле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елевизору, голосу рации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ентилятору на столе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ок по проволоке струится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Спутник мчится по небесам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ку стоит диви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ческим чудесам…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168200" y="6143760"/>
            <a:ext cx="7293240" cy="368280"/>
          </a:xfrm>
          <a:prstGeom prst="rect">
            <a:avLst/>
          </a:prstGeom>
          <a:solidFill>
            <a:srgbClr val="fed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диницы измер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ρ = кг/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2195640" y="3716280"/>
            <a:ext cx="93636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2195640" y="2205000"/>
            <a:ext cx="100800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268360" y="3573360"/>
            <a:ext cx="568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ρ  = г/с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7493"/>
                </a:moveTo>
                <a:lnTo>
                  <a:pt x="12016" y="7493"/>
                </a:lnTo>
                <a:lnTo>
                  <a:pt x="12016" y="12828"/>
                </a:lnTo>
                <a:cubicBezTo>
                  <a:pt x="12016" y="13751"/>
                  <a:pt x="12817" y="14482"/>
                  <a:pt x="13852" y="14482"/>
                </a:cubicBezTo>
                <a:lnTo>
                  <a:pt x="15515" y="14482"/>
                </a:lnTo>
                <a:cubicBezTo>
                  <a:pt x="16551" y="14482"/>
                  <a:pt x="17351" y="13751"/>
                  <a:pt x="17351" y="12828"/>
                </a:cubicBezTo>
                <a:lnTo>
                  <a:pt x="17351" y="7493"/>
                </a:lnTo>
                <a:lnTo>
                  <a:pt x="15515" y="7493"/>
                </a:lnTo>
                <a:lnTo>
                  <a:pt x="19022" y="3985"/>
                </a:lnTo>
                <a:lnTo>
                  <a:pt x="22695" y="7493"/>
                </a:lnTo>
                <a:lnTo>
                  <a:pt x="20859" y="7493"/>
                </a:lnTo>
                <a:lnTo>
                  <a:pt x="20859" y="12828"/>
                </a:lnTo>
                <a:cubicBezTo>
                  <a:pt x="20859" y="15596"/>
                  <a:pt x="18283" y="18155"/>
                  <a:pt x="15515" y="18155"/>
                </a:cubicBezTo>
                <a:lnTo>
                  <a:pt x="13852" y="18155"/>
                </a:lnTo>
                <a:cubicBezTo>
                  <a:pt x="11085" y="18155"/>
                  <a:pt x="8508" y="15596"/>
                  <a:pt x="8508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сифицирующий призна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j0349131"/>
          <p:cNvPicPr/>
          <p:nvPr/>
        </p:nvPicPr>
        <p:blipFill>
          <a:blip r:embed="rId1"/>
          <a:stretch/>
        </p:blipFill>
        <p:spPr>
          <a:xfrm>
            <a:off x="5435640" y="1773360"/>
            <a:ext cx="2838240" cy="3985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6" name="AutoShape 6"/>
          <p:cNvSpPr/>
          <p:nvPr/>
        </p:nvSpPr>
        <p:spPr>
          <a:xfrm rot="16200000">
            <a:off x="913680" y="1613520"/>
            <a:ext cx="3066840" cy="4392360"/>
          </a:xfrm>
          <a:prstGeom prst="wedgeEllipseCallout">
            <a:avLst>
              <a:gd name="adj1" fmla="val 8953"/>
              <a:gd name="adj2" fmla="val 8017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для данного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пособы измер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227640" y="2133720"/>
            <a:ext cx="1257480" cy="1257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940360" y="2781360"/>
            <a:ext cx="14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443640" y="342900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738180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79200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896760" cy="1582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Весы школьные двучашечные с разновесами"/>
          <p:cNvPicPr/>
          <p:nvPr/>
        </p:nvPicPr>
        <p:blipFill>
          <a:blip r:embed="rId3"/>
          <a:stretch/>
        </p:blipFill>
        <p:spPr>
          <a:xfrm>
            <a:off x="900000" y="2060640"/>
            <a:ext cx="2016360" cy="1800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2"/>
          <p:cNvSpPr/>
          <p:nvPr/>
        </p:nvSpPr>
        <p:spPr>
          <a:xfrm flipV="1" rot="10800000">
            <a:off x="826920" y="4149720"/>
            <a:ext cx="7848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мерить объем, массу тела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ь плотность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отность показывает, чему равна масса вещества, взятого в объеме 1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или 1с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15640" y="3223800"/>
            <a:ext cx="2669040" cy="218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ез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=7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932360" y="2276640"/>
            <a:ext cx="2882880" cy="360036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ahoma"/>
              </a:rPr>
              <a:t>m=11300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205000"/>
            <a:ext cx="779292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отность редкого металла осмия равна 22600кг/м</a:t>
            </a:r>
            <a:r>
              <a:rPr b="0" lang="ru-RU" sz="40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. Что это означает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Picture 3" descr="c7789ef720a16d577d30e362a45fa30e"/>
          <p:cNvPicPr/>
          <p:nvPr/>
        </p:nvPicPr>
        <p:blipFill>
          <a:blip r:embed="rId1"/>
          <a:stretch/>
        </p:blipFill>
        <p:spPr>
          <a:xfrm>
            <a:off x="0" y="40464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йдите по таблице плотности льда, воды и водяного пар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д  -  9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 – 10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яной пар – 0,59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324000" y="2637000"/>
            <a:ext cx="1584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Н</a:t>
            </a:r>
            <a:r>
              <a:rPr b="1" lang="ru-RU" sz="6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63e88de767d6637a447f6d35f1be6d75"/>
          <p:cNvPicPr/>
          <p:nvPr/>
        </p:nvPicPr>
        <p:blipFill>
          <a:blip r:embed="rId1"/>
          <a:stretch/>
        </p:blipFill>
        <p:spPr>
          <a:xfrm>
            <a:off x="-181080" y="620640"/>
            <a:ext cx="1440000" cy="14382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4" descr="0200301"/>
          <p:cNvPicPr/>
          <p:nvPr/>
        </p:nvPicPr>
        <p:blipFill>
          <a:blip r:embed="rId1"/>
          <a:stretch/>
        </p:blipFill>
        <p:spPr>
          <a:xfrm>
            <a:off x="0" y="145584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6957720" y="55879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635280" y="5587920"/>
            <a:ext cx="17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11280" y="5589720"/>
            <a:ext cx="18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9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79280" y="404640"/>
            <a:ext cx="936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47280" y="21420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чашках уравновешенных весов лежат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убики. Одинаковы ли плотности веществ, из которых сделаны кубики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7596360" cy="4032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765000"/>
            <a:ext cx="2663640" cy="18259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2830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0" y="549360"/>
            <a:ext cx="2664000" cy="18255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8028000" cy="4608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1619280" y="5229360"/>
            <a:ext cx="2448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140360" y="5157720"/>
            <a:ext cx="28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c7789ef720a16d577d30e362a45fa30e"/>
          <p:cNvPicPr/>
          <p:nvPr/>
        </p:nvPicPr>
        <p:blipFill>
          <a:blip r:embed="rId2"/>
          <a:stretch/>
        </p:blipFill>
        <p:spPr>
          <a:xfrm>
            <a:off x="-324000" y="90792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907640" y="2276640"/>
            <a:ext cx="5185080" cy="29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2195640" y="47628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тори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7" descr="j0345852"/>
          <p:cNvPicPr/>
          <p:nvPr/>
        </p:nvPicPr>
        <p:blipFill>
          <a:blip r:embed="rId1"/>
          <a:stretch/>
        </p:blipFill>
        <p:spPr>
          <a:xfrm>
            <a:off x="6588000" y="5229360"/>
            <a:ext cx="2233800" cy="13698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759280" cy="2673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549360"/>
            <a:ext cx="266364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250920" y="3645000"/>
            <a:ext cx="2546640" cy="2882880"/>
            <a:chOff x="250920" y="3645000"/>
            <a:chExt cx="2546640" cy="2882880"/>
          </a:xfrm>
        </p:grpSpPr>
        <p:pic>
          <p:nvPicPr>
            <p:cNvPr id="298" name="Picture 4" descr="mal"/>
            <p:cNvPicPr/>
            <p:nvPr/>
          </p:nvPicPr>
          <p:blipFill>
            <a:blip r:embed="rId1"/>
            <a:stretch/>
          </p:blipFill>
          <p:spPr>
            <a:xfrm>
              <a:off x="1763640" y="5186160"/>
              <a:ext cx="10339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professor01"/>
            <p:cNvPicPr/>
            <p:nvPr/>
          </p:nvPicPr>
          <p:blipFill>
            <a:blip r:embed="rId2"/>
            <a:stretch/>
          </p:blipFill>
          <p:spPr>
            <a:xfrm>
              <a:off x="250920" y="3645000"/>
              <a:ext cx="1656360" cy="280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2916360" y="2017800"/>
            <a:ext cx="6038640" cy="34988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1547640" y="4508640"/>
            <a:ext cx="63374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а  золот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ы меди в 2,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3456000" y="2017800"/>
            <a:ext cx="5688000" cy="2058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цените свои достижения на этом урок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ли у вас получилось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ольны ли вы своими результатам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5" descr="1cc20268d3f08596e8cddf3e92cdf132"/>
          <p:cNvPicPr/>
          <p:nvPr/>
        </p:nvPicPr>
        <p:blipFill>
          <a:blip r:embed="rId1"/>
          <a:stretch/>
        </p:blipFill>
        <p:spPr>
          <a:xfrm>
            <a:off x="3348000" y="4797360"/>
            <a:ext cx="1655640" cy="15890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  21; упражнение 7 №3;4 (определить плотность картофел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311640" cy="24667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0160" cy="6989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8672400" y="62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8672400" y="3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лаборатория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561636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cc"/>
                </a:solidFill>
                <a:latin typeface="Georgia"/>
              </a:rPr>
              <a:t>      </a:t>
            </a: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7200"/>
            </a:b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ан изучения физической величин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зна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иц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ифицирующий призн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ред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отность – это физическая величина, которая равна отношению массы тела к его объем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6048360" cy="27781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8172360" y="6165720"/>
            <a:ext cx="971640" cy="503280"/>
          </a:xfrm>
          <a:custGeom>
            <a:avLst/>
            <a:gdLst>
              <a:gd name="textAreaLeft" fmla="*/ 32400 w 971640"/>
              <a:gd name="textAreaRight" fmla="*/ 939240 w 971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1687" h="21600">
                <a:moveTo>
                  <a:pt x="0" y="0"/>
                </a:moveTo>
                <a:lnTo>
                  <a:pt x="41687" y="0"/>
                </a:lnTo>
                <a:lnTo>
                  <a:pt x="41687" y="21600"/>
                </a:lnTo>
                <a:lnTo>
                  <a:pt x="0" y="21600"/>
                </a:lnTo>
                <a:close/>
              </a:path>
              <a:path fill="lightenLess" w="41687" h="21600">
                <a:moveTo>
                  <a:pt x="0" y="0"/>
                </a:moveTo>
                <a:lnTo>
                  <a:pt x="41687" y="0"/>
                </a:lnTo>
                <a:lnTo>
                  <a:pt x="40287" y="1400"/>
                </a:lnTo>
                <a:lnTo>
                  <a:pt x="1400" y="1400"/>
                </a:lnTo>
                <a:close/>
              </a:path>
              <a:path fill="darken" w="41687" h="21600">
                <a:moveTo>
                  <a:pt x="41687" y="0"/>
                </a:moveTo>
                <a:lnTo>
                  <a:pt x="41687" y="21600"/>
                </a:lnTo>
                <a:lnTo>
                  <a:pt x="40287" y="20200"/>
                </a:lnTo>
                <a:lnTo>
                  <a:pt x="40287" y="1400"/>
                </a:lnTo>
                <a:close/>
              </a:path>
              <a:path fill="darkenLess" w="41687" h="21600">
                <a:moveTo>
                  <a:pt x="4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87" y="20200"/>
                </a:lnTo>
                <a:close/>
              </a:path>
              <a:path fill="lighten" w="4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87" h="21600">
                <a:moveTo>
                  <a:pt x="13837" y="7493"/>
                </a:moveTo>
                <a:lnTo>
                  <a:pt x="17345" y="7493"/>
                </a:lnTo>
                <a:lnTo>
                  <a:pt x="17345" y="12828"/>
                </a:lnTo>
                <a:cubicBezTo>
                  <a:pt x="17345" y="13751"/>
                  <a:pt x="18145" y="14482"/>
                  <a:pt x="19181" y="14482"/>
                </a:cubicBezTo>
                <a:lnTo>
                  <a:pt x="20843" y="14482"/>
                </a:lnTo>
                <a:cubicBezTo>
                  <a:pt x="21879" y="14482"/>
                  <a:pt x="22680" y="13751"/>
                  <a:pt x="22680" y="12828"/>
                </a:cubicBezTo>
                <a:lnTo>
                  <a:pt x="22680" y="7493"/>
                </a:lnTo>
                <a:lnTo>
                  <a:pt x="20843" y="7493"/>
                </a:lnTo>
                <a:lnTo>
                  <a:pt x="24351" y="3985"/>
                </a:lnTo>
                <a:lnTo>
                  <a:pt x="28024" y="7493"/>
                </a:lnTo>
                <a:lnTo>
                  <a:pt x="26188" y="7493"/>
                </a:lnTo>
                <a:lnTo>
                  <a:pt x="26188" y="12828"/>
                </a:lnTo>
                <a:cubicBezTo>
                  <a:pt x="26188" y="15596"/>
                  <a:pt x="23611" y="18155"/>
                  <a:pt x="20843" y="18155"/>
                </a:cubicBezTo>
                <a:lnTo>
                  <a:pt x="19181" y="18155"/>
                </a:lnTo>
                <a:cubicBezTo>
                  <a:pt x="16413" y="18155"/>
                  <a:pt x="13837" y="15596"/>
                  <a:pt x="13837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gas"/>
          <p:cNvPicPr/>
          <p:nvPr/>
        </p:nvPicPr>
        <p:blipFill>
          <a:blip r:embed="rId1"/>
          <a:stretch/>
        </p:blipFill>
        <p:spPr>
          <a:xfrm>
            <a:off x="611280" y="3860640"/>
            <a:ext cx="100944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зна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(греческая буква «ро»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8244000" y="6093000"/>
            <a:ext cx="649080" cy="57600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39" h="21600">
                <a:moveTo>
                  <a:pt x="0" y="0"/>
                </a:moveTo>
                <a:lnTo>
                  <a:pt x="24339" y="0"/>
                </a:lnTo>
                <a:lnTo>
                  <a:pt x="24339" y="21600"/>
                </a:lnTo>
                <a:lnTo>
                  <a:pt x="0" y="21600"/>
                </a:lnTo>
                <a:close/>
              </a:path>
              <a:path fill="lightenLess" w="24339" h="21600">
                <a:moveTo>
                  <a:pt x="0" y="0"/>
                </a:moveTo>
                <a:lnTo>
                  <a:pt x="24339" y="0"/>
                </a:lnTo>
                <a:lnTo>
                  <a:pt x="22939" y="1400"/>
                </a:lnTo>
                <a:lnTo>
                  <a:pt x="1400" y="1400"/>
                </a:lnTo>
                <a:close/>
              </a:path>
              <a:path fill="darken" w="24339" h="21600">
                <a:moveTo>
                  <a:pt x="24339" y="0"/>
                </a:moveTo>
                <a:lnTo>
                  <a:pt x="24339" y="21600"/>
                </a:lnTo>
                <a:lnTo>
                  <a:pt x="22939" y="20200"/>
                </a:lnTo>
                <a:lnTo>
                  <a:pt x="22939" y="1400"/>
                </a:lnTo>
                <a:close/>
              </a:path>
              <a:path fill="darkenLess" w="24339" h="21600">
                <a:moveTo>
                  <a:pt x="24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9" y="20200"/>
                </a:lnTo>
                <a:close/>
              </a:path>
              <a:path fill="lighten" w="24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9" h="21600">
                <a:moveTo>
                  <a:pt x="5163" y="7493"/>
                </a:moveTo>
                <a:lnTo>
                  <a:pt x="8671" y="7493"/>
                </a:lnTo>
                <a:lnTo>
                  <a:pt x="8671" y="12828"/>
                </a:lnTo>
                <a:cubicBezTo>
                  <a:pt x="8671" y="13751"/>
                  <a:pt x="9471" y="14482"/>
                  <a:pt x="10507" y="14482"/>
                </a:cubicBezTo>
                <a:lnTo>
                  <a:pt x="12169" y="14482"/>
                </a:lnTo>
                <a:cubicBezTo>
                  <a:pt x="13205" y="14482"/>
                  <a:pt x="14006" y="13751"/>
                  <a:pt x="14006" y="12828"/>
                </a:cubicBezTo>
                <a:lnTo>
                  <a:pt x="14006" y="7493"/>
                </a:lnTo>
                <a:lnTo>
                  <a:pt x="12169" y="7493"/>
                </a:lnTo>
                <a:lnTo>
                  <a:pt x="15677" y="3985"/>
                </a:lnTo>
                <a:lnTo>
                  <a:pt x="19350" y="7493"/>
                </a:lnTo>
                <a:lnTo>
                  <a:pt x="17513" y="7493"/>
                </a:lnTo>
                <a:lnTo>
                  <a:pt x="17513" y="12828"/>
                </a:lnTo>
                <a:cubicBezTo>
                  <a:pt x="17513" y="15596"/>
                  <a:pt x="14937" y="18155"/>
                  <a:pt x="12169" y="18155"/>
                </a:cubicBezTo>
                <a:lnTo>
                  <a:pt x="10507" y="18155"/>
                </a:lnTo>
                <a:cubicBezTo>
                  <a:pt x="7739" y="18155"/>
                  <a:pt x="5163" y="15596"/>
                  <a:pt x="516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j0344853"/>
          <p:cNvPicPr/>
          <p:nvPr/>
        </p:nvPicPr>
        <p:blipFill>
          <a:blip r:embed="rId2"/>
          <a:stretch/>
        </p:blipFill>
        <p:spPr>
          <a:xfrm>
            <a:off x="1619280" y="4508640"/>
            <a:ext cx="1309680" cy="16524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77521E-008 L 1.38889E-006 -0.85291 E">
                                      <p:cBhvr>
                                        <p:cTn id="9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3631 C -0.01302 0.02151 -0.0243 0.07955 0.02014 0.0858 C 0.06476 0.09227 0.24132 0.00879 0.26597 0.00139 C 0.2908 -0.00578 0.18247 0.03561 0.16771 0.04209 E">
                                      <p:cBhvr>
                                        <p:cTn id="9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у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j0365295"/>
          <p:cNvPicPr/>
          <p:nvPr/>
        </p:nvPicPr>
        <p:blipFill>
          <a:blip r:embed="rId1"/>
          <a:stretch/>
        </p:blipFill>
        <p:spPr>
          <a:xfrm>
            <a:off x="179280" y="3382920"/>
            <a:ext cx="2735280" cy="26161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2700360" y="1341360"/>
            <a:ext cx="4535640" cy="2664000"/>
          </a:xfrm>
          <a:prstGeom prst="wedgeRectCallout">
            <a:avLst>
              <a:gd name="adj1" fmla="val -65574"/>
              <a:gd name="adj2" fmla="val 6656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4032000" cy="230328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7:28:17Z</dcterms:created>
  <dc:creator>олег</dc:creator>
  <dc:description/>
  <dc:language>en-US</dc:language>
  <cp:lastModifiedBy>LEGION</cp:lastModifiedBy>
  <dcterms:modified xsi:type="dcterms:W3CDTF">2015-03-30T08:53:59Z</dcterms:modified>
  <cp:revision>20</cp:revision>
  <dc:subject/>
  <dc:title>Повторим</dc:title>
</cp:coreProperties>
</file>