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D160-6479-4906-92C4-AA462846FB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шение задач. Гравитационные сил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-10 клас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Автор: Игнатова Е.С. 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Учитель физики МОУ СОШ № 16 г.Кропоткин Краснодарский кра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E643-6D2B-44F3-BD1A-A22C2C93B8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дц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9090-FFE1-4DC3-8986-1E0A70E1CF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уемые материал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Серия программного обеспечения «Умник». 10 класс. Физика. Механика и термодинамик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247E-5462-48D1-AC48-450D08919C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ронтальный опрос учащих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ует ли на человека сила притяжения к Солнц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998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9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объяснить возникновение приливов и отливов в океа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998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ите физический смысл  гравитационной постоян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998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E311-9E9C-4768-B15B-826F6A64AB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полни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колько раз изменится сила притяжения между телами с увеличением расстояния между ними в 5 раз?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ся в 5 ра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5 ра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25 ра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колько раз изменится сила притяжения между телами 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ением массы каждого из тел 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раза?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ся в 2 раз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4 раз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4 раз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5009-87E8-4F41-A718-7D400B41CC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 Во сколько раз  изменится сила притяжения между телами с увеличением расстояния между ними в 2 раза и увеличением массы одного из них в 4 раза?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ся в 8 раз 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зменится 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2 ра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колько раз изменится изменится сила притяжения между телами с уменьшением массы одного из тел в 2 раза и увеличением расстояния между ними в 2 раз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ся в 2 раза  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4 раза 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8 р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DCBF-3AC5-49E6-8D75-4D43C15A68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Реши задач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На космонавта, находящегося на поверхности Земли, действует сила 720 Н. Какая сила тяготения будет действовать на того же космонавта в космическом корабле, находящемся на расстоянии двух земных радиусов от поверхности Земл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А) 180 Н  Б) 80 Н  В) 360 Н  Г) 240 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F675-55E4-4FB6-8E81-F23CD9C989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Реши задач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Два тела массой 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кг и 2·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кг находятся друг от друга на расстояни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притягиваются с силой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Чему равна сила притяжения тел массой 2·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кг и 4·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кг, находящихся на том же расстояни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А) </a:t>
            </a: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F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      Б) 2</a:t>
            </a: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F     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В) 4</a:t>
            </a:r>
            <a:r>
              <a:rPr b="0" lang="en-US" sz="1200" spc="-1" strike="noStrike">
                <a:solidFill>
                  <a:srgbClr val="000099"/>
                </a:solidFill>
                <a:latin typeface="Calibri"/>
              </a:rPr>
              <a:t>F     </a:t>
            </a: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Г) 8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5677-4734-40CE-8C42-4552CFAD54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Реши задач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На поверхности Земли на космонавта в скафандре действует сила тяжести 1000 Н. На поверхности планеты радиусом в 2 раза меньше земного и массой в 2 раза меньше массы Земли сила тяжести, действующая на этого космонавта, будет равн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А) 500 Н  Б) 1000 Н  В) 2000 Н  Г) 4000 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9FAE-512B-4BA9-AE43-7F60F4621E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alibri"/>
              </a:rPr>
              <a:t>Реши задач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кие из приведенных утверждений верны?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А) Сила всемирного тяготения удерживает планеты на их орбитах вокруг Солнц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Б) Сила всемирного тяготения изменится, если изменить плотность одного из притягивающихся т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В) При свободном падении более тяжелое тело упадет быстрее, чем более легкое, если их сбросить с одинаковой выс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Г) Если на тело не действует сила тяжести, то тело находится в состоянии невесом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E7F3-D5A1-4E84-9F5B-6BACB2E554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Реши задач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Искусственный спутник движется по круговой орбите вблизи поверхности Земли. Трение о воздух пренебрежимо мало. Модуль ускорения спутник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А) равен 0       Б) непрерывно изменя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В) постоянен и равен ускорению свободного пад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Г) постоянен и много меньше ускорения свободного пад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2B08-5166-45FD-AC1F-9965D933AA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19B7-A629-4052-AD88-8BE98DC36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0A6D-E274-46A9-A0A0-E148A919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3199-B37C-4264-B640-8EDBAF639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322E-2132-4B9C-8562-F6502157A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3375-23B3-489B-9668-AB62BECC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FD98-C339-4343-BEF4-C0FBFACC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809D-B7CE-4DAE-8E69-F5BBAD96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D344-D9DD-4D8B-AF4A-51F41A4B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9810-4A54-4887-8C47-8037A33C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9711-8810-4BDB-BBB5-A86FEACC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57BC-97E5-49A3-817C-256F9464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2548-55AA-4987-B1B4-655B7624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DEE0-08EF-49F9-84E8-3297AC11E2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1600200" y="1219320"/>
            <a:ext cx="6172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ешение задач. Гравитационные сил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9-10 класс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втор: Игнатова Е.С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читель физики МОУ СОШ № 16 г.Кропоткин Краснодарский кр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лодц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спользуемые материал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914400" y="2362320"/>
            <a:ext cx="75484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Серия программного обеспечения «Умник». 10 класс. Физика. Механика и термодинам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64111"/>
          <p:cNvPicPr/>
          <p:nvPr/>
        </p:nvPicPr>
        <p:blipFill>
          <a:blip r:embed="rId2"/>
          <a:stretch/>
        </p:blipFill>
        <p:spPr>
          <a:xfrm>
            <a:off x="228600" y="838080"/>
            <a:ext cx="8763120" cy="29718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"/>
          <p:cNvSpPr/>
          <p:nvPr/>
        </p:nvSpPr>
        <p:spPr>
          <a:xfrm>
            <a:off x="228600" y="3710160"/>
            <a:ext cx="8701200" cy="34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ts val="998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ует ли на человека сила притяжения к Солнцу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998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998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объяснить возникновение приливов и отливов в океане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998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ите физический смысл  гравитационной постоянной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998"/>
              </a:lnSpc>
              <a:buClr>
                <a:srgbClr val="000000"/>
              </a:buClr>
              <a:buFont typeface="Times New Roman"/>
              <a:buChar char="•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1981080" y="1522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ронтальный опрос учащих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1"/>
          <p:cNvSpPr/>
          <p:nvPr/>
        </p:nvSpPr>
        <p:spPr>
          <a:xfrm>
            <a:off x="1143000" y="1066680"/>
            <a:ext cx="742968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колько раз изменится сила притяжения между телами с увеличением расстояния между ними в 5 раз?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ся в 5 ра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5 ра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457200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25 ра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457200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колько раз изменится сила притяжения между телами 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ением массы каждого из тел 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раза?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ся в 2 раз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4 раз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4 раз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2438280" y="380880"/>
            <a:ext cx="413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полни зад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3" descr="38.gif"/>
          <p:cNvPicPr/>
          <p:nvPr/>
        </p:nvPicPr>
        <p:blipFill>
          <a:blip r:embed="rId2"/>
          <a:stretch/>
        </p:blipFill>
        <p:spPr>
          <a:xfrm>
            <a:off x="1371600" y="297180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7" descr="38.gif"/>
          <p:cNvPicPr/>
          <p:nvPr/>
        </p:nvPicPr>
        <p:blipFill>
          <a:blip r:embed="rId3"/>
          <a:stretch/>
        </p:blipFill>
        <p:spPr>
          <a:xfrm>
            <a:off x="1447920" y="5867280"/>
            <a:ext cx="714240" cy="7146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2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"/>
          <p:cNvSpPr/>
          <p:nvPr/>
        </p:nvSpPr>
        <p:spPr>
          <a:xfrm>
            <a:off x="928800" y="606600"/>
            <a:ext cx="742932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 Во сколько раз  изменится сила притяжения между телами с увеличением расстояния между ними в 2 раза и увеличением массы одного из них в 4 раза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ся в 8 раз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зменится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2 ра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4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колько раз изменится изменится сила притяжения между телами с уменьшением массы одного из тел в 2 раза и увеличением расстояния между ними в 2 раз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ся в 2 раза 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4 раза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8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2" descr="38.gif"/>
          <p:cNvPicPr/>
          <p:nvPr/>
        </p:nvPicPr>
        <p:blipFill>
          <a:blip r:embed="rId2"/>
          <a:stretch/>
        </p:blipFill>
        <p:spPr>
          <a:xfrm>
            <a:off x="1066680" y="220968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3" descr="38.gif"/>
          <p:cNvPicPr/>
          <p:nvPr/>
        </p:nvPicPr>
        <p:blipFill>
          <a:blip r:embed="rId3"/>
          <a:stretch/>
        </p:blipFill>
        <p:spPr>
          <a:xfrm>
            <a:off x="990720" y="5257800"/>
            <a:ext cx="714240" cy="71424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2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Реши задач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 На космонавта, находящегося на поверхности Земли, действует сила 720 Н. Какая сила тяготения будет действовать на того же космонавта в космическом корабле, находящемся на расстоянии двух земных радиусов от поверхности Земл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А) 180 Н  Б) 80 Н  В) 360 Н  Г) 240 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2" descr="38.gif"/>
          <p:cNvPicPr/>
          <p:nvPr/>
        </p:nvPicPr>
        <p:blipFill>
          <a:blip r:embed="rId2"/>
          <a:stretch/>
        </p:blipFill>
        <p:spPr>
          <a:xfrm>
            <a:off x="3048120" y="5410080"/>
            <a:ext cx="1371600" cy="12193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Реши задач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 Два тела массой 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кг и 2·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кг находятся друг от друга на расстояни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притягиваются с силой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Чему равна сила притяжения тел массой 2·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кг и 4·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кг, находящихся на том же расстояни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А) </a:t>
            </a:r>
            <a:r>
              <a:rPr b="0" i="1" lang="ru-RU" sz="3200" spc="-1" strike="noStrike">
                <a:solidFill>
                  <a:srgbClr val="000099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     Б) 2</a:t>
            </a:r>
            <a:r>
              <a:rPr b="0" i="1" lang="ru-RU" sz="3200" spc="-1" strike="noStrike">
                <a:solidFill>
                  <a:srgbClr val="000099"/>
                </a:solidFill>
                <a:latin typeface="Arial"/>
              </a:rPr>
              <a:t>F    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В) 4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     </a:t>
            </a:r>
            <a:r>
              <a:rPr b="0" i="1" lang="ru-RU" sz="3200" spc="-1" strike="noStrike">
                <a:solidFill>
                  <a:srgbClr val="000099"/>
                </a:solidFill>
                <a:latin typeface="Arial"/>
              </a:rPr>
              <a:t>Г) 8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2" descr="38.gif"/>
          <p:cNvPicPr/>
          <p:nvPr/>
        </p:nvPicPr>
        <p:blipFill>
          <a:blip r:embed="rId2"/>
          <a:stretch/>
        </p:blipFill>
        <p:spPr>
          <a:xfrm>
            <a:off x="4800600" y="525780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Реши задач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 На поверхности Земли на космонавта в скафандре действует сила тяжести 1000 Н. На поверхности планеты радиусом в 2 раза меньше земного и массой в 2 раза меньше массы Земли сила тяжести, действующая на этого космонавта, будет равн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А) 500 Н  Б) 1000 Н  В) 2000 Н  Г) 4000 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2" descr="38.gif"/>
          <p:cNvPicPr/>
          <p:nvPr/>
        </p:nvPicPr>
        <p:blipFill>
          <a:blip r:embed="rId2"/>
          <a:stretch/>
        </p:blipFill>
        <p:spPr>
          <a:xfrm>
            <a:off x="5029200" y="5562720"/>
            <a:ext cx="1095480" cy="109512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Реши задач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Какие из приведенных утверждений верны?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А) Сила всемирного тяготения удерживает планеты на их орбитах вокруг Солнц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Б) Сила всемирного тяготения изменится, если изменить плотность одного из притягивающихся т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) При свободном падении более тяжелое тело упадет быстрее, чем более легкое, если их сбросить с одинаковой выс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Г) Если на тело не действует сила тяжести, то тело находится в состоянии невесом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2" descr="38.gif"/>
          <p:cNvPicPr/>
          <p:nvPr/>
        </p:nvPicPr>
        <p:blipFill>
          <a:blip r:embed="rId2"/>
          <a:stretch/>
        </p:blipFill>
        <p:spPr>
          <a:xfrm>
            <a:off x="8077320" y="243828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2" descr="38.gif"/>
          <p:cNvPicPr/>
          <p:nvPr/>
        </p:nvPicPr>
        <p:blipFill>
          <a:blip r:embed="rId3"/>
          <a:stretch/>
        </p:blipFill>
        <p:spPr>
          <a:xfrm>
            <a:off x="8077320" y="3505320"/>
            <a:ext cx="866520" cy="71424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Реши задач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 Искусственный спутник движется по круговой орбите вблизи поверхности Земли. Трение о воздух пренебрежимо мало. Модуль ускорения спутни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А) равен 0       Б) непрерывно изменя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В) постоянен и равен ускорению свободного пад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Г) постоянен и много меньше ускорения свободного пад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2" descr="38.gif"/>
          <p:cNvPicPr/>
          <p:nvPr/>
        </p:nvPicPr>
        <p:blipFill>
          <a:blip r:embed="rId2"/>
          <a:stretch/>
        </p:blipFill>
        <p:spPr>
          <a:xfrm>
            <a:off x="7162920" y="426708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457200" y="274680"/>
            <a:ext cx="82296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0T08:54:52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