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681A-7676-4E66-B073-A520B680FB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втор: Игнатова Е.С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E1DE-AF7A-4ED1-BDBA-5B961ACA7B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B764-ABC5-437B-B0CC-39BD0DA900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92A0-D355-4749-894A-15D0771AEF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60ED-4EBC-465E-BD75-0DD5FF310B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32BB-B420-4452-BA58-6514466E10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0004-0622-49AD-9998-81BD16623D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180 Н  Б) 80 Н  В) 360 Н  Г) 240 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1136-461F-4C2B-BD61-235B4873D1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Два тела масс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находятся друг от друга на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итягиваются с сил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ему равна сила притяжения тел массой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4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, находящихся на том же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  Б) 2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4</a:t>
            </a:r>
            <a:r>
              <a:rPr b="0" lang="en-US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Г) 8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2E81-032B-4EE2-8BEC-33651238A7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500 Н  Б) 1000 Н  В) 2000 Н  Г) 4000 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A707-C518-4A71-9C6C-69877E4113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из приведенных утверждений верны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Сила всемирного тяготения удерживает планеты на их орбитах вокруг Солн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Если на тело не действует сила тяжести, то тело находится в состоянии невесо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38D7-DFBC-47D4-9837-D63D9AB1F0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равен 0       Б) непрерывно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остоянен и равен ускорению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постоянен и много меньше ускорения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E466-364B-4FF3-9F64-4A48446DEE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55F-E8E3-478C-8BDE-BF8F569D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F08-3C07-4805-BD52-CBCFAB4C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A6C-9A96-4134-A710-26EDE573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085-4E15-4195-B8B3-4CCE3EE3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041-7898-4E28-8AA0-169C1AEE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1DB-9B5A-4135-BC13-FE02F42D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7A6-5062-4926-B9EC-4E8816E2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D2A-4DFA-4B7F-964B-556025E9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C61-5ACB-4368-AD07-F474F186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194-4AC6-4F6B-97C4-5EEE263C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9D0-7705-468C-9BAD-7B30E0F7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C21-B106-4855-90A6-53D8132A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8EFD-98B6-43B1-8F79-6786220241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600200" y="121932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втор: Игнатова Е.С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914400" y="2362320"/>
            <a:ext cx="75484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64111"/>
          <p:cNvPicPr/>
          <p:nvPr/>
        </p:nvPicPr>
        <p:blipFill>
          <a:blip r:embed="rId2"/>
          <a:stretch/>
        </p:blipFill>
        <p:spPr>
          <a:xfrm>
            <a:off x="228600" y="838080"/>
            <a:ext cx="8763120" cy="2971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28600" y="3710160"/>
            <a:ext cx="87012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981080" y="152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1143000" y="1066680"/>
            <a:ext cx="74296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438280" y="380880"/>
            <a:ext cx="41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38.gif"/>
          <p:cNvPicPr/>
          <p:nvPr/>
        </p:nvPicPr>
        <p:blipFill>
          <a:blip r:embed="rId2"/>
          <a:stretch/>
        </p:blipFill>
        <p:spPr>
          <a:xfrm>
            <a:off x="1371600" y="29718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38.gif"/>
          <p:cNvPicPr/>
          <p:nvPr/>
        </p:nvPicPr>
        <p:blipFill>
          <a:blip r:embed="rId3"/>
          <a:stretch/>
        </p:blipFill>
        <p:spPr>
          <a:xfrm>
            <a:off x="1447920" y="586728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928800" y="606600"/>
            <a:ext cx="7429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38.gif"/>
          <p:cNvPicPr/>
          <p:nvPr/>
        </p:nvPicPr>
        <p:blipFill>
          <a:blip r:embed="rId2"/>
          <a:stretch/>
        </p:blipFill>
        <p:spPr>
          <a:xfrm>
            <a:off x="1066680" y="22096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38.gif"/>
          <p:cNvPicPr/>
          <p:nvPr/>
        </p:nvPicPr>
        <p:blipFill>
          <a:blip r:embed="rId3"/>
          <a:stretch/>
        </p:blipFill>
        <p:spPr>
          <a:xfrm>
            <a:off x="990720" y="525780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180 Н  Б) 80 Н  В) 360 Н  Г) 240 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38.gif"/>
          <p:cNvPicPr/>
          <p:nvPr/>
        </p:nvPicPr>
        <p:blipFill>
          <a:blip r:embed="rId2"/>
          <a:stretch/>
        </p:blipFill>
        <p:spPr>
          <a:xfrm>
            <a:off x="3048120" y="5410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Два тела масс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находятся друг от друга на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итягиваются с сило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ему равна сила притяжения тел массой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4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, находящихся на том же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Б) 2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Г) 8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38.gif"/>
          <p:cNvPicPr/>
          <p:nvPr/>
        </p:nvPicPr>
        <p:blipFill>
          <a:blip r:embed="rId2"/>
          <a:stretch/>
        </p:blipFill>
        <p:spPr>
          <a:xfrm>
            <a:off x="4800600" y="5257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500 Н  Б) 1000 Н  В) 2000 Н  Г) 4000 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38.gif"/>
          <p:cNvPicPr/>
          <p:nvPr/>
        </p:nvPicPr>
        <p:blipFill>
          <a:blip r:embed="rId2"/>
          <a:stretch/>
        </p:blipFill>
        <p:spPr>
          <a:xfrm>
            <a:off x="5029200" y="556272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ие из приведенных утверждений верны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) Сила всемирного тяготения удерживает планеты на их орбитах вокруг Сол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) Если на тело не действует сила тяжести, то тело находится в состоянии невесо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38.gif"/>
          <p:cNvPicPr/>
          <p:nvPr/>
        </p:nvPicPr>
        <p:blipFill>
          <a:blip r:embed="rId2"/>
          <a:stretch/>
        </p:blipFill>
        <p:spPr>
          <a:xfrm>
            <a:off x="8077320" y="2438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38.gif"/>
          <p:cNvPicPr/>
          <p:nvPr/>
        </p:nvPicPr>
        <p:blipFill>
          <a:blip r:embed="rId3"/>
          <a:stretch/>
        </p:blipFill>
        <p:spPr>
          <a:xfrm>
            <a:off x="8077320" y="3505320"/>
            <a:ext cx="866520" cy="71424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равен 0       Б) непрерывно измен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постоянен и равен ускорению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) постоянен и много меньше ускорения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38.gif"/>
          <p:cNvPicPr/>
          <p:nvPr/>
        </p:nvPicPr>
        <p:blipFill>
          <a:blip r:embed="rId2"/>
          <a:stretch/>
        </p:blipFill>
        <p:spPr>
          <a:xfrm>
            <a:off x="7162920" y="42670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57200" y="27468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54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