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74060-64D3-408F-A9C3-5B37D5CB39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D20C4-F751-4A75-8B84-BFA8689DEC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Автор презентации: Шамбергер Дарья Александр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Место работы:МОУ СОШ №2 сельского поселения «Село Хурба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Должность: учитель физики и информатик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 квалификационной катег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BB192-7693-4222-8638-DE212D3617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Impact"/>
              </a:rPr>
              <a:t>РЕШЕНИЕ УРАВН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Impact"/>
              </a:rPr>
              <a:t>И СИСТЕМ УРАВН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Уравнение – равенство с одной или несколькими неизвестными. Значение неизвестной, при которой получается верное неравенство, называется </a:t>
            </a:r>
            <a:r>
              <a:rPr b="1" i="1" lang="ru-RU" sz="1200" spc="-1" strike="noStrike">
                <a:solidFill>
                  <a:srgbClr val="000099"/>
                </a:solidFill>
                <a:latin typeface="Arial"/>
              </a:rPr>
              <a:t>корнем уравн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99"/>
                </a:solidFill>
                <a:latin typeface="Arial"/>
              </a:rPr>
              <a:t>Решить систему уравнений –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значит найти множество всех пар значений переменных, при подстановке которых оба уравнения системы обращаются в верные равенства. Это множество называется </a:t>
            </a:r>
            <a:r>
              <a:rPr b="1" i="1" lang="ru-RU" sz="1200" spc="-1" strike="noStrike">
                <a:solidFill>
                  <a:srgbClr val="000099"/>
                </a:solidFill>
                <a:latin typeface="Arial"/>
              </a:rPr>
              <a:t>решением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1B529-FFC2-4DC6-A984-40EDCAAE16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Линейное уравн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равнение вида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x=b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– некоторые числа, а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переменная, называется линейным уравнением (при а    0; х=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/a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вадратное урав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равнение вида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bx+c=0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х-переменная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,b,c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– любые числа, причем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    0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называется квадратным уравнени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рни квадратного уравнения находятся по формул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 условии, чт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EA53E-EE17-466B-BD89-7AB2BBE663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Impact"/>
              </a:rPr>
              <a:t>Линейная функция и ее граф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ункция у=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x+b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где х и у – переменные, а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– любые действительные числа, называется 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линейной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График линейной функции – 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пряма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Для его построения достаточно знать координаты двух точек, принадлежащих графи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=0, то у=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График этой функции – прямая, параллельная оси х, проходящая через точку А(0,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223B2-BF07-41B3-9F3E-50C2BF5316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=0, то у=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x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график такой функции – прямая, проходящая через начало координат и точку А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,k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). Тогда график функции у=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x+b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– прямая, параллельная графику у=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x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 проходящая через точк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(0,b)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FD0C8-E957-4941-9AAB-946F06A853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Impact"/>
              </a:rPr>
              <a:t>График обратно пропорциональной 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ли для любой пары соответственных значений переменных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произведение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ху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равно одному и тому же числу, отличному от нуля, то переменная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обратно пропорциональн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; ху=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 (k-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исло, не равное 0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ли у=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/x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A4FF4-D110-4173-A0EC-DA39906E07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99"/>
                </a:solidFill>
                <a:uFillTx/>
                <a:latin typeface="Arial Black"/>
              </a:rPr>
              <a:t>Обратите вним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Если по условию параметры состояния газа не изменяются, запишите уравнение Менделеева-Клапейрона и выразите неизвестную величин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Если по условию даны два или несколько состояний газа, то при решении задач рекомендуется соблюдать последовательнос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Параметры состояния газа (как данные, так и искомые) запишите по форм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Запишите уравнение Менделеева-Клапейрона для каждого состояния, дополнительные условия, решите систему уравнений относительно искомой велич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AEF71-A3EC-4BFF-8778-1049FDAA95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 цилиндре под поршнем находится воздух. Вес поршня Р=60 Н, площадь цилиндра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=20см2, атмосферное давление р</a:t>
            </a:r>
            <a:r>
              <a:rPr b="1" i="1" lang="ru-RU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=10</a:t>
            </a:r>
            <a:r>
              <a:rPr b="1" i="1" lang="ru-RU" sz="1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Па. Груз какого веса надо положить на поршень, чтобы объем воздуха в цилиндре уменьшился в два раза? Трение не учитывайте, температура постоянн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69C44-2CE8-4AEC-AAE2-E69B5193A7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 цилиндре под поршнем находится воздух. Вес поршня Р=60 Н, площадь цилиндра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=20см</a:t>
            </a:r>
            <a:r>
              <a:rPr b="1" i="1" lang="ru-RU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, атмосферное давление р</a:t>
            </a:r>
            <a:r>
              <a:rPr b="1" i="1" lang="ru-RU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=10</a:t>
            </a:r>
            <a:r>
              <a:rPr b="1" i="1" lang="ru-RU" sz="1200" spc="-1" strike="noStrike" baseline="30000">
                <a:solidFill>
                  <a:srgbClr val="000000"/>
                </a:solidFill>
                <a:latin typeface="Arial"/>
              </a:rPr>
              <a:t>5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а. Груз какого веса надо положить на поршень, чтобы объем воздуха в цилиндре уменьшился в два раза? Трение не учитывайте, температура постоянн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1753C-C32A-41EA-99E3-E8EA0F6292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/S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давление поршня;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/S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давление груз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огласно закону Бойля-Мариотта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=p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+P/S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)V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=(p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+P/S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+P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/S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)(V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/2)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Отсю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=p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+P=260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(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=260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Объем пузырька газа, всплывшего со дна озера на поверхность, увеличился в три раза. Какова глубина озер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95B01-7910-4BF3-BED8-86E497C269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6352E-0153-4695-B072-2D0DB4DA17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ИЗОПРОЦЕС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В связи с тем, что масса газа и его температура не изменяются, воспользуемся уравнением изотермического процесса </a:t>
            </a: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 Black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V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 Black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=p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V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(p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Arial Black"/>
              </a:rPr>
              <a:t>а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+      </a:t>
            </a: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  gh)V=p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Arial Black"/>
              </a:rPr>
              <a:t>а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*3</a:t>
            </a: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Выразите </a:t>
            </a: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h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и подставьте зна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Проверьте результа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Ответ: </a:t>
            </a: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h=20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C990D-EAA7-426D-B815-D78F6BCAD4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27ED2-D584-41DD-8D5F-606DA14B06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Impact"/>
              </a:rPr>
              <a:t>Тест "Изопроцессы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Как изменится давление идеального газа при увеличении температуры и объема газа в 4 раз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9F90-3B24-4022-AD05-F36B2D041C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В одинаковых сосудах при одинаковой температуре находятся водород (Н</a:t>
            </a:r>
            <a:r>
              <a:rPr b="0" i="1" lang="ru-RU" sz="12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) и углекислый газ (СО</a:t>
            </a:r>
            <a:r>
              <a:rPr b="0" i="1" lang="ru-RU" sz="12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). Массы газов одинаковы. Какой из газов и во сколько раз оказывает большее давление на стенки сосуд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BF3A7-AF10-4AC0-BDAD-99D4ED345A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 Black"/>
              </a:rPr>
              <a:t>Какому процессу соответствует график, изображенный на рисунк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10244-F859-4DFD-9327-A7BFCB6255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Во сколько раз изменится давление воздуха в цилиндре (рис), если поршень переместить на </a:t>
            </a:r>
            <a:r>
              <a:rPr b="0" i="1" lang="en-US" sz="1200" spc="-1" strike="noStrike">
                <a:solidFill>
                  <a:srgbClr val="000000"/>
                </a:solidFill>
                <a:latin typeface="Arial Black"/>
              </a:rPr>
              <a:t>L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/3 влево</a:t>
            </a:r>
            <a:r>
              <a:rPr b="1" i="1" lang="ru-RU" sz="12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BB269-C8AE-4A1E-AABD-0A15D430DC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Во сколько раз отличается плотность метана (СР4) от плотности кислорода (О2) при одинаковых условиях</a:t>
            </a:r>
            <a:r>
              <a:rPr b="1" i="1" lang="ru-RU" sz="12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D8207-1F5C-41AF-9758-58CC1E804B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Результ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он, А.Е. Физика. Законы, формулы, алгоритмы решения задач: материалы для подготовки к единому государственному экзамену и вступительным экзаменам в аузы/ А.Е.Марон, Д.Н.Городецкий, В.Е.Марон, Е.А.Марон; под ред.А.Е.Марона.-М.:Дрофа, 200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сьянов, В.А. Физика.10кл.:Учебн.для общеобразоват.учеб.заведений.-3-е изд. – М.:Дрофа,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он, А.Е. Физика. 10класс: дидактические материалы/А.Е.Марон, Е.А.Марон.-6-е изд.-М.:Дрофа, 200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1454A-49F5-4DAF-9515-16ED7D44C2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E9B35-A665-4BFC-BCB7-067B686703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A92C2-60C9-4900-A9BF-AEB655F795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99"/>
                </a:solidFill>
                <a:uFillTx/>
                <a:latin typeface="Arial Black"/>
              </a:rPr>
              <a:t>Изопроцесс</a:t>
            </a:r>
            <a:r>
              <a:rPr b="0" lang="ru-RU" sz="12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– процесс, при котором один из макроскопических параметров состояния данной массы газа остается постоянны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Макроскопические параметры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 – 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параметры характеризующие макросистему: давление, температура, объем (</a:t>
            </a:r>
            <a:r>
              <a:rPr b="0" i="1" lang="en-US" sz="1200" spc="-1" strike="noStrike">
                <a:solidFill>
                  <a:srgbClr val="000000"/>
                </a:solidFill>
                <a:latin typeface="Arial Black"/>
              </a:rPr>
              <a:t>P,V,T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058F8-4B11-47A0-83A9-962D49A76E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99"/>
                </a:solidFill>
                <a:uFillTx/>
                <a:latin typeface="Arial Black"/>
              </a:rPr>
              <a:t>Изотермически</a:t>
            </a:r>
            <a:r>
              <a:rPr b="0" lang="ru-RU" sz="1200" spc="-1" strike="noStrike" u="sng">
                <a:solidFill>
                  <a:srgbClr val="000099"/>
                </a:solidFill>
                <a:uFillTx/>
                <a:latin typeface="Arial Black"/>
              </a:rPr>
              <a:t>	</a:t>
            </a:r>
            <a:r>
              <a:rPr b="0" lang="ru-RU" sz="1200" spc="-1" strike="noStrike" u="sng">
                <a:solidFill>
                  <a:srgbClr val="000099"/>
                </a:solidFill>
                <a:uFillTx/>
                <a:latin typeface="Arial Black"/>
              </a:rPr>
              <a:t>й процесс (закон Бойля-Мариотта)</a:t>
            </a:r>
            <a:r>
              <a:rPr b="0" lang="ru-RU" sz="12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– процесс изменения состояния определенной массы газа при постоянной температур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При изотермическом процессе Т=</a:t>
            </a:r>
            <a:r>
              <a:rPr b="0" i="1" lang="en-US" sz="1200" spc="-1" strike="noStrike">
                <a:solidFill>
                  <a:srgbClr val="000099"/>
                </a:solidFill>
                <a:latin typeface="Arial Black"/>
              </a:rPr>
              <a:t>const</a:t>
            </a: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, </a:t>
            </a:r>
            <a:r>
              <a:rPr b="0" i="1" lang="en-US" sz="1200" spc="-1" strike="noStrike">
                <a:solidFill>
                  <a:srgbClr val="000099"/>
                </a:solidFill>
                <a:latin typeface="Arial Black"/>
              </a:rPr>
              <a:t>m= const</a:t>
            </a: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D058A-EA6C-44F2-A562-DCF8AD8A55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99"/>
                </a:solidFill>
                <a:uFillTx/>
                <a:latin typeface="Arial Black"/>
              </a:rPr>
              <a:t>Изобарный процесс(закон Гей-Люссака)</a:t>
            </a:r>
            <a:r>
              <a:rPr b="0" lang="ru-RU" sz="12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– процесс изменения состояния определенной массы газа при постоянном давле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При изобарном процессе </a:t>
            </a:r>
            <a:r>
              <a:rPr b="0" i="1" lang="en-US" sz="1200" spc="-1" strike="noStrike">
                <a:solidFill>
                  <a:srgbClr val="000099"/>
                </a:solidFill>
                <a:latin typeface="Arial Black"/>
              </a:rPr>
              <a:t>p</a:t>
            </a: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=</a:t>
            </a:r>
            <a:r>
              <a:rPr b="0" i="1" lang="en-US" sz="1200" spc="-1" strike="noStrike">
                <a:solidFill>
                  <a:srgbClr val="000099"/>
                </a:solidFill>
                <a:latin typeface="Arial Black"/>
              </a:rPr>
              <a:t>const</a:t>
            </a: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, </a:t>
            </a:r>
            <a:r>
              <a:rPr b="0" i="1" lang="en-US" sz="1200" spc="-1" strike="noStrike">
                <a:solidFill>
                  <a:srgbClr val="000099"/>
                </a:solidFill>
                <a:latin typeface="Arial Black"/>
              </a:rPr>
              <a:t>m= const</a:t>
            </a: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98C04-4A36-41A1-991F-D32BE3FDD8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99"/>
                </a:solidFill>
                <a:uFillTx/>
                <a:latin typeface="Arial Black"/>
              </a:rPr>
              <a:t>Изохорный процесс(закон Шарля)</a:t>
            </a:r>
            <a:r>
              <a:rPr b="0" lang="ru-RU" sz="12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– процесс изменения состояния определенной массы газа при постоянном объе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При изохорном процессе </a:t>
            </a:r>
            <a:r>
              <a:rPr b="0" i="1" lang="en-US" sz="1200" spc="-1" strike="noStrike">
                <a:solidFill>
                  <a:srgbClr val="000099"/>
                </a:solidFill>
                <a:latin typeface="Arial Black"/>
              </a:rPr>
              <a:t>V</a:t>
            </a: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=</a:t>
            </a:r>
            <a:r>
              <a:rPr b="0" i="1" lang="en-US" sz="1200" spc="-1" strike="noStrike">
                <a:solidFill>
                  <a:srgbClr val="000099"/>
                </a:solidFill>
                <a:latin typeface="Arial Black"/>
              </a:rPr>
              <a:t>const</a:t>
            </a: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, </a:t>
            </a:r>
            <a:r>
              <a:rPr b="0" i="1" lang="en-US" sz="1200" spc="-1" strike="noStrike">
                <a:solidFill>
                  <a:srgbClr val="000099"/>
                </a:solidFill>
                <a:latin typeface="Arial Black"/>
              </a:rPr>
              <a:t>m= const</a:t>
            </a: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24A50-FEFF-4821-A5FD-22AABA6084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ГРАФИКИ ИЗМЕН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МАКРОСКОПИЧЕСКИХ ПАРАМЕТ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F6A35-E5C7-4100-9250-CF5EECE66B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РЕШЕНИЕ ЗАДА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99"/>
                </a:solidFill>
                <a:uFillTx/>
                <a:latin typeface="Arial Black"/>
              </a:rPr>
              <a:t>Необходимо знать из курса математики</a:t>
            </a:r>
            <a:r>
              <a:rPr b="0" lang="ru-RU" sz="1200" spc="-1" strike="noStrike">
                <a:solidFill>
                  <a:srgbClr val="000099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Решение уравнений и систем уравн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Линейная функция и ее граф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График обратно пропорциональной завис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1AB8-029F-466D-BC2D-C468E6E66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6A5D-9E60-44F4-AEF3-5FA4DA07E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F181-DE4B-479A-B39A-52FD16D27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87F2-7972-49A0-9549-78205B640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B3A2-8D39-4BE2-AC9D-9AAA2C568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88B6-05C4-4578-B1D5-809980A0D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F382-0BE9-480C-BD28-76D586C39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0696-73F5-403E-8055-E9DFD5CF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94E7-9CB4-4240-919A-6AE9CCA17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DDEC-F77E-40FC-95C1-62C495F7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593A-6B93-4ACC-8D01-B77E2A40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4E02-4423-4B00-A0A5-96AB6696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7F7EA-7370-4917-B238-E7D7C7BC0E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3.xml"/><Relationship Id="rId3" Type="http://schemas.openxmlformats.org/officeDocument/2006/relationships/slide" Target="slide21.xml"/><Relationship Id="rId4" Type="http://schemas.openxmlformats.org/officeDocument/2006/relationships/slide" Target="slide2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" Target="slide6.xml"/><Relationship Id="rId5" Type="http://schemas.openxmlformats.org/officeDocument/2006/relationships/image" Target="../media/image3.wmf"/><Relationship Id="rId6" Type="http://schemas.openxmlformats.org/officeDocument/2006/relationships/slide" Target="slide7.xml"/><Relationship Id="rId7" Type="http://schemas.openxmlformats.org/officeDocument/2006/relationships/image" Target="../media/image3.wmf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slide" Target="slide8.xml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2204640"/>
            <a:ext cx="842472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0" y="642960"/>
            <a:ext cx="8964720" cy="62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Автор презентации: Шамбергер Дарья Александр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Место работы:МОУ СОШ №2 сельского поселения «Село Хурба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Должность: учитель физики и информати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 квалификационной катег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79280" y="836640"/>
            <a:ext cx="896472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равнение – равенство с одной или несколькими неизвестными. Значение неизвестной, при которой получается верное неравенство, называется </a:t>
            </a: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корнем уравн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Решить систему уравнений –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начит найти множество всех пар значений переменных, при подстановке которых оба уравнения системы обращаются в верные равенства. Это множество называется </a:t>
            </a: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решением сист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WordArt 4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ШЕНИЕ УРАВНЕНИЙ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 СИСТЕМ УРАВНЕНИЙ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79280" y="691920"/>
            <a:ext cx="896472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Линейное уравн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равнение вид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x=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некоторые числа, 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переменная, называется линейным уравнением (при а    0; х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/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Квадратное урав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равнение вид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bx+c=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х-переменная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,b,c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любые числа, причем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    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называется квадратным уравне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рни квадратного уравнения находятся по форму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 условии, ч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WordArt 4"/>
          <p:cNvSpPr txBox="1"/>
          <p:nvPr/>
        </p:nvSpPr>
        <p:spPr>
          <a:xfrm>
            <a:off x="1584360" y="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ШЕНИЕ УРАВНЕНИЙ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 СИСТЕМ УРАВНЕНИЙ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6"/>
              <p:cNvSpPr txBox="1"/>
              <p:nvPr/>
            </p:nvSpPr>
            <p:spPr>
              <a:xfrm>
                <a:off x="3851280" y="1916280"/>
                <a:ext cx="5047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9"/>
              <p:cNvSpPr txBox="1"/>
              <p:nvPr/>
            </p:nvSpPr>
            <p:spPr>
              <a:xfrm>
                <a:off x="5146560" y="3213000"/>
                <a:ext cx="50508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7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10"/>
              <p:cNvSpPr txBox="1"/>
              <p:nvPr/>
            </p:nvSpPr>
            <p:spPr>
              <a:xfrm>
                <a:off x="2411280" y="4869000"/>
                <a:ext cx="3961080" cy="13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12"/>
              <p:cNvSpPr txBox="1"/>
              <p:nvPr/>
            </p:nvSpPr>
            <p:spPr>
              <a:xfrm>
                <a:off x="3564000" y="6110280"/>
                <a:ext cx="205416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AutoShape 14"/>
          <p:cNvSpPr/>
          <p:nvPr/>
        </p:nvSpPr>
        <p:spPr>
          <a:xfrm>
            <a:off x="8028000" y="6021360"/>
            <a:ext cx="1116000" cy="836640"/>
          </a:xfrm>
          <a:custGeom>
            <a:avLst/>
            <a:gdLst>
              <a:gd name="textAreaLeft" fmla="*/ 54000 w 1116000"/>
              <a:gd name="textAreaRight" fmla="*/ 1062000 w 1116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8809" h="21600">
                <a:moveTo>
                  <a:pt x="0" y="0"/>
                </a:moveTo>
                <a:lnTo>
                  <a:pt x="28809" y="0"/>
                </a:lnTo>
                <a:lnTo>
                  <a:pt x="28809" y="21600"/>
                </a:lnTo>
                <a:lnTo>
                  <a:pt x="0" y="21600"/>
                </a:lnTo>
                <a:close/>
              </a:path>
              <a:path fill="lightenLess" w="28809" h="21600">
                <a:moveTo>
                  <a:pt x="0" y="0"/>
                </a:moveTo>
                <a:lnTo>
                  <a:pt x="28809" y="0"/>
                </a:lnTo>
                <a:lnTo>
                  <a:pt x="27409" y="1400"/>
                </a:lnTo>
                <a:lnTo>
                  <a:pt x="1400" y="1400"/>
                </a:lnTo>
                <a:close/>
              </a:path>
              <a:path fill="darken" w="28809" h="21600">
                <a:moveTo>
                  <a:pt x="28809" y="0"/>
                </a:moveTo>
                <a:lnTo>
                  <a:pt x="28809" y="21600"/>
                </a:lnTo>
                <a:lnTo>
                  <a:pt x="27409" y="20200"/>
                </a:lnTo>
                <a:lnTo>
                  <a:pt x="27409" y="1400"/>
                </a:lnTo>
                <a:close/>
              </a:path>
              <a:path fill="darkenLess" w="28809" h="21600">
                <a:moveTo>
                  <a:pt x="28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9" y="20200"/>
                </a:lnTo>
                <a:close/>
              </a:path>
              <a:path fill="lighten" w="28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9" h="21600">
                <a:moveTo>
                  <a:pt x="14405" y="3837"/>
                </a:moveTo>
                <a:lnTo>
                  <a:pt x="16981" y="6448"/>
                </a:ln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lnTo>
                  <a:pt x="21368" y="10800"/>
                </a:lnTo>
                <a:lnTo>
                  <a:pt x="19714" y="10800"/>
                </a:lnTo>
                <a:lnTo>
                  <a:pt x="19714" y="17989"/>
                </a:lnTo>
                <a:lnTo>
                  <a:pt x="9095" y="17989"/>
                </a:lnTo>
                <a:lnTo>
                  <a:pt x="9095" y="10800"/>
                </a:lnTo>
                <a:lnTo>
                  <a:pt x="7442" y="10800"/>
                </a:lnTo>
                <a:close/>
              </a:path>
              <a:path fill="darkenLess" w="28809" h="21600">
                <a:moveTo>
                  <a:pt x="16981" y="6448"/>
                </a:move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close/>
              </a:path>
              <a:path fill="darkenLess" w="28809" h="21600">
                <a:moveTo>
                  <a:pt x="13482" y="14299"/>
                </a:moveTo>
                <a:lnTo>
                  <a:pt x="15327" y="14299"/>
                </a:lnTo>
                <a:lnTo>
                  <a:pt x="15327" y="17989"/>
                </a:lnTo>
                <a:lnTo>
                  <a:pt x="19714" y="17989"/>
                </a:lnTo>
                <a:lnTo>
                  <a:pt x="19714" y="10800"/>
                </a:lnTo>
                <a:lnTo>
                  <a:pt x="9095" y="10800"/>
                </a:lnTo>
                <a:lnTo>
                  <a:pt x="9095" y="17989"/>
                </a:lnTo>
                <a:lnTo>
                  <a:pt x="13482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250560" y="691920"/>
            <a:ext cx="889308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ункция у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x+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где х и у – переменные, 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любые действительные числа, называется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линейно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График линейной функции –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пряма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Для его построения достаточно знать координаты двух точек, принадлежащих графи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0, то у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График этой функции – прямая, параллельная оси х, проходящая через точку А(0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WordArt 4"/>
          <p:cNvSpPr txBox="1"/>
          <p:nvPr/>
        </p:nvSpPr>
        <p:spPr>
          <a:xfrm>
            <a:off x="1042920" y="49320"/>
            <a:ext cx="70581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инейная функция и ее график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75" name="Group 14"/>
          <p:cNvGrpSpPr/>
          <p:nvPr/>
        </p:nvGrpSpPr>
        <p:grpSpPr>
          <a:xfrm>
            <a:off x="3780000" y="4724280"/>
            <a:ext cx="2952720" cy="2133720"/>
            <a:chOff x="3780000" y="4724280"/>
            <a:chExt cx="2952720" cy="2133720"/>
          </a:xfrm>
        </p:grpSpPr>
        <p:sp>
          <p:nvSpPr>
            <p:cNvPr id="176" name="Line 5"/>
            <p:cNvSpPr/>
            <p:nvPr/>
          </p:nvSpPr>
          <p:spPr>
            <a:xfrm flipV="1">
              <a:off x="4283280" y="4724280"/>
              <a:ext cx="0" cy="187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Group 13"/>
            <p:cNvGrpSpPr/>
            <p:nvPr/>
          </p:nvGrpSpPr>
          <p:grpSpPr>
            <a:xfrm>
              <a:off x="3780000" y="4724280"/>
              <a:ext cx="2952720" cy="2133720"/>
              <a:chOff x="3780000" y="4724280"/>
              <a:chExt cx="2952720" cy="2133720"/>
            </a:xfrm>
          </p:grpSpPr>
          <p:sp>
            <p:nvSpPr>
              <p:cNvPr id="178" name="Line 6"/>
              <p:cNvSpPr/>
              <p:nvPr/>
            </p:nvSpPr>
            <p:spPr>
              <a:xfrm>
                <a:off x="4283280" y="6597720"/>
                <a:ext cx="2160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Line 7"/>
              <p:cNvSpPr/>
              <p:nvPr/>
            </p:nvSpPr>
            <p:spPr>
              <a:xfrm>
                <a:off x="3996000" y="5734080"/>
                <a:ext cx="2087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8"/>
              <p:cNvSpPr/>
              <p:nvPr/>
            </p:nvSpPr>
            <p:spPr>
              <a:xfrm>
                <a:off x="4716720" y="5300640"/>
                <a:ext cx="86364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У=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9"/>
              <p:cNvSpPr/>
              <p:nvPr/>
            </p:nvSpPr>
            <p:spPr>
              <a:xfrm>
                <a:off x="3780000" y="5300640"/>
                <a:ext cx="50508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10"/>
              <p:cNvSpPr/>
              <p:nvPr/>
            </p:nvSpPr>
            <p:spPr>
              <a:xfrm>
                <a:off x="3780000" y="4724280"/>
                <a:ext cx="57636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11"/>
              <p:cNvSpPr/>
              <p:nvPr/>
            </p:nvSpPr>
            <p:spPr>
              <a:xfrm>
                <a:off x="3924720" y="6497640"/>
                <a:ext cx="36036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12"/>
              <p:cNvSpPr/>
              <p:nvPr/>
            </p:nvSpPr>
            <p:spPr>
              <a:xfrm>
                <a:off x="6444000" y="6497640"/>
                <a:ext cx="28872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0, то у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x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график такой функции – прямая, проходящая через начало координат и точку А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,k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. Тогда график функции у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x+b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прямая, параллельная графику у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x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и проходящая через точку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(0,b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WordArt 4"/>
          <p:cNvSpPr txBox="1"/>
          <p:nvPr/>
        </p:nvSpPr>
        <p:spPr>
          <a:xfrm>
            <a:off x="1042920" y="49320"/>
            <a:ext cx="70581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инейная функция и ее график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8" name="Line 5"/>
          <p:cNvSpPr/>
          <p:nvPr/>
        </p:nvSpPr>
        <p:spPr>
          <a:xfrm flipV="1">
            <a:off x="4140360" y="3789000"/>
            <a:ext cx="0" cy="259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7"/>
          <p:cNvSpPr/>
          <p:nvPr/>
        </p:nvSpPr>
        <p:spPr>
          <a:xfrm>
            <a:off x="3132000" y="5950080"/>
            <a:ext cx="324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8"/>
          <p:cNvSpPr/>
          <p:nvPr/>
        </p:nvSpPr>
        <p:spPr>
          <a:xfrm flipH="1">
            <a:off x="3850920" y="4365720"/>
            <a:ext cx="1584360" cy="19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9"/>
          <p:cNvSpPr/>
          <p:nvPr/>
        </p:nvSpPr>
        <p:spPr>
          <a:xfrm flipH="1">
            <a:off x="3276360" y="4221000"/>
            <a:ext cx="1584360" cy="194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0"/>
          <p:cNvSpPr/>
          <p:nvPr/>
        </p:nvSpPr>
        <p:spPr>
          <a:xfrm>
            <a:off x="4140360" y="450864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1"/>
          <p:cNvSpPr/>
          <p:nvPr/>
        </p:nvSpPr>
        <p:spPr>
          <a:xfrm>
            <a:off x="5364000" y="450864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2"/>
          <p:cNvSpPr/>
          <p:nvPr/>
        </p:nvSpPr>
        <p:spPr>
          <a:xfrm>
            <a:off x="3564000" y="371628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3"/>
          <p:cNvSpPr/>
          <p:nvPr/>
        </p:nvSpPr>
        <p:spPr>
          <a:xfrm>
            <a:off x="6156360" y="602136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4"/>
          <p:cNvSpPr/>
          <p:nvPr/>
        </p:nvSpPr>
        <p:spPr>
          <a:xfrm>
            <a:off x="5364000" y="436572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5"/>
          <p:cNvSpPr/>
          <p:nvPr/>
        </p:nvSpPr>
        <p:spPr>
          <a:xfrm>
            <a:off x="4140360" y="5013360"/>
            <a:ext cx="50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6"/>
          <p:cNvSpPr/>
          <p:nvPr/>
        </p:nvSpPr>
        <p:spPr>
          <a:xfrm>
            <a:off x="3635280" y="479736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7"/>
          <p:cNvSpPr/>
          <p:nvPr/>
        </p:nvSpPr>
        <p:spPr>
          <a:xfrm>
            <a:off x="5148360" y="602136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8"/>
          <p:cNvSpPr/>
          <p:nvPr/>
        </p:nvSpPr>
        <p:spPr>
          <a:xfrm>
            <a:off x="3492360" y="602136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9"/>
          <p:cNvSpPr/>
          <p:nvPr/>
        </p:nvSpPr>
        <p:spPr>
          <a:xfrm>
            <a:off x="8028000" y="6021360"/>
            <a:ext cx="1116000" cy="836640"/>
          </a:xfrm>
          <a:custGeom>
            <a:avLst/>
            <a:gdLst>
              <a:gd name="textAreaLeft" fmla="*/ 54000 w 1116000"/>
              <a:gd name="textAreaRight" fmla="*/ 1062000 w 1116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8809" h="21600">
                <a:moveTo>
                  <a:pt x="0" y="0"/>
                </a:moveTo>
                <a:lnTo>
                  <a:pt x="28809" y="0"/>
                </a:lnTo>
                <a:lnTo>
                  <a:pt x="28809" y="21600"/>
                </a:lnTo>
                <a:lnTo>
                  <a:pt x="0" y="21600"/>
                </a:lnTo>
                <a:close/>
              </a:path>
              <a:path fill="lightenLess" w="28809" h="21600">
                <a:moveTo>
                  <a:pt x="0" y="0"/>
                </a:moveTo>
                <a:lnTo>
                  <a:pt x="28809" y="0"/>
                </a:lnTo>
                <a:lnTo>
                  <a:pt x="27409" y="1400"/>
                </a:lnTo>
                <a:lnTo>
                  <a:pt x="1400" y="1400"/>
                </a:lnTo>
                <a:close/>
              </a:path>
              <a:path fill="darken" w="28809" h="21600">
                <a:moveTo>
                  <a:pt x="28809" y="0"/>
                </a:moveTo>
                <a:lnTo>
                  <a:pt x="28809" y="21600"/>
                </a:lnTo>
                <a:lnTo>
                  <a:pt x="27409" y="20200"/>
                </a:lnTo>
                <a:lnTo>
                  <a:pt x="27409" y="1400"/>
                </a:lnTo>
                <a:close/>
              </a:path>
              <a:path fill="darkenLess" w="28809" h="21600">
                <a:moveTo>
                  <a:pt x="28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9" y="20200"/>
                </a:lnTo>
                <a:close/>
              </a:path>
              <a:path fill="lighten" w="28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9" h="21600">
                <a:moveTo>
                  <a:pt x="14405" y="3837"/>
                </a:moveTo>
                <a:lnTo>
                  <a:pt x="16981" y="6448"/>
                </a:ln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lnTo>
                  <a:pt x="21368" y="10800"/>
                </a:lnTo>
                <a:lnTo>
                  <a:pt x="19714" y="10800"/>
                </a:lnTo>
                <a:lnTo>
                  <a:pt x="19714" y="17989"/>
                </a:lnTo>
                <a:lnTo>
                  <a:pt x="9095" y="17989"/>
                </a:lnTo>
                <a:lnTo>
                  <a:pt x="9095" y="10800"/>
                </a:lnTo>
                <a:lnTo>
                  <a:pt x="7442" y="10800"/>
                </a:lnTo>
                <a:close/>
              </a:path>
              <a:path fill="darkenLess" w="28809" h="21600">
                <a:moveTo>
                  <a:pt x="16981" y="6448"/>
                </a:move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close/>
              </a:path>
              <a:path fill="darkenLess" w="28809" h="21600">
                <a:moveTo>
                  <a:pt x="13482" y="14299"/>
                </a:moveTo>
                <a:lnTo>
                  <a:pt x="15327" y="14299"/>
                </a:lnTo>
                <a:lnTo>
                  <a:pt x="15327" y="17989"/>
                </a:lnTo>
                <a:lnTo>
                  <a:pt x="19714" y="17989"/>
                </a:lnTo>
                <a:lnTo>
                  <a:pt x="19714" y="10800"/>
                </a:lnTo>
                <a:lnTo>
                  <a:pt x="9095" y="10800"/>
                </a:lnTo>
                <a:lnTo>
                  <a:pt x="9095" y="17989"/>
                </a:lnTo>
                <a:lnTo>
                  <a:pt x="13482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79280" y="691920"/>
            <a:ext cx="896472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для любой пары соответственных значений переменных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произведение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ху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равно одному и тому же числу, отличному от нуля, то переменная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обратно пропорциональн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; ху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 (k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исло, не равное 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или у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/x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WordArt 4"/>
          <p:cNvSpPr txBox="1"/>
          <p:nvPr/>
        </p:nvSpPr>
        <p:spPr>
          <a:xfrm>
            <a:off x="250920" y="0"/>
            <a:ext cx="8642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рафик обратно пропорциональной зависимост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5" name="Line 5"/>
          <p:cNvSpPr/>
          <p:nvPr/>
        </p:nvSpPr>
        <p:spPr>
          <a:xfrm flipV="1">
            <a:off x="2556000" y="3789000"/>
            <a:ext cx="0" cy="259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6"/>
          <p:cNvSpPr/>
          <p:nvPr/>
        </p:nvSpPr>
        <p:spPr>
          <a:xfrm>
            <a:off x="2556000" y="6381720"/>
            <a:ext cx="2879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8"/>
          <p:cNvSpPr/>
          <p:nvPr/>
        </p:nvSpPr>
        <p:spPr>
          <a:xfrm rot="21317400">
            <a:off x="2654280" y="4002120"/>
            <a:ext cx="1774800" cy="2160720"/>
          </a:xfrm>
          <a:custGeom>
            <a:avLst/>
            <a:gdLst>
              <a:gd name="textAreaLeft" fmla="*/ 0 w 1774800"/>
              <a:gd name="textAreaRight" fmla="*/ 1775160 w 1774800"/>
              <a:gd name="textAreaTop" fmla="*/ 0 h 2160720"/>
              <a:gd name="textAreaBottom" fmla="*/ 2161080 h 2160720"/>
            </a:gdLst>
            <a:ahLst/>
            <a:rect l="textAreaLeft" t="textAreaTop" r="textAreaRight" b="textAreaBottom"/>
            <a:pathLst>
              <a:path w="1073" h="1315">
                <a:moveTo>
                  <a:pt x="75" y="0"/>
                </a:moveTo>
                <a:cubicBezTo>
                  <a:pt x="37" y="435"/>
                  <a:pt x="0" y="870"/>
                  <a:pt x="166" y="1089"/>
                </a:cubicBezTo>
                <a:cubicBezTo>
                  <a:pt x="332" y="1308"/>
                  <a:pt x="922" y="1277"/>
                  <a:pt x="1073" y="1315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9"/>
          <p:cNvSpPr/>
          <p:nvPr/>
        </p:nvSpPr>
        <p:spPr>
          <a:xfrm>
            <a:off x="2197080" y="6237360"/>
            <a:ext cx="287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2124000" y="3645000"/>
            <a:ext cx="287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5364000" y="6381720"/>
            <a:ext cx="287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2"/>
          <p:cNvSpPr/>
          <p:nvPr/>
        </p:nvSpPr>
        <p:spPr>
          <a:xfrm>
            <a:off x="8028000" y="6021360"/>
            <a:ext cx="1116000" cy="836640"/>
          </a:xfrm>
          <a:custGeom>
            <a:avLst/>
            <a:gdLst>
              <a:gd name="textAreaLeft" fmla="*/ 54000 w 1116000"/>
              <a:gd name="textAreaRight" fmla="*/ 1062000 w 1116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8809" h="21600">
                <a:moveTo>
                  <a:pt x="0" y="0"/>
                </a:moveTo>
                <a:lnTo>
                  <a:pt x="28809" y="0"/>
                </a:lnTo>
                <a:lnTo>
                  <a:pt x="28809" y="21600"/>
                </a:lnTo>
                <a:lnTo>
                  <a:pt x="0" y="21600"/>
                </a:lnTo>
                <a:close/>
              </a:path>
              <a:path fill="lightenLess" w="28809" h="21600">
                <a:moveTo>
                  <a:pt x="0" y="0"/>
                </a:moveTo>
                <a:lnTo>
                  <a:pt x="28809" y="0"/>
                </a:lnTo>
                <a:lnTo>
                  <a:pt x="27409" y="1400"/>
                </a:lnTo>
                <a:lnTo>
                  <a:pt x="1400" y="1400"/>
                </a:lnTo>
                <a:close/>
              </a:path>
              <a:path fill="darken" w="28809" h="21600">
                <a:moveTo>
                  <a:pt x="28809" y="0"/>
                </a:moveTo>
                <a:lnTo>
                  <a:pt x="28809" y="21600"/>
                </a:lnTo>
                <a:lnTo>
                  <a:pt x="27409" y="20200"/>
                </a:lnTo>
                <a:lnTo>
                  <a:pt x="27409" y="1400"/>
                </a:lnTo>
                <a:close/>
              </a:path>
              <a:path fill="darkenLess" w="28809" h="21600">
                <a:moveTo>
                  <a:pt x="28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9" y="20200"/>
                </a:lnTo>
                <a:close/>
              </a:path>
              <a:path fill="lighten" w="28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9" h="21600">
                <a:moveTo>
                  <a:pt x="14405" y="3837"/>
                </a:moveTo>
                <a:lnTo>
                  <a:pt x="16981" y="6448"/>
                </a:ln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lnTo>
                  <a:pt x="21368" y="10800"/>
                </a:lnTo>
                <a:lnTo>
                  <a:pt x="19714" y="10800"/>
                </a:lnTo>
                <a:lnTo>
                  <a:pt x="19714" y="17989"/>
                </a:lnTo>
                <a:lnTo>
                  <a:pt x="9095" y="17989"/>
                </a:lnTo>
                <a:lnTo>
                  <a:pt x="9095" y="10800"/>
                </a:lnTo>
                <a:lnTo>
                  <a:pt x="7442" y="10800"/>
                </a:lnTo>
                <a:close/>
              </a:path>
              <a:path fill="darkenLess" w="28809" h="21600">
                <a:moveTo>
                  <a:pt x="16981" y="6448"/>
                </a:move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close/>
              </a:path>
              <a:path fill="darkenLess" w="28809" h="21600">
                <a:moveTo>
                  <a:pt x="13482" y="14299"/>
                </a:moveTo>
                <a:lnTo>
                  <a:pt x="15327" y="14299"/>
                </a:lnTo>
                <a:lnTo>
                  <a:pt x="15327" y="17989"/>
                </a:lnTo>
                <a:lnTo>
                  <a:pt x="19714" y="17989"/>
                </a:lnTo>
                <a:lnTo>
                  <a:pt x="19714" y="10800"/>
                </a:lnTo>
                <a:lnTo>
                  <a:pt x="9095" y="10800"/>
                </a:lnTo>
                <a:lnTo>
                  <a:pt x="9095" y="17989"/>
                </a:lnTo>
                <a:lnTo>
                  <a:pt x="13482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6868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359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Arial Black"/>
              </a:rPr>
              <a:t>Обратите вним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9280" indent="-359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Если по условию параметры состояния газа не изменяются, запишите уравнение Менделеева-Клапейрона и выразите неизвестную величи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280" indent="-359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Если по условию даны два или несколько состояний газа, то при решении задач рекомендуется соблюдать последовательнос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280" indent="-359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араметры состояния газа (как данные, так и искомые) запишите по форм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280" indent="-359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Запишите уравнение Менделеева-Клапейрона для каждого состояния, дополнительные условия, решите систему уравнений относительно искомой велич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WordArt 4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ШЕНИЕ ЗАДАЧ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324000" y="3789360"/>
          <a:ext cx="8434080" cy="2060640"/>
        </p:xfrm>
        <a:graphic>
          <a:graphicData uri="http://schemas.openxmlformats.org/drawingml/2006/table">
            <a:tbl>
              <a:tblPr/>
              <a:tblGrid>
                <a:gridCol w="1744560"/>
                <a:gridCol w="1671480"/>
                <a:gridCol w="1673280"/>
                <a:gridCol w="1671840"/>
                <a:gridCol w="1672920"/>
              </a:tblGrid>
              <a:tr h="1092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 состояние газ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2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 состояние газ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 rot="16200000">
            <a:off x="6048360" y="2780640"/>
            <a:ext cx="2305080" cy="1441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27"/>
          <p:cNvSpPr/>
          <p:nvPr/>
        </p:nvSpPr>
        <p:spPr>
          <a:xfrm>
            <a:off x="7956720" y="6308640"/>
            <a:ext cx="1187280" cy="549360"/>
          </a:xfrm>
          <a:custGeom>
            <a:avLst/>
            <a:gdLst>
              <a:gd name="textAreaLeft" fmla="*/ 35280 w 1187280"/>
              <a:gd name="textAreaRight" fmla="*/ 1152000 w 1187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6666" h="21600">
                <a:moveTo>
                  <a:pt x="0" y="0"/>
                </a:moveTo>
                <a:lnTo>
                  <a:pt x="46666" y="0"/>
                </a:lnTo>
                <a:lnTo>
                  <a:pt x="46666" y="21600"/>
                </a:lnTo>
                <a:lnTo>
                  <a:pt x="0" y="21600"/>
                </a:lnTo>
                <a:close/>
              </a:path>
              <a:path fill="lightenLess" w="46666" h="21600">
                <a:moveTo>
                  <a:pt x="0" y="0"/>
                </a:moveTo>
                <a:lnTo>
                  <a:pt x="46666" y="0"/>
                </a:lnTo>
                <a:lnTo>
                  <a:pt x="45266" y="1400"/>
                </a:lnTo>
                <a:lnTo>
                  <a:pt x="1400" y="1400"/>
                </a:lnTo>
                <a:close/>
              </a:path>
              <a:path fill="darken" w="46666" h="21600">
                <a:moveTo>
                  <a:pt x="46666" y="0"/>
                </a:moveTo>
                <a:lnTo>
                  <a:pt x="46666" y="21600"/>
                </a:lnTo>
                <a:lnTo>
                  <a:pt x="45266" y="20200"/>
                </a:lnTo>
                <a:lnTo>
                  <a:pt x="45266" y="1400"/>
                </a:lnTo>
                <a:close/>
              </a:path>
              <a:path fill="darkenLess" w="46666" h="21600">
                <a:moveTo>
                  <a:pt x="46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66" y="20200"/>
                </a:lnTo>
                <a:close/>
              </a:path>
              <a:path fill="lighten" w="46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У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36"/>
          <p:cNvGrpSpPr/>
          <p:nvPr/>
        </p:nvGrpSpPr>
        <p:grpSpPr>
          <a:xfrm>
            <a:off x="6480000" y="1125720"/>
            <a:ext cx="1441440" cy="1368360"/>
            <a:chOff x="6480000" y="1125720"/>
            <a:chExt cx="1441440" cy="1368360"/>
          </a:xfrm>
        </p:grpSpPr>
        <p:grpSp>
          <p:nvGrpSpPr>
            <p:cNvPr id="220" name="Group 8"/>
            <p:cNvGrpSpPr/>
            <p:nvPr/>
          </p:nvGrpSpPr>
          <p:grpSpPr>
            <a:xfrm>
              <a:off x="6480000" y="1125720"/>
              <a:ext cx="1441440" cy="1368360"/>
              <a:chOff x="6480000" y="1125720"/>
              <a:chExt cx="1441440" cy="1368360"/>
            </a:xfrm>
          </p:grpSpPr>
          <p:sp>
            <p:nvSpPr>
              <p:cNvPr id="221" name="Rectangle 5"/>
              <p:cNvSpPr/>
              <p:nvPr/>
            </p:nvSpPr>
            <p:spPr>
              <a:xfrm rot="16200000">
                <a:off x="6765120" y="1603080"/>
                <a:ext cx="870480" cy="289080"/>
              </a:xfrm>
              <a:prstGeom prst="rect">
                <a:avLst/>
              </a:prstGeom>
              <a:solidFill>
                <a:srgbClr val="00808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Rectangle 6"/>
              <p:cNvSpPr/>
              <p:nvPr/>
            </p:nvSpPr>
            <p:spPr>
              <a:xfrm rot="16200000">
                <a:off x="7143840" y="679320"/>
                <a:ext cx="186480" cy="1079280"/>
              </a:xfrm>
              <a:prstGeom prst="rect">
                <a:avLst/>
              </a:prstGeom>
              <a:solidFill>
                <a:srgbClr val="00808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Rectangle 7"/>
              <p:cNvSpPr/>
              <p:nvPr/>
            </p:nvSpPr>
            <p:spPr>
              <a:xfrm rot="16200000">
                <a:off x="7045200" y="1617840"/>
                <a:ext cx="311040" cy="1441440"/>
              </a:xfrm>
              <a:prstGeom prst="rect">
                <a:avLst/>
              </a:prstGeom>
              <a:solidFill>
                <a:srgbClr val="00808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Rectangle 29"/>
            <p:cNvSpPr/>
            <p:nvPr/>
          </p:nvSpPr>
          <p:spPr>
            <a:xfrm>
              <a:off x="6877080" y="1413000"/>
              <a:ext cx="6476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 Black"/>
                </a:rPr>
                <a:t>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35"/>
            <p:cNvSpPr/>
            <p:nvPr/>
          </p:nvSpPr>
          <p:spPr>
            <a:xfrm>
              <a:off x="6877080" y="2205000"/>
              <a:ext cx="6476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 Black"/>
                </a:rPr>
                <a:t>S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 Black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Rectangle 37"/>
          <p:cNvSpPr/>
          <p:nvPr/>
        </p:nvSpPr>
        <p:spPr>
          <a:xfrm>
            <a:off x="6877080" y="692280"/>
            <a:ext cx="503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40"/>
          <p:cNvGrpSpPr/>
          <p:nvPr/>
        </p:nvGrpSpPr>
        <p:grpSpPr>
          <a:xfrm>
            <a:off x="5303880" y="765000"/>
            <a:ext cx="492120" cy="576360"/>
            <a:chOff x="5303880" y="765000"/>
            <a:chExt cx="492120" cy="576360"/>
          </a:xfrm>
        </p:grpSpPr>
        <p:pic>
          <p:nvPicPr>
            <p:cNvPr id="228" name="Picture 38" descr=""/>
            <p:cNvPicPr/>
            <p:nvPr/>
          </p:nvPicPr>
          <p:blipFill>
            <a:blip r:embed="rId2">
              <a:alphaModFix amt="0"/>
            </a:blip>
            <a:srcRect l="21353" t="20851" r="14803" b="5567"/>
            <a:stretch/>
          </p:blipFill>
          <p:spPr>
            <a:xfrm>
              <a:off x="5303880" y="765000"/>
              <a:ext cx="49212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Rectangle 39"/>
            <p:cNvSpPr/>
            <p:nvPr/>
          </p:nvSpPr>
          <p:spPr>
            <a:xfrm>
              <a:off x="5435640" y="907920"/>
              <a:ext cx="144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 Black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41"/>
          <p:cNvGrpSpPr/>
          <p:nvPr/>
        </p:nvGrpSpPr>
        <p:grpSpPr>
          <a:xfrm>
            <a:off x="6516720" y="1628640"/>
            <a:ext cx="492120" cy="576360"/>
            <a:chOff x="6516720" y="1628640"/>
            <a:chExt cx="492120" cy="576360"/>
          </a:xfrm>
        </p:grpSpPr>
        <p:pic>
          <p:nvPicPr>
            <p:cNvPr id="231" name="Picture 42" descr=""/>
            <p:cNvPicPr/>
            <p:nvPr/>
          </p:nvPicPr>
          <p:blipFill>
            <a:blip r:embed="rId3">
              <a:alphaModFix amt="0"/>
            </a:blip>
            <a:srcRect l="21353" t="20851" r="14803" b="5567"/>
            <a:stretch/>
          </p:blipFill>
          <p:spPr>
            <a:xfrm>
              <a:off x="6516720" y="1628640"/>
              <a:ext cx="49212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Rectangle 43"/>
            <p:cNvSpPr/>
            <p:nvPr/>
          </p:nvSpPr>
          <p:spPr>
            <a:xfrm>
              <a:off x="6648480" y="1771560"/>
              <a:ext cx="144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 Black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6840" y="764640"/>
            <a:ext cx="497844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 цилиндре под поршнем находится воздух. Вес поршня Р=60 Н, площадь цилиндра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=20см2, атмосферное давление р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=10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Па. Груз какого веса надо положить на поршень, чтобы объем воздуха в цилиндре уменьшился в два раза? Трение не учитывайте, температура постоянн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WordArt 45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ШЕНИЕ ЗАДАЧ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5" name="Rectangle 46"/>
          <p:cNvSpPr/>
          <p:nvPr/>
        </p:nvSpPr>
        <p:spPr>
          <a:xfrm>
            <a:off x="8352000" y="-27000"/>
            <a:ext cx="79200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р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116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49769E-007 L 0.13716 0.12581 E">
                                      <p:cBhvr>
                                        <p:cTn id="119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7.44681E-006 L 3.05556E-006 0.16791 E">
                                      <p:cBhvr>
                                        <p:cTn id="125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1 3.14524E-007 L 0.00121 0.1679 E">
                                      <p:cBhvr>
                                        <p:cTn id="129" dur="2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250560" y="691920"/>
            <a:ext cx="889308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цилиндре под поршнем находится воздух. Вес поршня Р=60 Н, площадь цилиндра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=20см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, атмосферное давление р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=10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Arial"/>
              </a:rPr>
              <a:t>5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а. Груз какого веса надо положить на поршень, чтобы объем воздуха в цилиндре уменьшился в два раза? Трение не учитывайте, температура постоянн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WordArt 19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ШЕНИЕ ЗАДАЧ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50920" y="2997360"/>
          <a:ext cx="8640720" cy="1971360"/>
        </p:xfrm>
        <a:graphic>
          <a:graphicData uri="http://schemas.openxmlformats.org/drawingml/2006/table">
            <a:tbl>
              <a:tblPr/>
              <a:tblGrid>
                <a:gridCol w="1368360"/>
                <a:gridCol w="1150920"/>
                <a:gridCol w="3554280"/>
                <a:gridCol w="1455840"/>
                <a:gridCol w="1111320"/>
              </a:tblGrid>
              <a:tr h="87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 состо-яние га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(P/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2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 состо-яние га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(P/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+(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Rectangle 54"/>
          <p:cNvSpPr/>
          <p:nvPr/>
        </p:nvSpPr>
        <p:spPr>
          <a:xfrm>
            <a:off x="324000" y="5300640"/>
            <a:ext cx="8820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60"/>
          <p:cNvSpPr/>
          <p:nvPr/>
        </p:nvSpPr>
        <p:spPr>
          <a:xfrm>
            <a:off x="8352000" y="-27000"/>
            <a:ext cx="79200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р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WordArt 3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ШЕНИЕ ЗАДАЧ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503280" y="620640"/>
          <a:ext cx="8640720" cy="1197000"/>
        </p:xfrm>
        <a:graphic>
          <a:graphicData uri="http://schemas.openxmlformats.org/drawingml/2006/table">
            <a:tbl>
              <a:tblPr/>
              <a:tblGrid>
                <a:gridCol w="1368360"/>
                <a:gridCol w="1150920"/>
                <a:gridCol w="3554280"/>
                <a:gridCol w="1455840"/>
                <a:gridCol w="1111320"/>
              </a:tblGrid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 состо-яние га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(P/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 состо-яние га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(P/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+(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Rectangle 24"/>
          <p:cNvSpPr/>
          <p:nvPr/>
        </p:nvSpPr>
        <p:spPr>
          <a:xfrm>
            <a:off x="324000" y="1773360"/>
            <a:ext cx="8820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324000" y="2276640"/>
            <a:ext cx="882000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/S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авление поршня;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/S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авление гру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огласно закону Бойля-Мариотта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=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+P/S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)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=(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+P/S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+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/S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)(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/2)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тсю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=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+P=260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(Н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=260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29"/>
          <p:cNvSpPr/>
          <p:nvPr/>
        </p:nvSpPr>
        <p:spPr>
          <a:xfrm>
            <a:off x="8352000" y="-27000"/>
            <a:ext cx="79200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р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1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6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1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4" dur="50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7" dur="500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146"/>
          <p:cNvSpPr/>
          <p:nvPr/>
        </p:nvSpPr>
        <p:spPr>
          <a:xfrm>
            <a:off x="2916360" y="6021360"/>
            <a:ext cx="576000" cy="765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47"/>
          <p:cNvSpPr/>
          <p:nvPr/>
        </p:nvSpPr>
        <p:spPr>
          <a:xfrm>
            <a:off x="3564000" y="6021360"/>
            <a:ext cx="576360" cy="765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48"/>
          <p:cNvSpPr/>
          <p:nvPr/>
        </p:nvSpPr>
        <p:spPr>
          <a:xfrm>
            <a:off x="4211640" y="6021360"/>
            <a:ext cx="576360" cy="765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83"/>
          <p:cNvSpPr/>
          <p:nvPr/>
        </p:nvSpPr>
        <p:spPr>
          <a:xfrm>
            <a:off x="324000" y="5013360"/>
            <a:ext cx="57600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84"/>
          <p:cNvSpPr/>
          <p:nvPr/>
        </p:nvSpPr>
        <p:spPr>
          <a:xfrm>
            <a:off x="971640" y="5013360"/>
            <a:ext cx="57600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85"/>
          <p:cNvSpPr/>
          <p:nvPr/>
        </p:nvSpPr>
        <p:spPr>
          <a:xfrm>
            <a:off x="1619280" y="5013360"/>
            <a:ext cx="57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86"/>
          <p:cNvSpPr/>
          <p:nvPr/>
        </p:nvSpPr>
        <p:spPr>
          <a:xfrm>
            <a:off x="2268360" y="5013360"/>
            <a:ext cx="57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87"/>
          <p:cNvSpPr/>
          <p:nvPr/>
        </p:nvSpPr>
        <p:spPr>
          <a:xfrm>
            <a:off x="2916360" y="5013360"/>
            <a:ext cx="57600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88"/>
          <p:cNvSpPr/>
          <p:nvPr/>
        </p:nvSpPr>
        <p:spPr>
          <a:xfrm>
            <a:off x="3564000" y="5013360"/>
            <a:ext cx="57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89"/>
          <p:cNvSpPr/>
          <p:nvPr/>
        </p:nvSpPr>
        <p:spPr>
          <a:xfrm>
            <a:off x="4211640" y="5013360"/>
            <a:ext cx="57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90"/>
          <p:cNvSpPr/>
          <p:nvPr/>
        </p:nvSpPr>
        <p:spPr>
          <a:xfrm>
            <a:off x="4859280" y="5013360"/>
            <a:ext cx="57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91"/>
          <p:cNvSpPr/>
          <p:nvPr/>
        </p:nvSpPr>
        <p:spPr>
          <a:xfrm>
            <a:off x="5508720" y="5013360"/>
            <a:ext cx="57600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92"/>
          <p:cNvSpPr/>
          <p:nvPr/>
        </p:nvSpPr>
        <p:spPr>
          <a:xfrm>
            <a:off x="6156360" y="5013360"/>
            <a:ext cx="57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93"/>
          <p:cNvSpPr/>
          <p:nvPr/>
        </p:nvSpPr>
        <p:spPr>
          <a:xfrm>
            <a:off x="6804000" y="5013360"/>
            <a:ext cx="57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94"/>
          <p:cNvSpPr/>
          <p:nvPr/>
        </p:nvSpPr>
        <p:spPr>
          <a:xfrm>
            <a:off x="7451640" y="5013360"/>
            <a:ext cx="57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95"/>
          <p:cNvSpPr/>
          <p:nvPr/>
        </p:nvSpPr>
        <p:spPr>
          <a:xfrm>
            <a:off x="8101080" y="5013360"/>
            <a:ext cx="57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WordArt 4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ШЕНИЕ ЗАДАЧ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8352000" y="-27000"/>
            <a:ext cx="79200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р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179280" y="1844640"/>
          <a:ext cx="8964720" cy="3084480"/>
        </p:xfrm>
        <a:graphic>
          <a:graphicData uri="http://schemas.openxmlformats.org/drawingml/2006/table">
            <a:tbl>
              <a:tblPr/>
              <a:tblGrid>
                <a:gridCol w="863640"/>
                <a:gridCol w="2305080"/>
                <a:gridCol w="2351160"/>
                <a:gridCol w="1720800"/>
                <a:gridCol w="1724040"/>
              </a:tblGrid>
              <a:tr h="1608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8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h-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8" name="Rectangle 36"/>
          <p:cNvSpPr/>
          <p:nvPr/>
        </p:nvSpPr>
        <p:spPr>
          <a:xfrm>
            <a:off x="1763640" y="2274840"/>
            <a:ext cx="57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37"/>
          <p:cNvSpPr/>
          <p:nvPr/>
        </p:nvSpPr>
        <p:spPr>
          <a:xfrm>
            <a:off x="2411280" y="2274840"/>
            <a:ext cx="50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3"/>
          <p:cNvSpPr/>
          <p:nvPr/>
        </p:nvSpPr>
        <p:spPr>
          <a:xfrm>
            <a:off x="1763640" y="3787920"/>
            <a:ext cx="576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44"/>
          <p:cNvSpPr/>
          <p:nvPr/>
        </p:nvSpPr>
        <p:spPr>
          <a:xfrm>
            <a:off x="2411280" y="3787920"/>
            <a:ext cx="50508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45"/>
          <p:cNvSpPr/>
          <p:nvPr/>
        </p:nvSpPr>
        <p:spPr>
          <a:xfrm>
            <a:off x="3995640" y="2274840"/>
            <a:ext cx="50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6"/>
          <p:cNvSpPr/>
          <p:nvPr/>
        </p:nvSpPr>
        <p:spPr>
          <a:xfrm>
            <a:off x="4572000" y="2274840"/>
            <a:ext cx="504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7"/>
          <p:cNvSpPr/>
          <p:nvPr/>
        </p:nvSpPr>
        <p:spPr>
          <a:xfrm>
            <a:off x="5148360" y="2274840"/>
            <a:ext cx="504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48"/>
          <p:cNvSpPr/>
          <p:nvPr/>
        </p:nvSpPr>
        <p:spPr>
          <a:xfrm>
            <a:off x="3995640" y="3787920"/>
            <a:ext cx="50508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49"/>
          <p:cNvSpPr/>
          <p:nvPr/>
        </p:nvSpPr>
        <p:spPr>
          <a:xfrm>
            <a:off x="4572000" y="3787920"/>
            <a:ext cx="50472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50"/>
          <p:cNvSpPr/>
          <p:nvPr/>
        </p:nvSpPr>
        <p:spPr>
          <a:xfrm>
            <a:off x="5148360" y="3787920"/>
            <a:ext cx="50472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51"/>
          <p:cNvSpPr/>
          <p:nvPr/>
        </p:nvSpPr>
        <p:spPr>
          <a:xfrm>
            <a:off x="6443640" y="2274840"/>
            <a:ext cx="504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52"/>
          <p:cNvSpPr/>
          <p:nvPr/>
        </p:nvSpPr>
        <p:spPr>
          <a:xfrm>
            <a:off x="6443640" y="3787920"/>
            <a:ext cx="50472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3"/>
          <p:cNvSpPr/>
          <p:nvPr/>
        </p:nvSpPr>
        <p:spPr>
          <a:xfrm>
            <a:off x="8172360" y="2347920"/>
            <a:ext cx="50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54"/>
          <p:cNvSpPr/>
          <p:nvPr/>
        </p:nvSpPr>
        <p:spPr>
          <a:xfrm>
            <a:off x="8172360" y="3787920"/>
            <a:ext cx="50508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56"/>
          <p:cNvSpPr/>
          <p:nvPr/>
        </p:nvSpPr>
        <p:spPr>
          <a:xfrm>
            <a:off x="104292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3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57"/>
          <p:cNvSpPr/>
          <p:nvPr/>
        </p:nvSpPr>
        <p:spPr>
          <a:xfrm>
            <a:off x="1619280" y="5157720"/>
            <a:ext cx="503280" cy="576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6360"/>
              <a:gd name="textAreaBottom" fmla="*/ 543960 h 576360"/>
            </a:gdLst>
            <a:ahLst/>
            <a:rect l="textAreaLeft" t="textAreaTop" r="textAreaRight" b="textAreaBottom"/>
            <a:pathLst>
              <a:path w="21600" h="24734">
                <a:moveTo>
                  <a:pt x="0" y="0"/>
                </a:moveTo>
                <a:lnTo>
                  <a:pt x="21600" y="0"/>
                </a:lnTo>
                <a:lnTo>
                  <a:pt x="21600" y="24734"/>
                </a:lnTo>
                <a:lnTo>
                  <a:pt x="0" y="24734"/>
                </a:lnTo>
                <a:close/>
              </a:path>
              <a:path fill="lightenLess" w="21600" h="247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34">
                <a:moveTo>
                  <a:pt x="21600" y="0"/>
                </a:moveTo>
                <a:lnTo>
                  <a:pt x="21600" y="24734"/>
                </a:lnTo>
                <a:lnTo>
                  <a:pt x="20200" y="23334"/>
                </a:lnTo>
                <a:lnTo>
                  <a:pt x="20200" y="1400"/>
                </a:lnTo>
                <a:close/>
              </a:path>
              <a:path fill="darkenLess" w="21600" h="24734">
                <a:moveTo>
                  <a:pt x="21600" y="24734"/>
                </a:moveTo>
                <a:lnTo>
                  <a:pt x="0" y="24734"/>
                </a:lnTo>
                <a:lnTo>
                  <a:pt x="1400" y="23334"/>
                </a:lnTo>
                <a:lnTo>
                  <a:pt x="20200" y="23334"/>
                </a:lnTo>
                <a:close/>
              </a:path>
              <a:path fill="lighten" w="21600" h="24734">
                <a:moveTo>
                  <a:pt x="0" y="2473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34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59"/>
          <p:cNvSpPr/>
          <p:nvPr/>
        </p:nvSpPr>
        <p:spPr>
          <a:xfrm>
            <a:off x="298764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 Black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60"/>
          <p:cNvSpPr/>
          <p:nvPr/>
        </p:nvSpPr>
        <p:spPr>
          <a:xfrm>
            <a:off x="363528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 Black"/>
              </a:rPr>
              <a:t>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61"/>
          <p:cNvSpPr/>
          <p:nvPr/>
        </p:nvSpPr>
        <p:spPr>
          <a:xfrm>
            <a:off x="4284720" y="5157720"/>
            <a:ext cx="431640" cy="57636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36">
                <a:moveTo>
                  <a:pt x="0" y="0"/>
                </a:moveTo>
                <a:lnTo>
                  <a:pt x="21600" y="0"/>
                </a:lnTo>
                <a:lnTo>
                  <a:pt x="21600" y="28836"/>
                </a:lnTo>
                <a:lnTo>
                  <a:pt x="0" y="28836"/>
                </a:lnTo>
                <a:close/>
              </a:path>
              <a:path fill="lightenLess" w="21600" h="288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36">
                <a:moveTo>
                  <a:pt x="21600" y="0"/>
                </a:moveTo>
                <a:lnTo>
                  <a:pt x="21600" y="28836"/>
                </a:lnTo>
                <a:lnTo>
                  <a:pt x="20200" y="27436"/>
                </a:lnTo>
                <a:lnTo>
                  <a:pt x="20200" y="1400"/>
                </a:lnTo>
                <a:close/>
              </a:path>
              <a:path fill="darkenLess" w="21600" h="28836">
                <a:moveTo>
                  <a:pt x="21600" y="28836"/>
                </a:moveTo>
                <a:lnTo>
                  <a:pt x="0" y="28836"/>
                </a:lnTo>
                <a:lnTo>
                  <a:pt x="1400" y="27436"/>
                </a:lnTo>
                <a:lnTo>
                  <a:pt x="20200" y="27436"/>
                </a:lnTo>
                <a:close/>
              </a:path>
              <a:path fill="lighten" w="21600" h="28836">
                <a:moveTo>
                  <a:pt x="0" y="288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3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62"/>
          <p:cNvSpPr/>
          <p:nvPr/>
        </p:nvSpPr>
        <p:spPr>
          <a:xfrm>
            <a:off x="4932360" y="5157720"/>
            <a:ext cx="431640" cy="57636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36">
                <a:moveTo>
                  <a:pt x="0" y="0"/>
                </a:moveTo>
                <a:lnTo>
                  <a:pt x="21600" y="0"/>
                </a:lnTo>
                <a:lnTo>
                  <a:pt x="21600" y="28836"/>
                </a:lnTo>
                <a:lnTo>
                  <a:pt x="0" y="28836"/>
                </a:lnTo>
                <a:close/>
              </a:path>
              <a:path fill="lightenLess" w="21600" h="288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36">
                <a:moveTo>
                  <a:pt x="21600" y="0"/>
                </a:moveTo>
                <a:lnTo>
                  <a:pt x="21600" y="28836"/>
                </a:lnTo>
                <a:lnTo>
                  <a:pt x="20200" y="27436"/>
                </a:lnTo>
                <a:lnTo>
                  <a:pt x="20200" y="1400"/>
                </a:lnTo>
                <a:close/>
              </a:path>
              <a:path fill="darkenLess" w="21600" h="28836">
                <a:moveTo>
                  <a:pt x="21600" y="28836"/>
                </a:moveTo>
                <a:lnTo>
                  <a:pt x="0" y="28836"/>
                </a:lnTo>
                <a:lnTo>
                  <a:pt x="1400" y="27436"/>
                </a:lnTo>
                <a:lnTo>
                  <a:pt x="20200" y="27436"/>
                </a:lnTo>
                <a:close/>
              </a:path>
              <a:path fill="lighten" w="21600" h="28836">
                <a:moveTo>
                  <a:pt x="0" y="288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3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3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63"/>
          <p:cNvSpPr/>
          <p:nvPr/>
        </p:nvSpPr>
        <p:spPr>
          <a:xfrm>
            <a:off x="558000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V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64"/>
          <p:cNvSpPr/>
          <p:nvPr/>
        </p:nvSpPr>
        <p:spPr>
          <a:xfrm>
            <a:off x="622764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3/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66"/>
          <p:cNvSpPr/>
          <p:nvPr/>
        </p:nvSpPr>
        <p:spPr>
          <a:xfrm>
            <a:off x="752472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3/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67"/>
          <p:cNvSpPr/>
          <p:nvPr/>
        </p:nvSpPr>
        <p:spPr>
          <a:xfrm>
            <a:off x="817236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96"/>
          <p:cNvSpPr/>
          <p:nvPr/>
        </p:nvSpPr>
        <p:spPr>
          <a:xfrm>
            <a:off x="104292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3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99"/>
          <p:cNvSpPr/>
          <p:nvPr/>
        </p:nvSpPr>
        <p:spPr>
          <a:xfrm>
            <a:off x="298764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 Black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103"/>
          <p:cNvSpPr/>
          <p:nvPr/>
        </p:nvSpPr>
        <p:spPr>
          <a:xfrm>
            <a:off x="558000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V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104"/>
          <p:cNvSpPr/>
          <p:nvPr/>
        </p:nvSpPr>
        <p:spPr>
          <a:xfrm>
            <a:off x="622764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3/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106"/>
          <p:cNvSpPr/>
          <p:nvPr/>
        </p:nvSpPr>
        <p:spPr>
          <a:xfrm>
            <a:off x="752472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3/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107"/>
          <p:cNvSpPr/>
          <p:nvPr/>
        </p:nvSpPr>
        <p:spPr>
          <a:xfrm>
            <a:off x="817236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143"/>
          <p:cNvSpPr/>
          <p:nvPr/>
        </p:nvSpPr>
        <p:spPr>
          <a:xfrm>
            <a:off x="2987640" y="6093000"/>
            <a:ext cx="432000" cy="576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794">
                <a:moveTo>
                  <a:pt x="0" y="0"/>
                </a:moveTo>
                <a:lnTo>
                  <a:pt x="21600" y="0"/>
                </a:lnTo>
                <a:lnTo>
                  <a:pt x="21600" y="28794"/>
                </a:lnTo>
                <a:lnTo>
                  <a:pt x="0" y="28794"/>
                </a:lnTo>
                <a:close/>
              </a:path>
              <a:path fill="lightenLess" w="21600" h="287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94">
                <a:moveTo>
                  <a:pt x="21600" y="0"/>
                </a:moveTo>
                <a:lnTo>
                  <a:pt x="21600" y="28794"/>
                </a:lnTo>
                <a:lnTo>
                  <a:pt x="20200" y="27394"/>
                </a:lnTo>
                <a:lnTo>
                  <a:pt x="20200" y="1400"/>
                </a:lnTo>
                <a:close/>
              </a:path>
              <a:path fill="darkenLess" w="21600" h="28794">
                <a:moveTo>
                  <a:pt x="21600" y="28794"/>
                </a:moveTo>
                <a:lnTo>
                  <a:pt x="0" y="28794"/>
                </a:lnTo>
                <a:lnTo>
                  <a:pt x="1400" y="27394"/>
                </a:lnTo>
                <a:lnTo>
                  <a:pt x="20200" y="27394"/>
                </a:lnTo>
                <a:close/>
              </a:path>
              <a:path fill="lighten" w="21600" h="28794">
                <a:moveTo>
                  <a:pt x="0" y="287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94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145"/>
          <p:cNvSpPr/>
          <p:nvPr/>
        </p:nvSpPr>
        <p:spPr>
          <a:xfrm>
            <a:off x="4284720" y="6093000"/>
            <a:ext cx="431640" cy="576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818">
                <a:moveTo>
                  <a:pt x="0" y="0"/>
                </a:moveTo>
                <a:lnTo>
                  <a:pt x="21600" y="0"/>
                </a:lnTo>
                <a:lnTo>
                  <a:pt x="21600" y="28818"/>
                </a:lnTo>
                <a:lnTo>
                  <a:pt x="0" y="28818"/>
                </a:lnTo>
                <a:close/>
              </a:path>
              <a:path fill="lightenLess" w="21600" h="288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8">
                <a:moveTo>
                  <a:pt x="21600" y="0"/>
                </a:moveTo>
                <a:lnTo>
                  <a:pt x="21600" y="28818"/>
                </a:lnTo>
                <a:lnTo>
                  <a:pt x="20200" y="27418"/>
                </a:lnTo>
                <a:lnTo>
                  <a:pt x="20200" y="1400"/>
                </a:lnTo>
                <a:close/>
              </a:path>
              <a:path fill="darkenLess" w="21600" h="28818">
                <a:moveTo>
                  <a:pt x="21600" y="28818"/>
                </a:moveTo>
                <a:lnTo>
                  <a:pt x="0" y="28818"/>
                </a:lnTo>
                <a:lnTo>
                  <a:pt x="1400" y="27418"/>
                </a:lnTo>
                <a:lnTo>
                  <a:pt x="20200" y="27418"/>
                </a:lnTo>
                <a:close/>
              </a:path>
              <a:path fill="lighten" w="21600" h="28818">
                <a:moveTo>
                  <a:pt x="0" y="288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8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151"/>
          <p:cNvSpPr/>
          <p:nvPr/>
        </p:nvSpPr>
        <p:spPr>
          <a:xfrm>
            <a:off x="4284720" y="6093000"/>
            <a:ext cx="431640" cy="576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818">
                <a:moveTo>
                  <a:pt x="0" y="0"/>
                </a:moveTo>
                <a:lnTo>
                  <a:pt x="21600" y="0"/>
                </a:lnTo>
                <a:lnTo>
                  <a:pt x="21600" y="28818"/>
                </a:lnTo>
                <a:lnTo>
                  <a:pt x="0" y="28818"/>
                </a:lnTo>
                <a:close/>
              </a:path>
              <a:path fill="lightenLess" w="21600" h="288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8">
                <a:moveTo>
                  <a:pt x="21600" y="0"/>
                </a:moveTo>
                <a:lnTo>
                  <a:pt x="21600" y="28818"/>
                </a:lnTo>
                <a:lnTo>
                  <a:pt x="20200" y="27418"/>
                </a:lnTo>
                <a:lnTo>
                  <a:pt x="20200" y="1400"/>
                </a:lnTo>
                <a:close/>
              </a:path>
              <a:path fill="darkenLess" w="21600" h="28818">
                <a:moveTo>
                  <a:pt x="21600" y="28818"/>
                </a:moveTo>
                <a:lnTo>
                  <a:pt x="0" y="28818"/>
                </a:lnTo>
                <a:lnTo>
                  <a:pt x="1400" y="27418"/>
                </a:lnTo>
                <a:lnTo>
                  <a:pt x="20200" y="27418"/>
                </a:lnTo>
                <a:close/>
              </a:path>
              <a:path fill="lighten" w="21600" h="28818">
                <a:moveTo>
                  <a:pt x="0" y="288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8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55"/>
          <p:cNvSpPr/>
          <p:nvPr/>
        </p:nvSpPr>
        <p:spPr>
          <a:xfrm>
            <a:off x="396720" y="5194440"/>
            <a:ext cx="432000" cy="576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794">
                <a:moveTo>
                  <a:pt x="0" y="0"/>
                </a:moveTo>
                <a:lnTo>
                  <a:pt x="21600" y="0"/>
                </a:lnTo>
                <a:lnTo>
                  <a:pt x="21600" y="28794"/>
                </a:lnTo>
                <a:lnTo>
                  <a:pt x="0" y="28794"/>
                </a:lnTo>
                <a:close/>
              </a:path>
              <a:path fill="lightenLess" w="21600" h="287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94">
                <a:moveTo>
                  <a:pt x="21600" y="0"/>
                </a:moveTo>
                <a:lnTo>
                  <a:pt x="21600" y="28794"/>
                </a:lnTo>
                <a:lnTo>
                  <a:pt x="20200" y="27394"/>
                </a:lnTo>
                <a:lnTo>
                  <a:pt x="20200" y="1400"/>
                </a:lnTo>
                <a:close/>
              </a:path>
              <a:path fill="darkenLess" w="21600" h="28794">
                <a:moveTo>
                  <a:pt x="21600" y="28794"/>
                </a:moveTo>
                <a:lnTo>
                  <a:pt x="0" y="28794"/>
                </a:lnTo>
                <a:lnTo>
                  <a:pt x="1400" y="27394"/>
                </a:lnTo>
                <a:lnTo>
                  <a:pt x="20200" y="27394"/>
                </a:lnTo>
                <a:close/>
              </a:path>
              <a:path fill="lighten" w="21600" h="28794">
                <a:moveTo>
                  <a:pt x="0" y="287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94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98"/>
          <p:cNvSpPr/>
          <p:nvPr/>
        </p:nvSpPr>
        <p:spPr>
          <a:xfrm>
            <a:off x="2341440" y="5194440"/>
            <a:ext cx="432000" cy="576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794">
                <a:moveTo>
                  <a:pt x="0" y="0"/>
                </a:moveTo>
                <a:lnTo>
                  <a:pt x="21600" y="0"/>
                </a:lnTo>
                <a:lnTo>
                  <a:pt x="21600" y="28794"/>
                </a:lnTo>
                <a:lnTo>
                  <a:pt x="0" y="28794"/>
                </a:lnTo>
                <a:close/>
              </a:path>
              <a:path fill="lightenLess" w="21600" h="287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94">
                <a:moveTo>
                  <a:pt x="21600" y="0"/>
                </a:moveTo>
                <a:lnTo>
                  <a:pt x="21600" y="28794"/>
                </a:lnTo>
                <a:lnTo>
                  <a:pt x="20200" y="27394"/>
                </a:lnTo>
                <a:lnTo>
                  <a:pt x="20200" y="1400"/>
                </a:lnTo>
                <a:close/>
              </a:path>
              <a:path fill="darkenLess" w="21600" h="28794">
                <a:moveTo>
                  <a:pt x="21600" y="28794"/>
                </a:moveTo>
                <a:lnTo>
                  <a:pt x="0" y="28794"/>
                </a:lnTo>
                <a:lnTo>
                  <a:pt x="1400" y="27394"/>
                </a:lnTo>
                <a:lnTo>
                  <a:pt x="20200" y="27394"/>
                </a:lnTo>
                <a:close/>
              </a:path>
              <a:path fill="lighten" w="21600" h="28794">
                <a:moveTo>
                  <a:pt x="0" y="287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94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 Black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149"/>
          <p:cNvSpPr/>
          <p:nvPr/>
        </p:nvSpPr>
        <p:spPr>
          <a:xfrm>
            <a:off x="2989440" y="6116760"/>
            <a:ext cx="431640" cy="576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818">
                <a:moveTo>
                  <a:pt x="0" y="0"/>
                </a:moveTo>
                <a:lnTo>
                  <a:pt x="21600" y="0"/>
                </a:lnTo>
                <a:lnTo>
                  <a:pt x="21600" y="28818"/>
                </a:lnTo>
                <a:lnTo>
                  <a:pt x="0" y="28818"/>
                </a:lnTo>
                <a:close/>
              </a:path>
              <a:path fill="lightenLess" w="21600" h="288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8">
                <a:moveTo>
                  <a:pt x="21600" y="0"/>
                </a:moveTo>
                <a:lnTo>
                  <a:pt x="21600" y="28818"/>
                </a:lnTo>
                <a:lnTo>
                  <a:pt x="20200" y="27418"/>
                </a:lnTo>
                <a:lnTo>
                  <a:pt x="20200" y="1400"/>
                </a:lnTo>
                <a:close/>
              </a:path>
              <a:path fill="darkenLess" w="21600" h="28818">
                <a:moveTo>
                  <a:pt x="21600" y="28818"/>
                </a:moveTo>
                <a:lnTo>
                  <a:pt x="0" y="28818"/>
                </a:lnTo>
                <a:lnTo>
                  <a:pt x="1400" y="27418"/>
                </a:lnTo>
                <a:lnTo>
                  <a:pt x="20200" y="27418"/>
                </a:lnTo>
                <a:close/>
              </a:path>
              <a:path fill="lighten" w="21600" h="28818">
                <a:moveTo>
                  <a:pt x="0" y="288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8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100"/>
          <p:cNvSpPr/>
          <p:nvPr/>
        </p:nvSpPr>
        <p:spPr>
          <a:xfrm>
            <a:off x="3637080" y="5194440"/>
            <a:ext cx="431640" cy="576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818">
                <a:moveTo>
                  <a:pt x="0" y="0"/>
                </a:moveTo>
                <a:lnTo>
                  <a:pt x="21600" y="0"/>
                </a:lnTo>
                <a:lnTo>
                  <a:pt x="21600" y="28818"/>
                </a:lnTo>
                <a:lnTo>
                  <a:pt x="0" y="28818"/>
                </a:lnTo>
                <a:close/>
              </a:path>
              <a:path fill="lightenLess" w="21600" h="288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8">
                <a:moveTo>
                  <a:pt x="21600" y="0"/>
                </a:moveTo>
                <a:lnTo>
                  <a:pt x="21600" y="28818"/>
                </a:lnTo>
                <a:lnTo>
                  <a:pt x="20200" y="27418"/>
                </a:lnTo>
                <a:lnTo>
                  <a:pt x="20200" y="1400"/>
                </a:lnTo>
                <a:close/>
              </a:path>
              <a:path fill="darkenLess" w="21600" h="28818">
                <a:moveTo>
                  <a:pt x="21600" y="28818"/>
                </a:moveTo>
                <a:lnTo>
                  <a:pt x="0" y="28818"/>
                </a:lnTo>
                <a:lnTo>
                  <a:pt x="1400" y="27418"/>
                </a:lnTo>
                <a:lnTo>
                  <a:pt x="20200" y="27418"/>
                </a:lnTo>
                <a:close/>
              </a:path>
              <a:path fill="lighten" w="21600" h="28818">
                <a:moveTo>
                  <a:pt x="0" y="288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8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 Black"/>
              </a:rPr>
              <a:t>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105"/>
          <p:cNvSpPr/>
          <p:nvPr/>
        </p:nvSpPr>
        <p:spPr>
          <a:xfrm>
            <a:off x="6877080" y="5194440"/>
            <a:ext cx="431640" cy="576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818">
                <a:moveTo>
                  <a:pt x="0" y="0"/>
                </a:moveTo>
                <a:lnTo>
                  <a:pt x="21600" y="0"/>
                </a:lnTo>
                <a:lnTo>
                  <a:pt x="21600" y="28818"/>
                </a:lnTo>
                <a:lnTo>
                  <a:pt x="0" y="28818"/>
                </a:lnTo>
                <a:close/>
              </a:path>
              <a:path fill="lightenLess" w="21600" h="288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8">
                <a:moveTo>
                  <a:pt x="21600" y="0"/>
                </a:moveTo>
                <a:lnTo>
                  <a:pt x="21600" y="28818"/>
                </a:lnTo>
                <a:lnTo>
                  <a:pt x="20200" y="27418"/>
                </a:lnTo>
                <a:lnTo>
                  <a:pt x="20200" y="1400"/>
                </a:lnTo>
                <a:close/>
              </a:path>
              <a:path fill="darkenLess" w="21600" h="28818">
                <a:moveTo>
                  <a:pt x="21600" y="28818"/>
                </a:moveTo>
                <a:lnTo>
                  <a:pt x="0" y="28818"/>
                </a:lnTo>
                <a:lnTo>
                  <a:pt x="1400" y="27418"/>
                </a:lnTo>
                <a:lnTo>
                  <a:pt x="20200" y="27418"/>
                </a:lnTo>
                <a:close/>
              </a:path>
              <a:path fill="lighten" w="21600" h="28818">
                <a:moveTo>
                  <a:pt x="0" y="288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8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65"/>
          <p:cNvSpPr/>
          <p:nvPr/>
        </p:nvSpPr>
        <p:spPr>
          <a:xfrm>
            <a:off x="6877080" y="5194440"/>
            <a:ext cx="431640" cy="576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818">
                <a:moveTo>
                  <a:pt x="0" y="0"/>
                </a:moveTo>
                <a:lnTo>
                  <a:pt x="21600" y="0"/>
                </a:lnTo>
                <a:lnTo>
                  <a:pt x="21600" y="28818"/>
                </a:lnTo>
                <a:lnTo>
                  <a:pt x="0" y="28818"/>
                </a:lnTo>
                <a:close/>
              </a:path>
              <a:path fill="lightenLess" w="21600" h="288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8">
                <a:moveTo>
                  <a:pt x="21600" y="0"/>
                </a:moveTo>
                <a:lnTo>
                  <a:pt x="21600" y="28818"/>
                </a:lnTo>
                <a:lnTo>
                  <a:pt x="20200" y="27418"/>
                </a:lnTo>
                <a:lnTo>
                  <a:pt x="20200" y="1400"/>
                </a:lnTo>
                <a:close/>
              </a:path>
              <a:path fill="darkenLess" w="21600" h="28818">
                <a:moveTo>
                  <a:pt x="21600" y="28818"/>
                </a:moveTo>
                <a:lnTo>
                  <a:pt x="0" y="28818"/>
                </a:lnTo>
                <a:lnTo>
                  <a:pt x="1400" y="27418"/>
                </a:lnTo>
                <a:lnTo>
                  <a:pt x="20200" y="27418"/>
                </a:lnTo>
                <a:close/>
              </a:path>
              <a:path fill="lighten" w="21600" h="28818">
                <a:moveTo>
                  <a:pt x="0" y="288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8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52"/>
          <p:cNvSpPr/>
          <p:nvPr/>
        </p:nvSpPr>
        <p:spPr>
          <a:xfrm>
            <a:off x="250920" y="692280"/>
            <a:ext cx="88930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Объем пузырька газа, всплывшего со дна озера на поверхность, увеличился в три раза. Какова глубина озе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144"/>
          <p:cNvSpPr/>
          <p:nvPr/>
        </p:nvSpPr>
        <p:spPr>
          <a:xfrm>
            <a:off x="3635280" y="6093000"/>
            <a:ext cx="432000" cy="576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794">
                <a:moveTo>
                  <a:pt x="0" y="0"/>
                </a:moveTo>
                <a:lnTo>
                  <a:pt x="21600" y="0"/>
                </a:lnTo>
                <a:lnTo>
                  <a:pt x="21600" y="28794"/>
                </a:lnTo>
                <a:lnTo>
                  <a:pt x="0" y="28794"/>
                </a:lnTo>
                <a:close/>
              </a:path>
              <a:path fill="lightenLess" w="21600" h="287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94">
                <a:moveTo>
                  <a:pt x="21600" y="0"/>
                </a:moveTo>
                <a:lnTo>
                  <a:pt x="21600" y="28794"/>
                </a:lnTo>
                <a:lnTo>
                  <a:pt x="20200" y="27394"/>
                </a:lnTo>
                <a:lnTo>
                  <a:pt x="20200" y="1400"/>
                </a:lnTo>
                <a:close/>
              </a:path>
              <a:path fill="darkenLess" w="21600" h="28794">
                <a:moveTo>
                  <a:pt x="21600" y="28794"/>
                </a:moveTo>
                <a:lnTo>
                  <a:pt x="0" y="28794"/>
                </a:lnTo>
                <a:lnTo>
                  <a:pt x="1400" y="27394"/>
                </a:lnTo>
                <a:lnTo>
                  <a:pt x="20200" y="27394"/>
                </a:lnTo>
                <a:close/>
              </a:path>
              <a:path fill="lighten" w="21600" h="28794">
                <a:moveTo>
                  <a:pt x="0" y="287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94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150"/>
          <p:cNvSpPr/>
          <p:nvPr/>
        </p:nvSpPr>
        <p:spPr>
          <a:xfrm>
            <a:off x="3637080" y="6116760"/>
            <a:ext cx="431640" cy="576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818">
                <a:moveTo>
                  <a:pt x="0" y="0"/>
                </a:moveTo>
                <a:lnTo>
                  <a:pt x="21600" y="0"/>
                </a:lnTo>
                <a:lnTo>
                  <a:pt x="21600" y="28818"/>
                </a:lnTo>
                <a:lnTo>
                  <a:pt x="0" y="28818"/>
                </a:lnTo>
                <a:close/>
              </a:path>
              <a:path fill="lightenLess" w="21600" h="288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8">
                <a:moveTo>
                  <a:pt x="21600" y="0"/>
                </a:moveTo>
                <a:lnTo>
                  <a:pt x="21600" y="28818"/>
                </a:lnTo>
                <a:lnTo>
                  <a:pt x="20200" y="27418"/>
                </a:lnTo>
                <a:lnTo>
                  <a:pt x="20200" y="1400"/>
                </a:lnTo>
                <a:close/>
              </a:path>
              <a:path fill="darkenLess" w="21600" h="28818">
                <a:moveTo>
                  <a:pt x="21600" y="28818"/>
                </a:moveTo>
                <a:lnTo>
                  <a:pt x="0" y="28818"/>
                </a:lnTo>
                <a:lnTo>
                  <a:pt x="1400" y="27418"/>
                </a:lnTo>
                <a:lnTo>
                  <a:pt x="20200" y="27418"/>
                </a:lnTo>
                <a:close/>
              </a:path>
              <a:path fill="lighten" w="21600" h="28818">
                <a:moveTo>
                  <a:pt x="0" y="288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8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102"/>
          <p:cNvSpPr/>
          <p:nvPr/>
        </p:nvSpPr>
        <p:spPr>
          <a:xfrm>
            <a:off x="4932360" y="5194440"/>
            <a:ext cx="431640" cy="576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818">
                <a:moveTo>
                  <a:pt x="0" y="0"/>
                </a:moveTo>
                <a:lnTo>
                  <a:pt x="21600" y="0"/>
                </a:lnTo>
                <a:lnTo>
                  <a:pt x="21600" y="28818"/>
                </a:lnTo>
                <a:lnTo>
                  <a:pt x="0" y="28818"/>
                </a:lnTo>
                <a:close/>
              </a:path>
              <a:path fill="lightenLess" w="21600" h="288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8">
                <a:moveTo>
                  <a:pt x="21600" y="0"/>
                </a:moveTo>
                <a:lnTo>
                  <a:pt x="21600" y="28818"/>
                </a:lnTo>
                <a:lnTo>
                  <a:pt x="20200" y="27418"/>
                </a:lnTo>
                <a:lnTo>
                  <a:pt x="20200" y="1400"/>
                </a:lnTo>
                <a:close/>
              </a:path>
              <a:path fill="darkenLess" w="21600" h="28818">
                <a:moveTo>
                  <a:pt x="21600" y="28818"/>
                </a:moveTo>
                <a:lnTo>
                  <a:pt x="0" y="28818"/>
                </a:lnTo>
                <a:lnTo>
                  <a:pt x="1400" y="27418"/>
                </a:lnTo>
                <a:lnTo>
                  <a:pt x="20200" y="27418"/>
                </a:lnTo>
                <a:close/>
              </a:path>
              <a:path fill="lighten" w="21600" h="28818">
                <a:moveTo>
                  <a:pt x="0" y="288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8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3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101"/>
          <p:cNvSpPr/>
          <p:nvPr/>
        </p:nvSpPr>
        <p:spPr>
          <a:xfrm>
            <a:off x="4284720" y="5194440"/>
            <a:ext cx="431640" cy="576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818">
                <a:moveTo>
                  <a:pt x="0" y="0"/>
                </a:moveTo>
                <a:lnTo>
                  <a:pt x="21600" y="0"/>
                </a:lnTo>
                <a:lnTo>
                  <a:pt x="21600" y="28818"/>
                </a:lnTo>
                <a:lnTo>
                  <a:pt x="0" y="28818"/>
                </a:lnTo>
                <a:close/>
              </a:path>
              <a:path fill="lightenLess" w="21600" h="288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8">
                <a:moveTo>
                  <a:pt x="21600" y="0"/>
                </a:moveTo>
                <a:lnTo>
                  <a:pt x="21600" y="28818"/>
                </a:lnTo>
                <a:lnTo>
                  <a:pt x="20200" y="27418"/>
                </a:lnTo>
                <a:lnTo>
                  <a:pt x="20200" y="1400"/>
                </a:lnTo>
                <a:close/>
              </a:path>
              <a:path fill="darkenLess" w="21600" h="28818">
                <a:moveTo>
                  <a:pt x="21600" y="28818"/>
                </a:moveTo>
                <a:lnTo>
                  <a:pt x="0" y="28818"/>
                </a:lnTo>
                <a:lnTo>
                  <a:pt x="1400" y="27418"/>
                </a:lnTo>
                <a:lnTo>
                  <a:pt x="20200" y="27418"/>
                </a:lnTo>
                <a:close/>
              </a:path>
              <a:path fill="lighten" w="21600" h="28818">
                <a:moveTo>
                  <a:pt x="0" y="288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8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58"/>
          <p:cNvSpPr/>
          <p:nvPr/>
        </p:nvSpPr>
        <p:spPr>
          <a:xfrm>
            <a:off x="2341440" y="5194440"/>
            <a:ext cx="432000" cy="576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794">
                <a:moveTo>
                  <a:pt x="0" y="0"/>
                </a:moveTo>
                <a:lnTo>
                  <a:pt x="21600" y="0"/>
                </a:lnTo>
                <a:lnTo>
                  <a:pt x="21600" y="28794"/>
                </a:lnTo>
                <a:lnTo>
                  <a:pt x="0" y="28794"/>
                </a:lnTo>
                <a:close/>
              </a:path>
              <a:path fill="lightenLess" w="21600" h="287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94">
                <a:moveTo>
                  <a:pt x="21600" y="0"/>
                </a:moveTo>
                <a:lnTo>
                  <a:pt x="21600" y="28794"/>
                </a:lnTo>
                <a:lnTo>
                  <a:pt x="20200" y="27394"/>
                </a:lnTo>
                <a:lnTo>
                  <a:pt x="20200" y="1400"/>
                </a:lnTo>
                <a:close/>
              </a:path>
              <a:path fill="darkenLess" w="21600" h="28794">
                <a:moveTo>
                  <a:pt x="21600" y="28794"/>
                </a:moveTo>
                <a:lnTo>
                  <a:pt x="0" y="28794"/>
                </a:lnTo>
                <a:lnTo>
                  <a:pt x="1400" y="27394"/>
                </a:lnTo>
                <a:lnTo>
                  <a:pt x="20200" y="27394"/>
                </a:lnTo>
                <a:close/>
              </a:path>
              <a:path fill="lighten" w="21600" h="28794">
                <a:moveTo>
                  <a:pt x="0" y="287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94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 Black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97"/>
          <p:cNvSpPr/>
          <p:nvPr/>
        </p:nvSpPr>
        <p:spPr>
          <a:xfrm>
            <a:off x="1655640" y="5194440"/>
            <a:ext cx="503280" cy="57600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719">
                <a:moveTo>
                  <a:pt x="0" y="0"/>
                </a:moveTo>
                <a:lnTo>
                  <a:pt x="21600" y="0"/>
                </a:lnTo>
                <a:lnTo>
                  <a:pt x="21600" y="24719"/>
                </a:lnTo>
                <a:lnTo>
                  <a:pt x="0" y="24719"/>
                </a:lnTo>
                <a:close/>
              </a:path>
              <a:path fill="lightenLess" w="21600" h="247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19">
                <a:moveTo>
                  <a:pt x="21600" y="0"/>
                </a:moveTo>
                <a:lnTo>
                  <a:pt x="21600" y="24719"/>
                </a:lnTo>
                <a:lnTo>
                  <a:pt x="20200" y="23319"/>
                </a:lnTo>
                <a:lnTo>
                  <a:pt x="20200" y="1400"/>
                </a:lnTo>
                <a:close/>
              </a:path>
              <a:path fill="darkenLess" w="21600" h="24719">
                <a:moveTo>
                  <a:pt x="21600" y="24719"/>
                </a:moveTo>
                <a:lnTo>
                  <a:pt x="0" y="24719"/>
                </a:lnTo>
                <a:lnTo>
                  <a:pt x="1400" y="23319"/>
                </a:lnTo>
                <a:lnTo>
                  <a:pt x="20200" y="23319"/>
                </a:lnTo>
                <a:close/>
              </a:path>
              <a:path fill="lighten" w="21600" h="24719">
                <a:moveTo>
                  <a:pt x="0" y="247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1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108"/>
          <p:cNvSpPr/>
          <p:nvPr/>
        </p:nvSpPr>
        <p:spPr>
          <a:xfrm>
            <a:off x="396720" y="5194440"/>
            <a:ext cx="432000" cy="576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794">
                <a:moveTo>
                  <a:pt x="0" y="0"/>
                </a:moveTo>
                <a:lnTo>
                  <a:pt x="21600" y="0"/>
                </a:lnTo>
                <a:lnTo>
                  <a:pt x="21600" y="28794"/>
                </a:lnTo>
                <a:lnTo>
                  <a:pt x="0" y="28794"/>
                </a:lnTo>
                <a:close/>
              </a:path>
              <a:path fill="lightenLess" w="21600" h="287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94">
                <a:moveTo>
                  <a:pt x="21600" y="0"/>
                </a:moveTo>
                <a:lnTo>
                  <a:pt x="21600" y="28794"/>
                </a:lnTo>
                <a:lnTo>
                  <a:pt x="20200" y="27394"/>
                </a:lnTo>
                <a:lnTo>
                  <a:pt x="20200" y="1400"/>
                </a:lnTo>
                <a:close/>
              </a:path>
              <a:path fill="darkenLess" w="21600" h="28794">
                <a:moveTo>
                  <a:pt x="21600" y="28794"/>
                </a:moveTo>
                <a:lnTo>
                  <a:pt x="0" y="28794"/>
                </a:lnTo>
                <a:lnTo>
                  <a:pt x="1400" y="27394"/>
                </a:lnTo>
                <a:lnTo>
                  <a:pt x="20200" y="27394"/>
                </a:lnTo>
                <a:close/>
              </a:path>
              <a:path fill="lighten" w="21600" h="28794">
                <a:moveTo>
                  <a:pt x="0" y="287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94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9"/>
          <p:cNvSpPr txBox="1"/>
          <p:nvPr/>
        </p:nvSpPr>
        <p:spPr>
          <a:xfrm>
            <a:off x="1116000" y="620640"/>
            <a:ext cx="7343640" cy="235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6699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ЗОПРОЦЕССЫ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666699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2" name="AutoShape 15">
            <a:hlinkClick r:id="rId1" action="ppaction://hlinksldjump"/>
          </p:cNvPr>
          <p:cNvSpPr/>
          <p:nvPr/>
        </p:nvSpPr>
        <p:spPr>
          <a:xfrm>
            <a:off x="5364000" y="3860640"/>
            <a:ext cx="3035520" cy="720720"/>
          </a:xfrm>
          <a:custGeom>
            <a:avLst/>
            <a:gdLst>
              <a:gd name="textAreaLeft" fmla="*/ 46440 w 3035520"/>
              <a:gd name="textAreaRight" fmla="*/ 2989080 w 30355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0940" h="21600">
                <a:moveTo>
                  <a:pt x="0" y="0"/>
                </a:moveTo>
                <a:lnTo>
                  <a:pt x="90940" y="0"/>
                </a:lnTo>
                <a:lnTo>
                  <a:pt x="90940" y="21600"/>
                </a:lnTo>
                <a:lnTo>
                  <a:pt x="0" y="21600"/>
                </a:lnTo>
                <a:close/>
              </a:path>
              <a:path fill="lightenLess" w="90940" h="21600">
                <a:moveTo>
                  <a:pt x="0" y="0"/>
                </a:moveTo>
                <a:lnTo>
                  <a:pt x="90940" y="0"/>
                </a:lnTo>
                <a:lnTo>
                  <a:pt x="89540" y="1400"/>
                </a:lnTo>
                <a:lnTo>
                  <a:pt x="1400" y="1400"/>
                </a:lnTo>
                <a:close/>
              </a:path>
              <a:path fill="darken" w="90940" h="21600">
                <a:moveTo>
                  <a:pt x="90940" y="0"/>
                </a:moveTo>
                <a:lnTo>
                  <a:pt x="90940" y="21600"/>
                </a:lnTo>
                <a:lnTo>
                  <a:pt x="89540" y="20200"/>
                </a:lnTo>
                <a:lnTo>
                  <a:pt x="89540" y="1400"/>
                </a:lnTo>
                <a:close/>
              </a:path>
              <a:path fill="darkenLess" w="90940" h="21600">
                <a:moveTo>
                  <a:pt x="909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540" y="20200"/>
                </a:lnTo>
                <a:close/>
              </a:path>
              <a:path fill="lighten" w="909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решение зад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6">
            <a:hlinkClick r:id="rId2" action="ppaction://hlinksldjump"/>
          </p:cNvPr>
          <p:cNvSpPr/>
          <p:nvPr/>
        </p:nvSpPr>
        <p:spPr>
          <a:xfrm>
            <a:off x="684360" y="3860640"/>
            <a:ext cx="3035160" cy="720720"/>
          </a:xfrm>
          <a:custGeom>
            <a:avLst/>
            <a:gdLst>
              <a:gd name="textAreaLeft" fmla="*/ 46440 w 3035160"/>
              <a:gd name="textAreaRight" fmla="*/ 2988720 w 30351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0929" h="21600">
                <a:moveTo>
                  <a:pt x="0" y="0"/>
                </a:moveTo>
                <a:lnTo>
                  <a:pt x="90929" y="0"/>
                </a:lnTo>
                <a:lnTo>
                  <a:pt x="90929" y="21600"/>
                </a:lnTo>
                <a:lnTo>
                  <a:pt x="0" y="21600"/>
                </a:lnTo>
                <a:close/>
              </a:path>
              <a:path fill="lightenLess" w="90929" h="21600">
                <a:moveTo>
                  <a:pt x="0" y="0"/>
                </a:moveTo>
                <a:lnTo>
                  <a:pt x="90929" y="0"/>
                </a:lnTo>
                <a:lnTo>
                  <a:pt x="89529" y="1400"/>
                </a:lnTo>
                <a:lnTo>
                  <a:pt x="1400" y="1400"/>
                </a:lnTo>
                <a:close/>
              </a:path>
              <a:path fill="darken" w="90929" h="21600">
                <a:moveTo>
                  <a:pt x="90929" y="0"/>
                </a:moveTo>
                <a:lnTo>
                  <a:pt x="90929" y="21600"/>
                </a:lnTo>
                <a:lnTo>
                  <a:pt x="89529" y="20200"/>
                </a:lnTo>
                <a:lnTo>
                  <a:pt x="89529" y="1400"/>
                </a:lnTo>
                <a:close/>
              </a:path>
              <a:path fill="darkenLess" w="90929" h="21600">
                <a:moveTo>
                  <a:pt x="90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529" y="20200"/>
                </a:lnTo>
                <a:close/>
              </a:path>
              <a:path fill="lighten" w="90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тео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7">
            <a:hlinkClick r:id="rId3" action="ppaction://hlinksldjump"/>
          </p:cNvPr>
          <p:cNvSpPr/>
          <p:nvPr/>
        </p:nvSpPr>
        <p:spPr>
          <a:xfrm>
            <a:off x="684360" y="4940280"/>
            <a:ext cx="3035160" cy="720720"/>
          </a:xfrm>
          <a:custGeom>
            <a:avLst/>
            <a:gdLst>
              <a:gd name="textAreaLeft" fmla="*/ 46440 w 3035160"/>
              <a:gd name="textAreaRight" fmla="*/ 2988720 w 30351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0929" h="21600">
                <a:moveTo>
                  <a:pt x="0" y="0"/>
                </a:moveTo>
                <a:lnTo>
                  <a:pt x="90929" y="0"/>
                </a:lnTo>
                <a:lnTo>
                  <a:pt x="90929" y="21600"/>
                </a:lnTo>
                <a:lnTo>
                  <a:pt x="0" y="21600"/>
                </a:lnTo>
                <a:close/>
              </a:path>
              <a:path fill="lightenLess" w="90929" h="21600">
                <a:moveTo>
                  <a:pt x="0" y="0"/>
                </a:moveTo>
                <a:lnTo>
                  <a:pt x="90929" y="0"/>
                </a:lnTo>
                <a:lnTo>
                  <a:pt x="89529" y="1400"/>
                </a:lnTo>
                <a:lnTo>
                  <a:pt x="1400" y="1400"/>
                </a:lnTo>
                <a:close/>
              </a:path>
              <a:path fill="darken" w="90929" h="21600">
                <a:moveTo>
                  <a:pt x="90929" y="0"/>
                </a:moveTo>
                <a:lnTo>
                  <a:pt x="90929" y="21600"/>
                </a:lnTo>
                <a:lnTo>
                  <a:pt x="89529" y="20200"/>
                </a:lnTo>
                <a:lnTo>
                  <a:pt x="89529" y="1400"/>
                </a:lnTo>
                <a:close/>
              </a:path>
              <a:path fill="darkenLess" w="90929" h="21600">
                <a:moveTo>
                  <a:pt x="90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529" y="20200"/>
                </a:lnTo>
                <a:close/>
              </a:path>
              <a:path fill="lighten" w="90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Тест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8">
            <a:hlinkClick r:id="rId4" action="ppaction://hlinksldjump"/>
          </p:cNvPr>
          <p:cNvSpPr/>
          <p:nvPr/>
        </p:nvSpPr>
        <p:spPr>
          <a:xfrm>
            <a:off x="5353200" y="4940280"/>
            <a:ext cx="3035160" cy="720720"/>
          </a:xfrm>
          <a:custGeom>
            <a:avLst/>
            <a:gdLst>
              <a:gd name="textAreaLeft" fmla="*/ 46440 w 3035160"/>
              <a:gd name="textAreaRight" fmla="*/ 2988720 w 30351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0929" h="21600">
                <a:moveTo>
                  <a:pt x="0" y="0"/>
                </a:moveTo>
                <a:lnTo>
                  <a:pt x="90929" y="0"/>
                </a:lnTo>
                <a:lnTo>
                  <a:pt x="90929" y="21600"/>
                </a:lnTo>
                <a:lnTo>
                  <a:pt x="0" y="21600"/>
                </a:lnTo>
                <a:close/>
              </a:path>
              <a:path fill="lightenLess" w="90929" h="21600">
                <a:moveTo>
                  <a:pt x="0" y="0"/>
                </a:moveTo>
                <a:lnTo>
                  <a:pt x="90929" y="0"/>
                </a:lnTo>
                <a:lnTo>
                  <a:pt x="89529" y="1400"/>
                </a:lnTo>
                <a:lnTo>
                  <a:pt x="1400" y="1400"/>
                </a:lnTo>
                <a:close/>
              </a:path>
              <a:path fill="darken" w="90929" h="21600">
                <a:moveTo>
                  <a:pt x="90929" y="0"/>
                </a:moveTo>
                <a:lnTo>
                  <a:pt x="90929" y="21600"/>
                </a:lnTo>
                <a:lnTo>
                  <a:pt x="89529" y="20200"/>
                </a:lnTo>
                <a:lnTo>
                  <a:pt x="89529" y="1400"/>
                </a:lnTo>
                <a:close/>
              </a:path>
              <a:path fill="darkenLess" w="90929" h="21600">
                <a:moveTo>
                  <a:pt x="90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529" y="20200"/>
                </a:lnTo>
                <a:close/>
              </a:path>
              <a:path fill="lighten" w="90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Список литер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179280" y="692280"/>
            <a:ext cx="561672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В связи с тем, что масса газа и его температура не изменяются, воспользуемся уравнением изотермического процесса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Black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Black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=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(p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 Black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+     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  gh)V=p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 Black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*3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Выразите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h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 и подставьте зна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Проверьте результа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Ответ: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h=20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20"/>
              <p:cNvSpPr txBox="1"/>
              <p:nvPr/>
            </p:nvSpPr>
            <p:spPr>
              <a:xfrm>
                <a:off x="6610320" y="25844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18" name="WordArt 4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ШЕНИЕ ЗАДАЧ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8352000" y="-27000"/>
            <a:ext cx="79200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р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7" descr=""/>
          <p:cNvPicPr/>
          <p:nvPr/>
        </p:nvPicPr>
        <p:blipFill>
          <a:blip r:embed="rId3"/>
          <a:srcRect l="0" t="0" r="0" b="12002"/>
          <a:stretch/>
        </p:blipFill>
        <p:spPr>
          <a:xfrm>
            <a:off x="6588000" y="4149720"/>
            <a:ext cx="2556000" cy="1584360"/>
          </a:xfrm>
          <a:prstGeom prst="rect">
            <a:avLst/>
          </a:prstGeom>
          <a:ln w="0">
            <a:noFill/>
          </a:ln>
        </p:spPr>
      </p:pic>
      <p:sp>
        <p:nvSpPr>
          <p:cNvPr id="321" name="Oval 8"/>
          <p:cNvSpPr/>
          <p:nvPr/>
        </p:nvSpPr>
        <p:spPr>
          <a:xfrm>
            <a:off x="7740720" y="5516640"/>
            <a:ext cx="216000" cy="217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10"/>
          <p:cNvSpPr/>
          <p:nvPr/>
        </p:nvSpPr>
        <p:spPr>
          <a:xfrm>
            <a:off x="7093080" y="6165720"/>
            <a:ext cx="1187280" cy="549360"/>
          </a:xfrm>
          <a:custGeom>
            <a:avLst/>
            <a:gdLst>
              <a:gd name="textAreaLeft" fmla="*/ 35280 w 1187280"/>
              <a:gd name="textAreaRight" fmla="*/ 1152000 w 1187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6666" h="21600">
                <a:moveTo>
                  <a:pt x="0" y="0"/>
                </a:moveTo>
                <a:lnTo>
                  <a:pt x="46666" y="0"/>
                </a:lnTo>
                <a:lnTo>
                  <a:pt x="46666" y="21600"/>
                </a:lnTo>
                <a:lnTo>
                  <a:pt x="0" y="21600"/>
                </a:lnTo>
                <a:close/>
              </a:path>
              <a:path fill="lightenLess" w="46666" h="21600">
                <a:moveTo>
                  <a:pt x="0" y="0"/>
                </a:moveTo>
                <a:lnTo>
                  <a:pt x="46666" y="0"/>
                </a:lnTo>
                <a:lnTo>
                  <a:pt x="45266" y="1400"/>
                </a:lnTo>
                <a:lnTo>
                  <a:pt x="1400" y="1400"/>
                </a:lnTo>
                <a:close/>
              </a:path>
              <a:path fill="darken" w="46666" h="21600">
                <a:moveTo>
                  <a:pt x="46666" y="0"/>
                </a:moveTo>
                <a:lnTo>
                  <a:pt x="46666" y="21600"/>
                </a:lnTo>
                <a:lnTo>
                  <a:pt x="45266" y="20200"/>
                </a:lnTo>
                <a:lnTo>
                  <a:pt x="45266" y="1400"/>
                </a:lnTo>
                <a:close/>
              </a:path>
              <a:path fill="darkenLess" w="46666" h="21600">
                <a:moveTo>
                  <a:pt x="46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66" y="20200"/>
                </a:lnTo>
                <a:close/>
              </a:path>
              <a:path fill="lighten" w="46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У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1"/>
          <p:cNvSpPr/>
          <p:nvPr/>
        </p:nvSpPr>
        <p:spPr>
          <a:xfrm>
            <a:off x="6877080" y="4724280"/>
            <a:ext cx="5745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 Black"/>
              </a:rPr>
              <a:t>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2"/>
          <p:cNvSpPr/>
          <p:nvPr/>
        </p:nvSpPr>
        <p:spPr>
          <a:xfrm>
            <a:off x="6877080" y="3716280"/>
            <a:ext cx="5745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 Black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3"/>
          <p:cNvSpPr/>
          <p:nvPr/>
        </p:nvSpPr>
        <p:spPr>
          <a:xfrm>
            <a:off x="6227640" y="450864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4"/>
          <p:cNvSpPr/>
          <p:nvPr/>
        </p:nvSpPr>
        <p:spPr>
          <a:xfrm>
            <a:off x="6227640" y="57340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15"/>
          <p:cNvSpPr/>
          <p:nvPr/>
        </p:nvSpPr>
        <p:spPr>
          <a:xfrm>
            <a:off x="6443640" y="4508640"/>
            <a:ext cx="0" cy="1225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8"/>
          <p:cNvSpPr/>
          <p:nvPr/>
        </p:nvSpPr>
        <p:spPr>
          <a:xfrm>
            <a:off x="5796000" y="4941720"/>
            <a:ext cx="5745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9"/>
          <p:cNvSpPr/>
          <p:nvPr/>
        </p:nvSpPr>
        <p:spPr>
          <a:xfrm>
            <a:off x="5904000" y="2276640"/>
            <a:ext cx="3240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 Black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давл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а глубине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давление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оверхности оз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Object 23"/>
              <p:cNvSpPr txBox="1"/>
              <p:nvPr/>
            </p:nvSpPr>
            <p:spPr>
              <a:xfrm>
                <a:off x="6086520" y="3938760"/>
                <a:ext cx="1158840" cy="21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1" name="Rectangle 27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Object 26"/>
              <p:cNvSpPr txBox="1"/>
              <p:nvPr/>
            </p:nvSpPr>
            <p:spPr>
              <a:xfrm>
                <a:off x="1476360" y="3284640"/>
                <a:ext cx="57456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3" name="AutoShape 28"/>
          <p:cNvSpPr/>
          <p:nvPr/>
        </p:nvSpPr>
        <p:spPr>
          <a:xfrm>
            <a:off x="3203640" y="6453360"/>
            <a:ext cx="2952720" cy="404640"/>
          </a:xfrm>
          <a:custGeom>
            <a:avLst/>
            <a:gdLst>
              <a:gd name="textAreaLeft" fmla="*/ 25920 w 2952720"/>
              <a:gd name="textAreaRight" fmla="*/ 2926800 w 2952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157498" h="21600">
                <a:moveTo>
                  <a:pt x="0" y="0"/>
                </a:moveTo>
                <a:lnTo>
                  <a:pt x="157498" y="0"/>
                </a:lnTo>
                <a:lnTo>
                  <a:pt x="157498" y="21600"/>
                </a:lnTo>
                <a:lnTo>
                  <a:pt x="0" y="21600"/>
                </a:lnTo>
                <a:close/>
              </a:path>
              <a:path fill="lightenLess" w="157498" h="21600">
                <a:moveTo>
                  <a:pt x="0" y="0"/>
                </a:moveTo>
                <a:lnTo>
                  <a:pt x="157498" y="0"/>
                </a:lnTo>
                <a:lnTo>
                  <a:pt x="156098" y="1400"/>
                </a:lnTo>
                <a:lnTo>
                  <a:pt x="1400" y="1400"/>
                </a:lnTo>
                <a:close/>
              </a:path>
              <a:path fill="darken" w="157498" h="21600">
                <a:moveTo>
                  <a:pt x="157498" y="0"/>
                </a:moveTo>
                <a:lnTo>
                  <a:pt x="157498" y="21600"/>
                </a:lnTo>
                <a:lnTo>
                  <a:pt x="156098" y="20200"/>
                </a:lnTo>
                <a:lnTo>
                  <a:pt x="156098" y="1400"/>
                </a:lnTo>
                <a:close/>
              </a:path>
              <a:path fill="darkenLess" w="157498" h="21600">
                <a:moveTo>
                  <a:pt x="15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098" y="20200"/>
                </a:lnTo>
                <a:close/>
              </a:path>
              <a:path fill="lighten" w="15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К содерж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199" nodeType="clickEffect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2.59259E-006 L 6.94444E-006 -0.16806 E">
                                      <p:cBhvr>
                                        <p:cTn id="202" dur="2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179280" y="620280"/>
            <a:ext cx="8964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Arial Black"/>
              </a:rPr>
              <a:t>Как изменится давление идеального газа при увеличении температуры и объема газа в 4 раз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7236000" y="3068640"/>
            <a:ext cx="1296720" cy="20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4"/>
          <p:cNvGrpSpPr/>
          <p:nvPr/>
        </p:nvGrpSpPr>
        <p:grpSpPr>
          <a:xfrm>
            <a:off x="7236000" y="2637000"/>
            <a:ext cx="1296720" cy="1368360"/>
            <a:chOff x="7236000" y="2637000"/>
            <a:chExt cx="1296720" cy="1368360"/>
          </a:xfrm>
        </p:grpSpPr>
        <p:sp>
          <p:nvSpPr>
            <p:cNvPr id="338" name="Rectangle 5"/>
            <p:cNvSpPr/>
            <p:nvPr/>
          </p:nvSpPr>
          <p:spPr>
            <a:xfrm>
              <a:off x="7236000" y="3645000"/>
              <a:ext cx="1296720" cy="3603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6"/>
            <p:cNvSpPr/>
            <p:nvPr/>
          </p:nvSpPr>
          <p:spPr>
            <a:xfrm>
              <a:off x="7812000" y="2853000"/>
              <a:ext cx="144720" cy="7920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7"/>
            <p:cNvSpPr/>
            <p:nvPr/>
          </p:nvSpPr>
          <p:spPr>
            <a:xfrm>
              <a:off x="7451640" y="2637000"/>
              <a:ext cx="792360" cy="2160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1" name="Picture 8" descr=""/>
          <p:cNvPicPr/>
          <p:nvPr/>
        </p:nvPicPr>
        <p:blipFill>
          <a:blip r:embed="rId2"/>
          <a:stretch/>
        </p:blipFill>
        <p:spPr>
          <a:xfrm>
            <a:off x="6443640" y="2924280"/>
            <a:ext cx="638280" cy="2352600"/>
          </a:xfrm>
          <a:prstGeom prst="rect">
            <a:avLst/>
          </a:prstGeom>
          <a:ln w="0">
            <a:noFill/>
          </a:ln>
        </p:spPr>
      </p:pic>
      <p:sp>
        <p:nvSpPr>
          <p:cNvPr id="342" name="Rectangle 9"/>
          <p:cNvSpPr/>
          <p:nvPr/>
        </p:nvSpPr>
        <p:spPr>
          <a:xfrm>
            <a:off x="6732720" y="3789360"/>
            <a:ext cx="71280" cy="647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WordArt 11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ст "Изопроцессы"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4" name="Rectangle 12"/>
          <p:cNvSpPr/>
          <p:nvPr/>
        </p:nvSpPr>
        <p:spPr>
          <a:xfrm>
            <a:off x="8352000" y="-27000"/>
            <a:ext cx="792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19"/>
          <p:cNvSpPr/>
          <p:nvPr/>
        </p:nvSpPr>
        <p:spPr>
          <a:xfrm>
            <a:off x="7236000" y="5516640"/>
            <a:ext cx="1187280" cy="549360"/>
          </a:xfrm>
          <a:custGeom>
            <a:avLst/>
            <a:gdLst>
              <a:gd name="textAreaLeft" fmla="*/ 35280 w 1187280"/>
              <a:gd name="textAreaRight" fmla="*/ 1152000 w 1187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6666" h="21600">
                <a:moveTo>
                  <a:pt x="0" y="0"/>
                </a:moveTo>
                <a:lnTo>
                  <a:pt x="46666" y="0"/>
                </a:lnTo>
                <a:lnTo>
                  <a:pt x="46666" y="21600"/>
                </a:lnTo>
                <a:lnTo>
                  <a:pt x="0" y="21600"/>
                </a:lnTo>
                <a:close/>
              </a:path>
              <a:path fill="lightenLess" w="46666" h="21600">
                <a:moveTo>
                  <a:pt x="0" y="0"/>
                </a:moveTo>
                <a:lnTo>
                  <a:pt x="46666" y="0"/>
                </a:lnTo>
                <a:lnTo>
                  <a:pt x="45266" y="1400"/>
                </a:lnTo>
                <a:lnTo>
                  <a:pt x="1400" y="1400"/>
                </a:lnTo>
                <a:close/>
              </a:path>
              <a:path fill="darken" w="46666" h="21600">
                <a:moveTo>
                  <a:pt x="46666" y="0"/>
                </a:moveTo>
                <a:lnTo>
                  <a:pt x="46666" y="21600"/>
                </a:lnTo>
                <a:lnTo>
                  <a:pt x="45266" y="20200"/>
                </a:lnTo>
                <a:lnTo>
                  <a:pt x="45266" y="1400"/>
                </a:lnTo>
                <a:close/>
              </a:path>
              <a:path fill="darkenLess" w="46666" h="21600">
                <a:moveTo>
                  <a:pt x="46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66" y="20200"/>
                </a:lnTo>
                <a:close/>
              </a:path>
              <a:path fill="lighten" w="46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У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209" nodeType="clickEffect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5.78035E-007 L 0.00018 -0.07861 E">
                                      <p:cBhvr>
                                        <p:cTn id="212" dur="20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1.96532E-006 L 2.77778E-006 -0.04971 E">
                                      <p:cBhvr>
                                        <p:cTn id="214" dur="20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6868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В одинаковых сосудах при одинаковой температуре находятся водород (Н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) и углекислый газ (СО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). Массы газов одинаковы. Какой из газов и во сколько раз оказывает большее давление на стенки сосуд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WordArt 3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ст "Изопроцессы"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8352000" y="-27000"/>
            <a:ext cx="792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6868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Какому процессу соответствует график, изображенный на рисун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WordArt 3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ст "Изопроцессы"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8352000" y="-27000"/>
            <a:ext cx="792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9"/>
          <p:cNvSpPr/>
          <p:nvPr/>
        </p:nvSpPr>
        <p:spPr>
          <a:xfrm>
            <a:off x="5796000" y="5516640"/>
            <a:ext cx="2952720" cy="0"/>
          </a:xfrm>
          <a:prstGeom prst="line">
            <a:avLst/>
          </a:prstGeom>
          <a:ln w="34920">
            <a:solidFill>
              <a:srgbClr val="33339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10"/>
          <p:cNvGrpSpPr/>
          <p:nvPr/>
        </p:nvGrpSpPr>
        <p:grpSpPr>
          <a:xfrm>
            <a:off x="5148360" y="1844640"/>
            <a:ext cx="3814560" cy="4392720"/>
            <a:chOff x="5148360" y="1844640"/>
            <a:chExt cx="3814560" cy="4392720"/>
          </a:xfrm>
        </p:grpSpPr>
        <p:sp>
          <p:nvSpPr>
            <p:cNvPr id="356" name="Line 11"/>
            <p:cNvSpPr/>
            <p:nvPr/>
          </p:nvSpPr>
          <p:spPr>
            <a:xfrm flipV="1">
              <a:off x="5796000" y="2133360"/>
              <a:ext cx="0" cy="3382920"/>
            </a:xfrm>
            <a:prstGeom prst="line">
              <a:avLst/>
            </a:prstGeom>
            <a:ln w="34920">
              <a:solidFill>
                <a:srgbClr val="333399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12"/>
            <p:cNvSpPr/>
            <p:nvPr/>
          </p:nvSpPr>
          <p:spPr>
            <a:xfrm flipV="1">
              <a:off x="5796000" y="4868640"/>
              <a:ext cx="720720" cy="647640"/>
            </a:xfrm>
            <a:prstGeom prst="line">
              <a:avLst/>
            </a:prstGeom>
            <a:ln w="316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13"/>
            <p:cNvSpPr/>
            <p:nvPr/>
          </p:nvSpPr>
          <p:spPr>
            <a:xfrm flipV="1">
              <a:off x="6516720" y="3068280"/>
              <a:ext cx="1800360" cy="1800360"/>
            </a:xfrm>
            <a:prstGeom prst="line">
              <a:avLst/>
            </a:prstGeom>
            <a:ln w="31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4"/>
            <p:cNvSpPr/>
            <p:nvPr/>
          </p:nvSpPr>
          <p:spPr>
            <a:xfrm>
              <a:off x="5148360" y="1844640"/>
              <a:ext cx="50328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15"/>
            <p:cNvSpPr/>
            <p:nvPr/>
          </p:nvSpPr>
          <p:spPr>
            <a:xfrm>
              <a:off x="8459640" y="5300640"/>
              <a:ext cx="50328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 Black"/>
                </a:rPr>
                <a:t>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16"/>
            <p:cNvSpPr/>
            <p:nvPr/>
          </p:nvSpPr>
          <p:spPr>
            <a:xfrm>
              <a:off x="5435640" y="5373720"/>
              <a:ext cx="50328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 Black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6868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Arial Black"/>
              </a:rPr>
              <a:t>Во сколько раз изменится давление воздуха в цилиндре (рис), если поршень переместить на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L</a:t>
            </a:r>
            <a:r>
              <a:rPr b="0" i="1" lang="ru-RU" sz="2800" spc="-1" strike="noStrike">
                <a:solidFill>
                  <a:srgbClr val="000000"/>
                </a:solidFill>
                <a:latin typeface="Arial Black"/>
              </a:rPr>
              <a:t>/3 влево</a:t>
            </a: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WordArt 3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ст "Изопроцессы"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8352000" y="-27000"/>
            <a:ext cx="792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9"/>
          <p:cNvSpPr/>
          <p:nvPr/>
        </p:nvSpPr>
        <p:spPr>
          <a:xfrm>
            <a:off x="8459640" y="5300640"/>
            <a:ext cx="503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0"/>
          <p:cNvSpPr/>
          <p:nvPr/>
        </p:nvSpPr>
        <p:spPr>
          <a:xfrm>
            <a:off x="5435640" y="3139920"/>
            <a:ext cx="2305080" cy="144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11"/>
          <p:cNvGrpSpPr/>
          <p:nvPr/>
        </p:nvGrpSpPr>
        <p:grpSpPr>
          <a:xfrm>
            <a:off x="7596360" y="3139920"/>
            <a:ext cx="1368000" cy="1441440"/>
            <a:chOff x="7596360" y="3139920"/>
            <a:chExt cx="1368000" cy="1441440"/>
          </a:xfrm>
        </p:grpSpPr>
        <p:sp>
          <p:nvSpPr>
            <p:cNvPr id="369" name="Rectangle 12"/>
            <p:cNvSpPr/>
            <p:nvPr/>
          </p:nvSpPr>
          <p:spPr>
            <a:xfrm>
              <a:off x="7907400" y="3715920"/>
              <a:ext cx="870480" cy="28908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13"/>
            <p:cNvSpPr/>
            <p:nvPr/>
          </p:nvSpPr>
          <p:spPr>
            <a:xfrm>
              <a:off x="8777880" y="3357360"/>
              <a:ext cx="186480" cy="107928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4"/>
            <p:cNvSpPr/>
            <p:nvPr/>
          </p:nvSpPr>
          <p:spPr>
            <a:xfrm>
              <a:off x="7596360" y="3139920"/>
              <a:ext cx="311040" cy="144144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Oval 15"/>
          <p:cNvSpPr/>
          <p:nvPr/>
        </p:nvSpPr>
        <p:spPr>
          <a:xfrm>
            <a:off x="5580000" y="328464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16"/>
          <p:cNvSpPr/>
          <p:nvPr/>
        </p:nvSpPr>
        <p:spPr>
          <a:xfrm>
            <a:off x="5940360" y="342900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17"/>
          <p:cNvSpPr/>
          <p:nvPr/>
        </p:nvSpPr>
        <p:spPr>
          <a:xfrm>
            <a:off x="5580000" y="364500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18"/>
          <p:cNvSpPr/>
          <p:nvPr/>
        </p:nvSpPr>
        <p:spPr>
          <a:xfrm>
            <a:off x="6300720" y="328464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19"/>
          <p:cNvSpPr/>
          <p:nvPr/>
        </p:nvSpPr>
        <p:spPr>
          <a:xfrm>
            <a:off x="6732720" y="357336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20"/>
          <p:cNvSpPr/>
          <p:nvPr/>
        </p:nvSpPr>
        <p:spPr>
          <a:xfrm>
            <a:off x="6300720" y="364500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21"/>
          <p:cNvSpPr/>
          <p:nvPr/>
        </p:nvSpPr>
        <p:spPr>
          <a:xfrm>
            <a:off x="5867280" y="378792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22"/>
          <p:cNvSpPr/>
          <p:nvPr/>
        </p:nvSpPr>
        <p:spPr>
          <a:xfrm>
            <a:off x="6227640" y="393228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23"/>
          <p:cNvSpPr/>
          <p:nvPr/>
        </p:nvSpPr>
        <p:spPr>
          <a:xfrm>
            <a:off x="5867280" y="414828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24"/>
          <p:cNvSpPr/>
          <p:nvPr/>
        </p:nvSpPr>
        <p:spPr>
          <a:xfrm>
            <a:off x="6516720" y="37879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25"/>
          <p:cNvSpPr/>
          <p:nvPr/>
        </p:nvSpPr>
        <p:spPr>
          <a:xfrm>
            <a:off x="6877080" y="393228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26"/>
          <p:cNvSpPr/>
          <p:nvPr/>
        </p:nvSpPr>
        <p:spPr>
          <a:xfrm>
            <a:off x="6516720" y="414828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27"/>
          <p:cNvSpPr/>
          <p:nvPr/>
        </p:nvSpPr>
        <p:spPr>
          <a:xfrm>
            <a:off x="7020000" y="33559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28"/>
          <p:cNvSpPr/>
          <p:nvPr/>
        </p:nvSpPr>
        <p:spPr>
          <a:xfrm>
            <a:off x="7093080" y="429264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29"/>
          <p:cNvSpPr/>
          <p:nvPr/>
        </p:nvSpPr>
        <p:spPr>
          <a:xfrm>
            <a:off x="6227640" y="429264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30"/>
          <p:cNvSpPr/>
          <p:nvPr/>
        </p:nvSpPr>
        <p:spPr>
          <a:xfrm>
            <a:off x="5508720" y="407664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31"/>
          <p:cNvSpPr/>
          <p:nvPr/>
        </p:nvSpPr>
        <p:spPr>
          <a:xfrm>
            <a:off x="5508720" y="43657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32"/>
          <p:cNvSpPr/>
          <p:nvPr/>
        </p:nvSpPr>
        <p:spPr>
          <a:xfrm flipV="1">
            <a:off x="5435640" y="256536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33"/>
          <p:cNvSpPr/>
          <p:nvPr/>
        </p:nvSpPr>
        <p:spPr>
          <a:xfrm flipV="1">
            <a:off x="7596360" y="256536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4"/>
          <p:cNvSpPr/>
          <p:nvPr/>
        </p:nvSpPr>
        <p:spPr>
          <a:xfrm>
            <a:off x="5435640" y="292428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35"/>
          <p:cNvSpPr/>
          <p:nvPr/>
        </p:nvSpPr>
        <p:spPr>
          <a:xfrm>
            <a:off x="5940360" y="2492280"/>
            <a:ext cx="792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8"/>
          <p:cNvSpPr/>
          <p:nvPr/>
        </p:nvSpPr>
        <p:spPr>
          <a:xfrm>
            <a:off x="7956720" y="4869000"/>
            <a:ext cx="1187280" cy="549000"/>
          </a:xfrm>
          <a:custGeom>
            <a:avLst/>
            <a:gdLst>
              <a:gd name="textAreaLeft" fmla="*/ 35280 w 1187280"/>
              <a:gd name="textAreaRight" fmla="*/ 1152000 w 1187280"/>
              <a:gd name="textAreaTop" fmla="*/ 35280 h 549000"/>
              <a:gd name="textAreaBottom" fmla="*/ 513720 h 549000"/>
            </a:gdLst>
            <a:ahLst/>
            <a:rect l="textAreaLeft" t="textAreaTop" r="textAreaRight" b="textAreaBottom"/>
            <a:pathLst>
              <a:path w="46696" h="21600">
                <a:moveTo>
                  <a:pt x="0" y="0"/>
                </a:moveTo>
                <a:lnTo>
                  <a:pt x="46696" y="0"/>
                </a:lnTo>
                <a:lnTo>
                  <a:pt x="46696" y="21600"/>
                </a:lnTo>
                <a:lnTo>
                  <a:pt x="0" y="21600"/>
                </a:lnTo>
                <a:close/>
              </a:path>
              <a:path fill="lightenLess" w="46696" h="21600">
                <a:moveTo>
                  <a:pt x="0" y="0"/>
                </a:moveTo>
                <a:lnTo>
                  <a:pt x="46696" y="0"/>
                </a:lnTo>
                <a:lnTo>
                  <a:pt x="45296" y="1400"/>
                </a:lnTo>
                <a:lnTo>
                  <a:pt x="1400" y="1400"/>
                </a:lnTo>
                <a:close/>
              </a:path>
              <a:path fill="darken" w="46696" h="21600">
                <a:moveTo>
                  <a:pt x="46696" y="0"/>
                </a:moveTo>
                <a:lnTo>
                  <a:pt x="46696" y="21600"/>
                </a:lnTo>
                <a:lnTo>
                  <a:pt x="45296" y="20200"/>
                </a:lnTo>
                <a:lnTo>
                  <a:pt x="45296" y="1400"/>
                </a:lnTo>
                <a:close/>
              </a:path>
              <a:path fill="darkenLess" w="46696" h="21600">
                <a:moveTo>
                  <a:pt x="46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6" y="20200"/>
                </a:lnTo>
                <a:close/>
              </a:path>
              <a:path fill="lighten" w="46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У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217" nodeType="clickEffect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4798E-006 L -0.07482 2.94798E-006 E">
                                      <p:cBhvr>
                                        <p:cTn id="220" dur="2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00023 L -0.10226 0.03168 E">
                                      <p:cBhvr>
                                        <p:cTn id="222" dur="20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94798E-006 L -0.01563 2.94798E-006 E">
                                      <p:cBhvr>
                                        <p:cTn id="224" dur="2000" fill="hold"/>
                                        <p:tgtEl>
                                          <p:spTgt spid="3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84971E-006 L -0.07084 0.00023 E">
                                      <p:cBhvr>
                                        <p:cTn id="226" dur="20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6868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Arial Black"/>
              </a:rPr>
              <a:t>Во сколько раз отличается плотность метана (СР4) от плотности кислорода (О2) при одинаковых условиях</a:t>
            </a: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WordArt 3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ст "Изопроцессы"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8352000" y="-27000"/>
            <a:ext cx="792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9"/>
          <p:cNvSpPr/>
          <p:nvPr/>
        </p:nvSpPr>
        <p:spPr>
          <a:xfrm>
            <a:off x="8459640" y="5300640"/>
            <a:ext cx="503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WordArt 19"/>
          <p:cNvSpPr txBox="1"/>
          <p:nvPr/>
        </p:nvSpPr>
        <p:spPr>
          <a:xfrm>
            <a:off x="1763640" y="49320"/>
            <a:ext cx="5472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зультат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1" name="AutoShape 20"/>
          <p:cNvSpPr/>
          <p:nvPr/>
        </p:nvSpPr>
        <p:spPr>
          <a:xfrm>
            <a:off x="3419640" y="6524640"/>
            <a:ext cx="2952720" cy="333360"/>
          </a:xfrm>
          <a:custGeom>
            <a:avLst/>
            <a:gdLst>
              <a:gd name="textAreaLeft" fmla="*/ 21600 w 2952720"/>
              <a:gd name="textAreaRight" fmla="*/ 2931120 w 29527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191138" h="21600">
                <a:moveTo>
                  <a:pt x="0" y="0"/>
                </a:moveTo>
                <a:lnTo>
                  <a:pt x="191138" y="0"/>
                </a:lnTo>
                <a:lnTo>
                  <a:pt x="191138" y="21600"/>
                </a:lnTo>
                <a:lnTo>
                  <a:pt x="0" y="21600"/>
                </a:lnTo>
                <a:close/>
              </a:path>
              <a:path fill="lightenLess" w="191138" h="21600">
                <a:moveTo>
                  <a:pt x="0" y="0"/>
                </a:moveTo>
                <a:lnTo>
                  <a:pt x="191138" y="0"/>
                </a:lnTo>
                <a:lnTo>
                  <a:pt x="189738" y="1400"/>
                </a:lnTo>
                <a:lnTo>
                  <a:pt x="1400" y="1400"/>
                </a:lnTo>
                <a:close/>
              </a:path>
              <a:path fill="darken" w="191138" h="21600">
                <a:moveTo>
                  <a:pt x="191138" y="0"/>
                </a:moveTo>
                <a:lnTo>
                  <a:pt x="191138" y="21600"/>
                </a:lnTo>
                <a:lnTo>
                  <a:pt x="189738" y="20200"/>
                </a:lnTo>
                <a:lnTo>
                  <a:pt x="189738" y="1400"/>
                </a:lnTo>
                <a:close/>
              </a:path>
              <a:path fill="darkenLess" w="191138" h="21600">
                <a:moveTo>
                  <a:pt x="1911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9738" y="20200"/>
                </a:lnTo>
                <a:close/>
              </a:path>
              <a:path fill="lighten" w="1911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К содерж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179280" y="620640"/>
            <a:ext cx="896472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он, А.Е. Физика. Законы, формулы, алгоритмы решения задач: материалы для подготовки к единому государственному экзамену и вступительным экзаменам в аузы/ А.Е.Марон, Д.Н.Городецкий, В.Е.Марон, Е.А.Марон; под ред.А.Е.Марона.-М.:Дрофа, 200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сьянов, В.А. Физика.10кл.:Учебн.для общеобразоват.учеб.заведений.-3-е изд. – М.:Дрофа, 200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он, А.Е. Физика. 10класс: дидактические материалы/А.Е.Марон, Е.А.Марон.-6-е изд.-М.:Дрофа, 200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WordArt 4"/>
          <p:cNvSpPr txBox="1"/>
          <p:nvPr/>
        </p:nvSpPr>
        <p:spPr>
          <a:xfrm>
            <a:off x="1763640" y="49320"/>
            <a:ext cx="5472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исок литературы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24000" y="692280"/>
          <a:ext cx="8820000" cy="5729040"/>
        </p:xfrm>
        <a:graphic>
          <a:graphicData uri="http://schemas.openxmlformats.org/drawingml/2006/table">
            <a:tbl>
              <a:tblPr/>
              <a:tblGrid>
                <a:gridCol w="2205000"/>
                <a:gridCol w="2205000"/>
                <a:gridCol w="2205000"/>
                <a:gridCol w="2205000"/>
              </a:tblGrid>
              <a:tr h="884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Изотер-мическ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Изобар-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Изохор-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преде-л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Пара-мет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7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Зако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=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График изменения макроскопи-ческих парамет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8" name="Picture 149" descr="J0239011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059280" y="1700280"/>
            <a:ext cx="1089000" cy="895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0" descr="J0239011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148360" y="1700280"/>
            <a:ext cx="1089000" cy="895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1" descr="J0239011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380360" y="1700280"/>
            <a:ext cx="1089000" cy="895320"/>
          </a:xfrm>
          <a:prstGeom prst="rect">
            <a:avLst/>
          </a:prstGeom>
          <a:ln w="0">
            <a:noFill/>
          </a:ln>
        </p:spPr>
      </p:pic>
      <p:sp>
        <p:nvSpPr>
          <p:cNvPr id="61" name="WordArt 153"/>
          <p:cNvSpPr txBox="1"/>
          <p:nvPr/>
        </p:nvSpPr>
        <p:spPr>
          <a:xfrm>
            <a:off x="2843280" y="2924280"/>
            <a:ext cx="1523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=const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WordArt 155"/>
          <p:cNvSpPr txBox="1"/>
          <p:nvPr/>
        </p:nvSpPr>
        <p:spPr>
          <a:xfrm>
            <a:off x="5003640" y="2924280"/>
            <a:ext cx="1524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=const</a:t>
            </a:r>
            <a:endParaRPr b="0" lang="en-US" sz="18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WordArt 156"/>
          <p:cNvSpPr txBox="1"/>
          <p:nvPr/>
        </p:nvSpPr>
        <p:spPr>
          <a:xfrm>
            <a:off x="7236000" y="2924280"/>
            <a:ext cx="1523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V=const</a:t>
            </a:r>
            <a:endParaRPr b="0" lang="en-US" sz="1800" spc="1" strike="noStrike">
              <a:ln w="0">
                <a:noFill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Rectangle 165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164"/>
              <p:cNvSpPr txBox="1"/>
              <p:nvPr/>
            </p:nvSpPr>
            <p:spPr>
              <a:xfrm>
                <a:off x="4859280" y="3860640"/>
                <a:ext cx="1800360" cy="9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166"/>
              <p:cNvSpPr txBox="1"/>
              <p:nvPr/>
            </p:nvSpPr>
            <p:spPr>
              <a:xfrm>
                <a:off x="7164360" y="3886200"/>
                <a:ext cx="167472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" name="WordArt 167"/>
          <p:cNvSpPr txBox="1"/>
          <p:nvPr/>
        </p:nvSpPr>
        <p:spPr>
          <a:xfrm>
            <a:off x="1979640" y="49320"/>
            <a:ext cx="5761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ЗОПРОЦЕССЫ</a:t>
            </a:r>
            <a:endParaRPr b="0" lang="en-US" sz="1800" spc="1" strike="noStrike">
              <a:ln w="0">
                <a:noFill/>
              </a:ln>
              <a:blipFill rotWithShape="0">
                <a:blip r:embed="rId1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8" name="isoterm.avi" descr=""/>
          <p:cNvPicPr/>
          <p:nvPr/>
        </p:nvPicPr>
        <p:blipFill>
          <a:blip r:embed="rId16"/>
          <a:stretch/>
        </p:blipFill>
        <p:spPr>
          <a:xfrm>
            <a:off x="2700360" y="4941720"/>
            <a:ext cx="1800360" cy="1349640"/>
          </a:xfrm>
          <a:prstGeom prst="rect">
            <a:avLst/>
          </a:prstGeom>
          <a:ln w="0">
            <a:noFill/>
          </a:ln>
        </p:spPr>
      </p:pic>
      <p:pic>
        <p:nvPicPr>
          <p:cNvPr id="69" name="isobar.avi" descr=""/>
          <p:cNvPicPr/>
          <p:nvPr/>
        </p:nvPicPr>
        <p:blipFill>
          <a:blip r:embed="rId17"/>
          <a:stretch/>
        </p:blipFill>
        <p:spPr>
          <a:xfrm>
            <a:off x="4932360" y="4941720"/>
            <a:ext cx="1800360" cy="1351080"/>
          </a:xfrm>
          <a:prstGeom prst="rect">
            <a:avLst/>
          </a:prstGeom>
          <a:ln w="0">
            <a:noFill/>
          </a:ln>
        </p:spPr>
      </p:pic>
      <p:pic>
        <p:nvPicPr>
          <p:cNvPr id="70" name="isoHOR.avi" descr=""/>
          <p:cNvPicPr/>
          <p:nvPr/>
        </p:nvPicPr>
        <p:blipFill>
          <a:blip r:embed="rId18"/>
          <a:stretch/>
        </p:blipFill>
        <p:spPr>
          <a:xfrm>
            <a:off x="7093080" y="4941720"/>
            <a:ext cx="1800000" cy="134964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210">
            <a:hlinkClick r:id="rId19" action="ppaction://hlinksldjump"/>
          </p:cNvPr>
          <p:cNvSpPr/>
          <p:nvPr/>
        </p:nvSpPr>
        <p:spPr>
          <a:xfrm>
            <a:off x="3708360" y="6453360"/>
            <a:ext cx="1871640" cy="404640"/>
          </a:xfrm>
          <a:custGeom>
            <a:avLst/>
            <a:gdLst>
              <a:gd name="textAreaLeft" fmla="*/ 25920 w 1871640"/>
              <a:gd name="textAreaRight" fmla="*/ 1845720 w 1871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99840" h="21600">
                <a:moveTo>
                  <a:pt x="0" y="0"/>
                </a:moveTo>
                <a:lnTo>
                  <a:pt x="99840" y="0"/>
                </a:lnTo>
                <a:lnTo>
                  <a:pt x="99840" y="21600"/>
                </a:lnTo>
                <a:lnTo>
                  <a:pt x="0" y="21600"/>
                </a:lnTo>
                <a:close/>
              </a:path>
              <a:path fill="lightenLess" w="99840" h="21600">
                <a:moveTo>
                  <a:pt x="0" y="0"/>
                </a:moveTo>
                <a:lnTo>
                  <a:pt x="99840" y="0"/>
                </a:lnTo>
                <a:lnTo>
                  <a:pt x="98440" y="1400"/>
                </a:lnTo>
                <a:lnTo>
                  <a:pt x="1400" y="1400"/>
                </a:lnTo>
                <a:close/>
              </a:path>
              <a:path fill="darken" w="99840" h="21600">
                <a:moveTo>
                  <a:pt x="99840" y="0"/>
                </a:moveTo>
                <a:lnTo>
                  <a:pt x="99840" y="21600"/>
                </a:lnTo>
                <a:lnTo>
                  <a:pt x="98440" y="20200"/>
                </a:lnTo>
                <a:lnTo>
                  <a:pt x="98440" y="1400"/>
                </a:lnTo>
                <a:close/>
              </a:path>
              <a:path fill="darkenLess" w="99840" h="21600">
                <a:moveTo>
                  <a:pt x="998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440" y="20200"/>
                </a:lnTo>
                <a:close/>
              </a:path>
              <a:path fill="lighten" w="998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250560" y="691920"/>
            <a:ext cx="889308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99"/>
                </a:solidFill>
                <a:uFillTx/>
                <a:latin typeface="Arial Black"/>
              </a:rPr>
              <a:t>Изопроцесс</a:t>
            </a:r>
            <a:r>
              <a:rPr b="0" lang="ru-RU" sz="32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 Black"/>
              </a:rPr>
              <a:t>– процесс, при котором один из макроскопических параметров состояния данной массы газа остается постоян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Макроскопические параметры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 – </a:t>
            </a:r>
            <a:r>
              <a:rPr b="0" i="1" lang="ru-RU" sz="3200" spc="-1" strike="noStrike">
                <a:solidFill>
                  <a:srgbClr val="000000"/>
                </a:solidFill>
                <a:latin typeface="Arial Black"/>
              </a:rPr>
              <a:t>параметры характеризующие макросистему: давление, температура, объем (</a:t>
            </a: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P,V,T</a:t>
            </a:r>
            <a:r>
              <a:rPr b="0" i="1" lang="ru-RU" sz="32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5"/>
          <p:cNvSpPr txBox="1"/>
          <p:nvPr/>
        </p:nvSpPr>
        <p:spPr>
          <a:xfrm>
            <a:off x="1763640" y="49320"/>
            <a:ext cx="5472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ПРЕДЕЛЕНИ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AutoShape 6">
            <a:hlinkClick r:id="rId3" action="ppaction://hlinksldjump"/>
          </p:cNvPr>
          <p:cNvSpPr/>
          <p:nvPr/>
        </p:nvSpPr>
        <p:spPr>
          <a:xfrm>
            <a:off x="8028000" y="6021360"/>
            <a:ext cx="1116000" cy="836640"/>
          </a:xfrm>
          <a:custGeom>
            <a:avLst/>
            <a:gdLst>
              <a:gd name="textAreaLeft" fmla="*/ 54000 w 1116000"/>
              <a:gd name="textAreaRight" fmla="*/ 1062000 w 1116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8809" h="21600">
                <a:moveTo>
                  <a:pt x="0" y="0"/>
                </a:moveTo>
                <a:lnTo>
                  <a:pt x="28809" y="0"/>
                </a:lnTo>
                <a:lnTo>
                  <a:pt x="28809" y="21600"/>
                </a:lnTo>
                <a:lnTo>
                  <a:pt x="0" y="21600"/>
                </a:lnTo>
                <a:close/>
              </a:path>
              <a:path fill="lightenLess" w="28809" h="21600">
                <a:moveTo>
                  <a:pt x="0" y="0"/>
                </a:moveTo>
                <a:lnTo>
                  <a:pt x="28809" y="0"/>
                </a:lnTo>
                <a:lnTo>
                  <a:pt x="27409" y="1400"/>
                </a:lnTo>
                <a:lnTo>
                  <a:pt x="1400" y="1400"/>
                </a:lnTo>
                <a:close/>
              </a:path>
              <a:path fill="darken" w="28809" h="21600">
                <a:moveTo>
                  <a:pt x="28809" y="0"/>
                </a:moveTo>
                <a:lnTo>
                  <a:pt x="28809" y="21600"/>
                </a:lnTo>
                <a:lnTo>
                  <a:pt x="27409" y="20200"/>
                </a:lnTo>
                <a:lnTo>
                  <a:pt x="27409" y="1400"/>
                </a:lnTo>
                <a:close/>
              </a:path>
              <a:path fill="darkenLess" w="28809" h="21600">
                <a:moveTo>
                  <a:pt x="28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9" y="20200"/>
                </a:lnTo>
                <a:close/>
              </a:path>
              <a:path fill="lighten" w="28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9" h="21600">
                <a:moveTo>
                  <a:pt x="14405" y="3837"/>
                </a:moveTo>
                <a:lnTo>
                  <a:pt x="16981" y="6448"/>
                </a:ln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lnTo>
                  <a:pt x="21368" y="10800"/>
                </a:lnTo>
                <a:lnTo>
                  <a:pt x="19714" y="10800"/>
                </a:lnTo>
                <a:lnTo>
                  <a:pt x="19714" y="17989"/>
                </a:lnTo>
                <a:lnTo>
                  <a:pt x="9095" y="17989"/>
                </a:lnTo>
                <a:lnTo>
                  <a:pt x="9095" y="10800"/>
                </a:lnTo>
                <a:lnTo>
                  <a:pt x="7442" y="10800"/>
                </a:lnTo>
                <a:close/>
              </a:path>
              <a:path fill="darkenLess" w="28809" h="21600">
                <a:moveTo>
                  <a:pt x="16981" y="6448"/>
                </a:move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close/>
              </a:path>
              <a:path fill="darkenLess" w="28809" h="21600">
                <a:moveTo>
                  <a:pt x="13482" y="14299"/>
                </a:moveTo>
                <a:lnTo>
                  <a:pt x="15327" y="14299"/>
                </a:lnTo>
                <a:lnTo>
                  <a:pt x="15327" y="17989"/>
                </a:lnTo>
                <a:lnTo>
                  <a:pt x="19714" y="17989"/>
                </a:lnTo>
                <a:lnTo>
                  <a:pt x="19714" y="10800"/>
                </a:lnTo>
                <a:lnTo>
                  <a:pt x="9095" y="10800"/>
                </a:lnTo>
                <a:lnTo>
                  <a:pt x="9095" y="17989"/>
                </a:lnTo>
                <a:lnTo>
                  <a:pt x="13482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250560" y="692280"/>
            <a:ext cx="871380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99"/>
                </a:solidFill>
                <a:uFillTx/>
                <a:latin typeface="Arial Black"/>
              </a:rPr>
              <a:t>Изотермически</a:t>
            </a:r>
            <a:r>
              <a:rPr b="0" lang="ru-RU" sz="3200" spc="-1" strike="noStrike" u="sng">
                <a:solidFill>
                  <a:srgbClr val="000099"/>
                </a:solidFill>
                <a:uFillTx/>
                <a:latin typeface="Arial Black"/>
              </a:rPr>
              <a:t>	</a:t>
            </a:r>
            <a:r>
              <a:rPr b="0" lang="ru-RU" sz="3200" spc="-1" strike="noStrike" u="sng">
                <a:solidFill>
                  <a:srgbClr val="000099"/>
                </a:solidFill>
                <a:uFillTx/>
                <a:latin typeface="Arial Black"/>
              </a:rPr>
              <a:t>й процесс (закон Бойля-Мариотта)</a:t>
            </a:r>
            <a:r>
              <a:rPr b="0" lang="ru-RU" sz="32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 Black"/>
              </a:rPr>
              <a:t>– процесс изменения состояния определенной массы газа при постоянной температу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При изотермическом процессе Т=</a:t>
            </a:r>
            <a:r>
              <a:rPr b="0" i="1" lang="en-US" sz="3200" spc="-1" strike="noStrike">
                <a:solidFill>
                  <a:srgbClr val="000099"/>
                </a:solidFill>
                <a:latin typeface="Arial Black"/>
              </a:rPr>
              <a:t>const</a:t>
            </a: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, </a:t>
            </a:r>
            <a:r>
              <a:rPr b="0" i="1" lang="en-US" sz="3200" spc="-1" strike="noStrike">
                <a:solidFill>
                  <a:srgbClr val="000099"/>
                </a:solidFill>
                <a:latin typeface="Arial Black"/>
              </a:rPr>
              <a:t>m= const</a:t>
            </a: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WordArt 4"/>
          <p:cNvSpPr txBox="1"/>
          <p:nvPr/>
        </p:nvSpPr>
        <p:spPr>
          <a:xfrm>
            <a:off x="1763640" y="49320"/>
            <a:ext cx="5472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ПРЕДЕЛЕНИ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" name="AutoShape 5">
            <a:hlinkClick r:id="rId3" action="ppaction://hlinksldjump"/>
          </p:cNvPr>
          <p:cNvSpPr/>
          <p:nvPr/>
        </p:nvSpPr>
        <p:spPr>
          <a:xfrm>
            <a:off x="8028000" y="6021360"/>
            <a:ext cx="1116000" cy="836640"/>
          </a:xfrm>
          <a:custGeom>
            <a:avLst/>
            <a:gdLst>
              <a:gd name="textAreaLeft" fmla="*/ 54000 w 1116000"/>
              <a:gd name="textAreaRight" fmla="*/ 1062000 w 1116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8809" h="21600">
                <a:moveTo>
                  <a:pt x="0" y="0"/>
                </a:moveTo>
                <a:lnTo>
                  <a:pt x="28809" y="0"/>
                </a:lnTo>
                <a:lnTo>
                  <a:pt x="28809" y="21600"/>
                </a:lnTo>
                <a:lnTo>
                  <a:pt x="0" y="21600"/>
                </a:lnTo>
                <a:close/>
              </a:path>
              <a:path fill="lightenLess" w="28809" h="21600">
                <a:moveTo>
                  <a:pt x="0" y="0"/>
                </a:moveTo>
                <a:lnTo>
                  <a:pt x="28809" y="0"/>
                </a:lnTo>
                <a:lnTo>
                  <a:pt x="27409" y="1400"/>
                </a:lnTo>
                <a:lnTo>
                  <a:pt x="1400" y="1400"/>
                </a:lnTo>
                <a:close/>
              </a:path>
              <a:path fill="darken" w="28809" h="21600">
                <a:moveTo>
                  <a:pt x="28809" y="0"/>
                </a:moveTo>
                <a:lnTo>
                  <a:pt x="28809" y="21600"/>
                </a:lnTo>
                <a:lnTo>
                  <a:pt x="27409" y="20200"/>
                </a:lnTo>
                <a:lnTo>
                  <a:pt x="27409" y="1400"/>
                </a:lnTo>
                <a:close/>
              </a:path>
              <a:path fill="darkenLess" w="28809" h="21600">
                <a:moveTo>
                  <a:pt x="28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9" y="20200"/>
                </a:lnTo>
                <a:close/>
              </a:path>
              <a:path fill="lighten" w="28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9" h="21600">
                <a:moveTo>
                  <a:pt x="14405" y="3837"/>
                </a:moveTo>
                <a:lnTo>
                  <a:pt x="16981" y="6448"/>
                </a:ln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lnTo>
                  <a:pt x="21368" y="10800"/>
                </a:lnTo>
                <a:lnTo>
                  <a:pt x="19714" y="10800"/>
                </a:lnTo>
                <a:lnTo>
                  <a:pt x="19714" y="17989"/>
                </a:lnTo>
                <a:lnTo>
                  <a:pt x="9095" y="17989"/>
                </a:lnTo>
                <a:lnTo>
                  <a:pt x="9095" y="10800"/>
                </a:lnTo>
                <a:lnTo>
                  <a:pt x="7442" y="10800"/>
                </a:lnTo>
                <a:close/>
              </a:path>
              <a:path fill="darkenLess" w="28809" h="21600">
                <a:moveTo>
                  <a:pt x="16981" y="6448"/>
                </a:move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close/>
              </a:path>
              <a:path fill="darkenLess" w="28809" h="21600">
                <a:moveTo>
                  <a:pt x="13482" y="14299"/>
                </a:moveTo>
                <a:lnTo>
                  <a:pt x="15327" y="14299"/>
                </a:lnTo>
                <a:lnTo>
                  <a:pt x="15327" y="17989"/>
                </a:lnTo>
                <a:lnTo>
                  <a:pt x="19714" y="17989"/>
                </a:lnTo>
                <a:lnTo>
                  <a:pt x="19714" y="10800"/>
                </a:lnTo>
                <a:lnTo>
                  <a:pt x="9095" y="10800"/>
                </a:lnTo>
                <a:lnTo>
                  <a:pt x="9095" y="17989"/>
                </a:lnTo>
                <a:lnTo>
                  <a:pt x="13482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820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99"/>
                </a:solidFill>
                <a:uFillTx/>
                <a:latin typeface="Arial Black"/>
              </a:rPr>
              <a:t>Изобарный процесс(закон Гей-Люссака)</a:t>
            </a:r>
            <a:r>
              <a:rPr b="0" lang="ru-RU" sz="32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 Black"/>
              </a:rPr>
              <a:t>– процесс изменения состояния определенной массы газа при постоянном давл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При изобарном процессе </a:t>
            </a:r>
            <a:r>
              <a:rPr b="0" i="1" lang="en-US" sz="3200" spc="-1" strike="noStrike">
                <a:solidFill>
                  <a:srgbClr val="000099"/>
                </a:solidFill>
                <a:latin typeface="Arial Black"/>
              </a:rPr>
              <a:t>p</a:t>
            </a: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=</a:t>
            </a:r>
            <a:r>
              <a:rPr b="0" i="1" lang="en-US" sz="3200" spc="-1" strike="noStrike">
                <a:solidFill>
                  <a:srgbClr val="000099"/>
                </a:solidFill>
                <a:latin typeface="Arial Black"/>
              </a:rPr>
              <a:t>const</a:t>
            </a: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, </a:t>
            </a:r>
            <a:r>
              <a:rPr b="0" i="1" lang="en-US" sz="3200" spc="-1" strike="noStrike">
                <a:solidFill>
                  <a:srgbClr val="000099"/>
                </a:solidFill>
                <a:latin typeface="Arial Black"/>
              </a:rPr>
              <a:t>m= const</a:t>
            </a: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4"/>
          <p:cNvSpPr txBox="1"/>
          <p:nvPr/>
        </p:nvSpPr>
        <p:spPr>
          <a:xfrm>
            <a:off x="1763640" y="49320"/>
            <a:ext cx="5472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ПРЕДЕЛЕНИ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8028000" y="6021360"/>
            <a:ext cx="1116000" cy="836640"/>
          </a:xfrm>
          <a:custGeom>
            <a:avLst/>
            <a:gdLst>
              <a:gd name="textAreaLeft" fmla="*/ 54000 w 1116000"/>
              <a:gd name="textAreaRight" fmla="*/ 1062000 w 1116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8809" h="21600">
                <a:moveTo>
                  <a:pt x="0" y="0"/>
                </a:moveTo>
                <a:lnTo>
                  <a:pt x="28809" y="0"/>
                </a:lnTo>
                <a:lnTo>
                  <a:pt x="28809" y="21600"/>
                </a:lnTo>
                <a:lnTo>
                  <a:pt x="0" y="21600"/>
                </a:lnTo>
                <a:close/>
              </a:path>
              <a:path fill="lightenLess" w="28809" h="21600">
                <a:moveTo>
                  <a:pt x="0" y="0"/>
                </a:moveTo>
                <a:lnTo>
                  <a:pt x="28809" y="0"/>
                </a:lnTo>
                <a:lnTo>
                  <a:pt x="27409" y="1400"/>
                </a:lnTo>
                <a:lnTo>
                  <a:pt x="1400" y="1400"/>
                </a:lnTo>
                <a:close/>
              </a:path>
              <a:path fill="darken" w="28809" h="21600">
                <a:moveTo>
                  <a:pt x="28809" y="0"/>
                </a:moveTo>
                <a:lnTo>
                  <a:pt x="28809" y="21600"/>
                </a:lnTo>
                <a:lnTo>
                  <a:pt x="27409" y="20200"/>
                </a:lnTo>
                <a:lnTo>
                  <a:pt x="27409" y="1400"/>
                </a:lnTo>
                <a:close/>
              </a:path>
              <a:path fill="darkenLess" w="28809" h="21600">
                <a:moveTo>
                  <a:pt x="28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9" y="20200"/>
                </a:lnTo>
                <a:close/>
              </a:path>
              <a:path fill="lighten" w="28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9" h="21600">
                <a:moveTo>
                  <a:pt x="14405" y="3837"/>
                </a:moveTo>
                <a:lnTo>
                  <a:pt x="16981" y="6448"/>
                </a:ln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lnTo>
                  <a:pt x="21368" y="10800"/>
                </a:lnTo>
                <a:lnTo>
                  <a:pt x="19714" y="10800"/>
                </a:lnTo>
                <a:lnTo>
                  <a:pt x="19714" y="17989"/>
                </a:lnTo>
                <a:lnTo>
                  <a:pt x="9095" y="17989"/>
                </a:lnTo>
                <a:lnTo>
                  <a:pt x="9095" y="10800"/>
                </a:lnTo>
                <a:lnTo>
                  <a:pt x="7442" y="10800"/>
                </a:lnTo>
                <a:close/>
              </a:path>
              <a:path fill="darkenLess" w="28809" h="21600">
                <a:moveTo>
                  <a:pt x="16981" y="6448"/>
                </a:move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close/>
              </a:path>
              <a:path fill="darkenLess" w="28809" h="21600">
                <a:moveTo>
                  <a:pt x="13482" y="14299"/>
                </a:moveTo>
                <a:lnTo>
                  <a:pt x="15327" y="14299"/>
                </a:lnTo>
                <a:lnTo>
                  <a:pt x="15327" y="17989"/>
                </a:lnTo>
                <a:lnTo>
                  <a:pt x="19714" y="17989"/>
                </a:lnTo>
                <a:lnTo>
                  <a:pt x="19714" y="10800"/>
                </a:lnTo>
                <a:lnTo>
                  <a:pt x="9095" y="10800"/>
                </a:lnTo>
                <a:lnTo>
                  <a:pt x="9095" y="17989"/>
                </a:lnTo>
                <a:lnTo>
                  <a:pt x="13482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820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99"/>
                </a:solidFill>
                <a:uFillTx/>
                <a:latin typeface="Arial Black"/>
              </a:rPr>
              <a:t>Изохорный процесс(закон Шарля)</a:t>
            </a:r>
            <a:r>
              <a:rPr b="0" lang="ru-RU" sz="32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 Black"/>
              </a:rPr>
              <a:t>– процесс изменения состояния определенной массы газа при постоянном объе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При изохорном процессе </a:t>
            </a:r>
            <a:r>
              <a:rPr b="0" i="1" lang="en-US" sz="3200" spc="-1" strike="noStrike">
                <a:solidFill>
                  <a:srgbClr val="000099"/>
                </a:solidFill>
                <a:latin typeface="Arial Black"/>
              </a:rPr>
              <a:t>V</a:t>
            </a: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=</a:t>
            </a:r>
            <a:r>
              <a:rPr b="0" i="1" lang="en-US" sz="3200" spc="-1" strike="noStrike">
                <a:solidFill>
                  <a:srgbClr val="000099"/>
                </a:solidFill>
                <a:latin typeface="Arial Black"/>
              </a:rPr>
              <a:t>const</a:t>
            </a: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, </a:t>
            </a:r>
            <a:r>
              <a:rPr b="0" i="1" lang="en-US" sz="3200" spc="-1" strike="noStrike">
                <a:solidFill>
                  <a:srgbClr val="000099"/>
                </a:solidFill>
                <a:latin typeface="Arial Black"/>
              </a:rPr>
              <a:t>m= const</a:t>
            </a: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3"/>
          <p:cNvSpPr txBox="1"/>
          <p:nvPr/>
        </p:nvSpPr>
        <p:spPr>
          <a:xfrm>
            <a:off x="1763640" y="49320"/>
            <a:ext cx="5472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ПРЕДЕЛЕНИ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8028000" y="6021360"/>
            <a:ext cx="1116000" cy="836640"/>
          </a:xfrm>
          <a:custGeom>
            <a:avLst/>
            <a:gdLst>
              <a:gd name="textAreaLeft" fmla="*/ 54000 w 1116000"/>
              <a:gd name="textAreaRight" fmla="*/ 1062000 w 1116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8809" h="21600">
                <a:moveTo>
                  <a:pt x="0" y="0"/>
                </a:moveTo>
                <a:lnTo>
                  <a:pt x="28809" y="0"/>
                </a:lnTo>
                <a:lnTo>
                  <a:pt x="28809" y="21600"/>
                </a:lnTo>
                <a:lnTo>
                  <a:pt x="0" y="21600"/>
                </a:lnTo>
                <a:close/>
              </a:path>
              <a:path fill="lightenLess" w="28809" h="21600">
                <a:moveTo>
                  <a:pt x="0" y="0"/>
                </a:moveTo>
                <a:lnTo>
                  <a:pt x="28809" y="0"/>
                </a:lnTo>
                <a:lnTo>
                  <a:pt x="27409" y="1400"/>
                </a:lnTo>
                <a:lnTo>
                  <a:pt x="1400" y="1400"/>
                </a:lnTo>
                <a:close/>
              </a:path>
              <a:path fill="darken" w="28809" h="21600">
                <a:moveTo>
                  <a:pt x="28809" y="0"/>
                </a:moveTo>
                <a:lnTo>
                  <a:pt x="28809" y="21600"/>
                </a:lnTo>
                <a:lnTo>
                  <a:pt x="27409" y="20200"/>
                </a:lnTo>
                <a:lnTo>
                  <a:pt x="27409" y="1400"/>
                </a:lnTo>
                <a:close/>
              </a:path>
              <a:path fill="darkenLess" w="28809" h="21600">
                <a:moveTo>
                  <a:pt x="28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9" y="20200"/>
                </a:lnTo>
                <a:close/>
              </a:path>
              <a:path fill="lighten" w="28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9" h="21600">
                <a:moveTo>
                  <a:pt x="14405" y="3837"/>
                </a:moveTo>
                <a:lnTo>
                  <a:pt x="16981" y="6448"/>
                </a:ln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lnTo>
                  <a:pt x="21368" y="10800"/>
                </a:lnTo>
                <a:lnTo>
                  <a:pt x="19714" y="10800"/>
                </a:lnTo>
                <a:lnTo>
                  <a:pt x="19714" y="17989"/>
                </a:lnTo>
                <a:lnTo>
                  <a:pt x="9095" y="17989"/>
                </a:lnTo>
                <a:lnTo>
                  <a:pt x="9095" y="10800"/>
                </a:lnTo>
                <a:lnTo>
                  <a:pt x="7442" y="10800"/>
                </a:lnTo>
                <a:close/>
              </a:path>
              <a:path fill="darkenLess" w="28809" h="21600">
                <a:moveTo>
                  <a:pt x="16981" y="6448"/>
                </a:move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close/>
              </a:path>
              <a:path fill="darkenLess" w="28809" h="21600">
                <a:moveTo>
                  <a:pt x="13482" y="14299"/>
                </a:moveTo>
                <a:lnTo>
                  <a:pt x="15327" y="14299"/>
                </a:lnTo>
                <a:lnTo>
                  <a:pt x="15327" y="17989"/>
                </a:lnTo>
                <a:lnTo>
                  <a:pt x="19714" y="17989"/>
                </a:lnTo>
                <a:lnTo>
                  <a:pt x="19714" y="10800"/>
                </a:lnTo>
                <a:lnTo>
                  <a:pt x="9095" y="10800"/>
                </a:lnTo>
                <a:lnTo>
                  <a:pt x="9095" y="17989"/>
                </a:lnTo>
                <a:lnTo>
                  <a:pt x="13482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4"/>
          <p:cNvSpPr txBox="1"/>
          <p:nvPr/>
        </p:nvSpPr>
        <p:spPr>
          <a:xfrm>
            <a:off x="1116000" y="44280"/>
            <a:ext cx="612144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РАФИКИ ИЗМЕНЕНИЯ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АКРОСКОПИЧЕСКИХ ПАРАМЕТРОВ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" name="Freeform 10"/>
          <p:cNvSpPr/>
          <p:nvPr/>
        </p:nvSpPr>
        <p:spPr>
          <a:xfrm>
            <a:off x="1116000" y="2205000"/>
            <a:ext cx="1584360" cy="158436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952" h="908">
                <a:moveTo>
                  <a:pt x="0" y="0"/>
                </a:moveTo>
                <a:cubicBezTo>
                  <a:pt x="11" y="242"/>
                  <a:pt x="22" y="484"/>
                  <a:pt x="181" y="635"/>
                </a:cubicBezTo>
                <a:cubicBezTo>
                  <a:pt x="340" y="786"/>
                  <a:pt x="824" y="863"/>
                  <a:pt x="952" y="908"/>
                </a:cubicBezTo>
              </a:path>
            </a:pathLst>
          </a:custGeom>
          <a:noFill/>
          <a:ln w="414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684360" y="4508640"/>
            <a:ext cx="2374920" cy="431640"/>
          </a:xfrm>
          <a:custGeom>
            <a:avLst/>
            <a:gdLst>
              <a:gd name="textAreaLeft" fmla="*/ 27720 w 2374920"/>
              <a:gd name="textAreaRight" fmla="*/ 2347200 w 2374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18764" h="21600">
                <a:moveTo>
                  <a:pt x="0" y="0"/>
                </a:moveTo>
                <a:lnTo>
                  <a:pt x="118764" y="0"/>
                </a:lnTo>
                <a:lnTo>
                  <a:pt x="118764" y="21600"/>
                </a:lnTo>
                <a:lnTo>
                  <a:pt x="0" y="21600"/>
                </a:lnTo>
                <a:close/>
              </a:path>
              <a:path fill="lightenLess" w="118764" h="21600">
                <a:moveTo>
                  <a:pt x="0" y="0"/>
                </a:moveTo>
                <a:lnTo>
                  <a:pt x="118764" y="0"/>
                </a:lnTo>
                <a:lnTo>
                  <a:pt x="117364" y="1400"/>
                </a:lnTo>
                <a:lnTo>
                  <a:pt x="1400" y="1400"/>
                </a:lnTo>
                <a:close/>
              </a:path>
              <a:path fill="darken" w="118764" h="21600">
                <a:moveTo>
                  <a:pt x="118764" y="0"/>
                </a:moveTo>
                <a:lnTo>
                  <a:pt x="118764" y="21600"/>
                </a:lnTo>
                <a:lnTo>
                  <a:pt x="117364" y="20200"/>
                </a:lnTo>
                <a:lnTo>
                  <a:pt x="117364" y="1400"/>
                </a:lnTo>
                <a:close/>
              </a:path>
              <a:path fill="darkenLess" w="118764" h="21600">
                <a:moveTo>
                  <a:pt x="11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364" y="20200"/>
                </a:lnTo>
                <a:close/>
              </a:path>
              <a:path fill="lighten" w="11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ИЗОТЕР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684360" y="5156280"/>
            <a:ext cx="2374920" cy="431640"/>
          </a:xfrm>
          <a:custGeom>
            <a:avLst/>
            <a:gdLst>
              <a:gd name="textAreaLeft" fmla="*/ 27720 w 2374920"/>
              <a:gd name="textAreaRight" fmla="*/ 2347200 w 2374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18764" h="21600">
                <a:moveTo>
                  <a:pt x="0" y="0"/>
                </a:moveTo>
                <a:lnTo>
                  <a:pt x="118764" y="0"/>
                </a:lnTo>
                <a:lnTo>
                  <a:pt x="118764" y="21600"/>
                </a:lnTo>
                <a:lnTo>
                  <a:pt x="0" y="21600"/>
                </a:lnTo>
                <a:close/>
              </a:path>
              <a:path fill="lightenLess" w="118764" h="21600">
                <a:moveTo>
                  <a:pt x="0" y="0"/>
                </a:moveTo>
                <a:lnTo>
                  <a:pt x="118764" y="0"/>
                </a:lnTo>
                <a:lnTo>
                  <a:pt x="117364" y="1400"/>
                </a:lnTo>
                <a:lnTo>
                  <a:pt x="1400" y="1400"/>
                </a:lnTo>
                <a:close/>
              </a:path>
              <a:path fill="darken" w="118764" h="21600">
                <a:moveTo>
                  <a:pt x="118764" y="0"/>
                </a:moveTo>
                <a:lnTo>
                  <a:pt x="118764" y="21600"/>
                </a:lnTo>
                <a:lnTo>
                  <a:pt x="117364" y="20200"/>
                </a:lnTo>
                <a:lnTo>
                  <a:pt x="117364" y="1400"/>
                </a:lnTo>
                <a:close/>
              </a:path>
              <a:path fill="darkenLess" w="118764" h="21600">
                <a:moveTo>
                  <a:pt x="11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364" y="20200"/>
                </a:lnTo>
                <a:close/>
              </a:path>
              <a:path fill="lighten" w="11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ИЗОБ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684360" y="5805360"/>
            <a:ext cx="2374920" cy="432000"/>
          </a:xfrm>
          <a:custGeom>
            <a:avLst/>
            <a:gdLst>
              <a:gd name="textAreaLeft" fmla="*/ 27720 w 2374920"/>
              <a:gd name="textAreaRight" fmla="*/ 2347200 w 2374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18665" h="21600">
                <a:moveTo>
                  <a:pt x="0" y="0"/>
                </a:moveTo>
                <a:lnTo>
                  <a:pt x="118665" y="0"/>
                </a:lnTo>
                <a:lnTo>
                  <a:pt x="118665" y="21600"/>
                </a:lnTo>
                <a:lnTo>
                  <a:pt x="0" y="21600"/>
                </a:lnTo>
                <a:close/>
              </a:path>
              <a:path fill="lightenLess" w="118665" h="21600">
                <a:moveTo>
                  <a:pt x="0" y="0"/>
                </a:moveTo>
                <a:lnTo>
                  <a:pt x="118665" y="0"/>
                </a:lnTo>
                <a:lnTo>
                  <a:pt x="117265" y="1400"/>
                </a:lnTo>
                <a:lnTo>
                  <a:pt x="1400" y="1400"/>
                </a:lnTo>
                <a:close/>
              </a:path>
              <a:path fill="darken" w="118665" h="21600">
                <a:moveTo>
                  <a:pt x="118665" y="0"/>
                </a:moveTo>
                <a:lnTo>
                  <a:pt x="118665" y="21600"/>
                </a:lnTo>
                <a:lnTo>
                  <a:pt x="117265" y="20200"/>
                </a:lnTo>
                <a:lnTo>
                  <a:pt x="117265" y="1400"/>
                </a:lnTo>
                <a:close/>
              </a:path>
              <a:path fill="darkenLess" w="118665" h="21600">
                <a:moveTo>
                  <a:pt x="118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265" y="20200"/>
                </a:lnTo>
                <a:close/>
              </a:path>
              <a:path fill="lighten" w="118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ИЗОХ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6"/>
          <p:cNvSpPr/>
          <p:nvPr/>
        </p:nvSpPr>
        <p:spPr>
          <a:xfrm>
            <a:off x="900000" y="2565360"/>
            <a:ext cx="1800360" cy="0"/>
          </a:xfrm>
          <a:prstGeom prst="line">
            <a:avLst/>
          </a:prstGeom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7"/>
          <p:cNvSpPr/>
          <p:nvPr/>
        </p:nvSpPr>
        <p:spPr>
          <a:xfrm>
            <a:off x="2484360" y="2349360"/>
            <a:ext cx="0" cy="1800360"/>
          </a:xfrm>
          <a:prstGeom prst="line">
            <a:avLst/>
          </a:prstGeom>
          <a:ln w="316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25"/>
          <p:cNvGrpSpPr/>
          <p:nvPr/>
        </p:nvGrpSpPr>
        <p:grpSpPr>
          <a:xfrm>
            <a:off x="611280" y="1700280"/>
            <a:ext cx="2448000" cy="2809800"/>
            <a:chOff x="611280" y="1700280"/>
            <a:chExt cx="2448000" cy="2809800"/>
          </a:xfrm>
        </p:grpSpPr>
        <p:sp>
          <p:nvSpPr>
            <p:cNvPr id="97" name="Line 5"/>
            <p:cNvSpPr/>
            <p:nvPr/>
          </p:nvSpPr>
          <p:spPr>
            <a:xfrm flipV="1">
              <a:off x="900000" y="1916280"/>
              <a:ext cx="0" cy="223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6"/>
            <p:cNvSpPr/>
            <p:nvPr/>
          </p:nvSpPr>
          <p:spPr>
            <a:xfrm>
              <a:off x="900000" y="4149720"/>
              <a:ext cx="201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8"/>
            <p:cNvSpPr/>
            <p:nvPr/>
          </p:nvSpPr>
          <p:spPr>
            <a:xfrm>
              <a:off x="612720" y="1700280"/>
              <a:ext cx="3589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 Black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9"/>
            <p:cNvSpPr/>
            <p:nvPr/>
          </p:nvSpPr>
          <p:spPr>
            <a:xfrm>
              <a:off x="2700360" y="4076640"/>
              <a:ext cx="3589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 Black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0"/>
            <p:cNvSpPr/>
            <p:nvPr/>
          </p:nvSpPr>
          <p:spPr>
            <a:xfrm>
              <a:off x="611280" y="4076640"/>
              <a:ext cx="35856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 Black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AutoShape 21"/>
          <p:cNvSpPr/>
          <p:nvPr/>
        </p:nvSpPr>
        <p:spPr>
          <a:xfrm>
            <a:off x="395280" y="765000"/>
            <a:ext cx="2664000" cy="432000"/>
          </a:xfrm>
          <a:custGeom>
            <a:avLst/>
            <a:gdLst>
              <a:gd name="textAreaLeft" fmla="*/ 27720 w 2664000"/>
              <a:gd name="textAreaRight" fmla="*/ 2636280 w 2664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33107" h="21600">
                <a:moveTo>
                  <a:pt x="0" y="0"/>
                </a:moveTo>
                <a:lnTo>
                  <a:pt x="133107" y="0"/>
                </a:lnTo>
                <a:lnTo>
                  <a:pt x="133107" y="21600"/>
                </a:lnTo>
                <a:lnTo>
                  <a:pt x="0" y="21600"/>
                </a:lnTo>
                <a:close/>
              </a:path>
              <a:path fill="lightenLess" w="133107" h="21600">
                <a:moveTo>
                  <a:pt x="0" y="0"/>
                </a:moveTo>
                <a:lnTo>
                  <a:pt x="133107" y="0"/>
                </a:lnTo>
                <a:lnTo>
                  <a:pt x="131707" y="1400"/>
                </a:lnTo>
                <a:lnTo>
                  <a:pt x="1400" y="1400"/>
                </a:lnTo>
                <a:close/>
              </a:path>
              <a:path fill="darken" w="133107" h="21600">
                <a:moveTo>
                  <a:pt x="133107" y="0"/>
                </a:moveTo>
                <a:lnTo>
                  <a:pt x="133107" y="21600"/>
                </a:lnTo>
                <a:lnTo>
                  <a:pt x="131707" y="20200"/>
                </a:lnTo>
                <a:lnTo>
                  <a:pt x="131707" y="1400"/>
                </a:lnTo>
                <a:close/>
              </a:path>
              <a:path fill="darkenLess" w="133107" h="21600">
                <a:moveTo>
                  <a:pt x="1331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1707" y="20200"/>
                </a:lnTo>
                <a:close/>
              </a:path>
              <a:path fill="lighten" w="1331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 Black"/>
              </a:rPr>
              <a:t>Подписать граф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24"/>
          <p:cNvGrpSpPr/>
          <p:nvPr/>
        </p:nvGrpSpPr>
        <p:grpSpPr>
          <a:xfrm>
            <a:off x="1154160" y="2276640"/>
            <a:ext cx="1546200" cy="1439640"/>
            <a:chOff x="1154160" y="2276640"/>
            <a:chExt cx="1546200" cy="1439640"/>
          </a:xfrm>
        </p:grpSpPr>
        <p:sp>
          <p:nvSpPr>
            <p:cNvPr id="104" name="WordArt 14"/>
            <p:cNvSpPr txBox="1"/>
            <p:nvPr/>
          </p:nvSpPr>
          <p:spPr>
            <a:xfrm rot="2299200">
              <a:off x="1042560" y="3141360"/>
              <a:ext cx="1440000" cy="141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изотерма</a:t>
              </a:r>
              <a:endPara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05" name="WordArt 22"/>
            <p:cNvSpPr txBox="1"/>
            <p:nvPr/>
          </p:nvSpPr>
          <p:spPr>
            <a:xfrm>
              <a:off x="1187280" y="2276640"/>
              <a:ext cx="1154160" cy="21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изобара</a:t>
              </a:r>
              <a:endParaRPr b="0" lang="en-US" sz="1800" spc="1" strike="noStrike">
                <a:ln w="0">
                  <a:noFill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06" name="WordArt 23"/>
            <p:cNvSpPr txBox="1"/>
            <p:nvPr/>
          </p:nvSpPr>
          <p:spPr>
            <a:xfrm rot="16200000">
              <a:off x="2088360" y="3104280"/>
              <a:ext cx="1079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00ff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изохора</a:t>
              </a:r>
              <a:endParaRPr b="0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107" name="Line 27"/>
          <p:cNvSpPr/>
          <p:nvPr/>
        </p:nvSpPr>
        <p:spPr>
          <a:xfrm flipV="1">
            <a:off x="3997440" y="1916280"/>
            <a:ext cx="0" cy="2233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8"/>
          <p:cNvSpPr/>
          <p:nvPr/>
        </p:nvSpPr>
        <p:spPr>
          <a:xfrm>
            <a:off x="3997440" y="4149720"/>
            <a:ext cx="201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9"/>
          <p:cNvSpPr/>
          <p:nvPr/>
        </p:nvSpPr>
        <p:spPr>
          <a:xfrm>
            <a:off x="3710160" y="1700280"/>
            <a:ext cx="3585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Black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0"/>
          <p:cNvSpPr/>
          <p:nvPr/>
        </p:nvSpPr>
        <p:spPr>
          <a:xfrm>
            <a:off x="5797440" y="4076640"/>
            <a:ext cx="358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Black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1"/>
          <p:cNvSpPr/>
          <p:nvPr/>
        </p:nvSpPr>
        <p:spPr>
          <a:xfrm>
            <a:off x="3708360" y="4076640"/>
            <a:ext cx="358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Black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32"/>
          <p:cNvGrpSpPr/>
          <p:nvPr/>
        </p:nvGrpSpPr>
        <p:grpSpPr>
          <a:xfrm>
            <a:off x="6516720" y="1698480"/>
            <a:ext cx="2448000" cy="2809800"/>
            <a:chOff x="6516720" y="1698480"/>
            <a:chExt cx="2448000" cy="2809800"/>
          </a:xfrm>
        </p:grpSpPr>
        <p:sp>
          <p:nvSpPr>
            <p:cNvPr id="113" name="Line 33"/>
            <p:cNvSpPr/>
            <p:nvPr/>
          </p:nvSpPr>
          <p:spPr>
            <a:xfrm flipV="1">
              <a:off x="6805440" y="1914480"/>
              <a:ext cx="0" cy="223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34"/>
            <p:cNvSpPr/>
            <p:nvPr/>
          </p:nvSpPr>
          <p:spPr>
            <a:xfrm>
              <a:off x="6805440" y="4147920"/>
              <a:ext cx="201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35"/>
            <p:cNvSpPr/>
            <p:nvPr/>
          </p:nvSpPr>
          <p:spPr>
            <a:xfrm>
              <a:off x="6518160" y="1698480"/>
              <a:ext cx="3589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 Black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36"/>
            <p:cNvSpPr/>
            <p:nvPr/>
          </p:nvSpPr>
          <p:spPr>
            <a:xfrm>
              <a:off x="8605800" y="4074840"/>
              <a:ext cx="3589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 Black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37"/>
            <p:cNvSpPr/>
            <p:nvPr/>
          </p:nvSpPr>
          <p:spPr>
            <a:xfrm>
              <a:off x="6516720" y="4074840"/>
              <a:ext cx="35856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 Black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AutoShape 38"/>
          <p:cNvSpPr/>
          <p:nvPr/>
        </p:nvSpPr>
        <p:spPr>
          <a:xfrm>
            <a:off x="3708360" y="4508640"/>
            <a:ext cx="2374920" cy="431640"/>
          </a:xfrm>
          <a:custGeom>
            <a:avLst/>
            <a:gdLst>
              <a:gd name="textAreaLeft" fmla="*/ 27720 w 2374920"/>
              <a:gd name="textAreaRight" fmla="*/ 2347200 w 2374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18764" h="21600">
                <a:moveTo>
                  <a:pt x="0" y="0"/>
                </a:moveTo>
                <a:lnTo>
                  <a:pt x="118764" y="0"/>
                </a:lnTo>
                <a:lnTo>
                  <a:pt x="118764" y="21600"/>
                </a:lnTo>
                <a:lnTo>
                  <a:pt x="0" y="21600"/>
                </a:lnTo>
                <a:close/>
              </a:path>
              <a:path fill="lightenLess" w="118764" h="21600">
                <a:moveTo>
                  <a:pt x="0" y="0"/>
                </a:moveTo>
                <a:lnTo>
                  <a:pt x="118764" y="0"/>
                </a:lnTo>
                <a:lnTo>
                  <a:pt x="117364" y="1400"/>
                </a:lnTo>
                <a:lnTo>
                  <a:pt x="1400" y="1400"/>
                </a:lnTo>
                <a:close/>
              </a:path>
              <a:path fill="darken" w="118764" h="21600">
                <a:moveTo>
                  <a:pt x="118764" y="0"/>
                </a:moveTo>
                <a:lnTo>
                  <a:pt x="118764" y="21600"/>
                </a:lnTo>
                <a:lnTo>
                  <a:pt x="117364" y="20200"/>
                </a:lnTo>
                <a:lnTo>
                  <a:pt x="117364" y="1400"/>
                </a:lnTo>
                <a:close/>
              </a:path>
              <a:path fill="darkenLess" w="118764" h="21600">
                <a:moveTo>
                  <a:pt x="11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364" y="20200"/>
                </a:lnTo>
                <a:close/>
              </a:path>
              <a:path fill="lighten" w="11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ИЗОТЕР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39"/>
          <p:cNvSpPr/>
          <p:nvPr/>
        </p:nvSpPr>
        <p:spPr>
          <a:xfrm>
            <a:off x="3708360" y="5156280"/>
            <a:ext cx="2374920" cy="431640"/>
          </a:xfrm>
          <a:custGeom>
            <a:avLst/>
            <a:gdLst>
              <a:gd name="textAreaLeft" fmla="*/ 27720 w 2374920"/>
              <a:gd name="textAreaRight" fmla="*/ 2347200 w 2374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18764" h="21600">
                <a:moveTo>
                  <a:pt x="0" y="0"/>
                </a:moveTo>
                <a:lnTo>
                  <a:pt x="118764" y="0"/>
                </a:lnTo>
                <a:lnTo>
                  <a:pt x="118764" y="21600"/>
                </a:lnTo>
                <a:lnTo>
                  <a:pt x="0" y="21600"/>
                </a:lnTo>
                <a:close/>
              </a:path>
              <a:path fill="lightenLess" w="118764" h="21600">
                <a:moveTo>
                  <a:pt x="0" y="0"/>
                </a:moveTo>
                <a:lnTo>
                  <a:pt x="118764" y="0"/>
                </a:lnTo>
                <a:lnTo>
                  <a:pt x="117364" y="1400"/>
                </a:lnTo>
                <a:lnTo>
                  <a:pt x="1400" y="1400"/>
                </a:lnTo>
                <a:close/>
              </a:path>
              <a:path fill="darken" w="118764" h="21600">
                <a:moveTo>
                  <a:pt x="118764" y="0"/>
                </a:moveTo>
                <a:lnTo>
                  <a:pt x="118764" y="21600"/>
                </a:lnTo>
                <a:lnTo>
                  <a:pt x="117364" y="20200"/>
                </a:lnTo>
                <a:lnTo>
                  <a:pt x="117364" y="1400"/>
                </a:lnTo>
                <a:close/>
              </a:path>
              <a:path fill="darkenLess" w="118764" h="21600">
                <a:moveTo>
                  <a:pt x="11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364" y="20200"/>
                </a:lnTo>
                <a:close/>
              </a:path>
              <a:path fill="lighten" w="11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ИЗОБ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0"/>
          <p:cNvSpPr/>
          <p:nvPr/>
        </p:nvSpPr>
        <p:spPr>
          <a:xfrm>
            <a:off x="3708360" y="5805360"/>
            <a:ext cx="2374920" cy="432000"/>
          </a:xfrm>
          <a:custGeom>
            <a:avLst/>
            <a:gdLst>
              <a:gd name="textAreaLeft" fmla="*/ 27720 w 2374920"/>
              <a:gd name="textAreaRight" fmla="*/ 2347200 w 2374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18665" h="21600">
                <a:moveTo>
                  <a:pt x="0" y="0"/>
                </a:moveTo>
                <a:lnTo>
                  <a:pt x="118665" y="0"/>
                </a:lnTo>
                <a:lnTo>
                  <a:pt x="118665" y="21600"/>
                </a:lnTo>
                <a:lnTo>
                  <a:pt x="0" y="21600"/>
                </a:lnTo>
                <a:close/>
              </a:path>
              <a:path fill="lightenLess" w="118665" h="21600">
                <a:moveTo>
                  <a:pt x="0" y="0"/>
                </a:moveTo>
                <a:lnTo>
                  <a:pt x="118665" y="0"/>
                </a:lnTo>
                <a:lnTo>
                  <a:pt x="117265" y="1400"/>
                </a:lnTo>
                <a:lnTo>
                  <a:pt x="1400" y="1400"/>
                </a:lnTo>
                <a:close/>
              </a:path>
              <a:path fill="darken" w="118665" h="21600">
                <a:moveTo>
                  <a:pt x="118665" y="0"/>
                </a:moveTo>
                <a:lnTo>
                  <a:pt x="118665" y="21600"/>
                </a:lnTo>
                <a:lnTo>
                  <a:pt x="117265" y="20200"/>
                </a:lnTo>
                <a:lnTo>
                  <a:pt x="117265" y="1400"/>
                </a:lnTo>
                <a:close/>
              </a:path>
              <a:path fill="darkenLess" w="118665" h="21600">
                <a:moveTo>
                  <a:pt x="118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265" y="20200"/>
                </a:lnTo>
                <a:close/>
              </a:path>
              <a:path fill="lighten" w="118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ИЗОХ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41"/>
          <p:cNvSpPr/>
          <p:nvPr/>
        </p:nvSpPr>
        <p:spPr>
          <a:xfrm>
            <a:off x="6516720" y="4508640"/>
            <a:ext cx="2374920" cy="431640"/>
          </a:xfrm>
          <a:custGeom>
            <a:avLst/>
            <a:gdLst>
              <a:gd name="textAreaLeft" fmla="*/ 27720 w 2374920"/>
              <a:gd name="textAreaRight" fmla="*/ 2347200 w 2374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18764" h="21600">
                <a:moveTo>
                  <a:pt x="0" y="0"/>
                </a:moveTo>
                <a:lnTo>
                  <a:pt x="118764" y="0"/>
                </a:lnTo>
                <a:lnTo>
                  <a:pt x="118764" y="21600"/>
                </a:lnTo>
                <a:lnTo>
                  <a:pt x="0" y="21600"/>
                </a:lnTo>
                <a:close/>
              </a:path>
              <a:path fill="lightenLess" w="118764" h="21600">
                <a:moveTo>
                  <a:pt x="0" y="0"/>
                </a:moveTo>
                <a:lnTo>
                  <a:pt x="118764" y="0"/>
                </a:lnTo>
                <a:lnTo>
                  <a:pt x="117364" y="1400"/>
                </a:lnTo>
                <a:lnTo>
                  <a:pt x="1400" y="1400"/>
                </a:lnTo>
                <a:close/>
              </a:path>
              <a:path fill="darken" w="118764" h="21600">
                <a:moveTo>
                  <a:pt x="118764" y="0"/>
                </a:moveTo>
                <a:lnTo>
                  <a:pt x="118764" y="21600"/>
                </a:lnTo>
                <a:lnTo>
                  <a:pt x="117364" y="20200"/>
                </a:lnTo>
                <a:lnTo>
                  <a:pt x="117364" y="1400"/>
                </a:lnTo>
                <a:close/>
              </a:path>
              <a:path fill="darkenLess" w="118764" h="21600">
                <a:moveTo>
                  <a:pt x="11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364" y="20200"/>
                </a:lnTo>
                <a:close/>
              </a:path>
              <a:path fill="lighten" w="11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ИЗОТЕР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42"/>
          <p:cNvSpPr/>
          <p:nvPr/>
        </p:nvSpPr>
        <p:spPr>
          <a:xfrm>
            <a:off x="6516720" y="5156280"/>
            <a:ext cx="2374920" cy="431640"/>
          </a:xfrm>
          <a:custGeom>
            <a:avLst/>
            <a:gdLst>
              <a:gd name="textAreaLeft" fmla="*/ 27720 w 2374920"/>
              <a:gd name="textAreaRight" fmla="*/ 2347200 w 2374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18764" h="21600">
                <a:moveTo>
                  <a:pt x="0" y="0"/>
                </a:moveTo>
                <a:lnTo>
                  <a:pt x="118764" y="0"/>
                </a:lnTo>
                <a:lnTo>
                  <a:pt x="118764" y="21600"/>
                </a:lnTo>
                <a:lnTo>
                  <a:pt x="0" y="21600"/>
                </a:lnTo>
                <a:close/>
              </a:path>
              <a:path fill="lightenLess" w="118764" h="21600">
                <a:moveTo>
                  <a:pt x="0" y="0"/>
                </a:moveTo>
                <a:lnTo>
                  <a:pt x="118764" y="0"/>
                </a:lnTo>
                <a:lnTo>
                  <a:pt x="117364" y="1400"/>
                </a:lnTo>
                <a:lnTo>
                  <a:pt x="1400" y="1400"/>
                </a:lnTo>
                <a:close/>
              </a:path>
              <a:path fill="darken" w="118764" h="21600">
                <a:moveTo>
                  <a:pt x="118764" y="0"/>
                </a:moveTo>
                <a:lnTo>
                  <a:pt x="118764" y="21600"/>
                </a:lnTo>
                <a:lnTo>
                  <a:pt x="117364" y="20200"/>
                </a:lnTo>
                <a:lnTo>
                  <a:pt x="117364" y="1400"/>
                </a:lnTo>
                <a:close/>
              </a:path>
              <a:path fill="darkenLess" w="118764" h="21600">
                <a:moveTo>
                  <a:pt x="11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364" y="20200"/>
                </a:lnTo>
                <a:close/>
              </a:path>
              <a:path fill="lighten" w="11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ИЗОБ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43"/>
          <p:cNvSpPr/>
          <p:nvPr/>
        </p:nvSpPr>
        <p:spPr>
          <a:xfrm>
            <a:off x="6516720" y="5805360"/>
            <a:ext cx="2374920" cy="432000"/>
          </a:xfrm>
          <a:custGeom>
            <a:avLst/>
            <a:gdLst>
              <a:gd name="textAreaLeft" fmla="*/ 27720 w 2374920"/>
              <a:gd name="textAreaRight" fmla="*/ 2347200 w 2374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18665" h="21600">
                <a:moveTo>
                  <a:pt x="0" y="0"/>
                </a:moveTo>
                <a:lnTo>
                  <a:pt x="118665" y="0"/>
                </a:lnTo>
                <a:lnTo>
                  <a:pt x="118665" y="21600"/>
                </a:lnTo>
                <a:lnTo>
                  <a:pt x="0" y="21600"/>
                </a:lnTo>
                <a:close/>
              </a:path>
              <a:path fill="lightenLess" w="118665" h="21600">
                <a:moveTo>
                  <a:pt x="0" y="0"/>
                </a:moveTo>
                <a:lnTo>
                  <a:pt x="118665" y="0"/>
                </a:lnTo>
                <a:lnTo>
                  <a:pt x="117265" y="1400"/>
                </a:lnTo>
                <a:lnTo>
                  <a:pt x="1400" y="1400"/>
                </a:lnTo>
                <a:close/>
              </a:path>
              <a:path fill="darken" w="118665" h="21600">
                <a:moveTo>
                  <a:pt x="118665" y="0"/>
                </a:moveTo>
                <a:lnTo>
                  <a:pt x="118665" y="21600"/>
                </a:lnTo>
                <a:lnTo>
                  <a:pt x="117265" y="20200"/>
                </a:lnTo>
                <a:lnTo>
                  <a:pt x="117265" y="1400"/>
                </a:lnTo>
                <a:close/>
              </a:path>
              <a:path fill="darkenLess" w="118665" h="21600">
                <a:moveTo>
                  <a:pt x="118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265" y="20200"/>
                </a:lnTo>
                <a:close/>
              </a:path>
              <a:path fill="lighten" w="118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ИЗОХ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44"/>
          <p:cNvSpPr/>
          <p:nvPr/>
        </p:nvSpPr>
        <p:spPr>
          <a:xfrm>
            <a:off x="3419640" y="765000"/>
            <a:ext cx="2663640" cy="432000"/>
          </a:xfrm>
          <a:custGeom>
            <a:avLst/>
            <a:gdLst>
              <a:gd name="textAreaLeft" fmla="*/ 27720 w 2663640"/>
              <a:gd name="textAreaRight" fmla="*/ 2635920 w 2663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33089" h="21600">
                <a:moveTo>
                  <a:pt x="0" y="0"/>
                </a:moveTo>
                <a:lnTo>
                  <a:pt x="133089" y="0"/>
                </a:lnTo>
                <a:lnTo>
                  <a:pt x="133089" y="21600"/>
                </a:lnTo>
                <a:lnTo>
                  <a:pt x="0" y="21600"/>
                </a:lnTo>
                <a:close/>
              </a:path>
              <a:path fill="lightenLess" w="133089" h="21600">
                <a:moveTo>
                  <a:pt x="0" y="0"/>
                </a:moveTo>
                <a:lnTo>
                  <a:pt x="133089" y="0"/>
                </a:lnTo>
                <a:lnTo>
                  <a:pt x="131689" y="1400"/>
                </a:lnTo>
                <a:lnTo>
                  <a:pt x="1400" y="1400"/>
                </a:lnTo>
                <a:close/>
              </a:path>
              <a:path fill="darken" w="133089" h="21600">
                <a:moveTo>
                  <a:pt x="133089" y="0"/>
                </a:moveTo>
                <a:lnTo>
                  <a:pt x="133089" y="21600"/>
                </a:lnTo>
                <a:lnTo>
                  <a:pt x="131689" y="20200"/>
                </a:lnTo>
                <a:lnTo>
                  <a:pt x="131689" y="1400"/>
                </a:lnTo>
                <a:close/>
              </a:path>
              <a:path fill="darkenLess" w="133089" h="21600">
                <a:moveTo>
                  <a:pt x="133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1689" y="20200"/>
                </a:lnTo>
                <a:close/>
              </a:path>
              <a:path fill="lighten" w="133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 Black"/>
              </a:rPr>
              <a:t>Подписать граф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45"/>
          <p:cNvSpPr/>
          <p:nvPr/>
        </p:nvSpPr>
        <p:spPr>
          <a:xfrm>
            <a:off x="6443640" y="765000"/>
            <a:ext cx="2664000" cy="432000"/>
          </a:xfrm>
          <a:custGeom>
            <a:avLst/>
            <a:gdLst>
              <a:gd name="textAreaLeft" fmla="*/ 27720 w 2664000"/>
              <a:gd name="textAreaRight" fmla="*/ 2636280 w 2664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33107" h="21600">
                <a:moveTo>
                  <a:pt x="0" y="0"/>
                </a:moveTo>
                <a:lnTo>
                  <a:pt x="133107" y="0"/>
                </a:lnTo>
                <a:lnTo>
                  <a:pt x="133107" y="21600"/>
                </a:lnTo>
                <a:lnTo>
                  <a:pt x="0" y="21600"/>
                </a:lnTo>
                <a:close/>
              </a:path>
              <a:path fill="lightenLess" w="133107" h="21600">
                <a:moveTo>
                  <a:pt x="0" y="0"/>
                </a:moveTo>
                <a:lnTo>
                  <a:pt x="133107" y="0"/>
                </a:lnTo>
                <a:lnTo>
                  <a:pt x="131707" y="1400"/>
                </a:lnTo>
                <a:lnTo>
                  <a:pt x="1400" y="1400"/>
                </a:lnTo>
                <a:close/>
              </a:path>
              <a:path fill="darken" w="133107" h="21600">
                <a:moveTo>
                  <a:pt x="133107" y="0"/>
                </a:moveTo>
                <a:lnTo>
                  <a:pt x="133107" y="21600"/>
                </a:lnTo>
                <a:lnTo>
                  <a:pt x="131707" y="20200"/>
                </a:lnTo>
                <a:lnTo>
                  <a:pt x="131707" y="1400"/>
                </a:lnTo>
                <a:close/>
              </a:path>
              <a:path fill="darkenLess" w="133107" h="21600">
                <a:moveTo>
                  <a:pt x="1331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1707" y="20200"/>
                </a:lnTo>
                <a:close/>
              </a:path>
              <a:path fill="lighten" w="1331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 Black"/>
              </a:rPr>
              <a:t>Подписать граф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48"/>
          <p:cNvGrpSpPr/>
          <p:nvPr/>
        </p:nvGrpSpPr>
        <p:grpSpPr>
          <a:xfrm>
            <a:off x="3995640" y="2420640"/>
            <a:ext cx="2016000" cy="1728720"/>
            <a:chOff x="3995640" y="2420640"/>
            <a:chExt cx="2016000" cy="1728720"/>
          </a:xfrm>
        </p:grpSpPr>
        <p:sp>
          <p:nvSpPr>
            <p:cNvPr id="127" name="Line 46"/>
            <p:cNvSpPr/>
            <p:nvPr/>
          </p:nvSpPr>
          <p:spPr>
            <a:xfrm flipV="1">
              <a:off x="3995640" y="3717360"/>
              <a:ext cx="503640" cy="432000"/>
            </a:xfrm>
            <a:prstGeom prst="line">
              <a:avLst/>
            </a:prstGeom>
            <a:ln w="3168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47"/>
            <p:cNvSpPr/>
            <p:nvPr/>
          </p:nvSpPr>
          <p:spPr>
            <a:xfrm flipV="1">
              <a:off x="4499280" y="2420640"/>
              <a:ext cx="1512360" cy="1296360"/>
            </a:xfrm>
            <a:prstGeom prst="line">
              <a:avLst/>
            </a:prstGeom>
            <a:ln w="31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51"/>
          <p:cNvGrpSpPr/>
          <p:nvPr/>
        </p:nvGrpSpPr>
        <p:grpSpPr>
          <a:xfrm>
            <a:off x="3995640" y="2492280"/>
            <a:ext cx="2160720" cy="0"/>
            <a:chOff x="3995640" y="2492280"/>
            <a:chExt cx="2160720" cy="0"/>
          </a:xfrm>
        </p:grpSpPr>
        <p:sp>
          <p:nvSpPr>
            <p:cNvPr id="130" name="Line 49"/>
            <p:cNvSpPr/>
            <p:nvPr/>
          </p:nvSpPr>
          <p:spPr>
            <a:xfrm>
              <a:off x="3995640" y="2492280"/>
              <a:ext cx="505080" cy="0"/>
            </a:xfrm>
            <a:prstGeom prst="line">
              <a:avLst/>
            </a:prstGeom>
            <a:ln w="316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50"/>
            <p:cNvSpPr/>
            <p:nvPr/>
          </p:nvSpPr>
          <p:spPr>
            <a:xfrm>
              <a:off x="4500720" y="2492280"/>
              <a:ext cx="1655640" cy="0"/>
            </a:xfrm>
            <a:prstGeom prst="line">
              <a:avLst/>
            </a:prstGeom>
            <a:ln w="31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54"/>
          <p:cNvGrpSpPr/>
          <p:nvPr/>
        </p:nvGrpSpPr>
        <p:grpSpPr>
          <a:xfrm>
            <a:off x="5940360" y="2276640"/>
            <a:ext cx="0" cy="1873080"/>
            <a:chOff x="5940360" y="2276640"/>
            <a:chExt cx="0" cy="1873080"/>
          </a:xfrm>
        </p:grpSpPr>
        <p:sp>
          <p:nvSpPr>
            <p:cNvPr id="133" name="Line 52"/>
            <p:cNvSpPr/>
            <p:nvPr/>
          </p:nvSpPr>
          <p:spPr>
            <a:xfrm>
              <a:off x="5940360" y="2276640"/>
              <a:ext cx="0" cy="14396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53"/>
            <p:cNvSpPr/>
            <p:nvPr/>
          </p:nvSpPr>
          <p:spPr>
            <a:xfrm>
              <a:off x="5940360" y="3716280"/>
              <a:ext cx="0" cy="43344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62"/>
          <p:cNvGrpSpPr/>
          <p:nvPr/>
        </p:nvGrpSpPr>
        <p:grpSpPr>
          <a:xfrm>
            <a:off x="4269240" y="2276640"/>
            <a:ext cx="1885320" cy="1726560"/>
            <a:chOff x="4269240" y="2276640"/>
            <a:chExt cx="1885320" cy="1726560"/>
          </a:xfrm>
        </p:grpSpPr>
        <p:sp>
          <p:nvSpPr>
            <p:cNvPr id="136" name="WordArt 56"/>
            <p:cNvSpPr txBox="1"/>
            <p:nvPr/>
          </p:nvSpPr>
          <p:spPr>
            <a:xfrm rot="16200000">
              <a:off x="5364000" y="3212640"/>
              <a:ext cx="1439640" cy="141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изотерма</a:t>
              </a:r>
              <a:endPara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37" name="WordArt 57"/>
            <p:cNvSpPr txBox="1"/>
            <p:nvPr/>
          </p:nvSpPr>
          <p:spPr>
            <a:xfrm rot="19306800">
              <a:off x="4211640" y="3068280"/>
              <a:ext cx="1154160" cy="21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изобара</a:t>
              </a:r>
              <a:endParaRPr b="0" lang="en-US" sz="1800" spc="1" strike="noStrike">
                <a:ln w="0">
                  <a:noFill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38" name="WordArt 58"/>
            <p:cNvSpPr txBox="1"/>
            <p:nvPr/>
          </p:nvSpPr>
          <p:spPr>
            <a:xfrm>
              <a:off x="4356000" y="2276640"/>
              <a:ext cx="107964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00ff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изохора</a:t>
              </a:r>
              <a:endParaRPr b="0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39" name="Group 72"/>
          <p:cNvGrpSpPr/>
          <p:nvPr/>
        </p:nvGrpSpPr>
        <p:grpSpPr>
          <a:xfrm>
            <a:off x="7093080" y="2205000"/>
            <a:ext cx="1868400" cy="1800360"/>
            <a:chOff x="7093080" y="2205000"/>
            <a:chExt cx="1868400" cy="1800360"/>
          </a:xfrm>
        </p:grpSpPr>
        <p:sp>
          <p:nvSpPr>
            <p:cNvPr id="140" name="WordArt 59"/>
            <p:cNvSpPr txBox="1"/>
            <p:nvPr/>
          </p:nvSpPr>
          <p:spPr>
            <a:xfrm rot="16200000">
              <a:off x="8170560" y="3214440"/>
              <a:ext cx="1440000" cy="141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изотерма</a:t>
              </a:r>
              <a:endPara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41" name="WordArt 60"/>
            <p:cNvSpPr txBox="1"/>
            <p:nvPr/>
          </p:nvSpPr>
          <p:spPr>
            <a:xfrm>
              <a:off x="7093080" y="2205000"/>
              <a:ext cx="1154160" cy="21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изобара</a:t>
              </a:r>
              <a:endParaRPr b="0" lang="en-US" sz="1800" spc="1" strike="noStrike">
                <a:ln w="0">
                  <a:noFill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42" name="WordArt 61"/>
            <p:cNvSpPr txBox="1"/>
            <p:nvPr/>
          </p:nvSpPr>
          <p:spPr>
            <a:xfrm rot="19211400">
              <a:off x="7019640" y="3141360"/>
              <a:ext cx="1079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00ff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изохора</a:t>
              </a:r>
              <a:endParaRPr b="0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43" name="Group 63"/>
          <p:cNvGrpSpPr/>
          <p:nvPr/>
        </p:nvGrpSpPr>
        <p:grpSpPr>
          <a:xfrm>
            <a:off x="6804000" y="2420640"/>
            <a:ext cx="2015640" cy="1728720"/>
            <a:chOff x="6804000" y="2420640"/>
            <a:chExt cx="2015640" cy="1728720"/>
          </a:xfrm>
        </p:grpSpPr>
        <p:sp>
          <p:nvSpPr>
            <p:cNvPr id="144" name="Line 64"/>
            <p:cNvSpPr/>
            <p:nvPr/>
          </p:nvSpPr>
          <p:spPr>
            <a:xfrm flipV="1">
              <a:off x="6804000" y="3717360"/>
              <a:ext cx="503640" cy="432000"/>
            </a:xfrm>
            <a:prstGeom prst="line">
              <a:avLst/>
            </a:prstGeom>
            <a:ln w="316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65"/>
            <p:cNvSpPr/>
            <p:nvPr/>
          </p:nvSpPr>
          <p:spPr>
            <a:xfrm flipV="1">
              <a:off x="7307640" y="2420640"/>
              <a:ext cx="1512000" cy="1296360"/>
            </a:xfrm>
            <a:prstGeom prst="line">
              <a:avLst/>
            </a:prstGeom>
            <a:ln w="31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66"/>
          <p:cNvGrpSpPr/>
          <p:nvPr/>
        </p:nvGrpSpPr>
        <p:grpSpPr>
          <a:xfrm>
            <a:off x="6804000" y="2492280"/>
            <a:ext cx="2160720" cy="0"/>
            <a:chOff x="6804000" y="2492280"/>
            <a:chExt cx="2160720" cy="0"/>
          </a:xfrm>
        </p:grpSpPr>
        <p:sp>
          <p:nvSpPr>
            <p:cNvPr id="147" name="Line 67"/>
            <p:cNvSpPr/>
            <p:nvPr/>
          </p:nvSpPr>
          <p:spPr>
            <a:xfrm>
              <a:off x="6804000" y="2492280"/>
              <a:ext cx="505080" cy="0"/>
            </a:xfrm>
            <a:prstGeom prst="line">
              <a:avLst/>
            </a:prstGeom>
            <a:ln w="3168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68"/>
            <p:cNvSpPr/>
            <p:nvPr/>
          </p:nvSpPr>
          <p:spPr>
            <a:xfrm>
              <a:off x="7309080" y="2492280"/>
              <a:ext cx="1655640" cy="0"/>
            </a:xfrm>
            <a:prstGeom prst="line">
              <a:avLst/>
            </a:prstGeom>
            <a:ln w="31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69"/>
          <p:cNvGrpSpPr/>
          <p:nvPr/>
        </p:nvGrpSpPr>
        <p:grpSpPr>
          <a:xfrm>
            <a:off x="8748720" y="2276640"/>
            <a:ext cx="0" cy="1873080"/>
            <a:chOff x="8748720" y="2276640"/>
            <a:chExt cx="0" cy="1873080"/>
          </a:xfrm>
        </p:grpSpPr>
        <p:sp>
          <p:nvSpPr>
            <p:cNvPr id="150" name="Line 70"/>
            <p:cNvSpPr/>
            <p:nvPr/>
          </p:nvSpPr>
          <p:spPr>
            <a:xfrm>
              <a:off x="8748720" y="2276640"/>
              <a:ext cx="0" cy="14396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71"/>
            <p:cNvSpPr/>
            <p:nvPr/>
          </p:nvSpPr>
          <p:spPr>
            <a:xfrm>
              <a:off x="8748720" y="3716280"/>
              <a:ext cx="0" cy="43344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AutoShape 73"/>
          <p:cNvSpPr/>
          <p:nvPr/>
        </p:nvSpPr>
        <p:spPr>
          <a:xfrm>
            <a:off x="3419640" y="6524640"/>
            <a:ext cx="2952720" cy="333360"/>
          </a:xfrm>
          <a:custGeom>
            <a:avLst/>
            <a:gdLst>
              <a:gd name="textAreaLeft" fmla="*/ 21600 w 2952720"/>
              <a:gd name="textAreaRight" fmla="*/ 2931120 w 29527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191138" h="21600">
                <a:moveTo>
                  <a:pt x="0" y="0"/>
                </a:moveTo>
                <a:lnTo>
                  <a:pt x="191138" y="0"/>
                </a:lnTo>
                <a:lnTo>
                  <a:pt x="191138" y="21600"/>
                </a:lnTo>
                <a:lnTo>
                  <a:pt x="0" y="21600"/>
                </a:lnTo>
                <a:close/>
              </a:path>
              <a:path fill="lightenLess" w="191138" h="21600">
                <a:moveTo>
                  <a:pt x="0" y="0"/>
                </a:moveTo>
                <a:lnTo>
                  <a:pt x="191138" y="0"/>
                </a:lnTo>
                <a:lnTo>
                  <a:pt x="189738" y="1400"/>
                </a:lnTo>
                <a:lnTo>
                  <a:pt x="1400" y="1400"/>
                </a:lnTo>
                <a:close/>
              </a:path>
              <a:path fill="darken" w="191138" h="21600">
                <a:moveTo>
                  <a:pt x="191138" y="0"/>
                </a:moveTo>
                <a:lnTo>
                  <a:pt x="191138" y="21600"/>
                </a:lnTo>
                <a:lnTo>
                  <a:pt x="189738" y="20200"/>
                </a:lnTo>
                <a:lnTo>
                  <a:pt x="189738" y="1400"/>
                </a:lnTo>
                <a:close/>
              </a:path>
              <a:path fill="darkenLess" w="191138" h="21600">
                <a:moveTo>
                  <a:pt x="1911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9738" y="20200"/>
                </a:lnTo>
                <a:close/>
              </a:path>
              <a:path fill="lighten" w="1911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К содерж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35" nodeType="clickEffect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67" nodeType="clickEffect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75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83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91" nodeType="clickEffect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99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07" nodeType="clickEffect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4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ШЕНИЕ ЗАДАЧ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Rectangle 11"/>
          <p:cNvSpPr/>
          <p:nvPr/>
        </p:nvSpPr>
        <p:spPr>
          <a:xfrm>
            <a:off x="324000" y="620640"/>
            <a:ext cx="88200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99"/>
                </a:solidFill>
                <a:uFillTx/>
                <a:latin typeface="Arial Black"/>
              </a:rPr>
              <a:t>Необходимо знать из курса математики</a:t>
            </a:r>
            <a:r>
              <a:rPr b="0" lang="ru-RU" sz="3200" spc="-1" strike="noStrike">
                <a:solidFill>
                  <a:srgbClr val="000099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ешение уравнений и систем уравн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Линейная функция и ее граф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рафик обратно пропорциональной зависим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2"/>
          <p:cNvSpPr/>
          <p:nvPr/>
        </p:nvSpPr>
        <p:spPr>
          <a:xfrm>
            <a:off x="250920" y="6453360"/>
            <a:ext cx="1871640" cy="404640"/>
          </a:xfrm>
          <a:custGeom>
            <a:avLst/>
            <a:gdLst>
              <a:gd name="textAreaLeft" fmla="*/ 25920 w 1871640"/>
              <a:gd name="textAreaRight" fmla="*/ 1845720 w 1871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99840" h="21600">
                <a:moveTo>
                  <a:pt x="0" y="0"/>
                </a:moveTo>
                <a:lnTo>
                  <a:pt x="99840" y="0"/>
                </a:lnTo>
                <a:lnTo>
                  <a:pt x="99840" y="21600"/>
                </a:lnTo>
                <a:lnTo>
                  <a:pt x="0" y="21600"/>
                </a:lnTo>
                <a:close/>
              </a:path>
              <a:path fill="lightenLess" w="99840" h="21600">
                <a:moveTo>
                  <a:pt x="0" y="0"/>
                </a:moveTo>
                <a:lnTo>
                  <a:pt x="99840" y="0"/>
                </a:lnTo>
                <a:lnTo>
                  <a:pt x="98440" y="1400"/>
                </a:lnTo>
                <a:lnTo>
                  <a:pt x="1400" y="1400"/>
                </a:lnTo>
                <a:close/>
              </a:path>
              <a:path fill="darken" w="99840" h="21600">
                <a:moveTo>
                  <a:pt x="99840" y="0"/>
                </a:moveTo>
                <a:lnTo>
                  <a:pt x="99840" y="21600"/>
                </a:lnTo>
                <a:lnTo>
                  <a:pt x="98440" y="20200"/>
                </a:lnTo>
                <a:lnTo>
                  <a:pt x="98440" y="1400"/>
                </a:lnTo>
                <a:close/>
              </a:path>
              <a:path fill="darkenLess" w="99840" h="21600">
                <a:moveTo>
                  <a:pt x="998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440" y="20200"/>
                </a:lnTo>
                <a:close/>
              </a:path>
              <a:path fill="lighten" w="998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3"/>
          <p:cNvSpPr/>
          <p:nvPr/>
        </p:nvSpPr>
        <p:spPr>
          <a:xfrm>
            <a:off x="6156360" y="6453360"/>
            <a:ext cx="2952720" cy="404640"/>
          </a:xfrm>
          <a:custGeom>
            <a:avLst/>
            <a:gdLst>
              <a:gd name="textAreaLeft" fmla="*/ 25920 w 2952720"/>
              <a:gd name="textAreaRight" fmla="*/ 2926800 w 2952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157498" h="21600">
                <a:moveTo>
                  <a:pt x="0" y="0"/>
                </a:moveTo>
                <a:lnTo>
                  <a:pt x="157498" y="0"/>
                </a:lnTo>
                <a:lnTo>
                  <a:pt x="157498" y="21600"/>
                </a:lnTo>
                <a:lnTo>
                  <a:pt x="0" y="21600"/>
                </a:lnTo>
                <a:close/>
              </a:path>
              <a:path fill="lightenLess" w="157498" h="21600">
                <a:moveTo>
                  <a:pt x="0" y="0"/>
                </a:moveTo>
                <a:lnTo>
                  <a:pt x="157498" y="0"/>
                </a:lnTo>
                <a:lnTo>
                  <a:pt x="156098" y="1400"/>
                </a:lnTo>
                <a:lnTo>
                  <a:pt x="1400" y="1400"/>
                </a:lnTo>
                <a:close/>
              </a:path>
              <a:path fill="darken" w="157498" h="21600">
                <a:moveTo>
                  <a:pt x="157498" y="0"/>
                </a:moveTo>
                <a:lnTo>
                  <a:pt x="157498" y="21600"/>
                </a:lnTo>
                <a:lnTo>
                  <a:pt x="156098" y="20200"/>
                </a:lnTo>
                <a:lnTo>
                  <a:pt x="156098" y="1400"/>
                </a:lnTo>
                <a:close/>
              </a:path>
              <a:path fill="darkenLess" w="157498" h="21600">
                <a:moveTo>
                  <a:pt x="15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098" y="20200"/>
                </a:lnTo>
                <a:close/>
              </a:path>
              <a:path fill="lighten" w="15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К содерж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9T07:47:36Z</dcterms:created>
  <dc:creator>FuckYouBill</dc:creator>
  <dc:description/>
  <dc:language>en-US</dc:language>
  <cp:lastModifiedBy>LEGION</cp:lastModifiedBy>
  <dcterms:modified xsi:type="dcterms:W3CDTF">2015-03-30T08:56:21Z</dcterms:modified>
  <cp:revision>32</cp:revision>
  <dc:subject/>
  <dc:title>Слайд 1</dc:title>
</cp:coreProperties>
</file>