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02EF-89D8-430E-A7D2-63E7C11F69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оки труда -  нужны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ва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E643-3935-48C8-BA64-E41001988A8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териалы в интер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omovodstvo.fatal.ru/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lanetadisser.com/see/dis_159388.html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t-n.ru/communities.aspx?cat_no=4262&amp;tmpl=com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2AAD-7C14-4C1D-93F0-3C0CBDD6CE6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На уроках можно и нужно давать ученикам проявлять с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935D-8FBE-4BD8-B2CA-541AD0E601A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бы ещё хотелось сдел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849F-E3BC-479E-8036-DDAFD1CAE6C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читель трудового обучения МОУ «Бокситогорская гимназ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Ольга Сергеевна Святогор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41E0-537E-401F-87CC-80314E49584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6394-D6A8-48B0-A727-E1EAE16763D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сообразност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D2BC-CB03-4CED-8EBC-8B9E08BDED4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рким примером тому служат работы, которые являются украшением любых выстав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A546-287F-4B2B-BD3B-0930465D9A0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боты, выполненные моими уче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CD4D-AF35-4B2B-B155-FEFA563FB71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и ученицы со своими рабо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163E-42FC-4918-8D65-496D2B19191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4140-52D9-4AEB-AFE3-8D53F4C94E9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ители олимпиа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Евгения Егорова, 11 кл. (2007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обедители районных выста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люквина, 11 кл. (2007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алиничева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Юлия  Нагорных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Дарья Елецкая, 5 кл. (200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901B-0F49-4B64-BEC9-8B32E317641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48D-3B7B-4BDD-BB2F-D01D61BC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098-FC5A-455E-80DF-CA3D83D4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8D2-0BF8-45CA-BE42-FC013E02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E2E-E4EB-4339-B7EA-5668CFA9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FE12-6BAC-4A4F-A8E9-2A183207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4871-36BC-4F73-9C6A-FC2F8D91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8497-9669-4D74-9676-AA3B2674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544E-E0EA-48C1-A263-519B2ADF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AB80-676D-4025-AB07-B2D046C2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C652-197E-4138-A51C-85D6A143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EFEE-92FA-45D2-8619-31B068A4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E8C-D710-4DF8-8D94-1D4FD50F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FCC9-E7DC-466B-9010-2C011B72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9D6D-A61A-4BD3-9658-AADFFA47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08A7-5F1A-48C7-9CBA-D0971030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C65E-C556-4D5E-A73C-4891F178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FAE3-7360-4A25-BF5B-5EC19732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ADD-1D46-4DBB-9947-20491FE1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4A2-87F2-40AC-8954-A14306AB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5D2-0FF1-4B3B-AF87-1BC3A0F1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ED0-5D8B-4CD5-BFD0-58931797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66C-D6F9-4BCB-9236-13B18E04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825-2A9D-4CDE-BC34-5B732795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83E-90A8-415B-A6B5-398823FB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5B4A-59A9-4F7B-B538-A26831C0A5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5FFE-73A3-4836-9D4A-77F5142DE7A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371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Уроки труда -  нужны 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и важны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Материалы в интерне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domovodstvo.fatal.ru/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planetadisser.com/see/dis_159388.html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www.it-n.ru/communities.aspx?cat_no=4262&amp;tmpl=com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ые вывод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На уроках можно и нужно давать ученикам проявлять себ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82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 бы ещё хотелось сделать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42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втор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3200040"/>
            <a:ext cx="7386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читель трудового обучения МОУ «Бокситогорская гимнази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Ольга Сергеевна Святогор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8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есообразност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ff33"/>
                </a:solidFill>
                <a:latin typeface="Arial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Ярким примером тому служат работы, которые являются украшением любых выставок…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5" descr="IMG_0020"/>
          <p:cNvPicPr/>
          <p:nvPr/>
        </p:nvPicPr>
        <p:blipFill>
          <a:blip r:embed="rId1"/>
          <a:stretch/>
        </p:blipFill>
        <p:spPr>
          <a:xfrm>
            <a:off x="304920" y="1752480"/>
            <a:ext cx="4800600" cy="36007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3" name="Picture 6" descr="IMG_0021"/>
          <p:cNvPicPr/>
          <p:nvPr/>
        </p:nvPicPr>
        <p:blipFill>
          <a:blip r:embed="rId2"/>
          <a:stretch/>
        </p:blipFill>
        <p:spPr>
          <a:xfrm>
            <a:off x="533520" y="2057400"/>
            <a:ext cx="4647960" cy="35053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4" name="Picture 7" descr="IMG_0022"/>
          <p:cNvPicPr/>
          <p:nvPr/>
        </p:nvPicPr>
        <p:blipFill>
          <a:blip r:embed="rId3"/>
          <a:stretch/>
        </p:blipFill>
        <p:spPr>
          <a:xfrm>
            <a:off x="762120" y="2286000"/>
            <a:ext cx="4906800" cy="36813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5" name="Picture 8" descr="IMG_0023"/>
          <p:cNvPicPr/>
          <p:nvPr/>
        </p:nvPicPr>
        <p:blipFill>
          <a:blip r:embed="rId4"/>
          <a:stretch/>
        </p:blipFill>
        <p:spPr>
          <a:xfrm>
            <a:off x="1219320" y="2590920"/>
            <a:ext cx="5211720" cy="39081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6" name="Picture 9" descr="IMG_0024"/>
          <p:cNvPicPr/>
          <p:nvPr/>
        </p:nvPicPr>
        <p:blipFill>
          <a:blip r:embed="rId5"/>
          <a:stretch/>
        </p:blipFill>
        <p:spPr>
          <a:xfrm>
            <a:off x="2438280" y="2514600"/>
            <a:ext cx="5029200" cy="37720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7" name="Picture 10" descr="IMG_0025"/>
          <p:cNvPicPr/>
          <p:nvPr/>
        </p:nvPicPr>
        <p:blipFill>
          <a:blip r:embed="rId6"/>
          <a:stretch/>
        </p:blipFill>
        <p:spPr>
          <a:xfrm>
            <a:off x="1676520" y="1981080"/>
            <a:ext cx="5410080" cy="40579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8" name="Picture 11" descr="IMG_0026"/>
          <p:cNvPicPr/>
          <p:nvPr/>
        </p:nvPicPr>
        <p:blipFill>
          <a:blip r:embed="rId7"/>
          <a:stretch/>
        </p:blipFill>
        <p:spPr>
          <a:xfrm>
            <a:off x="2209680" y="1752480"/>
            <a:ext cx="5334120" cy="4002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Работы, выполненные моими учениц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4" descr="IMG_0017"/>
          <p:cNvPicPr/>
          <p:nvPr/>
        </p:nvPicPr>
        <p:blipFill>
          <a:blip r:embed="rId1"/>
          <a:stretch/>
        </p:blipFill>
        <p:spPr>
          <a:xfrm>
            <a:off x="380880" y="1447920"/>
            <a:ext cx="3430800" cy="45720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3" name="Picture 5" descr="IMG_0018"/>
          <p:cNvPicPr/>
          <p:nvPr/>
        </p:nvPicPr>
        <p:blipFill>
          <a:blip r:embed="rId2"/>
          <a:stretch/>
        </p:blipFill>
        <p:spPr>
          <a:xfrm>
            <a:off x="1523880" y="1676520"/>
            <a:ext cx="3487680" cy="4647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4" name="Picture 6" descr="IMG_0020"/>
          <p:cNvPicPr/>
          <p:nvPr/>
        </p:nvPicPr>
        <p:blipFill>
          <a:blip r:embed="rId3"/>
          <a:stretch/>
        </p:blipFill>
        <p:spPr>
          <a:xfrm>
            <a:off x="3733920" y="1219320"/>
            <a:ext cx="3738600" cy="4983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Мои ученицы со своими работ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IMG_0035"/>
          <p:cNvPicPr/>
          <p:nvPr/>
        </p:nvPicPr>
        <p:blipFill>
          <a:blip r:embed="rId1"/>
          <a:stretch/>
        </p:blipFill>
        <p:spPr>
          <a:xfrm>
            <a:off x="380880" y="1447920"/>
            <a:ext cx="3622680" cy="48304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9" name="Picture 5" descr="IMG_0036"/>
          <p:cNvPicPr/>
          <p:nvPr/>
        </p:nvPicPr>
        <p:blipFill>
          <a:blip r:embed="rId2"/>
          <a:stretch/>
        </p:blipFill>
        <p:spPr>
          <a:xfrm>
            <a:off x="1143000" y="19810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0" name="Picture 6" descr="IMG_0037"/>
          <p:cNvPicPr/>
          <p:nvPr/>
        </p:nvPicPr>
        <p:blipFill>
          <a:blip r:embed="rId3"/>
          <a:stretch/>
        </p:blipFill>
        <p:spPr>
          <a:xfrm>
            <a:off x="2895480" y="17524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1" name="Picture 7" descr="IMG_0038"/>
          <p:cNvPicPr/>
          <p:nvPr/>
        </p:nvPicPr>
        <p:blipFill>
          <a:blip r:embed="rId4"/>
          <a:stretch/>
        </p:blipFill>
        <p:spPr>
          <a:xfrm>
            <a:off x="4191120" y="1447920"/>
            <a:ext cx="3510000" cy="46782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00880" cy="21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9" descr="IMG_0031"/>
          <p:cNvPicPr/>
          <p:nvPr/>
        </p:nvPicPr>
        <p:blipFill>
          <a:blip r:embed="rId1"/>
          <a:stretch/>
        </p:blipFill>
        <p:spPr>
          <a:xfrm>
            <a:off x="228600" y="2438280"/>
            <a:ext cx="5213520" cy="3909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5" name="Picture 10" descr="IMG_0032"/>
          <p:cNvPicPr/>
          <p:nvPr/>
        </p:nvPicPr>
        <p:blipFill>
          <a:blip r:embed="rId2"/>
          <a:stretch/>
        </p:blipFill>
        <p:spPr>
          <a:xfrm>
            <a:off x="685800" y="2819520"/>
            <a:ext cx="4906800" cy="36795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6" name="Picture 11" descr="IMG_0029"/>
          <p:cNvPicPr/>
          <p:nvPr/>
        </p:nvPicPr>
        <p:blipFill>
          <a:blip r:embed="rId3"/>
          <a:stretch/>
        </p:blipFill>
        <p:spPr>
          <a:xfrm>
            <a:off x="1676520" y="3048120"/>
            <a:ext cx="4647960" cy="34858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бедители олимпиад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Евгения Егорова, 11 кл. (2007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7d47d"/>
                </a:solidFill>
                <a:uFillTx/>
                <a:latin typeface="Arial"/>
              </a:rPr>
              <a:t>Победители районных выставок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люквина, 11 кл. (2007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алиничева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Юлия  Нагорных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Дарья Елецкая, 5 кл. (2008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37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