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6.jpeg" ContentType="image/jpeg"/>
  <Override PartName="/ppt/media/image10.png" ContentType="image/png"/>
  <Override PartName="/ppt/media/image21.png" ContentType="image/png"/>
  <Override PartName="/ppt/media/image4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852B4-2258-4388-93DD-F2259C587A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622DA-7351-4583-B1F9-AA269D2CC8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Виды те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лективная работа учащихся 7 кла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5639F-FC11-4530-90C8-66A27CE141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Изделия из бисквитного те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рож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рог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050E7-C6F3-43A5-849F-CC5252D3CD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лоеное тес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Соста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к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сло  (маргарин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йца,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д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ль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а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70959-80C4-41C5-885A-AA6599192C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Способ пригото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ыхление теста достигается благодаря раскатыванию в очень тонкие слои, отделяемые друг от друга прослойками сливочного масла или маргар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ль и уксусную кислоту растворяют в во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бавляют яйца, му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мешивают упругое тесто, вливая оставшуюся вод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авляют на 20 мину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сло перед закаткой в тесто размягчают, перемешивают с мукой, формируют в виде прямоугольника, охлаждают до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12-1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CC093-FA1E-4344-9512-7FFF8A4BAE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пособ пригото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дрезают тесто ножом крестообразно (рис. 1), подсыпают муку и раскатывают тесто скалкой так, чтобы середина пласта была толще, чем края (рис. 2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центр пласта кладут заготовленную лепешку масла, перемешанного с мукой, накрывают ее длинными краями пласта (рис. 3) и защипывают края лепеш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енный «конверт» кладут на стол и начиная от середины, раскатывают тесто в прямоугольный пласт толщиной 10 м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ладывают в четверо, накрывают салфеткой и охлаждают в течение 20 ми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хлажденное тесто вновь раскатывают и складывают в четверо. Так делают не менее 5-6 раз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50548-5937-4ABA-A13A-4ACC1F2BF3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Изделия из слоеного те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рож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рог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A0B06-BC7F-4E5C-8018-727885E6B7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сочное тес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Соста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сло (маргари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й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ха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72116-83A2-464D-BD27-FB4E769B60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1 Способ пригото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сло или маргарин размягчают, растирают с сахарной пудрой, добавляют яйца и перемешиваю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ассу вводят погашенную уксусом или лимонным соком сод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ыпают просеянную муку и быстро замешиваю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хлаждают в течении 1 ча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CF5D4-6C86-47FB-9FF3-E8092642B7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2 Способ пригото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еянную муку высыпают горкой, сверху насыпают сахар, разрыхлитель, цедру лимона, ванили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уке делают углубление, вбивают яйцо, кладут кусочки мас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инным ножом рубят все продукты и быстро замешивают тес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хлаждают в течении 1 ча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89D56-B619-48D4-9092-AE079E4DCB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Изделия из песочного те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чень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рталет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т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60ED1-B000-4A8B-B682-033C594930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Виды те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ОЖЖЕВО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ЗДРОЖЖЕВО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ресно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сочно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бисквитно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слоено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8649A-206C-4F68-BA67-2B96217730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Дрожжевое тес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Соста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ха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й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ожж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да или молок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сло сливочное или сливочный маргар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C5DFD-2032-49FB-9A54-F1F54E7B8B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Изделия из дрожжевого те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ле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лоч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рож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роги и кулебя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и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ладь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труш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леты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03DA8-ED5A-437D-A1C0-8B44D06DD3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Способ приготовления дрожжевого тес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товят его двумя способами — безопарным и опарным. Безопарным способом готовят тесто с малым количеством сдобы (масла, сахара, яиц). Опарный способ применяют при изготовлении более сдобных издел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D6978-257D-41D4-BB3B-5D8EBB62DB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Безопарный спосо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готовление теста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безопарны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пособом: дрожжи разводят теплым молоком или водой (30 °С), добавляют сахар, соль, хорошо перемешивают до растворения, кладут яйца и всыпают муку. Замешивают тесто, добавляя в конце размягченный до густоты сметаны жир или вливают растительное масло. Тесто накрывают чистой тканью и ставят в теплое место для брожения на 3–4 час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удалить лишний углекислый газ и обогатить тесто кислородом, делают обминки, а затем вновь дают тесту подняться. Первую обминку делают через 1–1 1/2 часа, вторую — еще через 2 час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8E90F-0EE3-4434-B090-4F2B780238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Опарный спосо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опарном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е в подогретую до 40 °С воду или молоко (60% от нормы) добавляют растворенные в воде и процеженные дрожжи, всыпают половину нормы муки и перемешивают до получения однородной массы. Поверхность опары посыпают мукой, накрывают тканью и ставят в теплое место для брожения на 2–3 час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гда опара увеличится в объеме в 2 раза и начнет опадать, к ней добавляют оставшуюся жидкость с растворенными солью и сахаром, яйца, все перемешивают, вводят муку и замешивают тесто. Перед окончанием замеса добавляют размягченный жир. Тесто накрывают тканью и оставляют для брожения еще на 2–3 час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 время брожения тесто обминают 2–3 раза. Выбродившее тесто увеличивается в объеме в 2 раза, при надавливании на поверхность ямка медленно выравнивается, тесто не прилипает к рукам и отстает от стенок посу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07974-42EC-496D-9CCF-F4C5485F03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Бисквитное тес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Соста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Му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Саха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Яй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C5C26-D538-4717-A9F0-133588F5F9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ыхлители не добавляю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придания пористой структуры в тесто вводят взбитые яйца или яичные бел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ь муки можно заменить картофельным крахмал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сквитное тесто имеет жидкую консистенцию. Его выливают в форму, покрытую промасленной бумагой и ставят в духовой шкаф, разогретый до 20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ремя выпекания 20-40 мину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3ADE-7521-45F4-9E68-6F1A607E4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C27E-B691-4710-BC60-5691E9BEB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3EC4-7B4F-4A66-924F-1A29D20A5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5227-64B0-46E2-A8BF-2B732AD03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0774-E0BC-4F41-BD20-BC3009D1D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205B-FCE7-470D-8DDF-1456DA8C0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84BA-1AB2-4264-A247-DC7332187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287C-A4D8-4A0D-8828-3A1533846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4D62-494B-4597-922C-CCA67A633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B4F9-F68E-4F7C-8CD6-72A4F10B6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7A84-7E73-4210-843A-FF4BAFD8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E639-030A-4CCD-ABA8-BB7E6A135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B216A-9F7E-48C4-BEEF-BD5D06B2E4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8088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Monotype Corsiva"/>
              </a:rPr>
              <a:t>Виды тест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4419360"/>
            <a:ext cx="556272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ллективная работа учащихся 7 кла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Изделия из бисквитного те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р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рож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рог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2840040" cy="4476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"/>
          <p:cNvPicPr/>
          <p:nvPr/>
        </p:nvPicPr>
        <p:blipFill>
          <a:blip r:embed="rId2"/>
          <a:stretch/>
        </p:blipFill>
        <p:spPr>
          <a:xfrm>
            <a:off x="990720" y="3733920"/>
            <a:ext cx="3809880" cy="286704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Слоеное тест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оста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ук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сло  (маргарин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йца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д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л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да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4952880" y="137160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"/>
          <p:cNvPicPr/>
          <p:nvPr/>
        </p:nvPicPr>
        <p:blipFill>
          <a:blip r:embed="rId2"/>
          <a:stretch/>
        </p:blipFill>
        <p:spPr>
          <a:xfrm>
            <a:off x="4876920" y="4267080"/>
            <a:ext cx="3657600" cy="243540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Способ приготовле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ыхление теста достигается благодаря раскатыванию в очень тонкие слои, отделяемые друг от друга прослойками сливочного масла или маргар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ль и уксусную кислоту растворяют в в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бавляют яйца, му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мешивают упругое тесто, вливая оставшуюся в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тавляют на 20 мин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сло перед закаткой в тесто размягчают, перемешивают с мукой, формируют в виде прямоугольника, охлаждают д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12-1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Способ приготовл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6248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дрезают тесто ножом крестообразно (рис. 1), подсыпают муку и раскатывают тесто скалкой так, чтобы середина пласта была толще, чем края (рис. 2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центр пласта кладут заготовленную лепешку масла, перемешанного с мукой, накрывают ее длинными краями пласта (рис. 3) и защипывают края лепеш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ченный «конверт» кладут на стол и начиная от середины, раскатывают тесто в прямоугольный пласт толщиной 10 м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ладывают в четверо, накрывают салфеткой и охлаждают в течение 20 м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хлажденное тесто вновь раскатывают и складывают в четверо. Так делают не менее 5-6 ра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476760" y="1143000"/>
            <a:ext cx="2438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ис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ис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ис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6629400" y="1447920"/>
            <a:ext cx="2152800" cy="1609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2"/>
          <a:stretch/>
        </p:blipFill>
        <p:spPr>
          <a:xfrm>
            <a:off x="6705720" y="3505320"/>
            <a:ext cx="2038320" cy="1190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"/>
          <p:cNvPicPr/>
          <p:nvPr/>
        </p:nvPicPr>
        <p:blipFill>
          <a:blip r:embed="rId3"/>
          <a:stretch/>
        </p:blipFill>
        <p:spPr>
          <a:xfrm>
            <a:off x="6581880" y="5181480"/>
            <a:ext cx="2562120" cy="156528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Изделия из слоеного тест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р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рож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рог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4876920" y="1219320"/>
            <a:ext cx="4000320" cy="4000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"/>
          <p:cNvPicPr/>
          <p:nvPr/>
        </p:nvPicPr>
        <p:blipFill>
          <a:blip r:embed="rId2"/>
          <a:stretch/>
        </p:blipFill>
        <p:spPr>
          <a:xfrm>
            <a:off x="685800" y="3886200"/>
            <a:ext cx="3714840" cy="250668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сочное тес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оста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у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сло (маргари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й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х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4114800" y="3505320"/>
            <a:ext cx="4762440" cy="317160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1 Способ приготовле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сло или маргарин размягчают, растирают с сахарной пудрой, добавляют яйца и перемешива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массу вводят погашенную уксусом или лимонным соком с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ыпают просеянную муку и быстро замешива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хлаждают в течении 1 ча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2 Способ приготовле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сеянную муку высыпают горкой, сверху насыпают сахар, разрыхлитель, цедру лимона, ванил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муке делают углубление, вбивают яйцо, кладут кусочки мас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инным ножом рубят все продукты и быстро замешивают тес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хлаждают в течении 1 ча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Изделия из песочного тест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ч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рталет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р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5486400" y="1295280"/>
            <a:ext cx="3138480" cy="2351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380880" y="3733920"/>
            <a:ext cx="3733920" cy="2766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3"/>
          <a:stretch/>
        </p:blipFill>
        <p:spPr>
          <a:xfrm>
            <a:off x="5334120" y="4052880"/>
            <a:ext cx="3047760" cy="202392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Monotype Corsiva"/>
              </a:rPr>
              <a:t>Виды тест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РОЖЖЕВ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ЗДРОЖЖЕВОЕ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пресно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сочное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бисквитное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слоеное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74504168_large_028"/>
          <p:cNvPicPr/>
          <p:nvPr/>
        </p:nvPicPr>
        <p:blipFill>
          <a:blip r:embed="rId1"/>
          <a:stretch/>
        </p:blipFill>
        <p:spPr>
          <a:xfrm>
            <a:off x="457200" y="3276720"/>
            <a:ext cx="3200400" cy="318600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Дрожжевое тест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оста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у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х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й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рожж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да или моло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сло сливочное или сливочный маргар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4876920" y="1600200"/>
            <a:ext cx="2847960" cy="212724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Изделия из дрожжевого тест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ле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уло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рож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роги и кулебя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л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лад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труш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улеты 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5638680" y="1219320"/>
            <a:ext cx="3143520" cy="2092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>
            <a:off x="4191120" y="3733920"/>
            <a:ext cx="3809880" cy="2847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"/>
          <p:cNvPicPr/>
          <p:nvPr/>
        </p:nvPicPr>
        <p:blipFill>
          <a:blip r:embed="rId3"/>
          <a:stretch/>
        </p:blipFill>
        <p:spPr>
          <a:xfrm>
            <a:off x="2743200" y="1295280"/>
            <a:ext cx="2666880" cy="200052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Способ приготовления дрожжевого тест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товят его двумя способами — безопарным и опарным. Безопарным способом готовят тесто с малым количеством сдобы (масла, сахара, яиц). Опарный способ применяют при изготовлении более сдобных издел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Безопарный спосо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готовление тест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безопарны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пособом: дрожжи разводят теплым молоком или водой (30 °С), добавляют сахар, соль, хорошо перемешивают до растворения, кладут яйца и всыпают муку. Замешивают тесто, добавляя в конце размягченный до густоты сметаны жир или вливают растительное масло. Тесто накрывают чистой тканью и ставят в теплое место для брожения на 3–4 час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бы удалить лишний углекислый газ и обогатить тесто кислородом, делают обминки, а затем вновь дают тесту подняться. Первую обминку делают через 1–1 1/2 часа, вторую — еще через 2 час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Опарный спосо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8394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опарном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е в подогретую до 40 °С воду или молоко (60% от нормы) добавляют растворенные в воде и процеженные дрожжи, всыпают половину нормы муки и перемешивают до получения однородной массы. Поверхность опары посыпают мукой, накрывают тканью и ставят в теплое место для брожения на 2–3 час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гда опара увеличится в объеме в 2 раза и начнет опадать, к ней добавляют оставшуюся жидкость с растворенными солью и сахаром, яйца, все перемешивают, вводят муку и замешивают тесто. Перед окончанием замеса добавляют размягченный жир. Тесто накрывают тканью и оставляют для брожения еще на 2–3 час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 время брожения тесто обминают 2–3 раза. Выбродившее тесто увеличивается в объеме в 2 раза, при надавливании на поверхность ямка медленно выравнивается, тесто не прилипает к рукам и отстает от стенок посу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Бисквитное тес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Соста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Му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ах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Яй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2743200" y="4114800"/>
            <a:ext cx="2133720" cy="2104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2"/>
          <a:stretch/>
        </p:blipFill>
        <p:spPr>
          <a:xfrm>
            <a:off x="4495680" y="1447920"/>
            <a:ext cx="2543400" cy="1898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"/>
          <p:cNvPicPr/>
          <p:nvPr/>
        </p:nvPicPr>
        <p:blipFill>
          <a:blip r:embed="rId3"/>
          <a:stretch/>
        </p:blipFill>
        <p:spPr>
          <a:xfrm>
            <a:off x="5867280" y="4267080"/>
            <a:ext cx="2619360" cy="186876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ыхлители не добавляю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придания пористой структуры в тесто вводят взбитые яйца или яичные бел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муки можно заменить картофельным крахмал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сквитное тесто имеет жидкую консистенцию. Его выливают в форму, покрытую промасленной бумагой и ставят в духовой шкаф, разогретый до 2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ремя выпекания 20-40 мину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3-31T07:43:27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