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64E9B-50CD-4FB4-9136-A6FF9709229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entury Schoolbook"/>
              </a:rPr>
              <a:t>Изготовление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entury Schoolbook"/>
              </a:rPr>
              <a:t>изделий из проволоки</a:t>
            </a:r>
            <a:br>
              <a:rPr sz="1200"/>
            </a:br>
            <a:br>
              <a:rPr sz="8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630E1-B4B0-4A90-AAEC-728D702B30D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емы ручной гибки проволо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нкую проволоку гнут круглогубцами или плоскогубц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стую проволоку гнут с помощью приспособления или в тисках на оправ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олучения изделий сложной формы используют простейшие приспособления – доски с вбитыми в них гвозд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69985-3A7A-4E1F-A814-45C6F62045A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меры изделий из проволоки и тонколистового метал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59E41-8AEC-4590-9D96-871442A1E01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ехника безопасности при ручной гибки метал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руке, удерживающей заготовку, должна быть надета рукави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работе надежно закрепите заготовку с оправкой в тис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держать левую руку близко к месту сгиба заготов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ть можно только исправным инструмен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трезании заготовки нельзя подносить проволоку близко к лиц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стойте за спиной работающего, и не работайте, если кто-то стоит за в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31C8D-D165-4C77-BA3A-E527271D213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актическая рабо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ть по технологической карте головоломку из проволо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BBE06-2908-4D4F-B8A7-08E6AE28B4B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опросы для закрепле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гнут тонкую проволок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й инструмент применяют для гибки. металл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ка безопасности при ручной гиб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3E579-F022-45A1-A20F-7165CA1A8FE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опросы для повторе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основные правила необходимо соблюдать при резании тонколистового металл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отличаются промышленные механические ножницы от слесарных ручны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9F540-E94B-4D43-89E6-7094046B041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entury Schoolbook"/>
              </a:rPr>
              <a:t>Изгото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entury Schoolbook"/>
              </a:rPr>
              <a:t>изделий 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entury Schoolbook"/>
              </a:rPr>
              <a:t>проволо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1D504-FACB-4DB2-9CD0-9C75FF26AE7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ь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учиться приемам гибки проволоки в тисках и с помощью различных приспособл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орудование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олоток, слесарные тиски, оправки, плоскогубцы, заготовки металла и проволо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36526-B90B-4953-A637-9635ABD1409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делия выполненные гиб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D0B66-C52D-4523-98DC-488E1966DC8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нструменты и оборудование для ручной гиб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бка проволоки, листового металла, полос, прутков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бка тонколистового металла (же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бка тонкой проволоки и узких полос тонколистового метал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бка заготовок различной фор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DFCE1-C8F0-4A2E-B0D4-6ED21D1D815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ибка тонколистового металла в тисках с помощью оправ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закреплении заготовки линия сгиба (          ) должна быть расположена на уровне нагуб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BE12E-E46F-4490-999B-62FEA20EC13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гибание заготовок большой длины из тонколистового метал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гибки заготовок большой длины (например, при производстве кровельных работ) используется металлическая полоса или деревянный брусо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F0B30-4CF5-4272-BB6E-69E66083F27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ибка в гибочном штамп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бка в гибочном штампе применяется на предприятиях при массовом производстве изделий и выполняется кузнецами или штамповщик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81861-3F2D-44D8-8122-CE511D24617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201A-09BC-4BA2-AB7A-0A94A65B2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65AA-BD21-49B4-80A0-868780E70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65B1-1EFB-425C-93F2-AC2FC7A1B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CE04-5EB0-47CF-B971-2790207D4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83B01-7470-4AD3-9FC4-E02807EFF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7A818-3C7A-47C5-BC5C-54FEF0E9A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478A0-D3B4-476B-B2A7-AC84EA7F6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65EC1-E1C8-44D6-9FB3-5BBDB74C3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A498D-0E95-4D37-8A13-E5690F819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AD524-D1CA-4334-A862-EEA4B1CB1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8C14D-CB52-48C4-9E21-4D90BD5A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3935-CD24-46EA-A158-1920F4EFF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9AC08-A54D-4CA3-B341-B5343DBF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836E3-44AF-4242-ADCF-53CA0DCD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E9B9B-5D90-4DCF-9C7E-5499116D0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5069B-65C7-4755-9A72-AAAC92217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243CF-A489-4650-93C2-FFADEB97B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61DF3-5108-4D97-A9C4-EA3F88FF2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FC233-7A0F-4C7B-BACC-F7D7BDE1E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DA6A4-B3E7-4A34-AC91-9BE77D794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F5BCD-FB1A-4AAF-A50C-51FC21F20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F3544-1D36-41CD-9E95-C88A38C7C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4276-418A-4E0E-B0D4-F6D20ED53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F6673-798E-45F7-A8C8-7B5713049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9BC25-2EEC-4799-9215-B6AC39FE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B0CB6-3C94-4BC4-A8A8-59912CF6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905EF-1C74-4B0E-B5DC-DBE73C1A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B5990-877B-42E2-8231-E9062BB79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A053B-B2FD-4A7C-A249-D09BEA191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43C70-6F76-4F5B-B355-5356AE07B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3D227-3852-47DE-A4BD-25EC4B09B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E1B60-ABF3-4F4A-BD3E-1A590042E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4912C-BBC3-406E-94B6-BE19359BE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0B8F-DF05-4C4F-B1A3-67945F3D6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CD93C-BE8D-44C0-93C5-C6EA12033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6E868-ACE9-4E7E-AFD9-668A3C49C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7B28C-5D36-4194-A819-802B47DFD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5AF86-6D91-4352-8FA2-3E995E98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202CC-2236-4014-8C05-39B04084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1F917-6F7E-43B2-BBFF-F11D1A28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7A003-DB10-4ACF-B7A7-8F1C59861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AA284-C031-476F-A13D-1B78026AB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74D7B-652F-474F-BB85-DFCF7BDBA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CE805-C1C5-4215-B9F8-589384F6D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9665-275F-4C36-A5A5-B1E9E27BA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E27D0-A85E-48E3-AE73-DB5BA81CA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A6EFD-08E6-43C9-8F76-56019B506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6319C-1752-4D80-9FD0-D809143D1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308D3-F63A-48A9-81D1-97B787388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350E9-8BA4-48EC-848E-9E46A0C9D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EBAC87-B847-4550-A19C-347EAF3D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91C8C-F7BF-4A3E-BC31-619003DD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B9A3B-0EA5-4E9C-B38E-D7071B68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BAF831-94B7-41D1-BD4D-CBCB86670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446BF-55BC-446D-BF0C-EAA2FCD12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2354-02EC-440A-BCCB-F8C66C96F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96C29-C41C-4ED6-BFFE-05E5CFAB9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4AB004-282B-4DA3-8CD8-9B41AB53E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01C3C-860C-43C9-B715-224A58499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DE1A9-CD26-40FC-9D4F-782627783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C563B1-0AA6-4AFD-8239-B787A7D00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EABE5-101A-4AB1-877D-3684C8111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0879D-D625-4D39-8756-91D6BC037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65F8D-65A7-455D-AA2A-DB6D5827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A74C18-3A57-4E31-B80A-A67EB995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50323-994D-4E3B-9356-79557608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3576-B92E-4EC8-8677-591B8CC9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EB27C-38A4-41B9-A85F-513A13250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59CAA-1B58-45E6-8CF4-CE6C14CD4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14058-400A-4CE9-86C6-C0A5ECF49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42AB-08AD-4C14-BA1C-D86B7C4B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B1F6-D5D0-4530-B2C0-CD725D7D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e863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7598d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b32c1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5cd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3AF63-9E30-4D6D-8A18-9D0BE8D3F7AF}" type="datetime">
              <a:rPr b="0" lang="ru-RU" sz="1000" spc="-1" strike="noStrike">
                <a:solidFill>
                  <a:srgbClr val="bcb372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5EFB3-6BDE-43CA-B991-A64D006436F1}" type="slidenum">
              <a:rPr b="0" lang="ru-RU" sz="1000" spc="-1" strike="noStrike">
                <a:solidFill>
                  <a:srgbClr val="bcb37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e863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7598d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b32c1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5cd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0B9A6-9656-4E7C-A96E-14D21BC57016}" type="datetime">
              <a:rPr b="0" lang="ru-RU" sz="1000" spc="-1" strike="noStrike">
                <a:solidFill>
                  <a:srgbClr val="bcb372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3083A-C8B1-42E8-8230-378F8575EABE}" type="slidenum">
              <a:rPr b="0" lang="ru-RU" sz="1000" spc="-1" strike="noStrike">
                <a:solidFill>
                  <a:srgbClr val="bcb37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e863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7598d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b32c1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5cd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1E46D-B8B5-4224-A489-F46A26E3537D}" type="datetime">
              <a:rPr b="0" lang="ru-RU" sz="1000" spc="-1" strike="noStrike">
                <a:solidFill>
                  <a:srgbClr val="bcb372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C0E73-5F86-4B40-9C5B-34897EBC7E39}" type="slidenum">
              <a:rPr b="0" lang="ru-RU" sz="1000" spc="-1" strike="noStrike">
                <a:solidFill>
                  <a:srgbClr val="bcb37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e863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7598d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b32c1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5cd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3ADA4-ADD2-464C-8155-0C06A7A2BFB1}" type="datetime">
              <a:rPr b="0" lang="ru-RU" sz="1000" spc="-1" strike="noStrike">
                <a:solidFill>
                  <a:srgbClr val="bcb372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3AF29-AEB5-4798-A584-B85BF345A033}" type="slidenum">
              <a:rPr b="0" lang="ru-RU" sz="1000" spc="-1" strike="noStrike">
                <a:solidFill>
                  <a:srgbClr val="bcb37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e863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7598d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b32c1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5cd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393A9-9862-4889-A18F-DFB9F5261998}" type="datetime">
              <a:rPr b="0" lang="ru-RU" sz="1000" spc="-1" strike="noStrike">
                <a:solidFill>
                  <a:srgbClr val="bcb372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31926-538E-49E7-83DA-B663CE4E120B}" type="slidenum">
              <a:rPr b="0" lang="ru-RU" sz="1000" spc="-1" strike="noStrike">
                <a:solidFill>
                  <a:srgbClr val="bcb37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e863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7598d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b32c1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5cd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62A7B-02A1-42F3-B8B9-ED6EB9E45682}" type="datetime">
              <a:rPr b="0" lang="ru-RU" sz="1000" spc="-1" strike="noStrike">
                <a:solidFill>
                  <a:srgbClr val="bcb372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6AB18-DA8B-4075-9247-F0EC5F7B4F95}" type="slidenum">
              <a:rPr b="0" lang="ru-RU" sz="1000" spc="-1" strike="noStrike">
                <a:solidFill>
                  <a:srgbClr val="bcb37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Заголовок 1" descr=""/>
          <p:cNvPicPr/>
          <p:nvPr/>
        </p:nvPicPr>
        <p:blipFill>
          <a:blip r:embed="rId1"/>
          <a:stretch/>
        </p:blipFill>
        <p:spPr>
          <a:xfrm>
            <a:off x="907920" y="1895400"/>
            <a:ext cx="7467840" cy="1957320"/>
          </a:xfrm>
          <a:prstGeom prst="rect">
            <a:avLst/>
          </a:prstGeom>
          <a:ln w="0">
            <a:noFill/>
          </a:ln>
        </p:spPr>
      </p:pic>
      <p:sp>
        <p:nvSpPr>
          <p:cNvPr id="262" name="Місце для нижнього колонтитула 3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Приемы ручной гибки проволоки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857160" y="164304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онкую проволоку гнут круглогубцами или плоскогубц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олстую проволоку гнут с помощью приспособления или в тисках на оправка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ля получения изделий сложной формы используют простейшие приспособления – доски с вбитыми в них гвоздя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" name="Рисунок 3" descr="25 (2).jpg"/>
          <p:cNvPicPr/>
          <p:nvPr/>
        </p:nvPicPr>
        <p:blipFill>
          <a:blip r:embed="rId1"/>
          <a:stretch/>
        </p:blipFill>
        <p:spPr>
          <a:xfrm>
            <a:off x="4857840" y="1428840"/>
            <a:ext cx="3357360" cy="5072040"/>
          </a:xfrm>
          <a:prstGeom prst="rect">
            <a:avLst/>
          </a:prstGeom>
          <a:ln w="0">
            <a:noFill/>
          </a:ln>
        </p:spPr>
      </p:pic>
      <p:cxnSp>
        <p:nvCxnSpPr>
          <p:cNvPr id="303" name="Прямая со стрелкой 5"/>
          <p:cNvCxnSpPr/>
          <p:nvPr/>
        </p:nvCxnSpPr>
        <p:spPr>
          <a:xfrm>
            <a:off x="4000680" y="2214720"/>
            <a:ext cx="786240" cy="2160"/>
          </a:xfrm>
          <a:prstGeom prst="straightConnector1">
            <a:avLst/>
          </a:prstGeom>
          <a:ln w="3492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04" name="Прямая со стрелкой 7"/>
          <p:cNvCxnSpPr/>
          <p:nvPr/>
        </p:nvCxnSpPr>
        <p:spPr>
          <a:xfrm>
            <a:off x="4285800" y="3571920"/>
            <a:ext cx="500760" cy="2160"/>
          </a:xfrm>
          <a:prstGeom prst="straightConnector1">
            <a:avLst/>
          </a:prstGeom>
          <a:ln w="3492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05" name="Прямая со стрелкой 9"/>
          <p:cNvCxnSpPr/>
          <p:nvPr/>
        </p:nvCxnSpPr>
        <p:spPr>
          <a:xfrm>
            <a:off x="4143240" y="5643720"/>
            <a:ext cx="643320" cy="2160"/>
          </a:xfrm>
          <a:prstGeom prst="straightConnector1">
            <a:avLst/>
          </a:prstGeom>
          <a:ln w="34920">
            <a:solidFill>
              <a:srgbClr val="fe8637"/>
            </a:solidFill>
            <a:miter/>
            <a:tailEnd len="med" type="arrow" w="med"/>
          </a:ln>
        </p:spPr>
      </p:cxnSp>
      <p:sp>
        <p:nvSpPr>
          <p:cNvPr id="306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Примеры изделий из проволоки и тонколистового металла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08" name="Picture 4" descr="PICT0015"/>
          <p:cNvPicPr/>
          <p:nvPr/>
        </p:nvPicPr>
        <p:blipFill>
          <a:blip r:embed="rId1"/>
          <a:stretch/>
        </p:blipFill>
        <p:spPr>
          <a:xfrm>
            <a:off x="738360" y="1714680"/>
            <a:ext cx="3333600" cy="25002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5" descr="PICT0016"/>
          <p:cNvPicPr/>
          <p:nvPr/>
        </p:nvPicPr>
        <p:blipFill>
          <a:blip r:embed="rId2"/>
          <a:stretch/>
        </p:blipFill>
        <p:spPr>
          <a:xfrm>
            <a:off x="4500720" y="1714680"/>
            <a:ext cx="3333600" cy="25002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C:\Documents and Settings\М.Е.Н\Рабочий стол\тонколист\24164.jpg"/>
          <p:cNvPicPr/>
          <p:nvPr/>
        </p:nvPicPr>
        <p:blipFill>
          <a:blip r:embed="rId3"/>
          <a:stretch/>
        </p:blipFill>
        <p:spPr>
          <a:xfrm>
            <a:off x="2000160" y="4357800"/>
            <a:ext cx="4675320" cy="2338200"/>
          </a:xfrm>
          <a:prstGeom prst="rect">
            <a:avLst/>
          </a:prstGeom>
          <a:ln w="0">
            <a:noFill/>
          </a:ln>
        </p:spPr>
      </p:pic>
      <p:sp>
        <p:nvSpPr>
          <p:cNvPr id="311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Рисунок 3" descr="Поделки из проволоки7.jpg"/>
          <p:cNvPicPr/>
          <p:nvPr/>
        </p:nvPicPr>
        <p:blipFill>
          <a:blip r:embed="rId1"/>
          <a:stretch/>
        </p:blipFill>
        <p:spPr>
          <a:xfrm>
            <a:off x="642960" y="214200"/>
            <a:ext cx="2469960" cy="3286080"/>
          </a:xfrm>
          <a:prstGeom prst="rect">
            <a:avLst/>
          </a:prstGeom>
          <a:ln w="0">
            <a:noFill/>
          </a:ln>
        </p:spPr>
      </p:pic>
      <p:pic>
        <p:nvPicPr>
          <p:cNvPr id="313" name="Рисунок 4" descr="Поделки из проволоки9.jpg"/>
          <p:cNvPicPr/>
          <p:nvPr/>
        </p:nvPicPr>
        <p:blipFill>
          <a:blip r:embed="rId2"/>
          <a:stretch/>
        </p:blipFill>
        <p:spPr>
          <a:xfrm>
            <a:off x="3357720" y="214200"/>
            <a:ext cx="2469960" cy="3286080"/>
          </a:xfrm>
          <a:prstGeom prst="rect">
            <a:avLst/>
          </a:prstGeom>
          <a:ln w="0">
            <a:noFill/>
          </a:ln>
        </p:spPr>
      </p:pic>
      <p:pic>
        <p:nvPicPr>
          <p:cNvPr id="314" name="Рисунок 5" descr="Поделки из проволоки81.jpg"/>
          <p:cNvPicPr/>
          <p:nvPr/>
        </p:nvPicPr>
        <p:blipFill>
          <a:blip r:embed="rId3"/>
          <a:stretch/>
        </p:blipFill>
        <p:spPr>
          <a:xfrm>
            <a:off x="6143760" y="214200"/>
            <a:ext cx="2469960" cy="3286080"/>
          </a:xfrm>
          <a:prstGeom prst="rect">
            <a:avLst/>
          </a:prstGeom>
          <a:ln w="0">
            <a:noFill/>
          </a:ln>
        </p:spPr>
      </p:pic>
      <p:pic>
        <p:nvPicPr>
          <p:cNvPr id="315" name="Рисунок 6" descr="Поделки из проволоки17.jpg"/>
          <p:cNvPicPr/>
          <p:nvPr/>
        </p:nvPicPr>
        <p:blipFill>
          <a:blip r:embed="rId4"/>
          <a:stretch/>
        </p:blipFill>
        <p:spPr>
          <a:xfrm>
            <a:off x="642960" y="3786120"/>
            <a:ext cx="3841560" cy="2714760"/>
          </a:xfrm>
          <a:prstGeom prst="rect">
            <a:avLst/>
          </a:prstGeom>
          <a:ln w="0">
            <a:noFill/>
          </a:ln>
        </p:spPr>
      </p:pic>
      <p:pic>
        <p:nvPicPr>
          <p:cNvPr id="316" name="Рисунок 7" descr="Поделки из проволоки15.jpg"/>
          <p:cNvPicPr/>
          <p:nvPr/>
        </p:nvPicPr>
        <p:blipFill>
          <a:blip r:embed="rId5"/>
          <a:stretch/>
        </p:blipFill>
        <p:spPr>
          <a:xfrm>
            <a:off x="5000760" y="3751200"/>
            <a:ext cx="3657600" cy="2749680"/>
          </a:xfrm>
          <a:prstGeom prst="rect">
            <a:avLst/>
          </a:prstGeom>
          <a:ln w="0">
            <a:noFill/>
          </a:ln>
        </p:spPr>
      </p:pic>
      <p:sp>
        <p:nvSpPr>
          <p:cNvPr id="317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Техника безопасности при ручной гибки металла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93840" indent="-3596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руке, удерживающей заготовку, должна быть надета рукавиц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работе надежно закрепите заготовку с оправкой в тиск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льзя держать левую руку близко к месту сгиба заготов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ботать можно только исправным инструмент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отрезании заготовки нельзя подносить проволоку близко к лиц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стойте за спиной работающего, и не работайте, если кто-то стоит за в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Практическая работа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857160" y="1785960"/>
            <a:ext cx="365760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ыполнить по технологической карте головоломку из проволок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4" descr=""/>
          <p:cNvPicPr/>
          <p:nvPr/>
        </p:nvPicPr>
        <p:blipFill>
          <a:blip r:embed="rId1"/>
          <a:stretch/>
        </p:blipFill>
        <p:spPr>
          <a:xfrm>
            <a:off x="4929120" y="1714680"/>
            <a:ext cx="3498840" cy="46972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5" descr="PICT0027"/>
          <p:cNvPicPr/>
          <p:nvPr/>
        </p:nvPicPr>
        <p:blipFill>
          <a:blip r:embed="rId2"/>
          <a:stretch/>
        </p:blipFill>
        <p:spPr>
          <a:xfrm>
            <a:off x="1071720" y="3786120"/>
            <a:ext cx="3541680" cy="2656080"/>
          </a:xfrm>
          <a:prstGeom prst="rect">
            <a:avLst/>
          </a:prstGeom>
          <a:ln w="0">
            <a:noFill/>
          </a:ln>
        </p:spPr>
      </p:pic>
      <p:sp>
        <p:nvSpPr>
          <p:cNvPr id="325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Вопросы для закрепления: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6840" y="1600200"/>
            <a:ext cx="7467480" cy="21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м гнут тонкую проволоку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ой инструмент применяют для гибки. металл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ика безопасности при ручной гибк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Рисунок 3" descr="Поделки из проволоки11.jpg"/>
          <p:cNvPicPr/>
          <p:nvPr/>
        </p:nvPicPr>
        <p:blipFill>
          <a:blip r:embed="rId1"/>
          <a:stretch/>
        </p:blipFill>
        <p:spPr>
          <a:xfrm>
            <a:off x="2500200" y="3500280"/>
            <a:ext cx="4024440" cy="3024360"/>
          </a:xfrm>
          <a:prstGeom prst="rect">
            <a:avLst/>
          </a:prstGeom>
          <a:ln w="0">
            <a:noFill/>
          </a:ln>
        </p:spPr>
      </p:pic>
      <p:sp>
        <p:nvSpPr>
          <p:cNvPr id="329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99680" y="4996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Вопросы для повторения: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28400" y="200016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ие основные правила необходимо соблюдать при резании тонколистового металл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м отличаются промышленные механические ножницы от слесарных ручных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Прямоугольник 9" descr=""/>
          <p:cNvPicPr/>
          <p:nvPr/>
        </p:nvPicPr>
        <p:blipFill>
          <a:blip r:embed="rId1"/>
          <a:stretch/>
        </p:blipFill>
        <p:spPr>
          <a:xfrm>
            <a:off x="927000" y="1365120"/>
            <a:ext cx="7521840" cy="4213440"/>
          </a:xfrm>
          <a:prstGeom prst="rect">
            <a:avLst/>
          </a:prstGeom>
          <a:ln w="0">
            <a:noFill/>
          </a:ln>
        </p:spPr>
      </p:pic>
      <p:sp>
        <p:nvSpPr>
          <p:cNvPr id="267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28400" y="11430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99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Цель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научиться приемам гибки проволоки в тисках и с помощью различных приспособле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борудование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молоток, слесарные тиски, оправки, плоскогубцы, заготовки металла и проволо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13880" y="1071720"/>
            <a:ext cx="7215480" cy="42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Изделия выполненные гибкой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1" name="Рисунок 2" descr="ч2.jpg"/>
          <p:cNvPicPr/>
          <p:nvPr/>
        </p:nvPicPr>
        <p:blipFill>
          <a:blip r:embed="rId1"/>
          <a:stretch/>
        </p:blipFill>
        <p:spPr>
          <a:xfrm>
            <a:off x="1785960" y="1857240"/>
            <a:ext cx="5091120" cy="2695680"/>
          </a:xfrm>
          <a:prstGeom prst="rect">
            <a:avLst/>
          </a:prstGeom>
          <a:ln w="0">
            <a:noFill/>
          </a:ln>
        </p:spPr>
      </p:pic>
      <p:pic>
        <p:nvPicPr>
          <p:cNvPr id="272" name="Рисунок 3" descr="ч3.jpg"/>
          <p:cNvPicPr/>
          <p:nvPr/>
        </p:nvPicPr>
        <p:blipFill>
          <a:blip r:embed="rId2"/>
          <a:stretch/>
        </p:blipFill>
        <p:spPr>
          <a:xfrm>
            <a:off x="1071720" y="4214880"/>
            <a:ext cx="6754680" cy="2876400"/>
          </a:xfrm>
          <a:prstGeom prst="rect">
            <a:avLst/>
          </a:prstGeom>
          <a:ln w="0">
            <a:noFill/>
          </a:ln>
        </p:spPr>
      </p:pic>
      <p:sp>
        <p:nvSpPr>
          <p:cNvPr id="273" name="TextBox 4"/>
          <p:cNvSpPr/>
          <p:nvPr/>
        </p:nvSpPr>
        <p:spPr>
          <a:xfrm>
            <a:off x="785880" y="285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ибка металла это придача новой формы заготовке (или ее части) механическим или ручным способом с помощью приспособле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Инструменты и оборудование для ручной гибки 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6" name="Содержимое 5" descr="23.jpg"/>
          <p:cNvPicPr/>
          <p:nvPr/>
        </p:nvPicPr>
        <p:blipFill>
          <a:blip r:embed="rId1"/>
          <a:stretch/>
        </p:blipFill>
        <p:spPr>
          <a:xfrm>
            <a:off x="5214960" y="2714760"/>
            <a:ext cx="2440080" cy="1143000"/>
          </a:xfrm>
          <a:prstGeom prst="rect">
            <a:avLst/>
          </a:prstGeom>
          <a:ln w="76320">
            <a:solidFill>
              <a:srgbClr val="3d7cc1"/>
            </a:solidFill>
            <a:miter/>
          </a:ln>
        </p:spPr>
      </p:pic>
      <p:sp>
        <p:nvSpPr>
          <p:cNvPr id="277" name=""/>
          <p:cNvSpPr txBox="1"/>
          <p:nvPr/>
        </p:nvSpPr>
        <p:spPr>
          <a:xfrm>
            <a:off x="785880" y="1499760"/>
            <a:ext cx="3657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ибка проволоки, листового металла, полос, прутков и д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ибка тонколистового металла (жести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ибка тонкой проволоки и узких полос тонколистового метал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ибка заготовок различной форм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Рисунок 2" descr="23.jpg"/>
          <p:cNvPicPr/>
          <p:nvPr/>
        </p:nvPicPr>
        <p:blipFill>
          <a:blip r:embed="rId2"/>
          <a:stretch/>
        </p:blipFill>
        <p:spPr>
          <a:xfrm>
            <a:off x="4821120" y="1450800"/>
            <a:ext cx="2865600" cy="1578240"/>
          </a:xfrm>
          <a:prstGeom prst="rect">
            <a:avLst/>
          </a:prstGeom>
          <a:ln w="0">
            <a:noFill/>
          </a:ln>
        </p:spPr>
      </p:pic>
      <p:pic>
        <p:nvPicPr>
          <p:cNvPr id="279" name="Рисунок 6" descr="23.jpg"/>
          <p:cNvPicPr/>
          <p:nvPr/>
        </p:nvPicPr>
        <p:blipFill>
          <a:blip r:embed="rId3"/>
          <a:stretch/>
        </p:blipFill>
        <p:spPr>
          <a:xfrm>
            <a:off x="5214960" y="3929040"/>
            <a:ext cx="2435040" cy="1000080"/>
          </a:xfrm>
          <a:prstGeom prst="rect">
            <a:avLst/>
          </a:prstGeom>
          <a:ln w="76320">
            <a:solidFill>
              <a:srgbClr val="3d7cc1"/>
            </a:solidFill>
            <a:miter/>
          </a:ln>
        </p:spPr>
      </p:pic>
      <p:pic>
        <p:nvPicPr>
          <p:cNvPr id="280" name="Рисунок 7" descr="24.jpg"/>
          <p:cNvPicPr/>
          <p:nvPr/>
        </p:nvPicPr>
        <p:blipFill>
          <a:blip r:embed="rId4"/>
          <a:stretch/>
        </p:blipFill>
        <p:spPr>
          <a:xfrm>
            <a:off x="5214960" y="5000760"/>
            <a:ext cx="2428920" cy="1665000"/>
          </a:xfrm>
          <a:prstGeom prst="rect">
            <a:avLst/>
          </a:prstGeom>
          <a:ln w="76320">
            <a:solidFill>
              <a:srgbClr val="3d7cc1"/>
            </a:solidFill>
            <a:miter/>
          </a:ln>
        </p:spPr>
      </p:pic>
      <p:cxnSp>
        <p:nvCxnSpPr>
          <p:cNvPr id="281" name="Прямая со стрелкой 8"/>
          <p:cNvCxnSpPr/>
          <p:nvPr/>
        </p:nvCxnSpPr>
        <p:spPr>
          <a:xfrm>
            <a:off x="4572000" y="2214720"/>
            <a:ext cx="572400" cy="2160"/>
          </a:xfrm>
          <a:prstGeom prst="straightConnector1">
            <a:avLst/>
          </a:prstGeom>
          <a:ln w="3492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282" name="Прямая со стрелкой 10"/>
          <p:cNvCxnSpPr/>
          <p:nvPr/>
        </p:nvCxnSpPr>
        <p:spPr>
          <a:xfrm>
            <a:off x="4572000" y="3357720"/>
            <a:ext cx="572400" cy="2160"/>
          </a:xfrm>
          <a:prstGeom prst="straightConnector1">
            <a:avLst/>
          </a:prstGeom>
          <a:ln w="3492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283" name="Прямая со стрелкой 12"/>
          <p:cNvCxnSpPr/>
          <p:nvPr/>
        </p:nvCxnSpPr>
        <p:spPr>
          <a:xfrm>
            <a:off x="4643280" y="4500720"/>
            <a:ext cx="501120" cy="2160"/>
          </a:xfrm>
          <a:prstGeom prst="straightConnector1">
            <a:avLst/>
          </a:prstGeom>
          <a:ln w="3492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284" name="Прямая со стрелкой 14"/>
          <p:cNvCxnSpPr/>
          <p:nvPr/>
        </p:nvCxnSpPr>
        <p:spPr>
          <a:xfrm>
            <a:off x="4572000" y="5928840"/>
            <a:ext cx="572400" cy="2520"/>
          </a:xfrm>
          <a:prstGeom prst="straightConnector1">
            <a:avLst/>
          </a:prstGeom>
          <a:ln w="34920">
            <a:solidFill>
              <a:srgbClr val="fe8637"/>
            </a:solidFill>
            <a:miter/>
            <a:tailEnd len="med" type="arrow" w="med"/>
          </a:ln>
        </p:spPr>
      </p:cxnSp>
      <p:sp>
        <p:nvSpPr>
          <p:cNvPr id="285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Гибка тонколистового металла в тисках с помощью оправок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7" name="Рисунок 3" descr="1.bmp"/>
          <p:cNvPicPr/>
          <p:nvPr/>
        </p:nvPicPr>
        <p:blipFill>
          <a:blip r:embed="rId1"/>
          <a:stretch/>
        </p:blipFill>
        <p:spPr>
          <a:xfrm>
            <a:off x="2143080" y="1357200"/>
            <a:ext cx="4643640" cy="2225880"/>
          </a:xfrm>
          <a:prstGeom prst="rect">
            <a:avLst/>
          </a:prstGeom>
          <a:ln w="0">
            <a:noFill/>
          </a:ln>
        </p:spPr>
      </p:pic>
      <p:sp>
        <p:nvSpPr>
          <p:cNvPr id="288" name="TextBox 5"/>
          <p:cNvSpPr/>
          <p:nvPr/>
        </p:nvSpPr>
        <p:spPr>
          <a:xfrm>
            <a:off x="928800" y="3643200"/>
            <a:ext cx="72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закреплении заготовки линия сгиба (          ) должна быть расположена на уровне нагубни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Прямая соединительная линия 7"/>
          <p:cNvSpPr/>
          <p:nvPr/>
        </p:nvSpPr>
        <p:spPr>
          <a:xfrm>
            <a:off x="5429160" y="3929040"/>
            <a:ext cx="571680" cy="14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Рисунок 3" descr="Гибка тонколистового металла с помощью оправок"/>
          <p:cNvPicPr/>
          <p:nvPr/>
        </p:nvPicPr>
        <p:blipFill>
          <a:blip r:embed="rId2"/>
          <a:stretch/>
        </p:blipFill>
        <p:spPr>
          <a:xfrm>
            <a:off x="2214720" y="4286160"/>
            <a:ext cx="4429080" cy="2373480"/>
          </a:xfrm>
          <a:prstGeom prst="rect">
            <a:avLst/>
          </a:prstGeom>
          <a:ln w="0">
            <a:noFill/>
          </a:ln>
        </p:spPr>
      </p:pic>
      <p:sp>
        <p:nvSpPr>
          <p:cNvPr id="291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Сгибание заготовок большой длины из тонколистового металла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93" name="Рисунок 3" descr="Сгибание заготовок большой длины из тонколистового металла."/>
          <p:cNvPicPr/>
          <p:nvPr/>
        </p:nvPicPr>
        <p:blipFill>
          <a:blip r:embed="rId1"/>
          <a:stretch/>
        </p:blipFill>
        <p:spPr>
          <a:xfrm>
            <a:off x="1714680" y="1571760"/>
            <a:ext cx="5643360" cy="3500280"/>
          </a:xfrm>
          <a:prstGeom prst="rect">
            <a:avLst/>
          </a:prstGeom>
          <a:ln w="0">
            <a:noFill/>
          </a:ln>
        </p:spPr>
      </p:pic>
      <p:sp>
        <p:nvSpPr>
          <p:cNvPr id="294" name="TextBox 4"/>
          <p:cNvSpPr/>
          <p:nvPr/>
        </p:nvSpPr>
        <p:spPr>
          <a:xfrm>
            <a:off x="928800" y="521496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гибки заготовок большой длины (например, при производстве кровельных работ) используется металлическая полоса или деревянный брусок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9680" y="2854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Гибка в гибочном штампе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97" name="Рисунок 3" descr="Гибка металла в гибочном штампе."/>
          <p:cNvPicPr/>
          <p:nvPr/>
        </p:nvPicPr>
        <p:blipFill>
          <a:blip r:embed="rId1"/>
          <a:srcRect l="0" t="2410" r="0" b="3302"/>
          <a:stretch/>
        </p:blipFill>
        <p:spPr>
          <a:xfrm>
            <a:off x="857160" y="1500120"/>
            <a:ext cx="7500960" cy="3143160"/>
          </a:xfrm>
          <a:prstGeom prst="rect">
            <a:avLst/>
          </a:prstGeom>
          <a:ln w="0">
            <a:noFill/>
          </a:ln>
        </p:spPr>
      </p:pic>
      <p:sp>
        <p:nvSpPr>
          <p:cNvPr id="298" name="TextBox 4"/>
          <p:cNvSpPr/>
          <p:nvPr/>
        </p:nvSpPr>
        <p:spPr>
          <a:xfrm>
            <a:off x="928800" y="5000760"/>
            <a:ext cx="7500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ибка в гибочном штампе применяется на предприятиях при массовом производстве изделий и выполняется кузнецами или штамповщик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3-31T07:55:26Z</dcterms:modified>
  <cp:revision>74</cp:revision>
  <dc:subject/>
  <dc:title>Изготовление изделий из проволоки</dc:title>
</cp:coreProperties>
</file>