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441B-CE49-4B09-925C-04141AA6FC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Schoolbook"/>
              </a:rPr>
              <a:t>Изготовление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entury Schoolbook"/>
              </a:rPr>
              <a:t>изделий из проволоки</a:t>
            </a:r>
            <a:br>
              <a:rPr sz="1200"/>
            </a:br>
            <a:br>
              <a:rPr sz="8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23E8-B602-492A-BC4D-01AA1B1EBA1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емы ручной гибки проволо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нкую проволоку гнут круглогубцами или плоскогубц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стую проволоку гнут с помощью приспособления или в тисках на оправ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лучения изделий сложной формы используют простейшие приспособления – доски с вбитыми в них гвозд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DD88-63F0-4106-AEC0-8A66CF788D8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меры изделий из проволоки и тонколистового метал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4A7B-A67A-4B90-9854-C9A60EF7A40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хника безопасности при ручной гибки метал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уке, удерживающей заготовку, должна быть надета рукав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работе надежно закрепите заготовку с оправкой в тис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держать левую руку близко к месту сгиба загото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ть можно только исправным инструмен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трезании заготовки нельзя подносить проволоку близко к лиц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стойте за спиной работающего, и не работайте, если кто-то стоит за 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2FD3-1F6F-4BC2-B9B5-C45EADEBD57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ктическая рабо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ть по технологической карте головоломку из проволо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3463-3475-42CF-B779-9C51995DCD6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просы для закрепл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гнут тонкую проволок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инструмент применяют для гибки. метал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ка безопасности при ручной гиб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B492-2F0D-42F4-9736-FEC4A9883DB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просы для повтор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основные правила необходимо соблюдать при резании тонколистового метал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отличаются промышленные механические ножницы от слесарных ручны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6A6E-84A6-49D6-A020-E74B48E8E71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Schoolbook"/>
              </a:rPr>
              <a:t>Изгото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Schoolbook"/>
              </a:rPr>
              <a:t>изделий 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Schoolbook"/>
              </a:rPr>
              <a:t>провол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7320-56F0-456B-8476-693AD2A5653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учиться приемам гибки проволоки в тисках и с помощью различных приспособл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орудование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олоток, слесарные тиски, оправки, плоскогубцы, заготовки металла и проволо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3FD0-D0D9-484B-A830-5CC06EE0A31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делия выполненные гиб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BACE-5A57-4094-ADD5-C2D03DE05F5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нструменты и оборудование для ручной гиб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а проволоки, листового металла, полос, прутков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а тонколистового металла (же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а тонкой проволоки и узких полос тонколистового метал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а заготовок различной фор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A081-B68B-40F3-8700-764C7E6CC48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ибка тонколистового металла в тисках с помощью оправ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закреплении заготовки линия сгиба (          ) должна быть расположена на уровне нагуб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42F9-B1A1-42A3-99D8-A28C9D00AF2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гибание заготовок большой длины из тонколистового метал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гибки заготовок большой длины (например, при производстве кровельных работ) используется металлическая полоса или деревянный брус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7F04-E8B0-41D2-BB00-4D2A9836339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ибка в гибочном штамп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а в гибочном штампе применяется на предприятиях при массовом производстве изделий и выполняется кузнецами или штамповщи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3773-5AF0-4DD8-AD26-B60AB8CA615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D594-936C-4975-8263-A4DE41E28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EE75-D8A3-467D-A9E0-3DA7F737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66D9-0E69-48AF-89E5-8FA204EB6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A88E-A85E-4E29-9EE1-C1BBD8721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8BFB-1E14-44FC-AB91-359D78CF0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8FE1-0692-4687-9128-1B0C10CA1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6AE9-7A21-44B3-A2A4-DD8BCD76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077F-F02C-4D47-AAE9-20DF700C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203D-A052-4B90-9BB0-519B1307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6100D-ABA4-4EF0-9AD3-C2F646DD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29131-D4F7-438D-8B08-63D54B5B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F895-A849-4796-BCBE-981231A4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7C15-B7A4-48CE-B83B-54967827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78E0-AE7F-44CD-81F3-881EE948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AA78-EAA1-4F1A-92D4-F02B6084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D0A8-FE19-4CF4-A494-1C2861C8E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6C15-4628-4F57-84DD-535801641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34975-FE35-493C-9230-64127F3B2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568E9-183D-46DE-BC32-0E573916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F48C3-137B-4B43-9A96-9E238005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90B66-9BF8-4242-A11E-3C483DF4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7EB32-388E-4216-B72D-465DF650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3143-0096-474B-96AE-C3CB86B7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93AFD-B07D-4238-9232-D5DA89AC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FCA9F-A1D0-4ABC-A124-23CEF243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3A6FA-D4AF-4157-8FC6-07CFA3EB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BED4D-BF6B-49DE-AC01-331F2235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DCDD3-47F6-4F59-944A-6060CB5F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03ABC-A627-453F-ABC1-E40EDC464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40B69-04CA-473F-A48B-BC38292EF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DB13B-E51F-460C-927F-1ACED14B0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D168A-C2CA-451D-995A-75E138E4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02FAE-2326-4064-9356-0153B276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13E3-2D69-44FB-8FCA-B7B797DA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210FF-BA68-447F-91D9-9C85B448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AE770-3370-43D0-83C6-517889FE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C0508-E06D-4E03-97BD-B87D6130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8E607-F4C7-4732-AB64-2BC5690C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94C2B-1AED-404B-B0E4-59315194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A0361-2FB3-4FA9-8F08-38A92C61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A32CA-9626-48B5-A6CC-39F664BD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16F9B-C2AF-427C-BEE7-02920CFF1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7B843-9BC0-4EF1-A09C-C016E90D5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CCA20-6A88-411C-B0A5-6C2C08C67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2237-F471-4748-8EE2-BA750942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56433-E446-402B-917B-AD5AEB79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04EDE-5066-41F4-A3D1-F02171BD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6C018-7421-41F2-A4F5-6F1250D0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729FB-5638-4DE5-A5EF-355C02C9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1E175-F2C2-457D-B744-E33BA43A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655D8-F411-4684-8161-EFDBB2A4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0A6F2-7A1B-4497-897E-430152CE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1B8EE-F45E-4B17-9798-4FBDA286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5123D-5524-4737-8AB1-2B81BC06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4950A-B4DD-4368-82C1-C2C1EDE92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B422-7B56-4E61-98A3-DEB239B0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F3CC2-7F9A-4D05-9236-EC2E54278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C47FD-6639-41FA-9E93-C535D6B0E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687EF-AA90-4D75-89F6-7A3C9475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5231F-9CBB-4747-A54C-43D681C9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77388-C990-4107-A68B-EE4497CA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7C30C-6118-4E1C-AC02-892A2F8E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83654-F571-4008-A92E-92A8ECB2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C0A80-699B-412F-ADEA-13C5E9FB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83269-CE3D-4A9C-8404-22E31D27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B34C5-9C97-4D9D-ADF1-27C517E6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18EF-DEEE-4B8F-A1FA-49E1645B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87EB3-B6FB-45A7-8224-A59638AB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F5CA5-372C-485B-9614-647F6111D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24A0F-8258-4F1E-8BD6-0AD747C29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8F54-03C1-4190-B45D-A8A4B033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B925-EB94-4231-A6D9-3751BF91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DC82-2627-4B86-B18F-3BB5939D6858}" type="datetime">
              <a:rPr b="0" lang="ru-RU" sz="1000" spc="-1" strike="noStrike">
                <a:solidFill>
                  <a:srgbClr val="bcb372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7E6A-6146-4B20-A5D9-637630633B31}" type="slidenum">
              <a:rPr b="0" lang="ru-RU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5942-F5EE-420C-B450-581EFD15F1CF}" type="datetime">
              <a:rPr b="0" lang="ru-RU" sz="1000" spc="-1" strike="noStrike">
                <a:solidFill>
                  <a:srgbClr val="bcb372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C8B7-F372-4403-843E-16BA3CEC0A78}" type="slidenum">
              <a:rPr b="0" lang="ru-RU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B8EE-A943-49CD-BA86-2412188E5F69}" type="datetime">
              <a:rPr b="0" lang="ru-RU" sz="1000" spc="-1" strike="noStrike">
                <a:solidFill>
                  <a:srgbClr val="bcb372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F5D5-73AC-4CBF-8402-C6333CB1E104}" type="slidenum">
              <a:rPr b="0" lang="ru-RU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D266-9E96-4403-9A9A-929E85511204}" type="datetime">
              <a:rPr b="0" lang="ru-RU" sz="1000" spc="-1" strike="noStrike">
                <a:solidFill>
                  <a:srgbClr val="bcb372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55F7-FF37-4DD9-8704-9B7D1636C72F}" type="slidenum">
              <a:rPr b="0" lang="ru-RU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79E2-99ED-472A-9503-0F6045BBEA24}" type="datetime">
              <a:rPr b="0" lang="ru-RU" sz="1000" spc="-1" strike="noStrike">
                <a:solidFill>
                  <a:srgbClr val="bcb372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EAB9-8FE7-4CDC-9712-32DA2A62AFA0}" type="slidenum">
              <a:rPr b="0" lang="ru-RU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1B0A-4C9C-4EB6-8F9A-6DC6B97DDA97}" type="datetime">
              <a:rPr b="0" lang="ru-RU" sz="1000" spc="-1" strike="noStrike">
                <a:solidFill>
                  <a:srgbClr val="bcb372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EDB2-4DD1-42B0-B418-CBCDBD28F7FF}" type="slidenum">
              <a:rPr b="0" lang="ru-RU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1" descr=""/>
          <p:cNvPicPr/>
          <p:nvPr/>
        </p:nvPicPr>
        <p:blipFill>
          <a:blip r:embed="rId1"/>
          <a:stretch/>
        </p:blipFill>
        <p:spPr>
          <a:xfrm>
            <a:off x="907920" y="1895400"/>
            <a:ext cx="7467840" cy="1957320"/>
          </a:xfrm>
          <a:prstGeom prst="rect">
            <a:avLst/>
          </a:prstGeom>
          <a:ln w="0">
            <a:noFill/>
          </a:ln>
        </p:spPr>
      </p:pic>
      <p:sp>
        <p:nvSpPr>
          <p:cNvPr id="262" name="Місце для нижнього колонтитула 3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Приемы ручной гибки проволоки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857160" y="164304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нкую проволоку гнут круглогубцами или плоскогубц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лстую проволоку гнут с помощью приспособления или в тисках на оправк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получения изделий сложной формы используют простейшие приспособления – доски с вбитыми в них гвоздя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Рисунок 3" descr="25 (2).jpg"/>
          <p:cNvPicPr/>
          <p:nvPr/>
        </p:nvPicPr>
        <p:blipFill>
          <a:blip r:embed="rId1"/>
          <a:stretch/>
        </p:blipFill>
        <p:spPr>
          <a:xfrm>
            <a:off x="4857840" y="1428840"/>
            <a:ext cx="3357360" cy="5072040"/>
          </a:xfrm>
          <a:prstGeom prst="rect">
            <a:avLst/>
          </a:prstGeom>
          <a:ln w="0">
            <a:noFill/>
          </a:ln>
        </p:spPr>
      </p:pic>
      <p:cxnSp>
        <p:nvCxnSpPr>
          <p:cNvPr id="303" name="Прямая со стрелкой 5"/>
          <p:cNvCxnSpPr/>
          <p:nvPr/>
        </p:nvCxnSpPr>
        <p:spPr>
          <a:xfrm>
            <a:off x="4000680" y="2214720"/>
            <a:ext cx="786240" cy="2160"/>
          </a:xfrm>
          <a:prstGeom prst="straightConnector1">
            <a:avLst/>
          </a:prstGeom>
          <a:ln w="3492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04" name="Прямая со стрелкой 7"/>
          <p:cNvCxnSpPr/>
          <p:nvPr/>
        </p:nvCxnSpPr>
        <p:spPr>
          <a:xfrm>
            <a:off x="4285800" y="3571920"/>
            <a:ext cx="500760" cy="2160"/>
          </a:xfrm>
          <a:prstGeom prst="straightConnector1">
            <a:avLst/>
          </a:prstGeom>
          <a:ln w="3492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05" name="Прямая со стрелкой 9"/>
          <p:cNvCxnSpPr/>
          <p:nvPr/>
        </p:nvCxnSpPr>
        <p:spPr>
          <a:xfrm>
            <a:off x="4143240" y="5643720"/>
            <a:ext cx="643320" cy="2160"/>
          </a:xfrm>
          <a:prstGeom prst="straightConnector1">
            <a:avLst/>
          </a:prstGeom>
          <a:ln w="3492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306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Примеры изделий из проволоки и тонколистового металла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8" name="Picture 4" descr="PICT0015"/>
          <p:cNvPicPr/>
          <p:nvPr/>
        </p:nvPicPr>
        <p:blipFill>
          <a:blip r:embed="rId1"/>
          <a:stretch/>
        </p:blipFill>
        <p:spPr>
          <a:xfrm>
            <a:off x="738360" y="1714680"/>
            <a:ext cx="3333600" cy="25002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PICT0016"/>
          <p:cNvPicPr/>
          <p:nvPr/>
        </p:nvPicPr>
        <p:blipFill>
          <a:blip r:embed="rId2"/>
          <a:stretch/>
        </p:blipFill>
        <p:spPr>
          <a:xfrm>
            <a:off x="4500720" y="1714680"/>
            <a:ext cx="3333600" cy="25002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C:\Documents and Settings\М.Е.Н\Рабочий стол\тонколист\24164.jpg"/>
          <p:cNvPicPr/>
          <p:nvPr/>
        </p:nvPicPr>
        <p:blipFill>
          <a:blip r:embed="rId3"/>
          <a:stretch/>
        </p:blipFill>
        <p:spPr>
          <a:xfrm>
            <a:off x="2000160" y="4357800"/>
            <a:ext cx="4675320" cy="2338200"/>
          </a:xfrm>
          <a:prstGeom prst="rect">
            <a:avLst/>
          </a:prstGeom>
          <a:ln w="0">
            <a:noFill/>
          </a:ln>
        </p:spPr>
      </p:pic>
      <p:sp>
        <p:nvSpPr>
          <p:cNvPr id="311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Рисунок 3" descr="Поделки из проволоки7.jpg"/>
          <p:cNvPicPr/>
          <p:nvPr/>
        </p:nvPicPr>
        <p:blipFill>
          <a:blip r:embed="rId1"/>
          <a:stretch/>
        </p:blipFill>
        <p:spPr>
          <a:xfrm>
            <a:off x="642960" y="214200"/>
            <a:ext cx="2469960" cy="328608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4" descr="Поделки из проволоки9.jpg"/>
          <p:cNvPicPr/>
          <p:nvPr/>
        </p:nvPicPr>
        <p:blipFill>
          <a:blip r:embed="rId2"/>
          <a:stretch/>
        </p:blipFill>
        <p:spPr>
          <a:xfrm>
            <a:off x="3357720" y="214200"/>
            <a:ext cx="2469960" cy="3286080"/>
          </a:xfrm>
          <a:prstGeom prst="rect">
            <a:avLst/>
          </a:prstGeom>
          <a:ln w="0">
            <a:noFill/>
          </a:ln>
        </p:spPr>
      </p:pic>
      <p:pic>
        <p:nvPicPr>
          <p:cNvPr id="314" name="Рисунок 5" descr="Поделки из проволоки81.jpg"/>
          <p:cNvPicPr/>
          <p:nvPr/>
        </p:nvPicPr>
        <p:blipFill>
          <a:blip r:embed="rId3"/>
          <a:stretch/>
        </p:blipFill>
        <p:spPr>
          <a:xfrm>
            <a:off x="6143760" y="214200"/>
            <a:ext cx="2469960" cy="3286080"/>
          </a:xfrm>
          <a:prstGeom prst="rect">
            <a:avLst/>
          </a:prstGeom>
          <a:ln w="0">
            <a:noFill/>
          </a:ln>
        </p:spPr>
      </p:pic>
      <p:pic>
        <p:nvPicPr>
          <p:cNvPr id="315" name="Рисунок 6" descr="Поделки из проволоки17.jpg"/>
          <p:cNvPicPr/>
          <p:nvPr/>
        </p:nvPicPr>
        <p:blipFill>
          <a:blip r:embed="rId4"/>
          <a:stretch/>
        </p:blipFill>
        <p:spPr>
          <a:xfrm>
            <a:off x="642960" y="3786120"/>
            <a:ext cx="3841560" cy="271476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7" descr="Поделки из проволоки15.jpg"/>
          <p:cNvPicPr/>
          <p:nvPr/>
        </p:nvPicPr>
        <p:blipFill>
          <a:blip r:embed="rId5"/>
          <a:stretch/>
        </p:blipFill>
        <p:spPr>
          <a:xfrm>
            <a:off x="5000760" y="3751200"/>
            <a:ext cx="3657600" cy="2749680"/>
          </a:xfrm>
          <a:prstGeom prst="rect">
            <a:avLst/>
          </a:prstGeom>
          <a:ln w="0">
            <a:noFill/>
          </a:ln>
        </p:spPr>
      </p:pic>
      <p:sp>
        <p:nvSpPr>
          <p:cNvPr id="317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Техника безопасности при ручной гибки металла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93840" indent="-3596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руке, удерживающей заготовку, должна быть надета рукавиц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работе надежно закрепите заготовку с оправкой в тиск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льзя держать левую руку близко к месту сгиба заготов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отать можно только исправным инструмен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отрезании заготовки нельзя подносить проволоку близко к лиц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стойте за спиной работающего, и не работайте, если кто-то стоит за в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Практическая работа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857160" y="1785960"/>
            <a:ext cx="36576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ыполнить по технологической карте головоломку из проволок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1"/>
          <a:stretch/>
        </p:blipFill>
        <p:spPr>
          <a:xfrm>
            <a:off x="4929120" y="1714680"/>
            <a:ext cx="3498840" cy="46972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" descr="PICT0027"/>
          <p:cNvPicPr/>
          <p:nvPr/>
        </p:nvPicPr>
        <p:blipFill>
          <a:blip r:embed="rId2"/>
          <a:stretch/>
        </p:blipFill>
        <p:spPr>
          <a:xfrm>
            <a:off x="1071720" y="3786120"/>
            <a:ext cx="3541680" cy="2656080"/>
          </a:xfrm>
          <a:prstGeom prst="rect">
            <a:avLst/>
          </a:prstGeom>
          <a:ln w="0">
            <a:noFill/>
          </a:ln>
        </p:spPr>
      </p:pic>
      <p:sp>
        <p:nvSpPr>
          <p:cNvPr id="325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Вопросы для закрепления: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6840" y="1600200"/>
            <a:ext cx="746748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м гнут тонкую проволок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ой инструмент применяют для гибки. металл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ика безопасности при ручной гибк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Рисунок 3" descr="Поделки из проволоки11.jpg"/>
          <p:cNvPicPr/>
          <p:nvPr/>
        </p:nvPicPr>
        <p:blipFill>
          <a:blip r:embed="rId1"/>
          <a:stretch/>
        </p:blipFill>
        <p:spPr>
          <a:xfrm>
            <a:off x="2500200" y="3500280"/>
            <a:ext cx="4024440" cy="3024360"/>
          </a:xfrm>
          <a:prstGeom prst="rect">
            <a:avLst/>
          </a:prstGeom>
          <a:ln w="0">
            <a:noFill/>
          </a:ln>
        </p:spPr>
      </p:pic>
      <p:sp>
        <p:nvSpPr>
          <p:cNvPr id="329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9680" y="4996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Вопросы для повторения: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28400" y="200016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ие основные правила необходимо соблюдать при резании тонколистового металл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м отличаются промышленные механические ножницы от слесарных ручных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Прямоугольник 9" descr=""/>
          <p:cNvPicPr/>
          <p:nvPr/>
        </p:nvPicPr>
        <p:blipFill>
          <a:blip r:embed="rId1"/>
          <a:stretch/>
        </p:blipFill>
        <p:spPr>
          <a:xfrm>
            <a:off x="927000" y="1365120"/>
            <a:ext cx="7521840" cy="421344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28400" y="11430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99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ель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научиться приемам гибки проволоки в тисках и с помощью различных приспособл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орудование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молоток, слесарные тиски, оправки, плоскогубцы, заготовки металла и проволо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13880" y="1071720"/>
            <a:ext cx="7215480" cy="42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Изделия выполненные гибкой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1" name="Рисунок 2" descr="ч2.jpg"/>
          <p:cNvPicPr/>
          <p:nvPr/>
        </p:nvPicPr>
        <p:blipFill>
          <a:blip r:embed="rId1"/>
          <a:stretch/>
        </p:blipFill>
        <p:spPr>
          <a:xfrm>
            <a:off x="1785960" y="1857240"/>
            <a:ext cx="5091120" cy="269568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3" descr="ч3.jpg"/>
          <p:cNvPicPr/>
          <p:nvPr/>
        </p:nvPicPr>
        <p:blipFill>
          <a:blip r:embed="rId2"/>
          <a:stretch/>
        </p:blipFill>
        <p:spPr>
          <a:xfrm>
            <a:off x="1071720" y="4214880"/>
            <a:ext cx="6754680" cy="2876400"/>
          </a:xfrm>
          <a:prstGeom prst="rect">
            <a:avLst/>
          </a:prstGeom>
          <a:ln w="0">
            <a:noFill/>
          </a:ln>
        </p:spPr>
      </p:pic>
      <p:sp>
        <p:nvSpPr>
          <p:cNvPr id="273" name="TextBox 4"/>
          <p:cNvSpPr/>
          <p:nvPr/>
        </p:nvSpPr>
        <p:spPr>
          <a:xfrm>
            <a:off x="785880" y="285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бка металла это придача новой формы заготовке (или ее части) механическим или ручным способом с помощью приспособл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Инструменты и оборудование для ручной гибки 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6" name="Содержимое 5" descr="23.jpg"/>
          <p:cNvPicPr/>
          <p:nvPr/>
        </p:nvPicPr>
        <p:blipFill>
          <a:blip r:embed="rId1"/>
          <a:stretch/>
        </p:blipFill>
        <p:spPr>
          <a:xfrm>
            <a:off x="5214960" y="2714760"/>
            <a:ext cx="2440080" cy="1143000"/>
          </a:xfrm>
          <a:prstGeom prst="rect">
            <a:avLst/>
          </a:prstGeom>
          <a:ln w="76320">
            <a:solidFill>
              <a:srgbClr val="3d7cc1"/>
            </a:solidFill>
            <a:miter/>
          </a:ln>
        </p:spPr>
      </p:pic>
      <p:sp>
        <p:nvSpPr>
          <p:cNvPr id="277" name=""/>
          <p:cNvSpPr txBox="1"/>
          <p:nvPr/>
        </p:nvSpPr>
        <p:spPr>
          <a:xfrm>
            <a:off x="785880" y="1499760"/>
            <a:ext cx="3657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бка проволоки, листового металла, полос, прутков и д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бка тонколистового металла (жест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бка тонкой проволоки и узких полос тонколистового метал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бка заготовок различной форм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Рисунок 2" descr="23.jpg"/>
          <p:cNvPicPr/>
          <p:nvPr/>
        </p:nvPicPr>
        <p:blipFill>
          <a:blip r:embed="rId2"/>
          <a:stretch/>
        </p:blipFill>
        <p:spPr>
          <a:xfrm>
            <a:off x="4821120" y="1450800"/>
            <a:ext cx="2865600" cy="157824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6" descr="23.jpg"/>
          <p:cNvPicPr/>
          <p:nvPr/>
        </p:nvPicPr>
        <p:blipFill>
          <a:blip r:embed="rId3"/>
          <a:stretch/>
        </p:blipFill>
        <p:spPr>
          <a:xfrm>
            <a:off x="5214960" y="3929040"/>
            <a:ext cx="2435040" cy="1000080"/>
          </a:xfrm>
          <a:prstGeom prst="rect">
            <a:avLst/>
          </a:prstGeom>
          <a:ln w="76320">
            <a:solidFill>
              <a:srgbClr val="3d7cc1"/>
            </a:solidFill>
            <a:miter/>
          </a:ln>
        </p:spPr>
      </p:pic>
      <p:pic>
        <p:nvPicPr>
          <p:cNvPr id="280" name="Рисунок 7" descr="24.jpg"/>
          <p:cNvPicPr/>
          <p:nvPr/>
        </p:nvPicPr>
        <p:blipFill>
          <a:blip r:embed="rId4"/>
          <a:stretch/>
        </p:blipFill>
        <p:spPr>
          <a:xfrm>
            <a:off x="5214960" y="5000760"/>
            <a:ext cx="2428920" cy="1665000"/>
          </a:xfrm>
          <a:prstGeom prst="rect">
            <a:avLst/>
          </a:prstGeom>
          <a:ln w="76320">
            <a:solidFill>
              <a:srgbClr val="3d7cc1"/>
            </a:solidFill>
            <a:miter/>
          </a:ln>
        </p:spPr>
      </p:pic>
      <p:cxnSp>
        <p:nvCxnSpPr>
          <p:cNvPr id="281" name="Прямая со стрелкой 8"/>
          <p:cNvCxnSpPr/>
          <p:nvPr/>
        </p:nvCxnSpPr>
        <p:spPr>
          <a:xfrm>
            <a:off x="4572000" y="2214720"/>
            <a:ext cx="572400" cy="2160"/>
          </a:xfrm>
          <a:prstGeom prst="straightConnector1">
            <a:avLst/>
          </a:prstGeom>
          <a:ln w="3492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282" name="Прямая со стрелкой 10"/>
          <p:cNvCxnSpPr/>
          <p:nvPr/>
        </p:nvCxnSpPr>
        <p:spPr>
          <a:xfrm>
            <a:off x="4572000" y="3357720"/>
            <a:ext cx="572400" cy="2160"/>
          </a:xfrm>
          <a:prstGeom prst="straightConnector1">
            <a:avLst/>
          </a:prstGeom>
          <a:ln w="3492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283" name="Прямая со стрелкой 12"/>
          <p:cNvCxnSpPr/>
          <p:nvPr/>
        </p:nvCxnSpPr>
        <p:spPr>
          <a:xfrm>
            <a:off x="4643280" y="4500720"/>
            <a:ext cx="501120" cy="2160"/>
          </a:xfrm>
          <a:prstGeom prst="straightConnector1">
            <a:avLst/>
          </a:prstGeom>
          <a:ln w="3492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284" name="Прямая со стрелкой 14"/>
          <p:cNvCxnSpPr/>
          <p:nvPr/>
        </p:nvCxnSpPr>
        <p:spPr>
          <a:xfrm>
            <a:off x="4572000" y="5928840"/>
            <a:ext cx="572400" cy="2520"/>
          </a:xfrm>
          <a:prstGeom prst="straightConnector1">
            <a:avLst/>
          </a:prstGeom>
          <a:ln w="3492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285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Гибка тонколистового металла в тисках с помощью оправок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7" name="Рисунок 3" descr="1.bmp"/>
          <p:cNvPicPr/>
          <p:nvPr/>
        </p:nvPicPr>
        <p:blipFill>
          <a:blip r:embed="rId1"/>
          <a:stretch/>
        </p:blipFill>
        <p:spPr>
          <a:xfrm>
            <a:off x="2143080" y="1357200"/>
            <a:ext cx="4643640" cy="2225880"/>
          </a:xfrm>
          <a:prstGeom prst="rect">
            <a:avLst/>
          </a:prstGeom>
          <a:ln w="0">
            <a:noFill/>
          </a:ln>
        </p:spPr>
      </p:pic>
      <p:sp>
        <p:nvSpPr>
          <p:cNvPr id="288" name="TextBox 5"/>
          <p:cNvSpPr/>
          <p:nvPr/>
        </p:nvSpPr>
        <p:spPr>
          <a:xfrm>
            <a:off x="928800" y="3643200"/>
            <a:ext cx="72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закреплении заготовки линия сгиба (          ) должна быть расположена на уровне нагубн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Прямая соединительная линия 7"/>
          <p:cNvSpPr/>
          <p:nvPr/>
        </p:nvSpPr>
        <p:spPr>
          <a:xfrm>
            <a:off x="5429160" y="3929040"/>
            <a:ext cx="571680" cy="14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Рисунок 3" descr="Гибка тонколистового металла с помощью оправок"/>
          <p:cNvPicPr/>
          <p:nvPr/>
        </p:nvPicPr>
        <p:blipFill>
          <a:blip r:embed="rId2"/>
          <a:stretch/>
        </p:blipFill>
        <p:spPr>
          <a:xfrm>
            <a:off x="2214720" y="4286160"/>
            <a:ext cx="4429080" cy="2373480"/>
          </a:xfrm>
          <a:prstGeom prst="rect">
            <a:avLst/>
          </a:prstGeom>
          <a:ln w="0">
            <a:noFill/>
          </a:ln>
        </p:spPr>
      </p:pic>
      <p:sp>
        <p:nvSpPr>
          <p:cNvPr id="291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Сгибание заготовок большой длины из тонколистового металла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3" name="Рисунок 3" descr="Сгибание заготовок большой длины из тонколистового металла."/>
          <p:cNvPicPr/>
          <p:nvPr/>
        </p:nvPicPr>
        <p:blipFill>
          <a:blip r:embed="rId1"/>
          <a:stretch/>
        </p:blipFill>
        <p:spPr>
          <a:xfrm>
            <a:off x="1714680" y="1571760"/>
            <a:ext cx="5643360" cy="3500280"/>
          </a:xfrm>
          <a:prstGeom prst="rect">
            <a:avLst/>
          </a:prstGeom>
          <a:ln w="0">
            <a:noFill/>
          </a:ln>
        </p:spPr>
      </p:pic>
      <p:sp>
        <p:nvSpPr>
          <p:cNvPr id="294" name="TextBox 4"/>
          <p:cNvSpPr/>
          <p:nvPr/>
        </p:nvSpPr>
        <p:spPr>
          <a:xfrm>
            <a:off x="928800" y="521496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гибки заготовок большой длины (например, при производстве кровельных работ) используется металлическая полоса или деревянный брусо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9680" y="2854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Гибка в гибочном штампе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7" name="Рисунок 3" descr="Гибка металла в гибочном штампе."/>
          <p:cNvPicPr/>
          <p:nvPr/>
        </p:nvPicPr>
        <p:blipFill>
          <a:blip r:embed="rId1"/>
          <a:srcRect l="0" t="2410" r="0" b="3302"/>
          <a:stretch/>
        </p:blipFill>
        <p:spPr>
          <a:xfrm>
            <a:off x="857160" y="1500120"/>
            <a:ext cx="7500960" cy="3143160"/>
          </a:xfrm>
          <a:prstGeom prst="rect">
            <a:avLst/>
          </a:prstGeom>
          <a:ln w="0">
            <a:noFill/>
          </a:ln>
        </p:spPr>
      </p:pic>
      <p:sp>
        <p:nvSpPr>
          <p:cNvPr id="298" name="TextBox 4"/>
          <p:cNvSpPr/>
          <p:nvPr/>
        </p:nvSpPr>
        <p:spPr>
          <a:xfrm>
            <a:off x="928800" y="5000760"/>
            <a:ext cx="750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ибка в гибочном штампе применяется на предприятиях при массовом производстве изделий и выполняется кузнецами или штамповщик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1T07:55:26Z</dcterms:modified>
  <cp:revision>74</cp:revision>
  <dc:subject/>
  <dc:title>Изготовление изделий из проволоки</dc:title>
</cp:coreProperties>
</file>