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DFC1-2965-4AE2-88C3-CCCD65E518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Изготовл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изделий из проволоки</a:t>
            </a:r>
            <a:br>
              <a:rPr sz="1200"/>
            </a:br>
            <a:br>
              <a:rPr sz="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5A33-DD28-475A-8296-458043A503E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емы ручной гибки проволо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нкую проволоку гнут круглогубцами или плоскогуб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стую проволоку гнут с помощью приспособления или в тисках на оправ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лучения изделий сложной формы используют простейшие приспособления – доски с вбитыми в них гвозд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CBDA-AE71-4722-8A7C-08AF0435D02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ы изделий из проволоки и тонколистового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A41F-5E89-4733-BDF1-1C9CF0897FB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хника безопасности при ручной гибки метал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уке, удерживающей заготовку, должна быть надета рукав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боте надежно закрепите заготовку с оправкой в тис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держать левую руку близко к месту сгиба загот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ть можно только исправным инструмен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трезании заготовки нельзя подносить проволоку близко к л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тойте за спиной работающего, и не работайте, если кто-то стоит за 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84E7-A981-4B0E-8F0B-6714A400E2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ктическая раб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ь по технологической карте головоломку из провол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E45A-B4DC-4EA3-8546-D70F631BA4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просы для закрепл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гнут тонкую проволо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инструмент применяют для гибки. метал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безопасности при ручной гиб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840B-42EC-48DA-964F-0864E9BD5BD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просы для повтор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сновные правила необходимо соблюдать при резании тонколистового метал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отличаются промышленные механические ножницы от слесарных ручн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FECE-BAC1-4E88-971A-CA9AE9C02B7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Изгот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изделий 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Schoolbook"/>
              </a:rPr>
              <a:t>провол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781C-6125-4E97-A87B-8D6EEEA6FB2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учиться приемам гибки проволоки в тисках и с помощью различных приспособ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рудовани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лоток, слесарные тиски, оправки, плоскогубцы, заготовки металла и провол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FBC7-29A6-4C17-A989-F1677ECC7AC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делия выполненные гиб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390D-37DA-4B90-A05B-89D65A750C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струменты и оборудование для ручной гиб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проволоки, листового металла, полос, прутко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тонколистового металла (ж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тонкой проволоки и узких полос тонколистового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заготовок различной фор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6B7E-417B-4F3E-9DC7-1B9E0BEE54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бка тонколистового металла в тисках с помощью оправ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креплении заготовки линия сгиба (          ) должна быть расположена на уровне нагуб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660B-43DC-4BB1-A9F9-AF8BC9EA526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гибание заготовок большой длины из тонколистового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гибки заготовок большой длины (например, при производстве кровельных работ) используется металлическая полоса или деревянный брус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35F6-7406-475B-A3E8-7CAAB0EB729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бка в гибочном штам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а в гибочном штампе применяется на предприятиях при массовом производстве изделий и выполняется кузнецами или штамповщ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E24D-3395-4041-874C-A46A388C49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443E-79B2-40C9-942D-54896210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86BE-403A-4DED-9252-8BF3085C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51EC-E893-4280-90EC-7200D20C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0104-FB7B-40F9-B247-6662732E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A3DC-FE44-4013-B677-91BA2DCFB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FBD8-3647-4DE7-AFA3-DC00EC66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9958-0725-4CF1-8A17-F73820BF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39BE-10C7-4457-B06C-A9924C65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7357-6FDF-4CD5-A270-FA39CE79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E3D1-EE45-40F6-9AC4-A288494E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8373-15E9-4345-8AC4-71258C0C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5C30-3AB8-4F7A-8468-648FADE2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0F54-E1EB-456C-83AA-0A76AA70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C0DE-8457-4E36-99E0-6FAC7847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CDAA-8861-44EA-89B7-F4627FCC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5D75-D699-4B65-AF63-FB620493A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2F56-56BD-4A0A-9468-99510A35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2E312-24FF-4253-84C9-AC7D3EBA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C0FEE-3C97-4DC0-B1A2-20B331CF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1BF70-46CF-4BE9-92DC-DF33111E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FB7E1-D212-41EB-93F6-4E2E026B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1885E-C8B0-4BBE-BC30-A29ADEB8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0682-5E72-4DCF-833D-1DF09E91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C049B-0310-42C8-8EC6-599212AD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94B79-4EB0-448F-AE48-C504BFF5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7D611-7151-4590-AADC-D6C72E12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0043D-51B8-47FD-8EB9-89E8B12E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19F02-4B05-47C8-B1E6-7806B81D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53D13-89D3-4C50-B821-CFCE38BA2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67EC2-68BC-4A04-8269-744855A2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5E75B-CBA7-4861-8DB2-BBA46DC9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E411D-3943-47C7-B366-7EF4E929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F3C90-C5BE-44D7-AAF9-3778E7A0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431B-5A34-4341-82FF-4715D357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A7067-35A4-4FAE-BD9B-B70FD5DFC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AC450-B96C-449F-90C5-A21EE4FC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55D8B-6137-4D64-A156-9B01C149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C7EDC-32E7-48E5-BA11-F1175DFE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77DCB-2CA4-4408-8E58-A820436F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D483F-11FD-4595-A81E-F9338682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879D3-F65D-4AFA-98CD-F885E891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E0E92-9A94-4BF0-9782-5C0D3D5D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0F624-7949-4A34-9195-6F0703792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9E6FB-C571-46E5-ABB2-F1177713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7D5A-38E4-40E3-A0B1-242E3A37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D3D48-D79E-4657-A0CE-9ABA77F7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C4869-C50F-4FCE-B1F9-1D3AF2D7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432AC-EFF6-41D5-9099-0C03D883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8C4CD-EF7A-433C-8A80-5E47AA92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D58FD-B9F9-4373-AE68-C8F5C8B8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09DF3-B36D-4BC7-898C-48F8A4DB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51754-FCC5-4ECC-9EFE-B7995724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E46F2-7A49-46CD-AF2B-9693EE00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98799-52B5-4EC1-9A4C-66502B38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B03FE-8C58-4C89-AFFA-93D536EC6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F0B9-826A-4AC6-999D-89EDA4CC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C9936-CBC8-4B4F-A7C5-8973225C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A84E2-EE80-4A59-8B3D-5B20DB40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70AF1-42A0-4CFB-8EDA-82A4FF6F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76CA1-68D0-4800-B6AB-5DBEC529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D5C02-3D19-4E3C-8687-B61D3E14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32C32-5C89-4CC7-8287-F016B07B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8E0B4-3041-449F-B3DC-223B8D89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5A1B4-F4A8-4E5E-BDB1-2A2B6AF8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288E2-4B33-4C0B-92F9-C4366E92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ACD28-448F-47AB-920B-C5580141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8F81-C189-4C6C-A0FF-70ECA7E3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E2AB2-4D41-49DE-8F5B-0C014209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1B5E1-1F0A-455B-A2DA-9388EB0E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67BF9-B2C1-456C-9E48-01F6DD22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1E19-B7B4-4EDB-B53C-9906927D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4A08-3675-49D4-AD45-1B03FF4E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0B48-2D61-40C0-B1B7-47DC97684ADE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8632-DFBC-4E73-90E1-E8D0DF0A74F7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9C42-CBE4-44CB-8684-D50A7B97DCDB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015E-056E-4876-8101-ECA5F37E8AE4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A1F0-3A4A-4D69-8172-9314925376EC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C4B2-ABD2-4965-BCC1-9AA4B25F6C38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4C4C-6CF6-4A61-8BEC-8D4FFEA81A22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17E2-DF81-4A2D-9D67-DED22CC3D64B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ACC6-2B47-429F-8508-15CCB58D96B3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FE62-0222-4B08-B8AC-80E2F874ECB3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fe863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7598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b32c1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f5cd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E2BC-4AC5-41BA-876F-DCAC56599A33}" type="datetime">
              <a:rPr b="0" lang="ru-RU" sz="1000" spc="-1" strike="noStrike">
                <a:solidFill>
                  <a:srgbClr val="bcb37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7EEE-33FF-4E52-9572-5AC550705C20}" type="slidenum">
              <a:rPr b="0" lang="ru-RU" sz="1000" spc="-1" strike="noStrike">
                <a:solidFill>
                  <a:srgbClr val="bcb37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907920" y="1895400"/>
            <a:ext cx="7467840" cy="195732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3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Приемы ручной гибки проволоки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857160" y="164304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нкую проволоку гнут круглогубцами или плоскогубц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лстую проволоку гнут с помощью приспособления или в тисках на оправк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получения изделий сложной формы используют простейшие приспособления – доски с вбитыми в них гвозд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Рисунок 3" descr="25 (2).jpg"/>
          <p:cNvPicPr/>
          <p:nvPr/>
        </p:nvPicPr>
        <p:blipFill>
          <a:blip r:embed="rId1"/>
          <a:stretch/>
        </p:blipFill>
        <p:spPr>
          <a:xfrm>
            <a:off x="4857840" y="1428840"/>
            <a:ext cx="3357360" cy="5072040"/>
          </a:xfrm>
          <a:prstGeom prst="rect">
            <a:avLst/>
          </a:prstGeom>
          <a:ln w="0">
            <a:noFill/>
          </a:ln>
        </p:spPr>
      </p:pic>
      <p:cxnSp>
        <p:nvCxnSpPr>
          <p:cNvPr id="303" name="Прямая со стрелкой 5"/>
          <p:cNvCxnSpPr/>
          <p:nvPr/>
        </p:nvCxnSpPr>
        <p:spPr>
          <a:xfrm>
            <a:off x="4000680" y="2214720"/>
            <a:ext cx="78624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04" name="Прямая со стрелкой 7"/>
          <p:cNvCxnSpPr/>
          <p:nvPr/>
        </p:nvCxnSpPr>
        <p:spPr>
          <a:xfrm>
            <a:off x="4285800" y="3571920"/>
            <a:ext cx="50076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305" name="Прямая со стрелкой 9"/>
          <p:cNvCxnSpPr/>
          <p:nvPr/>
        </p:nvCxnSpPr>
        <p:spPr>
          <a:xfrm>
            <a:off x="4143240" y="5643720"/>
            <a:ext cx="64332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306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Примеры изделий из проволоки и тонколистового металл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8" name="Picture 4" descr="PICT0015"/>
          <p:cNvPicPr/>
          <p:nvPr/>
        </p:nvPicPr>
        <p:blipFill>
          <a:blip r:embed="rId1"/>
          <a:stretch/>
        </p:blipFill>
        <p:spPr>
          <a:xfrm>
            <a:off x="738360" y="1714680"/>
            <a:ext cx="3333600" cy="25002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PICT0016"/>
          <p:cNvPicPr/>
          <p:nvPr/>
        </p:nvPicPr>
        <p:blipFill>
          <a:blip r:embed="rId2"/>
          <a:stretch/>
        </p:blipFill>
        <p:spPr>
          <a:xfrm>
            <a:off x="4500720" y="1714680"/>
            <a:ext cx="3333600" cy="25002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C:\Documents and Settings\М.Е.Н\Рабочий стол\тонколист\24164.jpg"/>
          <p:cNvPicPr/>
          <p:nvPr/>
        </p:nvPicPr>
        <p:blipFill>
          <a:blip r:embed="rId3"/>
          <a:stretch/>
        </p:blipFill>
        <p:spPr>
          <a:xfrm>
            <a:off x="2000160" y="4357800"/>
            <a:ext cx="4675320" cy="2338200"/>
          </a:xfrm>
          <a:prstGeom prst="rect">
            <a:avLst/>
          </a:prstGeom>
          <a:ln w="0">
            <a:noFill/>
          </a:ln>
        </p:spPr>
      </p:pic>
      <p:sp>
        <p:nvSpPr>
          <p:cNvPr id="311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Рисунок 3" descr="Поделки из проволоки7.jpg"/>
          <p:cNvPicPr/>
          <p:nvPr/>
        </p:nvPicPr>
        <p:blipFill>
          <a:blip r:embed="rId1"/>
          <a:stretch/>
        </p:blipFill>
        <p:spPr>
          <a:xfrm>
            <a:off x="642960" y="214200"/>
            <a:ext cx="2469960" cy="328608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4" descr="Поделки из проволоки9.jpg"/>
          <p:cNvPicPr/>
          <p:nvPr/>
        </p:nvPicPr>
        <p:blipFill>
          <a:blip r:embed="rId2"/>
          <a:stretch/>
        </p:blipFill>
        <p:spPr>
          <a:xfrm>
            <a:off x="3357720" y="214200"/>
            <a:ext cx="2469960" cy="328608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5" descr="Поделки из проволоки81.jpg"/>
          <p:cNvPicPr/>
          <p:nvPr/>
        </p:nvPicPr>
        <p:blipFill>
          <a:blip r:embed="rId3"/>
          <a:stretch/>
        </p:blipFill>
        <p:spPr>
          <a:xfrm>
            <a:off x="6143760" y="214200"/>
            <a:ext cx="2469960" cy="3286080"/>
          </a:xfrm>
          <a:prstGeom prst="rect">
            <a:avLst/>
          </a:prstGeom>
          <a:ln w="0">
            <a:noFill/>
          </a:ln>
        </p:spPr>
      </p:pic>
      <p:pic>
        <p:nvPicPr>
          <p:cNvPr id="315" name="Рисунок 6" descr="Поделки из проволоки17.jpg"/>
          <p:cNvPicPr/>
          <p:nvPr/>
        </p:nvPicPr>
        <p:blipFill>
          <a:blip r:embed="rId4"/>
          <a:stretch/>
        </p:blipFill>
        <p:spPr>
          <a:xfrm>
            <a:off x="642960" y="3786120"/>
            <a:ext cx="3841560" cy="271476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7" descr="Поделки из проволоки15.jpg"/>
          <p:cNvPicPr/>
          <p:nvPr/>
        </p:nvPicPr>
        <p:blipFill>
          <a:blip r:embed="rId5"/>
          <a:stretch/>
        </p:blipFill>
        <p:spPr>
          <a:xfrm>
            <a:off x="5000760" y="3751200"/>
            <a:ext cx="3657600" cy="2749680"/>
          </a:xfrm>
          <a:prstGeom prst="rect">
            <a:avLst/>
          </a:prstGeom>
          <a:ln w="0">
            <a:noFill/>
          </a:ln>
        </p:spPr>
      </p:pic>
      <p:sp>
        <p:nvSpPr>
          <p:cNvPr id="317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Техника безопасности при ручной гибки металл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руке, удерживающей заготовку, должна быть надета рукавиц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работе надежно закрепите заготовку с оправкой в тис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льзя держать левую руку близко к месту сгиба заготов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ть можно только исправным инструмен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отрезании заготовки нельзя подносить проволоку близко к лиц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стойте за спиной работающего, и не работайте, если кто-то стоит за 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Практическая работ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857160" y="1785960"/>
            <a:ext cx="3657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ыполнить по технологической карте головоломку из проволок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4929120" y="1714680"/>
            <a:ext cx="3498840" cy="4697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PICT0027"/>
          <p:cNvPicPr/>
          <p:nvPr/>
        </p:nvPicPr>
        <p:blipFill>
          <a:blip r:embed="rId2"/>
          <a:stretch/>
        </p:blipFill>
        <p:spPr>
          <a:xfrm>
            <a:off x="1071720" y="3786120"/>
            <a:ext cx="3541680" cy="2656080"/>
          </a:xfrm>
          <a:prstGeom prst="rect">
            <a:avLst/>
          </a:prstGeom>
          <a:ln w="0">
            <a:noFill/>
          </a:ln>
        </p:spPr>
      </p:pic>
      <p:sp>
        <p:nvSpPr>
          <p:cNvPr id="325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Вопросы для закрепления: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 гнут тонкую проволок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ой инструмент применяют для гибки. метал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ика безопасности при ручной гиб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Рисунок 3" descr="Поделки из проволоки11.jpg"/>
          <p:cNvPicPr/>
          <p:nvPr/>
        </p:nvPicPr>
        <p:blipFill>
          <a:blip r:embed="rId1"/>
          <a:stretch/>
        </p:blipFill>
        <p:spPr>
          <a:xfrm>
            <a:off x="2500200" y="3500280"/>
            <a:ext cx="4024440" cy="302436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9680" y="4996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Вопросы для повторения: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28400" y="20001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ие основные правила необходимо соблюдать при резании тонколистового метал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 отличаются промышленные механические ножницы от слесарных ручны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Прямоугольник 9" descr=""/>
          <p:cNvPicPr/>
          <p:nvPr/>
        </p:nvPicPr>
        <p:blipFill>
          <a:blip r:embed="rId1"/>
          <a:stretch/>
        </p:blipFill>
        <p:spPr>
          <a:xfrm>
            <a:off x="927000" y="1365120"/>
            <a:ext cx="7521840" cy="42134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28400" y="11430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научиться приемам гибки проволоки в тисках и с помощью различных приспособл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орудование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молоток, слесарные тиски, оправки, плоскогубцы, заготовки металла и проволо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13880" y="1071720"/>
            <a:ext cx="7215480" cy="42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Изделия выполненные гибкой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1" name="Рисунок 2" descr="ч2.jpg"/>
          <p:cNvPicPr/>
          <p:nvPr/>
        </p:nvPicPr>
        <p:blipFill>
          <a:blip r:embed="rId1"/>
          <a:stretch/>
        </p:blipFill>
        <p:spPr>
          <a:xfrm>
            <a:off x="1785960" y="1857240"/>
            <a:ext cx="5091120" cy="269568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3" descr="ч3.jpg"/>
          <p:cNvPicPr/>
          <p:nvPr/>
        </p:nvPicPr>
        <p:blipFill>
          <a:blip r:embed="rId2"/>
          <a:stretch/>
        </p:blipFill>
        <p:spPr>
          <a:xfrm>
            <a:off x="1071720" y="4214880"/>
            <a:ext cx="6754680" cy="2876400"/>
          </a:xfrm>
          <a:prstGeom prst="rect">
            <a:avLst/>
          </a:prstGeom>
          <a:ln w="0">
            <a:noFill/>
          </a:ln>
        </p:spPr>
      </p:pic>
      <p:sp>
        <p:nvSpPr>
          <p:cNvPr id="273" name="TextBox 4"/>
          <p:cNvSpPr/>
          <p:nvPr/>
        </p:nvSpPr>
        <p:spPr>
          <a:xfrm>
            <a:off x="785880" y="285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металла это придача новой формы заготовке (или ее части) механическим или ручным способом с помощью приспособл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Инструменты и оборудование для ручной гибки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6" name="Содержимое 5" descr="23.jpg"/>
          <p:cNvPicPr/>
          <p:nvPr/>
        </p:nvPicPr>
        <p:blipFill>
          <a:blip r:embed="rId1"/>
          <a:stretch/>
        </p:blipFill>
        <p:spPr>
          <a:xfrm>
            <a:off x="5214960" y="2714760"/>
            <a:ext cx="2440080" cy="1143000"/>
          </a:xfrm>
          <a:prstGeom prst="rect">
            <a:avLst/>
          </a:prstGeom>
          <a:ln w="76320">
            <a:solidFill>
              <a:srgbClr val="3d7cc1"/>
            </a:solidFill>
            <a:miter/>
          </a:ln>
        </p:spPr>
      </p:pic>
      <p:sp>
        <p:nvSpPr>
          <p:cNvPr id="277" name=""/>
          <p:cNvSpPr txBox="1"/>
          <p:nvPr/>
        </p:nvSpPr>
        <p:spPr>
          <a:xfrm>
            <a:off x="785880" y="1499760"/>
            <a:ext cx="3657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проволоки, листового металла, полос, прутков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тонколистового металла (жест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тонкой проволоки и узких полос тонколистового метал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бка заготовок различной форм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Рисунок 2" descr="23.jpg"/>
          <p:cNvPicPr/>
          <p:nvPr/>
        </p:nvPicPr>
        <p:blipFill>
          <a:blip r:embed="rId2"/>
          <a:stretch/>
        </p:blipFill>
        <p:spPr>
          <a:xfrm>
            <a:off x="4821120" y="1450800"/>
            <a:ext cx="2865600" cy="157824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6" descr="23.jpg"/>
          <p:cNvPicPr/>
          <p:nvPr/>
        </p:nvPicPr>
        <p:blipFill>
          <a:blip r:embed="rId3"/>
          <a:stretch/>
        </p:blipFill>
        <p:spPr>
          <a:xfrm>
            <a:off x="5214960" y="3929040"/>
            <a:ext cx="2435040" cy="1000080"/>
          </a:xfrm>
          <a:prstGeom prst="rect">
            <a:avLst/>
          </a:prstGeom>
          <a:ln w="76320">
            <a:solidFill>
              <a:srgbClr val="3d7cc1"/>
            </a:solidFill>
            <a:miter/>
          </a:ln>
        </p:spPr>
      </p:pic>
      <p:pic>
        <p:nvPicPr>
          <p:cNvPr id="280" name="Рисунок 7" descr="24.jpg"/>
          <p:cNvPicPr/>
          <p:nvPr/>
        </p:nvPicPr>
        <p:blipFill>
          <a:blip r:embed="rId4"/>
          <a:stretch/>
        </p:blipFill>
        <p:spPr>
          <a:xfrm>
            <a:off x="5214960" y="5000760"/>
            <a:ext cx="2428920" cy="1665000"/>
          </a:xfrm>
          <a:prstGeom prst="rect">
            <a:avLst/>
          </a:prstGeom>
          <a:ln w="76320">
            <a:solidFill>
              <a:srgbClr val="3d7cc1"/>
            </a:solidFill>
            <a:miter/>
          </a:ln>
        </p:spPr>
      </p:pic>
      <p:cxnSp>
        <p:nvCxnSpPr>
          <p:cNvPr id="281" name="Прямая со стрелкой 8"/>
          <p:cNvCxnSpPr/>
          <p:nvPr/>
        </p:nvCxnSpPr>
        <p:spPr>
          <a:xfrm>
            <a:off x="4572000" y="2214720"/>
            <a:ext cx="57240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282" name="Прямая со стрелкой 10"/>
          <p:cNvCxnSpPr/>
          <p:nvPr/>
        </p:nvCxnSpPr>
        <p:spPr>
          <a:xfrm>
            <a:off x="4572000" y="3357720"/>
            <a:ext cx="57240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283" name="Прямая со стрелкой 12"/>
          <p:cNvCxnSpPr/>
          <p:nvPr/>
        </p:nvCxnSpPr>
        <p:spPr>
          <a:xfrm>
            <a:off x="4643280" y="4500720"/>
            <a:ext cx="501120" cy="216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cxnSp>
        <p:nvCxnSpPr>
          <p:cNvPr id="284" name="Прямая со стрелкой 14"/>
          <p:cNvCxnSpPr/>
          <p:nvPr/>
        </p:nvCxnSpPr>
        <p:spPr>
          <a:xfrm>
            <a:off x="4572000" y="5928840"/>
            <a:ext cx="572400" cy="2520"/>
          </a:xfrm>
          <a:prstGeom prst="straightConnector1">
            <a:avLst/>
          </a:prstGeom>
          <a:ln w="34920">
            <a:solidFill>
              <a:srgbClr val="fe8637"/>
            </a:solidFill>
            <a:miter/>
            <a:tailEnd len="med" type="arrow" w="med"/>
          </a:ln>
        </p:spPr>
      </p:cxnSp>
      <p:sp>
        <p:nvSpPr>
          <p:cNvPr id="285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Гибка тонколистового металла в тисках с помощью оправок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7" name="Рисунок 3" descr="1.bmp"/>
          <p:cNvPicPr/>
          <p:nvPr/>
        </p:nvPicPr>
        <p:blipFill>
          <a:blip r:embed="rId1"/>
          <a:stretch/>
        </p:blipFill>
        <p:spPr>
          <a:xfrm>
            <a:off x="2143080" y="1357200"/>
            <a:ext cx="4643640" cy="2225880"/>
          </a:xfrm>
          <a:prstGeom prst="rect">
            <a:avLst/>
          </a:prstGeom>
          <a:ln w="0">
            <a:noFill/>
          </a:ln>
        </p:spPr>
      </p:pic>
      <p:sp>
        <p:nvSpPr>
          <p:cNvPr id="288" name="TextBox 5"/>
          <p:cNvSpPr/>
          <p:nvPr/>
        </p:nvSpPr>
        <p:spPr>
          <a:xfrm>
            <a:off x="928800" y="364320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закреплении заготовки линия сгиба (          ) должна быть расположена на уровне нагуб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Прямая соединительная линия 7"/>
          <p:cNvSpPr/>
          <p:nvPr/>
        </p:nvSpPr>
        <p:spPr>
          <a:xfrm>
            <a:off x="5429160" y="3929040"/>
            <a:ext cx="571680" cy="14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Рисунок 3" descr="Гибка тонколистового металла с помощью оправок"/>
          <p:cNvPicPr/>
          <p:nvPr/>
        </p:nvPicPr>
        <p:blipFill>
          <a:blip r:embed="rId2"/>
          <a:stretch/>
        </p:blipFill>
        <p:spPr>
          <a:xfrm>
            <a:off x="2214720" y="4286160"/>
            <a:ext cx="4429080" cy="2373480"/>
          </a:xfrm>
          <a:prstGeom prst="rect">
            <a:avLst/>
          </a:prstGeom>
          <a:ln w="0">
            <a:noFill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Сгибание заготовок большой длины из тонколистового металла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3" name="Рисунок 3" descr="Сгибание заготовок большой длины из тонколистового металла."/>
          <p:cNvPicPr/>
          <p:nvPr/>
        </p:nvPicPr>
        <p:blipFill>
          <a:blip r:embed="rId1"/>
          <a:stretch/>
        </p:blipFill>
        <p:spPr>
          <a:xfrm>
            <a:off x="1714680" y="1571760"/>
            <a:ext cx="5643360" cy="3500280"/>
          </a:xfrm>
          <a:prstGeom prst="rect">
            <a:avLst/>
          </a:prstGeom>
          <a:ln w="0">
            <a:noFill/>
          </a:ln>
        </p:spPr>
      </p:pic>
      <p:sp>
        <p:nvSpPr>
          <p:cNvPr id="294" name="TextBox 4"/>
          <p:cNvSpPr/>
          <p:nvPr/>
        </p:nvSpPr>
        <p:spPr>
          <a:xfrm>
            <a:off x="928800" y="52149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ибки заготовок большой длины (например, при производстве кровельных работ) используется металлическая полоса или деревянный брусо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Гибка в гибочном штампе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7" name="Рисунок 3" descr="Гибка металла в гибочном штампе."/>
          <p:cNvPicPr/>
          <p:nvPr/>
        </p:nvPicPr>
        <p:blipFill>
          <a:blip r:embed="rId1"/>
          <a:srcRect l="0" t="2410" r="0" b="3302"/>
          <a:stretch/>
        </p:blipFill>
        <p:spPr>
          <a:xfrm>
            <a:off x="857160" y="1500120"/>
            <a:ext cx="7500960" cy="3143160"/>
          </a:xfrm>
          <a:prstGeom prst="rect">
            <a:avLst/>
          </a:prstGeom>
          <a:ln w="0">
            <a:noFill/>
          </a:ln>
        </p:spPr>
      </p:pic>
      <p:sp>
        <p:nvSpPr>
          <p:cNvPr id="298" name="TextBox 4"/>
          <p:cNvSpPr/>
          <p:nvPr/>
        </p:nvSpPr>
        <p:spPr>
          <a:xfrm>
            <a:off x="928800" y="5000760"/>
            <a:ext cx="750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ибка в гибочном штампе применяется на предприятиях при массовом производстве изделий и выполняется кузнецами или штамповщик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cb372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7:55:26Z</dcterms:modified>
  <cp:revision>74</cp:revision>
  <dc:subject/>
  <dc:title>Изготовление изделий из проволоки</dc:title>
</cp:coreProperties>
</file>