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5DAF85-05FB-4FC1-82F0-8838DCAEF9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ЦИОНАЛЬ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18571C-1A12-4BBD-9221-C19D9110B7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тыре подхода к пониманию сущности экономического потенци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кономический потенциал как совокупная способность отраслей народного хозя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кономический потенциал как совокупность имеющихся в наличии рес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тождествление терминов &lt;экономический потенциал&gt;, &lt;экономическая мощь&gt; и &lt;народно-хозяйственный потенциал&gt;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Экономический потенциал как результат экономических и производственных отношений между субъектами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21F996-496E-4566-9177-5B898A802A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, региона, предприятия - располагаемые в настоящее время и предвидимые в будущей трудовые возможности, характеризуемые количеством трудоспособного населения, его профессионально-образовательным уровнем, другими качественными xapaктеристиками. Всеобщая отличительная черта международной рабочей силы - это функциональные особенности труда международных работников, обусловленные их включенностью в международные, политические, экономические и общественные структуры, их тесная связь с мировой экономикой, общечеловеческими социальными задачами развития человечеств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8A4DA4-F91F-4316-A501-1D3AA4FC4D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ребительски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потенциал предприятия - совокупные возможности предприятия определять, формировать и максимально удовлетворять потребности потребителей в товарах и услугах в процессе оптимального взаимодействия с окружающей средой и рационального использования рес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й спрос - спрос, определяемый покупательной способностью, числом потенциальных потребителей и уровнем их потре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CCB2E5-AA94-4C70-AB6F-D6BF7D56A6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ы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ый (научный) потенциал представляет из себя комплекс характеристик, выражающих возможности по подготовке и осуществлению в широких масштабах эффективных научно-технических нововведений, с тем чтобы устойчиво поддерживать современные ритмы обновления экономики, социальной сферы, культуры в интересах всего населения. Инновационный потенциал есть характеристика ресурсной базы инновационного развития страны. При этом оцениваются материальные, людские и финансовые ресурсы, сосредоточенные в сфере науки и научно-технических разработок, а также масштаб и структура инвестиций, обеспечивающих превращение разработок в реальные нововведения, их экономическое освоение и широкое распростра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инновационный потенциал страны можно представить как сумму единичных инновационных потенциалов предприятий, отраслей, некоммерческих организаций, региональных и иных струк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ень зрелости всей экономики в этом плане является отражением инновационной зрелости бизнеса в стране. Россия, несмотря на огромные понесенные потери исследовательского, инновационного и производственного потенциалов, по прежнему имеет значительные возможности с уверенностью входить в группу продвинутых стран с точки зрения научно-инновационного развития. Этому способствует имеющийся исторический опыт, традиции творчества, свойственные народу, накопленный конверсионный потенциа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3B19E1-DAF9-4A6A-B771-B6A863F40B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реационный комплек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иродный потенциа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реационные ресурсы составляют важнейшую часть природного потенциала региона. Кроме этого, их роль в формировании и развитии современного туризма в регионе постоянно повышается, особенно с эколого-географической точки з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екреационных ресурсов производится на основе пофакторной оценки каждой из составляющих: рельефа, водных объектов и почвенно-растительного покрова, биоклимат, гидроминеральных и уникальных природных лечебных ресурсов, историко-культурного потенциала и др.), рассматриваемой с точки зрения использования её конкретным видом тур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охраняемые природные территории относятся к объектам общенационального достоя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ают следующие основные категории указанных территор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природные заповедники, в том числе биосферны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пар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пар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природные заказн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ники приро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дрологические парки и ботанические са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о-оздоровительные местности и курорт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76FAA8-764B-479F-9AED-F9EBB2E3D6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ЛЕМЫ СБАЛАНСИРОВАННОСТИ НАЦИОНАЛЬНОЙ ЭКОНОМ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балансированность национальной экономик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значает соответствие между взаимосвязанными отраслями, между объемами производимых продуктов и потребностями в них. Основу сбалансированности составляет пропорциональность. Сбалансированность и пропорциональность в реальной действительности обычно неустойчивы и постоянно нарушаются. Например, экономический рост ведет к установлению новых пропорций и новой сбалансированности. Поскольку полного соответствия между отраслями в реальной жизни не бывает, существует постоянная необходимость в поддержании сбалансированности путем корректировки пропорций между отдельными сферами экономики, а также внутри них. В материальном производстве для этого нужно, прежде всего, обеспечить соответствие между первым и вторым подразделениями, т.е. между производством средств производства и предметов потребления. Если такое соответствие будет нарушено, т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не сможет обеспечить средствами производства оба подразделения, 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— предметами потребления занятых и дополнительно привлекаемых работников обоих подразде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0CD052-7838-4188-B0A1-D7469699F2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нозирование и планирование национальной экономи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тяжении многих десятилетий макроэкономическое планирование зарубежными исследователями противопоставлялось центра­лизованному планированию, а рынок — пла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факторы, определяющие вид планирования, зависят от соотношения государственного и частного влияния на общественно-политические и социально-экономические  процессы. В современной зарубежной литературе выделяются следующие типы макроэкономического планирования: директивное (административно-командное), индирективное,  регулятивное, индикативное и стратеги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7ACCCC-C1A3-447A-BE39-E8AEF34099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скальная политика государства и ее влияние на объем национального производ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фискальной (налоговой) политикой государства понимается постоянное вмешательство государства в экономические процессы и явления с целью регулирования их протекания. Это совокупность мероприятий в сфере налогообложения, направленных на формирование доходной части государственного бюджета, повышение эффективности функционирования всей национальной экономики, обеспечение экономического роста, занятости населения и стабильности денежного обра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витых государствах через бюджеты распределяется примерно 1/5 валового национального продукта или 40-50 процентов годового национального дохода. Такие средства позволяют проводить структурную перестройку производства, осваивать новейшие технологии и разрабатывать крупномасштабные научно-технические програм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7601CB-A01F-4EA4-ADD6-B2005A6CFF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ономический рост национальной хозяйственной систе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Экономический рос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количественное и качественное совершенствование общественного продукт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и эффективного экономического ро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величения продолжительности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заболеваемости и травмат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вышения уровня образования и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олее полного удовлетворения потребностей и рационализации потреб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циальной стабильности и уверенности в своем буду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одоления нищеты и кричащих различий в уровне жиз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стижения максимальной занят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ы окружающей среды и повышения экологической безопас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преступ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и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е выражение экономический рост находит в увеличении потенциального и реального валового национального продукта (ВНП) или валового внутреннего продукта (ВВП), в возрастании экономической мощи нации, страны,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выражение можно измерить двумя взаимосвязанными показателями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за определенный период реального ВВП (ВНП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ВВП (ВНП) на душу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В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общающий экономический показатель, который выражает в рыночных ценах совокупную стоимость товара, работ и услуг, созданных внутри страны, и только с использованием факторов производства данно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Н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вокупная стоимость конечных товаров, услуг, созданных не только внутри страны, но и за ее пре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245EEF-8F08-4D97-8269-B2F92883FD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угооборота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FDAC4B-40D8-4272-9B71-C816BE9525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нятие национальной эконом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экономика является исторически сложившейся системой общественного воспроизводства страны, взаимосвязанной системой отраслей и видов производств, охватывающей существующие в народном хозяйстве формы общественного труд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экономика состоит из ряда крупных сфер: материальное и нематериальное производство, непроизводственная сф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ей составной частью национальной экономики является материальное производств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создаются необходимые для жизни и развития общества средства производства и предметы потребления. В материальное производство входят такие отрасли, как промышленность, сельское хозяйство, строительство, транспорт, торговля, связь. Крупнейшей отраслью материального производства является промышленность, состоящая из двух групп отраслей — добывающей и обрабатыва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кономической теории среди предприятий материальной сферы выделяют предприятия по производству средств производства и производству предметов потреб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ется от материального своим продуктом, имеющим нематериальную форму: научные знания и информация; произведения искусства (кинофильмы, книги, театральные постановки); услуги, оказываемые населению. Нематериальное производство включает науку и научное обслуживание, искусство и культуру, образование, здравоохранение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ственная сфер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обществу, т.к. в нее входят содержание армии, судебные и юридические органы, религиозные учреждения, другие общественные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8BD105-2B3A-4D3F-87AC-887EF44E37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макроэкономически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5C6712-7233-4FF1-B1DE-5BCEC0A76E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как показатель уровня национальной экономики (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BBF92E-DB74-4F66-971C-8950C1DB6F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национальной экономи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ая экономика как целостный организм характеризуется следующими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ее экономическое пространство с единым законодательством, единой денежной единицей, общей кредитно-денежной и финансовой систе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аличие тесных экономических связей между хозяйственными субъектами с общим воспроизводственным контур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Территориальная определенность с общим экономическим центром, который выполняет регулирующую и координационную рол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A7C718-C9D2-473F-8800-C23C36EC71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табильные высокие темпы роста национального объема про­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абильность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ддержание внешнеторгового баланса.. Если в страну ввозится больше товаров, чем продается за границу, то возникает отрицательное сальдо торгового баланса. Если вывозится больше товаров, чем поступает в страну, то говорят о положительном сальдо. Повышение или понижение курса валют может изменить достигнутый баланс и вызвать положительное или отрицательное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ысокий уровень занятости. Он достигается в случае, если каждый желающий получить работу находит ее. В любой стране в каждый данный момент времени есть определенное количество людей, временно не работающих в связи со сменой места работы или места жительства. Кроме того, всегда есть структурная безработица, обусловленная несоответствием структуры новых рабочих мест, свя­занных с внедрением новых технологий, имеющейся структуре рабочей силы и отставанием последней по квалификационным требованиям и новым профессиям от спроса на эти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9DE5DD-E337-486C-A578-E1AF1B42B7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менты макроэкономического регулирования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скальная политика (оперирование государственным бюджетом через налоговую систему и расходы государств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о-кредитная политика (контроль за денежным предложением через ставку процента, резервную норму и другие инструмент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регулирования доходов (от свободного установления заработной платы и цен до декретного контрол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ая политика (торговая политика, регулирование обменного курса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м и конечным результатами функционирования национальной экономики являются приращение национального богатства, объемов прибыльных и нужных обществу товаров и услуг, наиболее эффективное использование ограниченных людских и материальных ресурсов. Показатели приращения национального богатства - ВОП, НД (национальный доход), ВНП (валовый национальный проду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A514AB-6279-4A2C-A5B0-217C9F5EBB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устойчивые количественные соотношения между ее составными частями. Различают воспроизводственную, социальную, территориальную структуры и инфраструктуру национальной экономики. Вос­производственная структур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ет ее деление на наиболее массовые виды экономических субъектов, которые воспроизводятся сами и в результате своей деятельности воспроизводят потоки товаров и услуг между ними. В экономике каждой страны можно выделить три крупные взаимосвязанные группы воспроизводственной 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(предпринимательский бизне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60F72E-5804-4928-ADB8-4811F73148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ы национальных хозяйственных систе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 тип 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ыночная эконом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 которой доминирующей формой взаимодействия между участниками хозяйственного процесса является обмен. Под обменом, в соответствии с классическим пониманием, подразумевает "двустороннее движение товаров между субъектами, ориентированными на прибыль, получающуюся в результате для каждого от итогов соглашен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 ти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дистрибутивные или командно-администрати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редистрибутивных экономиках преобладает движение благ и услуг к Центру и из него, независимо от того, осуществляется ли передвижение объектов физически или меняется только порядок права их присвоения без каких-либо изменений в действительном размещении ресурса или продукта. Редистрибуция представляет собой аккумуляцию, собирание, совмещенные с новым, вторичным распределением и раздачей. Именно через редистрибуцию в этих обществах достигается воссоединение распределенного, разделенн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038967-E86E-4FFE-9BDA-54742B3538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ые пропорции национальной эконом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и между I и II подразделениями материального производства. Они характеризуются соотношением объемов производства средств производ­ства и предметов потребления в ВНП, численностью работающих в каждом из этих подразделений, стоимостью их основных производственных фонд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и между фондами накопления и потребления в национальном доходе. От этих пропорций зависят темпы расширенного воспроизводства, решение социальных и производственных задач. Каждая национальная экономика стремится к установлению оптимальных пропорций, обеспечивающих наиболее полное удовлетворение общественных потребностей при наименьших затратах живого и овеществленного труда. С точки зрения воспроизводства оптимальные пропорции означают качественное и количественное соответствие между структурой общественного производства и структурой общественных потре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2676EB-53E1-437F-8034-B98A06CD0E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ые тенденции изменения пропорц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технического уровня производства, проявляющееся в росте фондовооруженности труда, количестве сырья и материалов, перерабатываемых работниками, что ведет к опережению объемов производственных фондов по отношению к численности работающ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ежающее развитие электроэнергетики, машино- и приборостроения, химической промышленности и других наукоемких отрас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непроизводственной сферы по сравнению с отраслями материального произво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ежающее развитие обрабатывающей промышленности по отношению к добывающ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участия в международном разделении труда, которое выражается в более быстром увеличении внешне­торгового оборота по сравнению с ростом производства в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B16251-5D43-4EAC-A570-A970B70566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000-D5D2-4FFB-A3C4-EFA45D3B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6299-F32A-4688-BA39-A08D9C6A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FE9-0074-41C3-BD7E-F679853D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D67-82D7-4E8A-8787-5CC6622C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2E2-B5EC-432E-96F3-DEBB65EA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E3A-DB32-40B8-A762-D5978CD8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237-92A3-4A8D-9372-9737F28A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3DF-9EAE-4224-AE3E-1A746E16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9773-5ADD-4BDE-A60C-A11FFEA6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D03-819A-4761-BECA-AF927F85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B899-8B77-4538-84EB-8782848C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91A5-D2DE-4D42-B0EA-E0C9196F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ee8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984FB1-E8C0-4C28-ABE4-07F96DF8007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E46DD6-0EF7-40F5-BFCA-D3FF286118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 по экономи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3000240"/>
            <a:ext cx="6400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АЦИОНАЛЬНАЯ ЭКОНО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 подхода к пониманию сущности экономического потенц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214272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Экономический потенциал как совокупная способность отраслей народного хозяйст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Экономический потенциал как совокупность имеющихся в наличии ресурс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ождествление терминов &lt;экономический потенциал&gt;, &lt;экономическая мощь&gt; и &lt;народно-хозяйственный потенциал&gt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Экономический потенциал как результат экономических и производственных отношений между субъектами хозяйствен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ы, региона, предприятия - располагаемые в настоящее время и предвидимые в будущей трудовые возможности, характеризуемые количеством трудоспособного населения, его профессионально-образовательным уровнем, другими качественными xapaктеристиками. Всеобщая отличительная черта международной рабочей силы - это функциональные особенности труда международных работников, обусловленные их включенностью в международные, политические, экономические и общественные структуры, их тесная связь с мировой экономикой, общечеловеческими социальными задачами развития человечества в це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требительски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ринимательский потенциал предприятия - совокупные возможности предприятия определять, формировать и максимально удовлетворять потребности потребителей в товарах и услугах в процессе оптимального взаимодействия с окружающей средой и рационального использования ресурс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енциальный спрос - спрос, определяемый покупательной способностью, числом потенциальных потребителей и уровнем их потреб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учны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новационный (научный) потенциал представляет из себя комплекс характеристик, выражающих возможности по подготовке и осуществлению в широких масштабах эффективных научно-технических нововведений, с тем чтобы устойчиво поддерживать современные ритмы обновления экономики, социальной сферы, культуры в интересах всего населения. Инновационный потенциал есть характеристика ресурсной базы инновационного развития страны. При этом оцениваются материальные, людские и финансовые ресурсы, сосредоточенные в сфере науки и научно-технических разработок, а также масштаб и структура инвестиций, обеспечивающих превращение разработок в реальные нововведения, их экономическое освоение и широкое распростран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ий инновационный потенциал страны можно представить как сумму единичных инновационных потенциалов предприятий, отраслей, некоммерческих организаций, региональных и иных структу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пень зрелости всей экономики в этом плане является отражением инновационной зрелости бизнеса в стране. Россия, несмотря на огромные понесенные потери исследовательского, инновационного и производственного потенциалов, по прежнему имеет значительные возможности с уверенностью входить в группу продвинутых стран с точки зрения научно-инновационного развития. Этому способствует имеющийся исторический опыт, традиции творчества, свойственные народу, накопленный конверсионный потенциал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креационный комплекс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риродный потенциал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креационные ресурсы составляют важнейшую часть природного потенциала региона. Кроме этого, их роль в формировании и развитии современного туризма в регионе постоянно повышается, особенно с эколого-географической точки зр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ценка рекреационных ресурсов производится на основе пофакторной оценки каждой из составляющих: рельефа, водных объектов и почвенно-растительного покрова, биоклимат, гидроминеральных и уникальных природных лечебных ресурсов, историко-культурного потенциала и др.), рассматриваемой с точки зрения использования её конкретным видом туриз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 охраняемые природные территории относятся к объектам общенационального достоя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ают следующие основные категории указанных территорий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ые природные заповедники, в том числе биосферные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циональные пар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родные пар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ые природные заказни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ники природ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ндрологические парки и ботанические сад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чебно-оздоровительные местности и курорты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БЛЕМЫ СБАЛАНСИРОВАННОСТИ НАЦИОНАЛЬНОЙ ЭКОНОМИ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2960" y="207180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балансированность национальной экономики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значает соответствие между взаимосвязанными отраслями, между объемами производимых продуктов и потребностями в них. Основу сбалансированности составляет пропорциональность. Сбалансированность и пропорциональность в реальной действительности обычно неустойчивы и постоянно нарушаются. Например, экономический рост ведет к установлению новых пропорций и новой сбалансированности. Поскольку полного соответствия между отраслями в реальной жизни не бывает, существует постоянная необходимость в поддержании сбалансированности путем корректировки пропорций между отдельными сферами экономики, а также внутри них. В материальном производстве для этого нужно, прежде всего, обеспечить соответствие между первым и вторым подразделениями, т.е. между производством средств производства и предметов потребления. Если такое соответствие будет нарушено, т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не сможет обеспечить средствами производства оба подразделения, 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— предметами потребления занятых и дополнительно привлекаемых работников обоих подраздел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нозирование и планирование нац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тяжении многих десятилетий макроэкономическое планирование зарубежными исследователями противопоставлялось центра­лизованному планированию, а рынок — план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факторы, определяющие вид планирования, зависят от соотношения государственного и частного влияния на общественно-политические и социально-экономические  процессы. В современной зарубежной литературе выделяются следующие типы макроэкономического планирования: директивное (административно-командное), индирективное,  регулятивное, индикативное и стратегическ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скальная политика государства и ее влияние на объем национального произво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фискальной (налоговой) политикой государства понимается постоянное вмешательство государства в экономические процессы и явления с целью регулирования их протекания. Это совокупность мероприятий в сфере налогообложения, направленных на формирование доходной части государственного бюджета, повышение эффективности функционирования всей национальной экономики, обеспечение экономического роста, занятости населения и стабильности денежного обращ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витых государствах через бюджеты распределяется примерно 1/5 валового национального продукта или 40-50 процентов годового национального дохода. Такие средства позволяют проводить структурную перестройку производства, осваивать новейшие технологии и разрабатывать крупномасштабные научно-технические программы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ономический рост национальной хозяйственной систе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Экономический рос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количественное и качественное совершенствование общественного продукт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и эффективного экономического ро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величения продолжительности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заболеваемости и травмат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вышения уровня образования и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олее полного удовлетворения потребностей и рационализации потреб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циальной стабильности и уверенности в своем буду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одоления нищеты и кричащих различий в уровне жиз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стижения максимальной занят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ы окружающей среды и повышения экологической безопас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преступ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и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е выражение экономический рост находит в увеличении потенциального и реального валового национального продукта (ВНП) или валового внутреннего продукта (ВВП), в возрастании экономической мощи нации, страны,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выражение можно измерить двумя взаимосвязанными показателями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за определенный период реального ВВП (ВНП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ВВП (ВНП) на душу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В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общающий экономический показатель, который выражает в рыночных ценах совокупную стоимость товара, работ и услуг, созданных внутри страны, и только с использованием факторов производства данно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Н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вокупная стоимость конечных товаров, услуг, созданных не только внутри страны, но и за ее пре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хема кругооборота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5" descr="Баланс.JPG"/>
          <p:cNvPicPr/>
          <p:nvPr/>
        </p:nvPicPr>
        <p:blipFill>
          <a:blip r:embed="rId1"/>
          <a:stretch/>
        </p:blipFill>
        <p:spPr>
          <a:xfrm>
            <a:off x="1719360" y="1762200"/>
            <a:ext cx="5705280" cy="4200480"/>
          </a:xfrm>
          <a:prstGeom prst="rect">
            <a:avLst/>
          </a:prstGeom>
          <a:ln w="0">
            <a:noFill/>
          </a:ln>
        </p:spPr>
      </p:pic>
      <p:sp>
        <p:nvSpPr>
          <p:cNvPr id="104" name="Заголовок 3"/>
          <p:cNvSpPr/>
          <p:nvPr/>
        </p:nvSpPr>
        <p:spPr>
          <a:xfrm>
            <a:off x="571680" y="5715000"/>
            <a:ext cx="8215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НЯТИЕ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4240" y="14288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ая экономика является исторически сложившейся системой общественного воспроизводства страны, взаимосвязанной системой отраслей и видов производств, охватывающей существующие в народном хозяйстве формы общественного труда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ая экономика состоит из ряда крупных сфер: материальное и нематериальное производство, непроизводственная сфе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жнейшей составной частью национальной экономики является материальное производство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котором создаются необходимые для жизни и развития общества средства производства и предметы потребления. В материальное производство входят такие отрасли, как промышленность, сельское хозяйство, строительство, транспорт, торговля, связь. Крупнейшей отраслью материального производства является промышленность, состоящая из двух групп отраслей — добывающей и обрабатывающ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экономической теории среди предприятий материальной сферы выделяют предприятия по производству средств производства и производству предметов потребле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личается от материального своим продуктом, имеющим нематериальную форму: научные знания и информация; произведения искусства (кинофильмы, книги, театральные постановки); услуги, оказываемые населению. Нематериальное производство включает науку и научное обслуживание, искусство и культуру, образование, здравоохранение 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роизводственная сфер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обходима обществу, т.к. в нее входят содержание армии, судебные и юридические органы, религиозные учреждения, другие общественные организа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хема макроэкономических свя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Содержимое 3" descr="Баланс.JPG"/>
          <p:cNvPicPr/>
          <p:nvPr/>
        </p:nvPicPr>
        <p:blipFill>
          <a:blip r:embed="rId1"/>
          <a:stretch/>
        </p:blipFill>
        <p:spPr>
          <a:xfrm>
            <a:off x="1554120" y="1871640"/>
            <a:ext cx="6053040" cy="3992760"/>
          </a:xfrm>
          <a:prstGeom prst="rect">
            <a:avLst/>
          </a:prstGeom>
          <a:ln w="0">
            <a:noFill/>
          </a:ln>
        </p:spPr>
      </p:pic>
      <p:sp>
        <p:nvSpPr>
          <p:cNvPr id="108" name="Заголовок 1"/>
          <p:cNvSpPr/>
          <p:nvPr/>
        </p:nvSpPr>
        <p:spPr>
          <a:xfrm>
            <a:off x="500040" y="59292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ВП как показатель уровня национальной экономики (РФ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785960"/>
          <a:ext cx="8229600" cy="37846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екс-дефля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9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7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1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2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1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5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 – 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8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6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7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6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4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7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7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дмет нац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ая экономика как целостный организм характеризуется следующими признакам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бщее экономическое пространство с единым законодательством, единой денежной единицей, общей кредитно-денежной и финансовой систем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личие тесных экономических связей между хозяйственными субъектами с общим воспроизводственным контур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Территориальная определенность с общим экономическим центром, который выполняет регулирующую и координационную роль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Стабильные высокие темпы роста национального объема про­извод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табильность це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ддержание внешнеторгового баланса.. Если в страну ввозится больше товаров, чем продается за границу, то возникает отрицательное сальдо торгового баланса. Если вывозится больше товаров, чем поступает в страну, то говорят о положительном сальдо. Повышение или понижение курса валют может изменить достигнутый баланс и вызвать положительное или отрицательное сальд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ысокий уровень занятости. Он достигается в случае, если каждый желающий получить работу находит ее. В любой стране в каждый данный момент времени есть определенное количество людей, временно не работающих в связи со сменой места работы или места жительства. Кроме того, всегда есть структурная безработица, обусловленная несоответствием структуры новых рабочих мест, свя­занных с внедрением новых технологий, имеющейся структуре рабочей силы и отставанием последней по квалификационным требованиям и новым профессиям от спроса на эти професс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струменты макроэкономического регулирования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скальная политика (оперирование государственным бюджетом через налоговую систему и расходы государства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ежно-кредитная политика (контроль за денежным предложением через ставку процента, резервную норму и другие инструменты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ка регулирования доходов (от свободного установления заработной платы и цен до декретного контроля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еэкономическая политика (торговая политика, регулирование обменного курса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им и конечным результатами функционирования национальной экономики являются приращение национального богатства, объемов прибыльных и нужных обществу товаров и услуг, наиболее эффективное использование ограниченных людских и материальных ресурсов. Показатели приращения национального богатства - ВОП, НД (национальный доход), ВНП (валовый национальный продук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4240" y="128556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ставляет собой устойчивые количественные соотношения между ее составными частями. Различают воспроизводственную, социальную, территориальную структуры и инфраструктуру национальной экономики. Вос­производственная структур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ражает ее деление на наиболее массовые виды экономических субъектов, которые воспроизводятся сами и в результате своей деятельности воспроизводят потоки товаров и услуг между ними. В экономике каждой страны можно выделить три крупные взаимосвязанные группы воспроизводственной структур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машние хозяй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приятия (предпринимательский бизне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судар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национальных хозяйственных систем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тип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чная эконом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ой доминирующей формой взаимодействия между участниками хозяйственного процесса является обмен. Под обменом, в соответствии с классическим пониманием, подразумевает "двустороннее движение товаров между субъектами, ориентированными на прибыль, получающуюся в результате для каждого от итогов соглашения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дистрибутивные или командно-административ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редистрибутивных экономиках преобладает движение благ и услуг к Центру и из него, независимо от того, осуществляется ли передвижение объектов физически или меняется только порядок права их присвоения без каких-либо изменений в действительном размещении ресурса или продукта. Редистрибуция представляет собой аккумуляцию, собирание, совмещенные с новым, вторичным распределением и раздачей. Именно через редистрибуцию в этих обществах достигается воссоединение распределенного, разделенного тру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лавные пропорции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между I и II подразделениями материального производства. Они характеризуются соотношением объемов производства средств производ­ства и предметов потребления в ВНП, численностью работающих в каждом из этих подразделений, стоимостью их основных производственных фондов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между фондами накопления и потребления в национальном доходе. От этих пропорций зависят темпы расширенного воспроизводства, решение социальных и производственных задач. Каждая национальная экономика стремится к установлению оптимальных пропорций, обеспечивающих наиболее полное удовлетворение общественных потребностей при наименьших затратах живого и овеществленного труда. С точки зрения воспроизводства оптимальные пропорции означают качественное и количественное соответствие между структурой общественного производства и структурой общественных потреб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ойчивые тенденции изменения пропор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технического уровня производства, проявляющееся в росте фондовооруженности труда, количестве сырья и материалов, перерабатываемых работниками, что ведет к опережению объемов производственных фондов по отношению к численности работающи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ежающее развитие электроэнергетики, машино- и приборостроения, химической промышленности и других наукоемких отрасл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доли непроизводственной сферы по сравнению с отраслями материального производств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ежающее развитие обрабатывающей промышленности по отношению к добывающ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ение участия в международном разделении труда, которое выражается в более быстром увеличении внешне­торгового оборота по сравнению с ростом производства в ст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9:53:24Z</dcterms:created>
  <dc:creator>Калинин Иван</dc:creator>
  <dc:description/>
  <dc:language>en-US</dc:language>
  <cp:lastModifiedBy>LEGION</cp:lastModifiedBy>
  <dcterms:modified xsi:type="dcterms:W3CDTF">2014-11-10T11:31:05Z</dcterms:modified>
  <cp:revision>18</cp:revision>
  <dc:subject/>
  <dc:title>Слайд 1</dc:title>
</cp:coreProperties>
</file>