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 в школ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урно-оздоровитель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та в шко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проведению физкультмину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физкультмину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А.Сухомлинск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ученика в норме,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изическ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ци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коммуникабелен, общителе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моцион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ебенок уравновешен, способен удивляться и восхищ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интеллекту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нравствен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ризнает основные общечеловеческие ц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тельны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ы здоровьесбереже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навред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!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иоритет заботы о здоровье учителя и учаще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прерывность и преемственность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ивные взаимоотношен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лексный, междисциплинарный подхо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спех порождает успе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к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свое здоровь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терии здоровье-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-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циональ-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оч-но 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видов учебной деятел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опрос,письмо,чтение,слуша-ние,рассказ, ответы на вопросы,рас- сматри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сы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FB3-668A-4C5C-A8E9-0CE45A6B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58E-09EE-4501-9832-826FF471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6F0-9759-413D-9C72-AC44ECA9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6B6-B758-4DF2-AA84-25511416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E10D-7A01-4F93-9729-7EA3BD24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A240-0F25-404E-991C-78C147F2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5EE5-0670-4830-8C8B-E2761A8C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147D-77EF-4870-AB67-DF71D771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0EB2-242E-42E9-97CD-FBB82300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A8A9-F351-42FD-9C69-D356E337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D703-A1C0-41EE-BFD5-2833D8A9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DAD-F63A-49C9-BAD0-99F8F8A3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B8A-2759-4985-ADF3-AB3E334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0C46-AC04-4DA9-A361-1A112AA8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5FA6-69DD-4D9D-989C-B8929C62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463A-3F5A-484F-9AB5-9AA4B4AF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436E-A086-4137-BF89-B09A46C8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911-20FD-429D-9443-690AA07A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312-33A9-44BC-8053-7C3C3E2D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089-9AEB-42ED-B2AF-B5181351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5B9-1333-4997-A0F2-F9EE3AEA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620-6695-4A50-898E-946D4052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4A1-FD40-434B-B1CB-A54619D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594-9628-452E-AAD1-A75A246C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2B9F8D-DAA2-45F3-9D64-44EF9B25135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EDF193-B04B-4061-8CE1-0EAE941D102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в школе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38320" y="4876560"/>
            <a:ext cx="35053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2320"/>
            <a:ext cx="7561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158760"/>
            <a:ext cx="7561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295280" y="1646280"/>
          <a:ext cx="746784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46280"/>
                    <a:ext cx="74678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12320"/>
            <a:ext cx="756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0" name="Object 1024"/>
          <p:cNvGraphicFramePr/>
          <p:nvPr/>
        </p:nvGraphicFramePr>
        <p:xfrm>
          <a:off x="1371600" y="1671480"/>
          <a:ext cx="74674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1480"/>
                    <a:ext cx="74674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189000"/>
            <a:ext cx="75610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467840" cy="414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изкультурно-оздоровительная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работа в школ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295280" y="4191120"/>
          <a:ext cx="3124440" cy="23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312444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5257800" y="1600200"/>
          <a:ext cx="327672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600200"/>
                    <a:ext cx="3276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5257800" y="4114800"/>
          <a:ext cx="327672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14800"/>
                    <a:ext cx="3276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295280" y="1739880"/>
            <a:ext cx="3200400" cy="2529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496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ды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98772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944800" cy="2208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"/>
          <p:cNvPicPr/>
          <p:nvPr/>
        </p:nvPicPr>
        <p:blipFill>
          <a:blip r:embed="rId2"/>
          <a:stretch/>
        </p:blipFill>
        <p:spPr>
          <a:xfrm>
            <a:off x="4952880" y="4267080"/>
            <a:ext cx="1981440" cy="148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2"/>
          <p:cNvPicPr/>
          <p:nvPr/>
        </p:nvPicPr>
        <p:blipFill>
          <a:blip r:embed="rId3"/>
          <a:stretch/>
        </p:blipFill>
        <p:spPr>
          <a:xfrm>
            <a:off x="7086600" y="4267080"/>
            <a:ext cx="1752480" cy="1335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LEGION</cp:lastModifiedBy>
  <dcterms:modified xsi:type="dcterms:W3CDTF">2015-03-31T07:52:43Z</dcterms:modified>
  <cp:revision>17</cp:revision>
  <dc:subject/>
  <dc:title>Презентация PowerPoint</dc:title>
</cp:coreProperties>
</file>