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7.jpeg" ContentType="image/jpeg"/>
  <Override PartName="/ppt/media/image56.png" ContentType="image/png"/>
  <Override PartName="/ppt/media/image54.jpeg" ContentType="image/jpeg"/>
  <Override PartName="/ppt/media/image58.jpeg" ContentType="image/jpeg"/>
  <Override PartName="/ppt/media/image53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6.jpeg" ContentType="image/jpeg"/>
  <Override PartName="/ppt/media/image63.jpeg" ContentType="image/jpeg"/>
  <Override PartName="/ppt/media/image40.png" ContentType="image/png"/>
  <Override PartName="/ppt/media/image61.jpeg" ContentType="image/jpeg"/>
  <Override PartName="/ppt/media/image25.jpeg" ContentType="image/jpeg"/>
  <Override PartName="/ppt/media/image13.jpeg" ContentType="image/jpeg"/>
  <Override PartName="/ppt/media/image15.jpeg" ContentType="image/jpeg"/>
  <Override PartName="/ppt/media/image23.jpeg" ContentType="image/jpeg"/>
  <Override PartName="/ppt/media/image49.png" ContentType="image/png"/>
  <Override PartName="/ppt/media/image65.jpeg" ContentType="image/jpeg"/>
  <Override PartName="/ppt/media/image35.jpeg" ContentType="image/jpeg"/>
  <Override PartName="/ppt/media/image1.jpeg" ContentType="image/jpeg"/>
  <Override PartName="/ppt/media/image41.jpeg" ContentType="image/jpeg"/>
  <Override PartName="/ppt/media/image14.jpeg" ContentType="image/jpeg"/>
  <Override PartName="/ppt/media/image52.jpeg" ContentType="image/jpeg"/>
  <Override PartName="/ppt/media/image69.jpeg" ContentType="image/jpeg"/>
  <Override PartName="/ppt/media/image2.wmf" ContentType="image/x-wmf"/>
  <Override PartName="/ppt/media/image21.jpeg" ContentType="image/jpeg"/>
  <Override PartName="/ppt/media/image22.jpeg" ContentType="image/jpeg"/>
  <Override PartName="/ppt/media/image67.png" ContentType="image/png"/>
  <Override PartName="/ppt/media/image60.jpeg" ContentType="image/jpeg"/>
  <Override PartName="/ppt/media/image66.jpeg" ContentType="image/jpeg"/>
  <Override PartName="/ppt/media/image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7.jpeg" ContentType="image/jpeg"/>
  <Override PartName="/ppt/media/image16.jpeg" ContentType="image/jpeg"/>
  <Override PartName="/ppt/media/image24.jpeg" ContentType="image/jpeg"/>
  <Override PartName="/ppt/media/image19.jpeg" ContentType="image/jpeg"/>
  <Override PartName="/ppt/media/image62.jpeg" ContentType="image/jpeg"/>
  <Override PartName="/ppt/media/image18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28.jpeg" ContentType="image/jpeg"/>
  <Override PartName="/ppt/media/image11.jpeg" ContentType="image/jpeg"/>
  <Override PartName="/ppt/media/image43.jpeg" ContentType="image/jpeg"/>
  <Override PartName="/ppt/media/image39.jpeg" ContentType="image/jpeg"/>
  <Override PartName="/ppt/media/image5.png" ContentType="image/png"/>
  <Override PartName="/ppt/media/image8.jpeg" ContentType="image/jpeg"/>
  <Override PartName="/ppt/media/image26.png" ContentType="image/pn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6.jpeg" ContentType="image/jpeg"/>
  <Override PartName="/ppt/media/image37.png" ContentType="image/png"/>
  <Override PartName="/ppt/media/image44.jpeg" ContentType="image/jpeg"/>
  <Override PartName="/ppt/media/image48.png" ContentType="image/png"/>
  <Override PartName="/ppt/media/image45.jpeg" ContentType="image/jpeg"/>
  <Override PartName="/ppt/media/image55.png" ContentType="image/png"/>
  <Override PartName="/ppt/media/image20.jpeg" ContentType="image/jpeg"/>
  <Override PartName="/ppt/media/image3.wmf" ContentType="image/x-wmf"/>
  <Override PartName="/ppt/media/image46.jpeg" ContentType="image/jpeg"/>
  <Override PartName="/ppt/media/image68.png" ContentType="image/png"/>
  <Override PartName="/ppt/media/image4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06DB-23B3-492C-B11E-3BEA24CF0C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c0000"/>
                </a:solidFill>
                <a:latin typeface="Monotype Corsiva"/>
                <a:ea typeface="Times New Roman"/>
              </a:rPr>
              <a:t>«Кара» + «та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cc6600"/>
                </a:solidFill>
                <a:latin typeface="Monotype Corsiva"/>
                <a:ea typeface="Times New Roman"/>
              </a:rPr>
              <a:t>летопись жизн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0EB2-574E-41C8-BBD1-FC1F7379F6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V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56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у Конрад Геснер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ктате о минерала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делал первое в истории описание карандаша из графита, обделанного деревом. Поэтом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56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 считается официальной датой рождения каранда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х об изобретателе такого карандаша в трактате не бы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FCE9-3609-4209-BADD-3738DAF065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VIII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78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. Чешский ученый Ирже Гартлут предлагает закрепить графитовые стержни в деревянную оправу и делать пишущие стержни из смеси графита и гл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79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. Точно такое же изобретение сделал французский ученый Николя Жак Ко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65CA-6518-487F-97D1-D7773EC630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хаил Васильевич Ломоносов первым в России изготовил графитные стержни. Он же организовал производство карандашей в Архангельской губернии и ввел в мировой обиход поняти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ос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дюжина дюжин, дневная норма выработки карандашей одним маст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9704-3DC7-48AE-95EE-AB65516543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европейских фабриках было налажено производство карандашей 17 степеней тверд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858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у запатентован карандаш со стирающей резин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869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у создан металлический карандаш. Графитный стержень размещался в металлической трубке и мог по необходимости выдвиг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0D78-3E59-4007-8748-8D88409694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вейшая истори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X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е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метические карандаш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бров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онтура гу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французского маникю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стории карандаша началась новая веха. Карандаш перестал быть только письменной принадлежностью. Появились новые виды упаковки и принципиально иные продукты, которые объединяет общая идея и общая форма – каранда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9D64-7CE5-4280-B0A5-A8F1F1A31A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овейшая история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XX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е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карандаши – стиралки, карандаши -  подсказки, «веселые» карандаши, карандаши с кисточкой, ароматические карандаши, и даже витаминизирова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A153-DA37-4DEA-A7DC-0B65F2AAD3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андашные фабрики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вропейск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ания «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nte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тель – Николя Жак Ко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ует с 1795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ет престижной марко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e a Pari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B1A3-B955-4B15-802D-732852F924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андашные фабрики</a:t>
            </a:r>
            <a:br>
              <a:rPr sz="12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Европейск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Компания «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KOH-I-NOOR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снователь – Ирже Гартлут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ействует с 1790 год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дна из последних новинок – цветные карандаши «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agic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».В грифеле этих карандашей причудливо сочетаются все цвета радуги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F700-7481-4828-9018-0A7B966606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рандашные фабрик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ссий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революции в России чаще всего пользовались отечественными карандашами. В Москве работали фабрики Карнаца и Никитина, в Риге – Глезера, в Вильно – Таракан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ССР было три карандашных фабрики: Томская, Славянская, имени Крас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8FDF-C84F-4BBC-B002-6EDD14A138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андашные фабри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ссийск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мская фабр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1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у. Здесь изготавливалась кедровая дощечка для производства всех карандашей в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авянская фабр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15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у. Останавливала работу только в годы Гражданской и Великой Отечественной войн. После развала СССР лишилась поставок древесины из сибирского кедра. Сейчас на грани банкротства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E707-E535-4070-AA91-426EFA29E8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андашные фабри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ссийск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брика им. Л.Б. Крас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26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у в рамках программы ликвидации неграмотности. Сегодня крупнейшее предприятие России по выпуску канцелярских принадлеж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1D6A-2D06-4B50-A8D1-B8E0E0B977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андашные фабри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ссийск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брика им. Л.Б Крас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фабрике создан музей карандаша, в котором представлены образцы продукции за весь период существования. От карандашей «Пионер», «Комсомольский» и «Миру – мир» до карандашей «под малахит» для администрации президента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D5A2-4705-4BBF-BE90-B28624E16F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удожественные особенности карандаш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мощь только одного карандаша можно создать тысячи оттенков цвета. Карандашом можно делать штрих, тон, линию. Многие знаменитые художники использовали карандаш для создания своих шедев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E7FE-42B8-418E-9742-9D7300821B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ые особенности каранд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3D98-69C5-4E6C-AEE2-7E8277FCA5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ые особенности каранд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43F1-AEF6-4800-BBF7-0DF33852C7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ые особенности каранд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E572-43F6-4BA1-8AFA-12050DECC4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ые особенности каранд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F3E0-2244-4262-B9E6-C22DDFFB95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 сво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 – 5 г 350 м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метр – 7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ина – 17.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оксич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является проводником электрот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течет и не требует заправки чернил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о удаля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шет перевернутым вверх, под водой и в космос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A6E8-AB25-4AA1-B612-9912E7F002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ется каранда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изготовления одного карандаша проводится боле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 производственных операций в течение 11 дней и используется более 70 наименований сыр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1A7A-9828-4743-B354-BAE1C72FBE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ется каранда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есина для оболочки карандаша должна быть легкой, мягкой, прочной, не ломаться, не крошиться, не расслаив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 этим качествам соответствует виргинский можжевельник(США), а в России кедр и лип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3020-60F8-44D1-A62C-B7F370901A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ется каранда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4046-2E41-473F-B9C1-239556B4C3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9F7A-F88B-49DF-94F8-F5A413AE90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евян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стмассов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опра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F40F-5FB0-41EB-8997-D4AC21D279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видности каранд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андаши существуют не только для рисования и письма, а еще и для раскрашивания и косметических ц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производится более 300 видов карандашей для различных видов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294D-9BAD-4048-879C-1F3E263F2C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зять на каранда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одного большого дерева можно сделать 300000 карандаш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од производится   14 миллиардов карандаш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он Стейнбек исписывал 60 карандашей в д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ква написанная карандашом весит 0,00033 грам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86A1-93ED-4467-B6F7-30ED2220FE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евянные карандаши, перешедшие вместе с нами в третье тысячелетие, еще долго будут служить детям и взрослым, людям разнообразных професси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864B-4890-4903-9252-1941214FD8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каранд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е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ейше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492D-89F1-428D-927F-53AD27BFC1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обытном обществе древний человек пользовался готовым природным материалом. Исследователи часто называют самым далеким предком карандаша головешку из кос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B1CC-2326-481A-9736-81B4C6D669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реции и Римской империи использовали палочки для письма, заостренные на одном конце и сплющенные на другом. Острым концом писали на дощечках, покрытых воском, а тупым – затирали написанное. Этот пишущий инструмент называют прообразом каранда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AE36-BC73-4684-A6E6-EAFA421D05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е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II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дедушкой современного карандаша были свинцовые стерженьки – штиф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XII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ились металлически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андаш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особый футляр вставлялась тонкая проволока из метал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FA39-F6FA-41D2-93AE-1F9E2BA117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ох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XIV – XV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ились серебряные карандаш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льзоваться ими из-за дороговизны могли только аристократы и великие художники. Сохранилис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ебряные рисунк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еонардо да Винчи, Дюрера, Ван Эйка, Боттичел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D32C-4FB2-4F0F-8EB8-4737D905DE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XVI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ие залежей графита произошло в разных странах: в Англии в местности Камберленд, в итальянском княжестве Пьемонт, в немецкой Тюрингии, испанской Андалу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3CB9-A307-453E-A184-DA43A09346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B573-3B67-4CCF-9547-1D048D1CD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53AC-7FBD-4C6F-940B-8C554BCA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23E7-5088-4DF1-83E5-D101CC6B6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925D-5E16-407C-AA1B-DF7635F82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0271-0DB1-40FE-BD14-C754FABE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1579-F044-44B6-BFE0-785A06E5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C04B-9A66-4977-A190-549B2D6E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DFB4-AADE-41C2-9E7D-FC6A4289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AAB3-A966-4F81-B9ED-70382C61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5089-B288-40D5-9AE1-EC0B31AA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B664-3619-4443-A9D4-6EA33C84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61C3-FCA4-4E3A-870B-C7490B77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34D2-EC1F-47FD-9CA7-E5401A9B64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4.jpeg"/><Relationship Id="rId14" Type="http://schemas.openxmlformats.org/officeDocument/2006/relationships/image" Target="../media/image14.jpeg"/><Relationship Id="rId15" Type="http://schemas.openxmlformats.org/officeDocument/2006/relationships/image" Target="../media/image16.jpeg"/><Relationship Id="rId16" Type="http://schemas.openxmlformats.org/officeDocument/2006/relationships/image" Target="../media/image13.jpeg"/><Relationship Id="rId17" Type="http://schemas.openxmlformats.org/officeDocument/2006/relationships/image" Target="../media/image7.jpeg"/><Relationship Id="rId18" Type="http://schemas.openxmlformats.org/officeDocument/2006/relationships/image" Target="../media/image15.jpeg"/><Relationship Id="rId19" Type="http://schemas.openxmlformats.org/officeDocument/2006/relationships/image" Target="../media/image14.jpeg"/><Relationship Id="rId20" Type="http://schemas.openxmlformats.org/officeDocument/2006/relationships/image" Target="../media/image14.jpeg"/><Relationship Id="rId21" Type="http://schemas.openxmlformats.org/officeDocument/2006/relationships/image" Target="../media/image16.jpeg"/><Relationship Id="rId22" Type="http://schemas.openxmlformats.org/officeDocument/2006/relationships/image" Target="../media/image13.jpeg"/><Relationship Id="rId23" Type="http://schemas.openxmlformats.org/officeDocument/2006/relationships/image" Target="../media/image17.jpeg"/><Relationship Id="rId2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8.jpeg"/><Relationship Id="rId3" Type="http://schemas.openxmlformats.org/officeDocument/2006/relationships/slide" Target="slide7.xml"/><Relationship Id="rId4" Type="http://schemas.openxmlformats.org/officeDocument/2006/relationships/image" Target="../media/image19.jpeg"/><Relationship Id="rId5" Type="http://schemas.openxmlformats.org/officeDocument/2006/relationships/slide" Target="slide9.xml"/><Relationship Id="rId6" Type="http://schemas.openxmlformats.org/officeDocument/2006/relationships/image" Target="../media/image20.jpeg"/><Relationship Id="rId7" Type="http://schemas.openxmlformats.org/officeDocument/2006/relationships/slide" Target="slide14.xml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cc0000"/>
                </a:solidFill>
                <a:latin typeface="Monotype Corsiva"/>
                <a:ea typeface="Times New Roman"/>
              </a:rPr>
              <a:t>«Кара» + «таш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ase"/>
          <p:cNvPicPr/>
          <p:nvPr/>
        </p:nvPicPr>
        <p:blipFill>
          <a:blip r:embed="rId1"/>
          <a:stretch/>
        </p:blipFill>
        <p:spPr>
          <a:xfrm>
            <a:off x="324000" y="2276640"/>
            <a:ext cx="1833480" cy="3921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4764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c6600"/>
                </a:solidFill>
                <a:latin typeface="Monotype Corsiva"/>
                <a:ea typeface="Times New Roman"/>
              </a:rPr>
              <a:t>летопись жиз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4284720" y="3213000"/>
            <a:ext cx="460836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Arial"/>
              </a:rPr>
              <a:t>Авторы исследования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rial"/>
              </a:rPr>
              <a:t>Сафиулина Яна, Залога А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Arial"/>
              </a:rPr>
              <a:t>Авторы презентации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Кропачев Артем, Лисянский Макс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Учащиеся 8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"/>
              </a:rPr>
              <a:t>МОУ Гимназии №91 им. М.В.Ломонос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6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оду Конрад Геснер 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актате о минерала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делал первое в истории описание карандаша из графита, обделанного деревом. Поэтому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6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од считается официальной датой рождения каранда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ных об изобретателе такого карандаша в трактате не бы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8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од. Чешский ученый Ирже Гартлут предлагает закрепить графитовые стержни в деревянную оправу и делать пишущие стержни из смеси графита и г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9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од. Точно такое же изобретение сделал французский ученый Николя Жак Кон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конте"/>
          <p:cNvPicPr/>
          <p:nvPr/>
        </p:nvPicPr>
        <p:blipFill>
          <a:blip r:embed="rId1"/>
          <a:stretch/>
        </p:blipFill>
        <p:spPr>
          <a:xfrm>
            <a:off x="3419640" y="6067440"/>
            <a:ext cx="5508360" cy="5810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24480" y="1483920"/>
            <a:ext cx="46195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хаил Васильевич Ломоносов первым в России изготовил графитные стержни. Он же организовал производство карандашей в Архангельской губернии и ввел в мировой обиход понят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ос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южина дюжин, дневная норма выработки карандашей одним масте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ломоносов м"/>
          <p:cNvPicPr/>
          <p:nvPr/>
        </p:nvPicPr>
        <p:blipFill>
          <a:blip r:embed="rId1"/>
          <a:stretch/>
        </p:blipFill>
        <p:spPr>
          <a:xfrm>
            <a:off x="539640" y="1844640"/>
            <a:ext cx="3927600" cy="437184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европейских фабриках было налажено производство карандашей 17 степеней тверд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58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оду запатентован карандаш со стирающей резин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6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оду создан металлический карандаш. Графитный стержень размещался в металлической трубке и мог по необходимости выдвиг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с_головой 1"/>
          <p:cNvPicPr/>
          <p:nvPr/>
        </p:nvPicPr>
        <p:blipFill>
          <a:blip r:embed="rId1"/>
          <a:stretch/>
        </p:blipFill>
        <p:spPr>
          <a:xfrm>
            <a:off x="6659640" y="4941720"/>
            <a:ext cx="2232000" cy="167508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5">
            <a:hlinkClick r:id="rId2" action="ppaction://hlinksldjump"/>
          </p:cNvPr>
          <p:cNvSpPr/>
          <p:nvPr/>
        </p:nvSpPr>
        <p:spPr>
          <a:xfrm>
            <a:off x="0" y="6093000"/>
            <a:ext cx="395280" cy="36036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3691" h="21600">
                <a:moveTo>
                  <a:pt x="0" y="0"/>
                </a:moveTo>
                <a:lnTo>
                  <a:pt x="23691" y="0"/>
                </a:lnTo>
                <a:lnTo>
                  <a:pt x="23691" y="21600"/>
                </a:lnTo>
                <a:lnTo>
                  <a:pt x="0" y="21600"/>
                </a:lnTo>
                <a:close/>
              </a:path>
              <a:path fill="lightenLess" w="23691" h="21600">
                <a:moveTo>
                  <a:pt x="0" y="0"/>
                </a:moveTo>
                <a:lnTo>
                  <a:pt x="23691" y="0"/>
                </a:lnTo>
                <a:lnTo>
                  <a:pt x="22291" y="1400"/>
                </a:lnTo>
                <a:lnTo>
                  <a:pt x="1400" y="1400"/>
                </a:lnTo>
                <a:close/>
              </a:path>
              <a:path fill="darken" w="23691" h="21600">
                <a:moveTo>
                  <a:pt x="23691" y="0"/>
                </a:moveTo>
                <a:lnTo>
                  <a:pt x="23691" y="21600"/>
                </a:lnTo>
                <a:lnTo>
                  <a:pt x="22291" y="20200"/>
                </a:lnTo>
                <a:lnTo>
                  <a:pt x="22291" y="1400"/>
                </a:lnTo>
                <a:close/>
              </a:path>
              <a:path fill="darkenLess" w="23691" h="21600">
                <a:moveTo>
                  <a:pt x="23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1" y="20200"/>
                </a:lnTo>
                <a:close/>
              </a:path>
              <a:path fill="lighten" w="23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1" h="21600">
                <a:moveTo>
                  <a:pt x="4839" y="10800"/>
                </a:moveTo>
                <a:lnTo>
                  <a:pt x="18852" y="3794"/>
                </a:lnTo>
                <a:lnTo>
                  <a:pt x="1885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вейшая история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3938760"/>
            <a:ext cx="42670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метические карандаш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бро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онтура г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французского маникю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стории карандаша началась новая веха. Карандаш перестал быть только письменной принадлежностью. Появились новые виды упаковки и принципиально иные продукты, которые объединяет общая идея и общая форма – каранда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033-05"/>
          <p:cNvPicPr/>
          <p:nvPr/>
        </p:nvPicPr>
        <p:blipFill>
          <a:blip r:embed="rId1"/>
          <a:stretch/>
        </p:blipFill>
        <p:spPr>
          <a:xfrm>
            <a:off x="990720" y="1447920"/>
            <a:ext cx="2819160" cy="23540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вейшая история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355640" y="2060640"/>
            <a:ext cx="449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карандаши – стиралки, карандаши -  подсказки, «веселые» карандаши, карандаши с кисточкой, ароматические карандаши, и даже витаминизирован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б_карандаши"/>
          <p:cNvPicPr/>
          <p:nvPr/>
        </p:nvPicPr>
        <p:blipFill>
          <a:blip r:embed="rId1"/>
          <a:stretch/>
        </p:blipFill>
        <p:spPr>
          <a:xfrm>
            <a:off x="380880" y="388620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2"/>
          <p:cNvPicPr/>
          <p:nvPr/>
        </p:nvPicPr>
        <p:blipFill>
          <a:blip r:embed="rId2"/>
          <a:stretch/>
        </p:blipFill>
        <p:spPr>
          <a:xfrm>
            <a:off x="380880" y="1447920"/>
            <a:ext cx="3276720" cy="217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4859280" y="1484280"/>
            <a:ext cx="4105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андашные фабрики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вропей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пания 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атель – Николя Жак Кон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йствует с 1795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адеет престижной марко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 a Pari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conte-compressed-charcoal-3b-soft"/>
          <p:cNvPicPr/>
          <p:nvPr/>
        </p:nvPicPr>
        <p:blipFill>
          <a:blip r:embed="rId1"/>
          <a:stretch/>
        </p:blipFill>
        <p:spPr>
          <a:xfrm>
            <a:off x="1295280" y="3733920"/>
            <a:ext cx="2514600" cy="2435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conte"/>
          <p:cNvPicPr/>
          <p:nvPr/>
        </p:nvPicPr>
        <p:blipFill>
          <a:blip r:embed="rId2"/>
          <a:stretch/>
        </p:blipFill>
        <p:spPr>
          <a:xfrm>
            <a:off x="914400" y="1600200"/>
            <a:ext cx="2286000" cy="528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ConteEvolution"/>
          <p:cNvPicPr/>
          <p:nvPr/>
        </p:nvPicPr>
        <p:blipFill>
          <a:blip r:embed="rId3"/>
          <a:stretch/>
        </p:blipFill>
        <p:spPr>
          <a:xfrm>
            <a:off x="1371600" y="2438280"/>
            <a:ext cx="2362320" cy="10000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андашные фабрики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вропей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495680" y="2057400"/>
            <a:ext cx="44197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H-I-NOO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атель – Ирже Гартл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ует с 1790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 из последних новинок – цветные карандаши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i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В грифеле этих карандашей причудливо сочетаются все цвета радуг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P1060669"/>
          <p:cNvPicPr/>
          <p:nvPr/>
        </p:nvPicPr>
        <p:blipFill>
          <a:blip r:embed="rId1"/>
          <a:stretch/>
        </p:blipFill>
        <p:spPr>
          <a:xfrm>
            <a:off x="838080" y="17524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P1060664"/>
          <p:cNvPicPr/>
          <p:nvPr/>
        </p:nvPicPr>
        <p:blipFill>
          <a:blip r:embed="rId2"/>
          <a:stretch/>
        </p:blipFill>
        <p:spPr>
          <a:xfrm>
            <a:off x="838080" y="41911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55" name="штрихи_цветные.mpg" descr=""/>
          <p:cNvPicPr/>
          <p:nvPr/>
        </p:nvPicPr>
        <p:blipFill>
          <a:blip r:embed="rId3"/>
          <a:stretch/>
        </p:blipFill>
        <p:spPr>
          <a:xfrm>
            <a:off x="6084720" y="5589720"/>
            <a:ext cx="1152720" cy="94284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андашные фабрик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ссий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революции в России чаще всего пользовались отечественными карандашами. В Москве работали фабрики Карнаца и Никитина, в Риге – Глезера, в Вильно – Таракан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ССР было три карандашных фабрики: Томская, Славянская, имени Крас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карандаш Школьный"/>
          <p:cNvPicPr/>
          <p:nvPr/>
        </p:nvPicPr>
        <p:blipFill>
          <a:blip r:embed="rId1"/>
          <a:stretch/>
        </p:blipFill>
        <p:spPr>
          <a:xfrm>
            <a:off x="836640" y="1600200"/>
            <a:ext cx="3279600" cy="2185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советские карандаши"/>
          <p:cNvPicPr/>
          <p:nvPr/>
        </p:nvPicPr>
        <p:blipFill>
          <a:blip r:embed="rId2"/>
          <a:stretch/>
        </p:blipFill>
        <p:spPr>
          <a:xfrm>
            <a:off x="835200" y="3938760"/>
            <a:ext cx="3281040" cy="218736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андашные фабрик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ссий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мская фабр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а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1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у. Здесь изготавливалась кедровая дощечка для производства всех карандашей в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авянская фабр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а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1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у. Останавливала работу только в годы Гражданской и Великой Отечественной войн. После развала СССР лишилась поставок древесины из сибирского кедра. Сейчас на грани банкротства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кедр"/>
          <p:cNvPicPr/>
          <p:nvPr/>
        </p:nvPicPr>
        <p:blipFill>
          <a:blip r:embed="rId1"/>
          <a:stretch/>
        </p:blipFill>
        <p:spPr>
          <a:xfrm>
            <a:off x="457200" y="2155680"/>
            <a:ext cx="4038480" cy="341496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0" y="0"/>
          <a:ext cx="914256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андашные фабрик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ссий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8320" y="1600200"/>
            <a:ext cx="44956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абрика им. Л.Б. Крас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а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92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ду в рамках программы ликвидации неграмотности. Сегодня крупнейшее предприятие России по выпуску канцелярских принадлеж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современный вид фабрики"/>
          <p:cNvPicPr/>
          <p:nvPr/>
        </p:nvPicPr>
        <p:blipFill>
          <a:blip r:embed="rId1"/>
          <a:stretch/>
        </p:blipFill>
        <p:spPr>
          <a:xfrm>
            <a:off x="5105520" y="4343400"/>
            <a:ext cx="3281400" cy="2187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фабрика Красина - 30-е годы"/>
          <p:cNvPicPr/>
          <p:nvPr/>
        </p:nvPicPr>
        <p:blipFill>
          <a:blip r:embed="rId2"/>
          <a:stretch/>
        </p:blipFill>
        <p:spPr>
          <a:xfrm>
            <a:off x="990720" y="43434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Бюст Красина на территории фабрики"/>
          <p:cNvPicPr/>
          <p:nvPr/>
        </p:nvPicPr>
        <p:blipFill>
          <a:blip r:embed="rId3"/>
          <a:stretch/>
        </p:blipFill>
        <p:spPr>
          <a:xfrm>
            <a:off x="990720" y="1371600"/>
            <a:ext cx="1828800" cy="266688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андашные фабрик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ссийск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657600" y="1294920"/>
            <a:ext cx="54864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абрика им. Л.Б Крас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фабрике создан музей карандаша, в котором представлены образцы продукции за весь период существования. От карандашей «Пионер», «Комсомольский» и «Миру – мир» до карандашей «под малахит» для администрации президента Росс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музей фабрики Красина"/>
          <p:cNvPicPr/>
          <p:nvPr/>
        </p:nvPicPr>
        <p:blipFill>
          <a:blip r:embed="rId1"/>
          <a:stretch/>
        </p:blipFill>
        <p:spPr>
          <a:xfrm>
            <a:off x="609480" y="1523880"/>
            <a:ext cx="3143520" cy="2095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под малахит для админ_президента"/>
          <p:cNvPicPr/>
          <p:nvPr/>
        </p:nvPicPr>
        <p:blipFill>
          <a:blip r:embed="rId2"/>
          <a:stretch/>
        </p:blipFill>
        <p:spPr>
          <a:xfrm>
            <a:off x="4952880" y="4114800"/>
            <a:ext cx="3581640" cy="2387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карандаши СССР"/>
          <p:cNvPicPr/>
          <p:nvPr/>
        </p:nvPicPr>
        <p:blipFill>
          <a:blip r:embed="rId3"/>
          <a:stretch/>
        </p:blipFill>
        <p:spPr>
          <a:xfrm>
            <a:off x="609480" y="4114800"/>
            <a:ext cx="3581640" cy="23875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удожественные особенности каранд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6216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омощь только одного карандаша можно создать тысячи оттенков цвета. Карандашом можно делать штрих, тон, линию. Многие знаменитые художники использовали карандаш для создания своих шедев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6963_121_133_0_0"/>
          <p:cNvPicPr/>
          <p:nvPr/>
        </p:nvPicPr>
        <p:blipFill>
          <a:blip r:embed="rId1"/>
          <a:stretch/>
        </p:blipFill>
        <p:spPr>
          <a:xfrm>
            <a:off x="380880" y="2057400"/>
            <a:ext cx="2971800" cy="3657600"/>
          </a:xfrm>
          <a:prstGeom prst="rect">
            <a:avLst/>
          </a:prstGeom>
          <a:ln w="0">
            <a:noFill/>
          </a:ln>
        </p:spPr>
      </p:pic>
      <p:pic>
        <p:nvPicPr>
          <p:cNvPr id="184" name="точилка.mpg" descr=""/>
          <p:cNvPicPr/>
          <p:nvPr/>
        </p:nvPicPr>
        <p:blipFill>
          <a:blip r:embed="rId2"/>
          <a:stretch/>
        </p:blipFill>
        <p:spPr>
          <a:xfrm>
            <a:off x="6659640" y="5516640"/>
            <a:ext cx="1388880" cy="113652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удожественные особенности каранд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история"/>
          <p:cNvPicPr/>
          <p:nvPr/>
        </p:nvPicPr>
        <p:blipFill>
          <a:blip r:embed="rId1"/>
          <a:stretch/>
        </p:blipFill>
        <p:spPr>
          <a:xfrm>
            <a:off x="1090440" y="1862280"/>
            <a:ext cx="2772000" cy="3471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Пабло Пикассо"/>
          <p:cNvPicPr/>
          <p:nvPr/>
        </p:nvPicPr>
        <p:blipFill>
          <a:blip r:embed="rId2"/>
          <a:stretch/>
        </p:blipFill>
        <p:spPr>
          <a:xfrm>
            <a:off x="5310360" y="1862280"/>
            <a:ext cx="2714400" cy="34718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1066680" y="5334120"/>
            <a:ext cx="2819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ю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нские ру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5029200" y="5410080"/>
            <a:ext cx="350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бло Пикас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Амброаза Волла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удожественные особенности каранд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2754360" cy="3809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2"/>
          <a:stretch/>
        </p:blipFill>
        <p:spPr>
          <a:xfrm>
            <a:off x="5162400" y="1647720"/>
            <a:ext cx="2764080" cy="40672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0" y="5715000"/>
            <a:ext cx="449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ри Мати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Абрис лиц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4876920" y="5715000"/>
            <a:ext cx="358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дуард М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ртрет мадам Жюль Гийм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удожественные особенности каранд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В"/>
          <p:cNvPicPr/>
          <p:nvPr/>
        </p:nvPicPr>
        <p:blipFill>
          <a:blip r:embed="rId1"/>
          <a:stretch/>
        </p:blipFill>
        <p:spPr>
          <a:xfrm>
            <a:off x="914400" y="1447920"/>
            <a:ext cx="2495520" cy="4419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история"/>
          <p:cNvPicPr/>
          <p:nvPr/>
        </p:nvPicPr>
        <p:blipFill>
          <a:blip r:embed="rId2"/>
          <a:stretch/>
        </p:blipFill>
        <p:spPr>
          <a:xfrm>
            <a:off x="5565600" y="1447920"/>
            <a:ext cx="2367000" cy="44193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685800" y="5867280"/>
            <a:ext cx="350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лентин С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ртрет Федора Шаляпи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5562720" y="5867280"/>
            <a:ext cx="297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ья Реп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ртрет В.Сер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удожественные особенности каранд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Кипренский"/>
          <p:cNvPicPr/>
          <p:nvPr/>
        </p:nvPicPr>
        <p:blipFill>
          <a:blip r:embed="rId1"/>
          <a:stretch/>
        </p:blipFill>
        <p:spPr>
          <a:xfrm>
            <a:off x="380880" y="1523880"/>
            <a:ext cx="3834000" cy="4267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Карл Брюллов"/>
          <p:cNvPicPr/>
          <p:nvPr/>
        </p:nvPicPr>
        <p:blipFill>
          <a:blip r:embed="rId2"/>
          <a:stretch/>
        </p:blipFill>
        <p:spPr>
          <a:xfrm>
            <a:off x="5181480" y="1523880"/>
            <a:ext cx="2925720" cy="42912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6"/>
          <p:cNvSpPr/>
          <p:nvPr/>
        </p:nvSpPr>
        <p:spPr>
          <a:xfrm>
            <a:off x="304920" y="579132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ест Кипрен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ртрет Алексея Томил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5105520" y="5867280"/>
            <a:ext cx="3200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л Брюл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ртрет Полины Виард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ические свой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83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карандаши-4"/>
          <p:cNvPicPr/>
          <p:nvPr/>
        </p:nvPicPr>
        <p:blipFill>
          <a:blip r:embed="rId1"/>
          <a:stretch/>
        </p:blipFill>
        <p:spPr>
          <a:xfrm>
            <a:off x="380880" y="2362320"/>
            <a:ext cx="4114800" cy="28191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4952880" y="1432080"/>
            <a:ext cx="381024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 – 5 г 350 м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аметр – 7 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а – 17.5 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токсич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является проводником электрот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течет и не требует заправки черни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гко удал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шет перевернутым вверх, под водой и в космо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создается каранд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724280" y="15998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изготовления одного карандаша проводится бол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0 производственных операций в течение 11 дней и используется более 70 наименований сыр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покрашенные карандаши"/>
          <p:cNvPicPr/>
          <p:nvPr/>
        </p:nvPicPr>
        <p:blipFill>
          <a:blip r:embed="rId1"/>
          <a:stretch/>
        </p:blipFill>
        <p:spPr>
          <a:xfrm>
            <a:off x="228600" y="2057400"/>
            <a:ext cx="4648320" cy="31766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создается каранд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евесина для оболочки карандаша должна быть легкой, мягкой, прочной, не ломаться, не крошиться, не расслаив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м этим качествам соответствует виргинский можжевельник(США), а в России кедр и ли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образцы дощечек"/>
          <p:cNvPicPr/>
          <p:nvPr/>
        </p:nvPicPr>
        <p:blipFill>
          <a:blip r:embed="rId1"/>
          <a:stretch/>
        </p:blipFill>
        <p:spPr>
          <a:xfrm>
            <a:off x="914400" y="1447920"/>
            <a:ext cx="3048120" cy="457200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цветочный город"/>
          <p:cNvPicPr/>
          <p:nvPr/>
        </p:nvPicPr>
        <p:blipFill>
          <a:blip r:embed="rId1"/>
          <a:stretch/>
        </p:blipFill>
        <p:spPr>
          <a:xfrm>
            <a:off x="395280" y="836640"/>
            <a:ext cx="155268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onteEvolution"/>
          <p:cNvPicPr/>
          <p:nvPr/>
        </p:nvPicPr>
        <p:blipFill>
          <a:blip r:embed="rId2"/>
          <a:stretch/>
        </p:blipFill>
        <p:spPr>
          <a:xfrm>
            <a:off x="684360" y="5857920"/>
            <a:ext cx="2361960" cy="1000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конте"/>
          <p:cNvPicPr/>
          <p:nvPr/>
        </p:nvPicPr>
        <p:blipFill>
          <a:blip r:embed="rId3"/>
          <a:stretch/>
        </p:blipFill>
        <p:spPr>
          <a:xfrm>
            <a:off x="2700360" y="189000"/>
            <a:ext cx="4572000" cy="482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683031s100x7"/>
          <p:cNvPicPr/>
          <p:nvPr/>
        </p:nvPicPr>
        <p:blipFill>
          <a:blip r:embed="rId4"/>
          <a:stretch/>
        </p:blipFill>
        <p:spPr>
          <a:xfrm rot="2858400">
            <a:off x="10080" y="4102560"/>
            <a:ext cx="2376360" cy="165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_6965_240_210_0_0"/>
          <p:cNvPicPr/>
          <p:nvPr/>
        </p:nvPicPr>
        <p:blipFill>
          <a:blip r:embed="rId5"/>
          <a:stretch/>
        </p:blipFill>
        <p:spPr>
          <a:xfrm>
            <a:off x="6516720" y="4508640"/>
            <a:ext cx="2286000" cy="20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246753s100x7"/>
          <p:cNvPicPr/>
          <p:nvPr/>
        </p:nvPicPr>
        <p:blipFill>
          <a:blip r:embed="rId6"/>
          <a:stretch/>
        </p:blipFill>
        <p:spPr>
          <a:xfrm rot="18221400">
            <a:off x="5576760" y="1847880"/>
            <a:ext cx="2021040" cy="141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259022s100x12"/>
          <p:cNvPicPr/>
          <p:nvPr/>
        </p:nvPicPr>
        <p:blipFill>
          <a:blip r:embed="rId7"/>
          <a:stretch/>
        </p:blipFill>
        <p:spPr>
          <a:xfrm rot="18626400">
            <a:off x="2644560" y="4419360"/>
            <a:ext cx="2089440" cy="250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431098s100x8"/>
          <p:cNvPicPr/>
          <p:nvPr/>
        </p:nvPicPr>
        <p:blipFill>
          <a:blip r:embed="rId8"/>
          <a:stretch/>
        </p:blipFill>
        <p:spPr>
          <a:xfrm>
            <a:off x="3348000" y="1268280"/>
            <a:ext cx="150840" cy="188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530745s100x6"/>
          <p:cNvPicPr/>
          <p:nvPr/>
        </p:nvPicPr>
        <p:blipFill>
          <a:blip r:embed="rId9"/>
          <a:stretch/>
        </p:blipFill>
        <p:spPr>
          <a:xfrm>
            <a:off x="4211640" y="5805360"/>
            <a:ext cx="2033640" cy="122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619769s100x9"/>
          <p:cNvPicPr/>
          <p:nvPr/>
        </p:nvPicPr>
        <p:blipFill>
          <a:blip r:embed="rId10"/>
          <a:stretch/>
        </p:blipFill>
        <p:spPr>
          <a:xfrm rot="3163800">
            <a:off x="3862800" y="2985120"/>
            <a:ext cx="2031840" cy="182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633917s100x7"/>
          <p:cNvPicPr/>
          <p:nvPr/>
        </p:nvPicPr>
        <p:blipFill>
          <a:blip r:embed="rId11"/>
          <a:stretch/>
        </p:blipFill>
        <p:spPr>
          <a:xfrm>
            <a:off x="6588000" y="3429000"/>
            <a:ext cx="2195640" cy="154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431098s100x8"/>
          <p:cNvPicPr/>
          <p:nvPr/>
        </p:nvPicPr>
        <p:blipFill>
          <a:blip r:embed="rId12"/>
          <a:stretch/>
        </p:blipFill>
        <p:spPr>
          <a:xfrm>
            <a:off x="4067280" y="765000"/>
            <a:ext cx="952560" cy="76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633917s100x7"/>
          <p:cNvPicPr/>
          <p:nvPr/>
        </p:nvPicPr>
        <p:blipFill>
          <a:blip r:embed="rId13"/>
          <a:stretch/>
        </p:blipFill>
        <p:spPr>
          <a:xfrm>
            <a:off x="4210200" y="907920"/>
            <a:ext cx="952200" cy="66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Копия 633917s100x7"/>
          <p:cNvPicPr/>
          <p:nvPr/>
        </p:nvPicPr>
        <p:blipFill>
          <a:blip r:embed="rId14"/>
          <a:stretch/>
        </p:blipFill>
        <p:spPr>
          <a:xfrm>
            <a:off x="4354560" y="1052640"/>
            <a:ext cx="952560" cy="66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" descr="Копия 659719s100x12"/>
          <p:cNvPicPr/>
          <p:nvPr/>
        </p:nvPicPr>
        <p:blipFill>
          <a:blip r:embed="rId15"/>
          <a:stretch/>
        </p:blipFill>
        <p:spPr>
          <a:xfrm>
            <a:off x="4500720" y="1197000"/>
            <a:ext cx="952200" cy="114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" descr="Копия (2) 619769s100x9"/>
          <p:cNvPicPr/>
          <p:nvPr/>
        </p:nvPicPr>
        <p:blipFill>
          <a:blip r:embed="rId16"/>
          <a:stretch/>
        </p:blipFill>
        <p:spPr>
          <a:xfrm>
            <a:off x="4643280" y="1413000"/>
            <a:ext cx="952560" cy="85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Копия (3) 683031s100x7"/>
          <p:cNvPicPr/>
          <p:nvPr/>
        </p:nvPicPr>
        <p:blipFill>
          <a:blip r:embed="rId17"/>
          <a:stretch/>
        </p:blipFill>
        <p:spPr>
          <a:xfrm>
            <a:off x="395280" y="4724280"/>
            <a:ext cx="952560" cy="66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431098s100x8"/>
          <p:cNvPicPr/>
          <p:nvPr/>
        </p:nvPicPr>
        <p:blipFill>
          <a:blip r:embed="rId18"/>
          <a:stretch/>
        </p:blipFill>
        <p:spPr>
          <a:xfrm>
            <a:off x="7236000" y="2205000"/>
            <a:ext cx="1312560" cy="1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0" descr="633917s100x7"/>
          <p:cNvPicPr/>
          <p:nvPr/>
        </p:nvPicPr>
        <p:blipFill>
          <a:blip r:embed="rId19"/>
          <a:stretch/>
        </p:blipFill>
        <p:spPr>
          <a:xfrm>
            <a:off x="7380360" y="2349360"/>
            <a:ext cx="1152360" cy="142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1" descr="Копия 633917s100x7"/>
          <p:cNvPicPr/>
          <p:nvPr/>
        </p:nvPicPr>
        <p:blipFill>
          <a:blip r:embed="rId20"/>
          <a:stretch/>
        </p:blipFill>
        <p:spPr>
          <a:xfrm>
            <a:off x="7236000" y="2781360"/>
            <a:ext cx="1455480" cy="71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2" descr="Копия 659719s100x12"/>
          <p:cNvPicPr/>
          <p:nvPr/>
        </p:nvPicPr>
        <p:blipFill>
          <a:blip r:embed="rId21"/>
          <a:stretch/>
        </p:blipFill>
        <p:spPr>
          <a:xfrm>
            <a:off x="7308720" y="2565360"/>
            <a:ext cx="1384560" cy="166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3" descr="Копия (2) 619769s100x9"/>
          <p:cNvPicPr/>
          <p:nvPr/>
        </p:nvPicPr>
        <p:blipFill>
          <a:blip r:embed="rId22"/>
          <a:stretch/>
        </p:blipFill>
        <p:spPr>
          <a:xfrm>
            <a:off x="7308720" y="2924280"/>
            <a:ext cx="1311480" cy="144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125562s76x70"/>
          <p:cNvPicPr/>
          <p:nvPr/>
        </p:nvPicPr>
        <p:blipFill>
          <a:blip r:embed="rId23"/>
          <a:stretch/>
        </p:blipFill>
        <p:spPr>
          <a:xfrm>
            <a:off x="7380360" y="260280"/>
            <a:ext cx="1297080" cy="11955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создается каранда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новорожденные карандаши"/>
          <p:cNvPicPr/>
          <p:nvPr/>
        </p:nvPicPr>
        <p:blipFill>
          <a:blip r:embed="rId1"/>
          <a:stretch/>
        </p:blipFill>
        <p:spPr>
          <a:xfrm>
            <a:off x="5791320" y="1371600"/>
            <a:ext cx="2895480" cy="4343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стержни"/>
          <p:cNvPicPr/>
          <p:nvPr/>
        </p:nvPicPr>
        <p:blipFill>
          <a:blip r:embed="rId2"/>
          <a:stretch/>
        </p:blipFill>
        <p:spPr>
          <a:xfrm>
            <a:off x="3505320" y="1905120"/>
            <a:ext cx="1930320" cy="2895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окунальщица"/>
          <p:cNvPicPr/>
          <p:nvPr/>
        </p:nvPicPr>
        <p:blipFill>
          <a:blip r:embed="rId3"/>
          <a:stretch/>
        </p:blipFill>
        <p:spPr>
          <a:xfrm>
            <a:off x="533520" y="1371600"/>
            <a:ext cx="2531880" cy="43434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6"/>
          <p:cNvSpPr/>
          <p:nvPr/>
        </p:nvSpPr>
        <p:spPr>
          <a:xfrm>
            <a:off x="533520" y="57150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раска карандаше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малахи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5791320" y="57150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орожденные каранда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3505320" y="48769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ифельные стерж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арактеристик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38"/>
          <p:cNvGrpSpPr/>
          <p:nvPr/>
        </p:nvGrpSpPr>
        <p:grpSpPr>
          <a:xfrm>
            <a:off x="2209680" y="3200400"/>
            <a:ext cx="1524240" cy="838080"/>
            <a:chOff x="2209680" y="3200400"/>
            <a:chExt cx="1524240" cy="838080"/>
          </a:xfrm>
        </p:grpSpPr>
        <p:sp>
          <p:nvSpPr>
            <p:cNvPr id="235" name="AutoShape 8"/>
            <p:cNvSpPr/>
            <p:nvPr/>
          </p:nvSpPr>
          <p:spPr>
            <a:xfrm>
              <a:off x="2209680" y="3200400"/>
              <a:ext cx="1524240" cy="838080"/>
            </a:xfrm>
            <a:prstGeom prst="roundRect">
              <a:avLst>
                <a:gd name="adj" fmla="val 16667"/>
              </a:avLst>
            </a:prstGeom>
            <a:solidFill>
              <a:srgbClr val="e4c2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9"/>
            <p:cNvSpPr/>
            <p:nvPr/>
          </p:nvSpPr>
          <p:spPr>
            <a:xfrm>
              <a:off x="2489040" y="3517920"/>
              <a:ext cx="1016280" cy="209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16"/>
          <p:cNvSpPr/>
          <p:nvPr/>
        </p:nvSpPr>
        <p:spPr>
          <a:xfrm>
            <a:off x="0" y="4191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угл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2133720" y="41911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ямоуго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3809880" y="41911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стигра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304920" y="2362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ехгра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0"/>
          <p:cNvSpPr/>
          <p:nvPr/>
        </p:nvSpPr>
        <p:spPr>
          <a:xfrm>
            <a:off x="1981080" y="22860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ва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3276720" y="449568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верд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2"/>
          <p:cNvSpPr/>
          <p:nvPr/>
        </p:nvSpPr>
        <p:spPr>
          <a:xfrm>
            <a:off x="0" y="510552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ет 17 степеней тверд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ердость или мягкость обозначают буквами, а степень твердости циф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3"/>
          <p:cNvSpPr/>
          <p:nvPr/>
        </p:nvSpPr>
        <p:spPr>
          <a:xfrm>
            <a:off x="3600" y="5790600"/>
            <a:ext cx="77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портные: 10Н 9Н 8Н 7Н 6Н 5Н 4Н 3Н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H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3В 4В 5В 6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ечественные:                                        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4" descr="сечение"/>
          <p:cNvPicPr/>
          <p:nvPr/>
        </p:nvPicPr>
        <p:blipFill>
          <a:blip r:embed="rId1"/>
          <a:stretch/>
        </p:blipFill>
        <p:spPr>
          <a:xfrm>
            <a:off x="5791320" y="1600200"/>
            <a:ext cx="3124080" cy="234324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39"/>
          <p:cNvGrpSpPr/>
          <p:nvPr/>
        </p:nvGrpSpPr>
        <p:grpSpPr>
          <a:xfrm>
            <a:off x="468360" y="3068640"/>
            <a:ext cx="1081080" cy="1081080"/>
            <a:chOff x="468360" y="3068640"/>
            <a:chExt cx="1081080" cy="1081080"/>
          </a:xfrm>
        </p:grpSpPr>
        <p:sp>
          <p:nvSpPr>
            <p:cNvPr id="247" name="Oval 26"/>
            <p:cNvSpPr/>
            <p:nvPr/>
          </p:nvSpPr>
          <p:spPr>
            <a:xfrm>
              <a:off x="468360" y="3068640"/>
              <a:ext cx="1081080" cy="1081080"/>
            </a:xfrm>
            <a:prstGeom prst="ellipse">
              <a:avLst/>
            </a:prstGeom>
            <a:solidFill>
              <a:srgbClr val="e4c2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27"/>
            <p:cNvSpPr/>
            <p:nvPr/>
          </p:nvSpPr>
          <p:spPr>
            <a:xfrm>
              <a:off x="826920" y="3429000"/>
              <a:ext cx="3603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37"/>
          <p:cNvGrpSpPr/>
          <p:nvPr/>
        </p:nvGrpSpPr>
        <p:grpSpPr>
          <a:xfrm>
            <a:off x="4211640" y="2852640"/>
            <a:ext cx="1368360" cy="1184400"/>
            <a:chOff x="4211640" y="2852640"/>
            <a:chExt cx="1368360" cy="1184400"/>
          </a:xfrm>
        </p:grpSpPr>
        <p:sp>
          <p:nvSpPr>
            <p:cNvPr id="250" name="AutoShape 28"/>
            <p:cNvSpPr/>
            <p:nvPr/>
          </p:nvSpPr>
          <p:spPr>
            <a:xfrm>
              <a:off x="4211640" y="2852640"/>
              <a:ext cx="1368360" cy="1184400"/>
            </a:xfrm>
            <a:prstGeom prst="hexagon">
              <a:avLst>
                <a:gd name="adj" fmla="val 28883"/>
                <a:gd name="vf" fmla="val 115470"/>
              </a:avLst>
            </a:prstGeom>
            <a:solidFill>
              <a:srgbClr val="e4c2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0"/>
            <p:cNvSpPr/>
            <p:nvPr/>
          </p:nvSpPr>
          <p:spPr>
            <a:xfrm>
              <a:off x="4716360" y="3284640"/>
              <a:ext cx="3603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36"/>
          <p:cNvGrpSpPr/>
          <p:nvPr/>
        </p:nvGrpSpPr>
        <p:grpSpPr>
          <a:xfrm>
            <a:off x="2268360" y="1268280"/>
            <a:ext cx="1366920" cy="865440"/>
            <a:chOff x="2268360" y="1268280"/>
            <a:chExt cx="1366920" cy="865440"/>
          </a:xfrm>
        </p:grpSpPr>
        <p:sp>
          <p:nvSpPr>
            <p:cNvPr id="253" name="Oval 31"/>
            <p:cNvSpPr/>
            <p:nvPr/>
          </p:nvSpPr>
          <p:spPr>
            <a:xfrm>
              <a:off x="2268360" y="1268280"/>
              <a:ext cx="1366920" cy="865440"/>
            </a:xfrm>
            <a:prstGeom prst="ellipse">
              <a:avLst/>
            </a:prstGeom>
            <a:solidFill>
              <a:srgbClr val="e4c2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2"/>
            <p:cNvSpPr/>
            <p:nvPr/>
          </p:nvSpPr>
          <p:spPr>
            <a:xfrm>
              <a:off x="2700360" y="1557360"/>
              <a:ext cx="503280" cy="291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35"/>
          <p:cNvGrpSpPr/>
          <p:nvPr/>
        </p:nvGrpSpPr>
        <p:grpSpPr>
          <a:xfrm>
            <a:off x="324000" y="981000"/>
            <a:ext cx="1366560" cy="1182600"/>
            <a:chOff x="324000" y="981000"/>
            <a:chExt cx="1366560" cy="1182600"/>
          </a:xfrm>
        </p:grpSpPr>
        <p:sp>
          <p:nvSpPr>
            <p:cNvPr id="256" name="AutoShape 33"/>
            <p:cNvSpPr/>
            <p:nvPr/>
          </p:nvSpPr>
          <p:spPr>
            <a:xfrm>
              <a:off x="324000" y="981000"/>
              <a:ext cx="1366560" cy="1182600"/>
            </a:xfrm>
            <a:prstGeom prst="triangle">
              <a:avLst>
                <a:gd name="adj" fmla="val 50000"/>
              </a:avLst>
            </a:prstGeom>
            <a:solidFill>
              <a:srgbClr val="e4c2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34"/>
            <p:cNvSpPr/>
            <p:nvPr/>
          </p:nvSpPr>
          <p:spPr>
            <a:xfrm>
              <a:off x="826920" y="1557360"/>
              <a:ext cx="3603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арактерис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266720" y="129528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ревян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стмассов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 опр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ConteEvolution"/>
          <p:cNvPicPr/>
          <p:nvPr/>
        </p:nvPicPr>
        <p:blipFill>
          <a:blip r:embed="rId1"/>
          <a:stretch/>
        </p:blipFill>
        <p:spPr>
          <a:xfrm rot="1360800">
            <a:off x="304560" y="2133360"/>
            <a:ext cx="3962160" cy="16779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246753s100x7"/>
          <p:cNvPicPr/>
          <p:nvPr/>
        </p:nvPicPr>
        <p:blipFill>
          <a:blip r:embed="rId2"/>
          <a:stretch/>
        </p:blipFill>
        <p:spPr>
          <a:xfrm>
            <a:off x="914400" y="2246400"/>
            <a:ext cx="3238560" cy="2268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7"/>
          <p:cNvSpPr/>
          <p:nvPr/>
        </p:nvSpPr>
        <p:spPr>
          <a:xfrm>
            <a:off x="304920" y="3733920"/>
            <a:ext cx="4267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соб подачи гриф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кцио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ханическ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609480" y="51814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мат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анго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Ленточны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9" descr="P1060673"/>
          <p:cNvPicPr/>
          <p:nvPr/>
        </p:nvPicPr>
        <p:blipFill>
          <a:blip r:embed="rId3"/>
          <a:stretch/>
        </p:blipFill>
        <p:spPr>
          <a:xfrm>
            <a:off x="5029200" y="38862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новидности каранда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андаши существуют не только для рисования и письма, а еще и для раскрашивания и косметических ц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годня производится более 300 видов карандашей для различных видов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б_карандаши 2"/>
          <p:cNvPicPr/>
          <p:nvPr/>
        </p:nvPicPr>
        <p:blipFill>
          <a:blip r:embed="rId1"/>
          <a:stretch/>
        </p:blipFill>
        <p:spPr>
          <a:xfrm>
            <a:off x="5940360" y="3573360"/>
            <a:ext cx="3024360" cy="25146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карандаши-великаны"/>
          <p:cNvPicPr/>
          <p:nvPr/>
        </p:nvPicPr>
        <p:blipFill>
          <a:blip r:embed="rId2"/>
          <a:stretch/>
        </p:blipFill>
        <p:spPr>
          <a:xfrm>
            <a:off x="179280" y="3573360"/>
            <a:ext cx="3187800" cy="24894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6"/>
          <p:cNvSpPr/>
          <p:nvPr/>
        </p:nvSpPr>
        <p:spPr>
          <a:xfrm>
            <a:off x="304920" y="60958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рм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5105520" y="60958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вени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к_химический.mpg" descr=""/>
          <p:cNvPicPr/>
          <p:nvPr/>
        </p:nvPicPr>
        <p:blipFill>
          <a:blip r:embed="rId3"/>
          <a:stretch/>
        </p:blipFill>
        <p:spPr>
          <a:xfrm>
            <a:off x="3635280" y="3573360"/>
            <a:ext cx="2016360" cy="164952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10"/>
          <p:cNvSpPr/>
          <p:nvPr/>
        </p:nvSpPr>
        <p:spPr>
          <a:xfrm>
            <a:off x="3635280" y="53006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пиров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Взять на карандаш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09880" y="129528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одного большого дерева можно сделать 300000 карандаш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год производится   14 миллиардов карандаш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жон Стейнбек исписывал 60 карандашей в д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ква написанная карандашом весит 0,00033 грам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5" descr="забавные карандаши"/>
          <p:cNvPicPr/>
          <p:nvPr/>
        </p:nvPicPr>
        <p:blipFill>
          <a:blip r:embed="rId1"/>
          <a:stretch/>
        </p:blipFill>
        <p:spPr>
          <a:xfrm>
            <a:off x="0" y="838080"/>
            <a:ext cx="3862440" cy="548640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723920" y="609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ревянные карандаши, перешедшие вместе с нами в третье тысячелетие, еще долго будут служить детям и взрослым, людям разнообразных профессий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3" descr="23"/>
          <p:cNvPicPr/>
          <p:nvPr/>
        </p:nvPicPr>
        <p:blipFill>
          <a:blip r:embed="rId1"/>
          <a:stretch/>
        </p:blipFill>
        <p:spPr>
          <a:xfrm>
            <a:off x="457200" y="838080"/>
            <a:ext cx="3884760" cy="502920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я каранда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1125000"/>
            <a:ext cx="40384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евний 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2920" y="1125000"/>
            <a:ext cx="403884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ие 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40053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2920" y="4005360"/>
            <a:ext cx="403884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ейшее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71640" y="1628640"/>
            <a:ext cx="2950920" cy="2125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век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724360" y="1628640"/>
            <a:ext cx="1872000" cy="2305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свобода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187280" y="4508640"/>
            <a:ext cx="2519640" cy="2008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квадрат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651640" y="4508640"/>
            <a:ext cx="2001600" cy="206028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ревни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2920" y="1341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ервобытном обществе древний человек пользовался готовым природным материалом. Исследователи часто называют самым далеким предком карандаша головешку из кос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бизон"/>
          <p:cNvPicPr/>
          <p:nvPr/>
        </p:nvPicPr>
        <p:blipFill>
          <a:blip r:embed="rId1"/>
          <a:stretch/>
        </p:blipFill>
        <p:spPr>
          <a:xfrm>
            <a:off x="900000" y="4149720"/>
            <a:ext cx="3086280" cy="218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медведи"/>
          <p:cNvPicPr/>
          <p:nvPr/>
        </p:nvPicPr>
        <p:blipFill>
          <a:blip r:embed="rId2"/>
          <a:stretch/>
        </p:blipFill>
        <p:spPr>
          <a:xfrm>
            <a:off x="900000" y="1341360"/>
            <a:ext cx="2584440" cy="25560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ревни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Греции и Римской империи использовали палочки для письма, заостренные на одном конце и сплющенные на другом. Острым концом писали на дощечках, покрытых воском, а тупым – затирали написанное. Этот пишущий инструмент называют прообразом карандаш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>
            <a:hlinkClick r:id="rId1" action="ppaction://hlinksldjump"/>
          </p:cNvPr>
          <p:cNvSpPr/>
          <p:nvPr/>
        </p:nvSpPr>
        <p:spPr>
          <a:xfrm>
            <a:off x="0" y="609300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редние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2920" y="1412640"/>
            <a:ext cx="4038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I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дедушкой современного карандаша были свинцовые стерженьки – штиф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ились металлическ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андаш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особый футляр вставлялась тонкая проволока из метал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314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собор"/>
          <p:cNvPicPr/>
          <p:nvPr/>
        </p:nvPicPr>
        <p:blipFill>
          <a:blip r:embed="rId1"/>
          <a:stretch/>
        </p:blipFill>
        <p:spPr>
          <a:xfrm>
            <a:off x="395280" y="1844640"/>
            <a:ext cx="4105440" cy="39067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поха Возрож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716360" y="1557360"/>
            <a:ext cx="4245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V – XV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ились серебряные карандаш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ользоваться ими из-за дороговизны могли только аристократы и великие художники. Сохранилис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ебряные рисун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еонардо да Винчи, Дюрера, Ван Эйка, Боттичел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плод"/>
          <p:cNvPicPr/>
          <p:nvPr/>
        </p:nvPicPr>
        <p:blipFill>
          <a:blip r:embed="rId1"/>
          <a:stretch/>
        </p:blipFill>
        <p:spPr>
          <a:xfrm>
            <a:off x="179280" y="1700280"/>
            <a:ext cx="2293920" cy="316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история"/>
          <p:cNvPicPr/>
          <p:nvPr/>
        </p:nvPicPr>
        <p:blipFill>
          <a:blip r:embed="rId2"/>
          <a:stretch/>
        </p:blipFill>
        <p:spPr>
          <a:xfrm>
            <a:off x="2627280" y="2852640"/>
            <a:ext cx="2295720" cy="316728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6">
            <a:hlinkClick r:id="rId3" action="ppaction://hlinksldjump"/>
          </p:cNvPr>
          <p:cNvSpPr/>
          <p:nvPr/>
        </p:nvSpPr>
        <p:spPr>
          <a:xfrm>
            <a:off x="0" y="6165720"/>
            <a:ext cx="324000" cy="360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60360"/>
              <a:gd name="textAreaBottom" fmla="*/ 339480 h 360360"/>
            </a:gdLst>
            <a:ahLst/>
            <a:rect l="textAreaLeft" t="textAreaTop" r="textAreaRight" b="textAreaBottom"/>
            <a:pathLst>
              <a:path w="21600" h="24021">
                <a:moveTo>
                  <a:pt x="0" y="0"/>
                </a:moveTo>
                <a:lnTo>
                  <a:pt x="21600" y="0"/>
                </a:lnTo>
                <a:lnTo>
                  <a:pt x="21600" y="24021"/>
                </a:lnTo>
                <a:lnTo>
                  <a:pt x="0" y="24021"/>
                </a:lnTo>
                <a:close/>
              </a:path>
              <a:path fill="lightenLess" w="21600" h="240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21">
                <a:moveTo>
                  <a:pt x="21600" y="0"/>
                </a:moveTo>
                <a:lnTo>
                  <a:pt x="21600" y="24021"/>
                </a:lnTo>
                <a:lnTo>
                  <a:pt x="20200" y="22621"/>
                </a:lnTo>
                <a:lnTo>
                  <a:pt x="20200" y="1400"/>
                </a:lnTo>
                <a:close/>
              </a:path>
              <a:path fill="darkenLess" w="21600" h="24021">
                <a:moveTo>
                  <a:pt x="21600" y="24021"/>
                </a:moveTo>
                <a:lnTo>
                  <a:pt x="0" y="24021"/>
                </a:lnTo>
                <a:lnTo>
                  <a:pt x="1400" y="22621"/>
                </a:lnTo>
                <a:lnTo>
                  <a:pt x="20200" y="22621"/>
                </a:lnTo>
                <a:close/>
              </a:path>
              <a:path fill="lighten" w="21600" h="24021">
                <a:moveTo>
                  <a:pt x="0" y="240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21"/>
                </a:lnTo>
                <a:close/>
              </a:path>
              <a:path fill="darken" w="21600" h="24021">
                <a:moveTo>
                  <a:pt x="3794" y="12011"/>
                </a:moveTo>
                <a:lnTo>
                  <a:pt x="17806" y="5004"/>
                </a:lnTo>
                <a:lnTo>
                  <a:pt x="17806" y="1901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ое врем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58920" y="1413000"/>
            <a:ext cx="36831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V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ие залежей графита произошло в разных странах: в Англии в местности Камберленд, в итальянском княжестве Пьемонт, в немецкой Тюрингии, испанской Андалу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изготовление графитно-глиняной массы по рецептуре"/>
          <p:cNvPicPr/>
          <p:nvPr/>
        </p:nvPicPr>
        <p:blipFill>
          <a:blip r:embed="rId1"/>
          <a:stretch/>
        </p:blipFill>
        <p:spPr>
          <a:xfrm>
            <a:off x="684360" y="1916280"/>
            <a:ext cx="4032000" cy="26874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95280" y="5013360"/>
            <a:ext cx="720108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В это же время французы придумал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«парижский карандаш» – из белой глины и черной сажи, а также цветной мел – пас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0:11Z</dcterms:created>
  <dc:creator>sir</dc:creator>
  <dc:description/>
  <dc:language>en-US</dc:language>
  <cp:lastModifiedBy>LEGION</cp:lastModifiedBy>
  <dcterms:modified xsi:type="dcterms:W3CDTF">2015-03-31T08:00:52Z</dcterms:modified>
  <cp:revision>23</cp:revision>
  <dc:subject/>
  <dc:title>«Кара» + «таш»</dc:title>
</cp:coreProperties>
</file>