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suction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9261-C74B-40AE-BC0A-D42CEDAF264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создал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 Энгель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C1E3-751C-4A1D-A873-60E37373483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р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деятельность человека направленная на достижение определенных целей, на сохранение, видоизменение, приспособление среды обитания для удовлетворения своих потребностей, на производство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B609-FB3D-43B4-8A29-BF97C4F1C5D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вида безрабо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икционная – временная незаня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ая – появляется, когда спрос и предложение труда не совпад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ая – создается общим низким спросом на рабочую силу во вех отраслях, сферах и регион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667A-8587-453E-BD69-7B3F8C83008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вести мини исследование по проблеме отношения к тру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B75D-5FD2-49D0-B360-33F28B92117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8FF0-2972-4656-95D9-A636B9F1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C4B2-E350-489B-883A-77A83F62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5A34-4233-4274-8DBD-56CB4AD4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BAEC-7016-4B6F-B3C9-B3F6D945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B4EC-990E-4533-BEFE-E353C6EF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593A-565B-41D8-B022-F3420FFD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6CC1-01C6-4AF2-95BB-27FFDBDD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E287-FEAF-4F2A-B0F9-DB7D4C48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0CFD-5B0D-4B3D-9A65-3F64A8BC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1899-67E3-426B-A5B0-618A177D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1F67-82F3-4D01-BBA2-B1DD1B4A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8C3D-9803-473E-B784-B3DE0EE2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71AD-9E65-470E-93FD-6A559BA1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F0C3-6427-475D-923D-8B826300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25F1-8534-4928-8051-5B3FE7C4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5FCC-A98D-4EF3-B345-65671A40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1EF3-F0D0-469E-A0E8-8CFBBF26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FD28-51FA-4E8B-9A3B-459FDADD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5C67-A5D1-43B4-A5CB-91C74D31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9A15-A09B-4291-A7D6-11F2C844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6032-47BC-41E1-A59B-1499A9FE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C3B9-D616-4D36-9F87-A79E0D98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AB7D-0748-4FEC-9D79-B331FAAF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4BB4-665F-4DB6-BF46-7432DC04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9C49-7536-4842-8992-D7255AA6D2F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4334-A506-4513-B507-712A92B81FA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203640" y="3212640"/>
            <a:ext cx="5580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уд создал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. Энгель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1116000" y="189000"/>
            <a:ext cx="7559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Труд, занятость безработ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94" name="Picture 7" descr="50R4"/>
          <p:cNvPicPr/>
          <p:nvPr/>
        </p:nvPicPr>
        <p:blipFill>
          <a:blip r:embed="rId3"/>
          <a:stretch/>
        </p:blipFill>
        <p:spPr>
          <a:xfrm>
            <a:off x="4643280" y="4653000"/>
            <a:ext cx="1344600" cy="2205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56R5"/>
          <p:cNvPicPr/>
          <p:nvPr/>
        </p:nvPicPr>
        <p:blipFill>
          <a:blip r:embed="rId4"/>
          <a:stretch/>
        </p:blipFill>
        <p:spPr>
          <a:xfrm>
            <a:off x="0" y="1773360"/>
            <a:ext cx="2484360" cy="18000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297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Словарь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84360" y="1268280"/>
            <a:ext cx="643104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уд деятельность человека направленная на достижение определенных целей, на сохранение, видоизменение, приспособление среды обитания для удовлетворения своих потребностей, на производство товаров и услу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755640" y="2852640"/>
            <a:ext cx="2303640" cy="10080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Труд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356000" y="1197000"/>
            <a:ext cx="4248360" cy="12240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роизводительны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(создает товары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284720" y="4076640"/>
            <a:ext cx="4319640" cy="1297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Непроизводительны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(создает услуги)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7"/>
          <p:cNvSpPr/>
          <p:nvPr/>
        </p:nvSpPr>
        <p:spPr>
          <a:xfrm flipV="1">
            <a:off x="3059280" y="1773000"/>
            <a:ext cx="1225440" cy="1584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3059280" y="3357720"/>
            <a:ext cx="1152360" cy="1366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1835280" y="981000"/>
            <a:ext cx="590364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ежная фор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042920" y="4005360"/>
            <a:ext cx="2305080" cy="93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Работ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651640" y="3933720"/>
            <a:ext cx="3095640" cy="9352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ьг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3995640" y="4076640"/>
            <a:ext cx="1081080" cy="433440"/>
          </a:xfrm>
          <a:prstGeom prst="leftRightArrow">
            <a:avLst>
              <a:gd name="adj1" fmla="val 50000"/>
              <a:gd name="adj2" fmla="val 4965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8"/>
          <p:cNvSpPr/>
          <p:nvPr/>
        </p:nvSpPr>
        <p:spPr>
          <a:xfrm rot="5400000">
            <a:off x="3924000" y="2637000"/>
            <a:ext cx="1368360" cy="64764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1692360" y="620640"/>
            <a:ext cx="554508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Натуральная фор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95280" y="3284640"/>
            <a:ext cx="324000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Работ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5219640" y="3284640"/>
            <a:ext cx="338292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ь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50920" y="5229360"/>
            <a:ext cx="3168720" cy="9349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Услу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5148360" y="5157720"/>
            <a:ext cx="345600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ь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3995640" y="3429000"/>
            <a:ext cx="863640" cy="504720"/>
          </a:xfrm>
          <a:prstGeom prst="leftRightArrow">
            <a:avLst>
              <a:gd name="adj1" fmla="val 50000"/>
              <a:gd name="adj2" fmla="val 34064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utoShape 11"/>
          <p:cNvSpPr/>
          <p:nvPr/>
        </p:nvSpPr>
        <p:spPr>
          <a:xfrm>
            <a:off x="3851280" y="5516640"/>
            <a:ext cx="1008000" cy="433440"/>
          </a:xfrm>
          <a:prstGeom prst="leftRightArrow">
            <a:avLst>
              <a:gd name="adj1" fmla="val 50000"/>
              <a:gd name="adj2" fmla="val 462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12"/>
          <p:cNvSpPr/>
          <p:nvPr/>
        </p:nvSpPr>
        <p:spPr>
          <a:xfrm rot="5400000">
            <a:off x="3924000" y="2060640"/>
            <a:ext cx="1152360" cy="43164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1908000" y="476280"/>
            <a:ext cx="5329440" cy="1079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Заработная пла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24000" y="2565360"/>
            <a:ext cx="3240000" cy="10080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Оклад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(за часы работы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95280" y="4221000"/>
            <a:ext cx="309708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овременная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788000" y="2492280"/>
            <a:ext cx="4140000" cy="9352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плата за изготовленно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количество продук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5003640" y="4221000"/>
            <a:ext cx="388944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Сдельна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2050560" y="1557360"/>
            <a:ext cx="201636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4067280" y="1557360"/>
            <a:ext cx="237636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1692360" y="3573360"/>
            <a:ext cx="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6804000" y="3429000"/>
            <a:ext cx="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95280" y="620640"/>
            <a:ext cx="3240000" cy="792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ИЩЕТ РАБО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076720" y="620640"/>
            <a:ext cx="367200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НЕ ИМЕЕТ РАБО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2268360" y="2421000"/>
            <a:ext cx="460872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БЕЗРАБОТН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95280" y="4221000"/>
            <a:ext cx="3313080" cy="1944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ХОЧЕТ НАЙТ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РАБО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788000" y="4221000"/>
            <a:ext cx="3887640" cy="1944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Зарегистриров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в государствен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органах занятост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насел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4572000" y="1557000"/>
            <a:ext cx="2376360" cy="8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10"/>
          <p:cNvSpPr/>
          <p:nvPr/>
        </p:nvSpPr>
        <p:spPr>
          <a:xfrm flipH="1" flipV="1">
            <a:off x="1763280" y="1484280"/>
            <a:ext cx="2808360" cy="936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1"/>
          <p:cNvSpPr/>
          <p:nvPr/>
        </p:nvSpPr>
        <p:spPr>
          <a:xfrm flipH="1">
            <a:off x="2050920" y="3284640"/>
            <a:ext cx="2376720" cy="93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4427640" y="3284640"/>
            <a:ext cx="1944720" cy="93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Три вида безработицы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рикционная – временная незанят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уктурная – появляется, когда спрос и предложение труда не совпадаю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иклическая – создается общим низким спросом на рабочую силу во вех отраслях, сферах и регион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Домашнее задание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читать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вести мини исследование по проблеме отношения к тру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" name="suctio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9:49:37Z</dcterms:created>
  <dc:creator>1</dc:creator>
  <dc:description/>
  <dc:language>en-US</dc:language>
  <cp:lastModifiedBy>LEGION</cp:lastModifiedBy>
  <dcterms:modified xsi:type="dcterms:W3CDTF">2014-11-10T11:59:27Z</dcterms:modified>
  <cp:revision>5</cp:revision>
  <dc:subject/>
  <dc:title>Слайд 1</dc:title>
</cp:coreProperties>
</file>