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suction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898F-5A2C-4E31-A72C-3D739D36C1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создал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 Энге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808C-6276-49C0-B41B-32A0722C948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A067-D9F8-4E27-9D36-DF919455D7B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 – временная незаня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– появляется, когда спрос и предложение труда не совпад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F0A6-58E3-4C38-AA84-242213B83BF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вести мини исследование по проблеме отношения к тр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6970-B6DD-49A2-8DB1-C3228DD47BD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A9B-F9F9-4749-820C-018C540F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06D-535F-41F7-A100-09C4817E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17F-5AAE-480B-9A6C-505F6B5A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159-2B10-4264-A0E3-7864D2A0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31CC-5CE1-4712-942B-459121B9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DC1E-C8A4-4690-800E-08B14B67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9678-9A10-42C8-B984-EEE6BA00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D99C-DA7E-4B8A-9B18-2AFF6CED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BD25-A2E7-4474-B089-AE02227F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81EC-3B4C-4C95-9616-B49F3CBB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F91E-4792-4F4F-8C21-A528BFCF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57E-09FF-4C0E-82C0-21E6B555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86B3-524A-4D35-AFD7-55F7EC90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3E1D-5BDC-450D-A037-5CE17712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5DBD-C2CE-4BF9-AD44-9148FC53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90E3-11AE-4AF0-B05D-221782D6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04C0-8805-41A4-9A81-87C9B086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AAD-DAC4-4F0D-B8F1-FDD7035F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537-BA76-44BE-91D5-C0C8825D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155-BBDF-4672-9162-FDDC1284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ABC-141F-4AF3-A36A-5257CEF5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643-4893-44BE-A8DB-8D14E7DC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E36-64CD-4395-9951-030688B8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71A-C6B9-4E82-AAD8-E4F5D196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59B5-A04E-44D8-A407-4DECA25D0C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D784-5EB8-463F-941E-EA24EF9EC8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203640" y="3212640"/>
            <a:ext cx="5580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уд создал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. Энг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116000" y="189000"/>
            <a:ext cx="7559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Труд, занятость безработ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94" name="Picture 7" descr="50R4"/>
          <p:cNvPicPr/>
          <p:nvPr/>
        </p:nvPicPr>
        <p:blipFill>
          <a:blip r:embed="rId3"/>
          <a:stretch/>
        </p:blipFill>
        <p:spPr>
          <a:xfrm>
            <a:off x="4643280" y="4653000"/>
            <a:ext cx="1344600" cy="220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56R5"/>
          <p:cNvPicPr/>
          <p:nvPr/>
        </p:nvPicPr>
        <p:blipFill>
          <a:blip r:embed="rId4"/>
          <a:stretch/>
        </p:blipFill>
        <p:spPr>
          <a:xfrm>
            <a:off x="0" y="1773360"/>
            <a:ext cx="2484360" cy="180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297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ловарь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84360" y="1268280"/>
            <a:ext cx="643104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755640" y="2852640"/>
            <a:ext cx="230364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Труд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356000" y="1197000"/>
            <a:ext cx="4248360" cy="1224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товар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284720" y="4076640"/>
            <a:ext cx="4319640" cy="1297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е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услуги)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3059280" y="1773000"/>
            <a:ext cx="1225440" cy="158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059280" y="3357720"/>
            <a:ext cx="1152360" cy="1366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835280" y="981000"/>
            <a:ext cx="59036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еж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042920" y="4005360"/>
            <a:ext cx="2305080" cy="93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651640" y="3933720"/>
            <a:ext cx="309564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995640" y="4076640"/>
            <a:ext cx="1081080" cy="433440"/>
          </a:xfrm>
          <a:prstGeom prst="leftRightArrow">
            <a:avLst>
              <a:gd name="adj1" fmla="val 50000"/>
              <a:gd name="adj2" fmla="val 4965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 rot="5400000">
            <a:off x="3924000" y="2637000"/>
            <a:ext cx="1368360" cy="64764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692360" y="620640"/>
            <a:ext cx="554508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тураль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95280" y="3284640"/>
            <a:ext cx="3240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219640" y="3284640"/>
            <a:ext cx="33829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50920" y="5229360"/>
            <a:ext cx="3168720" cy="9349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Услу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148360" y="5157720"/>
            <a:ext cx="345600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3995640" y="3429000"/>
            <a:ext cx="863640" cy="504720"/>
          </a:xfrm>
          <a:prstGeom prst="leftRightArrow">
            <a:avLst>
              <a:gd name="adj1" fmla="val 50000"/>
              <a:gd name="adj2" fmla="val 34064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3851280" y="5516640"/>
            <a:ext cx="1008000" cy="433440"/>
          </a:xfrm>
          <a:prstGeom prst="leftRightArrow">
            <a:avLst>
              <a:gd name="adj1" fmla="val 50000"/>
              <a:gd name="adj2" fmla="val 462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12"/>
          <p:cNvSpPr/>
          <p:nvPr/>
        </p:nvSpPr>
        <p:spPr>
          <a:xfrm rot="5400000">
            <a:off x="3924000" y="2060640"/>
            <a:ext cx="1152360" cy="4316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908000" y="476280"/>
            <a:ext cx="5329440" cy="1079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Заработная пла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4000" y="2565360"/>
            <a:ext cx="324000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Окла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за часы работ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4221000"/>
            <a:ext cx="309708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овременная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88000" y="2492280"/>
            <a:ext cx="414000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плата за изготовленно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количество продук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03640" y="4221000"/>
            <a:ext cx="38894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дельна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2050560" y="1557360"/>
            <a:ext cx="2016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067280" y="1557360"/>
            <a:ext cx="2376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1692360" y="3573360"/>
            <a:ext cx="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6804000" y="342900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95280" y="620640"/>
            <a:ext cx="3240000" cy="792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ИЩЕТ 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076720" y="620640"/>
            <a:ext cx="3672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Е ИМЕЕТ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268360" y="2421000"/>
            <a:ext cx="46087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БЕЗРАБОТ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5280" y="4221000"/>
            <a:ext cx="331308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ХОЧЕТ НАЙ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788000" y="4221000"/>
            <a:ext cx="388764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Зарегистриров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 государствен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рганах занято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асе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4572000" y="1557000"/>
            <a:ext cx="237636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0"/>
          <p:cNvSpPr/>
          <p:nvPr/>
        </p:nvSpPr>
        <p:spPr>
          <a:xfrm flipH="1" flipV="1">
            <a:off x="1763280" y="1484280"/>
            <a:ext cx="280836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1"/>
          <p:cNvSpPr/>
          <p:nvPr/>
        </p:nvSpPr>
        <p:spPr>
          <a:xfrm flipH="1">
            <a:off x="2050920" y="3284640"/>
            <a:ext cx="2376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4427640" y="3284640"/>
            <a:ext cx="1944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Три вида безработиц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икционная – временная незанят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ктурная – появляется, когда спрос и предложение труда не совпада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Домашнее зада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вести мини исследование по проблеме отношения к тр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9:49:37Z</dcterms:created>
  <dc:creator>1</dc:creator>
  <dc:description/>
  <dc:language>en-US</dc:language>
  <cp:lastModifiedBy>LEGION</cp:lastModifiedBy>
  <dcterms:modified xsi:type="dcterms:W3CDTF">2014-11-10T11:59:27Z</dcterms:modified>
  <cp:revision>5</cp:revision>
  <dc:subject/>
  <dc:title>Слайд 1</dc:title>
</cp:coreProperties>
</file>