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suction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26C3-758B-4193-B025-D483E7642F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создал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Энге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5C3-3EA6-4EEF-9E60-8102784925E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2E1E-8BE8-4EAF-90C7-AB28D4F986B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 – временная незаня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– появляется, когда спрос и предложение труда не совпад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C48F-CD54-42C1-AAE8-21B33F2F3F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мини исследование по проблеме отношения к тр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C8C-2F3D-4B59-AC63-2C7AAEB1B80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372-CB5E-44F2-8603-D0E383E3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99D-6C20-46C8-AD32-E3189BBD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B0F-2F15-4F84-B5EF-285058EC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2AC-BAB5-4D6C-9126-87BC166C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5895-FBDD-41ED-80F6-0BD1736E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6576-79D0-4E07-B527-48AA745F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4C0-DE08-4CBA-9DD2-5E12A904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6B98-8C71-457D-B893-FBE653E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3A42-4FF8-4F8E-A4BF-D706702F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4D8B-7FC1-41D3-AC8E-7C3BBEC7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D27B-15EB-42B3-ACE5-EA50D20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AE3-4E2C-4BEB-8FBB-DD27C3C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63D-EB46-4FB2-A25F-AA1AAC43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C0EE-CF04-45B8-AD58-AD1179D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36F6-535E-4818-A607-76CE898F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3EB-0DBB-4ADC-BDDB-D4712CB5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50B4-74BB-42B7-B946-64E4810E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5447-DCCF-48C4-9519-1144DF66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0DB-0A86-4F13-BF4A-81CEEE9B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715-3E86-46D1-B75F-065920F6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DCA-BF5C-4B63-8B8A-AE27061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AE6-53F4-4613-B929-213F88C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6B0-D84A-4EA0-9A98-758436E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CEB-A959-49C4-84CE-FF33E75F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7078-67D4-49FC-A176-A91B415BD49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0B5B-2B76-4E95-85F0-0FDDB35E20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203640" y="3212640"/>
            <a:ext cx="5580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 создал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. Энг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116000" y="189000"/>
            <a:ext cx="7559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Труд, занятость безработиц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94" name="Picture 7" descr="50R4"/>
          <p:cNvPicPr/>
          <p:nvPr/>
        </p:nvPicPr>
        <p:blipFill>
          <a:blip r:embed="rId3"/>
          <a:stretch/>
        </p:blipFill>
        <p:spPr>
          <a:xfrm>
            <a:off x="4643280" y="4653000"/>
            <a:ext cx="1344600" cy="22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56R5"/>
          <p:cNvPicPr/>
          <p:nvPr/>
        </p:nvPicPr>
        <p:blipFill>
          <a:blip r:embed="rId4"/>
          <a:stretch/>
        </p:blipFill>
        <p:spPr>
          <a:xfrm>
            <a:off x="0" y="1773360"/>
            <a:ext cx="2484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297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ловарь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84360" y="1268280"/>
            <a:ext cx="643104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д деятельность человека направленная на достижение определенных целей, на сохранение, видоизменение, приспособление среды обитания для удовлетворения своих потребностей, на производство товаров и усл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755640" y="2852640"/>
            <a:ext cx="230364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руд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356000" y="1197000"/>
            <a:ext cx="4248360" cy="1224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товар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284720" y="4076640"/>
            <a:ext cx="4319640" cy="1297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епроизводительны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создает услуги)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3059280" y="1773000"/>
            <a:ext cx="122544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059280" y="3357720"/>
            <a:ext cx="1152360" cy="1366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835280" y="981000"/>
            <a:ext cx="59036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еж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042920" y="4005360"/>
            <a:ext cx="2305080" cy="936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651640" y="3933720"/>
            <a:ext cx="309564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995640" y="4076640"/>
            <a:ext cx="1081080" cy="433440"/>
          </a:xfrm>
          <a:prstGeom prst="leftRightArrow">
            <a:avLst>
              <a:gd name="adj1" fmla="val 50000"/>
              <a:gd name="adj2" fmla="val 4965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 rot="5400000">
            <a:off x="3924000" y="2637000"/>
            <a:ext cx="1368360" cy="64764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692360" y="620640"/>
            <a:ext cx="554508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туральная фор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95280" y="3284640"/>
            <a:ext cx="3240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219640" y="3284640"/>
            <a:ext cx="33829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5229360"/>
            <a:ext cx="3168720" cy="9349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слу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148360" y="5157720"/>
            <a:ext cx="345600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Деньг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10"/>
          <p:cNvSpPr/>
          <p:nvPr/>
        </p:nvSpPr>
        <p:spPr>
          <a:xfrm>
            <a:off x="3995640" y="3429000"/>
            <a:ext cx="863640" cy="504720"/>
          </a:xfrm>
          <a:prstGeom prst="leftRightArrow">
            <a:avLst>
              <a:gd name="adj1" fmla="val 50000"/>
              <a:gd name="adj2" fmla="val 34064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1"/>
          <p:cNvSpPr/>
          <p:nvPr/>
        </p:nvSpPr>
        <p:spPr>
          <a:xfrm>
            <a:off x="3851280" y="5516640"/>
            <a:ext cx="1008000" cy="433440"/>
          </a:xfrm>
          <a:prstGeom prst="leftRightArrow">
            <a:avLst>
              <a:gd name="adj1" fmla="val 50000"/>
              <a:gd name="adj2" fmla="val 462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 rot="5400000">
            <a:off x="3924000" y="2060640"/>
            <a:ext cx="1152360" cy="43164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908000" y="476280"/>
            <a:ext cx="5329440" cy="1079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работная пла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24000" y="2565360"/>
            <a:ext cx="3240000" cy="100800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Окла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(за часы работ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4221000"/>
            <a:ext cx="309708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овременная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88000" y="2492280"/>
            <a:ext cx="4140000" cy="9352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плата за изготовленно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количество продук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5003640" y="4221000"/>
            <a:ext cx="3889440" cy="936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дельна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2050560" y="1557360"/>
            <a:ext cx="2016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067280" y="1557360"/>
            <a:ext cx="2376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1692360" y="3573360"/>
            <a:ext cx="0" cy="57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620640"/>
            <a:ext cx="3240000" cy="79236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ЩЕТ 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6720" y="620640"/>
            <a:ext cx="367200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Е ИМЕЕТ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268360" y="2421000"/>
            <a:ext cx="4608720" cy="863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БЕЗРАБОТ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95280" y="4221000"/>
            <a:ext cx="331308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ХОЧЕТ НАЙ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Б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788000" y="4221000"/>
            <a:ext cx="3887640" cy="194472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регистриров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в государственны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органах занято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сел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572000" y="1557000"/>
            <a:ext cx="237636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10"/>
          <p:cNvSpPr/>
          <p:nvPr/>
        </p:nvSpPr>
        <p:spPr>
          <a:xfrm flipH="1" flipV="1">
            <a:off x="1763280" y="1484280"/>
            <a:ext cx="280836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 flipH="1">
            <a:off x="2050920" y="3284640"/>
            <a:ext cx="2376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4427640" y="3284640"/>
            <a:ext cx="1944720" cy="936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Три вида безработиц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рикционная – временная незаня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ктурная – появляется, когда спрос и предложение труда не совпадаю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иклическая – создается общим низким спросом на рабочую силу во вех отраслях, сферах и регион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Домашнее зада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вести мини исследование по проблеме отношения к тр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9:49:37Z</dcterms:created>
  <dc:creator>1</dc:creator>
  <dc:description/>
  <dc:language>en-US</dc:language>
  <cp:lastModifiedBy>LEGION</cp:lastModifiedBy>
  <dcterms:modified xsi:type="dcterms:W3CDTF">2014-11-10T11:59:27Z</dcterms:modified>
  <cp:revision>5</cp:revision>
  <dc:subject/>
  <dc:title>Слайд 1</dc:title>
</cp:coreProperties>
</file>