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791B-C895-4239-ABA5-8C3E7B152DF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16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Выполне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99"/>
                </a:solidFill>
                <a:latin typeface="Calibri"/>
              </a:rPr>
              <a:t>Курепнёвой Юл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AF33-2017-4228-875E-AE7021206C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B80-BACF-485E-8316-321EC5FBCB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ась материалами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нтерне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7DDA-1814-4B2C-9167-A3331239A65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32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32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5F1-9E07-4461-94EA-A5622454CD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6282-4F59-4331-B735-5B7090F78DE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D541-5824-40E0-828D-57966D7DA8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4F00-1900-4965-A438-7EB31D2922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A9D1-3B73-4653-A8D6-159FA1B0DB4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японском са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B62-0CB0-43F0-9F2C-E267EB48AB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21AD-F391-4996-B2E6-97F093FF585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12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2758-E6B1-4523-9A64-E02E419788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CD5-FCBF-4A84-9DEC-A5009B96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6E3-92AC-4966-B438-2C213B35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E79-F19D-4925-BA0E-114A532F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2643-150E-46F8-BB9D-B7482B27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D90E-303E-43C6-BE89-46FFB43F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B133-2F87-4399-999C-7B52D356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4433-4D59-4B3C-876C-616C0216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EE77-8003-40AD-8B99-996C5DE3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34A9-9AB7-4FCD-B0C2-AAEE3D34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B26B-FD48-46C6-ACA6-94DC2990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950F-C857-4651-A87C-DA559E8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1CA-163E-4DB8-8A3B-EF1D78D9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DDC7-650D-464E-A787-0F468680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17E-B6BF-47F6-AEBC-9B7CDA94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1AA9-A4EE-4671-A0E4-50958CAF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D2A1-6887-4C5B-8CC0-50120BF9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CF55-94CE-4C79-90FE-78EAAB0E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0F4-16D8-4FE6-9A5F-CC6113AB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12A-7334-4260-B92A-8C378595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927-60E9-43EF-B68E-74482477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DC2-EDDA-4883-A54F-3637AA39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843-10F5-48C0-ABC8-67982081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A2B-E789-4319-9D2A-4C8CA78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E49-4FB9-4A0E-BB9C-7B7A94F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6D58-5D12-4FAC-8DAD-75DB92E3ADA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6AB-A235-4094-8E21-1056B5EFE9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0" descr="post-591-1245698642_thumb"/>
          <p:cNvPicPr/>
          <p:nvPr/>
        </p:nvPicPr>
        <p:blipFill>
          <a:blip r:embed="rId1"/>
          <a:stretch/>
        </p:blipFill>
        <p:spPr>
          <a:xfrm>
            <a:off x="0" y="-38160"/>
            <a:ext cx="9252000" cy="6896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3399"/>
                </a:solidFill>
                <a:latin typeface="Monotype Corsiva"/>
              </a:rPr>
              <a:t>Ландшафтный</a:t>
            </a:r>
            <a:r>
              <a:rPr b="0" i="1" lang="ru-RU" sz="4000" spc="-1" strike="noStrike">
                <a:solidFill>
                  <a:srgbClr val="ff3399"/>
                </a:solidFill>
                <a:latin typeface="Monotype Corsiva"/>
              </a:rPr>
              <a:t> дизайн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4984560"/>
            <a:ext cx="4259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Выполне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99"/>
                </a:solidFill>
                <a:latin typeface="Tahoma"/>
              </a:rPr>
              <a:t>Курепнёвой Юли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Дизайнерские</a:t>
            </a:r>
            <a:r>
              <a:rPr b="0" lang="ru-RU" sz="54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шени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12" descr="0_39f_167ad173_XL"/>
          <p:cNvPicPr/>
          <p:nvPr/>
        </p:nvPicPr>
        <p:blipFill>
          <a:blip r:embed="rId1"/>
          <a:stretch/>
        </p:blipFill>
        <p:spPr>
          <a:xfrm>
            <a:off x="179280" y="1916280"/>
            <a:ext cx="4319640" cy="4752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curb-appeal-fall_house-e1286394205512"/>
          <p:cNvPicPr/>
          <p:nvPr/>
        </p:nvPicPr>
        <p:blipFill>
          <a:blip r:embed="rId2"/>
          <a:stretch/>
        </p:blipFill>
        <p:spPr>
          <a:xfrm>
            <a:off x="4643280" y="1557360"/>
            <a:ext cx="4500720" cy="45356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44080"/>
            <a:ext cx="8496000" cy="23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Использованные материалы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0071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ьзовалась материалам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терн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137(1)"/>
          <p:cNvPicPr/>
          <p:nvPr/>
        </p:nvPicPr>
        <p:blipFill>
          <a:blip r:embed="rId1"/>
          <a:stretch/>
        </p:blipFill>
        <p:spPr>
          <a:xfrm>
            <a:off x="1763640" y="2781360"/>
            <a:ext cx="5832720" cy="36208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Ландшафтный дизайн</a:t>
            </a:r>
            <a:r>
              <a:rPr b="1" i="1" lang="ru-RU" sz="6000" spc="-1" strike="noStrike">
                <a:solidFill>
                  <a:srgbClr val="336600"/>
                </a:solidFill>
                <a:latin typeface="Monotype Corsiva"/>
              </a:rPr>
              <a:t> </a:t>
            </a:r>
            <a:r>
              <a:rPr b="1" i="1" lang="ru-RU" sz="6000" spc="-1" strike="noStrike">
                <a:solidFill>
                  <a:srgbClr val="ff3399"/>
                </a:solidFill>
                <a:latin typeface="Monotype Corsiva"/>
              </a:rPr>
              <a:t>- 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одновременно и искусство и работа по озеленению и благоустройству территории включающее в себя проектирование и создание садово-парковых насаждений, газонов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9" descr="6175"/>
          <p:cNvPicPr/>
          <p:nvPr/>
        </p:nvPicPr>
        <p:blipFill>
          <a:blip r:embed="rId1"/>
          <a:stretch/>
        </p:blipFill>
        <p:spPr>
          <a:xfrm>
            <a:off x="5219640" y="371628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landscape6"/>
          <p:cNvPicPr/>
          <p:nvPr/>
        </p:nvPicPr>
        <p:blipFill>
          <a:blip r:embed="rId2"/>
          <a:stretch/>
        </p:blipFill>
        <p:spPr>
          <a:xfrm>
            <a:off x="108000" y="3448080"/>
            <a:ext cx="4824360" cy="32241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507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3399"/>
                </a:solidFill>
                <a:latin typeface="Monotype Corsiva"/>
              </a:rPr>
              <a:t>Стили ландшафтного дизайна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Picture 4" descr="13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5229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Регулярный стиль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364000" y="177336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сад имеет ярко выраженную основную ось композиции — стержень всего распланированного пространства, расположение элементов и конструкций подчинено строгой геометрии и симметри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100"/>
          <p:cNvPicPr/>
          <p:nvPr/>
        </p:nvPicPr>
        <p:blipFill>
          <a:blip r:embed="rId1"/>
          <a:stretch/>
        </p:blipFill>
        <p:spPr>
          <a:xfrm>
            <a:off x="179280" y="1798560"/>
            <a:ext cx="496908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Английский (пейзажный) сад</a:t>
            </a:r>
            <a:br>
              <a:rPr sz="4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08000" y="2060640"/>
            <a:ext cx="4535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лагает естественность в размещении элементов и большую плавность линий, имитируя природный ландшафт: извилистые дорожки, живописные водоемы, "натуральные" композиции из растений, которые высаживаются ярусами (деревья, кустарники, подлесок, цветы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landscape"/>
          <p:cNvPicPr/>
          <p:nvPr/>
        </p:nvPicPr>
        <p:blipFill>
          <a:blip r:embed="rId1"/>
          <a:stretch/>
        </p:blipFill>
        <p:spPr>
          <a:xfrm>
            <a:off x="395280" y="2060640"/>
            <a:ext cx="4321080" cy="45576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Китайский сад</a:t>
            </a:r>
            <a:br>
              <a:rPr sz="6000"/>
            </a:b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9183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, прежде всего пейзажный сад, где отдельные архитектурные формы несут символическое значение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стройство ландшафта китайского сада подчинено законам фэн-шуй – законам гармонии и баланс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438b1b7b7b4e"/>
          <p:cNvPicPr/>
          <p:nvPr/>
        </p:nvPicPr>
        <p:blipFill>
          <a:blip r:embed="rId1"/>
          <a:stretch/>
        </p:blipFill>
        <p:spPr>
          <a:xfrm>
            <a:off x="250920" y="3500280"/>
            <a:ext cx="4174920" cy="312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yapon"/>
          <p:cNvPicPr/>
          <p:nvPr/>
        </p:nvPicPr>
        <p:blipFill>
          <a:blip r:embed="rId2"/>
          <a:stretch/>
        </p:blipFill>
        <p:spPr>
          <a:xfrm>
            <a:off x="4356000" y="2852640"/>
            <a:ext cx="4608720" cy="3384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99"/>
                </a:solidFill>
                <a:latin typeface="Monotype Corsiva"/>
              </a:rPr>
              <a:t>Японский стиль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64000" y="1557000"/>
            <a:ext cx="378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японском сад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ограниченном пространстве создается модель мира; она представляет собой уменьшенную копию пейзажа. Основными элементами таких садов являются небольшие озера с арочными мостиками, павильоны с черепичными крышами, композиции из натуральных камн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3" descr="0_1c92b_e702ed24_XL"/>
          <p:cNvPicPr/>
          <p:nvPr/>
        </p:nvPicPr>
        <p:blipFill>
          <a:blip r:embed="rId1"/>
          <a:stretch/>
        </p:blipFill>
        <p:spPr>
          <a:xfrm>
            <a:off x="179280" y="9079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0c0d61b4f588"/>
          <p:cNvPicPr/>
          <p:nvPr/>
        </p:nvPicPr>
        <p:blipFill>
          <a:blip r:embed="rId2"/>
          <a:stretch/>
        </p:blipFill>
        <p:spPr>
          <a:xfrm>
            <a:off x="324000" y="3260880"/>
            <a:ext cx="5292720" cy="3597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Стиль кантр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89200" y="162828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брал в себя яркие пятна цветников, заброшенную скамейку в старом фруктовом саду, душистые заросли сирени и жасмина, залитые солнцем зеленые лужайки - в общем, все то, что дарит нашей душе ощущение радости и безмятежности и так привлекает в загородной жизни. Именно это направление ландшафтного дизайна наиболее близко менталитету и наиболее приемлемо для большинства наших отечественных садовод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3" descr="17"/>
          <p:cNvPicPr/>
          <p:nvPr/>
        </p:nvPicPr>
        <p:blipFill>
          <a:blip r:embed="rId1"/>
          <a:stretch/>
        </p:blipFill>
        <p:spPr>
          <a:xfrm>
            <a:off x="468360" y="3284640"/>
            <a:ext cx="4537080" cy="333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0a1aaaaaa"/>
          <p:cNvPicPr/>
          <p:nvPr/>
        </p:nvPicPr>
        <p:blipFill>
          <a:blip r:embed="rId2"/>
          <a:stretch/>
        </p:blipFill>
        <p:spPr>
          <a:xfrm>
            <a:off x="179280" y="1413000"/>
            <a:ext cx="3348000" cy="237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Немного</a:t>
            </a:r>
            <a:r>
              <a:rPr b="0" lang="ru-RU" sz="6000" spc="-1" strike="noStrike">
                <a:solidFill>
                  <a:srgbClr val="ff3399"/>
                </a:solidFill>
                <a:latin typeface="Monotype Corsiva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Monotype Corsiva"/>
              </a:rPr>
              <a:t>фантазии…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10" descr="34"/>
          <p:cNvPicPr/>
          <p:nvPr/>
        </p:nvPicPr>
        <p:blipFill>
          <a:blip r:embed="rId1"/>
          <a:stretch/>
        </p:blipFill>
        <p:spPr>
          <a:xfrm>
            <a:off x="250920" y="1700280"/>
            <a:ext cx="3809880" cy="380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u_846864626"/>
          <p:cNvPicPr/>
          <p:nvPr/>
        </p:nvPicPr>
        <p:blipFill>
          <a:blip r:embed="rId2"/>
          <a:stretch/>
        </p:blipFill>
        <p:spPr>
          <a:xfrm>
            <a:off x="2987640" y="3284640"/>
            <a:ext cx="3456000" cy="3362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59268377_9e2bc17d30de"/>
          <p:cNvPicPr/>
          <p:nvPr/>
        </p:nvPicPr>
        <p:blipFill>
          <a:blip r:embed="rId3"/>
          <a:stretch/>
        </p:blipFill>
        <p:spPr>
          <a:xfrm>
            <a:off x="5076720" y="1341360"/>
            <a:ext cx="3905280" cy="2924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5:55:10Z</dcterms:created>
  <dc:creator>User</dc:creator>
  <dc:description/>
  <dc:language>en-US</dc:language>
  <cp:lastModifiedBy>LEGION</cp:lastModifiedBy>
  <dcterms:modified xsi:type="dcterms:W3CDTF">2015-03-31T08:15:58Z</dcterms:modified>
  <cp:revision>36</cp:revision>
  <dc:subject/>
  <dc:title>Слайд 1</dc:title>
</cp:coreProperties>
</file>