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A620A-BB44-42CD-AD82-E2526BD80AE8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ernard MT Condensed"/>
              </a:rPr>
              <a:t>Содержание обучения общеобразовательной области «Технология»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142E7-0141-4AEC-8335-CD2359463662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Элективные учебные предметы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язательные учебные предметы по выбору обучающихся из компонента образовательного учрежд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Функции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элективных учебных предмето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надстройка» профильного учебного предмета, когда  дополненный профильный учебный предмет становится углубленны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вивают содержание одного из базовых учебных предметов, что позволяет получить дополнительную подготовку для сдачи единого государственного экзамена по выбранному учебному предмету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собствует удовлетворению познавательных интересов обучающихся в различных сферах деятельности челове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едставленные ниже варианты учебных планов отдельных </a:t>
            </a: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профилей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являютс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примерными и имеют рекомендательный характе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5A0FF-A097-4094-987B-DBAD8CB0AD80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Black"/>
              </a:rPr>
              <a:t>Характеристика содержания образовательной области «Технология»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 целью учета интересов и склонностей учащихся, возможностей образовательных учреждений, местных социально-экономических условий обязательный минимум содержания основных образовательных программ изучается в рамках одного из 3 направлений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Технология. Технический труд»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Технология. Обслуживающий труд»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Технология. Сельскохозяйственный труд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Базовым для направления «Технология. Технический труд»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является раздел «Создание изделий из конструкционных и поделочных материалов»,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ля направления «Технология. Обслуживающий труд»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разделы «Создание изделий из текстильных и поделочных материалов», «Кулинария»,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ля направления «Технология. Сельскохозяйственный труд»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разделы «Растениеводство», «Животноводство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аждое из трёх направлений технологической подготовки обязательно включает в себя, кроме того, следующие разделы: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«Электротехнические работы», «Технологии ведения дома», «Современное производство и профессиональное образование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D7ABA-5632-4DD3-9D20-28F59A79CADF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Изучение технологии на ступени основного общего образования направлено на достижение следующих целей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своение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ехнологических знаний, технологической культуры на основе включения учащихся в разнообразные виды технологической деятельности по созданию личностно или общественно значимых продуктов труд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владение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бщетрудовыми и специальными умениями, необходимыми для поиска и использования технологической информации, проектирования и создания продуктов труда, ведения домашнего хозяйства, самостоятельного и осознанного определения своих жизненных и профессиональных планов; овладение безопасными приёмами труд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азвитие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знавательных интересов, технического мышления, пространственного воображения, интеллектуальных, творческих, коммуникативных и организаторских способносте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оспитание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рудолюбия, бережливости, аккуратности, целеустремлённости, ответственности за результаты своей деятельн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олучение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пыта применения политехнических и технологических знаний и умений в самостоятельной практической деятель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8C9A0-3A3B-4985-9CFC-6BC76B69E9FE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одержание обучения в общеобразовательной области «Технология» включает в себя следующие основные модул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ехнологии обработки конструкционных материал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ехнологии обработки текстильных материал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ехнологии ремонтно-строительных работ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ехнологии обработки пищевых продукт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ехнологии получения сельскохозяйственной продукц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ехнологии переработки и хранения сельскохозяйственной продукц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ехнологии преобразования и использования энерг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ехника и технологическое оборудование (элементы машиноведения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ехнологии получения, преобразования и использования знаковой и графической информац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ультура дом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1A415-178A-4812-A099-C723FF704AE4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бучение учащихся в образовательной области «Технология» строится на основе конкретных технологических процессов, представленных в основных модуля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езависимо от содержания основного модуля должно предусматриваться изучение </a:t>
            </a: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сквозных образовательных линий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ультура и эстетика труд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учение, обработка, хранение и использование информац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ы черчения и график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ементы прикладной экономики и предпринимательств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 профессий, средства и методы формирования жизненных, профессиональных план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удожественно-прикладная обработка материал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ворческая проектная деятельност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лияние технологических процессов на окружающую среду и здоровье челове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рия и социальные последствия развития технологии и техни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75EB3-D71A-4AD7-8ACE-0752877DC6E9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уктура обучения «Технологии»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состоит из четырех блоков, которые скомпонованы из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одулей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А модули базируются на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онкретных технологических процессах и пронизаны сквозными образовательными линия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16F62-853F-47B3-8450-AA57FDC40470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учетом психо-физического, интеллектуального развития учащихся выделяют 4 основных смысловых блока содержания технологи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иод обучения в начальной школе (1-4 классы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торой блок относят к подростковому возрасту (5-8 классы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етий – к ранней юности (9 класс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твертый – к юности (10-11 класс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труктуре первого блока в виде отдельных модулей изучаются технологии прикладного художественного преобразования таких материалов, которые не требуют при обработке значительных физических усилий. Данный блок называют «Введение в технологию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держание второго блока с учетом возможностей подростков, включает в себя в качестве модулей технологии изучения конструктивно и технологически несложных изделий производственного, бытового или художественно-прикладного назначения. Данный блок называют «Технологические основы труда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держание третьего блока ориентированно на обеспечение возможности учащимся проверить свои способности и склонности к определенным видам труда для обоснованного выбора будущего направления желаемого профильного обучения или профессионального образования. Данный блок называют «Основы профессиональной деятельности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CF8A2-63D7-4B36-9975-13D476FB8CCD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последнем этапе, связанным с завершением обучения в полной средней школе, осуществляется углубленное изучение одной из технологии, выбор которой был сделан в основной школе. Содержание обучения в этом блоке технологической подготовки призвано способствовать уточнению профессиональных и жизненных планов учащихся, дополняться прикладным производственным содержанием. Данный блок называют «Профильная и начальная профессиональная подготовка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/Задани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крыть сущность концепции технологического образов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крыть понятия «технология», «образование», «обучение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4B528-5F82-4388-98CE-0BBA5BA714FD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Технология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бразовательная область, в основе которой лежит преобразовательная деятельность человека в материальном мире, нацеленная на создание обучающей среды для развития у учащихся способностей в области дизайна и изготовления, посредством работы с различными материалами, информацией и другими ресурсами в ответ на потребности люд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B9E22-7EFC-4427-A1C1-418D781A30F4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В течении всего периода обучения технологии в российской школе каждый учащийся, в соответствии с программой, должен выполнить </a:t>
            </a:r>
            <a:r>
              <a:rPr b="0" lang="ru-RU" sz="1200" spc="-1" strike="noStrike">
                <a:solidFill>
                  <a:srgbClr val="1f497d"/>
                </a:solidFill>
                <a:latin typeface="Futura XBlk BT"/>
              </a:rPr>
              <a:t>10 </a:t>
            </a:r>
            <a:r>
              <a:rPr b="0" lang="ru-RU" sz="1200" spc="-1" strike="noStrike">
                <a:solidFill>
                  <a:srgbClr val="1f497d"/>
                </a:solidFill>
                <a:latin typeface="Arial Black"/>
              </a:rPr>
              <a:t>проектов.</a:t>
            </a:r>
            <a:br>
              <a:rPr sz="1200"/>
            </a:br>
            <a:r>
              <a:rPr b="0" lang="ru-RU" sz="1200" spc="-1" strike="noStrike">
                <a:solidFill>
                  <a:srgbClr val="1f497d"/>
                </a:solidFill>
                <a:latin typeface="Arial Black"/>
              </a:rPr>
              <a:t>Под проектом</a:t>
            </a: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 понимается завершённая творческая работа, соответствующая возрастным возможностям учащихся.</a:t>
            </a:r>
            <a:br>
              <a:rPr sz="1200"/>
            </a:br>
            <a:r>
              <a:rPr b="1" lang="ru-RU" sz="1200" spc="-1" strike="noStrike">
                <a:solidFill>
                  <a:srgbClr val="1f497d"/>
                </a:solidFill>
                <a:latin typeface="Arial Black"/>
              </a:rPr>
              <a:t>Цель проектов -</a:t>
            </a: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 сформировать систему интеллектуальных и общетрудовых знаний и умений учащихся, способствовать развитию творческой личности.</a:t>
            </a:r>
            <a:br>
              <a:rPr sz="1200"/>
            </a:b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Усвоение содержания предмета «Технология» </a:t>
            </a:r>
            <a:r>
              <a:rPr b="1" lang="ru-RU" sz="1200" spc="-1" strike="noStrike">
                <a:solidFill>
                  <a:srgbClr val="1f497d"/>
                </a:solidFill>
                <a:latin typeface="Arial"/>
              </a:rPr>
              <a:t>обеспечит </a:t>
            </a: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учащимся:</a:t>
            </a:r>
            <a:br>
              <a:rPr sz="1200"/>
            </a:b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- экономическое образование;</a:t>
            </a:r>
            <a:br>
              <a:rPr sz="1200"/>
            </a:b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- экологическое;</a:t>
            </a:r>
            <a:br>
              <a:rPr sz="1200"/>
            </a:b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- информационное обеспечение;</a:t>
            </a:r>
            <a:br>
              <a:rPr sz="1200"/>
            </a:b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- эстетическое образование в сочетании с дизайнерскими навыками и др.</a:t>
            </a:r>
            <a:br>
              <a:rPr sz="1200"/>
            </a:b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(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нигде не говорится научить строгать, пилить планку, а творчески подойти к разработке изделия).</a:t>
            </a:r>
            <a:br>
              <a:rPr sz="1200"/>
            </a:br>
            <a:r>
              <a:rPr b="1" lang="ru-RU" sz="1200" spc="-1" strike="noStrike">
                <a:solidFill>
                  <a:srgbClr val="1f497d"/>
                </a:solidFill>
                <a:latin typeface="Arial"/>
              </a:rPr>
              <a:t>Вывод</a:t>
            </a: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: при рыночных отношениях общеобразовательная школа не должна обязательно давать своим воспитанникам профессию, но должна формировать личность, готовую правильно осуществить выбор професс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203C4-5266-4190-9335-0E63E124D38D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едеральный компонент государственного образовательного стандарта</a:t>
            </a:r>
            <a:br>
              <a:rPr sz="12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ФЕДЕРАЛЬНЫЙ БАЗИСНЫЙ УЧЕБНЫЙ ПЛАН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едеральный базисный учебный план для образовательных учреждений Российской Федераци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является нормативным правовым актом, устанавливающим перечень учебных предметов и объём учебного времени, отводимого на их изучение по ступеням общего образования и учебным годам. Является основой для разработки региональных (национально-региональных) учебных планов и учебных планов образовательных учрежд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БУП для 1-4 классов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иентирован на 4-летний нормативный срок освоения образовательных программ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чального общего образов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БУП для 5-9 классо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ориентирован на 5-летний нормативный срок освоения образовательных программ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основного общего образов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Продолжительность учебного года – от 34 до 37 недель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(с учётом экзаменационного периода)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9 класс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часы регионального (национально-регионального) компонента и компонента образовательного учреждения рекомендуется отводить на организацию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едпрофильной подготовк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обучающих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При проведении учебных занятий по «Технологии» (5-9 классы) осуществляется </a:t>
            </a: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деление классов на две группы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E3952-F23F-4204-BF53-12DFCB74EC09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собенности федерального базисного учебного план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соответствии с Концепцией модернизации российского образования на период до 2010 года в федеральном базисном учебном плане увеличено  количество учебных часов на освоение учащимися предметов социально-экономического цикла, иностранных языков и информати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чебный предмет «Технология» построен </a:t>
            </a: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по модульному принципу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с учетом возможностей образовательного учреждения и потребностей регио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Часы учебного предмета «Технология» </a:t>
            </a: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в 9 классе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передаются в компонент образовательного учреждения для организации </a:t>
            </a: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предпрофильной подготовки обучающихся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образовательных учреждениях, реализующих программу основного общего образования, для организации изучения содержания образования </a:t>
            </a: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краеведческой направленности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в региональный компонент перенесены часы, которые рекомендуется использовать для преподавания интегрированного учебного предмета 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«Краеведение» (8 класс - 1 час в неделю учебного предмета «Технология»,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а также «География», «Биология», «История», «Искусство»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AEF92-2521-43B7-9101-41902ED8852F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ЗИСНЫЙ УЧЕБНЫЙ ПЛАН образовательных учреждений Российской Федераци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ОЕ ОБЩЕЕ ОБРАЗОВАНИЕ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C715B-6C0E-499E-A8DB-0D81C7FBEC43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ЗИСНЫЙ УЧЕБНЫЙ ПЛАН образовательных учреждений Российской Федерации</a:t>
            </a:r>
            <a:br>
              <a:rPr sz="12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ОСНОВНОЕ ОБЩЕЕ ОБРАЗОВАНИЕ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1B348-7C09-40FE-9D39-5D2BCBADC8AF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реднее (полное) общее образование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фильное обучени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офильное обучение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– средство дифференциации и индивидуализации</a:t>
            </a: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бучения, которое позволяет  за счет изменений в структуре, содержании и организации образовательного процесса более полно учитывать интересы, склонности и способности обучающихся, создавать условия для образования старшеклассников в соответствии с их профессиональными интересами и намерениями  в отношении продолжения образова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ереход к профильному обучению позволяе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беспечить углубленное изучение отдельных учебных предмет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беспечить преемственность между общим и профессиональным образование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Более эффективно подготовить выпускников общеобразовательных учреждений, реализующих программы среднего (полного) общего образования, к освоению программ высшего профессионального образования.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B608A-C463-43E9-A8C0-DCB2E039868A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инципы построения федерального базисного учебного плана для 10-11 классов основаны на идее двухуровневого (базового и профильного) федерального компонента государственного стандарта. Исходя из этого , учебные предметы могут быть выбраны для изучения обучающимися либо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 базовом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, либо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 профильном уровн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азовые общеобразовательные предметы-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это учебные предметы федерального компонента, направленные на завершение общеобразовательной подготовки обучающихся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«Русский язык», «Литература», «Иностранный язык», «Математика», «История», «Физическая культура», «Обществознание», «Естествознание» -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обязательные предмет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,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стальные базовые учебные предметы изучаются по выбор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фильные общеобразовательные учебные предметы –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чебные предметы федерального компонента повышенного уровня, определяющие специализацию каждого конкретного профиля обучения (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Физика», «Химия», «Биология» -естественно-научный профиль, «Обществоведение», «Право», «Экономика» -социально-экономический профиль и т.д.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При профильном обучении обучающийся выбирает не менее двух учебных предметов на профильном уровн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B42B3-B084-4B11-9C89-074BCE9FA7D6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5B9214-4CA8-4B76-8183-8CFCEEEF5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7ED002-1158-4157-9972-A576E148F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2B5528-B6CD-496B-A3BC-FF656622C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0F3B3E-979B-4ADE-A68E-5B4465817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8BB33-CAC8-4DC4-B966-CA3C1F166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3A634-7A83-4152-BB6D-BB7D6A132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AF88A-B2EB-4B4C-B952-242ECC87C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86841-4BB3-4D85-A5BB-CED06117E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3109D-E5AC-4AD7-875F-C34E8F164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4560F-0C10-468B-BA0D-D91B9FDAF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68BD8-9746-49AC-9085-7ADB51BB3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A025E7-0DC4-4231-A5F4-7C33B2415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6F459-4911-4D81-ADDD-720F6809C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B1FC6-8767-4E53-A1B6-6BA421A64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53627-CD7F-41A7-9B1E-E9FC2ADB6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F3971-4BA1-4362-AE89-E950D82F3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B359F-AE92-496D-A6D8-45B69737E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4A80D8-21C7-4936-8E97-5B7D58646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86D53B-B666-4CC1-93E3-23BD6F651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41DB29-307A-4530-A690-9056045C4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937AC4-FDEB-44F1-AFD6-1D5939BE7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0CDA58-7379-49F6-AC33-078C12D07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47C206-3776-47D4-847B-520C0735A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A823C4-67A5-4C03-982A-2EE0D5BC9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9F9EA-6154-4864-9503-DCA6F3B6EE3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64195-8B54-4DD6-90CE-88DA2A47B59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1125360"/>
            <a:ext cx="7846920" cy="295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5e5ff"/>
                </a:solidFill>
                <a:latin typeface="Bernard MT Condensed"/>
              </a:rPr>
              <a:t>Содержание обучения общеобразовательной области «Технология»</a:t>
            </a:r>
            <a:br>
              <a:rPr sz="3600"/>
            </a:b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5003640" y="5589720"/>
            <a:ext cx="35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Преподаватель: Курзакова О.П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124080" y="625140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Элективные учебные предметы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 –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обязательные учебные предметы по выбору обучающихся из компонента образовательного учреждения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Функции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 элективных учебных предметов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 algn="just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«надстройка» профильного учебного предмета, когда  дополненный профильный учебный предмет становится углубленным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 algn="just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Развивают содержание одного из базовых учебных предметов, что позволяет получить дополнительную подготовку для сдачи единого государственного экзамена по выбранному учебному предмету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 algn="just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Способствует удовлетворению познавательных интересов обучающихся в различных сферах деятельности человека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Представленные ниже варианты учебных планов отдельных </a:t>
            </a: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профилей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 являются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примерными и имеют рекомендательный характер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280" y="274680"/>
            <a:ext cx="896472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5e5ff"/>
                </a:solidFill>
                <a:latin typeface="Arial Black"/>
              </a:rPr>
              <a:t>Характеристика содержания образовательной области «Технология»</a:t>
            </a:r>
            <a:endParaRPr b="1" lang="en-US" sz="2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11280" y="1052280"/>
            <a:ext cx="807552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С целью учета интересов и склонностей учащихся, возможностей образовательных учреждений, местных социально-экономических условий обязательный минимум содержания основных образовательных программ изучается в рамках одного из 3 направлений: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 algn="just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«Технология. Технический труд»,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 algn="just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«Технология. Обслуживающий труд»,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 algn="just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«Технология. Сельскохозяйственный труд»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Базовым для направления «Технология. Технический труд»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 является раздел «Создание изделий из конструкционных и поделочных материалов», 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для направления «Технология. Обслуживающий труд»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 - разделы «Создание изделий из текстильных и поделочных материалов», «Кулинария», 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для направления «Технология. Сельскохозяйственный труд»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 - разделы «Растениеводство», «Животноводство»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Каждое из трёх направлений технологической подготовки обязательно включает в себя, кроме того, следующие разделы: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 «Электротехнические работы», «Технологии ведения дома», «Современное производство и профессиональное образование»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6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456840" y="189000"/>
            <a:ext cx="821844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Изучение технологии на ступени основного общего образования направлено на достижение следующих целей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 algn="just">
              <a:lnSpc>
                <a:spcPct val="10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своение 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технологических знаний, технологической культуры на основе включения учащихся в разнообразные виды технологической деятельности по созданию личностно или общественно значимых продуктов труда;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 algn="just">
              <a:lnSpc>
                <a:spcPct val="10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владение 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общетрудовыми и специальными умениями, необходимыми для поиска и использования технологической информации, проектирования и создания продуктов труда, ведения домашнего хозяйства, самостоятельного и осознанного определения своих жизненных и профессиональных планов; овладение безопасными приёмами труда;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 algn="just">
              <a:lnSpc>
                <a:spcPct val="10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азвитие 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познавательных интересов, технического мышления, пространственного воображения, интеллектуальных, творческих, коммуникативных и организаторских способностей;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 algn="just">
              <a:lnSpc>
                <a:spcPct val="10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оспитание 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трудолюбия, бережливости, аккуратности, целеустремлённости, ответственности за результаты своей деятельности;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 algn="just">
              <a:lnSpc>
                <a:spcPct val="10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лучение 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опыта применения политехнических и технологических знаний и умений в самостоятельной практической деятельности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50752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одержание обучения в общеобразовательной области «Технология» включает в себя следующие основные модули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336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3360" indent="-603360">
              <a:spcBef>
                <a:spcPts val="4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Технологии обработки конструкционных материалов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3360" indent="-603360">
              <a:spcBef>
                <a:spcPts val="4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Технологии обработки текстильных материалов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3360" indent="-603360">
              <a:spcBef>
                <a:spcPts val="4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Технологии ремонтно-строительных работ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3360" indent="-603360">
              <a:spcBef>
                <a:spcPts val="4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Технологии обработки пищевых продуктов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3360" indent="-603360">
              <a:spcBef>
                <a:spcPts val="4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Технологии получения сельскохозяйственной продукции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3360" indent="-603360">
              <a:spcBef>
                <a:spcPts val="4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Технологии переработки и хранения сельскохозяйственной продукции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3360" indent="-603360">
              <a:spcBef>
                <a:spcPts val="4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Технологии преобразования и использования энергии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3360" indent="-603360">
              <a:spcBef>
                <a:spcPts val="4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Техника и технологическое оборудование (элементы машиноведения)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3360" indent="-603360">
              <a:spcBef>
                <a:spcPts val="4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Технологии получения, преобразования и использования знаковой и графической информации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3360" indent="-603360">
              <a:spcBef>
                <a:spcPts val="4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Культура дома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539640" y="259920"/>
            <a:ext cx="835344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Обучение учащихся в образовательной области «Технология» строится на основе конкретных технологических процессов, представленных в основных модулях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Независимо от содержания основного модуля должно предусматриваться изучение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квозных образовательных линий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Культура и эстетика труда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Получение, обработка, хранение и использование информации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Основы черчения и графики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Элементы прикладной экономики и предпринимательства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Мир профессий, средства и методы формирования жизненных, профессиональных планов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Художественно-прикладная обработка материалов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Творческая проектная деятельность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Влияние технологических процессов на окружающую среду и здоровье человека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История и социальные последствия развития технологии и техники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611280" y="476280"/>
            <a:ext cx="807552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труктура обучения «Технологии»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состоит из четырех блоков, которые скомпонованы из 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модулей.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А модули базируются на 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конкретных технологических процессах и пронизаны сквозными образовательными линиями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4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5"/>
          <p:cNvSpPr/>
          <p:nvPr/>
        </p:nvSpPr>
        <p:spPr>
          <a:xfrm>
            <a:off x="179280" y="189000"/>
            <a:ext cx="8713800" cy="740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С учетом психо-физического, интеллектуального развития учащихся выделяют 4 основных смысловых блока содержания технологии: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Период обучения в начальной школе (1-4 классы);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Второй блок относят к подростковому возрасту (5-8 классы);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Третий – к ранней юности (9 класс);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Четвертый – к юности (10-11 класс)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В структуре первого блока в виде отдельных модулей изучаются технологии прикладного художественного преобразования таких материалов, которые не требуют при обработке значительных физических усилий. Данный блок называют «Введение в технологию»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Содержание второго блока с учетом возможностей подростков, включает в себя в качестве модулей технологии изучения конструктивно и технологически несложных изделий производственного, бытового или художественно-прикладного назначения. Данный блок называют «Технологические основы труда»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Содержание третьего блока ориентированно на обеспечение возможности учащимся проверить свои способности и склонности к определенным видам труда для обоснованного выбора будущего направления желаемого профильного обучения или профессионального образования. Данный блок называют «Основы профессиональной деятельности»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6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4"/>
          <p:cNvSpPr/>
          <p:nvPr/>
        </p:nvSpPr>
        <p:spPr>
          <a:xfrm>
            <a:off x="324000" y="549360"/>
            <a:ext cx="8424720" cy="43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На последнем этапе, связанным с завершением обучения в полной средней школе, осуществляется углубленное изучение одной из технологии, выбор которой был сделан в основной школе. Содержание обучения в этом блоке технологической подготовки призвано способствовать уточнению профессиональных и жизненных планов учащихся, дополняться прикладным производственным содержанием. Данный блок называют «Профильная и начальная профессиональная подготовка»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Д/Задание: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Раскрыть сущность концепции технологического образования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Раскрыть понятия «технология», «образование», «обучение»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8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ехнология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– 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образовательная область, в основе которой лежит преобразовательная деятельность человека в материальном мире, нацеленная на создание обучающей среды для развития у учащихся способностей в области дизайна и изготовления, посредством работы с различными материалами, информацией и другими ресурсами в ответ на потребности людей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5"/>
          <p:cNvSpPr/>
          <p:nvPr/>
        </p:nvSpPr>
        <p:spPr>
          <a:xfrm>
            <a:off x="1187280" y="692280"/>
            <a:ext cx="7417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Text Box 6"/>
          <p:cNvSpPr/>
          <p:nvPr/>
        </p:nvSpPr>
        <p:spPr>
          <a:xfrm>
            <a:off x="468360" y="260280"/>
            <a:ext cx="8351640" cy="68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5e5ff"/>
                </a:solidFill>
                <a:latin typeface="Garamond"/>
              </a:rPr>
              <a:t>В течении всего периода обучения технологии в российской школе каждый учащийся, в соответствии с программой, должен выполнить </a:t>
            </a:r>
            <a:r>
              <a:rPr b="0" lang="ru-RU" sz="2000" spc="-1" strike="noStrike">
                <a:solidFill>
                  <a:srgbClr val="e5e5ff"/>
                </a:solidFill>
                <a:latin typeface="Futura XBlk BT"/>
              </a:rPr>
              <a:t>10 </a:t>
            </a:r>
            <a:r>
              <a:rPr b="0" lang="ru-RU" sz="2000" spc="-1" strike="noStrike">
                <a:solidFill>
                  <a:srgbClr val="e5e5ff"/>
                </a:solidFill>
                <a:latin typeface="Arial Black"/>
              </a:rPr>
              <a:t>проектов.</a:t>
            </a:r>
            <a:br>
              <a:rPr sz="2000"/>
            </a:br>
            <a:r>
              <a:rPr b="0" lang="ru-RU" sz="2000" spc="-1" strike="noStrike">
                <a:solidFill>
                  <a:srgbClr val="e5e5ff"/>
                </a:solidFill>
                <a:latin typeface="Arial Black"/>
              </a:rPr>
              <a:t>Под проектом</a:t>
            </a:r>
            <a:r>
              <a:rPr b="1" lang="ru-RU" sz="2000" spc="-1" strike="noStrike">
                <a:solidFill>
                  <a:srgbClr val="e5e5ff"/>
                </a:solidFill>
                <a:latin typeface="Garamond"/>
              </a:rPr>
              <a:t> понимается завершённая творческая работа, соответствующая возрастным возможностям учащихся.</a:t>
            </a:r>
            <a:br>
              <a:rPr sz="2000"/>
            </a:br>
            <a:r>
              <a:rPr b="1" lang="ru-RU" sz="2000" spc="-1" strike="noStrike">
                <a:solidFill>
                  <a:srgbClr val="e5e5ff"/>
                </a:solidFill>
                <a:latin typeface="Arial Black"/>
              </a:rPr>
              <a:t>Цель проектов -</a:t>
            </a:r>
            <a:r>
              <a:rPr b="1" lang="ru-RU" sz="2000" spc="-1" strike="noStrike">
                <a:solidFill>
                  <a:srgbClr val="e5e5ff"/>
                </a:solidFill>
                <a:latin typeface="Garamond"/>
              </a:rPr>
              <a:t> сформировать систему интеллектуальных и общетрудовых знаний и умений учащихся, способствовать развитию творческой личности.</a:t>
            </a:r>
            <a:br>
              <a:rPr sz="2000"/>
            </a:br>
            <a:r>
              <a:rPr b="1" lang="ru-RU" sz="2000" spc="-1" strike="noStrike">
                <a:solidFill>
                  <a:srgbClr val="e5e5ff"/>
                </a:solidFill>
                <a:latin typeface="Garamond"/>
              </a:rPr>
              <a:t>Усвоение содержания предмета «Технология» </a:t>
            </a:r>
            <a:r>
              <a:rPr b="1" lang="ru-RU" sz="2000" spc="-1" strike="noStrike">
                <a:solidFill>
                  <a:srgbClr val="e5e5ff"/>
                </a:solidFill>
                <a:latin typeface="Arial"/>
              </a:rPr>
              <a:t>обеспечит </a:t>
            </a:r>
            <a:r>
              <a:rPr b="1" lang="ru-RU" sz="2000" spc="-1" strike="noStrike">
                <a:solidFill>
                  <a:srgbClr val="e5e5ff"/>
                </a:solidFill>
                <a:latin typeface="Garamond"/>
              </a:rPr>
              <a:t>учащимся:</a:t>
            </a:r>
            <a:br>
              <a:rPr sz="2000"/>
            </a:br>
            <a:r>
              <a:rPr b="1" lang="ru-RU" sz="2000" spc="-1" strike="noStrike">
                <a:solidFill>
                  <a:srgbClr val="e5e5ff"/>
                </a:solidFill>
                <a:latin typeface="Garamond"/>
              </a:rPr>
              <a:t>- экономическое образование;</a:t>
            </a:r>
            <a:br>
              <a:rPr sz="2000"/>
            </a:br>
            <a:r>
              <a:rPr b="1" lang="ru-RU" sz="2000" spc="-1" strike="noStrike">
                <a:solidFill>
                  <a:srgbClr val="e5e5ff"/>
                </a:solidFill>
                <a:latin typeface="Garamond"/>
              </a:rPr>
              <a:t>- экологическое;</a:t>
            </a:r>
            <a:br>
              <a:rPr sz="2000"/>
            </a:br>
            <a:r>
              <a:rPr b="1" lang="ru-RU" sz="2000" spc="-1" strike="noStrike">
                <a:solidFill>
                  <a:srgbClr val="e5e5ff"/>
                </a:solidFill>
                <a:latin typeface="Garamond"/>
              </a:rPr>
              <a:t>- информационное обеспечение;</a:t>
            </a:r>
            <a:br>
              <a:rPr sz="2000"/>
            </a:br>
            <a:r>
              <a:rPr b="1" lang="ru-RU" sz="2000" spc="-1" strike="noStrike">
                <a:solidFill>
                  <a:srgbClr val="e5e5ff"/>
                </a:solidFill>
                <a:latin typeface="Garamond"/>
              </a:rPr>
              <a:t>- эстетическое образование в сочетании с дизайнерскими навыками и др.</a:t>
            </a:r>
            <a:br>
              <a:rPr sz="2000"/>
            </a:br>
            <a:r>
              <a:rPr b="1" lang="ru-RU" sz="2000" spc="-1" strike="noStrike">
                <a:solidFill>
                  <a:srgbClr val="e5e5ff"/>
                </a:solidFill>
                <a:latin typeface="Garamond"/>
              </a:rPr>
              <a:t>(</a:t>
            </a:r>
            <a:r>
              <a:rPr b="0" lang="ru-RU" sz="2000" spc="-1" strike="noStrike">
                <a:solidFill>
                  <a:srgbClr val="e5e5ff"/>
                </a:solidFill>
                <a:latin typeface="Garamond"/>
              </a:rPr>
              <a:t>нигде не говорится научить строгать, пилить планку, а творчески подойти к разработке изделия).</a:t>
            </a:r>
            <a:br>
              <a:rPr sz="2000"/>
            </a:br>
            <a:r>
              <a:rPr b="1" lang="ru-RU" sz="2000" spc="-1" strike="noStrike">
                <a:solidFill>
                  <a:srgbClr val="e5e5ff"/>
                </a:solidFill>
                <a:latin typeface="Arial"/>
              </a:rPr>
              <a:t>Вывод</a:t>
            </a:r>
            <a:r>
              <a:rPr b="1" lang="ru-RU" sz="2000" spc="-1" strike="noStrike">
                <a:solidFill>
                  <a:srgbClr val="e5e5ff"/>
                </a:solidFill>
                <a:latin typeface="Garamond"/>
              </a:rPr>
              <a:t>: при рыночных отношениях общеобразовательная школа не должна обязательно давать своим воспитанникам профессию, но должна формировать личность, готовую правильно осуществить выбор профессии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6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5e5ff"/>
                </a:solidFill>
                <a:latin typeface="Garamond"/>
              </a:rPr>
              <a:t>Федеральный компонент государственного образовательного стандарта</a:t>
            </a:r>
            <a:br>
              <a:rPr sz="2000"/>
            </a:br>
            <a:r>
              <a:rPr b="0" lang="ru-RU" sz="2400" spc="-1" strike="noStrike">
                <a:solidFill>
                  <a:srgbClr val="e5e5ff"/>
                </a:solidFill>
                <a:latin typeface="Garamond"/>
              </a:rPr>
              <a:t>ФЕДЕРАЛЬНЫЙ БАЗИСНЫЙ УЧЕБНЫЙ ПЛАН</a:t>
            </a: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36480" y="907920"/>
            <a:ext cx="832824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Федеральный базисный учебный план для образовательных учреждений Российской Федерации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– является нормативным правовым актом, устанавливающим перечень учебных предметов и объём учебного времени, отводимого на их изучение по ступеням общего образования и учебным годам. Является основой для разработки региональных (национально-региональных) учебных планов и учебных планов образовательных учреждений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88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ФБУП для 1-4 классов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ориентирован на 4-летний нормативный срок освоения образовательных программ 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начального общего образования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88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ФБУП для 5-9 классов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ориентирован на 5-летний нормативный срок освоения образовательных программ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 основного общего образования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880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Продолжительность учебного года – от 34 до 37 недель 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(с учётом экзаменационного периода)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88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В 9 классе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часы регионального (национально-регионального) компонента и компонента образовательного учреждения рекомендуется отводить на организацию 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предпрофильной подготовки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обучающихся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880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При проведении учебных занятий по «Технологии» (5-9 классы) осуществляется 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деление классов на две группы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880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5e5ff"/>
                </a:solidFill>
                <a:latin typeface="Garamond"/>
              </a:rPr>
              <a:t>Особенности федерального базисного учебного плана</a:t>
            </a: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В соответствии с Концепцией модернизации российского образования на период до 2010 года в федеральном базисном учебном плане увеличено  количество учебных часов на освоение учащимися предметов социально-экономического цикла, иностранных языков и информатики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Учебный предмет «Технология» построен </a:t>
            </a: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по модульному принципу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 с учетом возможностей образовательного учреждения и потребностей региона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Часы учебного предмета «Технология» </a:t>
            </a: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в 9 классе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 передаются в компонент образовательного учреждения для организации </a:t>
            </a: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предпрофильной подготовки обучающихся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В образовательных учреждениях, реализующих программу основного общего образования, для организации изучения содержания образования </a:t>
            </a: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краеведческой направленности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 в региональный компонент перенесены часы, которые рекомендуется использовать для преподавания интегрированного учебного предмета </a:t>
            </a:r>
            <a:r>
              <a:rPr b="1" lang="ru-RU" sz="1800" spc="-1" strike="noStrike">
                <a:solidFill>
                  <a:srgbClr val="ffcc00"/>
                </a:solidFill>
                <a:latin typeface="Garamond"/>
              </a:rPr>
              <a:t>«Краеведение» (8 класс - 1 час в неделю учебного предмета «Технология», 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а также «География», «Биология», «История», «Искусство»)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БАЗИСНЫЙ УЧЕБНЫЙ ПЛАН</a:t>
            </a:r>
            <a:r>
              <a:rPr b="0" lang="ru-RU" sz="1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образовательных учреждений Российской Федерации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Garamond"/>
              </a:rPr>
              <a:t>ОСНОВНОЕ ОБЩЕЕ ОБРАЗОВАНИЕ</a:t>
            </a:r>
            <a:br>
              <a:rPr sz="1400"/>
            </a:br>
            <a:endParaRPr b="1" lang="en-US" sz="14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7200" y="620640"/>
          <a:ext cx="8435880" cy="6232680"/>
        </p:xfrm>
        <a:graphic>
          <a:graphicData uri="http://schemas.openxmlformats.org/drawingml/2006/table">
            <a:tbl>
              <a:tblPr/>
              <a:tblGrid>
                <a:gridCol w="4478400"/>
                <a:gridCol w="703080"/>
                <a:gridCol w="663840"/>
                <a:gridCol w="649080"/>
                <a:gridCol w="649440"/>
                <a:gridCol w="650880"/>
                <a:gridCol w="641160"/>
              </a:tblGrid>
              <a:tr h="304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424242"/>
                          </a:solidFill>
                          <a:latin typeface="Times New Roman"/>
                          <a:ea typeface="Times New Roman"/>
                        </a:rPr>
                        <a:t>Учебные предметы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5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424242"/>
                          </a:solidFill>
                          <a:latin typeface="Times New Roman"/>
                          <a:ea typeface="Times New Roman"/>
                        </a:rPr>
                        <a:t>Количество часов в год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424242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8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сский язык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8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тература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8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дной язык и литература*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8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остранный язык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8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тематика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7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8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форматика и ИКТ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8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тория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8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ществознание (включая экономику и право)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8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еография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8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родоведение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8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ика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8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имия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8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иология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8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кусство (Музыка и ИЗО)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хнолог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8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новы безопасности жизнедеятельности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8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ическая культура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8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ого: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4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8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5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1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9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гиональный (национально-региональный) компонент и компонент образовательного учреждения (6-дневная неделя)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5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ельно допустимая аудиторная учебная нагрузка при 6-дневной учебной неделе (требования СанПиН)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8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2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9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2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2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84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гиональный (национально-региональный) компонент и компонент образовательного учреждения (5-дневная неделя).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3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516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ельно допустимая аудиторная учебная нагрузка при 5-дневной учебной неделе (требования СанПиН)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8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1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8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2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2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32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23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78920" y="189000"/>
            <a:ext cx="871380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БАЗИСНЫЙ УЧЕБНЫЙ ПЛАН</a:t>
            </a: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образовательных учреждений Российской Федерации</a:t>
            </a:r>
            <a:br>
              <a:rPr sz="1600"/>
            </a:b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ОСНОВНОЕ ОБЩЕЕ ОБРАЗОВАНИЕ</a:t>
            </a:r>
            <a:br>
              <a:rPr sz="1800"/>
            </a:br>
            <a:endParaRPr b="1" lang="en-US" sz="18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457200" y="765000"/>
          <a:ext cx="8435880" cy="6004080"/>
        </p:xfrm>
        <a:graphic>
          <a:graphicData uri="http://schemas.openxmlformats.org/drawingml/2006/table">
            <a:tbl>
              <a:tblPr/>
              <a:tblGrid>
                <a:gridCol w="4767120"/>
                <a:gridCol w="479520"/>
                <a:gridCol w="638280"/>
                <a:gridCol w="636480"/>
                <a:gridCol w="638280"/>
                <a:gridCol w="639720"/>
                <a:gridCol w="636480"/>
              </a:tblGrid>
              <a:tr h="274320"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12121"/>
                          </a:solidFill>
                          <a:latin typeface="Times New Roman"/>
                          <a:ea typeface="Times New Roman"/>
                        </a:rPr>
                        <a:t>Учебные предметы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5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12121"/>
                          </a:solidFill>
                          <a:latin typeface="Times New Roman"/>
                          <a:ea typeface="Times New Roman"/>
                        </a:rPr>
                        <a:t>Количество часов в неделю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12121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8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сский язык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8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тература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8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остранный язык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8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тематика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8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форматика и ИКТ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8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тория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8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ществознание (включая экономику и право)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8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еография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8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родоведение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8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ика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8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имия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8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иология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8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кусство (Музыка и ИЗО)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Технолог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8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новы безопасности жизнедеятельности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8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ическая культура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8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212121"/>
                          </a:solidFill>
                          <a:latin typeface="Times New Roman"/>
                          <a:ea typeface="Times New Roman"/>
                        </a:rPr>
                        <a:t>Итого: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1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гиональный (национально-региональный) компонент и компонент образовательного учреждения (6-дневная неделя)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ельно допустимая аудиторная учебная нагрузка при 6-дневной учебной неделе (требования СанПиН)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7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гиональный (национально-региональный) компонент и компонент образовательного учреждения (5-дневная неделя)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ельно допустимая аудиторная учебная нагрузка при 5-дневной учебной неделе (требования СанПиН)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26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5e5ff"/>
                </a:solidFill>
                <a:latin typeface="Garamond"/>
              </a:rPr>
              <a:t>Среднее (полное) общее образование</a:t>
            </a:r>
            <a:br>
              <a:rPr sz="2400"/>
            </a:br>
            <a:r>
              <a:rPr b="1" lang="ru-RU" sz="2400" spc="-1" strike="noStrike">
                <a:solidFill>
                  <a:srgbClr val="e5e5ff"/>
                </a:solidFill>
                <a:latin typeface="Arial"/>
              </a:rPr>
              <a:t>Профильное обучение</a:t>
            </a: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39280" y="1125360"/>
            <a:ext cx="814716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офильное обучение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 – средство дифференциации и индивидуализации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обучения, которое позволяет  за счет изменений в структуре, содержании и организации образовательного процесса более полно учитывать интересы, склонности и способности обучающихся, создавать условия для образования старшеклассников в соответствии с их профессиональными интересами и намерениями  в отношении продолжения образования.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58500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58500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ереход к профильному обучению позволяет: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585000" indent="-585000" algn="just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Обеспечить углубленное изучение отдельных учебных предметов;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585000" indent="-585000" algn="just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Обеспечить преемственность между общим и профессиональным образованием;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585000" indent="-585000" algn="just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Более эффективно подготовить выпускников общеобразовательных учреждений, реализующих программы среднего (полного) общего образования, к освоению программ высшего профессионального образования.     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610920" y="260280"/>
            <a:ext cx="828180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Принципы построения федерального базисного учебного плана для 10-11 классов основаны на идее двухуровневого (базового и профильного) федерального компонента государственного стандарта. Исходя из этого , учебные предметы могут быть выбраны для изучения обучающимися либо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а базовом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, либо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а профильном уровне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Базовые общеобразовательные предметы- 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это учебные предметы федерального компонента, направленные на завершение общеобразовательной подготовки обучающихся 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(«Русский язык», «Литература», «Иностранный язык», «Математика», «История», «Физическая культура», «Обществознание», «Естествознание» -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 обязательные предметы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), 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остальные базовые учебные предметы изучаются по выбору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Профильные общеобразовательные учебные предметы – 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учебные предметы федерального компонента повышенного уровня, определяющие специализацию каждого конкретного профиля обучения (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«Физика», «Химия», «Биология» -естественно-научный профиль, «Обществоведение», «Право», «Экономика» -социально-экономический профиль и т.д.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При профильном обучении обучающийся выбирает не менее двух учебных предметов на профильном уровне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7T13:23:37Z</dcterms:created>
  <dc:creator>Курзакова О.П.</dc:creator>
  <dc:description/>
  <dc:language>en-US</dc:language>
  <cp:lastModifiedBy>LEGION</cp:lastModifiedBy>
  <dcterms:modified xsi:type="dcterms:W3CDTF">2015-03-31T08:28:53Z</dcterms:modified>
  <cp:revision>18</cp:revision>
  <dc:subject/>
  <dc:title>Слайд 1</dc:title>
</cp:coreProperties>
</file>