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9C3CA-07F1-4CFA-9975-82D49384E5B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ernard MT Condensed"/>
              </a:rPr>
              <a:t>Содержание обучения общеобразовательной области «Технология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CA680-10AD-4E4A-A4ED-EA6818E3AF1F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Элективные учебные предметы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язательные учебные предметы по выбору обучающихся из компонента образовательного учреж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Функции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элективных учебных предмет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надстройка» профильного учебного предмета, когда  дополненный профильный учебный предмет становится углубленны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вают содержание одного из базовых учебных предметов, что позволяет получить дополнительную подготовку для сдачи единого государственного экзамена по выбранному учебному предмет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ствует удовлетворению познавательных интересов обучающихся в различных сферах деятельности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едставленные ниже варианты учебных планов отдельных </a:t>
            </a: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профилей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являютс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примерными и имеют рекомендательный характе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5974D-3E8D-42A8-8199-E3BA8E1A63DB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Black"/>
              </a:rPr>
              <a:t>Характеристика содержания образовательной области «Технология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 целью учета интересов и склонностей учащихся, возможностей образовательных учреждений, местных социально-экономических условий обязательный минимум содержания основных образовательных программ изучается в рамках одного из 3 направлени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Технология. Технический труд»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Технология. Обслуживающий труд»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Технология. Сельскохозяйственный труд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азовым для направления «Технология. Технический труд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является раздел «Создание изделий из конструкционных и поделочных материалов»,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ля направления «Технология. Обслуживающий труд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разделы «Создание изделий из текстильных и поделочных материалов», «Кулинария»,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ля направления «Технология. Сельскохозяйственный труд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разделы «Растениеводство», «Животноводство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ждое из трёх направлений технологической подготовки обязательно включает в себя, кроме того, следующие разделы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«Электротехнические работы», «Технологии ведения дома», «Современное производство и профессиональное образование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68C08-738D-4EFF-93A9-5EC32034AD05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Изучение технологии на ступени основного общего образования направлено на достижение следующих целей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своени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хнологических знаний, технологической культуры на основе включения учащихся в разнообразные виды технологической деятельности по созданию личностно или общественно значимых продуктов тру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владени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щетрудовыми и специальными умениями, необходимыми для поиска и использования технологической информации, проектирования и создания продуктов труда, ведения домашнего хозяйства, самостоятельного и осознанного определения своих жизненных и профессиональных планов; овладение безопасными приёмами тру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азвити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знавательных интересов, технического мышления, пространственного воображения, интеллектуальных, творческих, коммуникативных и организаторских способност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оспитани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рудолюбия, бережливости, аккуратности, целеустремлённости, ответственности за результаты своей деятель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лучени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пыта применения политехнических и технологических знаний и умений в самостоятельной практической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585D7-B320-4536-B2DD-B45E4A878A4A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держание обучения в общеобразовательной области «Технология» включает в себя следующие основные модул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хнологии обработки конструкционных материал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хнологии обработки текстильных материал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хнологии ремонтно-строительных рабо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хнологии обработки пищевых продукт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хнологии получения сельскохозяйственной продук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хнологии переработки и хранения сельскохозяйственной продук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хнологии преобразования и использования энерг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хника и технологическое оборудование (элементы машиноведения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хнологии получения, преобразования и использования знаковой и графической информ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ультура дом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32CEE-CB6C-4631-B19C-5B7BCEAD5B1F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учение учащихся в образовательной области «Технология» строится на основе конкретных технологических процессов, представленных в основных модуля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зависимо от содержания основного модуля должно предусматриваться изучение 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сквозных образовательных линий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льтура и эстетика тру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ение, обработка, хранение и использование информ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ы черчения и графи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менты прикладной экономики и предприниматель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 профессий, средства и методы формирования жизненных, профессиональных план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удожественно-прикладная обработка материал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ворческая проектная деятельнос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лияние технологических процессов на окружающую среду и здоровье челове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рия и социальные последствия развития технологии и техн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E7BEA-257D-4DEB-AEFC-8A0181848625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а обучения «Технологии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остоит из четырех блоков, которые скомпонованы из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одулей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А модули базируются на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нкретных технологических процессах и пронизаны сквозными образовательными лини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97B33-49A1-4990-8419-AF719B70FB82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учетом психо-физического, интеллектуального развития учащихся выделяют 4 основных смысловых блока содержания технолог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иод обучения в начальной школе (1-4 классы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торой блок относят к подростковому возрасту (5-8 классы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тий – к ранней юности (9 класс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твертый – к юности (10-11 класс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труктуре первого блока в виде отдельных модулей изучаются технологии прикладного художественного преобразования таких материалов, которые не требуют при обработке значительных физических усилий. Данный блок называют «Введение в технологию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ние второго блока с учетом возможностей подростков, включает в себя в качестве модулей технологии изучения конструктивно и технологически несложных изделий производственного, бытового или художественно-прикладного назначения. Данный блок называют «Технологические основы труда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ние третьего блока ориентированно на обеспечение возможности учащимся проверить свои способности и склонности к определенным видам труда для обоснованного выбора будущего направления желаемого профильного обучения или профессионального образования. Данный блок называют «Основы профессиональной деятельности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613A1-84D7-4DD5-A616-55151A21767B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последнем этапе, связанным с завершением обучения в полной средней школе, осуществляется углубленное изучение одной из технологии, выбор которой был сделан в основной школе. Содержание обучения в этом блоке технологической подготовки призвано способствовать уточнению профессиональных и жизненных планов учащихся, дополняться прикладным производственным содержанием. Данный блок называют «Профильная и начальная профессиональная подготовка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/Зада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крыть сущность концепции технологического образ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крыть понятия «технология», «образование», «обучение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5088F-5E00-4430-AA97-D907012E28EE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ехнологи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разовательная область, в основе которой лежит преобразовательная деятельность человека в материальном мире, нацеленная на создание обучающей среды для развития у учащихся способностей в области дизайна и изготовления, посредством работы с различными материалами, информацией и другими ресурсами в ответ на потребности люд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CC090-3B2F-4C15-BF0C-97C69F7EA6EF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В течении всего периода обучения технологии в российской школе каждый учащийся, в соответствии с программой, должен выполнить </a:t>
            </a:r>
            <a:r>
              <a:rPr b="0" lang="ru-RU" sz="1200" spc="-1" strike="noStrike">
                <a:solidFill>
                  <a:srgbClr val="1f497d"/>
                </a:solidFill>
                <a:latin typeface="Futura XBlk BT"/>
              </a:rPr>
              <a:t>10 </a:t>
            </a:r>
            <a:r>
              <a:rPr b="0" lang="ru-RU" sz="1200" spc="-1" strike="noStrike">
                <a:solidFill>
                  <a:srgbClr val="1f497d"/>
                </a:solidFill>
                <a:latin typeface="Arial Black"/>
              </a:rPr>
              <a:t>проектов.</a:t>
            </a:r>
            <a:br>
              <a:rPr sz="1200"/>
            </a:br>
            <a:r>
              <a:rPr b="0" lang="ru-RU" sz="1200" spc="-1" strike="noStrike">
                <a:solidFill>
                  <a:srgbClr val="1f497d"/>
                </a:solidFill>
                <a:latin typeface="Arial Black"/>
              </a:rPr>
              <a:t>Под проектом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 понимается завершённая творческая работа, соответствующая возрастным возможностям учащихся.</a:t>
            </a:r>
            <a:br>
              <a:rPr sz="1200"/>
            </a:br>
            <a:r>
              <a:rPr b="1" lang="ru-RU" sz="1200" spc="-1" strike="noStrike">
                <a:solidFill>
                  <a:srgbClr val="1f497d"/>
                </a:solidFill>
                <a:latin typeface="Arial Black"/>
              </a:rPr>
              <a:t>Цель проектов -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 сформировать систему интеллектуальных и общетрудовых знаний и умений учащихся, способствовать развитию творческой личности.</a:t>
            </a:r>
            <a:br>
              <a:rPr sz="1200"/>
            </a:b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Усвоение содержания предмета «Технология» </a:t>
            </a:r>
            <a:r>
              <a:rPr b="1" lang="ru-RU" sz="1200" spc="-1" strike="noStrike">
                <a:solidFill>
                  <a:srgbClr val="1f497d"/>
                </a:solidFill>
                <a:latin typeface="Arial"/>
              </a:rPr>
              <a:t>обеспечит 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учащимся:</a:t>
            </a:r>
            <a:br>
              <a:rPr sz="1200"/>
            </a:b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- экономическое образование;</a:t>
            </a:r>
            <a:br>
              <a:rPr sz="1200"/>
            </a:b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- экологическое;</a:t>
            </a:r>
            <a:br>
              <a:rPr sz="1200"/>
            </a:b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- информационное обеспечение;</a:t>
            </a:r>
            <a:br>
              <a:rPr sz="1200"/>
            </a:b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- эстетическое образование в сочетании с дизайнерскими навыками и др.</a:t>
            </a:r>
            <a:br>
              <a:rPr sz="1200"/>
            </a:b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(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нигде не говорится научить строгать, пилить планку, а творчески подойти к разработке изделия).</a:t>
            </a:r>
            <a:br>
              <a:rPr sz="1200"/>
            </a:br>
            <a:r>
              <a:rPr b="1" lang="ru-RU" sz="1200" spc="-1" strike="noStrike">
                <a:solidFill>
                  <a:srgbClr val="1f497d"/>
                </a:solidFill>
                <a:latin typeface="Arial"/>
              </a:rPr>
              <a:t>Вывод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: при рыночных отношениях общеобразовательная школа не должна обязательно давать своим воспитанникам профессию, но должна формировать личность, готовую правильно осуществить выбор професс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AF62C-11A1-4B40-A5D2-F7D464432B44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едеральный компонент государственного образовательного стандарта</a:t>
            </a:r>
            <a:br>
              <a:rPr sz="12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ФЕДЕРАЛЬНЫЙ БАЗИСНЫЙ УЧЕБНЫЙ ПЛА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едеральный базисный учебный план для образовательных учреждений Российской Федерац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является нормативным правовым актом, устанавливающим перечень учебных предметов и объём учебного времени, отводимого на их изучение по ступеням общего образования и учебным годам. Является основой для разработки региональных (национально-региональных) учебных планов и учебных планов образовательных учрежд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БУП для 1-4 классов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иентирован на 4-летний нормативный срок освоения образовательных программ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чального общего образ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БУП для 5-9 класс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риентирован на 5-летний нормативный срок освоения образовательных программ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основного общего образ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Продолжительность учебного года – от 34 до 37 недель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(с учётом экзаменационного периода)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9 класс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часы регионального (национально-регионального) компонента и компонента образовательного учреждения рекомендуется отводить на организацию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едпрофильной подготовк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бучающих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При проведении учебных занятий по «Технологии» (5-9 классы) осуществляется 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деление классов на две группы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98343-F5C8-4F56-9709-BA98623840A5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собенности федерального базисного учебного план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соответствии с Концепцией модернизации российского образования на период до 2010 года в федеральном базисном учебном плане увеличено  количество учебных часов на освоение учащимися предметов социально-экономического цикла, иностранных языков и информат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чебный предмет «Технология» построен </a:t>
            </a: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по модульному принципу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с учетом возможностей образовательного учреждения и потребностей регио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асы учебного предмета «Технология» </a:t>
            </a: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в 9 классе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передаются в компонент образовательного учреждения для организации </a:t>
            </a: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предпрофильной подготовки обучающихся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образовательных учреждениях, реализующих программу основного общего образования, для организации изучения содержания образования </a:t>
            </a: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краеведческой направленности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в региональный компонент перенесены часы, которые рекомендуется использовать для преподавания интегрированного учебного предмета 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«Краеведение» (8 класс - 1 час в неделю учебного предмета «Технология»,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 также «География», «Биология», «История», «Искусство»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96DAC-9E42-4A6A-A788-38C142558024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ЗИСНЫЙ УЧЕБНЫЙ ПЛАН образовательных учреждений Российской Федераци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ОЕ ОБЩЕЕ ОБРАЗОВАНИЕ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EE97D-BB76-4E49-949F-4C34EAC20283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ЗИСНЫЙ УЧЕБНЫЙ ПЛАН образовательных учреждений Российской Федерации</a:t>
            </a:r>
            <a:br>
              <a:rPr sz="12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СНОВНОЕ ОБЩЕЕ ОБРАЗОВАНИЕ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51B3F-A06F-4B8D-A7CE-7A3D3DC0AD34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реднее (полное) общее образование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фильное обучени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фильное обучение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– средство дифференциации и индивидуализации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учения, которое позволяет  за счет изменений в структуре, содержании и организации образовательного процесса более полно учитывать интересы, склонности и способности обучающихся, создавать условия для образования старшеклассников в соответствии с их профессиональными интересами и намерениями  в отношении продолжения образов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ереход к профильному обучению позволяе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еспечить углубленное изучение отдельных учебных предмет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еспечить преемственность между общим и профессиональным образование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олее эффективно подготовить выпускников общеобразовательных учреждений, реализующих программы среднего (полного) общего образования, к освоению программ высшего профессионального образования.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F8F38-F1D3-4072-8F2D-1F63D9C82FBE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нципы построения федерального базисного учебного плана для 10-11 классов основаны на идее двухуровневого (базового и профильного) федерального компонента государственного стандарта. Исходя из этого , учебные предметы могут быть выбраны для изучения обучающимися либо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 базовом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, либо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 профильном уровн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азовые общеобразовательные предметы-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то учебные предметы федерального компонента, направленные на завершение общеобразовательной подготовки обучающихс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«Русский язык», «Литература», «Иностранный язык», «Математика», «История», «Физическая культура», «Обществознание», «Естествознание» -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обязательные предмет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,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стальные базовые учебные предметы изучаются по выбор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фильные общеобразовательные учебные предметы –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чебные предметы федерального компонента повышенного уровня, определяющие специализацию каждого конкретного профиля обучения (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Физика», «Химия», «Биология» -естественно-научный профиль, «Обществоведение», «Право», «Экономика» -социально-экономический профиль и т.д.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При профильном обучении обучающийся выбирает не менее двух учебных предметов на профильном уровн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FB059-1D3F-402C-A35B-3179B4EB288D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B97EA6-5C13-4BC4-A254-11C61CF88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538AFC-9FCD-450D-B45E-0EE0A2655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504D16-AD3F-434A-9EE2-D39D9081E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A2DCA4-6857-4BF3-8DEA-9C87F578C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E30B4-CE47-4B98-8D13-AB137C573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DE13C-6217-4611-BE7A-36CA19CE6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3B743-B5E9-487B-8869-A297B08CB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9595F-47F2-4D50-AA2F-5BE3D0A4D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82927-EED3-4158-8F6A-E527B4BB8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BEF01-6364-4B2A-8424-05DCC3FFD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31133-FD90-4225-BA5A-138FB483F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503AC1-D535-42EB-AB72-7A0A02277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DEEA8-C731-4257-8173-63DD4CBB6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D3BF7-3C70-4F14-B717-67CBF9ED1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55BC2-E6F4-4507-8E9D-20D65FBEE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1D9FD-50C6-4F86-A710-113D06E9F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D6996-EC1B-4445-BD24-463801E2E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F34F94-06F6-4DCE-9810-D04511100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E1B7B6-74F8-4E15-9054-226981F09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375739-0ABC-4B3B-A434-58BCFE01B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BDBD98-AC25-4D3B-9D82-E5690DF65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4B39CB-BA6B-48C2-98E4-6491D61E8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6607B7-3028-4D11-93E4-8970A8610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ADA2D8-E343-463A-950E-742480CFD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9F778-1287-4508-B4F1-4F8FA52EA07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8811A-1011-4F34-906E-08C59BC7192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1125360"/>
            <a:ext cx="7846920" cy="295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5e5ff"/>
                </a:solidFill>
                <a:latin typeface="Bernard MT Condensed"/>
              </a:rPr>
              <a:t>Содержание обучения общеобразовательной области «Технология»</a:t>
            </a:r>
            <a:br>
              <a:rPr sz="3600"/>
            </a:b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5003640" y="5589720"/>
            <a:ext cx="35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реподаватель: Курзакова О.П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514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Элективные учебные предметы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–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обязательные учебные предметы по выбору обучающихся из компонента образовательного учреждения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Функции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элективных учебных предметов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«надстройка» профильного учебного предмета, когда  дополненный профильный учебный предмет становится углубленным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Развивают содержание одного из базовых учебных предметов, что позволяет получить дополнительную подготовку для сдачи единого государственного экзамена по выбранному учебному предмету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Способствует удовлетворению познавательных интересов обучающихся в различных сферах деятельности человека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Представленные ниже варианты учебных планов отдельных </a:t>
            </a: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профилей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являются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примерными и имеют рекомендательный характер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9647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5e5ff"/>
                </a:solidFill>
                <a:latin typeface="Arial Black"/>
              </a:rPr>
              <a:t>Характеристика содержания образовательной области «Технология»</a:t>
            </a:r>
            <a:endParaRPr b="1" lang="en-US" sz="2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11280" y="1052280"/>
            <a:ext cx="807552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С целью учета интересов и склонностей учащихся, возможностей образовательных учреждений, местных социально-экономических условий обязательный минимум содержания основных образовательных программ изучается в рамках одного из 3 направлений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 algn="just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«Технология. Технический труд»,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 algn="just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«Технология. Обслуживающий труд»,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 algn="just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«Технология. Сельскохозяйственный труд»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Базовым для направления «Технология. Технический труд»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является раздел «Создание изделий из конструкционных и поделочных материалов»,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для направления «Технология. Обслуживающий труд»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- разделы «Создание изделий из текстильных и поделочных материалов», «Кулинария»,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для направления «Технология. Сельскохозяйственный труд»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- разделы «Растениеводство», «Животноводство»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Каждое из трёх направлений технологической подготовки обязательно включает в себя, кроме того, следующие разделы: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«Электротехнические работы», «Технологии ведения дома», «Современное производство и профессиональное образование»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6840" y="189000"/>
            <a:ext cx="821844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Изучение технологии на ступени основного общего образования направлено на достижение следующих целей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 algn="just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своение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ехнологических знаний, технологической культуры на основе включения учащихся в разнообразные виды технологической деятельности по созданию личностно или общественно значимых продуктов труда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 algn="just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владение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общетрудовыми и специальными умениями, необходимыми для поиска и использования технологической информации, проектирования и создания продуктов труда, ведения домашнего хозяйства, самостоятельного и осознанного определения своих жизненных и профессиональных планов; овладение безопасными приёмами труда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 algn="just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азвитие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ознавательных интересов, технического мышления, пространственного воображения, интеллектуальных, творческих, коммуникативных и организаторских способностей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 algn="just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оспитание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рудолюбия, бережливости, аккуратности, целеустремлённости, ответственности за результаты своей деятельности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 algn="just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лучение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опыта применения политехнических и технологических знаний и умений в самостоятельной практической деятельности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50752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держание обучения в общеобразовательной области «Технология» включает в себя следующие основные модули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336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3360" indent="-603360">
              <a:spcBef>
                <a:spcPts val="4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Технологии обработки конструкционных материалов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3360" indent="-603360">
              <a:spcBef>
                <a:spcPts val="4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Технологии обработки текстильных материалов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3360" indent="-603360">
              <a:spcBef>
                <a:spcPts val="4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Технологии ремонтно-строительных работ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3360" indent="-603360">
              <a:spcBef>
                <a:spcPts val="4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Технологии обработки пищевых продуктов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3360" indent="-603360">
              <a:spcBef>
                <a:spcPts val="4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Технологии получения сельскохозяйственной продукции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3360" indent="-603360">
              <a:spcBef>
                <a:spcPts val="4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Технологии переработки и хранения сельскохозяйственной продукции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3360" indent="-603360">
              <a:spcBef>
                <a:spcPts val="4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Технологии преобразования и использования энергии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3360" indent="-603360">
              <a:spcBef>
                <a:spcPts val="4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Техника и технологическое оборудование (элементы машиноведения)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3360" indent="-603360">
              <a:spcBef>
                <a:spcPts val="4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Технологии получения, преобразования и использования знаковой и графической информации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3360" indent="-603360">
              <a:spcBef>
                <a:spcPts val="4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Культура дома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539640" y="259920"/>
            <a:ext cx="835344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Обучение учащихся в образовательной области «Технология» строится на основе конкретных технологических процессов, представленных в основных модулях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Независимо от содержания основного модуля должно предусматриваться изучение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квозных образовательных линий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Культура и эстетика труда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олучение, обработка, хранение и использование информации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Основы черчения и графики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Элементы прикладной экономики и предпринимательства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Мир профессий, средства и методы формирования жизненных, профессиональных планов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Художественно-прикладная обработка материалов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Творческая проектная деятельность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лияние технологических процессов на окружающую среду и здоровье человека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История и социальные последствия развития технологии и техники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611280" y="476280"/>
            <a:ext cx="807552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труктура обучения «Технологии»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состоит из четырех блоков, которые скомпонованы из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модулей.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А модули базируются на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конкретных технологических процессах и пронизаны сквозными образовательными линиям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5"/>
          <p:cNvSpPr/>
          <p:nvPr/>
        </p:nvSpPr>
        <p:spPr>
          <a:xfrm>
            <a:off x="179280" y="189000"/>
            <a:ext cx="8713800" cy="74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С учетом психо-физического, интеллектуального развития учащихся выделяют 4 основных смысловых блока содержания технологии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Период обучения в начальной школе (1-4 классы)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Второй блок относят к подростковому возрасту (5-8 классы)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Третий – к ранней юности (9 класс)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Четвертый – к юности (10-11 класс)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В структуре первого блока в виде отдельных модулей изучаются технологии прикладного художественного преобразования таких материалов, которые не требуют при обработке значительных физических усилий. Данный блок называют «Введение в технологию»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Содержание второго блока с учетом возможностей подростков, включает в себя в качестве модулей технологии изучения конструктивно и технологически несложных изделий производственного, бытового или художественно-прикладного назначения. Данный блок называют «Технологические основы труда»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Содержание третьего блока ориентированно на обеспечение возможности учащимся проверить свои способности и склонности к определенным видам труда для обоснованного выбора будущего направления желаемого профильного обучения или профессионального образования. Данный блок называют «Основы профессиональной деятельности»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4"/>
          <p:cNvSpPr/>
          <p:nvPr/>
        </p:nvSpPr>
        <p:spPr>
          <a:xfrm>
            <a:off x="324000" y="549360"/>
            <a:ext cx="8424720" cy="43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На последнем этапе, связанным с завершением обучения в полной средней школе, осуществляется углубленное изучение одной из технологии, выбор которой был сделан в основной школе. Содержание обучения в этом блоке технологической подготовки призвано способствовать уточнению профессиональных и жизненных планов учащихся, дополняться прикладным производственным содержанием. Данный блок называют «Профильная и начальная профессиональная подготовка»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Д/Задание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Раскрыть сущность концепции технологического образования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Раскрыть понятия «технология», «образование», «обучение»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ехнология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–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образовательная область, в основе которой лежит преобразовательная деятельность человека в материальном мире, нацеленная на создание обучающей среды для развития у учащихся способностей в области дизайна и изготовления, посредством работы с различными материалами, информацией и другими ресурсами в ответ на потребности людей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5"/>
          <p:cNvSpPr/>
          <p:nvPr/>
        </p:nvSpPr>
        <p:spPr>
          <a:xfrm>
            <a:off x="1187280" y="692280"/>
            <a:ext cx="7417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468360" y="260280"/>
            <a:ext cx="8351640" cy="68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5e5ff"/>
                </a:solidFill>
                <a:latin typeface="Garamond"/>
              </a:rPr>
              <a:t>В течении всего периода обучения технологии в российской школе каждый учащийся, в соответствии с программой, должен выполнить </a:t>
            </a:r>
            <a:r>
              <a:rPr b="0" lang="ru-RU" sz="2000" spc="-1" strike="noStrike">
                <a:solidFill>
                  <a:srgbClr val="e5e5ff"/>
                </a:solidFill>
                <a:latin typeface="Futura XBlk BT"/>
              </a:rPr>
              <a:t>10 </a:t>
            </a:r>
            <a:r>
              <a:rPr b="0" lang="ru-RU" sz="2000" spc="-1" strike="noStrike">
                <a:solidFill>
                  <a:srgbClr val="e5e5ff"/>
                </a:solidFill>
                <a:latin typeface="Arial Black"/>
              </a:rPr>
              <a:t>проектов.</a:t>
            </a:r>
            <a:br>
              <a:rPr sz="2000"/>
            </a:br>
            <a:r>
              <a:rPr b="0" lang="ru-RU" sz="2000" spc="-1" strike="noStrike">
                <a:solidFill>
                  <a:srgbClr val="e5e5ff"/>
                </a:solidFill>
                <a:latin typeface="Arial Black"/>
              </a:rPr>
              <a:t>Под проектом</a:t>
            </a:r>
            <a:r>
              <a:rPr b="1" lang="ru-RU" sz="2000" spc="-1" strike="noStrike">
                <a:solidFill>
                  <a:srgbClr val="e5e5ff"/>
                </a:solidFill>
                <a:latin typeface="Garamond"/>
              </a:rPr>
              <a:t> понимается завершённая творческая работа, соответствующая возрастным возможностям учащихся.</a:t>
            </a:r>
            <a:br>
              <a:rPr sz="2000"/>
            </a:br>
            <a:r>
              <a:rPr b="1" lang="ru-RU" sz="2000" spc="-1" strike="noStrike">
                <a:solidFill>
                  <a:srgbClr val="e5e5ff"/>
                </a:solidFill>
                <a:latin typeface="Arial Black"/>
              </a:rPr>
              <a:t>Цель проектов -</a:t>
            </a:r>
            <a:r>
              <a:rPr b="1" lang="ru-RU" sz="2000" spc="-1" strike="noStrike">
                <a:solidFill>
                  <a:srgbClr val="e5e5ff"/>
                </a:solidFill>
                <a:latin typeface="Garamond"/>
              </a:rPr>
              <a:t> сформировать систему интеллектуальных и общетрудовых знаний и умений учащихся, способствовать развитию творческой личности.</a:t>
            </a:r>
            <a:br>
              <a:rPr sz="2000"/>
            </a:br>
            <a:r>
              <a:rPr b="1" lang="ru-RU" sz="2000" spc="-1" strike="noStrike">
                <a:solidFill>
                  <a:srgbClr val="e5e5ff"/>
                </a:solidFill>
                <a:latin typeface="Garamond"/>
              </a:rPr>
              <a:t>Усвоение содержания предмета «Технология» </a:t>
            </a:r>
            <a:r>
              <a:rPr b="1" lang="ru-RU" sz="2000" spc="-1" strike="noStrike">
                <a:solidFill>
                  <a:srgbClr val="e5e5ff"/>
                </a:solidFill>
                <a:latin typeface="Arial"/>
              </a:rPr>
              <a:t>обеспечит </a:t>
            </a:r>
            <a:r>
              <a:rPr b="1" lang="ru-RU" sz="2000" spc="-1" strike="noStrike">
                <a:solidFill>
                  <a:srgbClr val="e5e5ff"/>
                </a:solidFill>
                <a:latin typeface="Garamond"/>
              </a:rPr>
              <a:t>учащимся:</a:t>
            </a:r>
            <a:br>
              <a:rPr sz="2000"/>
            </a:br>
            <a:r>
              <a:rPr b="1" lang="ru-RU" sz="2000" spc="-1" strike="noStrike">
                <a:solidFill>
                  <a:srgbClr val="e5e5ff"/>
                </a:solidFill>
                <a:latin typeface="Garamond"/>
              </a:rPr>
              <a:t>- экономическое образование;</a:t>
            </a:r>
            <a:br>
              <a:rPr sz="2000"/>
            </a:br>
            <a:r>
              <a:rPr b="1" lang="ru-RU" sz="2000" spc="-1" strike="noStrike">
                <a:solidFill>
                  <a:srgbClr val="e5e5ff"/>
                </a:solidFill>
                <a:latin typeface="Garamond"/>
              </a:rPr>
              <a:t>- экологическое;</a:t>
            </a:r>
            <a:br>
              <a:rPr sz="2000"/>
            </a:br>
            <a:r>
              <a:rPr b="1" lang="ru-RU" sz="2000" spc="-1" strike="noStrike">
                <a:solidFill>
                  <a:srgbClr val="e5e5ff"/>
                </a:solidFill>
                <a:latin typeface="Garamond"/>
              </a:rPr>
              <a:t>- информационное обеспечение;</a:t>
            </a:r>
            <a:br>
              <a:rPr sz="2000"/>
            </a:br>
            <a:r>
              <a:rPr b="1" lang="ru-RU" sz="2000" spc="-1" strike="noStrike">
                <a:solidFill>
                  <a:srgbClr val="e5e5ff"/>
                </a:solidFill>
                <a:latin typeface="Garamond"/>
              </a:rPr>
              <a:t>- эстетическое образование в сочетании с дизайнерскими навыками и др.</a:t>
            </a:r>
            <a:br>
              <a:rPr sz="2000"/>
            </a:br>
            <a:r>
              <a:rPr b="1" lang="ru-RU" sz="2000" spc="-1" strike="noStrike">
                <a:solidFill>
                  <a:srgbClr val="e5e5ff"/>
                </a:solidFill>
                <a:latin typeface="Garamond"/>
              </a:rPr>
              <a:t>(</a:t>
            </a:r>
            <a:r>
              <a:rPr b="0" lang="ru-RU" sz="2000" spc="-1" strike="noStrike">
                <a:solidFill>
                  <a:srgbClr val="e5e5ff"/>
                </a:solidFill>
                <a:latin typeface="Garamond"/>
              </a:rPr>
              <a:t>нигде не говорится научить строгать, пилить планку, а творчески подойти к разработке изделия).</a:t>
            </a:r>
            <a:br>
              <a:rPr sz="2000"/>
            </a:br>
            <a:r>
              <a:rPr b="1" lang="ru-RU" sz="2000" spc="-1" strike="noStrike">
                <a:solidFill>
                  <a:srgbClr val="e5e5ff"/>
                </a:solidFill>
                <a:latin typeface="Arial"/>
              </a:rPr>
              <a:t>Вывод</a:t>
            </a:r>
            <a:r>
              <a:rPr b="1" lang="ru-RU" sz="2000" spc="-1" strike="noStrike">
                <a:solidFill>
                  <a:srgbClr val="e5e5ff"/>
                </a:solidFill>
                <a:latin typeface="Garamond"/>
              </a:rPr>
              <a:t>: при рыночных отношениях общеобразовательная школа не должна обязательно давать своим воспитанникам профессию, но должна формировать личность, готовую правильно осуществить выбор профессии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5e5ff"/>
                </a:solidFill>
                <a:latin typeface="Garamond"/>
              </a:rPr>
              <a:t>Федеральный компонент государственного образовательного стандарта</a:t>
            </a:r>
            <a:br>
              <a:rPr sz="2000"/>
            </a:br>
            <a:r>
              <a:rPr b="0" lang="ru-RU" sz="2400" spc="-1" strike="noStrike">
                <a:solidFill>
                  <a:srgbClr val="e5e5ff"/>
                </a:solidFill>
                <a:latin typeface="Garamond"/>
              </a:rPr>
              <a:t>ФЕДЕРАЛЬНЫЙ БАЗИСНЫЙ УЧЕБНЫЙ ПЛАН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36480" y="907920"/>
            <a:ext cx="832824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Федеральный базисный учебный план для образовательных учреждений Российской Федерации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– является нормативным правовым актом, устанавливающим перечень учебных предметов и объём учебного времени, отводимого на их изучение по ступеням общего образования и учебным годам. Является основой для разработки региональных (национально-региональных) учебных планов и учебных планов образовательных учреждений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ФБУП для 1-4 классов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ориентирован на 4-летний нормативный срок освоения образовательных программ 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начального общего образования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ФБУП для 5-9 классов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ориентирован на 5-летний нормативный срок освоения образовательных программ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 основного общего образования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родолжительность учебного года – от 34 до 37 недель 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(с учётом экзаменационного периода)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В 9 классе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часы регионального (национально-регионального) компонента и компонента образовательного учреждения рекомендуется отводить на организацию 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предпрофильной подготовки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обучающихся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При проведении учебных занятий по «Технологии» (5-9 классы) осуществляется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деление классов на две группы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e5ff"/>
                </a:solidFill>
                <a:latin typeface="Garamond"/>
              </a:rPr>
              <a:t>Особенности федерального базисного учебного плана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 соответствии с Концепцией модернизации российского образования на период до 2010 года в федеральном базисном учебном плане увеличено  количество учебных часов на освоение учащимися предметов социально-экономического цикла, иностранных языков и информатики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Учебный предмет «Технология» построен </a:t>
            </a: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по модульному принципу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с учетом возможностей образовательного учреждения и потребностей региона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Часы учебного предмета «Технология» </a:t>
            </a: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в 9 классе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передаются в компонент образовательного учреждения для организации </a:t>
            </a: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предпрофильной подготовки обучающихся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 образовательных учреждениях, реализующих программу основного общего образования, для организации изучения содержания образования </a:t>
            </a: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краеведческой направленности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в региональный компонент перенесены часы, которые рекомендуется использовать для преподавания интегрированного учебного предмета </a:t>
            </a:r>
            <a:r>
              <a:rPr b="1" lang="ru-RU" sz="1800" spc="-1" strike="noStrike">
                <a:solidFill>
                  <a:srgbClr val="ffcc00"/>
                </a:solidFill>
                <a:latin typeface="Garamond"/>
              </a:rPr>
              <a:t>«Краеведение» (8 класс - 1 час в неделю учебного предмета «Технология»,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а также «География», «Биология», «История», «Искусство»)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БАЗИСНЫЙ УЧЕБНЫЙ ПЛАН</a:t>
            </a: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образовательных учреждений Российской Федерации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ОСНОВНОЕ ОБЩЕЕ ОБРАЗОВАНИЕ</a:t>
            </a:r>
            <a:br>
              <a:rPr sz="1400"/>
            </a:br>
            <a:endParaRPr b="1" lang="en-US" sz="1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7200" y="620640"/>
          <a:ext cx="8435880" cy="6232680"/>
        </p:xfrm>
        <a:graphic>
          <a:graphicData uri="http://schemas.openxmlformats.org/drawingml/2006/table">
            <a:tbl>
              <a:tblPr/>
              <a:tblGrid>
                <a:gridCol w="4478400"/>
                <a:gridCol w="703080"/>
                <a:gridCol w="663840"/>
                <a:gridCol w="649080"/>
                <a:gridCol w="649440"/>
                <a:gridCol w="650880"/>
                <a:gridCol w="641160"/>
              </a:tblGrid>
              <a:tr h="304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24242"/>
                          </a:solidFill>
                          <a:latin typeface="Times New Roman"/>
                          <a:ea typeface="Times New Roman"/>
                        </a:rPr>
                        <a:t>Учебные предмет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5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24242"/>
                          </a:solidFill>
                          <a:latin typeface="Times New Roman"/>
                          <a:ea typeface="Times New Roman"/>
                        </a:rPr>
                        <a:t>Количество часов в го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424242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сский язык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тература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ной язык и литература*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остранный язык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ематика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7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орматика и ИКТ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тория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ествознание (включая экономику и право)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ография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родоведение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ка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мия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иология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кусство (Музыка и ИЗО)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хнолог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ы безопасности жизнедеятельности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ая культура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: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4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8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1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9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гиональный (национально-региональный) компонент и компонент образовательного учреждения (6-дневная неделя)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5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ельно допустимая аудиторная учебная нагрузка при 6-дневной учебной неделе (требования СанПиН)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8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2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9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2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2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4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гиональный (национально-региональный) компонент и компонент образовательного учреждения (5-дневная неделя).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51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ельно допустимая аудиторная учебная нагрузка при 5-дневной учебной неделе (требования СанПиН)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8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1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8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2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2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32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87138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БАЗИСНЫЙ УЧЕБНЫЙ ПЛАН</a:t>
            </a: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образовательных учреждений Российской Федерации</a:t>
            </a:r>
            <a:br>
              <a:rPr sz="1600"/>
            </a:b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ОСНОВНОЕ ОБЩЕЕ ОБРАЗОВАНИЕ</a:t>
            </a:r>
            <a:br>
              <a:rPr sz="1800"/>
            </a:br>
            <a:endParaRPr b="1" lang="en-US" sz="18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57200" y="765000"/>
          <a:ext cx="8435880" cy="6004080"/>
        </p:xfrm>
        <a:graphic>
          <a:graphicData uri="http://schemas.openxmlformats.org/drawingml/2006/table">
            <a:tbl>
              <a:tblPr/>
              <a:tblGrid>
                <a:gridCol w="4767120"/>
                <a:gridCol w="479520"/>
                <a:gridCol w="638280"/>
                <a:gridCol w="636480"/>
                <a:gridCol w="638280"/>
                <a:gridCol w="639720"/>
                <a:gridCol w="636480"/>
              </a:tblGrid>
              <a:tr h="274320"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12121"/>
                          </a:solidFill>
                          <a:latin typeface="Times New Roman"/>
                          <a:ea typeface="Times New Roman"/>
                        </a:rPr>
                        <a:t>Учебные предмет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5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12121"/>
                          </a:solidFill>
                          <a:latin typeface="Times New Roman"/>
                          <a:ea typeface="Times New Roman"/>
                        </a:rPr>
                        <a:t>Количество часов в неделю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12121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сский язык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тература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остранный язык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ематика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орматика и ИКТ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тория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ествознание (включая экономику и право)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ография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родоведение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ка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мия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иология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кусство (Музыка и ИЗО)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Технолог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ы безопасности жизнедеятельности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ая культура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212121"/>
                          </a:solidFill>
                          <a:latin typeface="Times New Roman"/>
                          <a:ea typeface="Times New Roman"/>
                        </a:rPr>
                        <a:t>Итого: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гиональный (национально-региональный) компонент и компонент образовательного учреждения (6-дневная неделя)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ельно допустимая аудиторная учебная нагрузка при 6-дневной учебной неделе (требования СанПиН)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7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гиональный (национально-региональный) компонент и компонент образовательного учреждения (5-дневная неделя)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ельно допустимая аудиторная учебная нагрузка при 5-дневной учебной неделе (требования СанПиН)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e5ff"/>
                </a:solidFill>
                <a:latin typeface="Garamond"/>
              </a:rPr>
              <a:t>Среднее (полное) общее образование</a:t>
            </a:r>
            <a:br>
              <a:rPr sz="2400"/>
            </a:br>
            <a:r>
              <a:rPr b="1" lang="ru-RU" sz="2400" spc="-1" strike="noStrike">
                <a:solidFill>
                  <a:srgbClr val="e5e5ff"/>
                </a:solidFill>
                <a:latin typeface="Arial"/>
              </a:rPr>
              <a:t>Профильное обучение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9280" y="1125360"/>
            <a:ext cx="814716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фильное обучение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– средство дифференциации и индивидуализации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обучения, которое позволяет  за счет изменений в структуре, содержании и организации образовательного процесса более полно учитывать интересы, склонности и способности обучающихся, создавать условия для образования старшеклассников в соответствии с их профессиональными интересами и намерениями  в отношении продолжения образования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58500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58500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ереход к профильному обучению позволяет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585000" indent="-585000" algn="just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Обеспечить углубленное изучение отдельных учебных предметов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585000" indent="-585000" algn="just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Обеспечить преемственность между общим и профессиональным образованием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585000" indent="-585000" algn="just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Более эффективно подготовить выпускников общеобразовательных учреждений, реализующих программы среднего (полного) общего образования, к освоению программ высшего профессионального образования.     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610920" y="260280"/>
            <a:ext cx="828180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ринципы построения федерального базисного учебного плана для 10-11 классов основаны на идее двухуровневого (базового и профильного) федерального компонента государственного стандарта. Исходя из этого , учебные предметы могут быть выбраны для изучения обучающимися либо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 базовом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, либо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 профильном уровне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азовые общеобразовательные предметы-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это учебные предметы федерального компонента, направленные на завершение общеобразовательной подготовки обучающихся 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(«Русский язык», «Литература», «Иностранный язык», «Математика», «История», «Физическая культура», «Обществознание», «Естествознание» -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обязательные предметы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),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остальные базовые учебные предметы изучаются по выбору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Профильные общеобразовательные учебные предметы –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учебные предметы федерального компонента повышенного уровня, определяющие специализацию каждого конкретного профиля обучения (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«Физика», «Химия», «Биология» -естественно-научный профиль, «Обществоведение», «Право», «Экономика» -социально-экономический профиль и т.д.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При профильном обучении обучающийся выбирает не менее двух учебных предметов на профильном уровне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7T13:23:37Z</dcterms:created>
  <dc:creator>Курзакова О.П.</dc:creator>
  <dc:description/>
  <dc:language>en-US</dc:language>
  <cp:lastModifiedBy>LEGION</cp:lastModifiedBy>
  <dcterms:modified xsi:type="dcterms:W3CDTF">2015-03-31T08:28:53Z</dcterms:modified>
  <cp:revision>18</cp:revision>
  <dc:subject/>
  <dc:title>Слайд 1</dc:title>
</cp:coreProperties>
</file>