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AF6B-7525-4859-833E-EEE0223E55C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EB17-082D-4D3C-A78A-64A5333928B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лективные учебные предме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элективных учебных предм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ставленные ниже варианты учебных планов отдельных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офиле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2919-B311-4A75-B677-9A247569576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Техническ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Обслуживающий труд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ехнология. Сельскохозяйственный труд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зовым для направления «Технология. Техническ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Обслуживающи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направления «Технология. Сельскохозяйственный труд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разделы «Растениеводство», «Животноводств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6521-C257-436D-B679-BE10D2AAA9C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во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влад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уче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8F8E-8AE2-4E4D-9425-71F8A562E4A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конструк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текстиль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ремонтно-строительных рабо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обработки пищевых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ереработки и хранения сельскохозяйственн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реобразования и использования энер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ика и технологическое оборудование (элементы машиновед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ультура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9FA7-C6AA-4098-B8E5-BE5AF0CC1AA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зависимо от содержания основного модуля должно предусматриваться изуч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квозных образовательных л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и эстетика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, обработка, хранение и использование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черчения и граф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прикладной экономики и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профессий, средства и методы формирования жизненных, профессиональных план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ественно-прикладная обработка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ая проектная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технологических процессов на окружающую среду и здоровь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и социальные последствия развития технологии и тех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9D5B-2959-419C-99E1-B6FDF985D883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обучения «Технологи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стоит из четырех блоков, которые скомпонованы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улей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 модули базируются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3B77-4013-4161-9E35-277ABAAE079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обучения в начальной школе (1-4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й блок относят к подростковому возрасту (5-8 класс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й – к ранней юности (9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твертый – к юности (10-11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95F4-6EB8-4CFA-ADA9-27B83AC737C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сущность концепции технологиче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крыть понятия «технология», «образование», «обуч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48F6-0227-497B-A160-184CAB5F626B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E5A7-AFDB-4599-B061-6E056B86EF6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1200" spc="-1" strike="noStrike">
                <a:solidFill>
                  <a:srgbClr val="1f497d"/>
                </a:solidFill>
                <a:latin typeface="Futura XBlk BT"/>
              </a:rPr>
              <a:t>10 </a:t>
            </a: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роектов.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Arial Black"/>
              </a:rPr>
              <a:t>Под проектом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 Black"/>
              </a:rPr>
              <a:t>Цель проектов -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своение содержания предмета «Технология» </a:t>
            </a: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обеспечит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учащимся: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номическое образова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кологическо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информационное обеспечение;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- эстетическое образование в сочетании с дизайнерскими навыками и др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1200"/>
            </a:br>
            <a:r>
              <a:rPr b="1" lang="ru-RU" sz="1200" spc="-1" strike="noStrike">
                <a:solidFill>
                  <a:srgbClr val="1f497d"/>
                </a:solidFill>
                <a:latin typeface="Arial"/>
              </a:rPr>
              <a:t>Вывод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3A22-0B84-4B83-A20B-5816CDDF622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й компонент государственного образовательного стандарта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1-4 класс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ентирован на 4-летний нормативный срок освоения образовательных програм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БУП для 5-9 клас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иентирован на 5-летний нормативный срок освоения образовательных програм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сновного обще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должительность учебного года – от 34 до 37 недель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с учётом экзаменационного периода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9 кла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профильной подготов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учаю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 проведении учебных занятий по «Технологии» (5-9 классы) осуществляется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еление классов на две групп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9B5F-289A-4DFE-8DB1-9934C154B91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енности федерального базисного учебного пла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й предмет «Технология» построен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 модульному принцип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учетом возможностей образовательного учреждения и потребностей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ы учебного предмета «Технология»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9 класс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ередаются в компонент образовательного учреждения для организации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раеведческой направленност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Краеведение» (8 класс - 1 час в неделю учебного предмета «Технология»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 также «География», «Биология», «История», «Искусство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C3BA-E8A3-4D69-8112-8AB5E98A347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15A1-B411-4729-A4CE-00A345A97A8C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СНЫЙ УЧЕБНЫЙ ПЛАН образовательных учреждений Российской Федерации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ОЕ ОБЩЕЕ ОБРАЗОВАНИЕ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6758-C028-4C6C-9ADE-461FEE3B5A8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нее (полное) общее образова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ьное 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редство дифференциации и индивидуализации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ход к профильному обучению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углубленное изучение отдельных учебны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еспечить преемственность между общим и профессиональным образова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BAA2-5584-4A94-A1EE-620E506E81BF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базов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бязательные предм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ьные базовые учебные предметы изучаются по выб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ьные общеобразовательные учебные предметы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C36D-7292-48B4-B392-9A700B5CA8D4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D228-D089-4D0F-8D62-42567EDF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C471-7EA6-4A21-AF87-D92431FE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2866-A1DA-4F53-A69E-51F0C7A5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758B2-3718-4DA7-8F13-7977BD9A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F093-FB34-4217-A1F2-A9BFDEC3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7A4F-6ED6-4710-B635-E1C1358B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EBA5-A28F-474A-923F-CB7A74AD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127F-3708-4761-B988-B92E8A67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4451-7ACF-4098-9096-AEDC9074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201E-2A4F-4790-AD91-0358D3A8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BDBC-F078-4C0C-9D83-D69CE4A9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22C3E-08C4-47A7-8A98-CE4E7FCF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7561-258B-43CD-B0FE-D297E3AF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5442-E966-49B6-94C0-74194875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32E2-71D9-47DD-B3E3-5DD28CB6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6003-17D9-451A-B57F-CACF6E6B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B34C-6A77-4556-9C62-9D6727B3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A45D3-D3B2-4499-A131-6BEB5AC0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0156-3418-4F99-BE07-457E739E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0ABA-551A-4B46-BBB4-5F4A406A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08820-0995-4A22-BC6C-DAC89C5E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09C6-4D4E-4F3E-B204-FB63886E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31BC3-5F94-413B-9B0C-A151C57F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5014-AC3B-4C4B-B662-0EE67022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BF10-1F4A-4F8D-9147-EF3E1138D5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C3D4-2689-4D23-9C89-A4BBD88E9A6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125360"/>
            <a:ext cx="7846920" cy="29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Bernard MT Condensed"/>
              </a:rPr>
              <a:t>Содержание обучения общеобразовательной области «Технология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5003640" y="558972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еподаватель: Курзакова О.П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Элективные учебные предметы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язательные учебные предметы по выбору обучающихся из компонента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ункции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элективных учебных предметов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«надстройка» профильного учебного предмета, когда  дополненный профильный учебный предмет становится углубленны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вивают содержание одного из базовых учебных предметов, что позволяет получить дополнительную подготовку для сдачи единого государственного экзамена по выбранному учебному предмету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особствует удовлетворению познавательных интересов обучающихся в различных сферах деятельности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едставленные ниже варианты учебных планов отдельных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филей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являются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ыми и имеют рекомендательный характер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Характеристика содержания образовательной области «Технология»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0755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С целью учета интересов и склонностей учащихся, возможностей образовательных учреждений, местных социально-экономических условий обязательный минимум содержания основных образовательных программ изучается в рамках одного из 3 направлений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Техническ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Обслуживающий труд»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Технология. Сельскохозяйственный труд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азовым для направления «Технология. Техническ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является раздел «Создание изделий из конструкционных и поделочных материалов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Обслуживающи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Создание изделий из текстильных и поделочных материалов», «Кулинар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ля направления «Технология. Сельскохозяйственный труд»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- разделы «Растениеводство», «Животноводство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Каждое из трёх направлений технологической подготовки обязательно включает в себя, кроме того, следующие разделы: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«Электротехнические работы», «Технологии ведения дома», «Современное производство и профессиональное образова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6840" y="189000"/>
            <a:ext cx="8218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зучение технологии на ступени основного общего образования направлено на достижение следующих целей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во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ехнологических знаний, технологической культуры на основе включения учащихся в разнообразные виды технологической деятельности по созданию личностно или общественно значимых продуктов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влад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щетрудовыми и специальными умениями, необходимыми для поиска и использования технологической информации, проектирования и создания продуктов труда, ведения домашнего хозяйства, самостоятельного и осознанного определения своих жизненных и профессиональных планов; овладение безопасными приёмами труд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ознавательных интересов, технического мышления, пространственного воображения, интеллектуальных, творческих, коммуникативных и организаторских способностей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спита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трудолюбия, бережливости, аккуратности, целеустремлённости, ответственности за результаты своей деятельност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лучение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пыта применения политехнических и технологических знаний и умений в самостоятельной практической деятельност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обучения в общеобразовательной области «Технология» включает в себя следующие основные модул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конструкцион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текстильных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ремонтно-строительных работ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обработки пищевых продукт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ереработки и хранения сельскохозяйственной продук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реобразования и использования энерг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ика и технологическое оборудование (элементы машиноведения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Технологии получения, преобразования и использования знаковой и графической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3360" indent="-6033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Культура дом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353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Обучение учащихся в образовательной области «Технология» строится на основе конкретных технологических процессов, представленных в основных модуля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езависимо от содержания основного модуля должно предусматриваться изучен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квозных образовательных линий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ультура и эстетика труд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лучение, обработка, хранение и использование информац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сновы черчения и график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лементы прикладной экономики и предпринимательст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ир профессий, средства и методы формирования жизненных, профессиональных план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Художественно-прикладная обработка материалов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ворческая проектная деятельность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технологических процессов на окружающую среду и здоровье человек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стория и социальные последствия развития технологии и техни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075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обучения «Технологии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остоит из четырех блоков, которые скомпонованы из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одулей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А модули базируются 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онкретных технологических процессах и пронизаны сквозными образовательными лини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>
            <a:off x="179280" y="189000"/>
            <a:ext cx="8713800" cy="74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 учетом психо-физического, интеллектуального развития учащихся выделяют 4 основных смысловых блока содержания технологии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иод обучения в начальной школе (1-4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торой блок относят к подростковому возрасту (5-8 классы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Третий – к ранней юности (9 класс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етвертый – к юности (10-11 класс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структуре первого блока в виде отдельных модулей изучаются технологии прикладного художественного преобразования таких материалов, которые не требуют при обработке значительных физических усилий. Данный блок называют «Введение в технологию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второго блока с учетом возможностей подростков, включает в себя в качестве модулей технологии изучения конструктивно и технологически несложных изделий производственного, бытового или художественно-прикладного назначения. Данный блок называют «Технологические основы труд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одержание третьего блока ориентированно на обеспечение возможности учащимся проверить свои способности и склонности к определенным видам труда для обоснованного выбора будущего направления желаемого профильного обучения или профессионального образования. Данный блок называют «Основы профессиональной деятельност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24000" y="549360"/>
            <a:ext cx="842472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а последнем этапе, связанным с завершением обучения в полной средней школе, осуществляется углубленное изучение одной из технологии, выбор которой был сделан в основной школе. Содержание обучения в этом блоке технологической подготовки призвано способствовать уточнению профессиональных и жизненных планов учащихся, дополняться прикладным производственным содержанием. Данный блок называют «Профильная и начальная профессиональная подготовка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/Задание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сущность концепции технологического образовани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скрыть понятия «технология», «образование», «обучение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бразовательная область, в основе которой лежит преобразовательная деятельность человека в материальном мире, нацеленная на создание обучающей среды для развития у учащихся способностей в области дизайна и изготовления, посредством работы с различными материалами, информацией и другими ресурсами в ответ на потребности люде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1187280" y="69228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68360" y="260280"/>
            <a:ext cx="83516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В течении всего периода обучения технологии в российской школе каждый учащийся, в соответствии с программой, должен выполнить </a:t>
            </a:r>
            <a:r>
              <a:rPr b="0" lang="ru-RU" sz="2000" spc="-1" strike="noStrike">
                <a:solidFill>
                  <a:srgbClr val="e5e5ff"/>
                </a:solidFill>
                <a:latin typeface="Futura XBlk BT"/>
              </a:rPr>
              <a:t>10 </a:t>
            </a: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роектов.</a:t>
            </a:r>
            <a:br>
              <a:rPr sz="2000"/>
            </a:br>
            <a:r>
              <a:rPr b="0" lang="ru-RU" sz="2000" spc="-1" strike="noStrike">
                <a:solidFill>
                  <a:srgbClr val="e5e5ff"/>
                </a:solidFill>
                <a:latin typeface="Arial Black"/>
              </a:rPr>
              <a:t>Под проектом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понимается завершённая творческая работа, соответствующая возрастным возможностям учащихся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 Black"/>
              </a:rPr>
              <a:t>Цель проектов -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сформировать систему интеллектуальных и общетрудовых знаний и умений учащихся, способствовать развитию творческой личности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своение содержания предмета «Технология» </a:t>
            </a: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обеспечит 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учащимся: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номическое образова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кологическо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информационное обеспечение;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- эстетическое образование в сочетании с дизайнерскими навыками и др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(</a:t>
            </a:r>
            <a:r>
              <a:rPr b="0" lang="ru-RU" sz="2000" spc="-1" strike="noStrike">
                <a:solidFill>
                  <a:srgbClr val="e5e5ff"/>
                </a:solidFill>
                <a:latin typeface="Garamond"/>
              </a:rPr>
              <a:t>нигде не говорится научить строгать, пилить планку, а творчески подойти к разработке изделия).</a:t>
            </a:r>
            <a:br>
              <a:rPr sz="2000"/>
            </a:br>
            <a:r>
              <a:rPr b="1" lang="ru-RU" sz="2000" spc="-1" strike="noStrike">
                <a:solidFill>
                  <a:srgbClr val="e5e5ff"/>
                </a:solidFill>
                <a:latin typeface="Arial"/>
              </a:rPr>
              <a:t>Вывод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: при рыночных отношениях общеобразовательная школа не должна обязательно давать своим воспитанникам профессию, но должна формировать личность, готовую правильно осуществить выбор професс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Федеральный компонент государственного образовательного стандарта</a:t>
            </a:r>
            <a:br>
              <a:rPr sz="2000"/>
            </a:br>
            <a:r>
              <a:rPr b="0" lang="ru-RU" sz="2400" spc="-1" strike="noStrike">
                <a:solidFill>
                  <a:srgbClr val="e5e5ff"/>
                </a:solidFill>
                <a:latin typeface="Garamond"/>
              </a:rPr>
              <a:t>ФЕДЕРАЛЬНЫЙ БАЗИСНЫЙ УЧЕБНЫЙ ПЛАН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6480" y="907920"/>
            <a:ext cx="83282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едеральный базисный учебный план для образовательных учреждений Российской Федераци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является нормативным правовым актом, устанавливающим перечень учебных предметов и объём учебного времени, отводимого на их изучение по ступеням общего образования и учебным годам. Является основой для разработки региональных (национально-региональных) учебных планов и учебных планов образовательных учрежден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1-4 классов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риентирован на 4-летний нормативный срок освоения образовательных программ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началь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ФБУП для 5-9 классов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риентирован на 5-летний нормативный срок освоения образовательных программ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основного общего образовани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одолжительность учебного года – от 34 до 37 недель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с учётом экзаменационного периода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9 классе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часы регионального (национально-регионального) компонента и компонента образовательного учреждения рекомендуется отводить на организацию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редпрофильной подготовки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обучающих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 проведении учебных занятий по «Технологии» (5-9 классы) осуществляется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деление классов на две групп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Особенности федерального базисного учебного план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соответствии с Концепцией модернизации российского образования на период до 2010 года в федеральном базисном учебном плане увеличено  количество учебных часов на освоение учащимися предметов социально-экономического цикла, иностранных языков и информатики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й предмет «Технология» построен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 модульному принципу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с учетом возможностей образовательного учреждения и потребностей регион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Часы учебного предмета «Технология»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в 9 класс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передаются в компонент образовательного учреждения для организации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редпрофильной подготовки обучающих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В образовательных учреждениях, реализующих программу основного общего образования, для организации изучения содержания образования </a:t>
            </a: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краеведческой направленности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в региональный компонент перенесены часы, которые рекомендуется использовать для преподавания интегрированного учебного предмета </a:t>
            </a:r>
            <a:r>
              <a:rPr b="1" lang="ru-RU" sz="1800" spc="-1" strike="noStrike">
                <a:solidFill>
                  <a:srgbClr val="ffcc00"/>
                </a:solidFill>
                <a:latin typeface="Garamond"/>
              </a:rPr>
              <a:t>«Краеведение» (8 класс - 1 час в неделю учебного предмета «Технология»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а также «География», «Биология», «История», «Искусство»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400"/>
            </a:b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620640"/>
          <a:ext cx="8435880" cy="6232680"/>
        </p:xfrm>
        <a:graphic>
          <a:graphicData uri="http://schemas.openxmlformats.org/drawingml/2006/table">
            <a:tbl>
              <a:tblPr/>
              <a:tblGrid>
                <a:gridCol w="4478400"/>
                <a:gridCol w="703080"/>
                <a:gridCol w="663840"/>
                <a:gridCol w="649080"/>
                <a:gridCol w="649440"/>
                <a:gridCol w="650880"/>
                <a:gridCol w="64116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Количество часов в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424242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ной язык и литература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4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32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БАЗИСНЫЙ УЧЕБНЫЙ ПЛАН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образовательных учреждений Российской Федерации</a:t>
            </a: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НОВНОЕ ОБЩЕЕ ОБРАЗОВАНИЕ</a:t>
            </a:r>
            <a:br>
              <a:rPr sz="1800"/>
            </a:b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765000"/>
          <a:ext cx="8435880" cy="6004080"/>
        </p:xfrm>
        <a:graphic>
          <a:graphicData uri="http://schemas.openxmlformats.org/drawingml/2006/table">
            <a:tbl>
              <a:tblPr/>
              <a:tblGrid>
                <a:gridCol w="4767120"/>
                <a:gridCol w="479520"/>
                <a:gridCol w="638280"/>
                <a:gridCol w="636480"/>
                <a:gridCol w="638280"/>
                <a:gridCol w="639720"/>
                <a:gridCol w="636480"/>
              </a:tblGrid>
              <a:tr h="27432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Количество часов в неделю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ки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остранный язык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 и И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ознание (включая экономику и прав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оведение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(Музыка и ИЗО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ы безопасности жизнедеятель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212121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6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6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(национально-региональный) компонент и компонент образовательного учреждения (5-дневная неделя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о допустимая аудиторная учебная нагрузка при 5-дневной учебной неделе (требования СанПиН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Среднее (полное) общее образование</a:t>
            </a:r>
            <a:br>
              <a:rPr sz="2400"/>
            </a:br>
            <a:r>
              <a:rPr b="1" lang="ru-RU" sz="2400" spc="-1" strike="noStrike">
                <a:solidFill>
                  <a:srgbClr val="e5e5ff"/>
                </a:solidFill>
                <a:latin typeface="Arial"/>
              </a:rPr>
              <a:t>Профильное обучение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фильное обучение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– средство дифференциации и индивидуализации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учения, которое позволяет  за счет изменений в структуре, содержании и организации образовательного процесса более полно учитывать интересы, склонности и способности обучающихся, создавать условия для образования старшеклассников в соответствии с их профессиональными интересами и намерениями  в отношении продолжения образования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к профильному обучению позволяет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углубленное изучение отдельных учебных предметов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беспечить преемственность между общим и профессиональным образованием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 algn="just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Более эффективно подготовить выпускников общеобразовательных учреждений, реализующих программы среднего (полного) общего образования, к освоению программ высшего профессионального образования.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10920" y="260280"/>
            <a:ext cx="8281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Принципы построения федерального базисного учебного плана для 10-11 классов основаны на идее двухуровневого (базового и профильного) федерального компонента государственного стандарта. Исходя из этого , учебные предметы могут быть выбраны для изучения обучающимися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базовом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, либо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азовые общеобразовательные предметы-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это учебные предметы федерального компонента, направленные на завершение общеобразовательной подготовки обучающихся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(«Русский язык», «Литература», «Иностранный язык», «Математика», «История», «Физическая культура», «Обществознание», «Естествознание» -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обязательные предметы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),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остальные базовые учебные предметы изучаются по выбору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офильные общеобразовательные учебные предметы – 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учебные предметы федерального компонента повышенного уровня, определяющие специализацию каждого конкретного профиля обучения (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«Физика», «Химия», «Биология» -естественно-научный профиль, «Обществоведение», «Право», «Экономика» -социально-экономический профиль и т.д.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ри профильном обучении обучающийся выбирает не менее двух учебных предметов на профильном уровне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3:23:37Z</dcterms:created>
  <dc:creator>Курзакова О.П.</dc:creator>
  <dc:description/>
  <dc:language>en-US</dc:language>
  <cp:lastModifiedBy>LEGION</cp:lastModifiedBy>
  <dcterms:modified xsi:type="dcterms:W3CDTF">2015-03-31T08:28:53Z</dcterms:modified>
  <cp:revision>18</cp:revision>
  <dc:subject/>
  <dc:title>Слайд 1</dc:title>
</cp:coreProperties>
</file>