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9B55-F731-44D6-AC59-E5479FB965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ДМЕТУ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D2D8-52CF-461A-8BAE-E34C3BBF24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оцессе обучения технологии учащие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едметами потребления, потребительной стоимостью продукта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ьным изделием или нематериальной услугой, дизайном, проектом, конструк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механизацией труда и автоматизацией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информационными технологиями в производс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фере услуг; перспективными технолог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функциональными и стоимостными характеристиками предмет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й; себестоимостью продукции; экономией сырья, энергии,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изводительностью труда; реализаци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рекламой, ценой, налогом, доходом и прибыл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принимательской деятельностью; бюджетом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экологичность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ми требованиями к технологиям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онятием о научной организации 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а, средствах и методах обеспечения безопасности тру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культурой труда; технологическ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этикой общения на производ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4646-720E-4A3F-A5F0-EBC1B02587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владеют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созид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образующей, творческой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чтения и со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методами и средствами преобразования и использования материал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нергии и информации, объектов социальной и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распознавать и оценивать свойст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онных и природных подело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ориентировать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значении, применении ру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способ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и, организации и планиров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деятельности на рабочем мес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соблюдения культур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ами организации рабочего ме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дготовке и личным качества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30C7-B1C5-4772-AE09-B731EA8737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разделы програм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исследовательской и опытнической деятель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ременное производство и профессиональ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760A-E066-4630-B811-32DD23BC7C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предмета «Технология» в базисном учебном (образовательном)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8E8C-0295-4100-85A4-D685F2F479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я» в базисном учебном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70 учебных час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язательного изучения курс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ом числе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5 и 6 классах — по 68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ч, из расчета 2 ч в неделю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7 классе — 3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, из расчета 1 ч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е врем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учения технологии может быть выделе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 счет резерва времен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зисном учебном (образовательном) пл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8 и 9 класса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гут быть организованы вне обязательной учебной сетки часо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 внеурочное время как дополнительное образование во второй половине д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8103-1CAA-454C-84FF-E66BF2B0A5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ностные ориентиры содержа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владе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ыми и технологическими знаниями и умен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ями ориентироваться в мире професс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и приб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C755-A8CA-409E-BA63-03311FBC96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ат  возм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основными технологическими понят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арактерист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азначением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ми свойствами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назначением и устройст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способлений, машин и обору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идами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емами и последовательностью выполнения технологических операц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фессиями и специальност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ми с обработкой материалов, созданием изделий из них, получением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 значением здорового питания для сохранения своего здоровь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C21A-99FF-44AA-8FE4-8D9F2C8ECE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т возможнос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ые операции и работ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цион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овывать рабоче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необходимую информ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личных источни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рукторскую и технологическую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кументац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тавлять последовательность выполн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операций для изготовления изделия или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сырье,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ищевые продукты, инструменты и оборудование для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руировать, моделировать, изготавлив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заданным критерия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е опер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ать безопасные приемы тру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ила пользования ручными инструментами, машинами и электрооборуд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еств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ными мерительными средствами, измерительными приборами и визу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авливаемого изделия (дета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и устра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ущенные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ек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ь разработку творческого проект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ть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имеющихся ресурсов и 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ределять работ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коллектив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1A91-3130-4F0A-887C-F702CCA9D5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риобретенны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ния и уме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мания ценности материальной культуры для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вит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я эстетическо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я творческих способ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остижения высоких результатов преобразующей творческ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ко-технолог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едений из разнообразных источ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и индивидуальной и коллективной трудо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готовления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оративно-прикладного искусства для оформления интерь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ления и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монта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я качества выполняемы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менением мерительных, контрольных и разметоч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безопасных прием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 электробезопасности,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и затра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х для создания объект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я планов профессионального образования и трудо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3467-8BE4-438D-8610-3F3B630A4E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зуче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 рамками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8030-FE67-48C0-A3B4-C6F81A48CF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тверж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ерства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ук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«17»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кабр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010 г. 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8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C0FE-1539-4B00-95B0-05CD7B1172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технологии в основной школе обеспечив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результ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3CC9-CEDD-40B2-9C57-E342B0539E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познавательных интересов и актив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области предметной технолог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ие желания учиться и трудиться в промышленном производст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влетворения текущих и перспективных потре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трудолюбия и ответственности за ка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вла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кам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ми и правилами научной орган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и физичес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мственных и физ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ей для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сферах с позиций будущей социализации и страт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пределени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ранной сфер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удущ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разовательной и профессиона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щественно полезн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условия безопасной и эффективной соци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режное отно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иродным и хозяйственны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с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к рациональному ведению домашне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технико-технологического и эконом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рганизации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 готовности к предпринимательск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техническ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A67E-F347-4BA1-8857-B0D7679103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апредметными результатами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CA2E-4FA4-4177-B294-20358CDC77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познаватель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ое использ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ектирования и 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а технологических свойств сыр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ов и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иентация в имеющихся и возможных средствах и технология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алгоритмами и методами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х и технико-технологически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ознавание видов, назначения материалов, 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орудования, применяемого в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кодами и методами ч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общенауч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способами научной организации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элементов прикладной экономи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технологий и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2722-5B8F-40F9-9947-27D5132AAB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трудовой сфер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 технологического процес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материал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характера объекта труда и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дение необходимых опытов и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дборе сырья, материалов и проектировании объект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нструментов и оборуд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технологии и материально-энергет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рование последовательности операц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оставление операционной карты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е технологических операций с соблюдением установ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, стандартов и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ожарной безопасности, правил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удовой и технологическ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критерие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оказателей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ых и коне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 применение инстру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промежуточных и конечных 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допущенных ошиб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оцессе труда и обоснование способов их ис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ирование результатов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чет себестоимости продукта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ная экономическая оц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й прибыли с учетом сложившейся ситуаци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3F80-F6A2-4D30-9AD3-57CE0E1F7E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мотивационной сф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и готовности к труд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ретной предме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и к предприниматель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профиля технологической подготовки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ная готовность к тру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материального производства или сфер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о-трудов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ответственности за качество резуль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ичие экологической культ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объекта труда и выполнении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ремление к экономии и бережлив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ходовании времени, материалов, денежных средств 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C2A7-880C-44D0-8CC1-887335801E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эстет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зайнерское проектирование 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я или рациональная эстетическая организац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 художественного оформ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 труда и оптимальное планирование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а рекла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енного объекта или результа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стетическое и рациональное оснащение рабочего мес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требований эргономики и науч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ый выбор рабочего костю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прятное содержание рабочей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168B-AA65-441C-AFEB-D67FB21CFF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оммуникатив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рабочей группы для выполнения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общности интересов и возможностей будущих членов трудового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знаковых систем и средств для кодирования и оформления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коммун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муникационн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действующих нормативов и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бличная презентация и защита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лия, продукта труд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ов рекламных образ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оганов и лейб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ребительская 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рительного ряда действующей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1B51-3B1E-41F4-AC28-BD9FE348C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физиолого-психолог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моторики и координации движений 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необходимой точности движ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различных технолог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ебуемой величины усил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кладываемого к инструменту, с учетом технологических треб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четание образного и лог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ект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3B5F-4524-45D2-9374-301380CF46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DAD6-1F57-4765-AB89-F1EC6312D5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ое  ядро содержания общего образова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7DF0-7037-4F05-953B-F028AEBDF6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получить 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цел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й стратегии обучения, воспитания и развития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ет тематические и сюжетные линии кур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примерное распределение учебных часов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последовательности изучения т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и учебного процес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101C-A59D-4842-983A-674A409F34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программы «Технологи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о-семантическое нормирование учеб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о-плановое построение содер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методическое руково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B7A3-289D-41D3-8243-16D941C43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ы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е содержание, состоящее из разделов и 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4ECF-3DA0-4323-BF1D-4C79C436CE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 предмета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0DB2-3D66-4D49-AD73-21C36B6357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учебного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Индустриальные технологи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ведения дом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ельскохозяйственные технологии» (агротехнологии, технологии животноводст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F62F-0AF9-47F4-AAEF-9DE8CE5321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возные образовательные ли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ультура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остраненные технологии соврем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, эргономик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ы черчения, графики, дизай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ы домашней и прикладной экономики,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миром профессий, выбор учащимис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технической, творческой,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, перспективы и социальные последствия развития технологии и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4E7D-5B3D-4900-A5EB-1ABE02051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6DA-3C0F-4890-B93D-97E7F6F3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9E4-E1A9-4CE4-9D0A-AA235603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552-51F3-4770-ADA6-FD6DAE5B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1DD-D420-4A73-AAEF-3E7B5D23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1356-C07A-4489-8273-D7CC5484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0041-0EF4-41D0-BB3C-81536F1B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BD1C-0B06-4147-895F-B67E3B36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DB39-9302-4EF7-ADFD-CC158A25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D388-65AC-4684-A92A-2F5BF01E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27F9-8C49-455B-B437-DCCF25B6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27F5-5B03-47DC-B22A-DD3BD1E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323-CF3D-48FD-BFF9-386D52AA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1411-5028-487F-8411-051A5FD4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388A-41F5-49BE-AB84-E0E7D21E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C73A-8FAB-48B0-B0D5-46ACA287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4F58-56F1-4D39-BF4F-F7E193F3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787D-BEEB-450F-A940-DB1941A7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52EC-4745-4715-AA0E-68F076E0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DF27-6F8F-4352-A005-F4D82063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8817-8298-4D7D-A29C-EAA86157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0EE53-E1FA-4F99-8A2E-4AB5477A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96F0-42AF-4D54-BB22-10D0F640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8D0-AD84-4A96-B2DB-5B3EC246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1CAF-F679-440C-B21B-DC8ABEBA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0071-814C-4049-9AD9-E2664308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AF11C-4569-4138-A0CA-7D2BA86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08FB-A467-4247-A3E4-0AF541DD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442A-4FAE-474A-9A0E-434B6D23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0C32-1938-4BCB-88ED-9C73C13A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B729-FA28-42DB-B94C-A2E29DC6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6C56A-46BA-4423-8206-7BEA49B9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FDF9-0FF7-4299-BFA2-6EDD9278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61FEB-5329-4504-AB10-4718AC9A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3F5-DE92-4CCD-BCCE-3CB928EA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4F657-387E-4594-8717-88B728F6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C299C-4E56-4501-A725-3F80134E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F20F-97B0-49FC-9703-239CB5D3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D6FF-AC04-4B9B-A265-8EF93314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BAFB3-8A70-4269-8193-8B4AFF5F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2C9F-5CD2-4286-9B53-6E45BC75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D98C2-1E94-4875-BE8D-8C4DB37F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BB814-E058-4AE2-BEBA-B918094A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204A-CEFA-4280-AE35-FAC3AB40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2EA-7353-428B-8181-FD4403FA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2E5-A269-4D96-AAC1-149A8E7C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FC0-71BA-478A-B450-897D8A43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DA7-2E7E-4C17-9B7B-3A0B5E81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501-C996-4083-9EF4-BD1F4F3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23B1-B3D8-4E37-AC24-2DFA8102D0B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0256-EE3B-43EC-9554-6C742B6552A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6C39-4192-47A8-9A28-8187DFF01D73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9B07-F319-4849-AB45-4A407C207AE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F894-A3FE-489E-B82C-3BF4D8077A5B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9E6C-86D4-4FF3-AB7B-A0AB8EAC372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CD0F-BB6B-444C-AA8E-EDB98E97932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50C7-7852-487B-86DE-6FA99D597D5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61372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ИМЕРНАЯ ПРОГРАММ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 ПРЕДМЕТУ «ТЕХНОЛОГИЯ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ОСНОВЕ ФГО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Содержимое 3" descr="программа  тех.GIF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4097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процессе обучения технологии учащиеся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ятся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едметами потребления, потребительной стоимостью продукта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ьным изделием или нематериальной услугой, дизайном, проектом, конструкцие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механизацией труда и автоматизацией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технологической культуро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информационными технологиями в производств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фере услуг; перспективными технология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функциональными и стоимостными характеристиками предметов труд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ехнологий; себестоимостью продукции; экономией сырья, энергии,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оизводительностью труда; реализацие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рекламой, ценой, налогом, доходом и прибылью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едпринимательской деятельностью; бюджетом семь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экологичностью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ехнологи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экологическими требованиями к технологиям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онятием о научной организации 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уда, средствах и методах обеспечения безопасности труд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культурой труда; технологической дисципли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этикой общения на производств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4617b"/>
                </a:solidFill>
                <a:uFillTx/>
                <a:latin typeface="Constantia"/>
              </a:rPr>
              <a:t>овладеют</a:t>
            </a:r>
            <a:r>
              <a:rPr b="1" lang="ru-RU" sz="5000" spc="-1" strike="noStrike" u="sng">
                <a:solidFill>
                  <a:srgbClr val="04617b"/>
                </a:solidFill>
                <a:uFillTx/>
                <a:latin typeface="Constantia"/>
              </a:rPr>
              <a:t>: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созидательно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реобразующей, творческ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чтения и составл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 методами и средствами преобразования и использования материалов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энергии и информации, объектов социальной и природной сред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распознавать и оценивать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трукционных и природных подел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ориент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значении, применении ру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испособлени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и, организации и план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трудовой деятельности на рабочем мес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блюдения культуры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выками организации рабочего ме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подготовке и личным качествам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ие разделы программ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Технологии исследовательской и опытнической деятельности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временное производство и профессиональное образовани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сто предмета «Технология» в базисном учебном (образовательном) план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9286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«Технология» в базисном учебном плане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170 учебных час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язательного изучения курса «Технология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м числе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5 и 6 классах — по 68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ч, из расчета 2 ч в недел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7 классе — 34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, из расчета 1 ч в недел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е врем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учения технологии может быть выделе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 счет резерва времен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базисном учебном (образовательном) пла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нят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8 и 9 класс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гут быть организованы вне обязательной учебной сетки час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о внеурочное время как дополнительное образование во второй половине дн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нностные ориентиры содержа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щие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владею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рудовыми и технологическими знаниями и умен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умениями ориентироваться в мире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использова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остраненн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и прибо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лучат  возможность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 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иться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5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основными технологическими понят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характеристик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назначением 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ми свойствами материал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назначением и устройством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няем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способлений, машин и оборудова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видами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емами и последовательностью выполнения технологических операци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профессиями и специальностям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вязанными с обработкой материалов, созданием изделий из них, получением продук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о значением здорового питания для сохранения своего здоровья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лучит возможность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выполнять</a:t>
            </a: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трудовые операции и работы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934640"/>
            <a:ext cx="8472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цион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овывать рабочее место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необходимую информацию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различных источник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нструкторскую и технологическую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кументацию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ять последовательность выполне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ехнологических операций для изготовления изделия или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бирать сырье, материал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, пищевые продукты, инструменты и оборудование для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струировать, моделировать, изготавлива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дел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пол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заданным критерия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е операции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блюдать безопасные приемы труд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правила пользования ручными инструментами, машинами и электрооборудование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уществл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ступными мерительными средствами, измерительными приборами и визу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качеств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авливаемого изделия (детал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и устра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пущенные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ефект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оводить разработку творческ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ть работы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учетом имеющихся ресурсов и  услов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ределять работ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коллективной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Использовать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 приобретенные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знания и умения</a:t>
            </a:r>
            <a:r>
              <a:rPr b="0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дл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нимания ценности материальной культуры для жизн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я эстетической сред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я творческих способносте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достижения высоких результатов преобразующей творческой деятельности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луч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ко-технологическ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ведений из разнообразных источ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и индивидуальной и коллективной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зготовления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коративно-прикладного искусства для оформления интерь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готовления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емонта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я качества выполняемых работ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применением мерительных, контрольных и разметочных инструмен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я безопасных приемов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авил электробезопасности, санитарии и гигиен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ки затрат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ходимых для создания объекта или услуг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строения планов профессионального образования и трудоустрой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езультаты изуче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93500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за рамками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ФЕДЕРАЛЬНЫЙ ГОСУДАРСТВЕННЫЙ ОБРАЗОВАТЕЛЬНЫЙ СТАНДАРТ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СНОВНОГО ОБЩЕГО ОБРАЗОВАНИЯ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00320"/>
            <a:ext cx="8229600" cy="23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твержд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казом Министерства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«17»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кабр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2010 г. №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189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Изучение технологии в основной школе обеспечивает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достижение результатов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37144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Личностных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ета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Личностные результаты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познавательных интересов и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анной области предметной технол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ие желания учиться и трудиться в промышленном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удовлетворения текущих и перспективных потреб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трудолюбия и ответственности за качеств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влад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становкам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нормами и правилами научной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ственного и физическ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мственных и физическ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пособностей для труда в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х сферах с позиций будущей социализации и стратиф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пределения 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ыбранной сфер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удущ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зовательной и профессиональн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рье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необходим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щественно полезн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условия безопасной и эффективной социал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ереж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 природным и хозяйственны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сурс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ь к рациональному ведению домашне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технико-технологического и эконом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организации 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 готовности к предприниматель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сфере техническо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тапредметными результатами 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 познавательной сфер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ое ис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ой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ля проектирования и 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ценка технологических свойств сырь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ов и областей их примен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иентация в имеющихся и возможных средствах и технология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алгоритмами и методами реш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ационных и технико-технологических задач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ознавание видов, назначения материалов, инструментов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оборудования, применяемого в технологических процесс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кодами и методами чт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общенауч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способами научной организации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элементов прикладной экономи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 обосновании технологий и проек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 трудовой сфере: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 технологического процесса 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цесс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материало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 учетом характера объекта труда и технологи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ведение необходимых опытов и исследован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и подборе сырья, материалов и проектировании объект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нструментов и оборудования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с учетом требований технологии и материально-энергетических ресурс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последовательности операц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составление операционной карты работ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е технологических операций с соблюдением установленных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орм, стандартов и ограничений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, пожарной безопасности, правил санитарии и гигие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удовой и технологической дисципли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критерие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показателе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ачеств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межуточных и конечны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 применение инструмен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промежуточных и конечных 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допущенных ошибок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в процессе труда и обоснование способов их исправл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ирование результатов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и проектной деятель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асчет себестоимости продукта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имерная экономическ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зможной прибыли с учетом сложившейся ситуации на рынке товаров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 мотивационной сфер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и готовности к труду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онкретной предме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и к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бор профиля технологической подготовки 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ная готовность к труд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сфере материального производства или сфере услуг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о-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ответственности за качество резуль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в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личие экологическ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обосновании объекта труда и выполнении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тремление к экономии и бережлив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сходовании времени, материалов, денежных средств и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В эстетической сфер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дизайнерское проектирование из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лия или рациональная эстетическая организация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моделирование художественного оформле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а труда и оптимальное планирование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а реклам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енного объекта или результатов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эстетическое и рациональное оснащение рабочего мест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учетом требований эргономики и научной организации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ый выбор рабочего костюм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опрятное содержание рабочей одеж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коммуникативной сфер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рабочей группы для выполнения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учетом общности интересов и возможностей будущих членов трудового коллекти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бор знаковых систем и средств для кодирования и оформления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цессе коммун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л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оммуникационной и технологическ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учетом требований действующих нормативов и стандар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убличная презентация и защита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делия, продукта труда или услуг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ов рекламных образов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оганов и лейб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требительская 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рительного ряда действующей рекла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физиолого-психологической сфе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моторики и координации движений р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стижение необходимой точности движ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различных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ебуемой величины усил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кладываемого к инструменту, с учетом технол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четание образного и логического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Untitled-3"/>
          <p:cNvPicPr/>
          <p:nvPr/>
        </p:nvPicPr>
        <p:blipFill>
          <a:blip r:embed="rId1"/>
          <a:srcRect l="14455" t="0" r="14428" b="0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2867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программы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785600"/>
            <a:ext cx="5929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ундаментальное  ядро содержания общего образовани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ФГОС НО"/>
          <p:cNvPicPr/>
          <p:nvPr/>
        </p:nvPicPr>
        <p:blipFill>
          <a:blip r:embed="rId1"/>
          <a:stretch/>
        </p:blipFill>
        <p:spPr>
          <a:xfrm>
            <a:off x="5786280" y="1143000"/>
            <a:ext cx="2136960" cy="33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b-41-0139-01"/>
          <p:cNvPicPr/>
          <p:nvPr/>
        </p:nvPicPr>
        <p:blipFill>
          <a:blip r:embed="rId2"/>
          <a:stretch/>
        </p:blipFill>
        <p:spPr>
          <a:xfrm>
            <a:off x="6929280" y="2071800"/>
            <a:ext cx="1928880" cy="28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Содержимое 3" descr="программа  тех.GIF"/>
          <p:cNvPicPr/>
          <p:nvPr/>
        </p:nvPicPr>
        <p:blipFill>
          <a:blip r:embed="rId3"/>
          <a:stretch/>
        </p:blipFill>
        <p:spPr>
          <a:xfrm>
            <a:off x="6286680" y="3714840"/>
            <a:ext cx="2071440" cy="3127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зволяет получить представлени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целях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держ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й стратегии обучения, воспитания и развития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ет тематические и сюжетные линии кур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ет примерное распределение учебных часов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 последовательности изучения т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огики учебного процес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растных особен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Функции программы «Технология»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формационно-семантическое нормирование учебного проце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ганизационно-плановое построение содерж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методическое руковод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азделы программы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яснительная зап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е содержание, состоящее из разделов и т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мерное тематическое план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оснащению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ли изучения предмета «Технология» 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учебного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авл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Индустриальные технолог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ехнологии ведения дома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Сельскохозяйственные технологии» (агротехнологии, технологии животноводст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Сквозные образовательные линии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накомство с миром профессий, выбор уча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я, перспективы и социальные последствия развития технологии и техн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3:33:56Z</dcterms:created>
  <dc:creator>Admin</dc:creator>
  <dc:description/>
  <dc:language>en-US</dc:language>
  <cp:lastModifiedBy>LEGION</cp:lastModifiedBy>
  <dcterms:modified xsi:type="dcterms:W3CDTF">2015-03-31T08:30:01Z</dcterms:modified>
  <cp:revision>40</cp:revision>
  <dc:subject/>
  <dc:title>ТЕХНОЛОГИЯ</dc:title>
</cp:coreProperties>
</file>