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105-4CBE-4753-9087-877E8FD431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АЯ ПРОГРАМ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ДМЕТУ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2CC-1C4F-4FC5-92A9-16997B887C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роцессе обучения технологии учащие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едметами потребления, потребительной стоимостью продукта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ьным изделием или нематериальной услугой, дизайном, проектом, конструк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механизацией труда и автоматизацией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информационными технологиями в производс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фере услуг; перспективными технолог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функциональными и стоимостными характеристиками предмет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й; себестоимостью продукции; экономией сырья, энергии,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изводительностью труда; реализацией продук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рекламой, ценой, налогом, доходом и прибыл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принимательской деятельностью; бюджетом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экологичность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экологическими требованиями к технологиям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онятием о научной организации 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а, средствах и методах обеспечения безопасности тру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культурой труда; технологическ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этикой общения на производ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D577-C988-4D0B-A38E-58114C1CAF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владеют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созид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образующей, творческой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чтения и со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ми методами и средствами преобразования и использования материал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нергии и информации, объектов социальной и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распознавать и оценивать свойст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онных и природных подело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ориентировать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значении, применении ру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испособ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и, организации и планиров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ой деятельности на рабочем мес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соблюдения культур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ами организации рабочего ме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дготовке и личным качества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ECCB-50AE-4FAA-B40A-358299D54E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разделы програм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исследовательской и опытнической деятель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временное производство и профессиональ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BC0-92AA-45F3-AFDB-88CE712F5E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предмета «Технология» в базисном учебном (образовательном)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4A1-F26D-4187-86AD-B595664BC0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я» в базисном учебном пл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70 учебных час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язательного изучения курс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ом числе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5 и 6 классах — по 68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ч, из расчета 2 ч в неделю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7 классе — 3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, из расчета 1 ч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е врем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обучения технологии может быть выделе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 счет резерва времен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зисном учебном (образовательном) пл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8 и 9 класса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гут быть организованы вне обязательной учебной сетки часо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 внеурочное время как дополнительное образование во второй половине д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F425-1D6C-413C-A004-01EEF75AC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ностные ориентиры содержа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владе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овыми и технологическими знаниями и умен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ниями ориентироваться в мире професс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выками использова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 и приб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008-9BC1-4C4D-ACA8-43053AF778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ат  возм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знакомитьс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основными технологическими понятиям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арактерист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азначением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ми свойствами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назначением и устройст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х ру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струмен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способлений, машин и обору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идами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емами и последовательностью выполнения технологических операций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 профессиями и специальност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вязанными с обработкой материалов, созданием изделий из них, получением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 значением здорового питания для сохранения своего здоровь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98DA-AB95-4EF8-A496-383620059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т возможнос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рудовые операции и работ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цион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овывать рабочее мест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необходимую информ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азличных источни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трукторскую и технологическую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кументац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ставлять последовательность выполн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операций для изготовления изделия или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сырье, материал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ищевые продукты, инструменты и оборудование для 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руировать, моделировать, изготавлива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заданным критерия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хнологические опер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ать безопасные приемы тру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ила пользования ручными инструментами, машинами и электрооборуд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еств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упными мерительными средствами, измерительными приборами и визуаль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авливаемого изделия (дета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ь и устран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ущенные д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ек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одить разработку творческого проект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ть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имеющихся ресурсов и  усло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ределять работ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коллектив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AB5-4D19-4F77-A9B7-447A58535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приобретенны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ния и умения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мания ценности материальной культуры для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вит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я эстетическо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я творческих способ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остижения высоких результатов преобразующей творческой деятельност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ко-технолог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ведений из разнообразных источ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зации индивидуальной и коллективной трудо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готовления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оративно-прикладного искусства для оформления интерь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готовления и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монта издел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я качества выполняемы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менением мерительных, контрольных и разметоч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я безопасных приемов тру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 электробезопасности,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и затрат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х для создания объект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строения планов профессионального образования и трудоустр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762C-8498-4201-A333-181882830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изучения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 рамками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E89-E8B5-4A7F-8110-1FA52961A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ЫЙ ГОСУДАРСТВЕННЫЙ ОБРАЗОВАТЕЛЬНЫЙ СТАНДАРТ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ОГО ОБЩЕГО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тверж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ом Министерства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аук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«17»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кабр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010 г. №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8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B31-E2EF-4860-908A-D3851A3F4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технологии в основной школе обеспечивае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результ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чностны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а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97A-F623-4C5E-A5E1-886E65E93D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познавательных интересов и актив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области предметной технологи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ие желания учиться и трудиться в промышленном производств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влетворения текущих и перспективных потре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трудолюбия и ответственности за кач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вла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ановками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ми и правилами научной орган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ого и физическ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мственных и физ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ей для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сферах с позиций будущей социализации и страт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пределения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бранной сфер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удущ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ьн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разовательной и профессиона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щественно полезног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условия безопасной и эффективной соци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режное отнош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иродным и хозяйственны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с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к рациональному ведению домашне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технико-технологического и эконом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рганизации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оценка готовности к предпринимательск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техническ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0BB-E1B1-4765-A70F-5C578353CE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апредметными результатами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C442-1F1F-4AE0-9E17-E8AB9817C1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познаватель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ое использова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хническ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ектирования и 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ка технологических свойств сыр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териалов и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иентация в имеющихся и возможных средствах и технология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я объе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алгоритмами и методами реш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х и технико-технологически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познавание видов, назначения материалов, инструмен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орудования, применяемого в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кодами и методами чт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общенаучны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адение способами научной организации тру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нение элементов прикладной экономи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технологий и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56CA-F60B-400E-BCCA-9986CD738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трудовой сфер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анирование технологического процес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материал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учетом характера объекта труда и техн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ведение необходимых опытов и исследова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одборе сырья, материалов и проектировании объект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нструментов и оборудов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технологии и материально-энергет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рование последовательности операц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составление операционной карты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олнение технологических операций с соблюдением установ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, стандартов и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норм и правил безопасности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ожарной безопасности, правил санитари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удовой и технологической дисципл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основание критерие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оказателей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ых и конечны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бор и применение инстру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троль промежуточных и конечных результатов тр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явление допущенных ошиб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роцессе труда и обоснование способов их ис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ирование результатов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чет себестоимости продукта тру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ная экономическая оц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можной прибыли с учетом сложившейся ситуаци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1259-707B-4733-B6C7-2D93294AD8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мотивационной сф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и готовности к труд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ретной предме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ценивание своей 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и к предприниматель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профиля технологической подготовки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раженная готовность к тру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фере материального производства или сфер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о-трудов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знание ответственности за качество резуль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ичие экологической культ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сновании объекта труда и выполнении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ремление к экономии и бережлив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ходовании времени, материалов, денежных средств 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7931-BAD8-4BC7-9CD2-5AB14B2653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эстет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зайнерское проектирование 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я или рациональная эстетическая организац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ирование художественного оформ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а труда и оптимальное планирование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а рекла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енного объекта или результа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стетическое и рациональное оснащение рабочего мес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требований эргономики и науч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циональный выбор рабочего костю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прятное содержание рабочей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BC5-4ED1-4306-8403-3FC23FDF7C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оммуникативн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рабочей группы для выполнения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общности интересов и возможностей будущих членов трудового коллекти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ор знаковых систем и средств для кодирования и оформления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коммун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муникационной и технологическ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кумент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учетом требований действующих нормативов и стандар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бличная презентация и защита про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лия, продукта труда ил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аботка вариантов рекламных образов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оганов и лейб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требительская 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рительного ряда действующей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3F4E-B6F1-4EFB-AAE0-643B0DD215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ными результа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физиолого-психологической сфе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витие моторики и координации движений 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стижение необходимой точности движ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различных технолог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блюдение требуемой величины усил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кладываемого к инструменту, с учетом технологических треб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четание образного и логического мышл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роект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3AF-EFBD-45CD-99B2-177D8A4BF6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F2BE-4AF4-46A4-A045-A419DCDED7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ое  ядро содержания общего образова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351-9991-4DCC-BE40-88202E7B3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получить предст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цел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й стратегии обучения, воспитания и развития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ет тематические и сюжетные линии кур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ет примерное распределение учебных часов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риант последовательности изучения т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и учебного процес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EE64-13A4-45F8-8C99-F7ABD4DFB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программы «Технологи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о-семантическое нормирование учеб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изационно-плановое построение содер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методическое руково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8ADB-1C79-4D9B-8113-6BEE0512D5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ы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снительная зап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е содержание, состоящее из разделов и 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е тематическое 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 по оснащению учеб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91C-EB78-4234-B6FE-0B5219FE2F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 предмета «Технолог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D9F-71EE-4110-B848-23501686F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учебного предмета «Техн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Индустриальные технологии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хнологии ведения дом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ельскохозяйственные технологии» (агротехнологии, технологии животноводст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699-F427-496B-B80D-AD5408604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возные образовательные ли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ультура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ространенные технологии современ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, эргономик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ы черчения, графики, дизай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ы домашней и прикладной экономики,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миром профессий, выбор учащимис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технической, творческой, проект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, перспективы и социальные последствия развития технологии и тех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C3E2-6BEE-44CA-9689-0A604EA5A0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057-E78F-4BD8-BAB8-424F6A64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7E1D-DDB9-4FA1-97CF-A9FB708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AAD-1400-4F65-B483-B0B3CF00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FC2-E523-45A2-A841-FD15272D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4198-C9F8-4F42-B016-99F0F94A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C8F6-8FAD-46A8-812A-ED072B9D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CF15-BF8C-4B51-84D0-45E86834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6ABF-0553-4A74-8A24-EEF50A0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A4AF-0147-4728-BAF3-0AC1ED9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EFD-412F-4BD5-A0A3-78398131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EF6-34B0-4722-BA94-29F2D3AE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08B-EA42-4635-A5D9-F0A63574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678-FA10-4559-84BF-83B3D5B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F2D-34EC-4C92-9CBE-0CCC7B16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BB00-B89B-4FFC-B5D1-C97F5D4A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7D06-87AE-483B-8454-768171FD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D846-139E-4565-BF61-91F8C85C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3C5B-E982-41F4-80EA-8821D81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B590-E367-470B-B365-FDA4AC6F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3258-B5D1-47F5-9E4B-408505A2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3184-67E2-45F2-8A16-5BBD24D3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01D4-7EF6-44DD-A9D2-B8B1153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B37-A518-422D-8323-4E302F1C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B216-019F-4AAA-BCF9-B340CA56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BF01-F122-41DD-94F9-BBAA202D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8248-547C-4319-8FF6-2966246B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AA909-3280-406F-BA7D-19B8396E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D346-F69B-47E4-9B18-1E93DEF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B3B51-6B0D-45ED-8A4C-98C2E12A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4753-CAAA-4FBE-8C0E-12B7DB10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BA3A-9F3B-4149-A162-AE472B01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38A0-64A5-4711-9C8B-89F3E7AB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7175-F4E4-4A65-A558-A779B6C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613-7BDB-4046-B37F-DCD129E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45D5-9D8C-4C99-B139-505F758B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1AB23-82F2-42DE-BD06-116211BC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4114-D992-4821-BE51-BF47295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343A-F550-46F1-98F3-CC1D376C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7E8B-B6CC-423C-A3F6-F15842E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052D5-F99C-44C5-820F-F8A63D49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9DC1-C48D-4E51-86F7-2D2B989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A4C9-51FA-40E1-A3B4-4DF49048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28CE-CCB0-482C-8DF5-6848C99C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8221-ACCA-4149-B68C-EBF340D4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EFE-740D-4511-9FC8-E4355A7D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0A3-30B3-4C67-99A3-18954BA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64F-8D04-4930-A1C3-408837B2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5EB-7226-411A-A0C9-8F10942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C1A5-589F-4D36-9ADC-28CB4983911D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EB9-4F24-4589-B798-42754722E4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0BB7-0493-46E7-AC46-EAC3B8564A6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2D13-F0F7-4DBC-B15F-1FAE865CB7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2565-A425-4B6E-96AD-E2377A81D0B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1DE-70AF-41ED-802F-F0D7B8F217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0D21-8E60-4698-8D5A-AF51CD0012C2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E11-356D-46A1-BEE0-9DB082AEFB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61372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2960" y="35719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ИМЕРНАЯ ПРОГРАММА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 ПРЕДМЕТУ «ТЕХНОЛОГИЯ»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 ОСНОВЕ ФГО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Содержимое 3" descr="программа  тех.GIF"/>
          <p:cNvPicPr/>
          <p:nvPr/>
        </p:nvPicPr>
        <p:blipFill>
          <a:blip r:embed="rId2"/>
          <a:stretch/>
        </p:blipFill>
        <p:spPr>
          <a:xfrm>
            <a:off x="0" y="2357280"/>
            <a:ext cx="2714760" cy="4097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процессе обучения технологии учащиеся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ятся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едметами потребления, потребительной стоимостью продукта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ьным изделием или нематериальной услугой, дизайном, проектом, конструкцие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механизацией труда и автоматизацией производств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технологической культуро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информационными технологиями в производстве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и сфере услуг; перспективными технология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функциональными и стоимостными характеристиками предметов труда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технологий; себестоимостью продукции; экономией сырья, энергии,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роизводительностью труда; реализацией продук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рекламой, ценой, налогом, доходом и прибылью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едпринимательской деятельностью; бюджетом семь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экологичностью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ехнологий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экологическими требованиями к технологиям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 устройством, сборкой, управлением и обслуживанием доступных и посильных технико-технологических средств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понятием о научной организации 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уда, средствах и методах обеспечения безопасности труд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 культурой труда; технологической дисципли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 этикой общения на производстве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4617b"/>
                </a:solidFill>
                <a:uFillTx/>
                <a:latin typeface="Constantia"/>
              </a:rPr>
              <a:t>овладеют</a:t>
            </a:r>
            <a:r>
              <a:rPr b="1" lang="ru-RU" sz="5000" spc="-1" strike="noStrike" u="sng">
                <a:solidFill>
                  <a:srgbClr val="04617b"/>
                </a:solidFill>
                <a:uFillTx/>
                <a:latin typeface="Constantia"/>
              </a:rPr>
              <a:t>: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созидательно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преобразующей, творческой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чтения и составл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измерения параметров технологического процесса и продукта труда, выбора, моделирования, конструирования, проектирования объекта труда и технологии с использованием компьют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новными методами и средствами преобразования и использования материалов,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энергии и информации, объектов социальной и природной сред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распознавать и оценивать свойств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онструкционных и природных подел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материалов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ориент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значении, применении ру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испособлений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и, организации и планиро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трудовой деятельности на рабочем мес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блюдения культуры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выками организации рабочего ме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умением соотносить с личными потребностями и особенностями требования, предъявляемые различными массовыми профессиям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подготовке и личным качествам челове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ие разделы программы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Технологии исследовательской и опытнической деятельности»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«Современное производство и профессиональное образовани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сто предмета «Технология» в базисном учебном (образовательном) план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92860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мет «Технология» является необходимым компонентом общего образования школьников. Его содержание предоставляет молодым людям возможность бесконфликтно войти в мир искусственной, созданной людьми среды техники и технологий, которая называется техносферой и является главной составляющей окружающей человека действи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«Технология» в базисном учебном плане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170 учебных часов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язательного изучения курса «Технология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том числе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5 и 6 классах — по 68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ч, из расчета 2 ч в неделю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7 классе — 34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, из расчета 1 ч в недел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е врем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ля обучения технологии может быть выделен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за счет резерва времен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базисном учебном (образовательном) пла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няти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8 и 9 класс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гут быть организованы вне обязательной учебной сетки часо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о внеурочное время как дополнительное образование во второй половине дн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нностные ориентиры содержа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чащиеся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владеют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рудовыми и технологическими знаниями и умен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преобразованию и использованию материалов, энергии, информации, необходимыми для создания продуктов труда в соответствии с их предполагаемыми функциональными и эстетическими свойств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умениями ориентироваться в мире профессий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оценивать свои профессиональные интересы и склонности к изучаемым видам трудовой деятельности, составлять жизненные и профессиональные планы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навыками использова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остраненн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 и прибор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планирования бюджета домашнего хозяйства; культуры труда, уважительного отношения к труду и результатам тру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лучат  возможность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 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познакомиться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500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основными технологическими понятиями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характеристикам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назначением и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ми свойствами материалов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назначением и устройством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меняемых ручных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инструментов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способлений, машин и оборудовани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видами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приемами и последовательностью выполнения технологических операци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лиянием различных технологий обработки материалов и получения продукции на окружающую среду и здоровье человек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 профессиями и специальностям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связанными с обработкой материалов, созданием изделий из них, получением продук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со значением здорового питания для сохранения своего здоровья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лучит возможность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выполнять</a:t>
            </a:r>
            <a:r>
              <a:rPr b="0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000" spc="-1" strike="noStrike" u="sng">
                <a:solidFill>
                  <a:srgbClr val="04617b"/>
                </a:solidFill>
                <a:uFillTx/>
                <a:latin typeface="Constantia"/>
              </a:rPr>
              <a:t>трудовые операции и работы</a:t>
            </a: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934640"/>
            <a:ext cx="8472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рацион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овывать рабочее место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необходимую информацию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в различных источник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конструкторскую и технологическую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кументацию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ять последовательность выполнения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ехнологических операций для изготовления изделия или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бирать сырье, материал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, пищевые продукты, инструменты и оборудование для выполнения работ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струировать, моделировать, изготавлива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дел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ыпол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о заданным критериям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технологические операции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использованием ручных инструментов, приспособлений, машин, оборудования, электроприбор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блюдать безопасные приемы труд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 правила пользования ручными инструментами, машинами и электрооборудованием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уществл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ступными мерительными средствами, измерительными приборами и визуальн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качеств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авливаемого изделия (детали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находить и устранять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пущенные д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ефекты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оводить разработку творческ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изготовления изделия или получения продукта с использованием освоенных технологий и доступных материалов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ть работы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 учетом имеющихся ресурсов и  услов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ределять работу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и коллективной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Использовать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 приобретенные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знания и умения</a:t>
            </a:r>
            <a:r>
              <a:rPr b="0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дл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нимания ценности материальной культуры для жизн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развития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я эстетической сред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ыт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азвития творческих способносте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достижения высоких результатов преобразующей творческой деятельности челове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лучения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технико-технологическ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ведений из разнообразных источ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форм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рганизации индивидуальной и коллективной трудов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изготовления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екоративно-прикладного искусства для оформления интерьер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готовления ил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ремонта изделий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з различных материалов с использованием ручных инструментов, приспособлений, машин, оборуд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я качества выполняемых работ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 применением мерительных, контрольных и разметочных инструмен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я безопасных приемов труд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правил электробезопасности, санитарии и гигиены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ки затрат,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еобходимых для создания объекта или услуг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построения планов профессионального образования и трудоустрой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езультаты изучения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1935000"/>
            <a:ext cx="91440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ной из важнейших задач второй ступени пропедевтического технологического образования является подготовка обучающихся к осознанному и ответственному выбору жизненного и профессионального пут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обучающиеся должны научиться самостоятельно формулировать цели и определять пути их достижения, использовать приобретенный в школе опыт деятельности в реальной жизн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за рамками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686800" cy="3224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ФЕДЕРАЛЬНЫЙ ГОСУДАРСТВЕННЫЙ ОБРАЗОВАТЕЛЬНЫЙ СТАНДАРТ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ОСНОВНОГО ОБЩЕГО ОБРАЗОВАНИЯ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4000320"/>
            <a:ext cx="8229600" cy="23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твержде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казом Министерства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науки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 «17»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кабр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2010 г. №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189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Изучение технологии в основной школе обеспечивает </a:t>
            </a:r>
            <a:r>
              <a:rPr b="1" lang="ru-RU" sz="4500" spc="-1" strike="noStrike" u="sng">
                <a:solidFill>
                  <a:srgbClr val="04617b"/>
                </a:solidFill>
                <a:uFillTx/>
                <a:latin typeface="Constantia"/>
              </a:rPr>
              <a:t>достижение результатов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371448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Личностных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Мета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едметных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onstantia"/>
              </a:rPr>
              <a:t>Личностные результаты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2560" y="12139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познавательных интересов и активност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данной области предметной технолог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ие желания учиться и трудиться в промышленном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удовлетворения текущих и перспективных потребнос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трудолюбия и ответственности за качество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влад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становками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нормами и правилами научной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мственного и физическ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умственных и физическ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пособностей для труда в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личных сферах с позиций будущей социализации и стратиф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ановлен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пределения в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ыбранной сфер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удущ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разовательной и профессиональн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карьеры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необходим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общественно полезн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труд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ак условия безопасной и эффективной социал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береж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 природным и хозяйственным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есурса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ь к рациональному ведению домашнего хозяйств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технико-технологического и экономического мышлени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организации свое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самооценка готовности к предпринимательско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в сфере технического труд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Метапредметными результатами 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7146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алгоритмизированное планирова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оцесса познавательно-трудовой д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пределение адекватных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меющимся организационным и материально-техническим условия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пособов реш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чебной или трудов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и на основе заданных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комбинирование известных алгоритм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го и технологического творчеств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 ситуациях, не предполагающих стандартного приме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го из ни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роявление инновационного подхода к реш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ению учебных и практическ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процессе моделирования изделия или технологического процесс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иск новых решений возникш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ехнической или организационной п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роблемы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амостоятельная организация и выполнение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лич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творческих работ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созданию технических изделий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иртуальное и натурное моделирование технических объект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технологических процессов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ведение примеров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подбор аргументов, формулирование выводо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обоснованию технико-технологического и организационного решения;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тражение в устной или письменной форме результатов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потребностей, проектирование и создание объектов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имеющих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выбор для решен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познавательных и коммуникативны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задач различных источников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включая энциклопедии, словари, интернет-ресурсы и другие базы данны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использование дополнительной информаци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проектировании и создании объектов, имеющих личностную или общественно значимую потребительную стоимость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гласование и координац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вместной познавательно-трудовой деятельности с другими ее участниками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бъективн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вклада своей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 решение общих задач коллекти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познавательно-трудовой деятельности с точки зрения нравственных, правовых норм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, эстетических ценностей по принятым в обществе и коллективе требованиям и принципа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диагностика результатов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принятым критериям и показателям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путей и средств устранения ошибок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или разрешения противоречий в выполняемых технологических процессах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культуры труда в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ответствии с технологической культурой производства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познавательно-трудовой деятель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 созидательного труд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 познавательной сфере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ое использование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ебной 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дополнительно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технической и технологическ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для проектирования и 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ценка технологических свойств сырья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материалов и областей их примен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ориентация в имеющихся и возможных средствах и технологиях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здания объектов труд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алгоритмами и методами реш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ационных и технико-технологических задач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классификация видов и назначения методов получения и преобразования материал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энергии, информации, объектов живой природы и социальной среды, а также соответствующих технологий промышленного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познавание видов, назначения материалов, инструментов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оборудования, применяемого в технологических процессах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кодами и методами чтения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способами графического представления технической, технологической и инструктивно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общенауч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о предметам естественно-математического цикла в процессе подготовки и осуществления технологических процессов для обоснования и аргументации рациональности деятель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владение способами научной организации труд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формами деятельности, соответствующими культуре труда и технологической культуре произво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применение элементов прикладной экономики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и обосновании технологий и проек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 трудовой сфере: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ланирование технологического процесса и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цесс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материало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с учетом характера объекта труда и технологи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ведение необходимых опытов и исследован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и подборе сырья, материалов и проектировании объекта тру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нструментов и оборудования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с учетом требований технологии и материально-энергетических ресурс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оектирование последовательности операций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составление операционной карты работ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полнение технологических операций с соблюдением установленных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норм, стандартов и ограничений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норм и правил безопасности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, пожарной безопасности, правил санитарии и гигие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удовой и технологической дисциплины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обоснование критериев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и показателе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ачеств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промежуточных и конечных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ыбор и использование кодов, средств и видов представления технической и технологической информации и знаковых систем в соответствии с коммуникативной задачей, сферой и ситуацией общ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одбор и применение инструмен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тов, приборов и оборудования в технологических процессах с учетом областей их примен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контроль промежуточных и конечных результатов тру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да по установленным критериям и показателям с использованием контрольных и измерительных инструментов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выявление допущенных ошибок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в процессе труда и обоснование способов их исправления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ирование результатов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и проектной деятельности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расчет себестоимости продукта труда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onstantia"/>
              </a:rPr>
              <a:t>примерная экономическая оценка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озможной прибыли с учетом сложившейся ситуации на рынке товаров и услуг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934640"/>
            <a:ext cx="91440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 мотивационной сфер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и готовности к труду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конкретной предмет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ценивание своей способн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готовности к предпринимательск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бор профиля технологической подготовки 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рших классах полной средней школы или профессии в учреждениях начального профессионального или среднего специального обуче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выраженная готовность к труду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сфере материального производства или сфере услуг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огласование своих потребностей и требований с потребностями и требованиями других участников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знавательно-трудов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осознание ответственности за качество резуль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в труд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наличие экологической культуры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 обосновании объекта труда и выполнении рабо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nstantia"/>
              </a:rPr>
              <a:t>стремление к экономии и бережливости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расходовании времени, материалов, денежных средств и тру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В эстетической сфер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дизайнерское проектирование из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елия или рациональная эстетическая организация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моделирование художественного оформления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бъекта труда и оптимальное планирование работ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а рекламы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выполненного объекта или результатов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эстетическое и рациональное оснащение рабочего мест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 учетом требований эргономики и научной организации труда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onstantia"/>
              </a:rPr>
              <a:t>рациональный выбор рабочего костюма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 опрятное содержание рабочей одежд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коммуникативной сфере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ирование рабочей группы для выполнения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 учетом общности интересов и возможностей будущих членов трудового коллекти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ыбор знаковых систем и средств для кодирования и оформления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цессе коммуник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формл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коммуникационной и технологическо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документаци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 учетом требований действующих нормативов и стандарт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убличная презентация и защита проекта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делия, продукта труда или услуг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разработка вариантов рекламных образов,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слоганов и лейбл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требительская оценк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зрительного ряда действующей реклам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редметными результатами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являются</a:t>
            </a: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физиолого-психологической сфер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моторики и координации движений р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при работе с ручными инструментами и выполнении операций с помощью машин и механизм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достижение необходимой точности движений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различных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блюдение требуемой величины усил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икладываемого к инструменту, с учетом технологических требовани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очетание образного и логического мышлен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роцессе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Untitled-3"/>
          <p:cNvPicPr/>
          <p:nvPr/>
        </p:nvPicPr>
        <p:blipFill>
          <a:blip r:embed="rId1"/>
          <a:srcRect l="14455" t="0" r="14428" b="0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33"/>
                </a:solidFill>
                <a:latin typeface="Arial Black"/>
              </a:rPr>
              <a:t>standart.edu.ru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72867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программы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785600"/>
            <a:ext cx="5929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ундаментальное  ядро содержания общего образования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ребования к результатам освоения основной общеобразовательной программы основного общего образо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едеральный  государственный образовательный стандарт основного общего образования второго поко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ФГОС НО"/>
          <p:cNvPicPr/>
          <p:nvPr/>
        </p:nvPicPr>
        <p:blipFill>
          <a:blip r:embed="rId1"/>
          <a:stretch/>
        </p:blipFill>
        <p:spPr>
          <a:xfrm>
            <a:off x="5786280" y="1143000"/>
            <a:ext cx="2136960" cy="330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b-41-0139-01"/>
          <p:cNvPicPr/>
          <p:nvPr/>
        </p:nvPicPr>
        <p:blipFill>
          <a:blip r:embed="rId2"/>
          <a:stretch/>
        </p:blipFill>
        <p:spPr>
          <a:xfrm>
            <a:off x="6929280" y="2071800"/>
            <a:ext cx="1928880" cy="284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Содержимое 3" descr="программа  тех.GIF"/>
          <p:cNvPicPr/>
          <p:nvPr/>
        </p:nvPicPr>
        <p:blipFill>
          <a:blip r:embed="rId3"/>
          <a:stretch/>
        </p:blipFill>
        <p:spPr>
          <a:xfrm>
            <a:off x="6286680" y="3714840"/>
            <a:ext cx="2071440" cy="3127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Позволяет получить представление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 целях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держан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й стратегии обучения, воспитания и развития учащихся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ет тематические и сюжетные линии кур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ает примерное распределение учебных часов,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ариант последовательности изучения тем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огики учебного процесс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зрастных особенностей учащих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Функции программы «Технология»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формационно-семантическое нормирование учебного проце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рганизационно-плановое построение содерж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щеметодическое руковод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Разделы программы: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яснительная запис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е содержание, состоящее из разделов и т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мерное тематическое план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екомендации по оснащению учебного проце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Цели изучения предмета «Технология» 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ая цель  - формирование представлений о составляющих техносферы, о современном производстве и о распространенных в нем технология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Общая характеристика учебного предмета «Технология»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92896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Направления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Индустриальные технологии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ехнологии ведения дома»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Сельскохозяйственные технологии» (агротехнологии, технологии животноводств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onstantia"/>
              </a:rPr>
              <a:t>Сквозные образовательные линии</a:t>
            </a:r>
            <a:endParaRPr b="0" lang="en-US" sz="45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ехнологическая культура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спространенные технологии современного производ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ультура, эргономика и эстетика труд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учение, обработка, хранение и использование технической и технологической информ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сновы черчения, графики, дизай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ементы домашней и прикладной экономики, предпринимательств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знакомство с миром профессий, выбор учащимися жизненных, профессиональных плано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тоды технической, творческой, проектной дея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стория, перспективы и социальные последствия развития технологии и техн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23:33:56Z</dcterms:created>
  <dc:creator>Admin</dc:creator>
  <dc:description/>
  <dc:language>en-US</dc:language>
  <cp:lastModifiedBy>LEGION</cp:lastModifiedBy>
  <dcterms:modified xsi:type="dcterms:W3CDTF">2015-03-31T08:30:01Z</dcterms:modified>
  <cp:revision>40</cp:revision>
  <dc:subject/>
  <dc:title>ТЕХНОЛОГИЯ</dc:title>
</cp:coreProperties>
</file>