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8.wmf" ContentType="image/x-wmf"/>
  <Override PartName="/ppt/media/image30.png" ContentType="image/png"/>
  <Override PartName="/ppt/media/image37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23.wmf" ContentType="image/x-wmf"/>
  <Override PartName="/ppt/media/image38.jpeg" ContentType="image/jpeg"/>
  <Override PartName="/ppt/media/image7.jpeg" ContentType="image/jpeg"/>
  <Override PartName="/ppt/media/image34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13.jpeg" ContentType="image/jpeg"/>
  <Override PartName="/ppt/media/image3.wmf" ContentType="image/x-wmf"/>
  <Override PartName="/ppt/media/image26.wmf" ContentType="image/x-wmf"/>
  <Override PartName="/ppt/media/image36.jpeg" ContentType="image/jpeg"/>
  <Override PartName="/ppt/media/image2.jpeg" ContentType="image/jpeg"/>
  <Override PartName="/ppt/media/image15.jpeg" ContentType="image/jpeg"/>
  <Override PartName="/ppt/media/image25.wmf" ContentType="image/x-wmf"/>
  <Override PartName="/ppt/media/image1.png" ContentType="image/png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CA4A-D594-4393-BF74-672BF6E7DB87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599A-CEE5-423B-8CFC-6BC717A3D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411D-6843-4808-AFDF-3337F90F582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DFA7-80D7-4985-88B2-D81308A711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ворческий проек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пина 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катег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9F42-229C-4E22-AB24-826E47B09FC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7749-9A01-4FAB-9C4E-FDD4C934EB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ктуальность выбр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цель и содержание поставленной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нируемый результ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жпредметные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орудование и материа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E6F7-7652-45E9-B4F7-CF2082DDB5AC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4267-A302-4443-B7CE-07E197A680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9DB1-CB04-42F7-81CB-4E3AB008521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D53E-0062-4123-B4AE-53B55DC8A6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лагаемая методика и техника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ткий обзор литера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тория предмета и техники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следование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6F9C-7CD8-4660-960A-768628281DC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C120-85D6-45B3-802C-819B33DCD1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4670-F5FF-47CF-A99B-17F6A1F1C6F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5A1A-C369-4A12-A73F-5D781083A3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рынка сб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3EA7-DCF8-4336-827A-AD2175C5C66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76D5-F17F-418F-ADE1-4D04719200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1146-17EE-409D-B028-EA6D9551890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6390-F076-40C7-B4A8-6797B53A7E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оценк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0980-E622-4B26-B1ED-8836EDA51A1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3AE5-6434-44CE-B391-F7AE7AA52A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D699-9788-40C6-8DAE-7492E5F6AC0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9CD3-D125-4108-A659-B89C8C912E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ое совершен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тетические достоин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ие общественным потребност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бство эксплуа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896A-267C-4E4D-96A5-986F53CE8D84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0FAD-C9D6-45BF-AD66-337985BC0D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амостоя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ая рабо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полненная под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уководством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7F9E-2100-4569-95E4-3A2DFD0C952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E9AC-68AB-4FD8-AAAC-A5E6A9EEF9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ка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3728-7ADA-4172-B68C-D2662919C3E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9B10-24D4-46B2-BBC5-BAF7C84226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ы проектов 2009-2010 уч.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удьте здоро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узей пуговицы в шко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шивка (крест, гладь, изони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язание (крючком, спица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летение (макраме, лоз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уп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зайн (помещения, ландшаф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следователь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я будущая профе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рия материалов (металл, ткан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оль косметики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00A1-0CC6-4257-9291-BCA10017B6D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6937-6EEA-4248-8A9D-32D09E1CBC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4E31-585C-4B1D-BEE0-17A3824BE62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BF0B-2F16-4F31-BC58-0EEB2D9103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E104-2BE9-45F0-8555-948248C4C19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90E7-64E6-46B3-BAB8-51E8FDE004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489F-BDA3-4222-815F-B4F95BAE787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2A2E-E7FB-4061-80AB-58112A58C4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0530-DD97-4665-9D32-7C2C7470400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A567-4DFF-4252-A0C1-93FBD1CB7D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BD08-EECB-426F-ABF9-B608DBE25E0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EDD7-1010-40FA-90AC-F2B24A0C92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E30B-D4FD-4921-A66B-0F7777784ED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5412-F30F-4545-B6E2-0D7C32EA1E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2DF6-BA38-40E5-9F95-30EFC906C35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5C59-F2C8-4545-A505-5660BB8C25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номические расч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логически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ормляются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защит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CC9A-097A-4740-8EBC-57E47749C1F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9A14-817F-4A30-A406-340CEF0F66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301-28CB-4000-8098-94618028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EED-6A55-433D-A42D-C255528E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B91-7760-4B7C-82F6-AC683254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C40-743F-4D6F-B0C8-E0F7778C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A247-112F-4A16-9874-B52270F9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E5B0-E7F1-4671-9413-3B1A5DD3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8299-8C7C-4B55-B0F6-15598D75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004D-01D7-4895-8FA4-72ACE158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1001-BA96-464C-A91F-D43D0BD4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1110-C88D-43B7-9911-8B935F3F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2A95-1880-4D7C-9621-232C9733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25C-E97E-4DA3-A4E6-3D30567D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21C1-E755-45E6-B965-EDD35CA6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BCE9-B575-45C3-A8D1-CFE6AF2D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FBD9-48E7-4594-B8B7-B3078F57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783F-D8DF-4E3E-A552-1E0300E7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33C2-4640-4D59-922D-1FD33C51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059-EA34-46A2-8AF7-78343E79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AD0-71D8-4155-A028-31B7EF8C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424-E8A7-4A93-8BE0-B76542C8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939-A9BA-49AD-B620-F29D4FA8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55D-034B-4878-A99A-C57BD2D5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EF1-E045-4AA6-BE65-B5E2CC29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C96-D8FE-4F7F-8D18-76FEACE5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F0EA-E973-4EB8-9AE1-17E9D5446F7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F759-1245-49FF-97EF-6F1808A77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C6F9-C9CA-42FF-B53C-07EE4C190AC8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7ABB-6F14-4A83-9B1C-DFDDF58DAD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1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0A46-0FEA-4FF6-ACD4-39CEA86C1C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Творческий проект </a:t>
            </a:r>
            <a:br>
              <a:rPr sz="4800"/>
            </a:b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в школ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типина В.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шей катег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000_0585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-252360" y="396360"/>
            <a:ext cx="99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FC13-455F-4A64-9823-CAEB1DDF4B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Банк идей и пред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Исследование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еск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лог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9" descr="SDC12158"/>
          <p:cNvPicPr/>
          <p:nvPr/>
        </p:nvPicPr>
        <p:blipFill>
          <a:blip r:embed="rId4"/>
          <a:stretch/>
        </p:blipFill>
        <p:spPr>
          <a:xfrm>
            <a:off x="5651640" y="1773360"/>
            <a:ext cx="1417320" cy="2016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SDC12160"/>
          <p:cNvPicPr/>
          <p:nvPr/>
        </p:nvPicPr>
        <p:blipFill>
          <a:blip r:embed="rId5"/>
          <a:stretch/>
        </p:blipFill>
        <p:spPr>
          <a:xfrm>
            <a:off x="7308720" y="1773360"/>
            <a:ext cx="1376640" cy="19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IMG_1769"/>
          <p:cNvPicPr/>
          <p:nvPr/>
        </p:nvPicPr>
        <p:blipFill>
          <a:blip r:embed="rId6"/>
          <a:stretch/>
        </p:blipFill>
        <p:spPr>
          <a:xfrm>
            <a:off x="5508720" y="400536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05E9-9D65-4C42-814E-3A4D09BB2B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Актуальность выбранной 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цель и содержание поставленной зада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ланируемый результа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межпредметные связ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орудование и материа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иса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в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j0299125"/>
          <p:cNvPicPr/>
          <p:nvPr/>
        </p:nvPicPr>
        <p:blipFill>
          <a:blip r:embed="rId1"/>
          <a:stretch/>
        </p:blipFill>
        <p:spPr>
          <a:xfrm>
            <a:off x="7380360" y="4292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B8F6-FBCD-49C2-AD36-8D164C8AFD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нк идей и предложе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2060640"/>
          <a:ext cx="8229600" cy="388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Text Box 18"/>
          <p:cNvSpPr/>
          <p:nvPr/>
        </p:nvSpPr>
        <p:spPr>
          <a:xfrm>
            <a:off x="2804040" y="5877000"/>
            <a:ext cx="34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снование выбора иде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0" descr="j0216588"/>
          <p:cNvPicPr/>
          <p:nvPr/>
        </p:nvPicPr>
        <p:blipFill>
          <a:blip r:embed="rId1"/>
          <a:stretch/>
        </p:blipFill>
        <p:spPr>
          <a:xfrm>
            <a:off x="684360" y="2133720"/>
            <a:ext cx="1609560" cy="180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j0199661"/>
          <p:cNvPicPr/>
          <p:nvPr/>
        </p:nvPicPr>
        <p:blipFill>
          <a:blip r:embed="rId2"/>
          <a:stretch/>
        </p:blipFill>
        <p:spPr>
          <a:xfrm>
            <a:off x="611280" y="4149720"/>
            <a:ext cx="1727280" cy="1670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j0090386"/>
          <p:cNvPicPr/>
          <p:nvPr/>
        </p:nvPicPr>
        <p:blipFill>
          <a:blip r:embed="rId3"/>
          <a:stretch/>
        </p:blipFill>
        <p:spPr>
          <a:xfrm>
            <a:off x="4716360" y="4076640"/>
            <a:ext cx="2087640" cy="1787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7" descr="j0195534"/>
          <p:cNvPicPr/>
          <p:nvPr/>
        </p:nvPicPr>
        <p:blipFill>
          <a:blip r:embed="rId4"/>
          <a:stretch/>
        </p:blipFill>
        <p:spPr>
          <a:xfrm>
            <a:off x="4859280" y="2133720"/>
            <a:ext cx="1476360" cy="18176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28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8504-5EBC-403B-BA5C-0CAD793A15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е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лагаемая методика и техника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раткий обзор литера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тория предмета и техники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следование материа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j0217698"/>
          <p:cNvPicPr/>
          <p:nvPr/>
        </p:nvPicPr>
        <p:blipFill>
          <a:blip r:embed="rId1"/>
          <a:stretch/>
        </p:blipFill>
        <p:spPr>
          <a:xfrm>
            <a:off x="6516720" y="403704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6932-7196-4049-B398-AD66F1A4B8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ологическ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6468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ая к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284720" y="2349360"/>
          <a:ext cx="4570200" cy="4104000"/>
        </p:xfrm>
        <a:graphic>
          <a:graphicData uri="http://schemas.openxmlformats.org/drawingml/2006/table">
            <a:tbl>
              <a:tblPr/>
              <a:tblGrid>
                <a:gridCol w="485640"/>
                <a:gridCol w="1214640"/>
                <a:gridCol w="1323720"/>
                <a:gridCol w="154620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оп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рудование, инструменты, Материа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6" name="Picture 44" descr="j0234266"/>
          <p:cNvPicPr/>
          <p:nvPr/>
        </p:nvPicPr>
        <p:blipFill>
          <a:blip r:embed="rId1"/>
          <a:stretch/>
        </p:blipFill>
        <p:spPr>
          <a:xfrm>
            <a:off x="611280" y="1844640"/>
            <a:ext cx="2319120" cy="2260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5" descr="j0199283"/>
          <p:cNvPicPr/>
          <p:nvPr/>
        </p:nvPicPr>
        <p:blipFill>
          <a:blip r:embed="rId2"/>
          <a:stretch/>
        </p:blipFill>
        <p:spPr>
          <a:xfrm>
            <a:off x="755640" y="4508640"/>
            <a:ext cx="1841400" cy="16542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46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91BE-1173-4EA2-933A-8EC276330D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ном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ынка сб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7" descr="j0195384"/>
          <p:cNvPicPr/>
          <p:nvPr/>
        </p:nvPicPr>
        <p:blipFill>
          <a:blip r:embed="rId1"/>
          <a:stretch/>
        </p:blipFill>
        <p:spPr>
          <a:xfrm>
            <a:off x="6300720" y="450864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8"/>
          <p:cNvSpPr/>
          <p:nvPr/>
        </p:nvSpPr>
        <p:spPr>
          <a:xfrm>
            <a:off x="100476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0E0A-62C2-4C4E-BE06-33FC725C04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j0285360"/>
          <p:cNvPicPr/>
          <p:nvPr/>
        </p:nvPicPr>
        <p:blipFill>
          <a:blip r:embed="rId1"/>
          <a:stretch/>
        </p:blipFill>
        <p:spPr>
          <a:xfrm>
            <a:off x="1042920" y="4724280"/>
            <a:ext cx="1474920" cy="1817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5"/>
          <p:cNvSpPr/>
          <p:nvPr/>
        </p:nvSpPr>
        <p:spPr>
          <a:xfrm>
            <a:off x="1117440" y="1886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E736-7F13-4DDB-8746-D4A2341174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амооценка проделанной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FC7F-4007-4EEF-BA9E-D84C3AFFD5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59" name="Organization Chart 5"/>
          <p:cNvGrpSpPr/>
          <p:nvPr/>
        </p:nvGrpSpPr>
        <p:grpSpPr>
          <a:xfrm>
            <a:off x="457200" y="2133720"/>
            <a:ext cx="8229240" cy="4534920"/>
            <a:chOff x="457200" y="2133720"/>
            <a:chExt cx="8229240" cy="4534920"/>
          </a:xfrm>
        </p:grpSpPr>
        <p:cxnSp>
          <p:nvCxnSpPr>
            <p:cNvPr id="360" name="_s4100"/>
            <p:cNvCxnSpPr>
              <a:stCxn id="361" idx="1"/>
              <a:endCxn id="362" idx="2"/>
            </p:cNvCxnSpPr>
            <p:nvPr/>
          </p:nvCxnSpPr>
          <p:spPr>
            <a:xfrm rot="10800000">
              <a:off x="6701040" y="326664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3" name="_s4101"/>
            <p:cNvCxnSpPr>
              <a:stCxn id="364" idx="1"/>
              <a:endCxn id="362" idx="2"/>
            </p:cNvCxnSpPr>
            <p:nvPr/>
          </p:nvCxnSpPr>
          <p:spPr>
            <a:xfrm rot="10800000">
              <a:off x="6701040" y="326664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5" name="_s4102"/>
            <p:cNvCxnSpPr>
              <a:stCxn id="366" idx="1"/>
              <a:endCxn id="362" idx="2"/>
            </p:cNvCxnSpPr>
            <p:nvPr/>
          </p:nvCxnSpPr>
          <p:spPr>
            <a:xfrm rot="10800000">
              <a:off x="6701040" y="326664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7" name="_s4103"/>
            <p:cNvCxnSpPr>
              <a:stCxn id="368" idx="1"/>
              <a:endCxn id="362" idx="2"/>
            </p:cNvCxnSpPr>
            <p:nvPr/>
          </p:nvCxnSpPr>
          <p:spPr>
            <a:xfrm rot="10800000">
              <a:off x="670104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9" name="_s4104"/>
            <p:cNvCxnSpPr>
              <a:stCxn id="370" idx="1"/>
              <a:endCxn id="371" idx="2"/>
            </p:cNvCxnSpPr>
            <p:nvPr/>
          </p:nvCxnSpPr>
          <p:spPr>
            <a:xfrm rot="10800000">
              <a:off x="4431960" y="3266640"/>
              <a:ext cx="2826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2" name="_s4105"/>
            <p:cNvCxnSpPr>
              <a:stCxn id="373" idx="1"/>
              <a:endCxn id="371" idx="2"/>
            </p:cNvCxnSpPr>
            <p:nvPr/>
          </p:nvCxnSpPr>
          <p:spPr>
            <a:xfrm rot="10800000">
              <a:off x="4431960" y="3266640"/>
              <a:ext cx="2826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4" name="_s4106"/>
            <p:cNvCxnSpPr>
              <a:stCxn id="375" idx="1"/>
              <a:endCxn id="371" idx="2"/>
            </p:cNvCxnSpPr>
            <p:nvPr/>
          </p:nvCxnSpPr>
          <p:spPr>
            <a:xfrm rot="10800000">
              <a:off x="4431960" y="3266640"/>
              <a:ext cx="2826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6" name="_s4107"/>
            <p:cNvCxnSpPr>
              <a:stCxn id="377" idx="3"/>
              <a:endCxn id="378" idx="2"/>
            </p:cNvCxnSpPr>
            <p:nvPr/>
          </p:nvCxnSpPr>
          <p:spPr>
            <a:xfrm flipV="1">
              <a:off x="2160000" y="3266640"/>
              <a:ext cx="284400" cy="31770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9" name="_s4108"/>
            <p:cNvCxnSpPr>
              <a:stCxn id="380" idx="3"/>
              <a:endCxn id="378" idx="2"/>
            </p:cNvCxnSpPr>
            <p:nvPr/>
          </p:nvCxnSpPr>
          <p:spPr>
            <a:xfrm flipV="1">
              <a:off x="2160000" y="326700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1" name="_s4109"/>
            <p:cNvCxnSpPr>
              <a:stCxn id="382" idx="3"/>
              <a:endCxn id="378" idx="2"/>
            </p:cNvCxnSpPr>
            <p:nvPr/>
          </p:nvCxnSpPr>
          <p:spPr>
            <a:xfrm flipV="1">
              <a:off x="2160000" y="326700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3" name="_s4110"/>
            <p:cNvCxnSpPr>
              <a:stCxn id="384" idx="3"/>
              <a:endCxn id="378" idx="2"/>
            </p:cNvCxnSpPr>
            <p:nvPr/>
          </p:nvCxnSpPr>
          <p:spPr>
            <a:xfrm flipV="1">
              <a:off x="2160000" y="326700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5" name="_s4111"/>
            <p:cNvCxnSpPr>
              <a:stCxn id="386" idx="3"/>
              <a:endCxn id="378" idx="2"/>
            </p:cNvCxnSpPr>
            <p:nvPr/>
          </p:nvCxnSpPr>
          <p:spPr>
            <a:xfrm flipV="1">
              <a:off x="216000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7" name="_s4112"/>
            <p:cNvCxnSpPr>
              <a:stCxn id="362" idx="0"/>
              <a:endCxn id="388" idx="2"/>
            </p:cNvCxnSpPr>
            <p:nvPr/>
          </p:nvCxnSpPr>
          <p:spPr>
            <a:xfrm flipV="1" rot="16200000">
              <a:off x="5523480" y="1634760"/>
              <a:ext cx="227160" cy="212976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9" name="_s4113"/>
            <p:cNvCxnSpPr>
              <a:stCxn id="371" idx="0"/>
              <a:endCxn id="388" idx="2"/>
            </p:cNvCxnSpPr>
            <p:nvPr/>
          </p:nvCxnSpPr>
          <p:spPr>
            <a:xfrm flipH="1" flipV="1" rot="5400000">
              <a:off x="4389120" y="2629800"/>
              <a:ext cx="227160" cy="14040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90" name="_s4114"/>
            <p:cNvCxnSpPr>
              <a:stCxn id="378" idx="0"/>
              <a:endCxn id="388" idx="2"/>
            </p:cNvCxnSpPr>
            <p:nvPr/>
          </p:nvCxnSpPr>
          <p:spPr>
            <a:xfrm flipH="1" flipV="1" rot="5400000">
              <a:off x="3394800" y="1635480"/>
              <a:ext cx="227160" cy="212904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sp>
          <p:nvSpPr>
            <p:cNvPr id="388" name="_s4115"/>
            <p:cNvSpPr/>
            <p:nvPr/>
          </p:nvSpPr>
          <p:spPr>
            <a:xfrm>
              <a:off x="3720960" y="2133720"/>
              <a:ext cx="1702800" cy="453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ff99"/>
              </a:solidFill>
              <a:miter/>
            </a:ln>
            <a:effectLst>
              <a:outerShdw dist="63504" dir="19383909" blurRad="0" rotWithShape="0">
                <a:srgbClr val="99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оек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_s4116"/>
            <p:cNvSpPr/>
            <p:nvPr/>
          </p:nvSpPr>
          <p:spPr>
            <a:xfrm>
              <a:off x="1592280" y="2813760"/>
              <a:ext cx="1702800" cy="453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Теоретическо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обоснова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_s4117"/>
            <p:cNvSpPr/>
            <p:nvPr/>
          </p:nvSpPr>
          <p:spPr>
            <a:xfrm>
              <a:off x="3579480" y="2813760"/>
              <a:ext cx="1702800" cy="453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актическая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ча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_s4118"/>
            <p:cNvSpPr/>
            <p:nvPr/>
          </p:nvSpPr>
          <p:spPr>
            <a:xfrm>
              <a:off x="5850360" y="2813760"/>
              <a:ext cx="1702800" cy="453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илож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_s4119"/>
            <p:cNvSpPr/>
            <p:nvPr/>
          </p:nvSpPr>
          <p:spPr>
            <a:xfrm>
              <a:off x="457200" y="3494160"/>
              <a:ext cx="1702800" cy="453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ыбо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емы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_s4120"/>
            <p:cNvSpPr/>
            <p:nvPr/>
          </p:nvSpPr>
          <p:spPr>
            <a:xfrm>
              <a:off x="457200" y="4174560"/>
              <a:ext cx="1702800" cy="4532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ктуальн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_s4121"/>
            <p:cNvSpPr/>
            <p:nvPr/>
          </p:nvSpPr>
          <p:spPr>
            <a:xfrm>
              <a:off x="457200" y="4854600"/>
              <a:ext cx="1702800" cy="453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цел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_s4122"/>
            <p:cNvSpPr/>
            <p:nvPr/>
          </p:nvSpPr>
          <p:spPr>
            <a:xfrm>
              <a:off x="458640" y="5535000"/>
              <a:ext cx="1701000" cy="4532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Задачи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_s4123"/>
            <p:cNvSpPr/>
            <p:nvPr/>
          </p:nvSpPr>
          <p:spPr>
            <a:xfrm>
              <a:off x="457200" y="6215400"/>
              <a:ext cx="1702800" cy="4532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Гипоте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_s4124"/>
            <p:cNvSpPr/>
            <p:nvPr/>
          </p:nvSpPr>
          <p:spPr>
            <a:xfrm>
              <a:off x="4714920" y="3494160"/>
              <a:ext cx="1702800" cy="4532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вторск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_s4125"/>
            <p:cNvSpPr/>
            <p:nvPr/>
          </p:nvSpPr>
          <p:spPr>
            <a:xfrm>
              <a:off x="4714920" y="4174560"/>
              <a:ext cx="1702800" cy="4532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ализаци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_s4126"/>
            <p:cNvSpPr/>
            <p:nvPr/>
          </p:nvSpPr>
          <p:spPr>
            <a:xfrm>
              <a:off x="4714920" y="4854600"/>
              <a:ext cx="1702800" cy="4532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зультаты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_s4127"/>
            <p:cNvSpPr/>
            <p:nvPr/>
          </p:nvSpPr>
          <p:spPr>
            <a:xfrm>
              <a:off x="6985800" y="3494160"/>
              <a:ext cx="1700640" cy="45324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нке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_s4128"/>
            <p:cNvSpPr/>
            <p:nvPr/>
          </p:nvSpPr>
          <p:spPr>
            <a:xfrm>
              <a:off x="6985800" y="4174560"/>
              <a:ext cx="1700640" cy="45324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Диаграм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_s4129"/>
            <p:cNvSpPr/>
            <p:nvPr/>
          </p:nvSpPr>
          <p:spPr>
            <a:xfrm>
              <a:off x="6985800" y="4854600"/>
              <a:ext cx="1698840" cy="4532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аблиц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_s4130"/>
            <p:cNvSpPr/>
            <p:nvPr/>
          </p:nvSpPr>
          <p:spPr>
            <a:xfrm>
              <a:off x="6985800" y="5535000"/>
              <a:ext cx="1700640" cy="45324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Фотограф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1" name="Picture 50" descr="j0283209"/>
          <p:cNvPicPr/>
          <p:nvPr/>
        </p:nvPicPr>
        <p:blipFill>
          <a:blip r:embed="rId17"/>
          <a:stretch/>
        </p:blipFill>
        <p:spPr>
          <a:xfrm>
            <a:off x="2627280" y="5013360"/>
            <a:ext cx="1728720" cy="1690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1"/>
          <p:cNvSpPr/>
          <p:nvPr/>
        </p:nvSpPr>
        <p:spPr>
          <a:xfrm>
            <a:off x="107748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8045-830A-4D82-9B24-700A9A1E84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ЦЕНК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ое совершен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етические достои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опас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тветствие общественным потребност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бство эксплуат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им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4" descr="j0300840"/>
          <p:cNvPicPr/>
          <p:nvPr/>
        </p:nvPicPr>
        <p:blipFill>
          <a:blip r:embed="rId1"/>
          <a:stretch/>
        </p:blipFill>
        <p:spPr>
          <a:xfrm>
            <a:off x="6732720" y="486900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114912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EA6E-A39D-4649-A62B-B6FE7B234F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77612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–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самостоятель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творческая работ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выполненная под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руководством учител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j0299125"/>
          <p:cNvPicPr/>
          <p:nvPr/>
        </p:nvPicPr>
        <p:blipFill>
          <a:blip r:embed="rId1"/>
          <a:stretch/>
        </p:blipFill>
        <p:spPr>
          <a:xfrm>
            <a:off x="179280" y="2708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1306080" y="52812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3879-AA8F-408B-995E-25D71F74FB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тика проек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4" descr="SDC12173"/>
          <p:cNvPicPr/>
          <p:nvPr/>
        </p:nvPicPr>
        <p:blipFill>
          <a:blip r:embed="rId1"/>
          <a:stretch/>
        </p:blipFill>
        <p:spPr>
          <a:xfrm>
            <a:off x="7236000" y="42210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SDC12174"/>
          <p:cNvPicPr/>
          <p:nvPr/>
        </p:nvPicPr>
        <p:blipFill>
          <a:blip r:embed="rId2"/>
          <a:stretch/>
        </p:blipFill>
        <p:spPr>
          <a:xfrm>
            <a:off x="550872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SDC12178"/>
          <p:cNvPicPr/>
          <p:nvPr/>
        </p:nvPicPr>
        <p:blipFill>
          <a:blip r:embed="rId3"/>
          <a:stretch/>
        </p:blipFill>
        <p:spPr>
          <a:xfrm>
            <a:off x="378000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SDC12179"/>
          <p:cNvPicPr/>
          <p:nvPr/>
        </p:nvPicPr>
        <p:blipFill>
          <a:blip r:embed="rId4"/>
          <a:stretch/>
        </p:blipFill>
        <p:spPr>
          <a:xfrm>
            <a:off x="2050920" y="4221000"/>
            <a:ext cx="1675080" cy="2232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SDC12186"/>
          <p:cNvPicPr/>
          <p:nvPr/>
        </p:nvPicPr>
        <p:blipFill>
          <a:blip r:embed="rId5"/>
          <a:stretch/>
        </p:blipFill>
        <p:spPr>
          <a:xfrm>
            <a:off x="250920" y="4221000"/>
            <a:ext cx="1665360" cy="22068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9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7618-DF0B-49D5-8015-BFEE4E5F6F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ы проектов 2009-2010 уч.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ы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дьте здоро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узей пуговицы в шк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шивка (крест, гладь, изонит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язание (крючком, спиц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летение (макраме, лоз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екупа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изайн (помещения, ландшаф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следователь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я будущая профес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стория материалов (металл, ткан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оль косметики в жизни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4" descr="SDC12184"/>
          <p:cNvPicPr/>
          <p:nvPr/>
        </p:nvPicPr>
        <p:blipFill>
          <a:blip r:embed="rId1"/>
          <a:stretch/>
        </p:blipFill>
        <p:spPr>
          <a:xfrm>
            <a:off x="5076720" y="1989000"/>
            <a:ext cx="3888000" cy="33832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6BDB-9EDA-430A-A08B-23BDE310F9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SDC11711"/>
          <p:cNvPicPr/>
          <p:nvPr/>
        </p:nvPicPr>
        <p:blipFill>
          <a:blip r:embed="rId1"/>
          <a:stretch/>
        </p:blipFill>
        <p:spPr>
          <a:xfrm>
            <a:off x="971640" y="3284640"/>
            <a:ext cx="7345440" cy="33829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5E2B-441F-4FE0-B7C5-6A26A82FAE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797724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-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j0299125"/>
          <p:cNvPicPr/>
          <p:nvPr/>
        </p:nvPicPr>
        <p:blipFill>
          <a:blip r:embed="rId1"/>
          <a:stretch/>
        </p:blipFill>
        <p:spPr>
          <a:xfrm>
            <a:off x="324000" y="4724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1150560" y="280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8E85-F481-42E8-AD6A-4B92CC7F69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7" name="Organization Chart 5"/>
          <p:cNvGrpSpPr/>
          <p:nvPr/>
        </p:nvGrpSpPr>
        <p:grpSpPr>
          <a:xfrm>
            <a:off x="457200" y="1557360"/>
            <a:ext cx="8228160" cy="4966920"/>
            <a:chOff x="457200" y="1557360"/>
            <a:chExt cx="8228160" cy="4966920"/>
          </a:xfrm>
        </p:grpSpPr>
        <p:cxnSp>
          <p:nvCxnSpPr>
            <p:cNvPr id="238" name="_s1028"/>
            <p:cNvCxnSpPr>
              <a:stCxn id="239" idx="1"/>
              <a:endCxn id="240" idx="2"/>
            </p:cNvCxnSpPr>
            <p:nvPr/>
          </p:nvCxnSpPr>
          <p:spPr>
            <a:xfrm rot="10800000">
              <a:off x="2925000" y="2140920"/>
              <a:ext cx="823320" cy="4093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29"/>
            <p:cNvCxnSpPr>
              <a:stCxn id="242" idx="1"/>
              <a:endCxn id="240" idx="2"/>
            </p:cNvCxnSpPr>
            <p:nvPr/>
          </p:nvCxnSpPr>
          <p:spPr>
            <a:xfrm rot="10800000">
              <a:off x="2925000" y="2140920"/>
              <a:ext cx="823320" cy="321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1030"/>
            <p:cNvCxnSpPr>
              <a:stCxn id="244" idx="1"/>
              <a:endCxn id="240" idx="2"/>
            </p:cNvCxnSpPr>
            <p:nvPr/>
          </p:nvCxnSpPr>
          <p:spPr>
            <a:xfrm rot="10800000">
              <a:off x="2925000" y="2140920"/>
              <a:ext cx="823320" cy="2338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5" name="_s1031"/>
            <p:cNvCxnSpPr>
              <a:stCxn id="246" idx="1"/>
              <a:endCxn id="240" idx="2"/>
            </p:cNvCxnSpPr>
            <p:nvPr/>
          </p:nvCxnSpPr>
          <p:spPr>
            <a:xfrm rot="10800000">
              <a:off x="2925000" y="2140920"/>
              <a:ext cx="823320" cy="1461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7" name="_s1032"/>
            <p:cNvCxnSpPr>
              <a:stCxn id="248" idx="1"/>
              <a:endCxn id="240" idx="2"/>
            </p:cNvCxnSpPr>
            <p:nvPr/>
          </p:nvCxnSpPr>
          <p:spPr>
            <a:xfrm rot="10800000">
              <a:off x="2925000" y="2140920"/>
              <a:ext cx="823320" cy="58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3"/>
            <p:cNvSpPr/>
            <p:nvPr/>
          </p:nvSpPr>
          <p:spPr>
            <a:xfrm>
              <a:off x="457200" y="155736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Организационно-подготовите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этап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1034"/>
            <p:cNvSpPr/>
            <p:nvPr/>
          </p:nvSpPr>
          <p:spPr>
            <a:xfrm>
              <a:off x="3748320" y="24336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боснование возникшей проблемы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 потребности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1035"/>
            <p:cNvSpPr/>
            <p:nvPr/>
          </p:nvSpPr>
          <p:spPr>
            <a:xfrm>
              <a:off x="3748320" y="33102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1036"/>
            <p:cNvSpPr/>
            <p:nvPr/>
          </p:nvSpPr>
          <p:spPr>
            <a:xfrm>
              <a:off x="3748320" y="41868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1037"/>
            <p:cNvSpPr/>
            <p:nvPr/>
          </p:nvSpPr>
          <p:spPr>
            <a:xfrm>
              <a:off x="3748320" y="50634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1038"/>
            <p:cNvSpPr/>
            <p:nvPr/>
          </p:nvSpPr>
          <p:spPr>
            <a:xfrm>
              <a:off x="3748320" y="59400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бор оборудования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нструментов и приспособл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Rectangle 30"/>
          <p:cNvSpPr/>
          <p:nvPr/>
        </p:nvSpPr>
        <p:spPr>
          <a:xfrm>
            <a:off x="4359960" y="4149720"/>
            <a:ext cx="4065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исание внешнего вида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4790880" y="5157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5509800" y="32846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34" descr="000_0582"/>
          <p:cNvPicPr/>
          <p:nvPr/>
        </p:nvPicPr>
        <p:blipFill>
          <a:blip r:embed="rId1"/>
          <a:stretch/>
        </p:blipFill>
        <p:spPr>
          <a:xfrm>
            <a:off x="250920" y="321300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5"/>
          <p:cNvSpPr/>
          <p:nvPr/>
        </p:nvSpPr>
        <p:spPr>
          <a:xfrm>
            <a:off x="726840" y="91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61CF-4B91-4A6B-8AE3-62FCD8D8DF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37E7-5EFE-455B-ADBD-88319070A8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2" name="Organization Chart 16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63" name="_s2052"/>
            <p:cNvCxnSpPr>
              <a:stCxn id="264" idx="1"/>
              <a:endCxn id="26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2053"/>
            <p:cNvCxnSpPr>
              <a:stCxn id="267" idx="1"/>
              <a:endCxn id="26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5" name="_s2054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Технологический этап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_s2055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полнение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ологических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перац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2056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Соблюдение услов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ики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безопасности и культуры труд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Picture 26" descr="настя1"/>
          <p:cNvPicPr/>
          <p:nvPr/>
        </p:nvPicPr>
        <p:blipFill>
          <a:blip r:embed="rId1"/>
          <a:stretch/>
        </p:blipFill>
        <p:spPr>
          <a:xfrm>
            <a:off x="6227640" y="155736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настя"/>
          <p:cNvPicPr/>
          <p:nvPr/>
        </p:nvPicPr>
        <p:blipFill>
          <a:blip r:embed="rId2"/>
          <a:stretch/>
        </p:blipFill>
        <p:spPr>
          <a:xfrm>
            <a:off x="250920" y="5075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лена"/>
          <p:cNvPicPr/>
          <p:nvPr/>
        </p:nvPicPr>
        <p:blipFill>
          <a:blip r:embed="rId3"/>
          <a:stretch/>
        </p:blipFill>
        <p:spPr>
          <a:xfrm>
            <a:off x="179280" y="3213000"/>
            <a:ext cx="2400480" cy="18003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9"/>
          <p:cNvSpPr/>
          <p:nvPr/>
        </p:nvSpPr>
        <p:spPr>
          <a:xfrm>
            <a:off x="1083960" y="9648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FBEA-AC97-4868-8125-F66667DD8C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SDC11284"/>
          <p:cNvPicPr/>
          <p:nvPr/>
        </p:nvPicPr>
        <p:blipFill>
          <a:blip r:embed="rId1"/>
          <a:stretch/>
        </p:blipFill>
        <p:spPr>
          <a:xfrm>
            <a:off x="684360" y="3122640"/>
            <a:ext cx="3958920" cy="297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SDC11286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726840" y="1360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B555-0A68-46A4-9A02-70BD86B067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2" name="Organization Chart 5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83" name="_s3076"/>
            <p:cNvCxnSpPr>
              <a:stCxn id="284" idx="1"/>
              <a:endCxn id="28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6" name="_s3077"/>
            <p:cNvCxnSpPr>
              <a:stCxn id="287" idx="1"/>
              <a:endCxn id="28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5" name="_s3078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Заключительный эта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3079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ценка проделанной работы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_s3080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Защита проекта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8" name="Picture 16" descr="SDC11186"/>
          <p:cNvPicPr/>
          <p:nvPr/>
        </p:nvPicPr>
        <p:blipFill>
          <a:blip r:embed="rId1"/>
          <a:stretch/>
        </p:blipFill>
        <p:spPr>
          <a:xfrm>
            <a:off x="6084720" y="162864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7" descr="SDC11001"/>
          <p:cNvPicPr/>
          <p:nvPr/>
        </p:nvPicPr>
        <p:blipFill>
          <a:blip r:embed="rId2"/>
          <a:stretch/>
        </p:blipFill>
        <p:spPr>
          <a:xfrm>
            <a:off x="324000" y="436572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8"/>
          <p:cNvSpPr/>
          <p:nvPr/>
        </p:nvSpPr>
        <p:spPr>
          <a:xfrm>
            <a:off x="1044360" y="182160"/>
            <a:ext cx="686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2E66-DE3A-4433-A9ED-68B5B5BE11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номические расче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логические исслед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формляются результа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зводится защита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11 б 010"/>
          <p:cNvPicPr/>
          <p:nvPr/>
        </p:nvPicPr>
        <p:blipFill>
          <a:blip r:embed="rId1"/>
          <a:stretch/>
        </p:blipFill>
        <p:spPr>
          <a:xfrm>
            <a:off x="539640" y="4076640"/>
            <a:ext cx="2109960" cy="2509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день моря 3"/>
          <p:cNvPicPr/>
          <p:nvPr/>
        </p:nvPicPr>
        <p:blipFill>
          <a:blip r:embed="rId2"/>
          <a:stretch/>
        </p:blipFill>
        <p:spPr>
          <a:xfrm>
            <a:off x="6588000" y="3357720"/>
            <a:ext cx="2298960" cy="2462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SDC11181"/>
          <p:cNvPicPr/>
          <p:nvPr/>
        </p:nvPicPr>
        <p:blipFill>
          <a:blip r:embed="rId3"/>
          <a:stretch/>
        </p:blipFill>
        <p:spPr>
          <a:xfrm>
            <a:off x="2987640" y="414972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SDC11704"/>
          <p:cNvPicPr/>
          <p:nvPr/>
        </p:nvPicPr>
        <p:blipFill>
          <a:blip r:embed="rId4"/>
          <a:stretch/>
        </p:blipFill>
        <p:spPr>
          <a:xfrm>
            <a:off x="7740720" y="907920"/>
            <a:ext cx="1020600" cy="1484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000_0231"/>
          <p:cNvPicPr/>
          <p:nvPr/>
        </p:nvPicPr>
        <p:blipFill>
          <a:blip r:embed="rId5"/>
          <a:stretch/>
        </p:blipFill>
        <p:spPr>
          <a:xfrm>
            <a:off x="250920" y="836640"/>
            <a:ext cx="1942920" cy="10605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5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6:37:30Z</dcterms:created>
  <dc:creator>ПК</dc:creator>
  <dc:description>uchportal.ru</dc:description>
  <dc:language>en-US</dc:language>
  <cp:lastModifiedBy>LEGION</cp:lastModifiedBy>
  <dcterms:modified xsi:type="dcterms:W3CDTF">2015-03-31T08:31:44Z</dcterms:modified>
  <cp:revision>23</cp:revision>
  <dc:subject/>
  <dc:title>Проект по 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9000000000001024140</vt:lpwstr>
  </property>
</Properties>
</file>