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7.wmf" ContentType="image/x-wmf"/>
  <Override PartName="/ppt/media/image24.wmf" ContentType="image/x-wmf"/>
  <Override PartName="/ppt/media/image22.wmf" ContentType="image/x-wmf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28.wmf" ContentType="image/x-wmf"/>
  <Override PartName="/ppt/media/image30.png" ContentType="image/png"/>
  <Override PartName="/ppt/media/image37.jpeg" ContentType="image/jpeg"/>
  <Override PartName="/ppt/media/image12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23.wmf" ContentType="image/x-wmf"/>
  <Override PartName="/ppt/media/image38.jpeg" ContentType="image/jpeg"/>
  <Override PartName="/ppt/media/image7.jpeg" ContentType="image/jpeg"/>
  <Override PartName="/ppt/media/image34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13.jpeg" ContentType="image/jpeg"/>
  <Override PartName="/ppt/media/image3.wmf" ContentType="image/x-wmf"/>
  <Override PartName="/ppt/media/image26.wmf" ContentType="image/x-wmf"/>
  <Override PartName="/ppt/media/image36.jpeg" ContentType="image/jpeg"/>
  <Override PartName="/ppt/media/image2.jpeg" ContentType="image/jpeg"/>
  <Override PartName="/ppt/media/image15.jpeg" ContentType="image/jpeg"/>
  <Override PartName="/ppt/media/image25.wmf" ContentType="image/x-wmf"/>
  <Override PartName="/ppt/media/image1.png" ContentType="image/png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6376-C2FB-4D4D-8FE9-EFD4A97FCB8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830A-A45F-4BB1-89A9-10BD126A02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9E75-A75C-4244-B2FD-F6EC829D14E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F4BE-C613-4F70-AF94-55149D640A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ворческий проект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пина В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техн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ей категор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Акбулакского района Оренбургской об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анк идей и 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ном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лог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2061-E3CF-4BD0-993A-0E1824487D0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EFE0-9539-4EC2-91CB-7218EF0685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ктуальность выбранной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цель и содержание поставленной зада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ланируемый результа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ежпредметные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характеристика источников информации (литерату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орудование и материа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ачи, которые предстоит реши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ь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CF87-7963-4BFC-BF2F-21AC4B1B1C7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68E9-17AC-46C0-9A0E-689DC05E62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 идей и 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B8F5-4D13-47BC-B9ED-C163F239A25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6DEA-2B2F-4DD3-8A99-F8CD887548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лагаемая методика и техника выполн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аткий обзор литерату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тория предмета и техники выполн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следование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E0FB-EDED-4246-BEF9-C2EE6CA7EB7E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3B33-2D20-4BE9-BAA8-F639897BF1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67B1-7AE9-430A-8A9C-08B7676E6360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3054-D748-4F71-B030-487AFE8CEF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ности  проектируемого издел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рынка сб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B796-5E67-4765-9923-205EF56337B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BA83-9A41-46A0-A771-2E3C88E90F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того, что изготовление и эксплуатация изделия не нанесут вреда окружающей среде и жизнедеятельности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656E-17CE-4C90-9B3E-BE70B88A85C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1E7A-3CE2-42DB-A669-3B3673945D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ледовательно изложить полученные результа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пределить их соотношение с общей целью и задачами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амооценка проделанной рабо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указать пути продол­жения исследования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ачи, которые предстоит реш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3312-3DA5-4E0F-BA5E-F7F09C648B2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569A-9B0D-427C-8961-57702C4D8E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B7D9-9F29-452B-9515-5064D9447A20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0556-71C8-4590-8DF3-1E72BA3745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и изделие оценивается во время защиты проекта по следующим критери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ое совершен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стетические достоин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ие общественным потребност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бство эксплуат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м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0D9C-24E3-4ED6-9582-75D81D120820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A56D-8E70-49C8-9F7C-04802C5C74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ИЙ ПРОЕКТ –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самостоя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ворческая рабо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полненная под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уководством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B225-EC36-4688-BB4B-9FB96CEC760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B284-F01B-4F16-8518-AF703FD559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тика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тика проектов носит декоративно-прикладной, исследовательский, социальный   характер. При таком разнообразии видов работ многосторонняя проба сил позволяет выявить и развить способности и склонности учащихся, сделать процесс обучения интерес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DF83-96DF-4642-A9E5-547BED548F3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747C-848A-4F08-BCD5-BE00789A89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ы проектов 2009-2010 уч.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ы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удьте здоро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узей пуговицы в шко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ворчески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шивка (крест, гладь, изони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язание (крючком, спица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летение (макраме, лоз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купа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зайн (помещения, ландшаф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следовательски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я будущая профес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ория материалов (металл, ткан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оль косметики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овые направления дизайна (пирсинг, тюнинг, татуиров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6103-33EC-4634-8400-F1CB422145F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ED3E-A206-4CC9-8245-4BBA3457EC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ыполнение творческого проекта – одна из сторон воспитания. Оно нацелено на создание детьми нравственной ценности трудового начала жизни»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Лернер П.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E19D-B9A7-4684-B629-0717A4CFDC3E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5104-5B1A-47FA-8667-65F246FFEA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ИЙ ПРОЕКТ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учебно-трудовое задание, активизирующее деятельность учащихся, в результате которого ими создается продукт, обладающий новиз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AEB5-A6B6-4B5B-8029-E016EDD52E5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32F1-79A3-4D97-8C3F-E20F4DDF09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2F9D-8E91-42A0-BD5A-C3C147CCE8D4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029A-6F11-4F0A-877D-F2A7D5C783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ься проблема осознания нужд и потребностей во всех сферах деятельности человека (зачем и почему  надо выполнить проект, каково его значение в  жизни обще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ся цель – получение полезного проекта, который может носить как социальный, так и личностный характ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технология изготовления, ( подбор инструментов и оборудова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ется последовательность технологических операций (выбор оптимальной технологии изготовления издел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ми деятельности выступает личный опыт, а так же все рабочие инструменты и обору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ами деятельности является приобретение новых знаний, умений, производится самоконтроль и самооцен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3EFC-D1FB-4262-B27B-DB62A624DC30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C37A-CC05-4CA2-A359-671C549914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6651-FBE6-4A6E-BD64-920F64BFA38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DE2A-D121-4878-808C-D4B4F23803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ются технологические операции, корректируется деятельность, производится самоконтроль и самооценка рабо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– качественнее и правильнее выполнить трудовые опера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 – приобретение знаний, умений и навы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42DD-AA75-4F83-92BA-78631C12E3F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191D-1762-49FA-B24B-FF7914A9F6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E588-9F62-4CFF-BB80-E87C84D8D33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9EA4-34B3-440F-B672-2062C55E52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окончательный контроль и защита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ятся экономические расче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ятся экологические исслед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ется проделанная работа, устанавливается, результат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ормляются результа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ся защит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0EA4-3246-4575-8BAD-22DE71C55C9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C70D-E763-4199-8633-766ED0721D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7AE-9093-4D94-A595-338A1BD5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3F2A-1209-4E0C-9AAF-AB774AEA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396-87EC-4FFE-B652-AA1EB5F0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E89-13DC-4916-8B36-BED12F56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2DC2-1F6D-4D71-B01D-AFA76888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51B5-12B2-49E7-A8EF-DB36EC41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2BAE-00F0-4FD8-9820-1B6A5993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EC3D-F54E-418C-A451-F4173A81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3ED9-6B57-4939-A14F-B2E290FA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322C-B345-4777-985F-C94B8C6C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3BD5-A2C8-4F24-8639-D0E80555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DBC4-758A-476D-BC17-DC7784CA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705E-A8CC-4936-AE8D-503834D5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39EA-8683-44A3-BB00-476D3F04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7D5C-E377-43AF-B30C-B764438E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414F-4EE7-42FE-B7EF-1B19D8C2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C5AB-C5A2-4299-81CC-9C8B1CAE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2D3-B7C7-4429-BCE4-23BA9D99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838B-54D3-4BF3-871E-70AC02E7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5A4-4097-437D-895B-15252FB0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5E2-CADE-4D54-A2C3-F252B6A3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473-AF38-4A74-BF3B-A99891D3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18B1-1BFF-4F2C-9415-ED4599D4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B62-BC3F-4333-A800-DBE9212F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D05D-B2AE-4B43-98A5-C0741CD7106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A2B4-6E70-42CE-A816-5B695F4AC3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6FF6-A95E-410E-8F27-456CC2F06579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CFC8-BEE8-49F5-8337-FC9D93F354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image" Target="../media/image30.png"/><Relationship Id="rId17" Type="http://schemas.openxmlformats.org/officeDocument/2006/relationships/image" Target="../media/image31.gi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Місце для номера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23B1-4979-4379-B764-53E5CE37F6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Творческий проект </a:t>
            </a:r>
            <a:br>
              <a:rPr sz="4800"/>
            </a:b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в школ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типина В.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техноло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шей катег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«Акбулакская средняя общеобразовательная школа №1 Акбулакского района Оренбургской обла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000_0585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-252360" y="396360"/>
            <a:ext cx="99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FFC8-B2A7-4566-AA7E-94651D676DF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РУКТУР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Банк идей и предло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Исследование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еск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коном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колог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9" descr="SDC12158"/>
          <p:cNvPicPr/>
          <p:nvPr/>
        </p:nvPicPr>
        <p:blipFill>
          <a:blip r:embed="rId4"/>
          <a:stretch/>
        </p:blipFill>
        <p:spPr>
          <a:xfrm>
            <a:off x="5651640" y="1773360"/>
            <a:ext cx="1417320" cy="2016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SDC12160"/>
          <p:cNvPicPr/>
          <p:nvPr/>
        </p:nvPicPr>
        <p:blipFill>
          <a:blip r:embed="rId5"/>
          <a:stretch/>
        </p:blipFill>
        <p:spPr>
          <a:xfrm>
            <a:off x="7308720" y="1773360"/>
            <a:ext cx="1376640" cy="19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IMG_1769"/>
          <p:cNvPicPr/>
          <p:nvPr/>
        </p:nvPicPr>
        <p:blipFill>
          <a:blip r:embed="rId6"/>
          <a:stretch/>
        </p:blipFill>
        <p:spPr>
          <a:xfrm>
            <a:off x="5508720" y="400536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A833-9EB8-407A-B2BB-8C915795BE7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Актуальность выбранной 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цель и содержание поставленной задач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ланируемый результа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межпредметные связ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характеристика источников информации (литератур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орудование и материа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задачи, которые предстоит реш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и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исат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и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яв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4" descr="j0299125"/>
          <p:cNvPicPr/>
          <p:nvPr/>
        </p:nvPicPr>
        <p:blipFill>
          <a:blip r:embed="rId1"/>
          <a:stretch/>
        </p:blipFill>
        <p:spPr>
          <a:xfrm>
            <a:off x="7380360" y="4292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2B1E-7F7D-4CE2-B69E-13B2343C36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нк идей и предложе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2060640"/>
          <a:ext cx="8229600" cy="3889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Text Box 18"/>
          <p:cNvSpPr/>
          <p:nvPr/>
        </p:nvSpPr>
        <p:spPr>
          <a:xfrm>
            <a:off x="2804040" y="5877000"/>
            <a:ext cx="34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снование выбора иде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0" descr="j0216588"/>
          <p:cNvPicPr/>
          <p:nvPr/>
        </p:nvPicPr>
        <p:blipFill>
          <a:blip r:embed="rId1"/>
          <a:stretch/>
        </p:blipFill>
        <p:spPr>
          <a:xfrm>
            <a:off x="684360" y="2133720"/>
            <a:ext cx="1609560" cy="1807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j0199661"/>
          <p:cNvPicPr/>
          <p:nvPr/>
        </p:nvPicPr>
        <p:blipFill>
          <a:blip r:embed="rId2"/>
          <a:stretch/>
        </p:blipFill>
        <p:spPr>
          <a:xfrm>
            <a:off x="611280" y="4149720"/>
            <a:ext cx="1727280" cy="1670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3" descr="j0090386"/>
          <p:cNvPicPr/>
          <p:nvPr/>
        </p:nvPicPr>
        <p:blipFill>
          <a:blip r:embed="rId3"/>
          <a:stretch/>
        </p:blipFill>
        <p:spPr>
          <a:xfrm>
            <a:off x="4716360" y="4076640"/>
            <a:ext cx="2087640" cy="1787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7" descr="j0195534"/>
          <p:cNvPicPr/>
          <p:nvPr/>
        </p:nvPicPr>
        <p:blipFill>
          <a:blip r:embed="rId4"/>
          <a:stretch/>
        </p:blipFill>
        <p:spPr>
          <a:xfrm>
            <a:off x="4859280" y="2133720"/>
            <a:ext cx="1476360" cy="18176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28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4869-F7C0-4958-8093-B05B4B74970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следование пробле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лагаемая методика и техника вы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раткий обзор литера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стория предмета и техники вы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сследование материа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j0217698"/>
          <p:cNvPicPr/>
          <p:nvPr/>
        </p:nvPicPr>
        <p:blipFill>
          <a:blip r:embed="rId1"/>
          <a:stretch/>
        </p:blipFill>
        <p:spPr>
          <a:xfrm>
            <a:off x="6516720" y="403704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BF56-B7EF-40D3-BC5F-89F61DFA9D9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хнологическая ча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6468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ческая к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284720" y="2349360"/>
          <a:ext cx="4570200" cy="4104000"/>
        </p:xfrm>
        <a:graphic>
          <a:graphicData uri="http://schemas.openxmlformats.org/drawingml/2006/table">
            <a:tbl>
              <a:tblPr/>
              <a:tblGrid>
                <a:gridCol w="485640"/>
                <a:gridCol w="1214640"/>
                <a:gridCol w="1323720"/>
                <a:gridCol w="154620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 оп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рудование, инструменты, Материа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6" name="Picture 44" descr="j0234266"/>
          <p:cNvPicPr/>
          <p:nvPr/>
        </p:nvPicPr>
        <p:blipFill>
          <a:blip r:embed="rId1"/>
          <a:stretch/>
        </p:blipFill>
        <p:spPr>
          <a:xfrm>
            <a:off x="611280" y="1844640"/>
            <a:ext cx="2319120" cy="2260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5" descr="j0199283"/>
          <p:cNvPicPr/>
          <p:nvPr/>
        </p:nvPicPr>
        <p:blipFill>
          <a:blip r:embed="rId2"/>
          <a:stretch/>
        </p:blipFill>
        <p:spPr>
          <a:xfrm>
            <a:off x="755640" y="4508640"/>
            <a:ext cx="1841400" cy="16542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46"/>
          <p:cNvSpPr/>
          <p:nvPr/>
        </p:nvSpPr>
        <p:spPr>
          <a:xfrm>
            <a:off x="933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6E77-F6DC-4981-BBC6-B5F5B041CD1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номическая оце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снование экономичности  проектируемого издел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ичие рынка сбы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7" descr="j0195384"/>
          <p:cNvPicPr/>
          <p:nvPr/>
        </p:nvPicPr>
        <p:blipFill>
          <a:blip r:embed="rId1"/>
          <a:stretch/>
        </p:blipFill>
        <p:spPr>
          <a:xfrm>
            <a:off x="6300720" y="450864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8"/>
          <p:cNvSpPr/>
          <p:nvPr/>
        </p:nvSpPr>
        <p:spPr>
          <a:xfrm>
            <a:off x="100476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7FA5-CD29-48A1-8357-204F454F6A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логическая оце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снование того, что изготовление и эксплуатация изделия не нанесут вреда окружающей среде и жизнедеятельности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j0285360"/>
          <p:cNvPicPr/>
          <p:nvPr/>
        </p:nvPicPr>
        <p:blipFill>
          <a:blip r:embed="rId1"/>
          <a:stretch/>
        </p:blipFill>
        <p:spPr>
          <a:xfrm>
            <a:off x="1042920" y="4724280"/>
            <a:ext cx="1474920" cy="18176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5"/>
          <p:cNvSpPr/>
          <p:nvPr/>
        </p:nvSpPr>
        <p:spPr>
          <a:xfrm>
            <a:off x="1117440" y="1886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E664-5C6D-4F0E-B58F-D17BE82D6C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следовательно изложить полученные результа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определить их соотношение с общей целью и задачами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амооценка проделанной рабо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указать пути продол­жения исследования т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задачи, которые предстоит реш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EEBB-B7F4-43BA-9325-5AB294126B0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РУКТУР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59" name="Organization Chart 5"/>
          <p:cNvGrpSpPr/>
          <p:nvPr/>
        </p:nvGrpSpPr>
        <p:grpSpPr>
          <a:xfrm>
            <a:off x="457200" y="2133720"/>
            <a:ext cx="8229240" cy="4534920"/>
            <a:chOff x="457200" y="2133720"/>
            <a:chExt cx="8229240" cy="4534920"/>
          </a:xfrm>
        </p:grpSpPr>
        <p:cxnSp>
          <p:nvCxnSpPr>
            <p:cNvPr id="360" name="_s4100"/>
            <p:cNvCxnSpPr>
              <a:stCxn id="361" idx="1"/>
              <a:endCxn id="362" idx="2"/>
            </p:cNvCxnSpPr>
            <p:nvPr/>
          </p:nvCxnSpPr>
          <p:spPr>
            <a:xfrm rot="10800000">
              <a:off x="6701040" y="3266640"/>
              <a:ext cx="284400" cy="24948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3" name="_s4101"/>
            <p:cNvCxnSpPr>
              <a:stCxn id="364" idx="1"/>
              <a:endCxn id="362" idx="2"/>
            </p:cNvCxnSpPr>
            <p:nvPr/>
          </p:nvCxnSpPr>
          <p:spPr>
            <a:xfrm rot="10800000">
              <a:off x="6701040" y="3266640"/>
              <a:ext cx="2844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5" name="_s4102"/>
            <p:cNvCxnSpPr>
              <a:stCxn id="366" idx="1"/>
              <a:endCxn id="362" idx="2"/>
            </p:cNvCxnSpPr>
            <p:nvPr/>
          </p:nvCxnSpPr>
          <p:spPr>
            <a:xfrm rot="10800000">
              <a:off x="6701040" y="3266640"/>
              <a:ext cx="2844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7" name="_s4103"/>
            <p:cNvCxnSpPr>
              <a:stCxn id="368" idx="1"/>
              <a:endCxn id="362" idx="2"/>
            </p:cNvCxnSpPr>
            <p:nvPr/>
          </p:nvCxnSpPr>
          <p:spPr>
            <a:xfrm rot="10800000">
              <a:off x="6701040" y="3266640"/>
              <a:ext cx="2844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9" name="_s4104"/>
            <p:cNvCxnSpPr>
              <a:stCxn id="370" idx="1"/>
              <a:endCxn id="371" idx="2"/>
            </p:cNvCxnSpPr>
            <p:nvPr/>
          </p:nvCxnSpPr>
          <p:spPr>
            <a:xfrm rot="10800000">
              <a:off x="4431960" y="3266640"/>
              <a:ext cx="2826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2" name="_s4105"/>
            <p:cNvCxnSpPr>
              <a:stCxn id="373" idx="1"/>
              <a:endCxn id="371" idx="2"/>
            </p:cNvCxnSpPr>
            <p:nvPr/>
          </p:nvCxnSpPr>
          <p:spPr>
            <a:xfrm rot="10800000">
              <a:off x="4431960" y="3266640"/>
              <a:ext cx="2826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4" name="_s4106"/>
            <p:cNvCxnSpPr>
              <a:stCxn id="375" idx="1"/>
              <a:endCxn id="371" idx="2"/>
            </p:cNvCxnSpPr>
            <p:nvPr/>
          </p:nvCxnSpPr>
          <p:spPr>
            <a:xfrm rot="10800000">
              <a:off x="4431960" y="3266640"/>
              <a:ext cx="2826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6" name="_s4107"/>
            <p:cNvCxnSpPr>
              <a:stCxn id="377" idx="3"/>
              <a:endCxn id="378" idx="2"/>
            </p:cNvCxnSpPr>
            <p:nvPr/>
          </p:nvCxnSpPr>
          <p:spPr>
            <a:xfrm flipV="1">
              <a:off x="2160000" y="3266640"/>
              <a:ext cx="284400" cy="31770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9" name="_s4108"/>
            <p:cNvCxnSpPr>
              <a:stCxn id="380" idx="3"/>
              <a:endCxn id="378" idx="2"/>
            </p:cNvCxnSpPr>
            <p:nvPr/>
          </p:nvCxnSpPr>
          <p:spPr>
            <a:xfrm flipV="1">
              <a:off x="2160000" y="3267000"/>
              <a:ext cx="284400" cy="24948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1" name="_s4109"/>
            <p:cNvCxnSpPr>
              <a:stCxn id="382" idx="3"/>
              <a:endCxn id="378" idx="2"/>
            </p:cNvCxnSpPr>
            <p:nvPr/>
          </p:nvCxnSpPr>
          <p:spPr>
            <a:xfrm flipV="1">
              <a:off x="2160000" y="3267000"/>
              <a:ext cx="2844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3" name="_s4110"/>
            <p:cNvCxnSpPr>
              <a:stCxn id="384" idx="3"/>
              <a:endCxn id="378" idx="2"/>
            </p:cNvCxnSpPr>
            <p:nvPr/>
          </p:nvCxnSpPr>
          <p:spPr>
            <a:xfrm flipV="1">
              <a:off x="2160000" y="3267000"/>
              <a:ext cx="2844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5" name="_s4111"/>
            <p:cNvCxnSpPr>
              <a:stCxn id="386" idx="3"/>
              <a:endCxn id="378" idx="2"/>
            </p:cNvCxnSpPr>
            <p:nvPr/>
          </p:nvCxnSpPr>
          <p:spPr>
            <a:xfrm flipV="1">
              <a:off x="2160000" y="3266640"/>
              <a:ext cx="2844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7" name="_s4112"/>
            <p:cNvCxnSpPr>
              <a:stCxn id="362" idx="0"/>
              <a:endCxn id="388" idx="2"/>
            </p:cNvCxnSpPr>
            <p:nvPr/>
          </p:nvCxnSpPr>
          <p:spPr>
            <a:xfrm flipV="1" rot="16200000">
              <a:off x="5523480" y="1634760"/>
              <a:ext cx="227160" cy="212976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9" name="_s4113"/>
            <p:cNvCxnSpPr>
              <a:stCxn id="371" idx="0"/>
              <a:endCxn id="388" idx="2"/>
            </p:cNvCxnSpPr>
            <p:nvPr/>
          </p:nvCxnSpPr>
          <p:spPr>
            <a:xfrm flipH="1" flipV="1" rot="5400000">
              <a:off x="4389120" y="2629800"/>
              <a:ext cx="227160" cy="14040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90" name="_s4114"/>
            <p:cNvCxnSpPr>
              <a:stCxn id="378" idx="0"/>
              <a:endCxn id="388" idx="2"/>
            </p:cNvCxnSpPr>
            <p:nvPr/>
          </p:nvCxnSpPr>
          <p:spPr>
            <a:xfrm flipH="1" flipV="1" rot="5400000">
              <a:off x="3394800" y="1635480"/>
              <a:ext cx="227160" cy="212904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sp>
          <p:nvSpPr>
            <p:cNvPr id="388" name="_s4115"/>
            <p:cNvSpPr/>
            <p:nvPr/>
          </p:nvSpPr>
          <p:spPr>
            <a:xfrm>
              <a:off x="3720960" y="2133720"/>
              <a:ext cx="1702800" cy="453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ff99"/>
              </a:solidFill>
              <a:miter/>
            </a:ln>
            <a:effectLst>
              <a:outerShdw dist="63504" dir="19383909" blurRad="0" rotWithShape="0">
                <a:srgbClr val="99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роек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_s4116"/>
            <p:cNvSpPr/>
            <p:nvPr/>
          </p:nvSpPr>
          <p:spPr>
            <a:xfrm>
              <a:off x="1592280" y="2813760"/>
              <a:ext cx="1702800" cy="453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Теоретическое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обоснова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_s4117"/>
            <p:cNvSpPr/>
            <p:nvPr/>
          </p:nvSpPr>
          <p:spPr>
            <a:xfrm>
              <a:off x="3579480" y="2813760"/>
              <a:ext cx="1702800" cy="453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актическая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час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_s4118"/>
            <p:cNvSpPr/>
            <p:nvPr/>
          </p:nvSpPr>
          <p:spPr>
            <a:xfrm>
              <a:off x="5850360" y="2813760"/>
              <a:ext cx="1702800" cy="453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илож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_s4119"/>
            <p:cNvSpPr/>
            <p:nvPr/>
          </p:nvSpPr>
          <p:spPr>
            <a:xfrm>
              <a:off x="457200" y="3494160"/>
              <a:ext cx="1702800" cy="453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Выбо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емы проек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_s4120"/>
            <p:cNvSpPr/>
            <p:nvPr/>
          </p:nvSpPr>
          <p:spPr>
            <a:xfrm>
              <a:off x="457200" y="4174560"/>
              <a:ext cx="1702800" cy="4532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ктуальн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_s4121"/>
            <p:cNvSpPr/>
            <p:nvPr/>
          </p:nvSpPr>
          <p:spPr>
            <a:xfrm>
              <a:off x="457200" y="4854600"/>
              <a:ext cx="1702800" cy="4532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цел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_s4122"/>
            <p:cNvSpPr/>
            <p:nvPr/>
          </p:nvSpPr>
          <p:spPr>
            <a:xfrm>
              <a:off x="458640" y="5535000"/>
              <a:ext cx="1701000" cy="4532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Задачи проек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_s4123"/>
            <p:cNvSpPr/>
            <p:nvPr/>
          </p:nvSpPr>
          <p:spPr>
            <a:xfrm>
              <a:off x="457200" y="6215400"/>
              <a:ext cx="1702800" cy="4532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Гипотез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_s4124"/>
            <p:cNvSpPr/>
            <p:nvPr/>
          </p:nvSpPr>
          <p:spPr>
            <a:xfrm>
              <a:off x="4714920" y="3494160"/>
              <a:ext cx="1702800" cy="45324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вторска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азработ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_s4125"/>
            <p:cNvSpPr/>
            <p:nvPr/>
          </p:nvSpPr>
          <p:spPr>
            <a:xfrm>
              <a:off x="4714920" y="4174560"/>
              <a:ext cx="1702800" cy="45324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еализаци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азработ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_s4126"/>
            <p:cNvSpPr/>
            <p:nvPr/>
          </p:nvSpPr>
          <p:spPr>
            <a:xfrm>
              <a:off x="4714920" y="4854600"/>
              <a:ext cx="1702800" cy="45324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езультаты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_s4127"/>
            <p:cNvSpPr/>
            <p:nvPr/>
          </p:nvSpPr>
          <p:spPr>
            <a:xfrm>
              <a:off x="6985800" y="3494160"/>
              <a:ext cx="1700640" cy="45324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нке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_s4128"/>
            <p:cNvSpPr/>
            <p:nvPr/>
          </p:nvSpPr>
          <p:spPr>
            <a:xfrm>
              <a:off x="6985800" y="4174560"/>
              <a:ext cx="1700640" cy="45324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Диаграмм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_s4129"/>
            <p:cNvSpPr/>
            <p:nvPr/>
          </p:nvSpPr>
          <p:spPr>
            <a:xfrm>
              <a:off x="6985800" y="4854600"/>
              <a:ext cx="1698840" cy="45324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аблиц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_s4130"/>
            <p:cNvSpPr/>
            <p:nvPr/>
          </p:nvSpPr>
          <p:spPr>
            <a:xfrm>
              <a:off x="6985800" y="5535000"/>
              <a:ext cx="1700640" cy="45324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Фотограф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1" name="Picture 50" descr="j0283209"/>
          <p:cNvPicPr/>
          <p:nvPr/>
        </p:nvPicPr>
        <p:blipFill>
          <a:blip r:embed="rId17"/>
          <a:stretch/>
        </p:blipFill>
        <p:spPr>
          <a:xfrm>
            <a:off x="2627280" y="5013360"/>
            <a:ext cx="1728720" cy="16905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51"/>
          <p:cNvSpPr/>
          <p:nvPr/>
        </p:nvSpPr>
        <p:spPr>
          <a:xfrm>
            <a:off x="1077480" y="1378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7143-32CE-48E7-838B-3388BDEA5F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ЦЕНК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 и изделие оценивается во время защиты проекта по следующим критерия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ческое совершен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стетические достоин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опас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ответствие общественным потребност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бство эксплуат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им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4" descr="j0300840"/>
          <p:cNvPicPr/>
          <p:nvPr/>
        </p:nvPicPr>
        <p:blipFill>
          <a:blip r:embed="rId1"/>
          <a:stretch/>
        </p:blipFill>
        <p:spPr>
          <a:xfrm>
            <a:off x="6732720" y="4869000"/>
            <a:ext cx="1814400" cy="1528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1149120" y="1378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EAA3-8737-422B-AFCC-AA001943A8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77612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ВОРЧЕСКИЙ ПРОЕКТ –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то самостоятель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творческая работ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выполненная под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руководством учител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j0299125"/>
          <p:cNvPicPr/>
          <p:nvPr/>
        </p:nvPicPr>
        <p:blipFill>
          <a:blip r:embed="rId1"/>
          <a:stretch/>
        </p:blipFill>
        <p:spPr>
          <a:xfrm>
            <a:off x="179280" y="2708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1306080" y="52812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E2F5-E0DE-40E7-BC2A-0DF2C83735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атика проект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тика проектов носит декоративно-прикладной, исследовательский, социальный   характер. При таком разнообразии видов работ многосторонняя проба сил позволяет выявить и развить способности и склонности учащихся, сделать процесс обучения интерес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4" descr="SDC12173"/>
          <p:cNvPicPr/>
          <p:nvPr/>
        </p:nvPicPr>
        <p:blipFill>
          <a:blip r:embed="rId1"/>
          <a:stretch/>
        </p:blipFill>
        <p:spPr>
          <a:xfrm>
            <a:off x="7236000" y="4221000"/>
            <a:ext cx="1728720" cy="2305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SDC12174"/>
          <p:cNvPicPr/>
          <p:nvPr/>
        </p:nvPicPr>
        <p:blipFill>
          <a:blip r:embed="rId2"/>
          <a:stretch/>
        </p:blipFill>
        <p:spPr>
          <a:xfrm>
            <a:off x="5508720" y="422100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SDC12178"/>
          <p:cNvPicPr/>
          <p:nvPr/>
        </p:nvPicPr>
        <p:blipFill>
          <a:blip r:embed="rId3"/>
          <a:stretch/>
        </p:blipFill>
        <p:spPr>
          <a:xfrm>
            <a:off x="3780000" y="422100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SDC12179"/>
          <p:cNvPicPr/>
          <p:nvPr/>
        </p:nvPicPr>
        <p:blipFill>
          <a:blip r:embed="rId4"/>
          <a:stretch/>
        </p:blipFill>
        <p:spPr>
          <a:xfrm>
            <a:off x="2050920" y="4221000"/>
            <a:ext cx="1675080" cy="2232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SDC12186"/>
          <p:cNvPicPr/>
          <p:nvPr/>
        </p:nvPicPr>
        <p:blipFill>
          <a:blip r:embed="rId5"/>
          <a:stretch/>
        </p:blipFill>
        <p:spPr>
          <a:xfrm>
            <a:off x="250920" y="4221000"/>
            <a:ext cx="1665360" cy="22068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9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7645-00F2-426C-93E3-57359EEE8B1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ы проектов 2009-2010 уч.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ы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удьте здоро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узей пуговицы в шко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ки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шивка (крест, гладь, изонит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язание (крючком, спица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летение (макраме, лоз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екупа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изайн (помещения, ландшафт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следовательски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оя будущая професс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стория материалов (металл, ткан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оль косметики в жизни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овые направления дизайна (пирсинг, тюнинг, татуировк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4" descr="SDC12184"/>
          <p:cNvPicPr/>
          <p:nvPr/>
        </p:nvPicPr>
        <p:blipFill>
          <a:blip r:embed="rId1"/>
          <a:stretch/>
        </p:blipFill>
        <p:spPr>
          <a:xfrm>
            <a:off x="5076720" y="1989000"/>
            <a:ext cx="3888000" cy="33832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3D7A-4D44-451D-9908-D35234D5181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ыполнение творческого проекта – одна из сторон воспитания. Оно нацелено на создание детьми нравственной ценности трудового начала жизни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Лернер П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SDC11711"/>
          <p:cNvPicPr/>
          <p:nvPr/>
        </p:nvPicPr>
        <p:blipFill>
          <a:blip r:embed="rId1"/>
          <a:stretch/>
        </p:blipFill>
        <p:spPr>
          <a:xfrm>
            <a:off x="971640" y="3284640"/>
            <a:ext cx="7345440" cy="338292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6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52EB-3120-458A-B60C-5811F89516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797724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ВОРЧЕСКИЙ ПРОЕКТ -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то учебно-трудовое задание, активизирующее деятельность учащихся, в результате которого ими создается продукт, обладающий новизно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j0299125"/>
          <p:cNvPicPr/>
          <p:nvPr/>
        </p:nvPicPr>
        <p:blipFill>
          <a:blip r:embed="rId1"/>
          <a:stretch/>
        </p:blipFill>
        <p:spPr>
          <a:xfrm>
            <a:off x="324000" y="4724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1150560" y="2804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A1DF-1B6F-41B3-A64A-3805E86D71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37" name="Organization Chart 5"/>
          <p:cNvGrpSpPr/>
          <p:nvPr/>
        </p:nvGrpSpPr>
        <p:grpSpPr>
          <a:xfrm>
            <a:off x="457200" y="1557360"/>
            <a:ext cx="8228160" cy="4966920"/>
            <a:chOff x="457200" y="1557360"/>
            <a:chExt cx="8228160" cy="4966920"/>
          </a:xfrm>
        </p:grpSpPr>
        <p:cxnSp>
          <p:nvCxnSpPr>
            <p:cNvPr id="238" name="_s1028"/>
            <p:cNvCxnSpPr>
              <a:stCxn id="239" idx="1"/>
              <a:endCxn id="240" idx="2"/>
            </p:cNvCxnSpPr>
            <p:nvPr/>
          </p:nvCxnSpPr>
          <p:spPr>
            <a:xfrm rot="10800000">
              <a:off x="2925000" y="2140920"/>
              <a:ext cx="823320" cy="4093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1" name="_s1029"/>
            <p:cNvCxnSpPr>
              <a:stCxn id="242" idx="1"/>
              <a:endCxn id="240" idx="2"/>
            </p:cNvCxnSpPr>
            <p:nvPr/>
          </p:nvCxnSpPr>
          <p:spPr>
            <a:xfrm rot="10800000">
              <a:off x="2925000" y="2140920"/>
              <a:ext cx="823320" cy="321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3" name="_s1030"/>
            <p:cNvCxnSpPr>
              <a:stCxn id="244" idx="1"/>
              <a:endCxn id="240" idx="2"/>
            </p:cNvCxnSpPr>
            <p:nvPr/>
          </p:nvCxnSpPr>
          <p:spPr>
            <a:xfrm rot="10800000">
              <a:off x="2925000" y="2140920"/>
              <a:ext cx="823320" cy="2338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5" name="_s1031"/>
            <p:cNvCxnSpPr>
              <a:stCxn id="246" idx="1"/>
              <a:endCxn id="240" idx="2"/>
            </p:cNvCxnSpPr>
            <p:nvPr/>
          </p:nvCxnSpPr>
          <p:spPr>
            <a:xfrm rot="10800000">
              <a:off x="2925000" y="2140920"/>
              <a:ext cx="823320" cy="1461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7" name="_s1032"/>
            <p:cNvCxnSpPr>
              <a:stCxn id="248" idx="1"/>
              <a:endCxn id="240" idx="2"/>
            </p:cNvCxnSpPr>
            <p:nvPr/>
          </p:nvCxnSpPr>
          <p:spPr>
            <a:xfrm rot="10800000">
              <a:off x="2925000" y="2140920"/>
              <a:ext cx="823320" cy="58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0" name="_s1033"/>
            <p:cNvSpPr/>
            <p:nvPr/>
          </p:nvSpPr>
          <p:spPr>
            <a:xfrm>
              <a:off x="457200" y="155736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Организационно-подготовитель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этап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1034"/>
            <p:cNvSpPr/>
            <p:nvPr/>
          </p:nvSpPr>
          <p:spPr>
            <a:xfrm>
              <a:off x="3748320" y="24336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боснование возникшей проблемы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и потребности.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1035"/>
            <p:cNvSpPr/>
            <p:nvPr/>
          </p:nvSpPr>
          <p:spPr>
            <a:xfrm>
              <a:off x="3748320" y="33102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1036"/>
            <p:cNvSpPr/>
            <p:nvPr/>
          </p:nvSpPr>
          <p:spPr>
            <a:xfrm>
              <a:off x="3748320" y="41868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1037"/>
            <p:cNvSpPr/>
            <p:nvPr/>
          </p:nvSpPr>
          <p:spPr>
            <a:xfrm>
              <a:off x="3748320" y="50634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1038"/>
            <p:cNvSpPr/>
            <p:nvPr/>
          </p:nvSpPr>
          <p:spPr>
            <a:xfrm>
              <a:off x="3748320" y="59400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Выбор оборудования,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инструментов и приспособл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Rectangle 30"/>
          <p:cNvSpPr/>
          <p:nvPr/>
        </p:nvSpPr>
        <p:spPr>
          <a:xfrm>
            <a:off x="4359960" y="4149720"/>
            <a:ext cx="4065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исание внешнего вида мод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1"/>
          <p:cNvSpPr/>
          <p:nvPr/>
        </p:nvSpPr>
        <p:spPr>
          <a:xfrm>
            <a:off x="4790880" y="5157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бор матери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32"/>
          <p:cNvSpPr/>
          <p:nvPr/>
        </p:nvSpPr>
        <p:spPr>
          <a:xfrm>
            <a:off x="5509800" y="328464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бор мод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34" descr="000_0582"/>
          <p:cNvPicPr/>
          <p:nvPr/>
        </p:nvPicPr>
        <p:blipFill>
          <a:blip r:embed="rId1"/>
          <a:stretch/>
        </p:blipFill>
        <p:spPr>
          <a:xfrm>
            <a:off x="250920" y="3213000"/>
            <a:ext cx="2592360" cy="2160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5"/>
          <p:cNvSpPr/>
          <p:nvPr/>
        </p:nvSpPr>
        <p:spPr>
          <a:xfrm>
            <a:off x="726840" y="914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F4E9-0685-4650-8A99-B104C530B8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иться проблема осознания нужд и потребностей во всех сферах деятельности человека (зачем и почему  надо выполнить проект, каково его значение в  жизни обществ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ится цель – получение полезного проекта, который может носить как социальный, так и личностный характе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ируется технология изготовления, ( подбор инструментов и оборудова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яется последовательность технологических операций (выбор оптимальной технологии изготовления издели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ами деятельности выступает личный опыт, а так же все рабочие инструменты и оборуд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ами деятельности является приобретение новых знаний, умений, производится самоконтроль и самооц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4C1E-AC8C-47AA-8A7A-E93186B7B97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2" name="Organization Chart 16"/>
          <p:cNvGrpSpPr/>
          <p:nvPr/>
        </p:nvGrpSpPr>
        <p:grpSpPr>
          <a:xfrm>
            <a:off x="457200" y="1989000"/>
            <a:ext cx="8228160" cy="4534920"/>
            <a:chOff x="457200" y="1989000"/>
            <a:chExt cx="8228160" cy="4534920"/>
          </a:xfrm>
        </p:grpSpPr>
        <p:cxnSp>
          <p:nvCxnSpPr>
            <p:cNvPr id="263" name="_s2052"/>
            <p:cNvCxnSpPr>
              <a:stCxn id="264" idx="1"/>
              <a:endCxn id="265" idx="2"/>
            </p:cNvCxnSpPr>
            <p:nvPr/>
          </p:nvCxnSpPr>
          <p:spPr>
            <a:xfrm rot="10800000">
              <a:off x="2925000" y="3121920"/>
              <a:ext cx="823320" cy="283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6" name="_s2053"/>
            <p:cNvCxnSpPr>
              <a:stCxn id="267" idx="1"/>
              <a:endCxn id="265" idx="2"/>
            </p:cNvCxnSpPr>
            <p:nvPr/>
          </p:nvCxnSpPr>
          <p:spPr>
            <a:xfrm rot="10800000">
              <a:off x="2925000" y="3121920"/>
              <a:ext cx="823320" cy="113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5" name="_s2054"/>
            <p:cNvSpPr/>
            <p:nvPr/>
          </p:nvSpPr>
          <p:spPr>
            <a:xfrm>
              <a:off x="457200" y="198900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Технологический этап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_s2055"/>
            <p:cNvSpPr/>
            <p:nvPr/>
          </p:nvSpPr>
          <p:spPr>
            <a:xfrm>
              <a:off x="3748320" y="368964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Выполнение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технологических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пераций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_s2056"/>
            <p:cNvSpPr/>
            <p:nvPr/>
          </p:nvSpPr>
          <p:spPr>
            <a:xfrm>
              <a:off x="3748320" y="539028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Соблюдение условий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техники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безопасности и культуры труд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8" name="Picture 26" descr="настя1"/>
          <p:cNvPicPr/>
          <p:nvPr/>
        </p:nvPicPr>
        <p:blipFill>
          <a:blip r:embed="rId1"/>
          <a:stretch/>
        </p:blipFill>
        <p:spPr>
          <a:xfrm>
            <a:off x="6227640" y="155736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7" descr="настя"/>
          <p:cNvPicPr/>
          <p:nvPr/>
        </p:nvPicPr>
        <p:blipFill>
          <a:blip r:embed="rId2"/>
          <a:stretch/>
        </p:blipFill>
        <p:spPr>
          <a:xfrm>
            <a:off x="250920" y="5075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8" descr="лена"/>
          <p:cNvPicPr/>
          <p:nvPr/>
        </p:nvPicPr>
        <p:blipFill>
          <a:blip r:embed="rId3"/>
          <a:stretch/>
        </p:blipFill>
        <p:spPr>
          <a:xfrm>
            <a:off x="179280" y="3213000"/>
            <a:ext cx="2400480" cy="18003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29"/>
          <p:cNvSpPr/>
          <p:nvPr/>
        </p:nvSpPr>
        <p:spPr>
          <a:xfrm>
            <a:off x="1083960" y="9648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09CE-ECA4-42E8-A55C-D73D067DAB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яются технологические операции, корректируется деятельность, производится самоконтроль и самооценка работ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– качественнее и правильнее выполнить трудовые операц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зультат – приобретение знаний, умений и навы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4" descr="SDC11284"/>
          <p:cNvPicPr/>
          <p:nvPr/>
        </p:nvPicPr>
        <p:blipFill>
          <a:blip r:embed="rId1"/>
          <a:stretch/>
        </p:blipFill>
        <p:spPr>
          <a:xfrm>
            <a:off x="684360" y="3122640"/>
            <a:ext cx="3958920" cy="2970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SDC11286"/>
          <p:cNvPicPr/>
          <p:nvPr/>
        </p:nvPicPr>
        <p:blipFill>
          <a:blip r:embed="rId2"/>
          <a:stretch/>
        </p:blipFill>
        <p:spPr>
          <a:xfrm>
            <a:off x="4788000" y="314172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726840" y="1360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5E86-DFE3-47F1-86E5-13E4974DD4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I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2" name="Organization Chart 5"/>
          <p:cNvGrpSpPr/>
          <p:nvPr/>
        </p:nvGrpSpPr>
        <p:grpSpPr>
          <a:xfrm>
            <a:off x="457200" y="1989000"/>
            <a:ext cx="8228160" cy="4534920"/>
            <a:chOff x="457200" y="1989000"/>
            <a:chExt cx="8228160" cy="4534920"/>
          </a:xfrm>
        </p:grpSpPr>
        <p:cxnSp>
          <p:nvCxnSpPr>
            <p:cNvPr id="283" name="_s3076"/>
            <p:cNvCxnSpPr>
              <a:stCxn id="284" idx="1"/>
              <a:endCxn id="285" idx="2"/>
            </p:cNvCxnSpPr>
            <p:nvPr/>
          </p:nvCxnSpPr>
          <p:spPr>
            <a:xfrm rot="10800000">
              <a:off x="2925000" y="3121920"/>
              <a:ext cx="823320" cy="283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6" name="_s3077"/>
            <p:cNvCxnSpPr>
              <a:stCxn id="287" idx="1"/>
              <a:endCxn id="285" idx="2"/>
            </p:cNvCxnSpPr>
            <p:nvPr/>
          </p:nvCxnSpPr>
          <p:spPr>
            <a:xfrm rot="10800000">
              <a:off x="2925000" y="3121920"/>
              <a:ext cx="823320" cy="113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5" name="_s3078"/>
            <p:cNvSpPr/>
            <p:nvPr/>
          </p:nvSpPr>
          <p:spPr>
            <a:xfrm>
              <a:off x="457200" y="198900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Заключительный этап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_s3079"/>
            <p:cNvSpPr/>
            <p:nvPr/>
          </p:nvSpPr>
          <p:spPr>
            <a:xfrm>
              <a:off x="3748320" y="368964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Оценка проделанной работы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_s3080"/>
            <p:cNvSpPr/>
            <p:nvPr/>
          </p:nvSpPr>
          <p:spPr>
            <a:xfrm>
              <a:off x="3748320" y="539028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Защита проекта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8" name="Picture 16" descr="SDC11186"/>
          <p:cNvPicPr/>
          <p:nvPr/>
        </p:nvPicPr>
        <p:blipFill>
          <a:blip r:embed="rId1"/>
          <a:stretch/>
        </p:blipFill>
        <p:spPr>
          <a:xfrm>
            <a:off x="6084720" y="162864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7" descr="SDC11001"/>
          <p:cNvPicPr/>
          <p:nvPr/>
        </p:nvPicPr>
        <p:blipFill>
          <a:blip r:embed="rId2"/>
          <a:stretch/>
        </p:blipFill>
        <p:spPr>
          <a:xfrm>
            <a:off x="324000" y="4365720"/>
            <a:ext cx="2520720" cy="1890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8"/>
          <p:cNvSpPr/>
          <p:nvPr/>
        </p:nvSpPr>
        <p:spPr>
          <a:xfrm>
            <a:off x="1044360" y="182160"/>
            <a:ext cx="686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DF5C-5752-4843-9B61-B91AE96B9E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II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сходит окончательный контроль и защита проек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ятся экономические расче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ятся экологические исслед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ируется проделанная работа, устанавливается, результат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формляются результа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зводится защита 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11 б 010"/>
          <p:cNvPicPr/>
          <p:nvPr/>
        </p:nvPicPr>
        <p:blipFill>
          <a:blip r:embed="rId1"/>
          <a:stretch/>
        </p:blipFill>
        <p:spPr>
          <a:xfrm>
            <a:off x="539640" y="4076640"/>
            <a:ext cx="2109960" cy="2509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день моря 3"/>
          <p:cNvPicPr/>
          <p:nvPr/>
        </p:nvPicPr>
        <p:blipFill>
          <a:blip r:embed="rId2"/>
          <a:stretch/>
        </p:blipFill>
        <p:spPr>
          <a:xfrm>
            <a:off x="6588000" y="3357720"/>
            <a:ext cx="2298960" cy="2462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SDC11181"/>
          <p:cNvPicPr/>
          <p:nvPr/>
        </p:nvPicPr>
        <p:blipFill>
          <a:blip r:embed="rId3"/>
          <a:stretch/>
        </p:blipFill>
        <p:spPr>
          <a:xfrm>
            <a:off x="2987640" y="414972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SDC11704"/>
          <p:cNvPicPr/>
          <p:nvPr/>
        </p:nvPicPr>
        <p:blipFill>
          <a:blip r:embed="rId4"/>
          <a:stretch/>
        </p:blipFill>
        <p:spPr>
          <a:xfrm>
            <a:off x="7740720" y="907920"/>
            <a:ext cx="1020600" cy="1484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000_0231"/>
          <p:cNvPicPr/>
          <p:nvPr/>
        </p:nvPicPr>
        <p:blipFill>
          <a:blip r:embed="rId5"/>
          <a:stretch/>
        </p:blipFill>
        <p:spPr>
          <a:xfrm>
            <a:off x="250920" y="836640"/>
            <a:ext cx="1942920" cy="10605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9"/>
          <p:cNvSpPr/>
          <p:nvPr/>
        </p:nvSpPr>
        <p:spPr>
          <a:xfrm>
            <a:off x="933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5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06:37:30Z</dcterms:created>
  <dc:creator>ПК</dc:creator>
  <dc:description>uchportal.ru</dc:description>
  <dc:language>en-US</dc:language>
  <cp:lastModifiedBy>LEGION</cp:lastModifiedBy>
  <dcterms:modified xsi:type="dcterms:W3CDTF">2015-03-31T08:31:44Z</dcterms:modified>
  <cp:revision>23</cp:revision>
  <dc:subject/>
  <dc:title>Проект по 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9000000000001024140</vt:lpwstr>
  </property>
</Properties>
</file>