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ABFE-E65B-47F1-AF3D-0AA756E021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Название проекта:</a:t>
            </a:r>
            <a:br>
              <a:rPr sz="1200"/>
            </a:b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продолжение проекта 2007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дисциплины «Основы медицинских зн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охраны здоровья детей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бщеобразовательной школ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 программе дополнительной профессиональной квалифик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Руководител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ицкая Ирина Леонид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м.н., доц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4D4F-919B-4A76-8E9F-696F03AF1E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Инновационный потенциал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новой дисциплины «Основы медицинских знаний и охраны здоровья детей» для работы в общеобразовательной школе по программе дополнительной профессиональной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принципиально новых учебно-методических материалов, направленных на приобретение необходимых знаний и умений, позволяющих обеспечить, пропаганду здорового образа жизни школьников, создающих условия для нормального роста и развития подрастающего поко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343E-61A0-4D64-A460-9E33B38E64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Каким специальностям и направлениям подготовки соответствует про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 рассчитан на студентов ЮФУ (РГУ), получающих специальность «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подавате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дисциплины «Основы медицинских знаний и охраны здоровья детей» для общеобразовательной школы осуществляется по программ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ополнительной профессиональной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EF7B-D670-414F-ABFD-D5823F8913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Общее число исполн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 человек (10 преподавателей и 3 лаборанта, из них 2 доцента, 4 кандидата медицинских наук, сотрудников без ученой степени - 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34C5-936E-46AF-BA28-08D8E5D1A8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Проект см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ая рабо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квар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(1) – 2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(10) - 6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и (8) – 8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квар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(2) – 4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(7) – 42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и (8) – 8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квар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(2) – 4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(7) – 42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и (8) – 8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квар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(1) – 2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 (10) – 6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и (8) - 80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того: 356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65EA-9C6A-47B6-B3A4-9AF325DF12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РОЕКТ СМ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ение оборудов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техника (сканер, цветной принтер) -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компьютерного класса – 5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монт учебных классов – 10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ление демонстрационной учебной базы (муляжей,  мед. инструментария) – 5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 работы с интерактивной доской, мультимедийным оборудованием - 2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ировки в ведущие учебные заведения РФ по обмену опытом (СПбГПУ) – 3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о: 197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ACD8-E424-4D28-930B-735DC31F90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Оборудование, необходимое для реализации 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медийное презентацион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тех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ащение компьютерного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ление демонстрационной учебной базы по курс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1B4C-83B8-4602-B574-0CEB2644F8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Коммерческая перспектива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обучающихся на коммерческой основе (200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 презентаций (создание сайта) с целью привлечения слушателей из других подразделений ЮФУ, ВУЗв РО, ЮФО для приобретения дополнительной профессиональной квалификации по специальности «преподаватель основ медицинских знаний и охраны здоровья детей» (200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учебно-методической литературы (200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8207-6144-4891-8FEB-8DCF5EF1D5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Наличие потенциального заказч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азчик: Управление образования г. Ростова-на-Дон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е: письмо от 20.12.2007 г. Управления образования г. Ростова-на-Дону о чрезвычайной актуальности подготовки преподавателей дисциплины «Основы медицинских знаний и охраны здоровья детей» для работы в общеобразовательных школах (с выдачей соответствующего удостовер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6FB5-C930-4E1B-BF0D-872E056856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Перечень объектов интеллектуаль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соб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E4EF-883B-4408-AEAE-C17296147B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ланируемая в 2008-2009г. реализация результатов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дисциплины «Основы медицинских знаний и охраны здоровья детей» для общеобразовательной школы по программе дополнительной профессиональной квалификации с выдачей соответствующего удостове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слушателей на коммерческ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 презентаций (создание сайта) с целью привлечения слушателей других подразделений ЮФУ, ВУЗов РО, ЮФО, для приобретения дополнительной профессиональной квалификации по специальности «преподаватель основ медицинских знаний и охраны здоровья дет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учебной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22CF-C522-4055-B959-FBEEC53D9D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Организация </a:t>
            </a:r>
            <a:br>
              <a:rPr sz="1600"/>
            </a:b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– головной исполн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«Основы медицинских зн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защиты насе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резвычайной обстановке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о-почвенного факульте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жного федерального универс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DBA8-CE0A-4CD0-812B-FFCD3CDFC0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ерспективное пла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 является продолжением заявки 2007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читан на период до 2010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 2007г. начато формирование учебно-методической базы (УМК, программа курса, 2 учебника, 7 учебно-методических пособий, презентация лекционного кур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 студентов по программе проводится с 1992г.(с 2005г. отменена выдача удостоверений о прослушанном курс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6DC4-B297-43D7-91DD-A39485336E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Тип проек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ует приоритетному направлению по охране здоровья населения РФ в свете Национального проекта «Здоровье нации» и «Образован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е  для ЮФУ: проект по созданию департамента би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стью соответствует требованиям, предъявляемым к разрабатываемым проектам и учебной литературе для высших учебных заве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0CAC-0E60-4BA5-9CF1-7E39369BB8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Задел проек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ы с 1993 года 52 учебно-методических пособия, 2 учебника, 7 научных тезисов для участия в региональных и международных конференциях, разработаны курсы лекций по всем разделам УМК, тестовый контроль  зна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н УМК и программа по курсу «Основы медицинских знаний и охраны здоровья дете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лены к публикац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  учебники: «Возрастные особенности жизни женщины», «Первая медицинская помощь при основных хирургических заболеваниях и травмах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: «Организация учебного процесса и физическое воспитание школьников», «Питание школьников», «Подготовка и адаптация детей к началу обучения в школе», «Гепатиты», «Вегето-сосудистая дистония» 2 части, «Лихорадка, причины, первая помощь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курса «Основы медицинских знаний и охраны здоровья детей»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0959-D071-42CC-94DF-A37E690CC1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Цель и задачи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подготовка преподавателей дисциплины «Основ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цинских знаний и охраны здоровья детей» для рабо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щеобразовательных школах (по программе дополнительной профессиональной квалификац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: Подготовка учебно-методической базы кур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подготовка к публикации учебников по основным разделам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8 разделов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издание учебно-методических пособий по наиболее актуальны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м учебного кур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одготовка презентационных программ по лекционному курс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подготовка базы современных литературных источников д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я электронных учебных пособ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) создание сайта с целью внешнего привлечения слуша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) с 2009г. набор студентов для обучения на коммерческих услов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B4E1-98D6-493B-8280-F7381DC51D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Актуальность и значим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резвычайно актуальной представляется проблема сохранения здоровья детей и подростков как наиболее уязвимых к стрессорным воздействиям в силу несовершенства адаптационных механиз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ных направлениях реформы общеобразовательной школы сказано: «Необходимо, чтобы каждый школьник овладел минимумом знаний в области гигиены и медицины, смолоду знал свой организм и умел поддерживать его в порядке»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инство руководителей СОШ признает необходимость пропаганды здорового образа жизни школьников при отсутствии подготовленных педагогических кад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ьные образовательные школьные программы по данной теме ведутся по исключительно по инициативе педаго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Целью рабо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является углубленная разработка разделов курса «Основ медицинских знаний и охраны здоровья детей» по охране здоровья ребенка, применение здоровьесберегающих технологий, пропаганда здорового образа жизни школь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160B-CA28-463C-A336-C8FCD3F2FE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Научная и методическая новиз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нный курс не имеет аналогов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чает требованиям, предъявляемым к современной высшей шко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будет способствовать улучшению качества жизни и здоровья школьников, и населения РФ в цел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8234-8662-4B60-803D-B330DCD3C3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Ожидаемые результа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учебно-методической баз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по основным разделам УМК (8 раздел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по наиболее актуальным проблемам дисциплины (не менее 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зентационных материалов к лекционному курс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ание курса лекций по дисципл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системы тестового контроля знаний (промежуточного и конечног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дисциплины «Основы медицинских знаний и охраны здоровья детей» для работы общеобразовательной школе (по программе дополнительной профессиональной квалифик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18D5-54F9-42A7-ADFD-29BFA4BF96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BC91-7F6F-4A70-8C2D-71AD22A9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BEBE-1687-4B5E-A7D2-B203CDE5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85AA-3C33-4137-BF94-0E657E0C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A506-3217-4FEF-AF2D-25EA6C8B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87EB-2003-44DF-8427-D089256D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416D-1508-4487-A08A-63474D3B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402D-C816-41CE-85B3-2BF2D2BA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749B-08F7-4F77-A187-37D0D37B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5C84-1CC9-4E6E-A596-B4E9CACB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91AA-440C-408A-B00F-9D3D5571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732B-6EAE-4893-8CE7-C7343D39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348C-7B3A-4C66-805D-E3F049F0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E6C7-42EE-450F-BCA3-4B23A5D3A20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Название проекта:</a:t>
            </a:r>
            <a:br>
              <a:rPr sz="2900"/>
            </a:br>
            <a:r>
              <a:rPr b="0" lang="ru-RU" sz="2900" spc="-1" strike="noStrike">
                <a:solidFill>
                  <a:srgbClr val="ff3300"/>
                </a:solidFill>
                <a:latin typeface="Calibri"/>
              </a:rPr>
              <a:t>продолжение проекта 2007 г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дготовка преподавателей дисциплины «Основы медицинских знаний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охраны здоровья детей»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ля общеобразовательной школы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по программе дополнительной профессиональной квалификации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3300"/>
                </a:solidFill>
                <a:latin typeface="Calibri"/>
              </a:rPr>
              <a:t>Руководитель: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иницкая Ирина Леонидов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.м.н., доцен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Инновационный потенциал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1680" y="15238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готовка преподавателей новой дисциплины «Основы медицинских знаний и охраны здоровья детей» для работы в общеобразовательной школе по программе дополнительной профессиональной квалифик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аботка принципиально новых учебно-методических материалов, направленных на приобретение необходимых знаний и умений, позволяющих обеспечить, пропаганду здорового образа жизни школьников, создающих условия для нормального роста и развития подрастающего покол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Каким специальностям и направлениям подготовки соответствует проек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 рассчитан на студентов ЮФУ (РГУ), получающих специальность «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еподавател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ка преподавателей дисциплины «Основы медицинских знаний и охраны здоровья детей» для общеобразовательной школы осуществляется по программе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ополнительной профессиональной квалифик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Общее число исполн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01680" y="24350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3 человек (10 преподавателей и 3 лаборанта, из них 2 доцента, 4 кандидата медицинских наук, сотрудников без ученой степени - 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Проект см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6854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ая работ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 квартал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ики (1) – 2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е пособия (10) - 6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зентации (8) – 8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 квартал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ики (2) – 4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е пособия (7) – 42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зентации (8) – 8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 квартал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ики (2) – 4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е пособия (7) – 42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зентации (8) – 8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 квартал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ик (1) – 2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е пособия  (10) – 6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зентации (8) - 80000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того: 3560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ОЕКТ СМ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бретение оборудов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техника (сканер, цветной принтер) - 10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орудование компьютерного класса – 50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монт учебных классов – 100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новление демонстрационной учебной базы (муляжей,  мед. инструментария) – 5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учение работы с интерактивной доской, мультимедийным оборудованием - 2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андировки в ведущие учебные заведения РФ по обмену опытом (СПбГПУ) – 30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того: 197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Оборудование, необходимое для реализации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ультимедийное презентационное обеспе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тех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ащение компьютерного клас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новление демонстрационной учебной базы по кур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Коммерческая перспектива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1680" y="23587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бор обучающихся на коммерческой основе (2009 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икл презентаций (создание сайта) с целью привлечения слушателей из других подразделений ЮФУ, ВУЗв РО, ЮФО для приобретения дополнительной профессиональной квалификации по специальности «преподаватель основ медицинских знаний и охраны здоровья детей» (2009 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изация учебно-методической литературы (2009 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Наличие потенциального заказч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1680" y="20541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азчик: Управление образования г. Ростова-на-Дон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ание: письмо от 20.12.2007 г. Управления образования г. Ростова-на-Дону о чрезвычайной актуальности подготовки преподавателей дисциплины «Основы медицинских знаний и охраны здоровья детей» для работы в общеобразовательных школах (с выдачей соответствующего удостоверени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Перечень объектов интеллектуальной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собств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609480" y="1644480"/>
            <a:ext cx="8229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нные УМК и программа по курсу «Основы медицинских знаний и охраны здоровья детей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нный лекционный кур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программе УМ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чебник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о-методические пособия по основным разделам програм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и по курсу «Основы медицинских знаний и охраны здоровья детей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тестового контроля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Планируемая в 2008-2009г. реализация результатов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1680" y="15238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ка преподавателей дисциплины «Основы медицинских знаний и охраны здоровья детей» для общеобразовательной школы по программе дополнительной профессиональной квалификации с выдачей соответствующего удостовер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бор слушателей на коммерческой осно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икл презентаций (создание сайта) с целью привлечения слушателей других подразделений ЮФУ, ВУЗов РО, ЮФО, для приобретения дополнительной профессиональной квалификации по специальности «преподаватель основ медицинских знаний и охраны здоровья дете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изация учебной литера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Организация </a:t>
            </a:r>
            <a:br>
              <a:rPr sz="3600"/>
            </a:b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– головной исполнитель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1680" y="22827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федра «Основы медицинских знан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защиты насел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чрезвычайной обстановке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иолого-почвенного факульте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Южного федерального университ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ерспективное план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ект является продолжением заявки 2007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читан на период до 2010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 2007г. начато формирование учебно-методической базы (УМК, программа курса, 2 учебника, 7 учебно-методических пособий, презентация лекционного курс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учение студентов по программе проводится с 1992г.(с 2005г. отменена выдача удостоверений о прослушанном курс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Тип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168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ователь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ответствует приоритетному направлению по охране здоровья населения РФ в свете Национального проекта «Здоровье нации» и «Образован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равление  для ЮФУ: проект по созданию департамента биоло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ностью соответствует требованиям, предъявляемым к разрабатываемым проектам и учебной литературе для высших учебных завед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Задел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7476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публикованы с 1993 года 52 учебно-методических пособия, 2 учебника, 7 научных тезисов для участия в региональных и международных конференциях, разработаны курсы лекций по всем разделам УМК, тестовый контроль  знаний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Разработан УМК и программа по курсу «Основы медицинских знаний и охраны здоровья детей»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одготовлены к публикации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-    учебники: «Возрастные особенности жизни женщины», «Первая медицинская помощь при основных хирургических заболеваниях и травмах»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учебно-методические пособия: «Организация учебного процесса и физическое воспитание школьников», «Питание школьников», «Подготовка и адаптация детей к началу обучения в школе», «Гепатиты», «Вегето-сосудистая дистония» 2 части, «Лихорадка, причины, первая помощь»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резентация курса «Основы медицинских знаний и охраны здоровья детей».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Цель и задачи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1680" y="13712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Цель: подготовка преподавателей дисциплины «Основы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медицинских знаний и охраны здоровья детей» для работы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 общеобразовательных школах (по программе дополнительной профессиональной квалификации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Задачи: Подготовка учебно-методической базы курса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а) подготовка к публикации учебников по основным разделам курса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(8 разделов)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б) издание учебно-методических пособий по наиболее актуальным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роблемам учебного курса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) подготовка презентационных программ по лекционному курсу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г) подготовка базы современных литературных источников для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ормирования электронных учебных пособий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д) создание сайта с целью внешнего привлечения слушателей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е) с 2009г. набор студентов для обучения на коммерческих условиях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Актуальность и значимост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1680" y="12920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резвычайно актуальной представляется проблема сохранения здоровья детей и подростков как наиболее уязвимых к стрессорным воздействиям в силу несовершенства адаптационных механизм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основных направлениях реформы общеобразовательной школы сказано: «Необходимо, чтобы каждый школьник овладел минимумом знаний в области гигиены и медицины, смолоду знал свой организм и умел поддерживать его в порядке»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льшинство руководителей СОШ признает необходимость пропаганды здорового образа жизни школьников при отсутствии подготовленных педагогических кад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дельные образовательные школьные программы по данной теме ведутся по исключительно по инициативе педагог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Целью работ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является углубленная разработка разделов курса «Основ медицинских знаний и охраны здоровья детей» по охране здоровья ребенка, применение здоровьесберегающих технологий, пропаганда здорового образа жизни школьн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Научная и методическая новизн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1680" y="19810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работанный курс не имеет аналогов в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чает требованиям, предъявляемым к современной высшей шко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рс будет способствовать улучшению качества жизни и здоровья школьников, и населения РФ в цел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Ожидаемые результа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168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работка учебно-методической базы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ебники по основным разделам УМК (8 разделов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ебно-методические пособия по наиболее актуальным проблемам дисциплины (не менее 3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готовка презентационных материалов к лекционному курс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здание курса лекций по дисципли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работка системы тестового контроля знаний (промежуточного и конечного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готовка преподавателей дисциплины «Основы медицинских знаний и охраны здоровья детей» для работы общеобразовательной школе (по программе дополнительной профессиональной квалификации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RomaK</cp:lastModifiedBy>
  <dcterms:modified xsi:type="dcterms:W3CDTF">2014-10-31T13:27:10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