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F6D8-BEA4-41E6-987B-69BAD08DD6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55E8-25CE-4337-9634-8BA50823E3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ценных бумаг банко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(март 2008 г.): что предпочитают банк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F29E-8F80-44F9-ABE8-A1B705E777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долговых обязательств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A940-CF78-44C5-89EF-DDE668BDC6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акций банковск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45FE-FF5F-4723-837B-E13AB76A76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контрольного участия банковского сек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0030-D1DB-48AF-8280-03BC7EA3C5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облиг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394C-41DD-4DC5-8BF4-55AE49FBD3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то самые консервативные инвесторы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FF38-1A00-4AAB-8F25-C4FF06B05C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Зависимость вложений в облигации от размера банка 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доля в активах и размер активо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855B-CA69-4D42-9A55-AB943A5F16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A343-7D99-423B-BA0A-200C5EDB3E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Являются ли наши банки инвестиционным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91E4-A27E-4693-9836-05ABBE2C31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ейтинг инвестиционных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61FE-B333-4E7C-9BBC-E61F2DC45A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EE3D-B28E-41A4-A854-804AD3F18D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bonds.info/ru/ru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DBA2-438C-430D-BC84-B645B25A04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 как эмит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73B2-AD19-4C30-AD7C-EC9737DBC0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Место ценных бумаг в банковских пассивах, 2004-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5AFE-1A7E-4DF5-8AC2-6465FDB25F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траслевая структура публичных предложений акций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64D0-7282-4A2A-8B91-8409453A3E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ассивных операций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B9F0-3391-48A6-A852-21640958CB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ыпущенные долговые бумаги, март 2008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E012-7B5B-437E-B639-6BCEF25362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компаний "РЕГИО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ксель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egion.ru/AboutGroup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9D40-9591-4A72-8B70-D4F62EE107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аскрыт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квартальные отчеты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0FB3-2DBE-4F59-B20A-8BBC29DB7B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Доверительные оп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размещение ценных бумаг (организация выпуска, андеррайти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реестра акционеров и регистрация сделок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активами п поручению кл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озитарн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E18A-DDCF-4500-B1F0-87DF2E35BE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щие фонды банков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1CE8-C879-4E33-B841-86E81CEAB5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Требования к банкам: наличие лицензии профессионального участника рынка ценных бума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и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епозит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доверите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брокер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3527-7AAD-4E1D-886C-009FD5A7D0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епозита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Регистрато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46CD-26C4-4E78-83F2-EE009575F9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регистраторов и депозитари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38F9-1A69-45AC-B283-16C944CDB8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депозитарие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1C23-C091-4E4B-B001-329360C662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Ассоциация Регистраторов, Трансфер-Агентов и Депозитариев (ПАРТА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partad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67E4-53DF-4DFE-906B-44D548D08C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орот по брокерским 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53DD-ED06-48A1-A534-A11A2942E9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ая ассоциация участников фондового рынка» (НАУФ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aufor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ое Рейтинговое Агентств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a-national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7D32-CC8C-4C6D-8894-FAB8AADD1A0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иски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 Банка России – 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ценные бумаги РФ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субъектов РФ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портфеля = 25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вложений в одного эмитента = 10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4BFA-9735-4659-A581-FD267D189C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труктура рыночного риска банковского сектора 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ыночный рис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зменения рыночной цены активов или обязатель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490B-24C2-4BEB-96B2-B3A1C3C914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декс ММВБ, 200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1A3A-8D20-4FDB-9565-8864AFCFD89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ic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ts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D719-1079-405D-9698-41FE3FC9C2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профессиональных поср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B338-78F8-4D2F-8083-9B482B5487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оли инвестора: </a:t>
            </a:r>
            <a:br>
              <a:rPr sz="1200"/>
            </a:b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ценных бумаг, 1999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2258-5619-486A-81D0-D971D77CBC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источников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ание лик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ционный портфель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270C-E53F-4A23-911C-1F41BE47C3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иты по типам ценных бумаг (эмитенты, виды бумаг, сро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и условия торговл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сделок (валютные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D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3B11-AD21-45DA-AC57-4693C9141F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овский портфель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Торговый портф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ерепродажи в течение 6 месяцев, по договорам «репо» и зай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й портфель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контрольного учас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0%, позволяющий влиять на управление в компании-эмитен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2727-814F-4898-A60B-7A4AE2603F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 ценных бумаг на балансе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6A2D-8FAA-4AB4-9656-B198A1036E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BC7C-8919-428F-8B95-0420F14A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3F6C-E5EF-4D65-9E21-B92241BA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1355-2A18-40B1-90B7-9CB396AD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8FD2-94BB-4E5A-B570-D76A6554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D158-0820-492C-8822-9C868A2B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ABC3-8BCD-48E5-BC20-A1E86C1D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932C-A961-4BD9-8E81-1AA1FF21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A0F6-EBE1-475D-831D-084C8FA1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6EFF-C91F-442E-9A08-C5FB2A3A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1B6F-5494-4504-A419-A1B14537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7BCA-76E6-4E04-BBCF-95BD884E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9313-279B-4A2D-9748-6A55F1D9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8D8D-532B-4E9C-9BD6-07918235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B1D5-1936-47CD-B580-2DF37451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12BB-3821-4C3A-970B-FCEFDB08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36CD-801F-4647-89B5-17416F96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E018-201D-47F4-B7E3-DE8CE842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C207-91A2-4950-9CA9-6AD329FF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AC9C-0DDB-4371-B262-649C0ADB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53E4A-7C58-41DB-B197-81D8A5B4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FF42-A3B5-4B7B-BFD0-6151B26C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7636-9B2C-4C75-BAC2-5437E65D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1337-5CB7-48BA-AEEF-BCF23589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ADF4-1CD1-48EF-A97E-BDA6FD4E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28A5-E0F2-4234-BA2E-44DDBC2539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594F-6CEE-4E52-9009-6DA10566ADC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7000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Структура портфеля ценных бумаг банков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(март 2008 г.): что предпочитают банки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Диаграмма 6" descr=""/>
          <p:cNvPicPr/>
          <p:nvPr/>
        </p:nvPicPr>
        <p:blipFill>
          <a:blip r:embed="rId1"/>
          <a:stretch/>
        </p:blipFill>
        <p:spPr>
          <a:xfrm>
            <a:off x="493560" y="1639800"/>
            <a:ext cx="8083800" cy="42973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ортфеля долговых обязательств банков, март 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Диаграмма 46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8442000" cy="49453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Структура портфеля акций банковского сектор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Диаграмма 31" descr=""/>
          <p:cNvPicPr/>
          <p:nvPr/>
        </p:nvPicPr>
        <p:blipFill>
          <a:blip r:embed="rId1"/>
          <a:stretch/>
        </p:blipFill>
        <p:spPr>
          <a:xfrm>
            <a:off x="208080" y="1494000"/>
            <a:ext cx="8515080" cy="44431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Структура портфеля контрольного участия банковского секто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март 200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Диаграмма 22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8229600" cy="45162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облига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4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9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9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3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никредитбанк (ММ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ффайзен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Кто самые консервативные инвесторы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8760" y="709560"/>
          <a:ext cx="822960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3543480"/>
                <a:gridCol w="2057400"/>
                <a:gridCol w="2057400"/>
              </a:tblGrid>
              <a:tr h="55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зем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нспорт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ни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Ф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тра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г-инве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дор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ры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о-Восточ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4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Зависимость вложений в облигации от размера банка </a:t>
            </a:r>
            <a:br>
              <a:rPr sz="32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доля в активах и размер активов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Диаграмма 3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8229600" cy="45849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ак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9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56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16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97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Петрокоммер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59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Юникредит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2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 Фи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3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-Северо-Зап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0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Являются ли наши банки инвестиционными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85880" y="714240"/>
          <a:ext cx="737244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2928960"/>
                <a:gridCol w="1928880"/>
                <a:gridCol w="194328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о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транс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ны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-инвест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й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инвестици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Рейтинг инвестиционных банков, март 2008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14200" y="863640"/>
          <a:ext cx="8643960" cy="5149800"/>
        </p:xfrm>
        <a:graphic>
          <a:graphicData uri="http://schemas.openxmlformats.org/drawingml/2006/table">
            <a:tbl>
              <a:tblPr/>
              <a:tblGrid>
                <a:gridCol w="428760"/>
                <a:gridCol w="1595520"/>
                <a:gridCol w="1047600"/>
                <a:gridCol w="1000080"/>
                <a:gridCol w="1143000"/>
                <a:gridCol w="3429000"/>
              </a:tblGrid>
              <a:tr h="585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ред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, млн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эмит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руппа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Россельхозбанк, 6; ТрансКонтейнер, 1; ВТБ 24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, 2; Микояновский мясокомбинат, 2; ЭйрЮнион Эр Эр Джи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Тройка Ди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ВАЗ, БО-2; АВТОВАЗ, БО-1; Еврокоммерц, 5; ТГК-10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728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Дальневосточная генерирующая компания, 1; Калмыкия, 31001; Калужская область, 34003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Мосфинагент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, 49; Москва, 45; Москва, 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ТрансКонтейнер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ая генерирующая компания, 1; НОМОС-БАНК, 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-Фи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Дальневосточная генерирующая компания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Сою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Союз,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6"/>
          <p:cNvSpPr/>
          <p:nvPr/>
        </p:nvSpPr>
        <p:spPr>
          <a:xfrm>
            <a:off x="233280" y="62866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ttp://www.cbonds.info/rus/ib/index.p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Рисунок SmartArt 6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55160" cy="4560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http://www.cbonds.info/ru/rus/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6" descr="http://www.cbonds.info/design/cbonds_logo_rus.gif"/>
          <p:cNvPicPr/>
          <p:nvPr/>
        </p:nvPicPr>
        <p:blipFill>
          <a:blip r:embed="rId1"/>
          <a:stretch/>
        </p:blipFill>
        <p:spPr>
          <a:xfrm>
            <a:off x="2571840" y="3071880"/>
            <a:ext cx="2981160" cy="928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Банк как эмитент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8" name="Diagram 3"/>
          <p:cNvGrpSpPr/>
          <p:nvPr/>
        </p:nvGrpSpPr>
        <p:grpSpPr>
          <a:xfrm>
            <a:off x="1441440" y="1758960"/>
            <a:ext cx="6188040" cy="3297240"/>
            <a:chOff x="1441440" y="1758960"/>
            <a:chExt cx="6188040" cy="3297240"/>
          </a:xfrm>
        </p:grpSpPr>
        <p:sp>
          <p:nvSpPr>
            <p:cNvPr id="199" name="_s1028"/>
            <p:cNvSpPr/>
            <p:nvPr/>
          </p:nvSpPr>
          <p:spPr>
            <a:xfrm>
              <a:off x="3699000" y="2344680"/>
              <a:ext cx="1673280" cy="1674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_s1029"/>
            <p:cNvSpPr/>
            <p:nvPr/>
          </p:nvSpPr>
          <p:spPr>
            <a:xfrm>
              <a:off x="3699000" y="17589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лечение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собственного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капитал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обыкновенные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илегированные ак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_s1030"/>
            <p:cNvSpPr/>
            <p:nvPr/>
          </p:nvSpPr>
          <p:spPr>
            <a:xfrm>
              <a:off x="4249800" y="3298680"/>
              <a:ext cx="1673280" cy="1675080"/>
            </a:xfrm>
            <a:prstGeom prst="ellipse">
              <a:avLst/>
            </a:prstGeom>
            <a:solidFill>
              <a:srgbClr val="ebf25a">
                <a:alpha val="50000"/>
              </a:srgbClr>
            </a:solidFill>
            <a:ln w="4680">
              <a:solidFill>
                <a:srgbClr val="ebf2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_s1031"/>
            <p:cNvSpPr/>
            <p:nvPr/>
          </p:nvSpPr>
          <p:spPr>
            <a:xfrm>
              <a:off x="5956200" y="46371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средне-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олгосрочных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ноты, облига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_s1032"/>
            <p:cNvSpPr/>
            <p:nvPr/>
          </p:nvSpPr>
          <p:spPr>
            <a:xfrm>
              <a:off x="3147840" y="3298680"/>
              <a:ext cx="1673280" cy="1675080"/>
            </a:xfrm>
            <a:prstGeom prst="ellipse">
              <a:avLst/>
            </a:prstGeom>
            <a:solidFill>
              <a:srgbClr val="f2aa68">
                <a:alpha val="50000"/>
              </a:srgbClr>
            </a:solidFill>
            <a:ln w="468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1441440" y="46386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енежного рынк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векселя, сертификаты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Место ценных бумаг в банковских пассивах, 2004-08 г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369280" cy="50101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траслевая структура публичных предложений акций российских компан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57120" y="1643040"/>
          <a:ext cx="8358120" cy="3646440"/>
        </p:xfrm>
        <a:graphic>
          <a:graphicData uri="http://schemas.openxmlformats.org/drawingml/2006/table">
            <a:tbl>
              <a:tblPr/>
              <a:tblGrid>
                <a:gridCol w="500040"/>
                <a:gridCol w="4500720"/>
                <a:gridCol w="3357360"/>
              </a:tblGrid>
              <a:tr h="68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 общем объеме размещений, 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ая деятель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, недвижим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ург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Э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32280" y="5500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ww.offering.r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ассивных операций с ценными бумагами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4" name="Диаграмма 4" descr=""/>
          <p:cNvPicPr/>
          <p:nvPr/>
        </p:nvPicPr>
        <p:blipFill>
          <a:blip r:embed="rId1"/>
          <a:stretch/>
        </p:blipFill>
        <p:spPr>
          <a:xfrm>
            <a:off x="208080" y="920880"/>
            <a:ext cx="8582040" cy="5729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Выпущенные долговые бумаги, март 2008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28760" y="642960"/>
          <a:ext cx="8229600" cy="6122880"/>
        </p:xfrm>
        <a:graphic>
          <a:graphicData uri="http://schemas.openxmlformats.org/drawingml/2006/table">
            <a:tbl>
              <a:tblPr/>
              <a:tblGrid>
                <a:gridCol w="714240"/>
                <a:gridCol w="3286080"/>
                <a:gridCol w="4229280"/>
              </a:tblGrid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пущенные цен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маги, % пассив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скоммерц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ван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вра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й морской пу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депози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ресс-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тр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св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ипоте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остро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ый косм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вр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4038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а компаний "РЕГИОН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ексельный рын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egion.ru/AboutGroup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10" descr="Регион"/>
          <p:cNvPicPr/>
          <p:nvPr/>
        </p:nvPicPr>
        <p:blipFill>
          <a:blip r:embed="rId1"/>
          <a:stretch/>
        </p:blipFill>
        <p:spPr>
          <a:xfrm>
            <a:off x="5076720" y="1700280"/>
            <a:ext cx="3167280" cy="28540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аскрытие информ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квартальные отчеты по ценным бумаг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Доверительные опер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ичное размещение ценных бумаг (организация выпуска, андеррайтин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ние реестра акционеров и регистрация сделок с ценными бумаг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ение активами п поручению кли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позитарн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бщие фонды банковского управл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28760" y="3786120"/>
          <a:ext cx="8286480" cy="1886040"/>
        </p:xfrm>
        <a:graphic>
          <a:graphicData uri="http://schemas.openxmlformats.org/drawingml/2006/table">
            <a:tbl>
              <a:tblPr/>
              <a:tblGrid>
                <a:gridCol w="4120920"/>
                <a:gridCol w="1041480"/>
                <a:gridCol w="1041480"/>
                <a:gridCol w="1041480"/>
                <a:gridCol w="104112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фон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рублев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валют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имость чистых актив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лрд руб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,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Прямоугольник 4"/>
          <p:cNvSpPr/>
          <p:nvPr/>
        </p:nvSpPr>
        <p:spPr>
          <a:xfrm>
            <a:off x="342360" y="635796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aufor.ru/tree.asp?n=65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500040" y="85716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c000"/>
                </a:solidFill>
                <a:latin typeface="Tahoma"/>
              </a:rPr>
              <a:t>Требования к банкам: наличие лицензии профессионального участника рынка ценных бумаг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26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ил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епозит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доверительное у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брокерск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Учетная сист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Депозитари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Регистратор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Лицензии регистраторов и депозитарие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8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442000" cy="48704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Рейтинг депозитариев России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85840" y="1214280"/>
          <a:ext cx="8229600" cy="4832640"/>
        </p:xfrm>
        <a:graphic>
          <a:graphicData uri="http://schemas.openxmlformats.org/drawingml/2006/table">
            <a:tbl>
              <a:tblPr/>
              <a:tblGrid>
                <a:gridCol w="471240"/>
                <a:gridCol w="2271960"/>
                <a:gridCol w="1371600"/>
                <a:gridCol w="1371600"/>
                <a:gridCol w="1371600"/>
                <a:gridCol w="1371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контролируемого имущества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тоимость чистых активов ИФ и ПИФ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резервов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накоплений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НАЯ ДЕПОЗИТАРНАЯ КОМП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7 354 712 6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967 821 7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 386 890 9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Д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 261 558 5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075 349 7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 398 683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87 524 9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АНТ СД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 159 316 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126 906 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447 228 5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25 311 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 СПЕЦИАЛИЗИРОВАННЫЙ 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 172 493 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 844 822 0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3 335 5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335 7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 ИРК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750 254 4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697 068 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77 330 7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854 7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ЗИРОВАННЫЙ ДЕПОЗИТАРНЫЙ ЦЕН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ЕПОЗИТАРНАЯ КОМПАНИЯ УРАЛСИ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431 989 7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088 801 2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3 188 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АНК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 610 117 4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908 354 6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1 762 7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42" name="Прямоугольник 5"/>
          <p:cNvSpPr/>
          <p:nvPr/>
        </p:nvSpPr>
        <p:spPr>
          <a:xfrm>
            <a:off x="253800" y="628668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afedepo.ru/reyting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фессиональная Ассоциация Регистраторов, Трансфер-Агентов и Депозитариев (ПАРТА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partad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6" descr="http://www.partad.ru/gif/partadnew.gif"/>
          <p:cNvPicPr/>
          <p:nvPr/>
        </p:nvPicPr>
        <p:blipFill>
          <a:blip r:embed="rId1"/>
          <a:stretch/>
        </p:blipFill>
        <p:spPr>
          <a:xfrm>
            <a:off x="4929120" y="1857240"/>
            <a:ext cx="2635200" cy="1571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Оборот по брокерским счетам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802040"/>
        </p:xfrm>
        <a:graphic>
          <a:graphicData uri="http://schemas.openxmlformats.org/drawingml/2006/table">
            <a:tbl>
              <a:tblPr/>
              <a:tblGrid>
                <a:gridCol w="614520"/>
                <a:gridCol w="3500280"/>
                <a:gridCol w="2057400"/>
                <a:gridCol w="2057400"/>
              </a:tblGrid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7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6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ЯЗЬ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5 755 6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 558 7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ОС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 939 8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 191 8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 КРЕДИТ СВИСС (МОСК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6 379 46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 752 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 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 159 17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 133 9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3 432 0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103 64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БИН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 291 6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268 9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ЬФА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6 706 7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505 8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ФКО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 829 4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 707 3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ЙКРЕДИ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 960 19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240 94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РЭС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 510 9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668 7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ая ассоциация участников фондового рынка» (НАУФ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naufor.ru/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ое Рейтинговое Агентство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ra-national.ru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headline"/>
          <p:cNvPicPr/>
          <p:nvPr/>
        </p:nvPicPr>
        <p:blipFill>
          <a:blip r:embed="rId1"/>
          <a:stretch/>
        </p:blipFill>
        <p:spPr>
          <a:xfrm>
            <a:off x="4716360" y="1844640"/>
            <a:ext cx="403884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logo"/>
          <p:cNvPicPr/>
          <p:nvPr/>
        </p:nvPicPr>
        <p:blipFill>
          <a:blip r:embed="rId2"/>
          <a:stretch/>
        </p:blipFill>
        <p:spPr>
          <a:xfrm>
            <a:off x="5076720" y="3789360"/>
            <a:ext cx="3382920" cy="107172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иски по ценным бумаг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игации Банка России – 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. ценные бумаги РФ – 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ные бумаги субъектов РФ –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портфеля = 25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вложений в одного эмитента = 10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Структура рыночного риска банковского сектора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рыночный риск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к изменения рыночной цены активов или обязательств)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0" name="Диаграмма 4" descr=""/>
          <p:cNvPicPr/>
          <p:nvPr/>
        </p:nvPicPr>
        <p:blipFill>
          <a:blip r:embed="rId1"/>
          <a:stretch/>
        </p:blipFill>
        <p:spPr>
          <a:xfrm>
            <a:off x="281160" y="1352520"/>
            <a:ext cx="8442000" cy="508464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Индекс ММВБ, 2003-2008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28760" y="1285920"/>
          <a:ext cx="8429400" cy="8618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457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д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6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5 ле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04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9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.7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3" descr="http://stocks.investfunds.ru/graph/stocks_indicator.php?&amp;period=6&amp;ticker=216&amp;width=265&amp;rnd=0.7357080677281389"/>
          <p:cNvPicPr/>
          <p:nvPr/>
        </p:nvPicPr>
        <p:blipFill>
          <a:blip r:embed="rId1"/>
          <a:stretch/>
        </p:blipFill>
        <p:spPr>
          <a:xfrm>
            <a:off x="1714680" y="2357280"/>
            <a:ext cx="5214600" cy="35053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micex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ts.ru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Московская межбанковская валютная биржа"/>
          <p:cNvPicPr/>
          <p:nvPr/>
        </p:nvPicPr>
        <p:blipFill>
          <a:blip r:embed="rId1"/>
          <a:stretch/>
        </p:blipFill>
        <p:spPr>
          <a:xfrm>
            <a:off x="5148360" y="1844640"/>
            <a:ext cx="309564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logo_rts1"/>
          <p:cNvPicPr/>
          <p:nvPr/>
        </p:nvPicPr>
        <p:blipFill>
          <a:blip r:embed="rId2"/>
          <a:stretch/>
        </p:blipFill>
        <p:spPr>
          <a:xfrm>
            <a:off x="5148360" y="3933720"/>
            <a:ext cx="3456000" cy="102096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Лицензии профессиональных посред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000080"/>
          <a:ext cx="8229600" cy="1744560"/>
        </p:xfrm>
        <a:graphic>
          <a:graphicData uri="http://schemas.openxmlformats.org/drawingml/2006/table">
            <a:tbl>
              <a:tblPr/>
              <a:tblGrid>
                <a:gridCol w="5043240"/>
                <a:gridCol w="1143000"/>
                <a:gridCol w="1000080"/>
                <a:gridCol w="1043280"/>
              </a:tblGrid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к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5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ценными бумага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4"/>
          <p:cNvSpPr/>
          <p:nvPr/>
        </p:nvSpPr>
        <p:spPr>
          <a:xfrm>
            <a:off x="405360" y="292896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ФСФР Росс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85840" y="3357720"/>
            <a:ext cx="85723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Банк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в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роли инвестора: </a:t>
            </a:r>
            <a:br>
              <a:rPr sz="2200"/>
            </a:b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портфель ценных бумаг, 1999-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Диаграмма 6" descr=""/>
          <p:cNvPicPr/>
          <p:nvPr/>
        </p:nvPicPr>
        <p:blipFill>
          <a:blip r:embed="rId1"/>
          <a:stretch/>
        </p:blipFill>
        <p:spPr>
          <a:xfrm>
            <a:off x="420840" y="1352520"/>
            <a:ext cx="8302320" cy="451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и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версификация акти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источников дох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ание ликви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вестиционный портфель бан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Инвестиционная поли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ировка ц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ктура инвестиционного портф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миты по типам ценных бумаг (эмитенты, виды бумаг, сро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и условия торговли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hang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фика сделок (валютные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D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Банковский портфель ценных бумаг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Торговый портфел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ерепродажи в течение 6 месяцев, по договорам «репо» и займ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й портфель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Портфель контрольного участ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0%, позволяющий влиять на управление в компании-эмитент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Учет ценных бумаг на балансе банк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5840" y="907920"/>
          <a:ext cx="8400960" cy="5821560"/>
        </p:xfrm>
        <a:graphic>
          <a:graphicData uri="http://schemas.openxmlformats.org/drawingml/2006/table">
            <a:tbl>
              <a:tblPr/>
              <a:tblGrid>
                <a:gridCol w="1285920"/>
                <a:gridCol w="6000480"/>
                <a:gridCol w="1114560"/>
              </a:tblGrid>
              <a:tr h="56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говые обязательства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ные для перепродажи и по договорам зай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долговые обязательства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ленный купонный (процентный) доход по долговым обязательств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роченн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ии, приобретенные для перепродажи и по договорам зай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а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акции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счета по операциям с ценными бумаг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2-5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тенные векс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8:43:04Z</dcterms:created>
  <dc:creator>Sergey Moiseev</dc:creator>
  <dc:description/>
  <dc:language>en-US</dc:language>
  <cp:lastModifiedBy>LEGION</cp:lastModifiedBy>
  <dcterms:modified xsi:type="dcterms:W3CDTF">2014-11-10T12:06:18Z</dcterms:modified>
  <cp:revision>53</cp:revision>
  <dc:subject/>
  <dc:title>Банки на рынке ценных бума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3620</vt:lpwstr>
  </property>
</Properties>
</file>