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C44E-ACF5-4088-ACCF-B867678426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59F7-5885-4A1A-91AF-0373653C86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ценных бумаг банко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(март 2008 г.): что предпочитают банк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12C7-370A-4CE3-A577-61E1367E56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долговых обязательств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55F4-5CF6-4070-8186-450F3A9DED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акций банковск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4B2E-4DC3-4946-9EDE-0904D336BD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контрольного участия банковского сек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191D-5783-4C42-87F0-FDDCCF0F48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облиг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237C-CBD5-4D3A-954C-01A1934C9E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то самые консервативные инвесторы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36EF-A9E3-4E6F-817F-AE69FEE94D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Зависимость вложений в облигации от размера банка 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доля в активах и размер активо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BD78-F348-493C-AAAA-42562B0F6D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8D68-166E-47DD-8F72-D228166E1B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Являются ли наши банки инвестиционным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EA97-1F39-469F-AB67-77209A0B34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ейтинг инвестиционных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2BF7-3EA7-4650-B165-C820694B5B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F8C-4248-4144-966A-073B293707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bonds.info/ru/ru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B1B5-C61A-441D-9C5F-C8349E6D12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 как эмит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AAD4-91C8-44EE-91B5-F6648C47B1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Место ценных бумаг в банковских пассивах, 2004-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C639-691A-4B11-94B3-1B559C5B7C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траслевая структура публичных предложений акций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D94C-E348-48FE-A744-276923F9C3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ассивных операций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04DF-E9A1-4DE0-A0D2-3770B6509D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ыпущенные долговые бумаги, март 2008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8C91-9A39-4D81-AE40-16C0272925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компаний "РЕГИО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ксель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egion.ru/AboutGroup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4BA-A3FB-4F57-A43A-318DBCBDAD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аскрыт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квартальные отчеты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9696-1315-490A-9304-5A52A8ACCC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Доверительные оп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размещение ценных бумаг (организация выпуска, андеррайти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реестра акционеров и регистрация сделок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активами п поручению кл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озитарн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74AE-BEF2-485C-9146-8A17235339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щие фонды банков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395C-28AB-48EB-8255-FF81E8E1EA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Требования к банкам: наличие лицензии профессионального участника рынка ценных бума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и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епозит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доверите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брокер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0891-A6D5-4E41-8D2C-5F1C29F862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епозита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Регистрато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ED41-2D1C-4C29-8960-9A0B32E650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регистраторов и депозитари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A369-EADE-4AFB-AB3C-CCE4F36080E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депозитарие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B36E-1593-46EC-9BBE-66594A93D8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Ассоциация Регистраторов, Трансфер-Агентов и Депозитариев (ПАРТА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partad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C624-7F42-4974-99B1-4319E7BC05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орот по брокерским 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074A-E770-4A02-9C7E-A218CAC45F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ая ассоциация участников фондового рынка» (НАУФ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aufor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ое Рейтинговое Агентств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a-national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64B2-F3F5-4F3A-B5CD-2F304B335E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иски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 Банка России – 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ценные бумаги РФ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субъектов РФ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портфеля = 25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вложений в одного эмитента = 10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B9C7-9FCB-4DD7-8012-4C90E64A65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труктура рыночного риска банковского сектора 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ыночный рис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зменения рыночной цены активов или обязатель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F942-F97E-4529-A7AA-9AA271EEB8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декс ММВБ, 200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B036-2921-49D5-BFB7-5991DBEE38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ic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ts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9B35-CC72-4A58-BDD1-A95DC5A553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профессиональных поср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13E5-AC2E-4E67-ACF3-3F682929FD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оли инвестора: </a:t>
            </a:r>
            <a:br>
              <a:rPr sz="1200"/>
            </a:b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ценных бумаг, 1999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EEC0-CF39-497A-BD9A-0F68296F91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источников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ание лик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ционный портфель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3F61-ECE1-4CF5-B7E0-C6BCF68888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иты по типам ценных бумаг (эмитенты, виды бумаг, сро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и условия торговл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сделок (валютные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EF6-40F2-4A0C-9893-09B730CD30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овский портфель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Торговый портф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ерепродажи в течение 6 месяцев, по договорам «репо» и зай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й портфель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контрольного учас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0%, позволяющий влиять на управление в компании-эмитен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BF78-D78D-41A1-9119-B034EC5397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 ценных бумаг на балансе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A1EE-831E-4CAC-B586-3D23C6F93F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5C83-920C-42CA-AD57-74C84F4F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46F1-B395-4034-8E92-332351B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42BD-E422-4601-805E-567F786D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136D-DE58-4CB4-BED3-167D50A5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8D7A-A8E3-4905-A496-1EC32D60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2757-3E9E-4724-97E0-15547A50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298D-D1D8-4740-9628-43187C9F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4CAE-524F-42B3-BDFA-526A690A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68AD-E0DE-4442-B8F9-8E87FCB3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3FA-6EF7-4E23-8B17-D22CD2F2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0BFC-E6D3-47D7-B487-E85D79F8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F781-7D6E-4413-A90D-4F52E690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9280-4B8E-4E10-8737-A6CD899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B78E-D05C-4CC6-99DB-422A70B3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250A-03CD-4A94-A1A8-39DE5E5E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B6BD-62BB-4BF8-8422-FF11B3C1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4AA2-3F4B-433C-823F-E3A73A9E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F44E-D2BF-40B4-9ED7-271D13E7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FDB1-9083-463C-B633-FEC724F2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7B91-D4B2-490A-A9FB-8F317FF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FD64-E30B-48B3-A2A1-693BB48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2304-122F-4F90-8EA4-B4970F20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ECDC-FCCD-4FEA-B5E8-2B0AD9D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DA0C-E8DC-4441-8EDC-30CD11B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442E-30FA-4385-9815-5942F0A858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33D1-6D66-4322-9279-7E3F87FB896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Структура портфеля ценных бумаг банков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(март 2008 г.): что предпочитают банки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Диаграмма 6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083800" cy="42973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ортфеля долговых обязательств банков, март 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Диаграмма 46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8442000" cy="49453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Структура портфеля акций банковского секто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Диаграмма 31" descr=""/>
          <p:cNvPicPr/>
          <p:nvPr/>
        </p:nvPicPr>
        <p:blipFill>
          <a:blip r:embed="rId1"/>
          <a:stretch/>
        </p:blipFill>
        <p:spPr>
          <a:xfrm>
            <a:off x="208080" y="1494000"/>
            <a:ext cx="8515080" cy="44431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Структура портфеля контрольного участия банковского секто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март 200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Диаграмма 22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8229600" cy="45162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облига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4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9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кредитбанк (ММ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ффайзен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Кто самые консервативные инвесторы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709560"/>
          <a:ext cx="822960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3543480"/>
                <a:gridCol w="2057400"/>
                <a:gridCol w="2057400"/>
              </a:tblGrid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зем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порт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ни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тра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г-инве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дор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р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о-Восточ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Зависимость вложений в облигации от размера банка </a:t>
            </a: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доля в активах и размер активов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Диаграмма 3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229600" cy="45849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ак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9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56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16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97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Петрокоммер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5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Юникредит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 Фи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3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-Северо-Зап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0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Являются ли наши банки инвестиционными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85880" y="714240"/>
          <a:ext cx="737244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2928960"/>
                <a:gridCol w="1928880"/>
                <a:gridCol w="194328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о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транс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ы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-инвест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инвестици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Рейтинг инвестиционных банков, март 200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4200" y="863640"/>
          <a:ext cx="8643960" cy="5149800"/>
        </p:xfrm>
        <a:graphic>
          <a:graphicData uri="http://schemas.openxmlformats.org/drawingml/2006/table">
            <a:tbl>
              <a:tblPr/>
              <a:tblGrid>
                <a:gridCol w="428760"/>
                <a:gridCol w="1595520"/>
                <a:gridCol w="1047600"/>
                <a:gridCol w="1000080"/>
                <a:gridCol w="1143000"/>
                <a:gridCol w="3429000"/>
              </a:tblGrid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ред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, млн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эмит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руппа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Россельхозбанк, 6; ТрансКонтейнер, 1; ВТБ 24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, 2; Микояновский мясокомбинат, 2; ЭйрЮнион Эр Эр Джи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Тройка Ди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ВАЗ, БО-2; АВТОВАЗ, БО-1; Еврокоммерц, 5; ТГК-10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728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Дальневосточная генерирующая компания, 1; Калмыкия, 31001; Калужская область, 34003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Мосфинагент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49; Москва, 45; Москва, 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ТрансКонтейнер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ая генерирующая компания, 1; НОМОС-БАНК, 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-Фи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Дальневосточная генерирующая компания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Сою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Союз,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6"/>
          <p:cNvSpPr/>
          <p:nvPr/>
        </p:nvSpPr>
        <p:spPr>
          <a:xfrm>
            <a:off x="233280" y="62866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ttp://www.cbonds.info/rus/ib/index.p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SmartArt 6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55160" cy="4560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http://www.cbonds.info/ru/rus/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http://www.cbonds.info/design/cbonds_logo_rus.gif"/>
          <p:cNvPicPr/>
          <p:nvPr/>
        </p:nvPicPr>
        <p:blipFill>
          <a:blip r:embed="rId1"/>
          <a:stretch/>
        </p:blipFill>
        <p:spPr>
          <a:xfrm>
            <a:off x="2571840" y="3071880"/>
            <a:ext cx="2981160" cy="928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Банк как эмитент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8" name="Diagram 3"/>
          <p:cNvGrpSpPr/>
          <p:nvPr/>
        </p:nvGrpSpPr>
        <p:grpSpPr>
          <a:xfrm>
            <a:off x="1441440" y="1758960"/>
            <a:ext cx="6188040" cy="3297240"/>
            <a:chOff x="1441440" y="1758960"/>
            <a:chExt cx="6188040" cy="3297240"/>
          </a:xfrm>
        </p:grpSpPr>
        <p:sp>
          <p:nvSpPr>
            <p:cNvPr id="199" name="_s1028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лечение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собственного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апитал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обыкновенные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илегированные ак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>
              <a:off x="4249800" y="3298680"/>
              <a:ext cx="1673280" cy="1675080"/>
            </a:xfrm>
            <a:prstGeom prst="ellipse">
              <a:avLst/>
            </a:prstGeom>
            <a:solidFill>
              <a:srgbClr val="ebf25a">
                <a:alpha val="50000"/>
              </a:srgbClr>
            </a:solidFill>
            <a:ln w="468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5956200" y="46371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средне-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олгосрочных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ноты, облига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>
              <a:off x="3147840" y="3298680"/>
              <a:ext cx="1673280" cy="1675080"/>
            </a:xfrm>
            <a:prstGeom prst="ellipse">
              <a:avLst/>
            </a:prstGeom>
            <a:solidFill>
              <a:srgbClr val="f2aa68">
                <a:alpha val="50000"/>
              </a:srgbClr>
            </a:solidFill>
            <a:ln w="468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441440" y="4638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енежного рынк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векселя, сертификаты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Место ценных бумаг в банковских пассивах, 2004-08 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369280" cy="50101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траслевая структура публичных предложений акций российских компан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1643040"/>
          <a:ext cx="8358120" cy="3646440"/>
        </p:xfrm>
        <a:graphic>
          <a:graphicData uri="http://schemas.openxmlformats.org/drawingml/2006/table">
            <a:tbl>
              <a:tblPr/>
              <a:tblGrid>
                <a:gridCol w="500040"/>
                <a:gridCol w="4500720"/>
                <a:gridCol w="3357360"/>
              </a:tblGrid>
              <a:tr h="68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 общем объеме размещений, 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деятель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, недвижим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ург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32280" y="5500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ww.offering.r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ассивных операций с ценными бумагами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4" name="Диаграмма 4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582040" cy="5729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Выпущенные долговые бумаги, март 2008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28760" y="642960"/>
          <a:ext cx="8229600" cy="6122880"/>
        </p:xfrm>
        <a:graphic>
          <a:graphicData uri="http://schemas.openxmlformats.org/drawingml/2006/table">
            <a:tbl>
              <a:tblPr/>
              <a:tblGrid>
                <a:gridCol w="714240"/>
                <a:gridCol w="3286080"/>
                <a:gridCol w="42292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щенные цен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маги, % пассив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коммерц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ва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вра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й морской пу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депози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ресс-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тр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ипоте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остро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косм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вр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а компаний "РЕГИОН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ксельный рын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egion.ru/AboutGroup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0" descr="Регион"/>
          <p:cNvPicPr/>
          <p:nvPr/>
        </p:nvPicPr>
        <p:blipFill>
          <a:blip r:embed="rId1"/>
          <a:stretch/>
        </p:blipFill>
        <p:spPr>
          <a:xfrm>
            <a:off x="5076720" y="1700280"/>
            <a:ext cx="3167280" cy="28540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аскрытие информ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квартальные отчеты по ценным бумаг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Доверительные опер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ое размещение ценных бумаг (организация выпуска, андеррайтин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ие реестра акционеров и регистрация сделок с ценными бумаг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ение активами п поручению кли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позитарн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бщие фонды банковского управл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3786120"/>
          <a:ext cx="8286480" cy="1886040"/>
        </p:xfrm>
        <a:graphic>
          <a:graphicData uri="http://schemas.openxmlformats.org/drawingml/2006/table">
            <a:tbl>
              <a:tblPr/>
              <a:tblGrid>
                <a:gridCol w="4120920"/>
                <a:gridCol w="1041480"/>
                <a:gridCol w="1041480"/>
                <a:gridCol w="1041480"/>
                <a:gridCol w="104112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фон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рублев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валют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 чистых актив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лрд 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4"/>
          <p:cNvSpPr/>
          <p:nvPr/>
        </p:nvSpPr>
        <p:spPr>
          <a:xfrm>
            <a:off x="342360" y="63579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ufor.ru/tree.asp?n=65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500040" y="85716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c000"/>
                </a:solidFill>
                <a:latin typeface="Tahoma"/>
              </a:rPr>
              <a:t>Требования к банкам: наличие лицензии профессионального участника рынка ценных бумаг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ил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епозит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доверительное у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брокерск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Учетная сис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епозитари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Регистратор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Лицензии регистраторов и депозитарие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8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442000" cy="48704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Рейтинг депозитариев России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5840" y="1214280"/>
          <a:ext cx="8229600" cy="4832640"/>
        </p:xfrm>
        <a:graphic>
          <a:graphicData uri="http://schemas.openxmlformats.org/drawingml/2006/table">
            <a:tbl>
              <a:tblPr/>
              <a:tblGrid>
                <a:gridCol w="471240"/>
                <a:gridCol w="2271960"/>
                <a:gridCol w="1371600"/>
                <a:gridCol w="1371600"/>
                <a:gridCol w="1371600"/>
                <a:gridCol w="1371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контролируемого имущества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тоимость чистых активов ИФ и ПИФ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резервов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накоплений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НАЯ ДЕПОЗИТАРНАЯ КОМП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 354 712 6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967 821 7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 386 890 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Д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 261 558 5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075 349 7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 398 683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87 524 9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АНТ СД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 159 316 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126 906 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447 228 5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5 311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 СПЕЦИАЛИЗИРОВАННЫЙ 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 172 493 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844 822 0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3 335 5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335 7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 ИРК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750 254 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697 068 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77 330 7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854 7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ЗИРОВАННЫЙ ДЕПОЗИТАРНЫЙ ЦЕН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ПОЗИТАРНАЯ КОМПАНИЯ УРАЛСИ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431 989 7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088 801 2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3 188 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К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610 117 4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908 354 6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1 762 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42" name="Прямоугольник 5"/>
          <p:cNvSpPr/>
          <p:nvPr/>
        </p:nvSpPr>
        <p:spPr>
          <a:xfrm>
            <a:off x="253800" y="62866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afedepo.ru/reyting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ессиональная Ассоциация Регистраторов, Трансфер-Агентов и Депозитариев (ПАРТА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partad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http://www.partad.ru/gif/partadnew.gif"/>
          <p:cNvPicPr/>
          <p:nvPr/>
        </p:nvPicPr>
        <p:blipFill>
          <a:blip r:embed="rId1"/>
          <a:stretch/>
        </p:blipFill>
        <p:spPr>
          <a:xfrm>
            <a:off x="4929120" y="1857240"/>
            <a:ext cx="2635200" cy="1571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Оборот по брокерским счетам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614520"/>
                <a:gridCol w="350028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7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6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ЯЗЬ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5 755 6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 558 7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ОС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 939 8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 191 8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 КРЕДИТ СВИСС (МОСК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6 379 46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 752 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 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 159 17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 133 9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3 432 0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103 6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БИН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 291 6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268 9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ЬФА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6 706 7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505 8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ФКО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 829 4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 707 3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ЙКРЕДИ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 960 19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240 94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РЭС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 510 9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668 7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ая ассоциация участников фондового рынка» (НАУФ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aufor.ru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ое Рейтинговое Агентств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ra-nationa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headline"/>
          <p:cNvPicPr/>
          <p:nvPr/>
        </p:nvPicPr>
        <p:blipFill>
          <a:blip r:embed="rId1"/>
          <a:stretch/>
        </p:blipFill>
        <p:spPr>
          <a:xfrm>
            <a:off x="4716360" y="1844640"/>
            <a:ext cx="403884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"/>
          <p:cNvPicPr/>
          <p:nvPr/>
        </p:nvPicPr>
        <p:blipFill>
          <a:blip r:embed="rId2"/>
          <a:stretch/>
        </p:blipFill>
        <p:spPr>
          <a:xfrm>
            <a:off x="5076720" y="3789360"/>
            <a:ext cx="338292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иски по ценным бумаг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игации Банка России – 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. ценные бумаги РФ – 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ные бумаги субъектов РФ –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портфеля = 25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вложений в одного эмитента = 10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Структура рыночного риска банковского сектора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рыночный риск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к изменения рыночной цены активов или обязательств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0" name="Диаграмма 4" descr=""/>
          <p:cNvPicPr/>
          <p:nvPr/>
        </p:nvPicPr>
        <p:blipFill>
          <a:blip r:embed="rId1"/>
          <a:stretch/>
        </p:blipFill>
        <p:spPr>
          <a:xfrm>
            <a:off x="281160" y="1352520"/>
            <a:ext cx="8442000" cy="508464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Индекс ММВБ, 2003-200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28760" y="1285920"/>
          <a:ext cx="8429400" cy="8618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45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д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6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5 ле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04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.7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3" descr="http://stocks.investfunds.ru/graph/stocks_indicator.php?&amp;period=6&amp;ticker=216&amp;width=265&amp;rnd=0.7357080677281389"/>
          <p:cNvPicPr/>
          <p:nvPr/>
        </p:nvPicPr>
        <p:blipFill>
          <a:blip r:embed="rId1"/>
          <a:stretch/>
        </p:blipFill>
        <p:spPr>
          <a:xfrm>
            <a:off x="1714680" y="2357280"/>
            <a:ext cx="521460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micex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ts.ru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Московская межбанковская валютная биржа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logo_rts1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102096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Лицензии профессиональных посред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000080"/>
          <a:ext cx="8229600" cy="1744560"/>
        </p:xfrm>
        <a:graphic>
          <a:graphicData uri="http://schemas.openxmlformats.org/drawingml/2006/table">
            <a:tbl>
              <a:tblPr/>
              <a:tblGrid>
                <a:gridCol w="5043240"/>
                <a:gridCol w="1143000"/>
                <a:gridCol w="1000080"/>
                <a:gridCol w="1043280"/>
              </a:tblGrid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к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ценными бумаг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405360" y="29289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ФСФР Росс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5840" y="3357720"/>
            <a:ext cx="85723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Банк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в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роли инвестора: </a:t>
            </a:r>
            <a:br>
              <a:rPr sz="2200"/>
            </a:b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портфель ценных бумаг, 1999-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Диаграмма 6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8302320" cy="451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версификация акт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источников дох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ание ликви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стиционный портфель бан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Инвестиционная поли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ировка ц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а инвестиционного портф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миты по типам ценных бумаг (эмитенты, виды бумаг, сро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 условия торговл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hang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фика сделок (валютные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D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Банковский портфель ценных бумаг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Торговый портфе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ерепродажи в течение 6 месяцев, по договорам «репо» и займ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й портфель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Портфель контрольного участ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0%, позволяющий влиять на управление в компании-эмитент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Учет ценных бумаг на балансе банк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907920"/>
          <a:ext cx="8400960" cy="5821560"/>
        </p:xfrm>
        <a:graphic>
          <a:graphicData uri="http://schemas.openxmlformats.org/drawingml/2006/table">
            <a:tbl>
              <a:tblPr/>
              <a:tblGrid>
                <a:gridCol w="1285920"/>
                <a:gridCol w="6000480"/>
                <a:gridCol w="1114560"/>
              </a:tblGrid>
              <a:tr h="56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овые обязательства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ные для перепродажи и по договорам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долговые обязательства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ный купонный (процентный) доход по долговым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роченн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ии, приобретенные для перепродажи и по договорам зай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а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акции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счета по операциям с ценными бумаг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2-5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тенные векс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8:43:04Z</dcterms:created>
  <dc:creator>Sergey Moiseev</dc:creator>
  <dc:description/>
  <dc:language>en-US</dc:language>
  <cp:lastModifiedBy>LEGION</cp:lastModifiedBy>
  <dcterms:modified xsi:type="dcterms:W3CDTF">2014-11-10T12:06:18Z</dcterms:modified>
  <cp:revision>53</cp:revision>
  <dc:subject/>
  <dc:title>Банки на рынке ценных бума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3620</vt:lpwstr>
  </property>
</Properties>
</file>