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ACB2-5A1F-42BB-913F-6015CF25E3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"Оригам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0054-2ADF-4367-A1C6-3A2BF9B033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A785-1D6B-4120-8F17-83265C7E13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6. Сложи внутрь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BBB0-F167-4548-8954-A2C3C50F44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7. Загни углы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9087-B22C-43A9-BB78-31861A2C3F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AD8A-D5D5-4D32-8DAB-8D47EC7A89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лодец! Открытка гото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B308-18DD-4FCF-B54C-7DE99DD072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Используемые 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A85-A19B-493E-A734-4AFA3F7161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риг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яп., букв.: «сложенная бумага»)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искусство складывания фигур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умаги. Искусство оригами своими корнями уходит в древний Кита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 была открыта бум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52BB-7858-4A83-AC89-6D32E02CC2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99330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кажите, почему мой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пит без подушки, ест без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Зимой без валенок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А если рад - хвостом вил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D3A1-8A7A-4552-8AF9-B24394700A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B065-52FA-4E8F-9AB7-4A34DC81E1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лан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Изготовь детали апп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риклей детали к основе откры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Оформи открытку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9ACF-67F3-47F7-BD3D-2974216C0B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Для изготовления головы возьми квадрат из цвет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013C-7218-4483-8A3B-974F520C44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оложи квадрат белой стороной кверху и перегни его по диагон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B5F3-4509-4BB6-AF49-6AE482C7C0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Загни  правый и левый верхние углы. Как ты уже догадался, это будут уши нашей соб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D09B-BA72-47D4-8A0D-A0BF73EE7F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Полностью раскрой ушки и загни нижний угол заготовки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049E-AD0B-4BEF-AFF1-43F361513B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5DF-3152-4C1A-8659-C6973371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1DD-0D42-461A-9F3A-AD1B6238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DF3-0032-4047-8B7B-18627065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EA3-2969-4C93-8FA2-9BCC22F6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3BA-7643-4961-B375-A42A67E8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2BC-952A-4904-BED5-CAB92C1D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C95-25E3-4891-9954-42849A9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17A-18DE-410D-A69A-FCF1791A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1A9-D4AE-48AF-A3D6-BD0A46D8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74C-FF55-47EF-BA3A-8465223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6E6-E95A-4C36-AD14-260EEB3E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9B3-343F-4B54-83F8-EDE08009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4A74-FA4B-4540-BBBB-995768B1E1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                            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84360" y="436572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емьянов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Елена  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916360" y="5516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МОУ СОШ №1 г. Тверь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ре"/>
          <p:cNvPicPr/>
          <p:nvPr/>
        </p:nvPicPr>
        <p:blipFill>
          <a:blip r:embed="rId1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спа"/>
          <p:cNvPicPr/>
          <p:nvPr/>
        </p:nvPicPr>
        <p:blipFill>
          <a:blip r:embed="rId1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6. 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0" descr="пр"/>
          <p:cNvPicPr/>
          <p:nvPr/>
        </p:nvPicPr>
        <p:blipFill>
          <a:blip r:embed="rId2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7. 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9" descr="а"/>
          <p:cNvPicPr/>
          <p:nvPr/>
        </p:nvPicPr>
        <p:blipFill>
          <a:blip r:embed="rId1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на сайт"/>
          <p:cNvPicPr/>
          <p:nvPr/>
        </p:nvPicPr>
        <p:blipFill>
          <a:blip r:embed="rId1"/>
          <a:stretch/>
        </p:blipFill>
        <p:spPr>
          <a:xfrm>
            <a:off x="3132000" y="198108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Используемые 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6280" cy="46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719880" y="414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8040" y="32130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Загадка:  http://www.dogster.ru/cicero/humor/1027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480" y="23572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овицы: http://www.doggies.ru/articl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2771640" y="4437000"/>
            <a:ext cx="36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езентацию подготовила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Демьянова Елена Юрьевн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учитель начальных классов 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МОУ СОШ №1 г. Твери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084pic"/>
          <p:cNvPicPr/>
          <p:nvPr/>
        </p:nvPicPr>
        <p:blipFill>
          <a:blip r:embed="rId3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робка"/>
          <p:cNvPicPr/>
          <p:nvPr/>
        </p:nvPicPr>
        <p:blipFill>
          <a:blip r:embed="rId5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2087pic"/>
          <p:cNvPicPr/>
          <p:nvPr/>
        </p:nvPicPr>
        <p:blipFill>
          <a:blip r:embed="rId7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1" name="Picture 6" descr="дай лапу"/>
          <p:cNvPicPr/>
          <p:nvPr/>
        </p:nvPicPr>
        <p:blipFill>
          <a:blip r:embed="rId1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             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 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ап"/>
          <p:cNvPicPr/>
          <p:nvPr/>
        </p:nvPicPr>
        <p:blipFill>
          <a:blip r:embed="rId1"/>
          <a:stretch/>
        </p:blipFill>
        <p:spPr>
          <a:xfrm>
            <a:off x="2843280" y="2133720"/>
            <a:ext cx="3424320" cy="3516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 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ре"/>
          <p:cNvPicPr/>
          <p:nvPr/>
        </p:nvPicPr>
        <p:blipFill>
          <a:blip r:embed="rId1"/>
          <a:stretch/>
        </p:blipFill>
        <p:spPr>
          <a:xfrm>
            <a:off x="1830240" y="1981080"/>
            <a:ext cx="54817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 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" descr="ы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4. 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5" descr="вт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2:45Z</dcterms:modified>
  <cp:revision>38</cp:revision>
  <dc:subject/>
  <dc:title>PowerPoint Presentation</dc:title>
</cp:coreProperties>
</file>