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gif" ContentType="image/gif"/>
  <Override PartName="/ppt/media/image13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A12B9-ED48-42F7-AA79-A21F7BA33C4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Propisi"/>
              </a:rPr>
              <a:t>Работа с бумаг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Propisi"/>
              </a:rPr>
              <a:t>Тех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Propis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Propisi"/>
              </a:rPr>
              <a:t>"Оригами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7A605-3628-4EA2-BC5E-C1AD4C6FC64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5. Для изготовления туловища собаки возьми квадратный лист бумаги,  сложи его по диагонали и развер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8BF00-9FAA-46B3-AB53-16095CC0319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6. Сложи внутрь угол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7D5AD-E741-422B-A64B-11F341DB11C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7. Загни углы наз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9FE55-3C08-4BE6-826E-252AB2A0A19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8. Склей детали. Получилась собака. Она может быть весёлой или серьёзной. Для этого собаку можно украсить, приклеить ей глаза, нос и язык, в общем, дать волю фантаз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53F9B-49F0-463B-A874-163A6737D3F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Молодец! Открытка готова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A222C-30B8-4079-9C7F-F8EE32661B6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c0000"/>
                </a:solidFill>
                <a:uFillTx/>
                <a:latin typeface="Calibri"/>
              </a:rPr>
              <a:t>Используемые Интернет-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1F5D7-E607-4578-8650-7DC571720FA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Calibri"/>
              </a:rPr>
              <a:t>Ориг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яп., букв.: «сложенная бумага») —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евнее искусство складывания фигуро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бумаги. Искусство оригами своими корнями уходит в древний Кита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де и была открыта бума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10342-6837-4393-9C86-8D6690B9884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993300"/>
                </a:solidFill>
                <a:latin typeface="Arial"/>
                <a:ea typeface="Arial"/>
              </a:rPr>
              <a:t>Отгадай загад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Georgia"/>
              </a:rPr>
              <a:t>Скажите, почему мой др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Georgia"/>
              </a:rPr>
              <a:t>Спит без подушки, ест без ру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Georgia"/>
              </a:rPr>
              <a:t>Зимой без валенок гуляе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Georgia"/>
              </a:rPr>
              <a:t>А если рад - хвостом виляе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30172-B9F1-400E-B17D-C362D5C5F6B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003300"/>
                </a:solidFill>
                <a:latin typeface="Georgia"/>
              </a:rPr>
              <a:t>Пословицы и поговор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Propisi"/>
              </a:rPr>
              <a:t>Собака - друг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Propisi"/>
              </a:rPr>
              <a:t>Собака  лает, ветер  нос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0E959-455A-420A-9B9B-5149F002AED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00"/>
                </a:solidFill>
                <a:latin typeface="Calibri"/>
              </a:rPr>
              <a:t>                       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План рабо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1. Изготовь детали апплик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2. Приклей детали к основе открыт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3. Оформи открытку с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C8B14-7088-44E5-944F-E4025847561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1. Для изготовления головы возьми квадрат из цветной бума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1326F-1348-498A-82D7-6599281A1F2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2. Положи квадрат белой стороной кверху и перегни его по диагона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5F13F-B66F-469E-BB6A-F3829581307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3. Загни  правый и левый верхние углы. Как ты уже догадался, это будут уши нашей соба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99664-45E6-4305-8407-B76609A9B2D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4. Полностью раскрой ушки и загни нижний угол заготовки наз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9EE6A-F4BE-41C4-9828-9D28DE55455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72D6-C3C7-4327-9CE0-55496935E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191D-9494-4BB9-B125-5E0C8A3E2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57AD-88F3-4BF3-85AA-330EFAFC2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F585-D232-4FA4-B7F3-07877C4DC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7DDA-E46B-4990-8480-5CBF08837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2F16-9AA6-4C08-84D6-C85016566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2C9D-8EE9-4E1D-B9CE-4933E2E82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91BE-1460-4AA0-A90C-BE40A7B43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FD65-3F08-4C98-A546-C2B2F2A1C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0F22-490C-48A8-9616-F85942EA6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93B3-5C54-4B7F-808D-52A0F2312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D939-64FD-411A-B1AE-246A92DF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0FB9E-68BF-434C-99F9-A89C79F6A93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1042920" y="1197000"/>
            <a:ext cx="676908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7600"/>
                    </a:gs>
                  </a:gsLst>
                  <a:lin ang="5400000"/>
                </a:gradFill>
                <a:latin typeface="Propisi"/>
              </a:rPr>
              <a:t>Работа с бумагой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100000">
                    <a:srgbClr val="007600"/>
                  </a:gs>
                </a:gsLst>
                <a:lin ang="5400000"/>
              </a:gradFill>
              <a:latin typeface="Propisi"/>
              <a:ea typeface="Propis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7600"/>
                    </a:gs>
                  </a:gsLst>
                  <a:lin ang="5400000"/>
                </a:gradFill>
                <a:latin typeface="Propisi"/>
              </a:rPr>
              <a:t>Техник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100000">
                    <a:srgbClr val="007600"/>
                  </a:gs>
                </a:gsLst>
                <a:lin ang="5400000"/>
              </a:gradFill>
              <a:latin typeface="Propisi"/>
              <a:ea typeface="Propis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7600"/>
                    </a:gs>
                  </a:gsLst>
                  <a:lin ang="5400000"/>
                </a:gradFill>
                <a:latin typeface="Propisi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7600"/>
                    </a:gs>
                  </a:gsLst>
                  <a:lin ang="5400000"/>
                </a:gradFill>
                <a:latin typeface="Propisi"/>
              </a:rPr>
              <a:t>"Оригами"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100000">
                    <a:srgbClr val="007600"/>
                  </a:gs>
                </a:gsLst>
                <a:lin ang="5400000"/>
              </a:gradFill>
              <a:latin typeface="Propisi"/>
              <a:ea typeface="Propisi"/>
            </a:endParaRPr>
          </a:p>
        </p:txBody>
      </p:sp>
      <p:sp>
        <p:nvSpPr>
          <p:cNvPr id="49" name="WordArt 3"/>
          <p:cNvSpPr txBox="1"/>
          <p:nvPr/>
        </p:nvSpPr>
        <p:spPr>
          <a:xfrm>
            <a:off x="2050920" y="3789360"/>
            <a:ext cx="49690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cc99"/>
                    </a:gs>
                    <a:gs pos="50000">
                      <a:srgbClr val="008000"/>
                    </a:gs>
                    <a:gs pos="100000">
                      <a:srgbClr val="00cc99"/>
                    </a:gs>
                  </a:gsLst>
                  <a:lin ang="5400000"/>
                </a:gradFill>
                <a:latin typeface="Arial"/>
              </a:rPr>
              <a:t>                              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cc99"/>
                  </a:gs>
                  <a:gs pos="50000">
                    <a:srgbClr val="008000"/>
                  </a:gs>
                  <a:gs pos="100000">
                    <a:srgbClr val="00cc99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2484360" y="4365720"/>
            <a:ext cx="378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Times New Roman"/>
              </a:rPr>
              <a:t>Демьянова </a:t>
            </a:r>
            <a:br>
              <a:rPr sz="2800"/>
            </a:br>
            <a:r>
              <a:rPr b="1" i="1" lang="ru-RU" sz="2800" spc="-1" strike="noStrike">
                <a:solidFill>
                  <a:srgbClr val="003300"/>
                </a:solidFill>
                <a:latin typeface="Times New Roman"/>
              </a:rPr>
              <a:t>Елена   Юрьев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WordArt 5"/>
          <p:cNvSpPr txBox="1"/>
          <p:nvPr/>
        </p:nvSpPr>
        <p:spPr>
          <a:xfrm>
            <a:off x="2916360" y="5516640"/>
            <a:ext cx="3024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808080"/>
                </a:solidFill>
                <a:latin typeface="Arial"/>
              </a:rPr>
              <a:t>учитель начальных классов</a:t>
            </a:r>
            <a:endParaRPr b="0" i="1" lang="en-US" sz="1800" spc="1" strike="noStrike">
              <a:ln w="9360">
                <a:solidFill>
                  <a:srgbClr val="003300"/>
                </a:solidFill>
                <a:miter/>
              </a:ln>
              <a:solidFill>
                <a:srgbClr val="808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808080"/>
                </a:solidFill>
                <a:latin typeface="Arial"/>
              </a:rPr>
              <a:t>МОУ СОШ №1 г. Тверь</a:t>
            </a:r>
            <a:endParaRPr b="0" i="1" lang="en-US" sz="1800" spc="1" strike="noStrike">
              <a:ln w="9360">
                <a:solidFill>
                  <a:srgbClr val="003300"/>
                </a:solidFill>
                <a:miter/>
              </a:ln>
              <a:solidFill>
                <a:srgbClr val="808080"/>
              </a:solidFill>
              <a:latin typeface="Arial"/>
              <a:ea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2" descr="ре"/>
          <p:cNvPicPr/>
          <p:nvPr/>
        </p:nvPicPr>
        <p:blipFill>
          <a:blip r:embed="rId1"/>
          <a:stretch/>
        </p:blipFill>
        <p:spPr>
          <a:xfrm>
            <a:off x="3027240" y="1981080"/>
            <a:ext cx="3089520" cy="41148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5. Для изготовления туловища собаки возьми квадратный лист бумаги,  сложи его по диагонали и развер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10"/>
          <p:cNvSpPr/>
          <p:nvPr/>
        </p:nvSpPr>
        <p:spPr>
          <a:xfrm rot="2659200">
            <a:off x="4787640" y="3500280"/>
            <a:ext cx="344520" cy="801720"/>
          </a:xfrm>
          <a:custGeom>
            <a:avLst/>
            <a:gdLst>
              <a:gd name="textAreaLeft" fmla="*/ 46080 w 344520"/>
              <a:gd name="textAreaRight" fmla="*/ 298440 w 344520"/>
              <a:gd name="textAreaTop" fmla="*/ 140040 h 801720"/>
              <a:gd name="textAreaBottom" fmla="*/ 581400 h 801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6" descr="спа"/>
          <p:cNvPicPr/>
          <p:nvPr/>
        </p:nvPicPr>
        <p:blipFill>
          <a:blip r:embed="rId1"/>
          <a:stretch/>
        </p:blipFill>
        <p:spPr>
          <a:xfrm>
            <a:off x="826920" y="1700280"/>
            <a:ext cx="3084840" cy="41148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6. Сложи внутрь угол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7"/>
          <p:cNvSpPr/>
          <p:nvPr/>
        </p:nvSpPr>
        <p:spPr>
          <a:xfrm rot="14988600">
            <a:off x="2993040" y="4936320"/>
            <a:ext cx="504720" cy="658800"/>
          </a:xfrm>
          <a:custGeom>
            <a:avLst/>
            <a:gdLst>
              <a:gd name="textAreaLeft" fmla="*/ 67320 w 504720"/>
              <a:gd name="textAreaRight" fmla="*/ 437400 w 504720"/>
              <a:gd name="textAreaTop" fmla="*/ 115200 h 658800"/>
              <a:gd name="textAreaBottom" fmla="*/ 477720 h 65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1329840" y="6021360"/>
            <a:ext cx="681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Загни нижний угол заготовки наза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30" descr="пр"/>
          <p:cNvPicPr/>
          <p:nvPr/>
        </p:nvPicPr>
        <p:blipFill>
          <a:blip r:embed="rId2"/>
          <a:stretch/>
        </p:blipFill>
        <p:spPr>
          <a:xfrm>
            <a:off x="5076720" y="1700280"/>
            <a:ext cx="3086280" cy="411480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7. Загни углы наза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8"/>
          <p:cNvSpPr/>
          <p:nvPr/>
        </p:nvSpPr>
        <p:spPr>
          <a:xfrm>
            <a:off x="3419640" y="328464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29" descr="а"/>
          <p:cNvPicPr/>
          <p:nvPr/>
        </p:nvPicPr>
        <p:blipFill>
          <a:blip r:embed="rId1"/>
          <a:stretch/>
        </p:blipFill>
        <p:spPr>
          <a:xfrm>
            <a:off x="3132000" y="1844640"/>
            <a:ext cx="3089520" cy="411480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8. Склей детали. Получилась собака. Она может быть весёлой или серьёзной. Для этого собаку можно украсить, приклеить ей глаза, нос и язык, в общем, дать волю фантазии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Молодец! Открытка готова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9" descr="на сайт"/>
          <p:cNvPicPr/>
          <p:nvPr/>
        </p:nvPicPr>
        <p:blipFill>
          <a:blip r:embed="rId1"/>
          <a:stretch/>
        </p:blipFill>
        <p:spPr>
          <a:xfrm>
            <a:off x="3132000" y="1981080"/>
            <a:ext cx="2880000" cy="411480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cc0000"/>
                </a:solidFill>
                <a:uFillTx/>
                <a:latin typeface="Times New Roman"/>
              </a:rPr>
              <a:t>Используемые Интернет-ресурс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476280" cy="46656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7"/>
          <p:cNvSpPr/>
          <p:nvPr/>
        </p:nvSpPr>
        <p:spPr>
          <a:xfrm>
            <a:off x="3719880" y="414972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248040" y="3213000"/>
            <a:ext cx="700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Загадка:  http://www.dogster.ru/cicero/humor/1027</a:t>
            </a:r>
            <a:r>
              <a:rPr b="1" lang="ru-RU" sz="1800" spc="-1" strike="noStrike">
                <a:solidFill>
                  <a:srgbClr val="cc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9"/>
          <p:cNvSpPr/>
          <p:nvPr/>
        </p:nvSpPr>
        <p:spPr>
          <a:xfrm>
            <a:off x="249480" y="2357280"/>
            <a:ext cx="59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Пословицы: http://www.doggies.ru/articles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WordArt 10"/>
          <p:cNvSpPr txBox="1"/>
          <p:nvPr/>
        </p:nvSpPr>
        <p:spPr>
          <a:xfrm>
            <a:off x="2771640" y="4437000"/>
            <a:ext cx="36734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cc99"/>
                </a:solidFill>
                <a:latin typeface="Arial"/>
              </a:rPr>
              <a:t>Презентацию подготовила</a:t>
            </a:r>
            <a:endParaRPr b="0" i="1" lang="en-US" sz="2000" spc="1" strike="noStrike">
              <a:ln w="9360">
                <a:solidFill>
                  <a:srgbClr val="ff0000"/>
                </a:solidFill>
                <a:miter/>
              </a:ln>
              <a:solidFill>
                <a:srgbClr val="00cc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cc99"/>
                </a:solidFill>
                <a:latin typeface="Arial"/>
              </a:rPr>
              <a:t>Демьянова Елена Юрьевна,</a:t>
            </a:r>
            <a:endParaRPr b="0" i="1" lang="en-US" sz="2000" spc="1" strike="noStrike">
              <a:ln w="9360">
                <a:solidFill>
                  <a:srgbClr val="ff0000"/>
                </a:solidFill>
                <a:miter/>
              </a:ln>
              <a:solidFill>
                <a:srgbClr val="00cc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cc99"/>
                </a:solidFill>
                <a:latin typeface="Arial"/>
              </a:rPr>
              <a:t>учитель начальных классов </a:t>
            </a:r>
            <a:endParaRPr b="0" i="1" lang="en-US" sz="2000" spc="1" strike="noStrike">
              <a:ln w="9360">
                <a:solidFill>
                  <a:srgbClr val="ff0000"/>
                </a:solidFill>
                <a:miter/>
              </a:ln>
              <a:solidFill>
                <a:srgbClr val="00cc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cc99"/>
                </a:solidFill>
                <a:latin typeface="Arial"/>
              </a:rPr>
              <a:t>МОУ СОШ №1 г. Твери</a:t>
            </a:r>
            <a:endParaRPr b="0" i="1" lang="en-US" sz="2000" spc="1" strike="noStrike">
              <a:ln w="9360">
                <a:solidFill>
                  <a:srgbClr val="ff0000"/>
                </a:solidFill>
                <a:miter/>
              </a:ln>
              <a:solidFill>
                <a:srgbClr val="00cc99"/>
              </a:solidFill>
              <a:latin typeface="Arial"/>
              <a:ea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 rot="1607400">
            <a:off x="6372360" y="2060280"/>
            <a:ext cx="2412720" cy="1728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2"/>
          <a:stretch/>
        </p:blipFill>
        <p:spPr>
          <a:xfrm>
            <a:off x="3564000" y="479736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1084pic"/>
          <p:cNvPicPr/>
          <p:nvPr/>
        </p:nvPicPr>
        <p:blipFill>
          <a:blip r:embed="rId3"/>
          <a:stretch/>
        </p:blipFill>
        <p:spPr>
          <a:xfrm>
            <a:off x="3851280" y="2781360"/>
            <a:ext cx="1944720" cy="1882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"/>
          <p:cNvPicPr/>
          <p:nvPr/>
        </p:nvPicPr>
        <p:blipFill>
          <a:blip r:embed="rId4"/>
          <a:stretch/>
        </p:blipFill>
        <p:spPr>
          <a:xfrm>
            <a:off x="6588000" y="0"/>
            <a:ext cx="2556000" cy="2063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коробка"/>
          <p:cNvPicPr/>
          <p:nvPr/>
        </p:nvPicPr>
        <p:blipFill>
          <a:blip r:embed="rId5"/>
          <a:stretch/>
        </p:blipFill>
        <p:spPr>
          <a:xfrm rot="20893200">
            <a:off x="1979280" y="2852280"/>
            <a:ext cx="1646280" cy="1700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"/>
          <p:cNvPicPr/>
          <p:nvPr/>
        </p:nvPicPr>
        <p:blipFill>
          <a:blip r:embed="rId6"/>
          <a:stretch/>
        </p:blipFill>
        <p:spPr>
          <a:xfrm rot="1903800">
            <a:off x="5796000" y="4076640"/>
            <a:ext cx="2979720" cy="198144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9"/>
          <p:cNvSpPr/>
          <p:nvPr/>
        </p:nvSpPr>
        <p:spPr>
          <a:xfrm>
            <a:off x="395280" y="549360"/>
            <a:ext cx="7110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Times New Roman"/>
              </a:rPr>
              <a:t>Оригам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яп., букв.: «сложенная бумага») 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ревнее искусство складывания фигурок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 бумаги. Искусство оригами своими корнями уходит в древний Китай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де и была открыта бумаг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0" descr="2087pic"/>
          <p:cNvPicPr/>
          <p:nvPr/>
        </p:nvPicPr>
        <p:blipFill>
          <a:blip r:embed="rId7"/>
          <a:stretch/>
        </p:blipFill>
        <p:spPr>
          <a:xfrm rot="19031400">
            <a:off x="610920" y="4508280"/>
            <a:ext cx="1834920" cy="191592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WordArt 3"/>
          <p:cNvSpPr txBox="1"/>
          <p:nvPr/>
        </p:nvSpPr>
        <p:spPr>
          <a:xfrm>
            <a:off x="755640" y="476280"/>
            <a:ext cx="4464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Отгадай загадку</a:t>
            </a:r>
            <a:endParaRPr b="1" i="1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64" name="WordArt 4"/>
          <p:cNvSpPr txBox="1"/>
          <p:nvPr/>
        </p:nvSpPr>
        <p:spPr>
          <a:xfrm>
            <a:off x="1692360" y="1989000"/>
            <a:ext cx="5618160" cy="208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Скажите, почему мой друг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Спит без подушки, ест без рук.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Зимой без валенок гуляет,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А если рад - хвостом виляет?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65" name="WordArt 6"/>
          <p:cNvSpPr txBox="1"/>
          <p:nvPr/>
        </p:nvSpPr>
        <p:spPr>
          <a:xfrm>
            <a:off x="4211640" y="5300640"/>
            <a:ext cx="41036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6600"/>
                </a:solidFill>
                <a:latin typeface="Propisi"/>
              </a:rPr>
              <a:t>Собака</a:t>
            </a:r>
            <a:endParaRPr b="0" i="1" lang="en-US" sz="2400" spc="1" strike="noStrike">
              <a:ln w="9360">
                <a:solidFill>
                  <a:srgbClr val="993300"/>
                </a:solidFill>
                <a:miter/>
              </a:ln>
              <a:solidFill>
                <a:srgbClr val="ff6600"/>
              </a:solidFill>
              <a:latin typeface="Propisi"/>
              <a:ea typeface="Propisi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9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WordArt 4"/>
          <p:cNvSpPr txBox="1"/>
          <p:nvPr/>
        </p:nvSpPr>
        <p:spPr>
          <a:xfrm>
            <a:off x="1042920" y="620640"/>
            <a:ext cx="7128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003300"/>
                </a:solidFill>
                <a:latin typeface="Georgia"/>
              </a:rPr>
              <a:t>Пословицы и поговорки</a:t>
            </a:r>
            <a:endParaRPr b="1" i="1" lang="en-US" sz="2400" spc="1" strike="noStrike">
              <a:ln w="9360">
                <a:solidFill>
                  <a:srgbClr val="ff6600"/>
                </a:solidFill>
                <a:miter/>
              </a:ln>
              <a:solidFill>
                <a:srgbClr val="003300"/>
              </a:solidFill>
              <a:latin typeface="Georgia"/>
              <a:ea typeface="Georgia"/>
            </a:endParaRPr>
          </a:p>
        </p:txBody>
      </p:sp>
      <p:sp>
        <p:nvSpPr>
          <p:cNvPr id="70" name="WordArt 5"/>
          <p:cNvSpPr txBox="1"/>
          <p:nvPr/>
        </p:nvSpPr>
        <p:spPr>
          <a:xfrm>
            <a:off x="826920" y="1916280"/>
            <a:ext cx="741708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ffff"/>
                </a:solidFill>
                <a:latin typeface="Propisi"/>
              </a:rPr>
              <a:t>Собака - друг человека</a:t>
            </a:r>
            <a:endParaRPr b="1" lang="en-US" sz="4000" spc="1" strike="noStrike">
              <a:ln w="9360">
                <a:solidFill>
                  <a:srgbClr val="993300"/>
                </a:solidFill>
                <a:miter/>
              </a:ln>
              <a:solidFill>
                <a:srgbClr val="ffffff"/>
              </a:solidFill>
              <a:latin typeface="Propisi"/>
              <a:ea typeface="Propis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ffff"/>
                </a:solidFill>
                <a:latin typeface="Propisi"/>
              </a:rPr>
              <a:t>Собака  лает, ветер  носит</a:t>
            </a:r>
            <a:endParaRPr b="1" lang="en-US" sz="4000" spc="1" strike="noStrike">
              <a:ln w="9360">
                <a:solidFill>
                  <a:srgbClr val="993300"/>
                </a:solidFill>
                <a:miter/>
              </a:ln>
              <a:solidFill>
                <a:srgbClr val="ffffff"/>
              </a:solidFill>
              <a:latin typeface="Propisi"/>
              <a:ea typeface="Propisi"/>
            </a:endParaRPr>
          </a:p>
        </p:txBody>
      </p:sp>
      <p:pic>
        <p:nvPicPr>
          <p:cNvPr id="71" name="Picture 6" descr="дай лапу"/>
          <p:cNvPicPr/>
          <p:nvPr/>
        </p:nvPicPr>
        <p:blipFill>
          <a:blip r:embed="rId1"/>
          <a:stretch/>
        </p:blipFill>
        <p:spPr>
          <a:xfrm>
            <a:off x="4067280" y="4005360"/>
            <a:ext cx="2106360" cy="216036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WordArt 3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80808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Propisi"/>
              </a:rPr>
              <a:t>                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808080"/>
                  </a:gs>
                  <a:gs pos="100000">
                    <a:srgbClr val="ffff00"/>
                  </a:gs>
                </a:gsLst>
                <a:lin ang="5400000"/>
              </a:gradFill>
              <a:latin typeface="Propisi"/>
              <a:ea typeface="Propisi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684360" y="3141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10920" y="1981080"/>
            <a:ext cx="828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Times New Roman"/>
              </a:rPr>
              <a:t>                        </a:t>
            </a: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План работы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1. Изготовь детали аппликац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2. Приклей детали к основе открытк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3. Оформи открытку са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1. Для изготовления головы возьми квадрат из цветной бумаг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3" descr="ап"/>
          <p:cNvPicPr/>
          <p:nvPr/>
        </p:nvPicPr>
        <p:blipFill>
          <a:blip r:embed="rId1"/>
          <a:stretch/>
        </p:blipFill>
        <p:spPr>
          <a:xfrm>
            <a:off x="2843280" y="2133720"/>
            <a:ext cx="3424320" cy="351612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2. Положи квадрат белой стороной кверху и перегни его по диагонал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2" descr="ре"/>
          <p:cNvPicPr/>
          <p:nvPr/>
        </p:nvPicPr>
        <p:blipFill>
          <a:blip r:embed="rId1"/>
          <a:stretch/>
        </p:blipFill>
        <p:spPr>
          <a:xfrm>
            <a:off x="1830240" y="1981080"/>
            <a:ext cx="5481720" cy="411480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3. Загни  правый и левый верхние углы. Как ты уже догадался, это будут уши нашей собак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12" descr="ы"/>
          <p:cNvPicPr/>
          <p:nvPr/>
        </p:nvPicPr>
        <p:blipFill>
          <a:blip r:embed="rId1"/>
          <a:stretch/>
        </p:blipFill>
        <p:spPr>
          <a:xfrm>
            <a:off x="2190600" y="2023920"/>
            <a:ext cx="4762800" cy="402912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4. Полностью раскрой ушки и загни нижний угол заготовки наза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5" descr="вт"/>
          <p:cNvPicPr/>
          <p:nvPr/>
        </p:nvPicPr>
        <p:blipFill>
          <a:blip r:embed="rId1"/>
          <a:stretch/>
        </p:blipFill>
        <p:spPr>
          <a:xfrm>
            <a:off x="2190600" y="2252520"/>
            <a:ext cx="4762800" cy="357192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3-31T08:32:45Z</dcterms:modified>
  <cp:revision>38</cp:revision>
  <dc:subject/>
  <dc:title>PowerPoint Presentation</dc:title>
</cp:coreProperties>
</file>