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breeze.wav" ContentType="audio/x-wav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C428-30DE-4774-9764-C2D6451981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 - региональный компоне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СОШ № 61 г. Тюмени Валентина Александровна  Николай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CFE-51EF-4ED0-B003-63BA33BC22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аппл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я деревн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й дом родн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там ждет меня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скорей отк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BD3-76C0-467C-BC15-EC6246329C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декоративные сувен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F63-2B26-4C72-8413-C69E2DC55B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– храм - собор и быт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ания, что режут гла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б ты ни бы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ы иль исповеданья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 объединя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ты русский или мусульмани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ом мы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отчизна, и воспоминанья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уду ни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98F8-376E-4E6E-8940-D29775E954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4AC4-8BF4-4CAD-9E68-5A8379B6CE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Фантазийного дерева из бисера «Бонса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древнее японское искусство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ть деревья с листочкам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 береза, сос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хта есть и с иголками е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у нас из блестящего бисер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ычная крас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пусть ветер неистово серди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аган налетает и буря рев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дерево никогда не слом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усть оно не жив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 все же жив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2540-FFDE-4EBC-ACF7-83FAE66D8C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ведения домашнего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Формирование 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и региональные трад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интерьера жилых поме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празд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ряды, национальная оде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егиональные 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циональные  традиции сервировки ст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65E4-1D3A-40FA-BE39-E803656348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народов и наци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азднование «Масленницы» и «Проводы русской зим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BC4-5000-4EBB-A60A-39D172CFEB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едмет – лучше в школе нашей н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где можно разверну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оказать автор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национальный и региона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Мы  всегда  внедряем 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E5D3-75FA-45BE-81B0-6B719BE958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ехн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Шить, кроить, готовить в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 доме делать все ис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тол гостям серв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как должно их принят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об этом на уроках мы стремимся все узн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D27D-2200-48F7-B3B0-66CA6DD6EB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Наша школа много национ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(18 национальностей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одних из  последних уроков по кулинарии – приготовление любимых блю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ывают о традициях разных народов, национальных праздниках и обр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D3A3-1DDF-4C5B-9E99-7D2E1E2026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Рус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 рисовая с сухофр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Татар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CE97-59BD-4238-833B-5FD9BF7765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збек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лов, ман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бхазская кух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отварное мясо с острым соус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93B-8EEA-4D2D-9FB6-30EECEE6AC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рмя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хлеб-лав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краи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875E-02DF-4874-9B39-3780A8E6B9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Грузинская кух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Азербайджанская кухня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юдо из мяса – чахохб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7F42-3F41-4507-A834-2117C6D159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изготовление изделий с учетом национальных особенностей и тради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7048-1BA0-467C-B535-3BCC4EB99D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(аппликац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A522-EA44-4C55-B553-B754C20F72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465-7845-4712-B3EC-DA4AF171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3A3-521F-4AC5-88B6-A729925A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1C287-51A8-4AA3-B7EF-793A45B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E2738-DD28-45BB-A385-935DDEF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E7E3-3641-4A56-A2A7-CCD02C8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586F4-06E1-4E8B-B0F7-4EB1044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99D24-6B39-4C36-B885-0C155E2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DA7E-58C8-4810-BC88-ED49602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43D12-7386-4D7F-8543-48451FE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6BFEB-2C40-4F10-AF84-4F0B2F8B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135C8-CB7D-4E9A-BA5F-9AAC13B4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7D2D0-97A2-4FB1-A336-D66330EB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317-F620-4FCF-977A-F481A907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D798F-1AC6-49DD-97D9-8CAA736F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6E03-0059-41A4-9BC5-E55203A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49D3D-305E-4AD5-82B6-069822E1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74672-788C-4B74-BD4D-3521D5EB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0C9F5-6667-4F52-8EBA-FBD44D07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6C66D-D975-41E7-8D62-0EAFF47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A2DAA-D4A2-4156-9CA6-06BA737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17671-515C-4E54-B837-F4995C3E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3FD23-F154-4C3C-97C6-8B5DA84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3FD4E-CC58-4011-A124-462A4C4A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A17-03AC-4AE3-ADD8-05B096FA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1F48-121B-4426-A2FD-D591F312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56C12-BCF6-406B-A3E2-DC45317D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AE0C4-2AE2-441A-A676-193929D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F84FA-6309-455E-8FA2-4B479FE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79C6D-F037-4E24-99F3-456F4A4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A31A-FBBF-4131-9615-D92543EC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56A12-3B1F-46D5-BA09-E39AE4C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D2361-7CCD-4C75-8F69-E82B081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FCD8B-1773-438B-AEDF-58061D6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5A156-0E76-41D1-B1A7-3709851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89C8-0D1E-4928-B938-8AD1E45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9900B-054E-47A8-A65F-248EF580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5B6CD-5972-4CBA-A439-96362710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EC29-D01F-4E08-8544-B2FD3AD1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D6959-43D2-4250-9126-86A7863A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F0FA0-1BC6-4972-9A59-7687185B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89B8C-9C13-4ADB-9557-D9112454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084F1-8C04-48EE-8EF0-52AF136B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44044-C824-4603-A693-33C624C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842D3-91A0-45F9-B00D-B33FED76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757A1-042D-4930-9B7B-0CB2E65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2C45-CC72-4108-A53C-41DA1C6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3A794-61D0-4160-9B50-9A3F20F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3A26C-F781-4987-ABC6-E8C0B3F1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6E7F7-D458-4512-A3EC-A247C804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BEC96-82A1-40E8-9019-95871EA2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E55D7-4AC3-4153-90E2-406ED6D8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1FFBE-643D-48A6-ACA9-3ED802D2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1398F-6981-45BE-9AA8-55FCD02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1F457-D4E8-4B81-BA67-EFB66E5B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9B7BC-8F9E-4A96-AB6C-38A0299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EF0C3-F2A8-4C62-B272-1BBABE5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13DA-7BFA-4D72-B523-40A18EE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88BEE-E194-4E16-B250-9292B45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7F506-65F0-49A9-B420-DA84EAF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9F151-C5A1-4A7B-B78F-1CCB0CC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4D77C-474C-49C9-99D6-BCFB9B8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D1548-06D4-4968-9697-388084B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AB1C2-E815-4E00-BB65-5F93B3CB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03A73-6F1E-447B-9E85-4DA20EA6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ABAE8-9FFB-402C-8688-E3C3F87E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ADA0D-FF7C-4800-9E60-BC1470B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41E15-5853-46D9-893F-76A7DC97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ACF6-57C5-44CC-BBEA-1B6D98BC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633E9-E2F5-48ED-80FD-EBD8890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88CAD-D1DE-42D8-9C84-27B991A6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C36D8-7AEB-4EF4-B7EC-279ADB11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2467C-2AF0-4AFC-8720-47A79D1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CE35E-FCD6-46A5-99C8-9EADF03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9FBD1-4214-4969-AB64-BC62C17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D972A-D234-4995-B68D-2AD40284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6F5BF-07B0-4313-9EC3-C5A84233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F532E-3240-48C0-8C77-FE7C1078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CB5A7-353B-4076-BCD6-EA67CF4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868D-DB51-48B1-82C3-A275E3C6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BE750-18B1-46A1-BE94-F611A6EE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06BCA-D283-485C-9C52-8EB9CF9D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6F07B-DE38-4975-AD5E-60144EBF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6A0EA-B81E-4168-8754-760D79C0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8A25A-9153-437E-BB7D-DA645C2F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F26A3-0179-41C5-BDD5-570F328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3D0D8-58A7-4765-85A6-7069AB2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ECE41-9B8D-4B5B-B8EF-9F73D83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70E5C-81EF-4C88-AF17-ACD988A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24EA5-AF8C-4763-945D-15BAC88B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661-0465-4ADE-8000-5E56C0C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482F6-A54E-4D37-AD9C-9444E649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C7F90-FDBB-4352-957E-84BB796D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9F6BE-6018-47F4-9259-760BB466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1B421-8AFB-45EE-A7CA-5C93441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B8991-2BE9-4A62-8443-82525685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EBF1C-C59E-4297-AA61-66479A19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3B903-4387-45B1-8A5C-1E0B9BC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722AB-41AC-4D83-97A3-7FF0D04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B9C8C-9D73-4262-8FCD-E9D3D90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A1DC4-B26E-40F6-AD6A-507D73C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99A8-451A-4C07-ADE6-9A54C71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0B1D2-288C-4891-B7AC-B999C201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0B0F6-5B32-46C7-8ED7-CA39487D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C3C90-9945-4810-8414-385E2703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FA435-E6F2-4951-851B-4F77DAFF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4AB67-AE92-4D5E-81F2-40792D86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A8540-9DF7-40A5-9C11-0DBC493B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ABC2B-1252-4912-9FA7-22B7B15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D7E1D-0DF2-41F8-A42B-4BFF203A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E8773-0E99-41E1-943C-AC0028B8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1071C-46B1-4663-B647-5C27218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525-0AFD-49A1-B892-6D8EAEA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06A-2608-4E5C-B10E-AE2E1D98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FB0DD-504F-4FA2-926D-F4045C9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DD193-D9CD-4CD7-ABD4-FB2E096A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A50DB-A8BA-4B2F-AE35-EB448B1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6691D-1CBD-465C-891D-CE74FDB9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FF603-CBE0-4A7F-9F9B-8436E89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647A-5E1C-4A20-AEA9-B756F52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0468-3C1A-4023-A300-3F2CCAD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1A57-5BEC-4F4A-86B2-65786407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0BD3-3BD3-4FBD-8F14-CA1C068C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135E-647E-4CB4-90F3-F4E3627E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4EEE-46C3-475D-BF70-C0E5CB5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FD4A-5730-4597-8BA7-ECE307AF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99DD-9E01-45A1-BDEA-F731756B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24EA-1615-405D-B1DE-104D2D34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A3A-FFEC-4F04-892C-2BC09425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3F66-513D-4B64-A55F-A58435E4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7578-FBFD-4EBD-B9EB-72051C2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FB6D-D0D4-40F4-9B30-2DC835FF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6A37-C74E-4137-B181-2CC4C7A5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9146-BFF7-4D3E-91E6-8F9E313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695C-EDBC-45A7-9BD0-2E4EE3C1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08A9-E025-42FD-B82D-D304562B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6045-01F6-466E-8050-E0D12D43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A8E2-B9AE-4825-B6C3-A5AF957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3BCF-ADF5-455F-80A4-3147A24F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57E-2FB3-4138-9507-9C32BCF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FBC4-6939-47F9-891B-4CE16D64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7B1C-FDF2-4750-81D1-6E3C010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6003-9AFB-4B5E-AEA4-7987F62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AE3E-2C11-414B-B15C-07260C0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7186-8C32-452E-B76B-F52E0DE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68B2-0EEC-460C-9F48-37621FA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2203-8032-40F4-A9A8-88104F69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552B-35D1-4D8E-8D0F-FA01BABA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8357-FA56-487F-842E-DEC4E3DC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933E-BAC8-4799-8BD8-31EB4CA6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56-6E7E-44EB-BA75-EC4659A6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7816-C13E-41D9-B46A-F00E262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35D5-3607-4772-B7C8-5CD111A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D016-C00A-4D13-9E45-9B86F28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54D7-68F4-4477-BF30-B090A34F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CF97-1E27-4A0C-BCB6-4EB4AA86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F82A-5A9C-44B1-B250-5137A12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DF52-3DE2-437B-B32E-8DF96C5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6F9B-2AA9-48F5-9C99-BF63DEC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8C78-032F-4DD7-9F79-31AE99D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4F5C-8520-441D-8837-78EFCEEB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B5C-F12A-4E26-B2CB-2C3A2A63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23E0-1E2C-41D0-ACBF-E987120B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87E84-A1F5-47E0-9DB0-E436196B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F857-DDF1-4E38-A0C5-C7F915A0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FB834-C900-4B95-8AB6-5E756E1D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B7A1C-64D9-4524-8335-51C051A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F0CC-7D96-40ED-8388-47BA028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C7A9-6D65-4F22-B295-1C30399F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49DF-1FC2-466B-9B06-FB81256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D624-265C-4523-840F-9A70104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7C20-1FDB-4BD1-8C5B-FEC5446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BAC-53F2-4F8D-B2E6-D4F5A56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6110-8F3B-49C5-9553-DB89710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68AF-8875-4C85-AF8E-8FE89783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7B66-5735-4C59-AE86-651997DD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06FE-9B7F-4F28-AC2E-959297F8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90BE4-F4BC-4311-98CA-AAF36640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C3273-6FC1-43A2-A08B-36AA4C6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1FA93-97EC-408F-823F-DF9D2622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A9658-0624-4211-9CCE-29BD23CD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195D-74D2-4CC0-9B00-9A7C80B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A4C3-7E1C-4EB0-89DC-8793D27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A62-06AA-45D4-8767-DCDAE0D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A62B-525C-490D-A29F-0B97FE5E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A15CC-FB98-4A14-A9F0-4131C41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C6C8-423D-4A73-95CD-2B047C0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15B5C-09C5-4917-96B5-8DDBEF81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8110-8EFA-4EDD-9636-9A57C2CF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7750A-400D-40FB-AFE9-BA35414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BD3E8-9705-44DD-96D3-77F134EA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A89F0-1061-4703-A522-54C6C7F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F4A3-F3DF-40E5-B857-844AD38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696C-37F3-4007-A09B-9E96649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EA7-7ABC-4C01-A436-A48A708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8FF73-A333-404B-B1D0-C3EA4FD5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798D-BA4D-4AB0-802B-487E0AC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C94F-7AFD-4ED6-B0C4-202A76C1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6E23E-A8A1-4EE4-B64F-4762FF0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EC1B6-9232-40FE-8E9F-C350246A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54FF2-6875-4B92-A344-F2D86966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FDDCA-BF7B-4529-B04D-A100FB18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033E6-5D33-4663-8C70-BFC867B6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B7BE2-6974-48C5-AD4C-81BFE30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E5DB5-93E4-4E56-8436-1C950513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AEE-0875-40D3-881A-4EDDD6B1C8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9AA-10FD-4334-9FF9-A05B3A8502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13F-3520-4C04-BA50-C08D8C1C0C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3458-10B0-4C50-912E-984946123F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8C24-4599-40F0-A2D3-A3EC6DA4B9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906-4179-47AA-8D1B-DD430FA4AF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6B4-6D1E-48D5-9CEF-002A1E4DB5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C85D-09B5-430A-B728-61B94482E6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9666-8C61-4959-B8BC-35127F0ACF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F93-6BDC-4004-9A1A-3FA0943014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76A-0379-470E-A4E3-BA5D0298B1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E5CD-691F-47A7-B13E-94FB97B277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F38F-DED2-477E-89D6-3558E1C2EC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2656-69A6-4DB5-B5D2-9CD9FCADA3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005-9927-4A81-9B16-408EAFC64E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905-5EAC-4ECE-A764-C4F06A4F13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DD4B-211E-4212-A842-193F0518F3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ционально - региональный компонент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уроках 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7448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ОУ СОШ № 61 г. Тюмени Валентина Александровна  Николайч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~PP239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аппликация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я деревня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й дом родной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абушка там ждет меня -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верь скорей открой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2" name="Picture 10" descr="DSC01431"/>
          <p:cNvPicPr/>
          <p:nvPr/>
        </p:nvPicPr>
        <p:blipFill>
          <a:blip r:embed="rId1"/>
          <a:srcRect l="15502" t="0" r="11073" b="0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DSC01429"/>
          <p:cNvPicPr/>
          <p:nvPr/>
        </p:nvPicPr>
        <p:blipFill>
          <a:blip r:embed="rId2"/>
          <a:stretch/>
        </p:blipFill>
        <p:spPr>
          <a:xfrm>
            <a:off x="179280" y="2997360"/>
            <a:ext cx="56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54" name="Национально региональный26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6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декоративные сувениры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7" name="Picture 9" descr="DSC01437"/>
          <p:cNvPicPr/>
          <p:nvPr/>
        </p:nvPicPr>
        <p:blipFill>
          <a:blip r:embed="rId1"/>
          <a:stretch/>
        </p:blipFill>
        <p:spPr>
          <a:xfrm>
            <a:off x="5614920" y="3618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DSC01105"/>
          <p:cNvPicPr/>
          <p:nvPr/>
        </p:nvPicPr>
        <p:blipFill>
          <a:blip r:embed="rId2"/>
          <a:stretch/>
        </p:blipFill>
        <p:spPr>
          <a:xfrm>
            <a:off x="4643280" y="189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Фото025"/>
          <p:cNvPicPr/>
          <p:nvPr/>
        </p:nvPicPr>
        <p:blipFill>
          <a:blip r:embed="rId3"/>
          <a:stretch/>
        </p:blipFill>
        <p:spPr>
          <a:xfrm>
            <a:off x="0" y="1601640"/>
            <a:ext cx="4537080" cy="5256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рковь – храм - собор и быт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ания, что режут глаз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б ты ни бы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ы иль исповеданья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 объединяе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ь ты русский или мусульман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ом мы всег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, отчизна, и воспоминанья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забуду никог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Picture 13" descr="DSC01427"/>
          <p:cNvPicPr/>
          <p:nvPr/>
        </p:nvPicPr>
        <p:blipFill>
          <a:blip r:embed="rId1"/>
          <a:srcRect l="4921" t="5536" r="12303" b="5536"/>
          <a:stretch/>
        </p:blipFill>
        <p:spPr>
          <a:xfrm>
            <a:off x="4211640" y="1341360"/>
            <a:ext cx="4681440" cy="5256360"/>
          </a:xfrm>
          <a:prstGeom prst="rect">
            <a:avLst/>
          </a:prstGeom>
          <a:ln w="0">
            <a:noFill/>
          </a:ln>
        </p:spPr>
      </p:pic>
      <p:sp>
        <p:nvSpPr>
          <p:cNvPr id="7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6" name="Picture 7" descr="DSC01422"/>
          <p:cNvPicPr/>
          <p:nvPr/>
        </p:nvPicPr>
        <p:blipFill>
          <a:blip r:embed="rId1"/>
          <a:srcRect l="4429" t="0" r="0" b="0"/>
          <a:stretch/>
        </p:blipFill>
        <p:spPr>
          <a:xfrm>
            <a:off x="112680" y="1700280"/>
            <a:ext cx="4890960" cy="446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DSC01424"/>
          <p:cNvPicPr/>
          <p:nvPr/>
        </p:nvPicPr>
        <p:blipFill>
          <a:blip r:embed="rId2"/>
          <a:stretch/>
        </p:blipFill>
        <p:spPr>
          <a:xfrm>
            <a:off x="5219640" y="141300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DSC01417"/>
          <p:cNvPicPr/>
          <p:nvPr/>
        </p:nvPicPr>
        <p:blipFill>
          <a:blip r:embed="rId3"/>
          <a:srcRect l="0" t="5906" r="4429" b="0"/>
          <a:stretch/>
        </p:blipFill>
        <p:spPr>
          <a:xfrm>
            <a:off x="5346720" y="4232160"/>
            <a:ext cx="3797280" cy="2436840"/>
          </a:xfrm>
          <a:prstGeom prst="rect">
            <a:avLst/>
          </a:prstGeom>
          <a:ln w="0">
            <a:noFill/>
          </a:ln>
        </p:spPr>
      </p:pic>
      <p:sp>
        <p:nvSpPr>
          <p:cNvPr id="7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ная деятельность учащих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700000" y="76500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Фантазийного дерева из бисера «Бонса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древнее японское искусство)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ть деревья с листочками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о береза, сос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ихта есть и с иголками ело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 у нас из блестящего бисера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обычная крас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пусть ветер неистово серди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ган налетает и буря рев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дерево никогда не сломае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усть оно не жив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все же жив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Содержимое 6" descr="Фото019.jpg"/>
          <p:cNvPicPr/>
          <p:nvPr/>
        </p:nvPicPr>
        <p:blipFill>
          <a:blip r:embed="rId1"/>
          <a:stretch/>
        </p:blipFill>
        <p:spPr>
          <a:xfrm>
            <a:off x="179280" y="119700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773" name="Содержимое 7" descr="Фото01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376360" cy="3132360"/>
          </a:xfrm>
          <a:prstGeom prst="rect">
            <a:avLst/>
          </a:prstGeom>
          <a:ln w="0">
            <a:noFill/>
          </a:ln>
        </p:spPr>
      </p:pic>
      <p:sp>
        <p:nvSpPr>
          <p:cNvPr id="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хнология ведения домашнего хозяй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Формирование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и региональные тради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оформлении интерьера жилых помещ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празд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бряды, национальная одеж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Региональные 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циональные  традиции сервировки сто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0" descr="люлька"/>
          <p:cNvPicPr/>
          <p:nvPr/>
        </p:nvPicPr>
        <p:blipFill>
          <a:blip r:embed="rId1"/>
          <a:stretch/>
        </p:blipFill>
        <p:spPr>
          <a:xfrm>
            <a:off x="4067280" y="907920"/>
            <a:ext cx="4608360" cy="28371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комната"/>
          <p:cNvPicPr/>
          <p:nvPr/>
        </p:nvPicPr>
        <p:blipFill>
          <a:blip r:embed="rId2"/>
          <a:stretch/>
        </p:blipFill>
        <p:spPr>
          <a:xfrm>
            <a:off x="4067280" y="3933720"/>
            <a:ext cx="4681440" cy="2924280"/>
          </a:xfrm>
          <a:prstGeom prst="rect">
            <a:avLst/>
          </a:prstGeom>
          <a:ln w="0">
            <a:noFill/>
          </a:ln>
        </p:spPr>
      </p:pic>
      <p:sp>
        <p:nvSpPr>
          <p:cNvPr id="7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радиции народов и националь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59280" y="691920"/>
            <a:ext cx="608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Празднование «Масленницы» и «Проводы русской зимы»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Рисунок 2" descr="D:\Documents\8-В\торговля 2.jpg"/>
          <p:cNvPicPr/>
          <p:nvPr/>
        </p:nvPicPr>
        <p:blipFill>
          <a:blip r:embed="rId1"/>
          <a:srcRect l="12114" t="0" r="0" b="0"/>
          <a:stretch/>
        </p:blipFill>
        <p:spPr>
          <a:xfrm>
            <a:off x="179280" y="1844640"/>
            <a:ext cx="3227400" cy="486108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1" descr="D:\Documents\8-В\чучело пасхи.jpg"/>
          <p:cNvPicPr/>
          <p:nvPr/>
        </p:nvPicPr>
        <p:blipFill>
          <a:blip r:embed="rId2"/>
          <a:srcRect l="24160" t="0" r="0" b="16159"/>
          <a:stretch/>
        </p:blipFill>
        <p:spPr>
          <a:xfrm>
            <a:off x="3203640" y="3114720"/>
            <a:ext cx="2349360" cy="3743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D:\Documents\8-В\торг. 2.jpg"/>
          <p:cNvPicPr/>
          <p:nvPr/>
        </p:nvPicPr>
        <p:blipFill>
          <a:blip r:embed="rId3"/>
          <a:srcRect l="9431" t="0" r="0" b="0"/>
          <a:stretch/>
        </p:blipFill>
        <p:spPr>
          <a:xfrm>
            <a:off x="5580000" y="2708280"/>
            <a:ext cx="3384720" cy="414972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редмет – лучше в школе нашей не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Вот где можно развернуть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оказать автор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И национальный и региона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Мы  всегда  внедряем  компон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35280" y="188640"/>
            <a:ext cx="5051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едме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– Технология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3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Шить, кроить, готовить в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 доме делать все ис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тол гостям серв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и как должно их принят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т об этом на уроках мы стремимся все узн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8" descr="стол экибана"/>
          <p:cNvPicPr/>
          <p:nvPr/>
        </p:nvPicPr>
        <p:blipFill>
          <a:blip r:embed="rId1"/>
          <a:stretch/>
        </p:blipFill>
        <p:spPr>
          <a:xfrm>
            <a:off x="3924360" y="1268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711" name="~PP2392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67280" y="333000"/>
            <a:ext cx="30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Наша школа много наци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(18 национальност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одних из  последних уроков по кулинарии – приготовление любим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ывают о традициях разных народов, национальных праздниках и обр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5" name="Picture 10" descr="Изображение3в 001"/>
          <p:cNvPicPr/>
          <p:nvPr/>
        </p:nvPicPr>
        <p:blipFill>
          <a:blip r:embed="rId1"/>
          <a:srcRect l="0" t="7395" r="0" b="7352"/>
          <a:stretch/>
        </p:blipFill>
        <p:spPr>
          <a:xfrm>
            <a:off x="0" y="1700280"/>
            <a:ext cx="5867280" cy="4392720"/>
          </a:xfrm>
          <a:prstGeom prst="rect">
            <a:avLst/>
          </a:prstGeom>
          <a:ln w="0">
            <a:noFill/>
          </a:ln>
        </p:spPr>
      </p:pic>
      <p:pic>
        <p:nvPicPr>
          <p:cNvPr id="716" name="Национально региональный26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Рус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ша рисовая с сухофрук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Татар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0" name="Picture 11" descr="русская, каша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26636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чак-чак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722" name="Национально региональный262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збек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лов, ма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бхазская кух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варное мясо с острым соусо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8" descr="плов"/>
          <p:cNvPicPr/>
          <p:nvPr/>
        </p:nvPicPr>
        <p:blipFill>
          <a:blip r:embed="rId1"/>
          <a:stretch/>
        </p:blipFill>
        <p:spPr>
          <a:xfrm>
            <a:off x="826920" y="907920"/>
            <a:ext cx="3313440" cy="2449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абхазия"/>
          <p:cNvPicPr/>
          <p:nvPr/>
        </p:nvPicPr>
        <p:blipFill>
          <a:blip r:embed="rId2"/>
          <a:stretch/>
        </p:blipFill>
        <p:spPr>
          <a:xfrm>
            <a:off x="826920" y="3789360"/>
            <a:ext cx="3313440" cy="2519280"/>
          </a:xfrm>
          <a:prstGeom prst="rect">
            <a:avLst/>
          </a:prstGeom>
          <a:ln w="0">
            <a:noFill/>
          </a:ln>
        </p:spPr>
      </p:pic>
      <p:pic>
        <p:nvPicPr>
          <p:cNvPr id="728" name="Национально региональный26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316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рмя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й хлеб-лава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кра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9" descr="б-щ"/>
          <p:cNvPicPr/>
          <p:nvPr/>
        </p:nvPicPr>
        <p:blipFill>
          <a:blip r:embed="rId1"/>
          <a:stretch/>
        </p:blipFill>
        <p:spPr>
          <a:xfrm>
            <a:off x="611280" y="393372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шаш"/>
          <p:cNvPicPr/>
          <p:nvPr/>
        </p:nvPicPr>
        <p:blipFill>
          <a:blip r:embed="rId2"/>
          <a:stretch/>
        </p:blipFill>
        <p:spPr>
          <a:xfrm>
            <a:off x="611280" y="83664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734" name="Национально региональный26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0" y="18900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Груз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зербайджанская кухн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юдо из мяса – чахохб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чахохбили"/>
          <p:cNvPicPr/>
          <p:nvPr/>
        </p:nvPicPr>
        <p:blipFill>
          <a:blip r:embed="rId1"/>
          <a:stretch/>
        </p:blipFill>
        <p:spPr>
          <a:xfrm>
            <a:off x="4643280" y="4114800"/>
            <a:ext cx="3961080" cy="2409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борщ"/>
          <p:cNvPicPr/>
          <p:nvPr/>
        </p:nvPicPr>
        <p:blipFill>
          <a:blip r:embed="rId2"/>
          <a:stretch/>
        </p:blipFill>
        <p:spPr>
          <a:xfrm>
            <a:off x="4643280" y="1052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740" name="Национально региональный26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изготовление изделий с учетом национальных особенностей и традици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3" name="Picture 2" descr="D:\Documents\мисс школьница\DSC00260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5589720"/>
          </a:xfrm>
          <a:prstGeom prst="rect">
            <a:avLst/>
          </a:prstGeom>
          <a:ln w="0">
            <a:noFill/>
          </a:ln>
        </p:spPr>
      </p:pic>
      <p:pic>
        <p:nvPicPr>
          <p:cNvPr id="744" name="Национально региональный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аппликац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46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Picture 5" descr="DSC01433"/>
          <p:cNvPicPr/>
          <p:nvPr/>
        </p:nvPicPr>
        <p:blipFill>
          <a:blip r:embed="rId1"/>
          <a:srcRect l="17717" t="0" r="2215" b="0"/>
          <a:stretch/>
        </p:blipFill>
        <p:spPr>
          <a:xfrm>
            <a:off x="4648320" y="1844640"/>
            <a:ext cx="4495680" cy="4176720"/>
          </a:xfrm>
          <a:prstGeom prst="rect">
            <a:avLst/>
          </a:prstGeom>
          <a:ln w="0">
            <a:noFill/>
          </a:ln>
        </p:spPr>
      </p:pic>
      <p:pic>
        <p:nvPicPr>
          <p:cNvPr id="749" name="Национально региональный27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09:49Z</dcterms:created>
  <dc:creator>XP</dc:creator>
  <dc:description/>
  <dc:language>en-US</dc:language>
  <cp:lastModifiedBy>LEGION</cp:lastModifiedBy>
  <dcterms:modified xsi:type="dcterms:W3CDTF">2015-03-31T08:33:13Z</dcterms:modified>
  <cp:revision>120</cp:revision>
  <dc:subject/>
  <dc:title>Слайд 1</dc:title>
</cp:coreProperties>
</file>