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type.wav" ContentType="audio/x-wav"/>
  <Override PartName="/ppt/media/image6.jpeg" ContentType="image/jpeg"/>
  <Override PartName="/ppt/media/breeze.wav" ContentType="audio/x-wav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wind.wav" ContentType="audio/x-wav"/>
  <Override PartName="/ppt/media/image16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864D-9E4A-45D5-9F60-CC460A2DDB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 - региональный компонен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СОШ № 61 г. Тюмени Валентина Александровна  Николай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F576-0415-4811-BC9A-BCCA8B1A3C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аппл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я деревн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й дом родн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там ждет меня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рь скорей отк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1444-5194-4397-A477-5C1408734F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декоративные сувен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CB3A-58C0-40F3-B856-D91ECB04CE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– храм - собор и быт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ания, что режут гла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б ты ни бы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ы иль исповеданья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 объединя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ты русский или мусульмани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ом мы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отчизна, и воспоминанья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буду ни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A21-0D54-455C-A9A5-84E751B197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43DC-D1F6-46ED-A054-D61C8AF089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Фантазийного дерева из бисера «Бонса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древнее японское искусство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ть деревья с листочкам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 береза, сос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хта есть и с иголками е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 у нас из блестящего бисер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ычная крас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пусть ветер неистово серди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аган налетает и буря рев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дерево никогда не слом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усть оно не жив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 все же жив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B8A-3D7C-4126-83AD-1ACC1F61FA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ведения домашнего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Формирование 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и региональные трад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интерьера жилых поме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празд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ряды, национальная оде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егиональные 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циональные  традиции сервировки ст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1FB-4CF0-43B3-B408-B5122BD0CD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и народов и наци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азднование «Масленницы» и «Проводы русской зим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11C0-8AB1-4BC0-A812-10FDA36A60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едмет – лучше в школе нашей н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где можно разверну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оказать автор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национальный и региона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Мы  всегда  внедряем 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7186-FC06-49CF-9E76-EED8F42E6A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ехн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Шить, кроить, готовить в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 доме делать все ис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тол гостям серв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как должно их принят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об этом на уроках мы стремимся все узн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29D5-E252-44F5-9886-F729228284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Наша школа много национ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(18 национальностей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одних из  последних уроков по кулинарии – приготовление любимых блю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ывают о традициях разных народов, национальных праздниках и обр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0D33-4A39-4955-A420-774B3CB0E0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Рус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а рисовая с сухофру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Татар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0E1F-9DF2-4D50-9098-DAA308D8B5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збек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лов, ман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бхазская кухн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отварное мясо с острым соусо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3A6C-E107-4167-B0ED-34AD72C015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рмя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хлеб-лав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краи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245A-30DC-4B1B-8D36-71104F2236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Грузинская кух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Азербайджанская кухня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юдо из мяса – чахохб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9FC6-B622-4BDC-8CF4-B064550081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изготовление изделий с учетом национальных особенностей и тради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9835-1E5C-43D0-B58B-8C5FA168B1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(аппликац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C12C-082A-43FA-B480-C98F2E2EC5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6EC-F9C8-4C1C-834B-F26A694A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FFF-5B7F-42F3-A925-0C7FA13D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54FA0-2133-4A3B-9C36-8563F43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539AE-823F-4663-B5C8-EF3B2C6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8C6DF-F473-4EE3-8875-76AAA3ED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78DE4-6A7F-4F09-8D5E-9C16942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3D86E-3307-4FBD-860B-BEB2349C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83F20-E5E6-454C-A75D-DC865BCA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25C14-E26D-406C-807E-AF50FA5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92CE3-19C6-4053-972D-5233A7C4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1ECA5-EA50-4B31-A756-F9C11CEA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DA5F1-6B16-4A7C-BC59-0E595D43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31B-3EF2-41B6-A2C9-66A5965A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C07B7-11E1-4675-B55D-26A25F44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3F0AD-03BF-4D15-BA75-08A8548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15BCE-D510-497B-97AF-57713CC7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440DC-B341-4D11-80AA-2FEE26FB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4132A-5B52-4485-93EF-530B87A0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61E22-8464-471A-84E8-77152FAE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EBBA3-F0A1-4309-A05C-88BE4FF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68112-4186-4D85-A2CA-E2EFD2C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032BC-45CF-43F0-851C-EB2A14B0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9AF3B-4E36-4194-B30E-E69B6E8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40D-1186-4CE6-A88C-1E3489A2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6B162-0A94-4FE7-972B-D786930C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DA726-EA2C-492D-B4AB-FDFB954C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3F3C1-ABEB-469B-8739-FEAEA5A8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C7068-2071-4FA5-8E4E-1645BD52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2F176-8952-411E-A8CB-290F195D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26837-C5E0-4B4C-B01D-878A0A05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174A4-EBF9-4A2C-B579-86DB0DE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65ED7-2AB4-4C31-8101-B90B2D9C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9C5E3-126F-42C3-AE85-ADA5DB76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2D54F-1CB9-4DC3-A4A1-CDC7423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D9F9-2EE5-4BC7-B060-A4097FC6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7059-B1EA-45BA-AAF9-0C238E0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FBC83-D525-40C4-A54A-D1268382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8E418-EBC0-4F21-8D5B-85F23929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C7E62-9CFE-4286-8D6D-CC03EE52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B6AFB-061F-4C78-86CB-5A46506A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484CA-5681-4201-BA2F-1FA224AE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062D2-E74D-4669-B70F-E2527473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3001D-8ABC-46F0-9E7E-5A1F37C0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80439-F2A4-474B-BDC3-964E5D35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CDBCC-B036-458B-A32C-DFE7051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A8EA-92E9-42C3-A41B-4E212C13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90387-A123-4AD9-BBB6-3E92703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EF6F-CBB3-4E81-93A9-FC771AAE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FFAD9-2F49-4605-B9EE-9AEA535F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6E47C-F679-4958-8C94-D37DA370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2DEEC-E36D-4AC3-A4AA-997DAFF0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E3406-412B-4F98-B352-6770CB38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0F3C2-1020-49D4-8901-E149D042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0AA9D-44F4-4089-8F6A-B995EA0A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AB797-FA32-4B1F-A00C-D056734C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83A51-A43F-4B2C-903F-DDD2EB35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1E3D-9827-418E-AF3D-3713617B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7D34B-ED16-4A0E-8E77-E9E1AFB7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60903-9D2B-45E6-A6C5-45111D30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3938A-429E-4E4F-B4F6-1FA98B83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7CBAA-652E-4A7F-A320-5667E4B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204E1-0228-43DC-8AB7-33F68ED1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B0BFF-97B7-4665-8D03-22795C3E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869F8-FE7B-442D-9D7F-9A1D916F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E90FB-C620-4436-84C9-93765E89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364A9-1549-4F74-9734-981BD0A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4A50C-9965-48BF-82DB-870957B7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846C-1160-45D6-BB4D-1C647D4C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1504A-14FF-440E-8885-63B31D8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74BB2-7F2C-4B10-AF3A-BCBDF9DE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AA9DF-6C04-4A02-A228-A0646073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35B4A-D081-4687-9328-A8411BCA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E0FB3-0E67-472F-AA03-BA003B9B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B9B35-034A-41C5-881E-8DE224F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6035A-3AC0-404C-98C7-9F3EDCED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74F22-85E7-4DF7-A043-0132093B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918B7-A852-4161-915F-ACC395BC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BC340-8EDF-4638-83E0-DF7E9CD2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C1C-47FB-4A95-A76F-20E69333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CC94F-AD46-43D3-829F-186E6C7D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39AE4-1BBB-4076-8388-95BADE29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BFC31-9C85-4B6B-8F10-D0FB5B8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DDEC7-059B-4A9C-9991-2E09E18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7720F-6B16-4546-8B1F-3982F7EC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D7C56-4054-4F11-BE3B-0BF37DA4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E4153-01CF-4DEB-AB23-E00605E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24FF3-4F96-495A-A18B-765A9BC7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4BDC5-98C0-437A-898B-2929F238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0C494-75E8-46DA-93F4-F2424CF8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EF3-3127-4C0D-B966-7988A4AA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05218-B181-479D-8752-760259C0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78DF2-DE75-4297-A92C-BD7B8B1C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C6DE3-7F46-4FB8-ABE2-BCACB18C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FFB2E-980C-4714-B369-0EEB4F2C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5A1C5-4B82-4D00-9812-CCC4851C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8F913E-6EAC-4EC3-B689-C750018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5E0CC-EB36-4F39-8AA9-BB61CEB1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3420F-7392-403E-B06F-323100F0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9E4C5-AFD7-4809-B100-E289A82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CE0DC-F803-45D1-BB6C-A424B80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195-81EE-44D5-B9CB-098FAA8F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8B85B-5D7D-47E4-8D71-0DFA8CDA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91F6A-20EB-4FB6-BA91-B1CFE9D1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84BC5-49B7-4BEC-89AB-049AC1DF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D27C8-7313-49A8-9464-4A2F63FC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A27F98-02A6-4D37-94D6-02536C97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F1CC1-335C-4885-9F5E-BA453494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FB5C5-32AD-46A5-A447-C4F95980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F71BE-132D-45B2-827F-FB14BF0B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9FB9E-E0DE-4EA6-9600-DA437F70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FF1DB-A8C9-46DA-9C12-BD3D7B6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8DF-079F-44FD-B03C-F584092D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5CE2-5A80-435F-A693-4161AEA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6A40C-5AF6-4505-A693-29D83B3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DF08B-345C-4673-8284-216F313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C1FEF-89AF-436B-B2EA-A6BB1FC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77C57-920B-45BC-92BD-27E2B873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9E1A6-3FE4-4A56-B2E5-384E3112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2ACC-CC55-48A0-B31D-A1B9699A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D10E-823B-4E13-8F58-8D4B202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76EE-EF87-4936-8294-B63B1BAF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1775-2BDF-43F5-951B-24FA0B46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B8A9-6E1E-444D-9585-430AA018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0CEE-918E-4CD5-A06B-5F5A06CD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F049-D741-47C1-B1A4-18B13BE0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F7F2-73E3-4087-87E7-1EC4ECF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E025-E68B-4650-8948-D7CF5BA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969-C2BB-4075-BCEC-308EF083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CFD3-92D4-41F3-B180-45C3DD6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FDAA-4F12-4652-BA7B-B12ED23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D789-922B-4CF9-85D5-442627A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65E2-DFB6-4CEE-8943-308581E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7FE9-8209-4B2E-8FED-98FD7458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215E-1B2B-4B8B-8ABE-11C2F050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1125-0C6C-4464-BE37-B9B810F2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DD95-51FE-451E-A442-AFA23F43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0EBE-678F-4002-B13A-1CB6A4BB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099E-B059-40C1-85DA-A7456A76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DFF-17B9-4FE9-873F-B47ACA0F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C6FA-A753-4E22-A3F1-9B6137C4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E693-E073-4054-BEBF-5D8D1854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4408-53C2-4E3A-A8B5-E13A190B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78E5-15BB-4A3D-84A3-4D31780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1BAB-518B-409C-940C-C487674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04E3E-CD0B-4693-BCD3-C9EC13E5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0929-D31C-47D6-A5ED-C650EA87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B498-1CC2-4A45-ACC3-C4EBF4DB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8297-AC25-4FEE-B71F-A774FA62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B4C4-D86C-4363-8414-E675F6B9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570-7B7D-40E8-BD3C-348EC314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3F610-AE20-4C36-8516-4BCC6240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40FB-6873-4A49-A086-9ED813D4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6254-84B1-4688-B0BC-E6CEB20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CA34-7833-489C-9921-597636EA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C22A7-B9E6-41DA-A145-81C85895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F6D8B-C2C0-4B20-98FB-0B69008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73B4-B632-4DEA-BFA7-9F6A23A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FDE8-7C3B-4BF3-9276-3CA7AE6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8FAE2-BE9E-407F-9FCB-0D2C522F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7C62-1319-4363-9B35-1BB10634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AAD-C54E-4106-B2A1-F579E0FD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01289-B620-4A35-8D2B-66DE55FC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E016-84FB-4C67-8CFB-D7AC4A97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2E378-E883-44E9-8318-036EB90F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54051-14B8-4DF2-B85F-C2080633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8B330-F71D-4F3A-9E25-9443DC0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4FF8-A993-4757-9C00-70EF2AF1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AD02D-01E4-4063-88E4-9D1D14C4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222A8-5F2F-4A20-A770-E17C71B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A1CCC-92E8-4089-B90D-A868CC2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D646D-472E-4018-B2A5-BA67F6B8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CBE-55F3-44D5-B78B-3C07407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5D76E-5BE4-4AF2-A8CC-B331F41B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B556-3C0E-4AD5-807C-5DFA2767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154A-C45E-40F2-844F-4555EC3F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9E75E-5708-4F82-895D-2EDFC59F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57E2F-3F41-47DD-A808-56193A64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4332-4F70-43DA-A7F9-28273CBA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C8CB-23D5-4A94-AFD0-7FA9522A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66B28-3256-406C-AECF-3A0D619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EC724-2E22-4922-BEFC-8012BDE3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92C0-68AD-4E0C-B0E2-5C8A49A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455-6DA7-479A-A80D-020D8D5E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D6BC3-4062-44FB-A7DC-22DB9164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DB165-DF36-4E25-8D65-C6DB447F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0177-C38F-4419-B5F4-E4ACE56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74AE7-C9D8-4ADB-A30C-6C3E1656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6EB5-CB3F-4D37-B726-B1FC022E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000A-478F-41C1-B086-49C117F0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B17AB-1FA9-426D-AE5B-1F3DBE81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EB46-FF18-46EF-A98C-0BE0BD0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A6582-1FBE-4361-A867-749EA14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2B88D-6E5F-4262-96A9-26969CA1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E40-6085-46A1-BF99-6DC178E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3ED2A-F452-4C39-AD52-B98D879F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AB74B-6F80-40AE-A61D-A5075D52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F3860-19DD-477C-A412-139AE249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C85F5-968F-475A-A781-91D8611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35C3C-3316-40E5-BD39-E4F27DDA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090B9-9391-49EC-BAEF-173AEF02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E9380-48E2-40FE-976D-AB744DA8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BEAD2-DAD2-4869-B6FC-AB739236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56790-6F08-4192-9C7E-E72763A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2A13B-D765-40E6-A72E-EEF587B3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544A-3B2B-40D5-97CB-7D4CFB0107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F855-9F18-49E0-A946-85163EE374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8CDB-A1EF-40C8-83BF-2858AAB697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1C8D-9B02-43FA-8916-7243C33E64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9942-1BDC-4D46-8518-3697A43740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435F-ACDE-44F2-BB2C-F0D642C10A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3691-B4F4-498E-9661-D1FA46B25E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B86-116F-4266-8C6F-5924AFD7E6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983-2925-47B9-86D3-C8874601A5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5191-35DF-4213-89D4-8E05743D00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B56-DE99-4E63-8D2E-1D00E8AE18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A9CD-7A0F-41D8-AEA8-8353AAED66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379A-C33E-4BB7-81A2-B01C2EEB3C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7355-87ED-4DA8-966D-DEE61CF796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B269-7FA9-4D63-AFAF-00584419A8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89DB-7AEE-4D24-BBF6-C3AE884732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78A-C874-432F-94A7-291D68A181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ционально - региональный компонент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 уроках техноло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74484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МОУ СОШ № 61 г. Тюмени Валентина Александровна  Николайч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~PP2392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0072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аппликация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я деревня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й дом родной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Бабушка там ждет меня -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верь скорей открой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2" name="Picture 10" descr="DSC01431"/>
          <p:cNvPicPr/>
          <p:nvPr/>
        </p:nvPicPr>
        <p:blipFill>
          <a:blip r:embed="rId1"/>
          <a:srcRect l="15502" t="0" r="11073" b="0"/>
          <a:stretch/>
        </p:blipFill>
        <p:spPr>
          <a:xfrm>
            <a:off x="5219640" y="0"/>
            <a:ext cx="3924360" cy="3357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DSC01429"/>
          <p:cNvPicPr/>
          <p:nvPr/>
        </p:nvPicPr>
        <p:blipFill>
          <a:blip r:embed="rId2"/>
          <a:stretch/>
        </p:blipFill>
        <p:spPr>
          <a:xfrm>
            <a:off x="179280" y="2997360"/>
            <a:ext cx="5688000" cy="3860640"/>
          </a:xfrm>
          <a:prstGeom prst="rect">
            <a:avLst/>
          </a:prstGeom>
          <a:ln w="0">
            <a:noFill/>
          </a:ln>
        </p:spPr>
      </p:pic>
      <p:pic>
        <p:nvPicPr>
          <p:cNvPr id="754" name="Национально региональный26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608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декоративные сувениры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7" name="Picture 9" descr="DSC01437"/>
          <p:cNvPicPr/>
          <p:nvPr/>
        </p:nvPicPr>
        <p:blipFill>
          <a:blip r:embed="rId1"/>
          <a:stretch/>
        </p:blipFill>
        <p:spPr>
          <a:xfrm>
            <a:off x="5614920" y="3618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DSC01105"/>
          <p:cNvPicPr/>
          <p:nvPr/>
        </p:nvPicPr>
        <p:blipFill>
          <a:blip r:embed="rId2"/>
          <a:stretch/>
        </p:blipFill>
        <p:spPr>
          <a:xfrm>
            <a:off x="4643280" y="189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Фото025"/>
          <p:cNvPicPr/>
          <p:nvPr/>
        </p:nvPicPr>
        <p:blipFill>
          <a:blip r:embed="rId3"/>
          <a:stretch/>
        </p:blipFill>
        <p:spPr>
          <a:xfrm>
            <a:off x="0" y="1601640"/>
            <a:ext cx="4537080" cy="5256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6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рковь – храм - собор и быт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ания, что режут глаз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б ты ни бы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ы иль исповеданья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 объединяет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ь ты русский или мусульман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ом мы всегд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, отчизна, и воспоминанья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забуду никог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Picture 13" descr="DSC01427"/>
          <p:cNvPicPr/>
          <p:nvPr/>
        </p:nvPicPr>
        <p:blipFill>
          <a:blip r:embed="rId1"/>
          <a:srcRect l="4921" t="5536" r="12303" b="5536"/>
          <a:stretch/>
        </p:blipFill>
        <p:spPr>
          <a:xfrm>
            <a:off x="4211640" y="1341360"/>
            <a:ext cx="4681440" cy="5256360"/>
          </a:xfrm>
          <a:prstGeom prst="rect">
            <a:avLst/>
          </a:prstGeom>
          <a:ln w="0">
            <a:noFill/>
          </a:ln>
        </p:spPr>
      </p:pic>
      <p:sp>
        <p:nvSpPr>
          <p:cNvPr id="7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6" name="Picture 7" descr="DSC01422"/>
          <p:cNvPicPr/>
          <p:nvPr/>
        </p:nvPicPr>
        <p:blipFill>
          <a:blip r:embed="rId1"/>
          <a:srcRect l="4429" t="0" r="0" b="0"/>
          <a:stretch/>
        </p:blipFill>
        <p:spPr>
          <a:xfrm>
            <a:off x="112680" y="1700280"/>
            <a:ext cx="4890960" cy="4465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DSC01424"/>
          <p:cNvPicPr/>
          <p:nvPr/>
        </p:nvPicPr>
        <p:blipFill>
          <a:blip r:embed="rId2"/>
          <a:stretch/>
        </p:blipFill>
        <p:spPr>
          <a:xfrm>
            <a:off x="5219640" y="1413000"/>
            <a:ext cx="3745080" cy="2663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DSC01417"/>
          <p:cNvPicPr/>
          <p:nvPr/>
        </p:nvPicPr>
        <p:blipFill>
          <a:blip r:embed="rId3"/>
          <a:srcRect l="0" t="5906" r="4429" b="0"/>
          <a:stretch/>
        </p:blipFill>
        <p:spPr>
          <a:xfrm>
            <a:off x="5346720" y="4232160"/>
            <a:ext cx="3797280" cy="2436840"/>
          </a:xfrm>
          <a:prstGeom prst="rect">
            <a:avLst/>
          </a:prstGeom>
          <a:ln w="0">
            <a:noFill/>
          </a:ln>
        </p:spPr>
      </p:pic>
      <p:sp>
        <p:nvSpPr>
          <p:cNvPr id="7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роектная деятельность учащихс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700000" y="765000"/>
            <a:ext cx="40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Фантазийного дерева из бисера «Бонса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древнее японское искусство)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сть деревья с листочками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о береза, сос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ихта есть и с иголками елоч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 у нас из блестящего бисера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обычная крас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пусть ветер неистово серди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раган налетает и буря рев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Это дерево никогда не сломае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усть оно не живо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о все же живе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Содержимое 6" descr="Фото019.jpg"/>
          <p:cNvPicPr/>
          <p:nvPr/>
        </p:nvPicPr>
        <p:blipFill>
          <a:blip r:embed="rId1"/>
          <a:stretch/>
        </p:blipFill>
        <p:spPr>
          <a:xfrm>
            <a:off x="179280" y="119700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773" name="Содержимое 7" descr="Фото018.jpg"/>
          <p:cNvPicPr/>
          <p:nvPr/>
        </p:nvPicPr>
        <p:blipFill>
          <a:blip r:embed="rId2"/>
          <a:stretch/>
        </p:blipFill>
        <p:spPr>
          <a:xfrm>
            <a:off x="6516720" y="3573360"/>
            <a:ext cx="2376360" cy="3132360"/>
          </a:xfrm>
          <a:prstGeom prst="rect">
            <a:avLst/>
          </a:prstGeom>
          <a:ln w="0">
            <a:noFill/>
          </a:ln>
        </p:spPr>
      </p:pic>
      <p:sp>
        <p:nvSpPr>
          <p:cNvPr id="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хнология ведения домашнего хозяйст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Формирование культу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и региональные традиц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оформлении интерьера жилых помещ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праздн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обряды, национальная одеж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Региональные 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циональные  традиции сервировки стол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Picture 0" descr="люлька"/>
          <p:cNvPicPr/>
          <p:nvPr/>
        </p:nvPicPr>
        <p:blipFill>
          <a:blip r:embed="rId1"/>
          <a:stretch/>
        </p:blipFill>
        <p:spPr>
          <a:xfrm>
            <a:off x="4067280" y="907920"/>
            <a:ext cx="4608360" cy="28371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" descr="комната"/>
          <p:cNvPicPr/>
          <p:nvPr/>
        </p:nvPicPr>
        <p:blipFill>
          <a:blip r:embed="rId2"/>
          <a:stretch/>
        </p:blipFill>
        <p:spPr>
          <a:xfrm>
            <a:off x="4067280" y="3933720"/>
            <a:ext cx="4681440" cy="2924280"/>
          </a:xfrm>
          <a:prstGeom prst="rect">
            <a:avLst/>
          </a:prstGeom>
          <a:ln w="0">
            <a:noFill/>
          </a:ln>
        </p:spPr>
      </p:pic>
      <p:sp>
        <p:nvSpPr>
          <p:cNvPr id="7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радиции народов и национальносте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59280" y="691920"/>
            <a:ext cx="6084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Празднование «Масленницы» и «Проводы русской зимы»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2" name="Рисунок 2" descr="D:\Documents\8-В\торговля 2.jpg"/>
          <p:cNvPicPr/>
          <p:nvPr/>
        </p:nvPicPr>
        <p:blipFill>
          <a:blip r:embed="rId1"/>
          <a:srcRect l="12114" t="0" r="0" b="0"/>
          <a:stretch/>
        </p:blipFill>
        <p:spPr>
          <a:xfrm>
            <a:off x="179280" y="1844640"/>
            <a:ext cx="3227400" cy="4861080"/>
          </a:xfrm>
          <a:prstGeom prst="rect">
            <a:avLst/>
          </a:prstGeom>
          <a:ln w="0">
            <a:noFill/>
          </a:ln>
        </p:spPr>
      </p:pic>
      <p:pic>
        <p:nvPicPr>
          <p:cNvPr id="783" name="Рисунок 1" descr="D:\Documents\8-В\чучело пасхи.jpg"/>
          <p:cNvPicPr/>
          <p:nvPr/>
        </p:nvPicPr>
        <p:blipFill>
          <a:blip r:embed="rId2"/>
          <a:srcRect l="24160" t="0" r="0" b="16159"/>
          <a:stretch/>
        </p:blipFill>
        <p:spPr>
          <a:xfrm>
            <a:off x="3203640" y="3114720"/>
            <a:ext cx="2349360" cy="3743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D:\Documents\8-В\торг. 2.jpg"/>
          <p:cNvPicPr/>
          <p:nvPr/>
        </p:nvPicPr>
        <p:blipFill>
          <a:blip r:embed="rId3"/>
          <a:srcRect l="9431" t="0" r="0" b="0"/>
          <a:stretch/>
        </p:blipFill>
        <p:spPr>
          <a:xfrm>
            <a:off x="5580000" y="2708280"/>
            <a:ext cx="3384720" cy="414972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редмет – лучше в школе нашей не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Вот где можно развернутьс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оказать автор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И национальный и региона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Мы  всегда  внедряем  компон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35280" y="188640"/>
            <a:ext cx="5051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едме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– Технология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39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Шить, кроить, готовить в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 доме делать все ис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стол гостям сервир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и как должно их принять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от об этом на уроках мы стремимся все узн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8" descr="стол экибана"/>
          <p:cNvPicPr/>
          <p:nvPr/>
        </p:nvPicPr>
        <p:blipFill>
          <a:blip r:embed="rId1"/>
          <a:stretch/>
        </p:blipFill>
        <p:spPr>
          <a:xfrm>
            <a:off x="3924360" y="1268280"/>
            <a:ext cx="5219640" cy="4753080"/>
          </a:xfrm>
          <a:prstGeom prst="rect">
            <a:avLst/>
          </a:prstGeom>
          <a:ln w="0">
            <a:noFill/>
          </a:ln>
        </p:spPr>
      </p:pic>
      <p:pic>
        <p:nvPicPr>
          <p:cNvPr id="711" name="~PP2392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67280" y="333000"/>
            <a:ext cx="30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Наша школа много националь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(18 национальносте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 одних из  последних уроков по кулинарии – приготовление любим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ывают о традициях разных народов, национальных праздниках и обр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5" name="Picture 10" descr="Изображение3в 001"/>
          <p:cNvPicPr/>
          <p:nvPr/>
        </p:nvPicPr>
        <p:blipFill>
          <a:blip r:embed="rId1"/>
          <a:srcRect l="0" t="7395" r="0" b="7352"/>
          <a:stretch/>
        </p:blipFill>
        <p:spPr>
          <a:xfrm>
            <a:off x="0" y="1700280"/>
            <a:ext cx="5867280" cy="4392720"/>
          </a:xfrm>
          <a:prstGeom prst="rect">
            <a:avLst/>
          </a:prstGeom>
          <a:ln w="0">
            <a:noFill/>
          </a:ln>
        </p:spPr>
      </p:pic>
      <p:pic>
        <p:nvPicPr>
          <p:cNvPr id="716" name="Национально региональный26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Рус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ша рисовая с сухофрук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Татар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0" name="Picture 11" descr="русская, каша"/>
          <p:cNvPicPr/>
          <p:nvPr/>
        </p:nvPicPr>
        <p:blipFill>
          <a:blip r:embed="rId1"/>
          <a:stretch/>
        </p:blipFill>
        <p:spPr>
          <a:xfrm>
            <a:off x="4500720" y="836640"/>
            <a:ext cx="4319280" cy="26636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4" descr="чак-чак"/>
          <p:cNvPicPr/>
          <p:nvPr/>
        </p:nvPicPr>
        <p:blipFill>
          <a:blip r:embed="rId2"/>
          <a:stretch/>
        </p:blipFill>
        <p:spPr>
          <a:xfrm>
            <a:off x="4500720" y="386064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722" name="Национально региональный262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671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47960" y="333000"/>
            <a:ext cx="42447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збек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лов, ма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бхазская кух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варное мясо с острым соусо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6" name="Picture 8" descr="плов"/>
          <p:cNvPicPr/>
          <p:nvPr/>
        </p:nvPicPr>
        <p:blipFill>
          <a:blip r:embed="rId1"/>
          <a:stretch/>
        </p:blipFill>
        <p:spPr>
          <a:xfrm>
            <a:off x="826920" y="907920"/>
            <a:ext cx="3313440" cy="2449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абхазия"/>
          <p:cNvPicPr/>
          <p:nvPr/>
        </p:nvPicPr>
        <p:blipFill>
          <a:blip r:embed="rId2"/>
          <a:stretch/>
        </p:blipFill>
        <p:spPr>
          <a:xfrm>
            <a:off x="826920" y="3789360"/>
            <a:ext cx="3313440" cy="2519280"/>
          </a:xfrm>
          <a:prstGeom prst="rect">
            <a:avLst/>
          </a:prstGeom>
          <a:ln w="0">
            <a:noFill/>
          </a:ln>
        </p:spPr>
      </p:pic>
      <p:pic>
        <p:nvPicPr>
          <p:cNvPr id="728" name="Национально региональный263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316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рмя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й хлеб-лава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кра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2" name="Picture 9" descr="б-щ"/>
          <p:cNvPicPr/>
          <p:nvPr/>
        </p:nvPicPr>
        <p:blipFill>
          <a:blip r:embed="rId1"/>
          <a:stretch/>
        </p:blipFill>
        <p:spPr>
          <a:xfrm>
            <a:off x="611280" y="393372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шаш"/>
          <p:cNvPicPr/>
          <p:nvPr/>
        </p:nvPicPr>
        <p:blipFill>
          <a:blip r:embed="rId2"/>
          <a:stretch/>
        </p:blipFill>
        <p:spPr>
          <a:xfrm>
            <a:off x="611280" y="836640"/>
            <a:ext cx="3529080" cy="2736720"/>
          </a:xfrm>
          <a:prstGeom prst="rect">
            <a:avLst/>
          </a:prstGeom>
          <a:ln w="0">
            <a:noFill/>
          </a:ln>
        </p:spPr>
      </p:pic>
      <p:pic>
        <p:nvPicPr>
          <p:cNvPr id="734" name="Национально региональный26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0" y="189000"/>
            <a:ext cx="4114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2447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Груз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зербайджанская кухн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юдо из мяса – чахохб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Picture 8" descr="чахохбили"/>
          <p:cNvPicPr/>
          <p:nvPr/>
        </p:nvPicPr>
        <p:blipFill>
          <a:blip r:embed="rId1"/>
          <a:stretch/>
        </p:blipFill>
        <p:spPr>
          <a:xfrm>
            <a:off x="4643280" y="4114800"/>
            <a:ext cx="3961080" cy="2409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борщ"/>
          <p:cNvPicPr/>
          <p:nvPr/>
        </p:nvPicPr>
        <p:blipFill>
          <a:blip r:embed="rId2"/>
          <a:stretch/>
        </p:blipFill>
        <p:spPr>
          <a:xfrm>
            <a:off x="4643280" y="1052640"/>
            <a:ext cx="3961080" cy="2592360"/>
          </a:xfrm>
          <a:prstGeom prst="rect">
            <a:avLst/>
          </a:prstGeom>
          <a:ln w="0">
            <a:noFill/>
          </a:ln>
        </p:spPr>
      </p:pic>
      <p:pic>
        <p:nvPicPr>
          <p:cNvPr id="740" name="Национально региональный26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изготовление изделий с учетом национальных особенностей и традиций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3" name="Picture 2" descr="D:\Documents\мисс школьница\DSC00260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5589720"/>
          </a:xfrm>
          <a:prstGeom prst="rect">
            <a:avLst/>
          </a:prstGeom>
          <a:ln w="0">
            <a:noFill/>
          </a:ln>
        </p:spPr>
      </p:pic>
      <p:pic>
        <p:nvPicPr>
          <p:cNvPr id="744" name="Национально региональный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аппликация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46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8" name="Picture 5" descr="DSC01433"/>
          <p:cNvPicPr/>
          <p:nvPr/>
        </p:nvPicPr>
        <p:blipFill>
          <a:blip r:embed="rId1"/>
          <a:srcRect l="17717" t="0" r="2215" b="0"/>
          <a:stretch/>
        </p:blipFill>
        <p:spPr>
          <a:xfrm>
            <a:off x="4648320" y="1844640"/>
            <a:ext cx="4495680" cy="4176720"/>
          </a:xfrm>
          <a:prstGeom prst="rect">
            <a:avLst/>
          </a:prstGeom>
          <a:ln w="0">
            <a:noFill/>
          </a:ln>
        </p:spPr>
      </p:pic>
      <p:pic>
        <p:nvPicPr>
          <p:cNvPr id="749" name="Национально региональный27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09:49Z</dcterms:created>
  <dc:creator>XP</dc:creator>
  <dc:description/>
  <dc:language>en-US</dc:language>
  <cp:lastModifiedBy>LEGION</cp:lastModifiedBy>
  <dcterms:modified xsi:type="dcterms:W3CDTF">2015-03-31T08:33:13Z</dcterms:modified>
  <cp:revision>120</cp:revision>
  <dc:subject/>
  <dc:title>Слайд 1</dc:title>
</cp:coreProperties>
</file>