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2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E041-BD5F-4727-8229-3C9A064898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ма 4. Соединения</a:t>
            </a:r>
            <a:br>
              <a:rPr sz="16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нятие 4/3</a:t>
            </a:r>
            <a:br>
              <a:rPr sz="16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кция № 13. Резьбовые соединения (РС)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A69E-28AD-4729-9BA1-5EA5B652D1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блица 13.1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лияние профильного угла резьбы 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/2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величину приведённых коэффициента и угла тр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6738-95CA-4217-9ED7-6CF00047AD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ПД винтовой п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едущем вращательном движ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8C04-25DD-4B01-B933-23FA5C4FFE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порение резьбовых соеди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топорение резьбового соединения </a:t>
            </a:r>
            <a:r>
              <a:rPr b="1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менение любого из приёмов борьбы с самоотвинчиванием резьбовых соединени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иды стопорен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резьбовых соединен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just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) создание повышенных усилий трения между витками резьб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инта и гайки (пружинные шайбы, гайки с контргайками, предварительно обжатые гайки, гайки с пластмассовой вставкой, свинчивание на краску или клей и т.п.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just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) жёсткая взаимная фиксация свинченных детале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руг относительно друга (шплинты и корончатые гайки, обвязка проволокой, отгибные шайбы с усиками, пружинные кольца с усом, кернение в резьбу, обварка в резьбу и т.п.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3) фиксация резьбовых деталей относительно скрепляемых детале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отгибные шайбы на корпус, закрепление головки болта в канавке корпуса или фланца, прихватка к корпусу или фланцу сваркой и т.п.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05C7-5753-460B-A74A-22C3617061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порение резьбовых соединений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ис. 13.11. Некоторые способы стопорения резьбовых соединений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овкой пружинной шайбы;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ужинная шайба в свободном состоянии;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ронная гайка со шплинтом;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гибная шайба с усом;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вязка болтов проволокой;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клёпывание выступающего конца болта;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ернение в резьбу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хватка сваркой в резьбу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2DBE-E981-48E9-A6D8-35F8022B11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чностной расчёт РС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значение прочностных характеристик стальных крепёжных резьбовых деталей стандартизовано и состоит из двух цифр, разделённых точкой (в некоторых документах точка не ставится): первая цифра представляет предел прочности материала </a:t>
            </a:r>
            <a:r>
              <a:rPr b="1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ыраженный в МПа и поделённый на 100; вторая цифра (стоящая после точки) равна отношению предела текучест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атериала к его пределу прочности умноженному на 10. В стандарте представлены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2 классов прочност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4.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4.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5.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5.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6.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6.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6.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8.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10.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12.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14.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 обозначения стандартного болта в спецификации к сборочному чертежу: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Болт М10-6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00.58.ГОСТ 7798-7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собых требованиях к материалу в обозначение вводится марка стали, например: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Болт М10-6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00.58-4Х13. ГОСТ 7798-7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необходима повышенная кислотостойкость бол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E3F9-DFA3-47D9-9A0C-7BD3398A5C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затяжке резьбового соединения и в процессе его последующей работы в деталях соединения действуют самы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нообразные напряж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Так, например, под действием осевой силы в болтовом соединении сечение тела болта нагружен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стягивающими напряжения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 переходной области между телом и головкой возникаю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сательные напряж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в витках резьбы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пряжения изгиб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мят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рез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дновременно. Таким образом,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очность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элементов резьбового соединения является основным критерием работоспособ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Часто наблюдае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ы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ела винта в области первых одного-двух витков резьбы, считая от опорного торца гайки. У соединений с мелкими резьбами возможен срез витков резьб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дартные болты, винты шпильки, гайки с крупными шагами спроектированы по условиям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внопроч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то есть таким образом, что разрушение по любому из видов напряжений может произойти приметно при одной и той же нагрузке на соединение. Это условие позволяе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варительный (проектный) расчёт соединения выполнять в упрощенном варианте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88E6-A286-45B5-9FCB-007F50C6DB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четные схемы и форму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ий диаметр резьбы резьбового стержня по заданному внешнему усилию выбирают по формул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570A-5686-4AD4-88E8-02978A9786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я таблицы стандартных резьб по данному внутреннему диаметру и выбранному шагу резьбы можно подобрать необходимый диаметр стержн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B5C7-2C5F-4787-83CC-7AF621A579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случае тело болта нагружается перерезывающей силой, и диаметр призонной части болта определяется из расчёта на срез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число плоскостей среза;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(0,2…0,3)</a:t>
            </a:r>
            <a:r>
              <a:rPr b="1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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допускаемые напряжения материала болта на срез. За диаметр резьбовой части болта принимают ближайший стандартный диаметр резьбы, меньший диаметра цилиндрической ча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6FB0-C263-4293-AF29-229348C35FC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сложными расчетными схемами резьбовых соединений являются статически неопределимые схемы. В таких схемах долю нагрузки, приходящейся на каждый болт (винт, шпильку), определить непосредственно из уравнений статики (уравнений равновесия) не представляется возможным. Расчёт таких резьбовых соединений выполняется с учётом дополнительных условий, наиболее часто таким дополнительным условием является условие совместности деформаций, учитывающее как деформацию резьбовых деталей соединения, так и деформацию соединяемых деталей. Наиболее часто встречающимися задачами такого рода можно считать задач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расчет группового соединения, воспринимающего моментную нагрузку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верка способности соединения воспринимать переменную нагрузк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роверка соединения на нераскрытие сты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проверка соединения на восприятие температурной нагруз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FB15-291E-4F30-B931-B8A1E96FDE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редел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езьбовые соединения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– это разборные соединения с применением резьбовых крепёжных деталей (винтов, болтов, шпилек, гаек) или резьбовых элементов, выполненных на самих  соединяемых детал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признаком резьбового соединения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личие резьб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отя бы на некоторых из деталей, входящих в соедин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езьбой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называют совокупность чередующихся выступов и впадин определённого профиля, расположенных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 винтовой лини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на поверхности тела вращения (обычно цилиндра или конуса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7FED-68EB-4C75-8CEA-1E8073CA71A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борке соединения (рис. 13.15 а) каждый из болтов нагружается усилием затяжки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Под действием этого усилия болт получает удлинение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Б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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стягиваемые детали сжимаются, получая укорочение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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датливость болта и стягиваемых деталей, соответственно. Податливость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пособность деформироваться, свойство противоположное жёсткости, в системе СИ его размерность м/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заполнения ресивера газом под давлением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но стремится оторвать крышку от цилиндра ресивера, дополнительно нагружая болты резьбового соединения и одновременно разгружая сжатые при затяжке болтов детали. Величина приходящейся на каждый болт нагрузки найдётся из со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9AA7-B376-4A8D-81B4-F930D22FD9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внутренний диаметр ресивера;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давление газа в ресивере;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число болтов, крепящих крышку ресивера. Под действием этого усилия болт получит дополнительное удлинение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так как сжимаемые детали и болт с гайкой находятся в непосредственном контакте, то на эту же величину возрастёт длина сжатых деталей, напряжения сжатия в которых за счёт этого уменьша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ю рабочей нагрузки, затраченную на удлинение болта, обозначим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читается «хи»), тогда на удлинение сжатых деталей будет затрачена    оставшаяся (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часть рабочей нагрузки. Условие совместности деформации в этом случае запишется ка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1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удлинение болта равное удлинению стягиваемых деталей;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датливость болта;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датливость соединяемых дета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равенства (13.16) получа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ая нагрузка на болт в этом случа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19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48B9-015F-4B7F-B4C2-E0BCB69464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ируя (13.18) и (13.19), видим, что чем выше податливость болта   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), тем меньшая доля рабочей нагрузки приходится непосредственно на бол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роектном приближённом расчёте принима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тальных и чугунных деталей, стягиваемых без прокладки,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=0,2…0,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аких же деталей, но при наличии между ними упругой прокладки, (поранит, картон, тонкая листовая резина и т.п.) </a:t>
            </a: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=0,4…0,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сть деформации стягиваемых деталей и болтов будет сохраться до тех пор, пока удлинение сжатых деталей, вызванное рабочей нагрузкой, не сравняется по величине с их укорочением, созданным при предварительной затяжке резьбы, то есть до момента, ког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ревышении рабочей нагрузкой значения, полученного в (13.20), крышка ресивера отойдёт от фланца корпуса (освободит прокладку) и между стягиваемым деталями появится зазор, то есть произойдё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скрытие сты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рушится плотность соедин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396D-091B-48E0-9B7B-980355FBC4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актических расчетах с целью обеспечения нераскрытия стыка принима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за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коэффициент запаса затяжки болтового соединения: при статической  нагрузке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за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= 1,25…2,0,  при  меняющейся  нагрузке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за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= 2,5…4,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ачестве расчётной нагрузки болта с учётом напряжений кручения, возникающих при затяжке соединения, приним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2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с учетом (13.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3.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28D9-2A76-44A6-9783-5B05B32D60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ис. 13.1. Образование винтовой линии (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 и треугольной резьбы (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метр несущего цилиндра (наружный диаметр резьбы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д винтовой ли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ол подъёма винтовой лин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E4E9-5158-4AAE-9271-9405009FC1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стоинст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зьбовых соедин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возможность создания больших осевых нагрузок при малых усилиях на инструмен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возможность фиксации в затянутом состоянии (самоторможение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удобство сборки и разборки с применением стандартных инструмен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простота конструкции и возможность точного изгото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наличие широкой номенклатуры стандартных крепёжных изделий (винты, болты гайк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 низкая стоимость крепёжных изделий благодаря массовости и высокой степени автоматизации произво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 малые габариты в сравнении с соединяемыми дета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достат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зьбовых соедин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высокая концентрация напряжений в дне резьбовой канав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значительные энергопотери в подвижных резьбовых соединениях (низкий КПД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большая неравномерность распределения нагрузки по виткам резьб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склонность к самоотвинчнванию при знакопеременных нагрузк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слабление соединения и быстрый износ резьбы при частых сборках и разбор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A090-6A11-4C38-8C99-0731BE1D6C6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лассификация резьб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ксплуатационном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значени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репёжная, крепёжно-уплотняющая, ходовая (для преобразования движения), специальная (например, ниппельная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форме поверх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есущей резьбу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цилиндрическая и коническ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форме профил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зьбы в поперечном сечении нарезки (рис. 13.2) 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реугольная, трапецеидальная, упорная, прямоугольная, кругл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расположени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аруж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внутрення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величине шаг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резки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ормальная (с крупным шагом нарезки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лкая (с уменьшенным шагом нарезки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 по направлению нарезки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ав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именяется чаще)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ев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 по числу заходов (по количеству параллельных гребешков движущихся вдоль одной и той же винтовой линии)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дно-, двух-, трёх-, и т.д., многозах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сходной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трической систем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трическ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юймов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48A3-2D26-4A1F-89F0-24EC826770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юймов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репёжна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зьб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 внешнему виду подобна метрической. Профиль дюймовой резьбы в диаметральном сечении имеет вид равнобедренного треугольника с углом при вершине </a:t>
            </a:r>
            <a:r>
              <a:rPr b="1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= 55</a:t>
            </a:r>
            <a:r>
              <a:rPr b="1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место шага для этой резьбы задаётс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исло витков (ниток) на один дюй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ины (1 дюйм = 25,4 м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87DA-5E0C-46CB-AC79-ECD6BC4C13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зьба метриче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геометрические параметр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етрическо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ьбы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оминальный диаметр резьбы (наружный диаметр болта или винта) обозначается буквой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цифрой, равной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в мм, например,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5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8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2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внутренний диаметр резьбы гай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нутренний диаметр резьбы вин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редний диаметр резьб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шаг резьбы – расстояние между соседними гребнями резьб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од резьбы – расстояние между соседними гребнями резьбы, принадлежащими одному гребню нарез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ол профиля резьб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ол подъёма резьб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нормальных (с крупными шагами) метрических резьб, имеющих диаметр в интервале 2…68 мм, внутренний диаметр можно вычислить по эмпирической формул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2D36-F289-424B-9145-1C82A64AE20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лы в Р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рость движения гайки вверх при вращении винта по часовой стрелке с угловой скоростью </a:t>
            </a:r>
            <a:r>
              <a:rPr b="1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i="1" lang="ru-RU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да тангенциальная сила на витках винта и осевая сила на витках гайки связаны соотношени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FEDF-FAE4-4619-AA8D-27F430F7C7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представленных соотношений видно, что с точки зрения удержания резьбового соединени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затянутом положении наиболее надёжной является метрическая резьб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с точки зрения уменьшения потерь энерг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подвижных винтовых кинематических парах наилучшей является прямоугольная резьб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см. табл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3357-C3A3-478D-8893-4EB2BCEC72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E93A-9FDE-4456-814B-A3E9A832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3065-F90D-42A8-9E33-907D0E11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2AAC-2660-4F43-84C2-AFD2F426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9DF1-47ED-42AA-8B06-E89CD1BF9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67C0-B2F1-466E-AD7D-2F3C78BCA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8006-DEEA-47D6-A550-E7306C7A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B6E6-34FC-4148-9855-9C455F16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7775-9741-4698-8DEE-C1BCE121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E0F5-B0EC-4444-A90F-936D6AB8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F95A-CFEC-4DB9-9542-59468BE3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79E8-8BDE-40DB-B4D5-1CBA9209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E9FC-156F-458E-9C41-77140CEF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0DB0-3461-4DC1-A21C-B4551E3F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2EAF-CE2E-44BC-A1BE-B056666A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8B62-3955-4385-966D-C453FDC9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E814-24E4-4502-B235-D02D26F2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1245-873C-4269-8F63-AD5301B3C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F803-7900-4665-A3C1-20400ED2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40F5-A103-4BC3-91C9-BC6A9E94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0EF9-25DB-4530-B234-FFD46879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69C9-861C-424A-822B-67820017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4CD2-6427-457B-B44A-AC8C3EE9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74B2-0023-4546-9468-4CA1E858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CBCB-8B28-4182-BB6C-8D319EFE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81F4-EB8D-48D4-B3E5-130138FE123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A1AB-6F3B-487A-BB47-ADA9136E75F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ема 4. Соедин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нятие 4/3</a:t>
            </a:r>
            <a:br>
              <a:rPr sz="32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Лекция № 13. Резьбовые соединения (РС)</a:t>
            </a:r>
            <a:br>
              <a:rPr sz="32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250920" y="2046240"/>
            <a:ext cx="8497800" cy="41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8160" anchor="ctr">
            <a:spAutoFit/>
          </a:bodyPr>
          <a:p>
            <a:pPr>
              <a:tabLst>
                <a:tab algn="l" pos="0"/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просы, изложенные в лекц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171360">
              <a:buClr>
                <a:srgbClr val="ffffff"/>
              </a:buClr>
              <a:buFont typeface="Tahoma"/>
              <a:buAutoNum type="arabicPeriod"/>
              <a:tabLst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ометрия и кинематика Р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171360">
              <a:buClr>
                <a:srgbClr val="ffffff"/>
              </a:buClr>
              <a:buFont typeface="Tahoma"/>
              <a:buAutoNum type="arabicPeriod"/>
              <a:tabLst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лы в РС, передача энергии, стопорение Р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171360">
              <a:buClr>
                <a:srgbClr val="ffffff"/>
              </a:buClr>
              <a:buFont typeface="Tahoma"/>
              <a:buAutoNum type="arabicPeriod"/>
              <a:tabLst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чностной расчёт Р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чебная литератур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171360">
              <a:buClr>
                <a:srgbClr val="ffffff"/>
              </a:buClr>
              <a:buFont typeface="Tahoma"/>
              <a:buAutoNum type="arabicPeriod"/>
              <a:tabLst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тали машин и подъемное оборудование. Под  рук.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.И. Мельников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М.: Воениздат, 1980. стр. 299-325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171360">
              <a:buClr>
                <a:srgbClr val="ffffff"/>
              </a:buClr>
              <a:buFont typeface="Tahoma"/>
              <a:buAutoNum type="arabicPeriod"/>
              <a:tabLst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.Г. Кукли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др. Детали машин: Учебник для техникумов / Н.Г. Куклин, Г.С. Куклина, В.К. житков.- 5-е изд., перераб. и допол.- М.: Илекса, 1999.- с. 48…7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171360">
              <a:buClr>
                <a:srgbClr val="ffffff"/>
              </a:buClr>
              <a:buFont typeface="Tahoma"/>
              <a:buAutoNum type="arabicPeriod"/>
              <a:tabLst>
                <a:tab algn="l" pos="34308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ловьев В.И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Детали машин (Курс лекций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часть). - Новосибирск: НВИ, 1997. стр. 30-78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89308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аблица 13.1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лияние профильного угла резьбы </a:t>
            </a:r>
            <a:r>
              <a:rPr b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/2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 величину приведённых коэффициента и угла тре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48" name="Object 4"/>
          <p:cNvGraphicFramePr/>
          <p:nvPr/>
        </p:nvGraphicFramePr>
        <p:xfrm>
          <a:off x="4648320" y="2616120"/>
          <a:ext cx="4194000" cy="14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616120"/>
                    <a:ext cx="4194000" cy="1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Object 134"/>
          <p:cNvGraphicFramePr/>
          <p:nvPr/>
        </p:nvGraphicFramePr>
        <p:xfrm>
          <a:off x="5114880" y="4957920"/>
          <a:ext cx="3260880" cy="109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1" name="Object 1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14880" y="4957920"/>
                    <a:ext cx="3260880" cy="1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250920" y="1341360"/>
          <a:ext cx="8713800" cy="5410440"/>
        </p:xfrm>
        <a:graphic>
          <a:graphicData uri="http://schemas.openxmlformats.org/drawingml/2006/table">
            <a:tbl>
              <a:tblPr/>
              <a:tblGrid>
                <a:gridCol w="1473120"/>
                <a:gridCol w="1984320"/>
                <a:gridCol w="1068480"/>
                <a:gridCol w="2093760"/>
                <a:gridCol w="2094120"/>
              </a:tblGrid>
              <a:tr h="366120">
                <a:tc gridSpan="2"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ьб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/2,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ад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едённые показа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3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носительный коэффициент трения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'/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едённый угол трения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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градус., при фактическом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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= 6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ямоуго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12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трическ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12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1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юймов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12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1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апецеида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12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2">
                  <a:txBody>
                    <a:bodyPr lIns="0" rIns="36000" tIns="36000" bIns="3600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орная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36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едняя гра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2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дняя гра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12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1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4040"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гл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126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R="12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КПД винтовой пар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49179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ведущем вращательном движе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4"/>
              <p:cNvSpPr txBox="1"/>
              <p:nvPr/>
            </p:nvSpPr>
            <p:spPr>
              <a:xfrm>
                <a:off x="5508720" y="1197000"/>
                <a:ext cx="30240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ψ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(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8" name="Text Box 6"/>
          <p:cNvSpPr/>
          <p:nvPr/>
        </p:nvSpPr>
        <p:spPr>
          <a:xfrm>
            <a:off x="250920" y="3357720"/>
            <a:ext cx="49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ведущем поступательном движе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7"/>
              <p:cNvSpPr txBox="1"/>
              <p:nvPr/>
            </p:nvSpPr>
            <p:spPr>
              <a:xfrm>
                <a:off x="5580000" y="2924280"/>
                <a:ext cx="295128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(</m:t>
                        </m:r>
                        <m:r>
                          <m:t xml:space="preserve">ψ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ψ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1" name="Text Box 9"/>
          <p:cNvSpPr/>
          <p:nvPr/>
        </p:nvSpPr>
        <p:spPr>
          <a:xfrm>
            <a:off x="324000" y="4581360"/>
            <a:ext cx="856908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ывод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Если угол подъема винтовой линии резьбы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≤ 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1" i="1" lang="en-US" sz="2000" spc="-1" strike="noStrike" baseline="30000">
                <a:solidFill>
                  <a:srgbClr val="ffffff"/>
                </a:solidFill>
                <a:latin typeface="Tahoma"/>
              </a:rPr>
              <a:t>’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приведенного угла трения,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преобразование поступательного движения во вращательное невозмож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топорение резьбовых соединени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0" y="836640"/>
            <a:ext cx="9144000" cy="59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Стопорение резьбового соединения </a:t>
            </a:r>
            <a:r>
              <a:rPr b="1" i="1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применение любого из приёмов борьбы с самоотвинчиванием резьбовых соединений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Виды стопорени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резьбовых соединений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179280" algn="just">
              <a:lnSpc>
                <a:spcPct val="10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1) создание повышенных усилий трения между витками резьбы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винта и гайки (пружинные шайбы, гайки с контргайками, предварительно обжатые гайки, гайки с пластмассовой вставкой, свинчивание на краску или клей и т.п.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179280" algn="just">
              <a:lnSpc>
                <a:spcPct val="100000"/>
              </a:lnSpc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2) жёсткая взаимная фиксация свинченных деталей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друг относительно друга (шплинты и корончатые гайки, обвязка проволокой, отгибные шайбы с усиками, пружинные кольца с усом, кернение в резьбу, обварка в резьбу и т.п.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3) фиксация резьбовых деталей относительно скрепляемых деталей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(отгибные шайбы на корпус, закрепление головки болта в канавке корпуса или фланца, прихватка к корпусу или фланцу сваркой и т.п.)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топорение резьбовых соединени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67" name="Picture 4" descr="СоедРез(стопор)"/>
          <p:cNvPicPr/>
          <p:nvPr/>
        </p:nvPicPr>
        <p:blipFill>
          <a:blip r:embed="rId1"/>
          <a:stretch/>
        </p:blipFill>
        <p:spPr>
          <a:xfrm>
            <a:off x="2340000" y="981000"/>
            <a:ext cx="4392720" cy="38894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6"/>
          <p:cNvSpPr/>
          <p:nvPr/>
        </p:nvSpPr>
        <p:spPr>
          <a:xfrm>
            <a:off x="324000" y="4941720"/>
            <a:ext cx="85690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11. Некоторые способы стопорения резьбовых соединений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становкой пружинной шайбы;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б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ужинная шайба в свободном состоянии;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ронная гайка со шплинтом;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г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тгибная шайба с усом;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д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бвязка болтов проволокой;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клёпывание выступающего конца болта;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ж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ернение в резьбу;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)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ихватка сваркой в резьбу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Прочностной расчёт РС.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бозначение прочностных характеристик стальных крепёжных резьбовых деталей стандартизовано и состоит из двух цифр, разделённых точкой (в некоторых документах точка не ставится): первая цифра представляет предел прочности материала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выраженный в МПа и поделённый на 100; вторая цифра (стоящая после точки) равна отношению предела текучести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материала к его пределу прочности умноженному на 10. В стандарте представлены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12 классов прочности: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3.6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4.6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4.8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5.6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5.8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6.6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6.8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6.9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8.8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10.9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12.9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 14.9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имер обозначения стандартного болта в спецификации к сборочному чертежу: 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Болт М10-6</a:t>
            </a:r>
            <a:r>
              <a:rPr b="1" i="1" lang="en-US" sz="22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1" i="1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100.58.ГОСТ 7798-70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ри особых требованиях к материалу в обозначение вводится марка стали, например: 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Болт М10-6</a:t>
            </a:r>
            <a:r>
              <a:rPr b="1" i="1" lang="en-US" sz="22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1" i="1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i="1" lang="ru-RU" sz="2200" spc="-1" strike="noStrike">
                <a:solidFill>
                  <a:srgbClr val="ffffff"/>
                </a:solidFill>
                <a:latin typeface="Tahoma"/>
              </a:rPr>
              <a:t>100.58-4Х13. ГОСТ 7798-70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(необходима повышенная кислотостойкость болта)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затяжке резьбового соединения и в процессе его последующей работы в деталях соединения действуют самые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знообразные напряжен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Так, например, под действием осевой силы в болтовом соединении сечение тела болта нагружено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стягивающими напряжениям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в переходной области между телом и головкой возникают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асательные напряжен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а в витках резьбы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пряжения изгиб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мят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рез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одновременно. Таким образом,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прочность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элементов резьбового соединения является основным критерием работоспособн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Часто наблюдается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ры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тела винта в области первых одного-двух витков резьбы, считая от опорного торца гайки. У соединений с мелкими резьбами возможен срез витков резьб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андартные болты, винты шпильки, гайки с крупными шагами спроектированы по условиям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внопрочн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то есть таким образом, что разрушение по любому из видов напряжений может произойти приметно при одной и той же нагрузке на соединение. Это условие позволяет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едварительный (проектный) расчёт соединения выполнять в упрощенном варианте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асчетные схемы и формул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76" name="Picture 4" descr="СоедРез(РазрывРасчет)"/>
          <p:cNvPicPr/>
          <p:nvPr/>
        </p:nvPicPr>
        <p:blipFill>
          <a:blip r:embed="rId1"/>
          <a:stretch/>
        </p:blipFill>
        <p:spPr>
          <a:xfrm>
            <a:off x="324000" y="1052640"/>
            <a:ext cx="3095640" cy="268596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6"/>
          <p:cNvSpPr/>
          <p:nvPr/>
        </p:nvSpPr>
        <p:spPr>
          <a:xfrm>
            <a:off x="179280" y="3933720"/>
            <a:ext cx="349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12. Болтовое соединение, нагруженное растягивающей силой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Text Box 7"/>
          <p:cNvSpPr/>
          <p:nvPr/>
        </p:nvSpPr>
        <p:spPr>
          <a:xfrm>
            <a:off x="3635280" y="1052640"/>
            <a:ext cx="511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нутрений диаметр резьбы резьбового стержня по заданному внешнему усилию выбирают по формуле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Object 8"/>
              <p:cNvSpPr txBox="1"/>
              <p:nvPr/>
            </p:nvSpPr>
            <p:spPr>
              <a:xfrm>
                <a:off x="5076720" y="2492280"/>
                <a:ext cx="2087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σ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81" name="Text Box 10"/>
          <p:cNvSpPr/>
          <p:nvPr/>
        </p:nvSpPr>
        <p:spPr>
          <a:xfrm>
            <a:off x="3635280" y="3789360"/>
            <a:ext cx="5329440" cy="28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усилие воспринимаемое резьбовым соединением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внутренний диаметр резьбовой части стержн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допускаемые напряжения для материала стержня при растяжени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4" descr="СоедРез(СдвигРасчет)"/>
          <p:cNvPicPr/>
          <p:nvPr/>
        </p:nvPicPr>
        <p:blipFill>
          <a:blip r:embed="rId1"/>
          <a:stretch/>
        </p:blipFill>
        <p:spPr>
          <a:xfrm>
            <a:off x="250920" y="260280"/>
            <a:ext cx="3457440" cy="300060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7"/>
          <p:cNvSpPr/>
          <p:nvPr/>
        </p:nvSpPr>
        <p:spPr>
          <a:xfrm>
            <a:off x="0" y="3429000"/>
            <a:ext cx="38163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13. Болтовое соединение, нагруженное поперечной сил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тали от взаимного смещения удерживаются силой трени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Text Box 8"/>
          <p:cNvSpPr/>
          <p:nvPr/>
        </p:nvSpPr>
        <p:spPr>
          <a:xfrm>
            <a:off x="4284720" y="260280"/>
            <a:ext cx="46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Text Box 9"/>
          <p:cNvSpPr/>
          <p:nvPr/>
        </p:nvSpPr>
        <p:spPr>
          <a:xfrm>
            <a:off x="4211640" y="189000"/>
            <a:ext cx="475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нутрений диаметр резьбы резьбового стержня по заданному внешнему усилию выбирают по формул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Rectangle 11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Object 10"/>
              <p:cNvSpPr txBox="1"/>
              <p:nvPr/>
            </p:nvSpPr>
            <p:spPr>
              <a:xfrm>
                <a:off x="5003640" y="1844640"/>
                <a:ext cx="309744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σ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89" name="Text Box 12"/>
          <p:cNvSpPr/>
          <p:nvPr/>
        </p:nvSpPr>
        <p:spPr>
          <a:xfrm>
            <a:off x="4356000" y="299736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Text Box 13"/>
          <p:cNvSpPr/>
          <p:nvPr/>
        </p:nvSpPr>
        <p:spPr>
          <a:xfrm>
            <a:off x="4140360" y="3357720"/>
            <a:ext cx="475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коэффициент трения для контактирующих поверхностей деталей, остальные величины определены выш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Text Box 14"/>
          <p:cNvSpPr/>
          <p:nvPr/>
        </p:nvSpPr>
        <p:spPr>
          <a:xfrm>
            <a:off x="0" y="50133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уя таблицы стандартных резьб по данному внутреннему диаметру и выбранному шагу резьбы можно подобрать необходимый диаметр стержня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Rectangle 16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15"/>
              <p:cNvSpPr txBox="1"/>
              <p:nvPr/>
            </p:nvSpPr>
            <p:spPr>
              <a:xfrm>
                <a:off x="2987640" y="6021360"/>
                <a:ext cx="2521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4" descr="СоедРез(СрезРасчет)"/>
          <p:cNvPicPr/>
          <p:nvPr/>
        </p:nvPicPr>
        <p:blipFill>
          <a:blip r:embed="rId1"/>
          <a:stretch/>
        </p:blipFill>
        <p:spPr>
          <a:xfrm>
            <a:off x="179280" y="189000"/>
            <a:ext cx="4032360" cy="283032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6"/>
          <p:cNvSpPr/>
          <p:nvPr/>
        </p:nvSpPr>
        <p:spPr>
          <a:xfrm>
            <a:off x="179280" y="2997360"/>
            <a:ext cx="403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14. Соединение деталей призонным болтом, нагруженное поперечной силой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Text Box 7"/>
          <p:cNvSpPr/>
          <p:nvPr/>
        </p:nvSpPr>
        <p:spPr>
          <a:xfrm>
            <a:off x="4067280" y="260280"/>
            <a:ext cx="50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Text Box 8"/>
          <p:cNvSpPr/>
          <p:nvPr/>
        </p:nvSpPr>
        <p:spPr>
          <a:xfrm>
            <a:off x="4246560" y="260280"/>
            <a:ext cx="489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этом случае тело болта нагружается перерезывающей силой, и диаметр призонной части болта определяется из расчёта на срез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9"/>
              <p:cNvSpPr txBox="1"/>
              <p:nvPr/>
            </p:nvSpPr>
            <p:spPr>
              <a:xfrm>
                <a:off x="5076720" y="1628640"/>
                <a:ext cx="244944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01" name="Text Box 11"/>
          <p:cNvSpPr/>
          <p:nvPr/>
        </p:nvSpPr>
        <p:spPr>
          <a:xfrm>
            <a:off x="4390920" y="3068640"/>
            <a:ext cx="4753080" cy="27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число плоскостей среза;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] 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(0,2…0,3)</a:t>
            </a: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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допускаемые напряжения материала болта на срез. За диаметр резьбовой части болта принимают ближайший стандартный диаметр резьбы, меньший диаметра цилиндрической ча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01680" y="189000"/>
            <a:ext cx="85406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лее сложными расчетными схемами резьбовых соединений являются статически неопределимые схемы. В таких схемах долю нагрузки, приходящейся на каждый болт (винт, шпильку), определить непосредственно из уравнений статики (уравнений равновесия) не представляется возможным. Расчёт таких резьбовых соединений выполняется с учётом дополнительных условий, наиболее часто таким дополнительным условием является условие совместности деформаций, учитывающее как деформацию резьбовых деталей соединения, так и деформацию соединяемых деталей. Наиболее часто встречающимися задачами такого рода можно считать задачи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расчет группового соединения, воспринимающего моментную нагрузку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проверка способности соединения воспринимать переменную нагрузку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проверка соединения на нераскрытие стык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 проверка соединения на восприятие температурной нагрузк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Определения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896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Резьбовые соединения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– это разборные соединения с применением резьбовых крепёжных деталей (винтов, болтов, шпилек, гаек) или резьбовых элементов, выполненных на самих  соединяемых деталя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новным признаком резьбового соединения является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личие резьб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хотя бы на некоторых из деталей, входящих в соединени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Резьбой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называют совокупность чередующихся выступов и впадин определённого профиля, расположенных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о винтовой линии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на поверхности тела вращения (обычно цилиндра или конуса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4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качестве примера рассмотрим расчет стыкового соединения крышки с корпусом ресивера (рис.13.15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6" name="Picture 5" descr="СоедРез(СтыкРасчет)"/>
          <p:cNvPicPr/>
          <p:nvPr/>
        </p:nvPicPr>
        <p:blipFill>
          <a:blip r:embed="rId1"/>
          <a:stretch/>
        </p:blipFill>
        <p:spPr>
          <a:xfrm>
            <a:off x="0" y="692280"/>
            <a:ext cx="3419640" cy="277812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6"/>
          <p:cNvSpPr/>
          <p:nvPr/>
        </p:nvSpPr>
        <p:spPr>
          <a:xfrm>
            <a:off x="0" y="3573360"/>
            <a:ext cx="34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ис. 13.15. Болтовое соединение корпуса и крышки ресивер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3419640" y="692280"/>
            <a:ext cx="57243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сборке соединения (рис. 13.15 а) каждый из болтов нагружается усилием затяжки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Под действием этого усилия болт получает удлинение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Б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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а стягиваемые детали сжимаются, получая укорочение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д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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где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одатливость болта и стягиваемых деталей, соответственно. Податливость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пособность деформироваться, свойство противоположное жёсткости, в системе СИ его размерность м/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Text Box 8"/>
          <p:cNvSpPr/>
          <p:nvPr/>
        </p:nvSpPr>
        <p:spPr>
          <a:xfrm>
            <a:off x="0" y="4437000"/>
            <a:ext cx="9144000" cy="23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ле заполнения ресивера газом под давлением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оно стремится оторвать крышку от цилиндра ресивера, дополнительно нагружая болты резьбового соединения и одновременно разгружая сжатые при затяжке болтов детали. Величина приходящейся на каждый болт нагрузки найдётся из соотнош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1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Rectangle 10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9"/>
              <p:cNvSpPr txBox="1"/>
              <p:nvPr/>
            </p:nvSpPr>
            <p:spPr>
              <a:xfrm>
                <a:off x="3635280" y="5973840"/>
                <a:ext cx="197028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г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4"/>
          <p:cNvSpPr/>
          <p:nvPr/>
        </p:nvSpPr>
        <p:spPr>
          <a:xfrm>
            <a:off x="0" y="0"/>
            <a:ext cx="9144000" cy="73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внутренний диаметр ресивера;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давление газа в ресивере;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число болтов, крепящих крышку ресивера. Под действием этого усилия болт получит дополнительное удлинение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а так как сжимаемые детали и болт с гайкой находятся в непосредственном контакте, то на эту же величину возрастёт длина сжатых деталей, напряжения сжатия в которых за счёт этого уменьшат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лю рабочей нагрузки, затраченную на удлинение болта, обозначим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читается «хи»), тогда на удлинение сжатых деталей будет затрачена    оставшаяся (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1-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) часть рабочей нагрузки. Условие совместности деформации в этом случае запишется ка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1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удлинение болта равное удлинению стягиваемых деталей;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податливость болта;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податливость соединяемых детал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 равенства (13.16) получа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18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ная нагрузка на болт в этом случа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19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5"/>
              <p:cNvSpPr txBox="1"/>
              <p:nvPr/>
            </p:nvSpPr>
            <p:spPr>
              <a:xfrm>
                <a:off x="1476360" y="3500280"/>
                <a:ext cx="563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l</m:t>
                    </m:r>
                    <m:r>
                      <m:t xml:space="preserve">=</m:t>
                    </m:r>
                    <m:r>
                      <m:t xml:space="preserve">χ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б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χ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д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7"/>
              <p:cNvSpPr txBox="1"/>
              <p:nvPr/>
            </p:nvSpPr>
            <p:spPr>
              <a:xfrm>
                <a:off x="2484360" y="5348160"/>
                <a:ext cx="28353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1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б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д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8" name="Rectangle 10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9"/>
              <p:cNvSpPr txBox="1"/>
              <p:nvPr/>
            </p:nvSpPr>
            <p:spPr>
              <a:xfrm>
                <a:off x="2843280" y="6262560"/>
                <a:ext cx="26416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χ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4"/>
          <p:cNvSpPr/>
          <p:nvPr/>
        </p:nvSpPr>
        <p:spPr>
          <a:xfrm>
            <a:off x="0" y="0"/>
            <a:ext cx="9144000" cy="60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ализируя (13.18) и (13.19), видим, что чем выше податливость болта   (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), тем меньшая доля рабочей нагрузки приходится непосредственно на бол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проектном приближённом расчёте принимаю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стальных и чугунных деталей, стягиваемых без прокладки,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=0,2…0,3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таких же деталей, но при наличии между ними упругой прокладки, (поранит, картон, тонкая листовая резина и т.п.) </a:t>
            </a:r>
            <a:r>
              <a:rPr b="1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=0,4…0,5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вместность деформации стягиваемых деталей и болтов будет сохраться до тех пор, пока удлинение сжатых деталей, вызванное рабочей нагрузкой, не сравняется по величине с их укорочением, созданным при предварительной затяжке резьбы, то есть до момента, ког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2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Object 5"/>
              <p:cNvSpPr txBox="1"/>
              <p:nvPr/>
            </p:nvSpPr>
            <p:spPr>
              <a:xfrm>
                <a:off x="19080" y="311040"/>
                <a:ext cx="22986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б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б</m:t>
                        </m:r>
                      </m:sub>
                    </m:sSub>
                    <m:r>
                      <m:t xml:space="preserve">/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б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4" name="Rectangle 8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Object 7"/>
              <p:cNvSpPr txBox="1"/>
              <p:nvPr/>
            </p:nvSpPr>
            <p:spPr>
              <a:xfrm>
                <a:off x="2843280" y="3933720"/>
                <a:ext cx="3206520" cy="14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δl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Δl</m:t>
                              </m:r>
                            </m:e>
                            <m:sub>
                              <m:r>
                                <m:t xml:space="preserve">д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χ</m:t>
                          </m:r>
                          <m:r>
                            <m:t xml:space="preserve">)</m:t>
                          </m:r>
                          <m:r>
                            <m:t xml:space="preserve">⋅</m:t>
                          </m:r>
                          <m:r>
                            <m:t xml:space="preserve">F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д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t xml:space="preserve">д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F</m:t>
                          </m:r>
                          <m:r>
                            <m:t xml:space="preserve">=</m:t>
                          </m:r>
                          <m:f>
                            <m:fPr>
                              <m:type m:val="lin"/>
                            </m:fPr>
                            <m:num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(</m:t>
                              </m:r>
                            </m:den>
                          </m:f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χ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526" name="Text Box 9"/>
          <p:cNvSpPr/>
          <p:nvPr/>
        </p:nvSpPr>
        <p:spPr>
          <a:xfrm>
            <a:off x="0" y="53006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превышении рабочей нагрузкой значения, полученного в (13.20), крышка ресивера отойдёт от фланца корпуса (освободит прокладку) и между стягиваемым деталями появится зазор, то есть произойдёт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скрытие стык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арушится плотность соедине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4"/>
          <p:cNvSpPr/>
          <p:nvPr/>
        </p:nvSpPr>
        <p:spPr>
          <a:xfrm>
            <a:off x="0" y="0"/>
            <a:ext cx="9144000" cy="52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2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практических расчетах с целью обеспечения нераскрытия стыка принимаю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2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за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коэффициент запаса затяжки болтового соединения: при статической  нагрузке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за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= 1,25…2,0,  при  меняющейся  нагрузке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i="1" lang="ru-RU" sz="2400" spc="-1" strike="noStrike" baseline="-25000">
                <a:solidFill>
                  <a:srgbClr val="ffffff"/>
                </a:solidFill>
                <a:latin typeface="Times New Roman"/>
              </a:rPr>
              <a:t>за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= 2,5…4,0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качестве расчётной нагрузки болта с учётом напряжений кручения, возникающих при затяжке соединения, принимает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13.2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с учетом (13.2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3.24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5"/>
              <p:cNvSpPr txBox="1"/>
              <p:nvPr/>
            </p:nvSpPr>
            <p:spPr>
              <a:xfrm>
                <a:off x="3059280" y="0"/>
                <a:ext cx="29368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χ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Object 7"/>
              <p:cNvSpPr txBox="1"/>
              <p:nvPr/>
            </p:nvSpPr>
            <p:spPr>
              <a:xfrm>
                <a:off x="2484360" y="1197000"/>
                <a:ext cx="38260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ат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χ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Object 9"/>
              <p:cNvSpPr txBox="1"/>
              <p:nvPr/>
            </p:nvSpPr>
            <p:spPr>
              <a:xfrm>
                <a:off x="2916360" y="3645000"/>
                <a:ext cx="33685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,3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χ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5" name="Rectangle 12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11"/>
              <p:cNvSpPr txBox="1"/>
              <p:nvPr/>
            </p:nvSpPr>
            <p:spPr>
              <a:xfrm>
                <a:off x="2050920" y="4581360"/>
                <a:ext cx="477216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,3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ат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χ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χ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3"/>
          <p:cNvSpPr/>
          <p:nvPr/>
        </p:nvSpPr>
        <p:spPr>
          <a:xfrm>
            <a:off x="0" y="6254640"/>
            <a:ext cx="91440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Arial"/>
                <a:ea typeface="Lucida Sans Unicode"/>
              </a:rPr>
              <a:t>Успехов в учебе!</a:t>
            </a:r>
            <a:r>
              <a:rPr b="0" lang="ru-RU" sz="3600" spc="-1" strike="noStrike">
                <a:solidFill>
                  <a:srgbClr val="ffffcc"/>
                </a:solidFill>
                <a:latin typeface="Arial"/>
                <a:ea typeface="Lucida Sans Unicode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СоедРез(ВлинРезьба)"/>
          <p:cNvPicPr/>
          <p:nvPr/>
        </p:nvPicPr>
        <p:blipFill>
          <a:blip r:embed="rId1"/>
          <a:stretch/>
        </p:blipFill>
        <p:spPr>
          <a:xfrm>
            <a:off x="755640" y="260280"/>
            <a:ext cx="7916760" cy="330048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7"/>
          <p:cNvSpPr/>
          <p:nvPr/>
        </p:nvSpPr>
        <p:spPr>
          <a:xfrm>
            <a:off x="826920" y="3788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1. Образование винтовой линии (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) и треугольной резьбы (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б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)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755640" y="4797360"/>
            <a:ext cx="7704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аметр несущего цилиндра (наружный диаметр резьбы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од винтовой лин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гол подъёма винтовой лин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Достоинства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резьбовых соединений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1) возможность создания больших осевых нагрузок при малых усилиях на инструменте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2) возможность фиксации в затянутом состоянии (самоторможение)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3) удобство сборки и разборки с применением стандартных инструментов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4) простота конструкции и возможность точного изготовления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5) наличие широкой номенклатуры стандартных крепёжных изделий (винты, болты гайки)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6) низкая стоимость крепёжных изделий благодаря массовости и высокой степени автоматизации производства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7) малые габариты в сравнении с соединяемыми деталями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Недостатки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резьбовых соединений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1) высокая концентрация напряжений в дне резьбовой канавки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2) значительные энергопотери в подвижных резьбовых соединениях (низкий КПД)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3) большая неравномерность распределения нагрузки по виткам резьбы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4) склонность к самоотвинчнванию при знакопеременных нагрузках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5) ослабление соединения и быстрый износ резьбы при частых сборках и разборках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5406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Классификация резьб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0" y="785520"/>
            <a:ext cx="914400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1)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эксплуатационному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назначению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крепёжная, крепёжно-уплотняющая, ходовая (для преобразования движения), специальная (например, ниппельная)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2)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 форме поверхности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, несущей резьбу –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цилиндрическая и коническа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3)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 форме профил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резьбы в поперечном сечении нарезки (рис. 13.2) </a:t>
            </a:r>
            <a:r>
              <a:rPr b="1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треугольная, трапецеидальная, упорная, прямоугольная, кругла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4)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 расположению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наружная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 внутрення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5)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 величине шага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нарезки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нормальная (с крупным шагом нарезки)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мелкая (с уменьшенным шагом нарезки)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6) по направлению нарезки </a:t>
            </a:r>
            <a:r>
              <a:rPr b="0" lang="ru-RU" sz="2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правая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(применяется чаще) и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лева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7) по числу заходов (по количеству параллельных гребешков движущихся вдоль одной и той же винтовой линии) –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одно-, двух-, трёх-, и т.д., многозаходна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502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8)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по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исходной </a:t>
            </a: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метрической системе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метрическая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дюймовая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4" descr="СоедРез(ВидыРезьб)"/>
          <p:cNvPicPr/>
          <p:nvPr/>
        </p:nvPicPr>
        <p:blipFill>
          <a:blip r:embed="rId1"/>
          <a:stretch/>
        </p:blipFill>
        <p:spPr>
          <a:xfrm>
            <a:off x="0" y="260280"/>
            <a:ext cx="4643280" cy="12938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СоедРез(РезьбаМетр)"/>
          <p:cNvPicPr/>
          <p:nvPr/>
        </p:nvPicPr>
        <p:blipFill>
          <a:blip r:embed="rId2"/>
          <a:stretch/>
        </p:blipFill>
        <p:spPr>
          <a:xfrm>
            <a:off x="4716360" y="189000"/>
            <a:ext cx="4427640" cy="217800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7"/>
          <p:cNvSpPr/>
          <p:nvPr/>
        </p:nvSpPr>
        <p:spPr>
          <a:xfrm>
            <a:off x="250920" y="1773360"/>
            <a:ext cx="439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2. различные профили резьб: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треугольный;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б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трапециедальный;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упорный;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рямоугольный;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д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круглы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Text Box 11"/>
          <p:cNvSpPr/>
          <p:nvPr/>
        </p:nvSpPr>
        <p:spPr>
          <a:xfrm>
            <a:off x="4716360" y="2421000"/>
            <a:ext cx="41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3. Профиль нарезк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етрической резьб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Text Box 12"/>
          <p:cNvSpPr/>
          <p:nvPr/>
        </p:nvSpPr>
        <p:spPr>
          <a:xfrm>
            <a:off x="4716360" y="3429000"/>
            <a:ext cx="4176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юймова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крепёжная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езьб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о внешнему виду подобна метрической. Профиль дюймовой резьбы в диаметральном сечении имеет вид равнобедренного треугольника с углом при вершине </a:t>
            </a: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= 55</a:t>
            </a: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Вместо шага для этой резьбы задаётся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исло витков (ниток) на один дюй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длины (1 дюйм = 25,4 мм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Picture 13" descr="СоедРез(РезьбаТрубТрап)"/>
          <p:cNvPicPr/>
          <p:nvPr/>
        </p:nvPicPr>
        <p:blipFill>
          <a:blip r:embed="rId3"/>
          <a:srcRect l="0" t="0" r="51629" b="0"/>
          <a:stretch/>
        </p:blipFill>
        <p:spPr>
          <a:xfrm>
            <a:off x="250920" y="3789360"/>
            <a:ext cx="4021200" cy="180036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16"/>
          <p:cNvSpPr/>
          <p:nvPr/>
        </p:nvSpPr>
        <p:spPr>
          <a:xfrm>
            <a:off x="250920" y="5805360"/>
            <a:ext cx="41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4. Профиль нарезк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рубной резьбы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45576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Резьба метрическая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5" name="Picture 4" descr="СоедРез(РезьбаМетр)"/>
          <p:cNvPicPr/>
          <p:nvPr/>
        </p:nvPicPr>
        <p:blipFill>
          <a:blip r:embed="rId1"/>
          <a:stretch/>
        </p:blipFill>
        <p:spPr>
          <a:xfrm>
            <a:off x="4716360" y="765000"/>
            <a:ext cx="4427640" cy="21798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7"/>
          <p:cNvSpPr/>
          <p:nvPr/>
        </p:nvSpPr>
        <p:spPr>
          <a:xfrm>
            <a:off x="0" y="981000"/>
            <a:ext cx="471636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сновные геометрические параметр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метрическо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зьбы 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оминальный диаметр резьбы (наружный диаметр болта или винта) обозначается буквой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цифрой, равной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 мм, например,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,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8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2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0" y="2852640"/>
            <a:ext cx="9144000" cy="34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– внутренний диаметр резьбы гайк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нутренний диаметр резьбы винт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i="1" lang="ru-RU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средний диаметр резьб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шаг резьбы – расстояние между соседними гребнями резьб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ход резьбы – расстояние между соседними гребнями резьбы, принадлежащими одному гребню нарезк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гол профиля резьб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гол подъёма резьбы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нормальных (с крупными шагами) метрических резьб, имеющих диаметр в интервале 2…68 мм, внутренний диаметр можно вычислить по эмпирической формул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Object 9"/>
              <p:cNvSpPr txBox="1"/>
              <p:nvPr/>
            </p:nvSpPr>
            <p:spPr>
              <a:xfrm>
                <a:off x="3276720" y="6093000"/>
                <a:ext cx="2519280" cy="61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7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28303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илы в РС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2" name="Picture 4" descr="СоедРез(силы)"/>
          <p:cNvPicPr/>
          <p:nvPr/>
        </p:nvPicPr>
        <p:blipFill>
          <a:blip r:embed="rId1"/>
          <a:stretch/>
        </p:blipFill>
        <p:spPr>
          <a:xfrm>
            <a:off x="0" y="1052640"/>
            <a:ext cx="5184720" cy="294804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7"/>
          <p:cNvSpPr/>
          <p:nvPr/>
        </p:nvSpPr>
        <p:spPr>
          <a:xfrm>
            <a:off x="684360" y="4076640"/>
            <a:ext cx="35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ис. 13.9. Силы в винтов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инематической пар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Text Box 8"/>
          <p:cNvSpPr/>
          <p:nvPr/>
        </p:nvSpPr>
        <p:spPr>
          <a:xfrm>
            <a:off x="5292720" y="260280"/>
            <a:ext cx="3851280" cy="19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корость движения гайки вверх при вращении винта по часовой стрелке с угловой скоростью </a:t>
            </a:r>
            <a:r>
              <a:rPr b="1" i="1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1" i="1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Rectangle 10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9"/>
              <p:cNvSpPr txBox="1"/>
              <p:nvPr/>
            </p:nvSpPr>
            <p:spPr>
              <a:xfrm>
                <a:off x="5423040" y="1557360"/>
                <a:ext cx="34812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Н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ψ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Text Box 11"/>
          <p:cNvSpPr/>
          <p:nvPr/>
        </p:nvSpPr>
        <p:spPr>
          <a:xfrm>
            <a:off x="5364000" y="220500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ла трения в витках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12"/>
              <p:cNvSpPr txBox="1"/>
              <p:nvPr/>
            </p:nvSpPr>
            <p:spPr>
              <a:xfrm>
                <a:off x="5788080" y="2708280"/>
                <a:ext cx="232092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0" name="Text Box 14"/>
          <p:cNvSpPr/>
          <p:nvPr/>
        </p:nvSpPr>
        <p:spPr>
          <a:xfrm>
            <a:off x="5435640" y="3645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- коэффициент трения в витках резьб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250920" y="479736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гда тангенциальная сила на витках винта и осевая сила на витках гайки связаны соотношением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Object 16"/>
              <p:cNvSpPr txBox="1"/>
              <p:nvPr/>
            </p:nvSpPr>
            <p:spPr>
              <a:xfrm>
                <a:off x="2765520" y="5445000"/>
                <a:ext cx="35416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r>
                      <m:t xml:space="preserve">ψ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4" name="Text Box 19"/>
          <p:cNvSpPr/>
          <p:nvPr/>
        </p:nvSpPr>
        <p:spPr>
          <a:xfrm>
            <a:off x="179280" y="6381720"/>
            <a:ext cx="878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Text Box 20"/>
          <p:cNvSpPr/>
          <p:nvPr/>
        </p:nvSpPr>
        <p:spPr>
          <a:xfrm>
            <a:off x="395280" y="630864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1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- угол трения в витках резьб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4" descr="СоедРез(силыПрямТреуг)"/>
          <p:cNvPicPr/>
          <p:nvPr/>
        </p:nvPicPr>
        <p:blipFill>
          <a:blip r:embed="rId1"/>
          <a:stretch/>
        </p:blipFill>
        <p:spPr>
          <a:xfrm>
            <a:off x="179280" y="189000"/>
            <a:ext cx="3324240" cy="344628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6"/>
          <p:cNvSpPr/>
          <p:nvPr/>
        </p:nvSpPr>
        <p:spPr>
          <a:xfrm>
            <a:off x="179280" y="3789360"/>
            <a:ext cx="309744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ис. 13.10. Силы на витках резьбы при </a:t>
            </a:r>
            <a:r>
              <a:rPr b="1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=0:</a:t>
            </a:r>
            <a:br>
              <a:rPr sz="20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а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ямоугольная резьба;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б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треугольная резьб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Text Box 7"/>
          <p:cNvSpPr/>
          <p:nvPr/>
        </p:nvSpPr>
        <p:spPr>
          <a:xfrm>
            <a:off x="3708360" y="18900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ведённый коэффициент трения для треугольной резьб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8"/>
              <p:cNvSpPr txBox="1"/>
              <p:nvPr/>
            </p:nvSpPr>
            <p:spPr>
              <a:xfrm>
                <a:off x="5076720" y="836640"/>
                <a:ext cx="251964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Text Box 10"/>
          <p:cNvSpPr/>
          <p:nvPr/>
        </p:nvSpPr>
        <p:spPr>
          <a:xfrm>
            <a:off x="3708360" y="2349360"/>
            <a:ext cx="49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 приведённый угол трен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11"/>
              <p:cNvSpPr txBox="1"/>
              <p:nvPr/>
            </p:nvSpPr>
            <p:spPr>
              <a:xfrm>
                <a:off x="5003640" y="2997360"/>
                <a:ext cx="27370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5" name="Text Box 13"/>
          <p:cNvSpPr/>
          <p:nvPr/>
        </p:nvSpPr>
        <p:spPr>
          <a:xfrm>
            <a:off x="3780000" y="3716280"/>
            <a:ext cx="5184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 представленных соотношений видно, что с точки зрения удержания резьбового соединения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 затянутом положении наиболее надёжной является метрическая резьб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а с точки зрения уменьшения потерь энергии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 подвижных винтовых кинематических парах наилучшей является прямоугольная резьб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см. табл)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8:09:10Z</dcterms:created>
  <dc:creator>Владлен В. Коробков</dc:creator>
  <dc:description/>
  <dc:language>en-US</dc:language>
  <cp:lastModifiedBy>LEGION</cp:lastModifiedBy>
  <dcterms:modified xsi:type="dcterms:W3CDTF">2015-03-31T08:34:58Z</dcterms:modified>
  <cp:revision>42</cp:revision>
  <dc:subject/>
  <dc:title>Тема 4. Соединения Занятие 4/3 Лекция № 13</dc:title>
</cp:coreProperties>
</file>