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7B531-F2B7-421C-A48A-99DC6038754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ТВОРЧЕСКИЙ ПРОЕКТ ПО ТЕХН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я о подготовке и оформлении пояснительной записки к проекту по технолог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одготовила Михайлова Светлана Анатольевн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учитель технологии МОУ «Пушкиногорская средняя    общеобразовательная школа имени А.С.Пушкин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5F422-1912-4BEE-BED8-5730A9936CD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лательно перечислить используемые в ходе выполнения проекта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оборудование и материал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Актуальност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обязательное требование к любой проектной работе. Обоснование ее включает оценку значимости проекта и предполагаемых результатов, раскрываются возможности их использования на практи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F1FB4-FD57-4F2F-9389-FE6CAE840AD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формулировк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оекта необходимо перейти к указанию конкретных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ые предстоит решать в соответствии с ней. Это обычно делается в форме перечисления (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зучить..., описать..., установить..., выявить..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т.п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B1263-051E-45F7-A9AF-071CA94BAED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сновная ча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ервой главе проекта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(начало исследования)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атривается предполагаемая методика и техника его выполнения, приводится краткий обзор литературы и других материалов по теме (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исторические сведения, современное состояние, анализ рынка, звездочка обдумывания и д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9A75B-C725-4F56-950B-591E7FA9C3B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ледующей главе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(поисковой)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разработать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банк идей и предложе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 решению проблемы, рассматриваемой в проекте. Важно дать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объективную оценку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каждому из предлагаемых вариант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ри этом можно воспользоваться рядом определенных критерие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0E578-6B06-46F8-B24F-EC671234A20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Технологическая часть проек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ей необходимо разработать последовательность выполнения объекта. Она может включать в себя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перечень этапов, технологическую карту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которой описывается алгоритм операций с указанием инструментов, материалов и способов обработ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BAA30-8B70-41E0-8B3C-40237687531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арианты оформления</a:t>
            </a:r>
            <a:br>
              <a:rPr sz="1200"/>
            </a:b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1-й вариан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60586-FF2C-4D4B-8821-5500DCC8979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-й вариан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A994F-4968-4FA9-B559-65D512A6A00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лее необходимо рассмотреть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экономическую и экологическую оценк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оекта. В экономической части представляется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полный расчет затрат на изготовление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ектируемого изделия. Здесь же представляются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проект рекламы и маркетинговое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исследование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ом экономического расчета должно быть обоснование экономичности проектируемого изделия и наличия рынка сбы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63AF0-69C0-4A5F-9135-9D69A63067A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ое внимание необходимо уделит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экологической оценке проект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снованию того, что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) изготовление и эксплуатация проектируемого изделия не повлекут за собой изменений в окружающей среде, нарушений в жизнедеятельности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CA96A-97C4-4E06-ACB4-1D4BFF3A175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) возможно с использованием отходов 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) дает возможность повторного использования деталей изделия по окончании срока служб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32F91-9D2A-42EF-BCCB-3C175B41356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Составляющие проек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        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роект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это самостоятельная творческая завершенная работа учащегося, выполненная под руководством учителя. Она состоит из двух частей: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теоретической и практическо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еоретической частью проекта является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ояснительная запис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а практической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конкретная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модель, изделие макет, видеофильм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д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7D4E2-567F-4462-8BBF-21AFD97EC43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глав основной части должно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точно соответствовать теме работы и полностью ее раскрыват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главы должны показать умение сжато, логично и аргументировано излагать материал. Не злоупотреблять перепечаткой или копированием информации из различных источников.  Обязательно делать выводы о том, как эта информация пригодилась проектанту в рабо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1F71B-F06B-488F-B2F8-E09749DD6FE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Заключение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ем последовательно излагаются полученные результаты, определяется их соотношение с общей целью и конкретными задачами, сформулированными во введении, дается самооценка учащимся проделанной им работы. В некоторых случаях возникает необходимость указать пути продолжения исследования темы, а также конкретные задачи, которые предстоит при этом реша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B251B-A115-4DB1-95D3-60FF64FBBE6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заключения принято помещать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библиографический список использованной литературы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включенный в него источник должен иметь отражение в пояснительной записке. Все заимствования должны обязательно иметь подстрочные ссылки, откуда взяты приведенные материалы. Не следует включать в библиографический список работы, которые фактически не были использов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C8D7E-3A0D-4FF2-8586-B7EF7AF6B2E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помогательные или дополнительные материалы, которые загромождают основную часть работы, помещают в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риложениях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 содержанию и форме приложения очень разнообразны. Они могут представлять собой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текст, таблицы, графики, карты, рисунки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CD92A-7B43-48B8-B0E1-27EB736817D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ое приложение должно начинаться с нового листа (страницы) с указанием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 правом верхнем углу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ва "Приложение" и иметь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тематический заголово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При наличии в работе более одного приложения они нумеруются арабскими цифрами (без знака №), например: "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риложение 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риложение 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 и т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375F5-BDC6-4AB8-BA7E-0C3F0CF51D5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Нумерац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траниц, на которых даются приложения, должна быть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сквозной и продолжать общую нумерацию основного текст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Связь его с приложениями осуществляется через ссылки, которые употребляются со словом "смотри" (см.), заключаемым вместе с шифром в круглые скоб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B9316-A070-4013-8653-71EC7686581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яснительная записка выполняется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рукописным, машинописным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ом или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с помощью компьютер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 одной стороне листа белой бумаги желательно формата А4 (210 х 297) через два-полтора межстрочных интервала с числом строк на странице не более 40. В каждой строке должно быть не более 60-65 знаков с учетом пробелов между словами. Минимальная высота шрифта 1,8 мм (12 кегель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99B80-23AD-482F-8AF2-81FC2DF5A48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ллюстр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проекте должны быть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ронумерованы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.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Нумерация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обычно бывает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сквоз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т.е. через всю работу. Если иллюстрация в проекте единственная, то она не нумеруется.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 тексте на иллюстрации делаются ссылки, содержащие их порядковые номера (рис. 1, рис. 2 и т.д.).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ую иллюстрацию необходимо снабдить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одрисуночной подпись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ая должна соответствовать ее содержанию и основному текс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B3760-0D2A-4E60-9BBB-0B2BD074A73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Использованная лите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.Н.Морозова, Н.Г.Кравченко, О.В.Павлова, Технология, 5-11 класс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ектная деятельность учащихс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лгоград, издательство «Учитель»,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42735-97BF-4CDB-AFC6-21A6EF2B4E0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Содержание пояснительной записк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1. Титульный лис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2. Оглавл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3. Вве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4. Главы основной ч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5. Заклю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6. Список использованной литера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7. Приложен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61D39-E690-4660-9D38-3B7E0D808FF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Титульный ли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вляется первой страницей пояснительной записки и  заполняется по определенным правил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верхнем поле указывается полное наименование учебного заведения. В среднем дается название проекта без слова "тема" и кавычек. Оно должно быть  по возможности кратким и точным — соответствовать основному содержанию проек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E5D0D-98FA-4AE1-BC38-6593F0EC13D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     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Если необходимо конкретизировать название  работы, то можно да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подзаголовок, который должен быть предельно кратким и не превращаться в новое заглав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алее указываются фамилия, имя, номер школы и класс проектанта (в именительном падеже). Затем фамилия и инициалы руководителя проек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нижнем поле указываются место и год выполнения работы (без слова "год"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CA1DE-FEB3-420D-A6F9-A1502F4F100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кст следует писать или печатать, соблюдая следующие размеры пол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евое — не менее 30 м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ое — не менее 10 м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ерхнее — не менее 15 м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ижнее — не менее 20 м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F3911-B0FD-4B31-99F8-E7DF73B0EDC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гл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нём приводятся все заголовки пояснительной записки и указываются страницы, на которых они находятся. Сокращать их или давать в другой формулировке, последовательности и соподчиненности нельз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се заголовки пишутся с прописной буквы и без точки в конце. Последнее слово каждого заголовка соединяют отточием с соответствующим ему номером страницы в правом столбце огл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4DC10-ACA6-4194-8AA9-37062F81974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ведение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ем обосновываетс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актуальность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ранной темы,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цел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содержание поставленных задач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улируются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планируемый результат и основные проблемы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атриваемые в проект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95962-A05A-4CEB-BE87-42B3C682DC4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азываются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межпредметные связи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ообщается,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ому предназначен проек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в чем состоит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его новизна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ведении также дается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характеристика основных источников получения информации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фициальных, научных, литературных, библиографических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F3ACF-47FE-4A60-AEDF-64B73898A3F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EDFC-D907-4099-97E8-0404738FC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D86F-1688-4E0B-8AAE-1A20CB6CD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A8B2-95F0-4742-A676-453A97F4C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8025-F221-40B8-9FF1-BA3D239F1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6C79-75FF-47A2-BC36-5EC2DC4F1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6278-8EE8-46CE-9BCC-CDA04F908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FE8B-3D9C-4985-823B-C2E71DF7C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F648-501A-492D-B47B-898F6B6B7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DE1B-A57F-478E-A2CE-414A5BFD0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7900-4A8B-47FA-BB64-26B50FE65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EC8B-8057-4B98-AECA-36017C23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2B85-7D0E-41CD-A63A-404BF51A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80B7F-BECE-421B-89F5-7D654D5CBB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формация о подготовке и оформлении пояснительной записки к проекту по технолог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дготовила Михайлова Светлана Анатольев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читель технологии МОУ «Пушкиногорская средняя    общеобразовательная школа имени А.С.Пушкин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31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ТВОРЧЕСКИЙ ПРОЕКТ ПО ТЕХНОЛОГ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елательно перечислить используемые в ходе выполнения проекта </a:t>
            </a: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оборудование и материалы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Актуальность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— обязательное требование к любой проектной работе. Обоснование ее включает оценку значимости проекта и предполагаемых результатов, раскрываются возможности их использования на практик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 формулировки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ел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роекта необходимо перейти к указанию конкретных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дач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которые предстоит решать в соответствии с ней. Это обычно делается в форме перечисления (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изучить..., описать..., установить..., выявить..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т.п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Основная ча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первой главе проекта 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(начало исследования)</a:t>
            </a: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ссматривается предполагаемая методика и техника его выполнения, приводится краткий обзор литературы и других материалов по теме (</a:t>
            </a: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исторические сведения, современное состояние, анализ рынка, звездочка обдумывания и др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ледующей главе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(поисковой)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обходимо разработать </a:t>
            </a: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банк идей и предложен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о решению проблемы, рассматриваемой в проекте. Важно дать </a:t>
            </a: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объективную оценку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каждому из предлагаемых вариант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при этом можно воспользоваться рядом определенных критерие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Технологическая часть проек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ней необходимо разработать последовательность выполнения объекта. Она может включать в себя </a:t>
            </a: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перечень этапов, технологическую карту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 которой описывается алгоритм операций с указанием инструментов, материалов и способов обработ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Варианты оформления</a:t>
            </a:r>
            <a:br>
              <a:rPr sz="40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-й вариан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228600" y="2438280"/>
          <a:ext cx="8915400" cy="3048120"/>
        </p:xfrm>
        <a:graphic>
          <a:graphicData uri="http://schemas.openxmlformats.org/drawingml/2006/table">
            <a:tbl>
              <a:tblPr/>
              <a:tblGrid>
                <a:gridCol w="820800"/>
                <a:gridCol w="2455920"/>
                <a:gridCol w="2590560"/>
                <a:gridCol w="3048120"/>
              </a:tblGrid>
              <a:tr h="3048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ис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ерац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фическ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ображ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рудование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ки, инструменты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способл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-й вариант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1600200"/>
          <a:ext cx="8229600" cy="2514600"/>
        </p:xfrm>
        <a:graphic>
          <a:graphicData uri="http://schemas.openxmlformats.org/drawingml/2006/table">
            <a:tbl>
              <a:tblPr/>
              <a:tblGrid>
                <a:gridCol w="471600"/>
                <a:gridCol w="1977840"/>
                <a:gridCol w="1139760"/>
                <a:gridCol w="2814840"/>
                <a:gridCol w="1825560"/>
              </a:tblGrid>
              <a:tr h="251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ерац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ски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ис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ерац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трументы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способл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лее необходимо рассмотреть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экономическую и экологическую оценк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роекта. В экономической части представляется </a:t>
            </a: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полный расчет затрат на изготовление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ектируемого изделия. Здесь же представляются </a:t>
            </a: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проект рекламы и маркетинговое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исследование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зультатом экономического расчета должно быть обоснование экономичности проектируемого изделия и наличия рынка сбы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4572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собое внимание необходимо уделить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экологической оценке проекта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основанию того, что: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) изготовление и эксплуатация проектируемого изделия не повлекут за собой изменений в окружающей среде, нарушений в жизнедеятельности челове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3352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) возможно с использованием отходов производств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) дает возможность повторного использования деталей изделия по окончании срока служб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оставляющие проек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        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Проект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— это самостоятельная творческая завершенная работа учащегося, выполненная под руководством учителя. Она состоит из двух частей: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теоретической и практическо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еоретической частью проекта является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пояснительная запис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а практической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конкретная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модель, изделие макет, видеофильм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др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82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держание глав основной части должн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точно соответствовать теме работы и полностью ее раскрывать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и главы должны показать умение сжато, логично и аргументировано излагать материал. Не злоупотреблять перепечаткой или копированием информации из различных источников.  Обязательно делать выводы о том, как эта информация пригодилась проектанту в рабо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Заключение</a:t>
            </a: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нем последовательно излагаются полученные результаты, определяется их соотношение с общей целью и конкретными задачами, сформулированными во введении, дается самооценка учащимся проделанной им работы. В некоторых случаях возникает необходимость указать пути продолжения исследования темы, а также конкретные задачи, которые предстоит при этом реша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е заключения принято помещать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библиографический список использованной литературы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ждый включенный в него источник должен иметь отражение в пояснительной записке. Все заимствования должны обязательно иметь подстрочные ссылки, откуда взяты приведенные материалы. Не следует включать в библиографический список работы, которые фактически не были использова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80880" y="45684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помогательные или дополнительные материалы, которые загромождают основную часть работы, помещают в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приложениях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о содержанию и форме приложения очень разнообразны. Они могут представлять собой </a:t>
            </a: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текст, таблицы, графики, карты, рисунки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8188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ждое приложение должно начинаться с нового листа (страницы) с указанием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в правом верхнем углу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ова "Приложение" и иметь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тематический заголово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При наличии в работе более одного приложения они нумеруются арабскими цифрами (без знака №), например: "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Приложение 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"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Приложение 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" и т.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Нумерац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траниц, на которых даются приложения, должна быть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сквозной и продолжать общую нумерацию основного текст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Связь его с приложениями осуществляется через ссылки, которые употребляются со словом "смотри" (см.), заключаемым вместе с шифром в круглые скоб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6840" y="609480"/>
            <a:ext cx="80773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яснительная записка выполняется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рукописным, машинописным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особом или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с помощью компьютер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а одной стороне листа белой бумаги желательно формата А4 (210 х 297) через два-полтора межстрочных интервала с числом строк на странице не более 40. В каждой строке должно быть не более 60-65 знаков с учетом пробелов между словами. Минимальная высота шрифта 1,8 мм (12 кегель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04560" y="533160"/>
            <a:ext cx="838188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иллюстраци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 проекте должны быть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пронумерованы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.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Нумерация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х обычно бывает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сквозно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т.е. через всю работу. Если иллюстрация в проекте единственная, то она не нумеруется.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В тексте на иллюстрации делаются ссылки, содержащие их порядковые номера (рис. 1, рис. 2 и т.д.).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ждую иллюстрацию необходимо снабдить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подрисуночной подписью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которая должна соответствовать ее содержанию и основному текс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Использованная ли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762120" y="2438280"/>
            <a:ext cx="76960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.Н.Морозова, Н.Г.Кравченко, О.В.Павлова, Технология, 5-11 класс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ектная деятельность учащих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лгоград, издательство «Учитель»,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одержание пояснительной запис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1. Титульный лис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2. Оглавл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3. Введ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4. Главы основной ча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5. Заключ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6. Список использованной литератур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7. Приложения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Титульный ли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763120" cy="52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является первой страницей пояснительной записки и  заполняется по определенным правил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верхнем поле указывается полное наименование учебного заведения. В среднем дается название проекта без слова "тема" и кавычек. Оно должно быть  по возможности кратким и точным — соответствовать основному содержанию проек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228600" y="60948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ли необходимо конкретизировать название  работы, то можно да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заголовок, который должен быть предельно кратким и не превращаться в новое заглав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алее указываются фамилия, имя, номер школы и класс проектанта (в именительном падеже). Затем фамилия и инициалы руководителя проек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нижнем поле указываются место и год выполнения работы (без слова "год"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82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екст следует писать или печатать, соблюдая следующие размеры поле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евое — не менее 30 м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авое — не менее 10 м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ерхнее — не менее 15 м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ижнее — не менее 20 м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Оглав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763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нём приводятся все заголовки пояснительной записки и указываются страницы, на которых они находятся. Сокращать их или давать в другой формулировке, последовательности и соподчиненности нельз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се заголовки пишутся с прописной буквы и без точки в конце. Последнее слово каждого заголовка соединяют отточием с соответствующим ему номером страницы в правом столбце оглав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Введение</a:t>
            </a: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нем обосновывается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актуальность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ыбранной темы,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цель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содержание поставленных задач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ормулируются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планируемый результат и основные проблемы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ссматриваемые в проекте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533520" y="609120"/>
            <a:ext cx="8229600" cy="582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казываются </a:t>
            </a: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межпредметные связи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сообщается,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кому предназначен проект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и в чем состоит </a:t>
            </a: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его новизна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 введении также дается </a:t>
            </a: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характеристика основных источников получения информации</a:t>
            </a: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официальных, научных, литературных, библиографических)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3-31T08:38:03Z</dcterms:modified>
  <cp:revision>5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