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3A90-FE83-40B0-9E15-56CFADD81C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ВОРЧЕСКИЙ ПРОЕКТ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 подготовке и оформлении пояснительной записки к проекту по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готовила Михайлова Светлана Анатолье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E712-058A-4030-A7E9-A6100E84DB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перечислить используемые в ходе выполнения проект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орудование и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BE58-84CC-46F9-A5E9-718F0331DE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формулировк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 необходимо перейти к указанию конкрет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зучить..., описать..., установить..., выявить..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7748-9AEB-4854-B39C-6CD946151B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й главе проект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начало исследования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F01E-9E89-43DF-960F-F060DEAAF6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ующей глав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поисковой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разработ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банк идей и предло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решению проблемы, рассматриваемой в проекте. Важно д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ъективную оценк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ждому из предлагаемых вариа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 этом можно воспользоваться рядом определенных крите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97D8-610A-4BC4-A52D-DA232E52C8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ехнологическая часть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еречень этапов, технологическую карт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EA77-D82A-4016-8334-12B7E4C789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арианты оформления</a:t>
            </a:r>
            <a:br>
              <a:rPr sz="12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-й вариан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D328-1083-4240-9498-DD52B20885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5D05-19FF-40C6-994A-A112DA5DE0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необходимо рассмотр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номическую и экологическую 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. В экономической части представля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ый расчет затрат на изготовл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уемого изделия. Здесь же представля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ект рекламы и маркетингово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след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C7F3-28DD-4DFD-AD04-D594E85AA2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необходимо удели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логической оценке проек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ю того, что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E5C6-62BF-4069-8C5C-DD74EB4FD7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возможно с использованием отход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A45B-3D34-4252-B90A-16D7F062C6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оставляющие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ект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оретической и практичес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й частью проекта явл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яснительная запис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актическ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нкретна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дель, изделие макет, видеофиль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4633-4024-48EA-9A65-7237755006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лав основной части должн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очно соответствовать теме работы и полностью ее раскры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79E0-289D-462F-8870-F73B5771E9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аключ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8951-DA60-4E1A-B0BC-C6C180E08B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заключения принято помеща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иблиографический список использованной литератур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8051-11E7-42C7-B5D1-002EDDD7A3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я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екст, таблицы, графики, карты, рисунк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57A4-A5FF-4F1A-856D-927810455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е приложение должно начинаться с нового листа (страницы) с указани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правом верхнем угл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"Приложение" и им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матический заголов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5FE7-09FE-49B0-8B8D-EFB575BAC2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раниц, на которых даются приложения, должна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 и продолжать общую нумерацию основного текс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60F8-EBD1-4BD6-A06F-443D9506B7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 выполн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укописным, машинописны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ом ил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помощью компьют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845E-5A04-4DE7-903C-0B13FFBC3B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ллюст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оекте должны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нумерован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бычно бывае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иллюстрацию необходимо снабди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дрисуночной подпис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должна соответствовать ее содержанию и основному тек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3D13-03F9-4917-AC71-E07D3B6F21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спользован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Морозова, Н.Г.Кравченко, О.В.Павлова, Технология, 5-11 класс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ная деятельность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гоград, издательство «Учитель»,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7325-3218-424F-A4AE-A92823320F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одержание пояснительной запис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Титуль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Огл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Главы основн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Список использованн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5A38-5BD3-40A4-9C95-238E6302D3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итуль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2EFD-11C0-40AB-93DB-7015CCB44F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Если необходимо конкретизировать название  работы, то можно 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ижнем поле указываются место и год выполнения работы (без слова "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2329-4C31-49D6-BDB1-D9439BA5EF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кст следует писать или печатать, соблюдая следующие размеры по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е — не менее 3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е — не менее 1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хнее — не менее 15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жнее — не менее 2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012B-FCD9-46F0-AB2C-39C675415D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2111-A21F-4A58-82B0-0995BBA2C7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вед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обосновывает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актуальность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нной темы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держание поставленных задач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уютс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ланируемый результат и основные проблем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мые в проек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2032-EFFA-427C-BFE7-05894A6561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ва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межпредметные связ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общаетс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у предназначен про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 чем состоит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го новизн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ведении также да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арактеристика основных источников получения информаци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фициальных, научных, литературных, библиографически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DB2A-6C33-4810-8B12-9B6FD06D0D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0E2-6CF2-4E44-8B25-0EB6734F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4C0-5D5B-4AD1-B18B-3B962186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899-E286-4CD0-B55E-566EB32E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77D-D4CE-48EA-BCBB-A1C688BA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58C-FC0F-40A8-AE50-65C5CEFB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526-ABDF-4E1F-A37D-F599B544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A90-BDFC-4C35-97B4-48C72AAC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7FD-FFD1-4E26-B024-29B8E043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337-7B27-425F-8558-82C53B37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85CF-7CD7-42DB-BAA8-05A6F534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C46-57AD-471B-8C50-0A45E882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EE9-5426-4F9B-A1C1-0A1BE7B9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9947-FB05-453A-B3CB-3F6DD8E53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о подготовке и оформлении пояснительной записки к проекту по техноло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Михайлова Светлана Анатол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ВОРЧЕСКИЙ ПРОЕКТ ПО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тельно перечислить используемые в ходе выполнения проекта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орудование и материа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ктуаль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формулиров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 необходимо перейти к указанию конкрет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зучить..., описать..., установить..., выявить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т.п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снов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ервой главе проекта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(начало исследования)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едующей глав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поисковой)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разработ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банк идей и предлож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решению проблемы, рассматриваемой в проекте. Важно д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ъективную оценк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аждому из предлагаемых вариа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этом можно воспользоваться рядом определенных критери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ехнологическая част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еречень этапов, технологическую карт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арианты оформления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-й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2438280"/>
          <a:ext cx="8915400" cy="3048120"/>
        </p:xfrm>
        <a:graphic>
          <a:graphicData uri="http://schemas.openxmlformats.org/drawingml/2006/table">
            <a:tbl>
              <a:tblPr/>
              <a:tblGrid>
                <a:gridCol w="820800"/>
                <a:gridCol w="2455920"/>
                <a:gridCol w="2590560"/>
                <a:gridCol w="304812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ки, 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-й вариан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2514600"/>
        </p:xfrm>
        <a:graphic>
          <a:graphicData uri="http://schemas.openxmlformats.org/drawingml/2006/table">
            <a:tbl>
              <a:tblPr/>
              <a:tblGrid>
                <a:gridCol w="471600"/>
                <a:gridCol w="1977840"/>
                <a:gridCol w="1139760"/>
                <a:gridCol w="2814840"/>
                <a:gridCol w="182556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к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ее необходимо рассмотр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кономическую и экологическую оце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. В экономической части представляе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олный расчет затрат на изготовлени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уемого изделия. Здесь же представляю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роект рекламы и маркетингово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сследов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ое внимание необходимо уделит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экологической оценке проект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снованию того, что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возможно с использованием отходов произво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ставляющие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оретической и практическ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оретической частью проекта явл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практической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онкретна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дель, изделие макет, видеофиль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лав основной части долж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чно соответствовать теме работы и полностью ее раскрыва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заключения принято помеща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иблиографический список использованной литератур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я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текст, таблицы, графики, карты, рисунки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приложение должно начинаться с нового листа (страницы) с указани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правом верхнем угл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 "Приложение" и им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матический заголов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аниц, на которых даются приложения, должна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 и продолжать общую нумерацию основного тек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 выполн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укописным, машинописны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ом ил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 помощью компью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81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ллюст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екте должны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нумерован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обычно бывае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ую иллюстрацию необходимо снабди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рисуночной подпис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ая должна соответствовать ее содержанию и основному тек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2120" y="24382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Морозова, Н.Г.Кравченко, О.В.Павлова, Технология, 5-11 клас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ая деятельность учащих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гоград, издательство «Учитель»,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держание пояснительной запи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. Титульный ли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. Огл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. В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. Главы основной ч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5. Заклю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6. Список использованной литерат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7. Приложе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итуль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необходимо конкретизировать название  работы, то можно д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ижнем поле указываются место и год выполнения работы (без слова "год"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кст следует писать или печатать, соблюдая следующие размеры по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вое — не менее 3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е — не менее 1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хнее — не менее 15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жнее — не менее 2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гл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вед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ем обосновывает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актуальность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бранной темы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цел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одержание поставленных задач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ируютс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ланируемый результат и основные проблем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мые в проек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азываю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межпредметные связ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ообщается,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му предназначен проек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в чем состоит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его новизн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ведении также дае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характеристика основных источников получения информации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фициальных, научных, литературных, библиографических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8:03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