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9D7B-1B97-4626-BC26-FAE900C285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ах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Михайлова С.А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9423-A8DF-4420-AC03-33330817793B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швейной маши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983A-D59D-480D-B1AD-47E7F2C0A3C4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брать волосы под косы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работой убрать с платформы машины посторонние предметы, закрепить иглу и лап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жде чем стачивать изделие, проверить, не осталась ли в нем булавка или игол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6C87-2C16-4789-A215-D238C7A4398C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ремя работы не наклоняться близко к движущемуся стержню иг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9E0E-8C50-40B4-AC10-0E583700011C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ить к ученицам, работающим на машинах, не отвлекать их от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ручной машине ручку махового колеса крутит только сам работа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8477-93EB-4AF6-A228-AD6BAF4899C2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бинете трудов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ходить в кабинет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началом работы одеть спецодеж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64C0-D615-4843-861B-56E87114CBCE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ть работу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льзя отвлекать работающих однокласс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5350-0B03-429D-A52C-D613868AB6C5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олучении травмы учащийся должен немедленно обратиться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16F2-9CA9-4739-9DC2-54F09481171A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работе с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AEFA-BDA9-4F3E-80E3-5DDD648C5CB6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ейте только с наперст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кройки к ткани прикрепляйте острыми концами            булавок в направлении от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аклоняйтесь близко к движущимся частям швейной ма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C191-8448-4306-9060-65BB95D05B1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ите пальцы рук около лапки швейной машины во избежание прокола их иг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ткусывайте нитки зубами, а отрезайте их ножни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2E5F-DD6C-4C7E-BA93-B2B00E07EFB0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с электрическим утю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ставляйте включенный утюг в сеть без присмо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йте и выключайте утюг сухими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вьте утюг на термоизоляционную подста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D72D-B24F-49B7-95E9-D748FBBECC3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нормальной работой утюга, о всех неисправностях сообщайте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тем, чтобы подошва утюга не касалась шн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лючайте утюг только за ви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5F3C-9251-48D4-8705-A95A05688EE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DDE-1615-4BDC-929E-929D27C4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FF3-B3E0-4742-82FC-A52C2B98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D5D-412C-4BA6-8909-22ED5C02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8FA-7411-41B7-993D-A721107C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2CA9-A42E-4F97-850E-9B962710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65A6-A012-45A4-AB7B-BF1BB8AC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4A40-2DFB-4BCB-B4B3-CA540EAD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4773-CF27-45AB-A35E-D6C191D4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2E14-1909-4B7E-AC8E-0DBA7CE9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472A-60D9-43A8-A6BA-DDCC6DF5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F541-C7CB-4023-90BD-8C9A237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9D8-CAD7-4704-855B-BB16206E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CAB5-084E-4CC8-8B1D-EA6D4A8C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74E8-3E44-4061-8942-3E7C8036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4036-DEF3-4776-BDFB-75CFE8D1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764F-A4A3-4745-9939-36780FCF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892E-3BDC-4245-B4FF-0FA23848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EC6-C0E4-4E7E-BC0C-B31C22AB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6F8-28E8-4B0F-8C09-FFEA6C91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A75-692A-4EDB-B8DD-33B50B2D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0EB-13BF-43C3-86BA-6C11F95A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536-BDE1-4D81-A0B9-5D6231A5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356-1F00-495F-B316-C40ED9F0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EBE-A7B2-4987-B785-58377FEA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04A9-4EFE-4088-B9D7-7655CEA38E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83A9-060D-4E52-A743-30512D125FEA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23796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Техника безопасности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а уроках технолог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Автор: Михайлова С.А.,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2" name="Picture 21" descr="j0232859[1]"/>
          <p:cNvPicPr/>
          <p:nvPr/>
        </p:nvPicPr>
        <p:blipFill>
          <a:blip r:embed="rId1"/>
          <a:stretch/>
        </p:blipFill>
        <p:spPr>
          <a:xfrm rot="2652000">
            <a:off x="1042560" y="76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9" descr="j0250979[1]"/>
          <p:cNvPicPr/>
          <p:nvPr/>
        </p:nvPicPr>
        <p:blipFill>
          <a:blip r:embed="rId2"/>
          <a:stretch/>
        </p:blipFill>
        <p:spPr>
          <a:xfrm>
            <a:off x="2556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4211280" y="692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4" descr="j0283462[1]"/>
          <p:cNvPicPr/>
          <p:nvPr/>
        </p:nvPicPr>
        <p:blipFill>
          <a:blip r:embed="rId4"/>
          <a:stretch/>
        </p:blipFill>
        <p:spPr>
          <a:xfrm>
            <a:off x="766764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j0234096[1]"/>
          <p:cNvPicPr/>
          <p:nvPr/>
        </p:nvPicPr>
        <p:blipFill>
          <a:blip r:embed="rId5"/>
          <a:stretch/>
        </p:blipFill>
        <p:spPr>
          <a:xfrm>
            <a:off x="6084720" y="692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0920" y="330120"/>
            <a:ext cx="8342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и работе на швейной машине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6" name="Picture 4" descr="MCj04359910000[1]"/>
          <p:cNvPicPr/>
          <p:nvPr/>
        </p:nvPicPr>
        <p:blipFill>
          <a:blip r:embed="rId1"/>
          <a:stretch/>
        </p:blipFill>
        <p:spPr>
          <a:xfrm>
            <a:off x="2571840" y="2286000"/>
            <a:ext cx="4062240" cy="3495600"/>
          </a:xfrm>
          <a:prstGeom prst="rect">
            <a:avLst/>
          </a:prstGeom>
          <a:ln w="38160">
            <a:solidFill>
              <a:srgbClr val="8383a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Убрать волосы под косын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работой убрать с платформы машины посторонние предметы, закрепить иглу и лап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ежде чем стачивать изделие, проверить, не осталась ли в нем булавка или игол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о время работы не наклоняться близко к движущемуся стержню игл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4" descr="MCj02813010000[1]"/>
          <p:cNvPicPr/>
          <p:nvPr/>
        </p:nvPicPr>
        <p:blipFill>
          <a:blip r:embed="rId3"/>
          <a:stretch/>
        </p:blipFill>
        <p:spPr>
          <a:xfrm>
            <a:off x="6443640" y="4437000"/>
            <a:ext cx="2104920" cy="163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MCj02904170000[1]"/>
          <p:cNvPicPr/>
          <p:nvPr/>
        </p:nvPicPr>
        <p:blipFill>
          <a:blip r:embed="rId4"/>
          <a:stretch/>
        </p:blipFill>
        <p:spPr>
          <a:xfrm>
            <a:off x="1476360" y="4365720"/>
            <a:ext cx="1528920" cy="16351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подходить к ученицам, работающим на машинах, не отвлекать их от раб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работе на ручной машине ручку махового колеса крутит только сам работающ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Picture 4" descr="logotip"/>
          <p:cNvPicPr/>
          <p:nvPr/>
        </p:nvPicPr>
        <p:blipFill>
          <a:blip r:embed="rId3"/>
          <a:stretch/>
        </p:blipFill>
        <p:spPr>
          <a:xfrm>
            <a:off x="3857760" y="4071960"/>
            <a:ext cx="2384280" cy="19922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0120"/>
            <a:ext cx="8485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кабинете трудового обучения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ходить в кабинет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началом работы одеть спецодежд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ачинать работу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льзя отвлекать работающих однокласснико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получении травмы учащийся должен немедленно обратиться к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4" name="Рисунок 4" descr="aptechka.jpg"/>
          <p:cNvPicPr/>
          <p:nvPr/>
        </p:nvPicPr>
        <p:blipFill>
          <a:blip r:embed="rId2"/>
          <a:stretch/>
        </p:blipFill>
        <p:spPr>
          <a:xfrm>
            <a:off x="3143160" y="3000240"/>
            <a:ext cx="261936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6760" y="330120"/>
            <a:ext cx="859644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тканью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6678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8" name="Рисунок 6" descr="01484f093584.jpg"/>
          <p:cNvPicPr/>
          <p:nvPr/>
        </p:nvPicPr>
        <p:blipFill>
          <a:blip r:embed="rId3"/>
          <a:stretch/>
        </p:blipFill>
        <p:spPr>
          <a:xfrm>
            <a:off x="357120" y="4572000"/>
            <a:ext cx="2071800" cy="18702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571320"/>
            <a:ext cx="77724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Шейте только с наперстко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кройки к ткани прикрепляйте острыми концами            булавок в направлении от себ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наклоняйтесь близко к движущимся частям швейной машин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Рисунок 6" descr="3531898.jpg"/>
          <p:cNvPicPr/>
          <p:nvPr/>
        </p:nvPicPr>
        <p:blipFill>
          <a:blip r:embed="rId4"/>
          <a:stretch/>
        </p:blipFill>
        <p:spPr>
          <a:xfrm>
            <a:off x="3643200" y="464328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7" descr="48827632_1.jpg"/>
          <p:cNvPicPr/>
          <p:nvPr/>
        </p:nvPicPr>
        <p:blipFill>
          <a:blip r:embed="rId5"/>
          <a:stretch/>
        </p:blipFill>
        <p:spPr>
          <a:xfrm>
            <a:off x="1143000" y="4467240"/>
            <a:ext cx="18813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imgB.jpg"/>
          <p:cNvPicPr/>
          <p:nvPr/>
        </p:nvPicPr>
        <p:blipFill>
          <a:blip r:embed="rId6"/>
          <a:stretch/>
        </p:blipFill>
        <p:spPr>
          <a:xfrm>
            <a:off x="6858000" y="4429080"/>
            <a:ext cx="1714680" cy="198936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держите пальцы рук около лапки швейной машины во избежание прокола их игл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откусывайте нитки зубами, а отрезайте их ножницам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6" name="Рисунок 5" descr="T04534-DUR1771.jpg"/>
          <p:cNvPicPr/>
          <p:nvPr/>
        </p:nvPicPr>
        <p:blipFill>
          <a:blip r:embed="rId4"/>
          <a:stretch/>
        </p:blipFill>
        <p:spPr>
          <a:xfrm>
            <a:off x="6143760" y="435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q4.jpg"/>
          <p:cNvPicPr/>
          <p:nvPr/>
        </p:nvPicPr>
        <p:blipFill>
          <a:blip r:embed="rId5"/>
          <a:stretch/>
        </p:blipFill>
        <p:spPr>
          <a:xfrm>
            <a:off x="857160" y="4286160"/>
            <a:ext cx="2192400" cy="227988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8558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электрическим утюгом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оставляйте включенный утюг в сеть без присмот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ключайте и выключайте утюг сухими рук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тавьте утюг на термоизоляционную подстав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1" name="Рисунок 5" descr="PHILIPS%20GC-3109_enl.jpg"/>
          <p:cNvPicPr/>
          <p:nvPr/>
        </p:nvPicPr>
        <p:blipFill>
          <a:blip r:embed="rId4"/>
          <a:stretch/>
        </p:blipFill>
        <p:spPr>
          <a:xfrm>
            <a:off x="5857920" y="4429080"/>
            <a:ext cx="2523960" cy="205092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нормальной работой утюга, о всех неисправностях сообщайте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тем, чтобы подошва утюга не касалась шну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Отключайте утюг только за вил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LEGION</cp:lastModifiedBy>
  <dcterms:modified xsi:type="dcterms:W3CDTF">2015-03-31T08:39:45Z</dcterms:modified>
  <cp:revision>9</cp:revision>
  <dc:subject/>
  <dc:title>Техника безопасности на уроках технологии</dc:title>
</cp:coreProperties>
</file>