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B78E-7A33-4F02-B8BD-CAD3E21BC7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0AA1-3022-4C52-8AB3-7E6B0AAA8CE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7C95-5207-4C6A-80FF-D05ADE1AB1F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8BD4-8151-4629-8DAD-AD4E823DC9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A036-D3B5-45F1-8086-50ACB5A2BE8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различн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7D50-ED5F-474B-B72A-6F54CFF0B4D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инструменты управ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хнологические инстр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меньшение количества упаков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содержания вредных веществ в конечном продук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ну вредных/ опасных веществ и материалов в продукте на менее опас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длинение срока жизни продук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менение дизайна продукта на более эколог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использование экологически чистых материалов; со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ов с максимальными возможностями повто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пользования и вторичной переработки и т.п.)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втор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94C1-45F3-4046-AFE0-6226FAA0BD8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по утилизации 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28E5-2A17-44E5-B823-00AE7115B54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ИАЛЬНЫЕ ПОДХОД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ЕРЕРАБОТКЕ ОТХО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четыре возможности по переработке от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ахоронение на полиго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жигание, реже пиролиз и прочие высокотемператур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мпост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ртировка с целью вторичного использования, утилизации и рецик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данных видов обладает своими достоинствами и недоста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1207-A18F-4C43-BB54-E668BB9A4FE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F0C-8AF1-41BC-AC2C-4D0DEB3AC1F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имуществам компостирования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объема отходов, отправляемых на полиг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небольшие капиталов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имость с рециклизацией и системами производства топлива из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6493-DADF-4E88-B304-1AE1E0D018C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B08B-2698-4B49-BCE1-C5AA4F90B5E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D226-7226-421D-8F0B-6B5DBDD3AAC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ДНЫЙ АНАЛИЗ ОСНОВНЫХ ТЕХНОЛОГИЧЕСКИХ РЕШЕНИЙ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3715-9D7D-4184-AC13-3DA58FA4116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5A48-2629-4638-9D94-C6715117DAA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A456-4388-47C3-BD04-D987371EED4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85FE-86DA-4672-B0EF-38A2D5AADDF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Объектами государственной регистрации в ГРТИО являются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может быть добровольной или обяз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C308-FF23-4C38-8001-A365A167DB8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0D5E-0CD2-4469-BE32-05F4CA57897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E3E-0447-4B26-9707-19A732CB9FC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BA7A-9443-459B-BBC1-69372258679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F05F-1F8F-4DC3-8825-833FA0B4AB7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8FBD-ADBB-4B00-8E74-2BEEE828E45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4DB6-3FBF-425C-A213-08153E6789D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2EBA-9CF7-4766-9D36-878080591AE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. Размещение отходов — хранение или захоронение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5D58-6807-47E4-82AA-DF47B3DDD33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2E85-6885-43DA-A191-3F9CD511E96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СИСТЕМЫ УПРА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FB75-64D1-4FBA-B286-FF3820C5FAE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DE7F-686F-4457-B20A-F00896A91F9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7E9-411B-4F3A-880E-C81BF98F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CC2-D804-46FF-A9A4-7084EA29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E45-1D08-484F-B1E9-C2AA119A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BB4-C760-4213-A098-20C61754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7E1D-D9B4-46DE-B1CD-8B9AF756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C320-365A-496F-B79F-90182A0D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4C01-FEE7-4A15-895E-4A9B20B8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B9B2-460B-49CB-8019-26B25D5E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FC8F-887A-46C6-9EC1-BB02712A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D64C-7E77-4D4F-81F9-06D0F84B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30F1-830A-45EC-9CAF-42FB6083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549-6712-47B6-B10A-AEFDEE46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FEF1-A148-4F41-BCDC-EC7A7039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691C-EFBE-4166-84DC-B23DD4E5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2BD2-FBEB-405B-974A-5E5D94F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1459-51BB-4B42-B05D-7492E298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1A2E-83CB-47B6-B19E-A878EA7C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25E-587D-4A6C-8FF4-2DBDB387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C8E-E84E-4651-9B62-59926366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7E6-13CC-440D-A7B7-321CBFCB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B56-D414-4DDA-8EE0-7F9A132B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C84-A257-4008-8D5E-FCFEE7CB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378-5141-4218-B975-17F493D2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5EF-F073-47E1-8179-6363D3D0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6EBC-FF8F-4A2A-B9F7-7A42D52A4A7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C810-D992-4B61-A612-BD22DDE752F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0" y="3284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убрицкий Вадим Славомирович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в сектором нормирования и обращения с отходам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УП «Бел НИЦ «Эколог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96040" y="5660640"/>
            <a:ext cx="30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л/факс (8017) 3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4-76-0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-mail: promeco@tut.b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Технологии по переработке отходо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143000" y="1449360"/>
            <a:ext cx="7238880" cy="540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256560" y="54360"/>
            <a:ext cx="5832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29680" cy="4425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02800" y="803160"/>
            <a:ext cx="784260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0" descr="цветная пирамида"/>
          <p:cNvPicPr/>
          <p:nvPr/>
        </p:nvPicPr>
        <p:blipFill>
          <a:blip r:embed="rId1"/>
          <a:stretch/>
        </p:blipFill>
        <p:spPr>
          <a:xfrm>
            <a:off x="2009880" y="1700280"/>
            <a:ext cx="5978520" cy="515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0" descr="минупрмеры"/>
          <p:cNvPicPr/>
          <p:nvPr/>
        </p:nvPicPr>
        <p:blipFill>
          <a:blip r:embed="rId1"/>
          <a:stretch/>
        </p:blipFill>
        <p:spPr>
          <a:xfrm>
            <a:off x="971640" y="1773360"/>
            <a:ext cx="7705800" cy="486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97236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ошение различных решений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826920" y="170028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хнологические инструме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меньшение количества упаковк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снижение содержания вредных веществ в конечном продукте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замену вредных/ опасных веществ и материалов в продукте на менее опасны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длинение срока жизни продукта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зменение дизайна продукта на более экологичны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(использование экологически чистых материалов; созд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родуктов с максимальными возможностями повторног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спользования и вторичной переработки и т.п.).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71640" y="52293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торное исполь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45360" y="1026720"/>
            <a:ext cx="718092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хнологические инструменты управления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76360" y="1768320"/>
            <a:ext cx="6792840" cy="405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72000" y="621360"/>
            <a:ext cx="73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по утилизации 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48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НЦИПИАЛЬНЫЕ ПОДХОДЫ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 ПЕРЕРАБОТКЕ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ществует четыре возможности по переработке отход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захоронение на полигон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сжигание, реже пиролиз и прочие высокотемпературные процесс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компостирован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сортировка с целью вторичного использования, утилизации и рециклин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из данных видов обладает своими достоинствами и недостат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05680" y="50040"/>
            <a:ext cx="7780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8064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1058760" y="5378400"/>
            <a:ext cx="7628040" cy="125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826920" y="40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едует отметить, что метод сжигания в настоящее время является капиталоемким. Прибыль, полученная от утилизации тепловой и электрической энергии компенсирует, в лучшем случае, 60% расходов на капитальные вложения и эксплуатационные затра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67360" y="216000"/>
            <a:ext cx="5417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 основным преимуществам компостирования можно отнест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нижение объема отходов, отправляемых на полигон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носительно небольшие капиталовлож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местимость с рециклизацией и системами производства топлива из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26920" y="4813560"/>
            <a:ext cx="799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Опыт показывает, что использование продукта компостирования требует значительного контроля со стороны экологических и санитарно-эпидемиологических служб. Компост может применяться для удобрения древесно-кустарниковой растительности, парков, газонов, но не для удобрения культур, используемых в пищу. Компост Минского мусороперерабатывающего завода использовался для засыпки промежуточных и верхнего слоев отходов в процессе рекультивации полигона ТБО «Тростенец» и полигона промотходов «Прудище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09120" cy="6124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24040" y="291960"/>
            <a:ext cx="462708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78320" y="1075320"/>
            <a:ext cx="7878600" cy="31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ределени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805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risunok-_pererabotka_othodov"/>
          <p:cNvPicPr/>
          <p:nvPr/>
        </p:nvPicPr>
        <p:blipFill>
          <a:blip r:embed="rId1"/>
          <a:stretch/>
        </p:blipFill>
        <p:spPr>
          <a:xfrm>
            <a:off x="252360" y="907920"/>
            <a:ext cx="8891640" cy="583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93040" y="46440"/>
            <a:ext cx="700416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ДНЫЙ АНАЛИЗ ОСНОВНЫХ ТЕХНОЛОГИЧЕСКИХ РЕШЕНИЙ ПО ПЕРЕРАБОТКЕ ОТХОД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16280"/>
            <a:ext cx="80550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ТИО представляет собой информационную систему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использованию отходов, их разработчиках и местах внедр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920000" cy="5064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бъектами государственной регистрации в ГРТИО являются технологи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может быть добровольной или обязательн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71880" y="52920"/>
            <a:ext cx="7818840" cy="73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617840" y="938160"/>
            <a:ext cx="6702120" cy="58611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2720" y="55800"/>
            <a:ext cx="7813440" cy="77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868320"/>
            <a:ext cx="7056360" cy="59896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7236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900000" y="2192400"/>
            <a:ext cx="7842240" cy="4665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15280" y="261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298520"/>
            <a:ext cx="6985080" cy="55166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5327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59280" y="660600"/>
            <a:ext cx="784404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07480" y="52200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83059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2060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32640" y="88236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241280"/>
            <a:ext cx="83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4. Размещение отходов — хранение или захоронение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1000" y="45000"/>
            <a:ext cx="6934680" cy="6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26920" y="1793880"/>
            <a:ext cx="7990200" cy="393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335040" y="58320"/>
            <a:ext cx="5750640" cy="80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авление отход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794360" cy="565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12280" y="43560"/>
            <a:ext cx="8265600" cy="60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КТУАЛЬНОСТЬ СИСТЕМЫ УПРАЛЕНИЯ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118720" cy="449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32:46Z</dcterms:created>
  <dc:creator>ddd</dc:creator>
  <dc:description>ekolog.na.by</dc:description>
  <dc:language>en-US</dc:language>
  <cp:lastModifiedBy>LEGION</cp:lastModifiedBy>
  <dcterms:modified xsi:type="dcterms:W3CDTF">2015-03-31T08:41:08Z</dcterms:modified>
  <cp:revision>117</cp:revision>
  <dc:subject/>
  <dc:title>Использование от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4000000000001024140</vt:lpwstr>
  </property>
</Properties>
</file>