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.wmf" ContentType="image/x-wmf"/>
  <Override PartName="/ppt/media/image29.wmf" ContentType="image/x-wmf"/>
  <Override PartName="/ppt/media/image19.jpeg" ContentType="image/jpeg"/>
  <Override PartName="/ppt/media/image7.wmf" ContentType="image/x-wmf"/>
  <Override PartName="/ppt/media/image20.jpeg" ContentType="image/jpeg"/>
  <Override PartName="/ppt/media/image8.wmf" ContentType="image/x-wmf"/>
  <Override PartName="/ppt/media/image34.png" ContentType="image/png"/>
  <Override PartName="/ppt/media/image12.jpeg" ContentType="image/jpeg"/>
  <Override PartName="/ppt/media/image17.jpeg" ContentType="image/jpeg"/>
  <Override PartName="/ppt/media/image10.wmf" ContentType="image/x-wmf"/>
  <Override PartName="/ppt/media/image23.png" ContentType="image/png"/>
  <Override PartName="/ppt/media/image13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1.wmf" ContentType="image/x-wmf"/>
  <Override PartName="/ppt/media/image33.png" ContentType="image/png"/>
  <Override PartName="/ppt/media/image14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3.jpeg" ContentType="image/jpeg"/>
  <Override PartName="/ppt/media/image24.jpeg" ContentType="image/jpeg"/>
  <Override PartName="/ppt/media/image4.wmf" ContentType="image/x-wmf"/>
  <Override PartName="/ppt/media/image15.jpeg" ContentType="image/jpeg"/>
  <Override PartName="/ppt/media/image1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909-1E95-4406-9DC0-6BEF49ECE8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Материальная </a:t>
            </a:r>
            <a:br>
              <a:rPr sz="1600"/>
            </a:br>
            <a:br>
              <a:rPr sz="1600"/>
            </a:br>
            <a:r>
              <a:rPr b="1" lang="ru-RU" sz="1600" spc="-1" strike="noStrike" u="sng">
                <a:solidFill>
                  <a:srgbClr val="0000ff"/>
                </a:solidFill>
                <a:uFillTx/>
                <a:latin typeface="Comic Sans MS"/>
              </a:rPr>
              <a:t>технолог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369A-7883-4B4D-83BF-09EA1C413EA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1D20-C67A-4BEB-B790-B496134F5C7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Ю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б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</a:t>
            </a:r>
            <a:r>
              <a:rPr b="1" lang="en-US" sz="1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а</a:t>
            </a: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5272-4BB1-4B9A-9E22-8B174125D2F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Х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л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а</a:t>
            </a:r>
            <a:r>
              <a:rPr b="1" lang="en-US" sz="1200" spc="-1" strike="noStrike">
                <a:solidFill>
                  <a:srgbClr val="80008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Comic Sans MS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E5B3-0FB6-4BA3-B86C-CFAFD860AF6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6126-D5A3-4533-A83F-ACE3384C6B7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1636-33E1-4F2E-96DF-AB7B0E7BA11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06D-65AF-482B-AC00-BCB8783205D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Модули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улин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укодел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офессиональное само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73C0-408A-44B2-AB32-1D3B07F0B7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Технология приготовления пи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История различных проду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Сервировка ст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Как украсить блюд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Правила этик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EDBC-0978-453A-9334-F832A2706B3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2CFF-A554-4DBC-8722-4473CC4C59D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Бутербродные Фант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ED69-AE36-49AA-8A62-44D7C50B5C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Материа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E59E-8F1C-4210-B1B8-165A54BEFF9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Машин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C577-1E5D-4EEC-AB75-F0B54938CE3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FF48-09DB-444E-A310-6FB0EA0B0A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37EA-312E-4787-ACC7-DB9A281E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620F-B347-426B-9A87-A56849E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343-A2C0-4B95-AEA7-8AB75B989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59B-8B61-462E-A197-38AE07EA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4B06-665A-476E-8D83-731115C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7173-D241-4279-983E-236CA2D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5518-2B30-4D55-9685-9FBCAB62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3B0-6CC0-4784-8FA9-F29339C3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D5F2-926B-489D-B4D7-8D376153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CDD6-A9EA-43A1-90D2-ADA077EF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F7D8-AB1C-4FCD-B6EE-5F9F7C63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1C6-3F28-4382-A2A7-D08D3B81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0BF1-AE8B-4109-8A7F-44C3409A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6AD5-5EA1-4669-81D5-A1D2A17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B284-EA42-4B7E-A2F6-118E17F0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FB14-4C5B-4143-BF55-DC5C3F42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89B6-6603-41ED-BF8E-FE1922E6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608-19E8-4ACC-AA8C-D2CA8A33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0D7E-DF1F-4934-9DA3-780FB855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7C4-8DBE-4112-9F53-DFF604BE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BC6-38FF-4388-A8C6-F7B4602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89CA-CB3F-4F7B-A11B-C7302535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5D06-D006-4FA8-BB9B-28AE93F9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0709-8EDB-4A9D-B16E-82CDEF3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69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3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4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7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8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9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1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2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4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5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6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7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18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19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0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1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2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3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4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5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6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7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28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29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0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1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2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3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4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5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7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48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49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0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1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2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3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4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5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6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7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58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59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0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1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2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3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4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5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6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7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68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39BF-AB4B-4F2E-81CA-8FF64DA241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03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2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3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4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5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6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7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8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6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7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8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19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0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1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2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3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4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7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8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29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0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1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2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3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4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5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6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7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8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39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0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1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2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3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4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5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6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0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1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3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4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5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6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7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59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0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1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2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3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4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5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6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7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8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69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1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2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3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4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5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6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7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8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79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0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1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2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3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4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5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6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7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8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89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0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1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2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3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4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5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6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7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8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99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0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1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2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6C2-FA90-445D-A15D-E081447785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1856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Материальная </a:t>
            </a:r>
            <a:br>
              <a:rPr sz="4800"/>
            </a:br>
            <a:br>
              <a:rPr sz="4800"/>
            </a:br>
            <a:r>
              <a:rPr b="1" lang="ru-RU" sz="4800" spc="-1" strike="noStrike" u="sng">
                <a:solidFill>
                  <a:srgbClr val="00ffff"/>
                </a:solidFill>
                <a:uFillTx/>
                <a:latin typeface="Comic Sans MS"/>
              </a:rPr>
              <a:t>технолог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10920" y="3715920"/>
            <a:ext cx="799308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ffff"/>
                </a:solidFill>
                <a:uFillTx/>
                <a:latin typeface="Comic Sans MS"/>
              </a:rPr>
              <a:t>Учитель: Бодрова Ирина Анатольевна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496908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Ф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а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р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т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у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к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9" name="Picture 5" descr="99121205"/>
          <p:cNvPicPr/>
          <p:nvPr/>
        </p:nvPicPr>
        <p:blipFill>
          <a:blip r:embed="rId1"/>
          <a:stretch/>
        </p:blipFill>
        <p:spPr>
          <a:xfrm>
            <a:off x="2340000" y="17002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9308"/>
          <p:cNvPicPr/>
          <p:nvPr/>
        </p:nvPicPr>
        <p:blipFill>
          <a:blip r:embed="rId2"/>
          <a:stretch/>
        </p:blipFill>
        <p:spPr>
          <a:xfrm>
            <a:off x="2484360" y="141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ndk5"/>
          <p:cNvPicPr/>
          <p:nvPr/>
        </p:nvPicPr>
        <p:blipFill>
          <a:blip r:embed="rId3"/>
          <a:stretch/>
        </p:blipFill>
        <p:spPr>
          <a:xfrm>
            <a:off x="1476360" y="2060640"/>
            <a:ext cx="6500880" cy="30067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fart41a"/>
          <p:cNvPicPr/>
          <p:nvPr/>
        </p:nvPicPr>
        <p:blipFill>
          <a:blip r:embed="rId4"/>
          <a:stretch/>
        </p:blipFill>
        <p:spPr>
          <a:xfrm>
            <a:off x="2556000" y="1268280"/>
            <a:ext cx="3984480" cy="47088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3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68" dur="2000" fill="hold"/>
                                        <p:tgtEl>
                                          <p:spTgt spid="3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0" nodeType="afterEffect" fill="hold" presetClass="exit" presetID="2" presetSubtype="8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5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80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81" dur="2000" fill="hold"/>
                                        <p:tgtEl>
                                          <p:spTgt spid="3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8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2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96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7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47056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Ю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б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к</a:t>
            </a:r>
            <a:r>
              <a:rPr b="1" lang="en-US" sz="4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а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05" name="Picture 5" descr="0721606b"/>
          <p:cNvPicPr/>
          <p:nvPr/>
        </p:nvPicPr>
        <p:blipFill>
          <a:blip r:embed="rId1"/>
          <a:srcRect l="18117" t="0" r="20275" b="0"/>
          <a:stretch/>
        </p:blipFill>
        <p:spPr>
          <a:xfrm>
            <a:off x="3059280" y="1197000"/>
            <a:ext cx="3168360" cy="514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0721511b"/>
          <p:cNvPicPr/>
          <p:nvPr/>
        </p:nvPicPr>
        <p:blipFill>
          <a:blip r:embed="rId2"/>
          <a:stretch/>
        </p:blipFill>
        <p:spPr>
          <a:xfrm>
            <a:off x="2843280" y="1197000"/>
            <a:ext cx="3529080" cy="51433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DETAILPTe2WwK0"/>
          <p:cNvPicPr/>
          <p:nvPr/>
        </p:nvPicPr>
        <p:blipFill>
          <a:blip r:embed="rId3"/>
          <a:stretch/>
        </p:blipFill>
        <p:spPr>
          <a:xfrm>
            <a:off x="1979640" y="1268280"/>
            <a:ext cx="5143320" cy="460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DETAILPDzIrK4I"/>
          <p:cNvPicPr/>
          <p:nvPr/>
        </p:nvPicPr>
        <p:blipFill>
          <a:blip r:embed="rId4"/>
          <a:stretch/>
        </p:blipFill>
        <p:spPr>
          <a:xfrm>
            <a:off x="2124000" y="1268280"/>
            <a:ext cx="5143680" cy="4927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7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16" dur="2000" fill="hold"/>
                                        <p:tgtEl>
                                          <p:spTgt spid="3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1" nodeType="afterEffect" fill="hold" presetClass="exit" presetID="2" presetSubtype="2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6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41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2" dur="2000" fill="hold"/>
                                        <p:tgtEl>
                                          <p:spTgt spid="3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344" nodeType="afterEffect" fill="hold" presetClass="exit" presetID="2" presetSubtype="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5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349" nodeType="afterEffect" fill="hold" presetClass="entr" presetID="7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354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55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57" nodeType="afterEffect" fill="hold" presetClass="exit" presetID="2" presetSubtype="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8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Х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л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а</a:t>
            </a:r>
            <a:r>
              <a:rPr b="1" lang="en-US" sz="4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т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11" name="Picture 5" descr="154"/>
          <p:cNvPicPr/>
          <p:nvPr/>
        </p:nvPicPr>
        <p:blipFill>
          <a:blip r:embed="rId1"/>
          <a:stretch/>
        </p:blipFill>
        <p:spPr>
          <a:xfrm>
            <a:off x="3059280" y="1268280"/>
            <a:ext cx="3573360" cy="4824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ira2"/>
          <p:cNvPicPr/>
          <p:nvPr/>
        </p:nvPicPr>
        <p:blipFill>
          <a:blip r:embed="rId2"/>
          <a:stretch/>
        </p:blipFill>
        <p:spPr>
          <a:xfrm>
            <a:off x="3419640" y="333360"/>
            <a:ext cx="2803320" cy="6245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ira1"/>
          <p:cNvPicPr/>
          <p:nvPr/>
        </p:nvPicPr>
        <p:blipFill>
          <a:blip r:embed="rId3"/>
          <a:stretch/>
        </p:blipFill>
        <p:spPr>
          <a:xfrm>
            <a:off x="3132000" y="260280"/>
            <a:ext cx="2990880" cy="63072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37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375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76" dur="20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378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382" nodeType="afterEffect" fill="hold" presetClass="entr" presetID="18" presetSubtype="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6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87" dur="2000" fill="hold"/>
                                        <p:tgtEl>
                                          <p:spTgt spid="3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389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2480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39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98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00" nodeType="afterEffect" fill="hold" presetClass="exit" presetID="3" presetSubtype="5">
                                  <p:stCondLst>
                                    <p:cond delay="200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40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65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рукоделия мы познакомимся с различными видами вышивки и научимся выполнять изделия, которые украсят наш д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7" name="Picture 7" descr="littlegirlinwagon"/>
          <p:cNvPicPr/>
          <p:nvPr/>
        </p:nvPicPr>
        <p:blipFill>
          <a:blip r:embed="rId1"/>
          <a:srcRect l="0" t="0" r="0" b="28522"/>
          <a:stretch/>
        </p:blipFill>
        <p:spPr>
          <a:xfrm>
            <a:off x="6012000" y="2565360"/>
            <a:ext cx="2400120" cy="2303640"/>
          </a:xfrm>
          <a:prstGeom prst="rect">
            <a:avLst/>
          </a:prstGeom>
          <a:ln w="0">
            <a:noFill/>
          </a:ln>
        </p:spPr>
      </p:pic>
      <p:sp>
        <p:nvSpPr>
          <p:cNvPr id="3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012"/>
          <p:cNvPicPr/>
          <p:nvPr/>
        </p:nvPicPr>
        <p:blipFill>
          <a:blip r:embed="rId1"/>
          <a:stretch/>
        </p:blipFill>
        <p:spPr>
          <a:xfrm>
            <a:off x="2700360" y="333360"/>
            <a:ext cx="4048200" cy="5715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007"/>
          <p:cNvPicPr/>
          <p:nvPr/>
        </p:nvPicPr>
        <p:blipFill>
          <a:blip r:embed="rId2"/>
          <a:stretch/>
        </p:blipFill>
        <p:spPr>
          <a:xfrm>
            <a:off x="1835280" y="476280"/>
            <a:ext cx="6086520" cy="5715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3"/>
          <a:stretch/>
        </p:blipFill>
        <p:spPr>
          <a:xfrm>
            <a:off x="2916360" y="260280"/>
            <a:ext cx="3465360" cy="635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4"/>
          <a:stretch/>
        </p:blipFill>
        <p:spPr>
          <a:xfrm>
            <a:off x="2843280" y="981000"/>
            <a:ext cx="4381560" cy="4537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justincases"/>
          <p:cNvPicPr/>
          <p:nvPr/>
        </p:nvPicPr>
        <p:blipFill>
          <a:blip r:embed="rId5"/>
          <a:stretch/>
        </p:blipFill>
        <p:spPr>
          <a:xfrm>
            <a:off x="2916360" y="692280"/>
            <a:ext cx="3349440" cy="514332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3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32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5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38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5" nodeType="afterEffect" fill="hold" presetClass="emph" presetID="6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446" dur="2000" fill="hold"/>
                                        <p:tgtEl>
                                          <p:spTgt spid="3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8" nodeType="afterEffect" fill="hold" presetClass="exit" presetID="35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2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3" dur="2000" fill="hold"/>
                                        <p:tgtEl>
                                          <p:spTgt spid="3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475" nodeType="afterEffect" fill="hold" presetClass="exit" presetID="5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6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487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88" dur="2000" fill="hold"/>
                                        <p:tgtEl>
                                          <p:spTgt spid="3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490" nodeType="afterEffect" fill="hold" presetClass="exit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495" nodeType="afterEffect" fill="hold" presetClass="entr" presetID="16" presetSubtype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499" nodeType="after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3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1000"/>
                            </p:stCondLst>
                            <p:childTnLst>
                              <p:par>
                                <p:cTn id="502" nodeType="afterEffect" fill="hold" presetClass="exit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рофессиональное самоопределение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 Sans MS"/>
              </a:rPr>
              <a:t>На уроках по профессиональному самоопределению мы познакомимся с различными профессиями, узнаем, какие из них наиболее востребованные в обществе, что нужно знать и уметь, чтобы получить ту или иную специальнос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7" descr="j0280772"/>
          <p:cNvPicPr/>
          <p:nvPr/>
        </p:nvPicPr>
        <p:blipFill>
          <a:blip r:embed="rId1"/>
          <a:stretch/>
        </p:blipFill>
        <p:spPr>
          <a:xfrm>
            <a:off x="7373880" y="4941720"/>
            <a:ext cx="1473120" cy="175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j0424160"/>
          <p:cNvPicPr/>
          <p:nvPr/>
        </p:nvPicPr>
        <p:blipFill>
          <a:blip r:embed="rId2"/>
          <a:stretch/>
        </p:blipFill>
        <p:spPr>
          <a:xfrm>
            <a:off x="395280" y="189000"/>
            <a:ext cx="1060560" cy="181584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9" descr="j0423998"/>
          <p:cNvPicPr/>
          <p:nvPr/>
        </p:nvPicPr>
        <p:blipFill>
          <a:blip r:embed="rId3"/>
          <a:stretch/>
        </p:blipFill>
        <p:spPr>
          <a:xfrm>
            <a:off x="7236000" y="189000"/>
            <a:ext cx="1641240" cy="188280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WordArt 6"/>
          <p:cNvSpPr txBox="1"/>
          <p:nvPr/>
        </p:nvSpPr>
        <p:spPr>
          <a:xfrm>
            <a:off x="611280" y="260280"/>
            <a:ext cx="8208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Желаю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2" name="WordArt 7"/>
          <p:cNvSpPr txBox="1"/>
          <p:nvPr/>
        </p:nvSpPr>
        <p:spPr>
          <a:xfrm>
            <a:off x="826920" y="4437000"/>
            <a:ext cx="7920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1" lang="en-US" sz="96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8" descr="j0433823"/>
          <p:cNvPicPr/>
          <p:nvPr/>
        </p:nvPicPr>
        <p:blipFill>
          <a:blip r:embed="rId5"/>
          <a:stretch/>
        </p:blipFill>
        <p:spPr>
          <a:xfrm>
            <a:off x="3780000" y="24922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989840" cy="18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 Sans MS"/>
              </a:rPr>
              <a:t>Мы должны научиться понимать труд, как творчество.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65" name="Picture 6" descr="MPj04097130000[1]"/>
          <p:cNvPicPr/>
          <p:nvPr/>
        </p:nvPicPr>
        <p:blipFill>
          <a:blip r:embed="rId1"/>
          <a:stretch/>
        </p:blipFill>
        <p:spPr>
          <a:xfrm>
            <a:off x="2556000" y="2997360"/>
            <a:ext cx="4392360" cy="3341520"/>
          </a:xfrm>
          <a:prstGeom prst="rect">
            <a:avLst/>
          </a:prstGeom>
          <a:ln w="0">
            <a:noFill/>
          </a:ln>
        </p:spPr>
      </p:pic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Модули Технолог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4248360" cy="32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Кулинария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ашиновед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Рукодел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427640" y="1557000"/>
            <a:ext cx="4465440" cy="33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Comic Sans MS"/>
              </a:rPr>
              <a:t>Профессиональное самоопределение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7" descr="j0397482"/>
          <p:cNvPicPr/>
          <p:nvPr/>
        </p:nvPicPr>
        <p:blipFill>
          <a:blip r:embed="rId1"/>
          <a:stretch/>
        </p:blipFill>
        <p:spPr>
          <a:xfrm>
            <a:off x="611280" y="4797360"/>
            <a:ext cx="1825560" cy="17179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ffff"/>
                </a:solidFill>
                <a:latin typeface="Comic Sans MS"/>
              </a:rPr>
              <a:t>Кулинария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392720" cy="35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Технология приготовления пищ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История различных продукт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Сервировка ст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Как украсить блюд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Comic Sans MS"/>
              </a:rPr>
              <a:t>Правила этик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7" descr="picture02"/>
          <p:cNvPicPr/>
          <p:nvPr/>
        </p:nvPicPr>
        <p:blipFill>
          <a:blip r:embed="rId1"/>
          <a:stretch/>
        </p:blipFill>
        <p:spPr>
          <a:xfrm>
            <a:off x="5364000" y="2133720"/>
            <a:ext cx="2851200" cy="3240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fd02169_"/>
          <p:cNvPicPr/>
          <p:nvPr/>
        </p:nvPicPr>
        <p:blipFill>
          <a:blip r:embed="rId2"/>
          <a:stretch/>
        </p:blipFill>
        <p:spPr>
          <a:xfrm>
            <a:off x="1187280" y="549360"/>
            <a:ext cx="2162520" cy="7938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8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6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4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96728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«Все, что есть в печи, - на стол мечи», - гласит старинная русская пословица. Что и говорить, любим мы угощать, особенно тем, что приготовлено своими руками. У каждой хозяйки есть какое-то свое заветное блюдо, которым она угощает дорогих гостей. На уроках кулинарии мы учимся, готовить вкусные и полезные блюда, украшать их и правильно подавать на сто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4" descr="материальная 1"/>
          <p:cNvPicPr/>
          <p:nvPr/>
        </p:nvPicPr>
        <p:blipFill>
          <a:blip r:embed="rId1"/>
          <a:stretch/>
        </p:blipFill>
        <p:spPr>
          <a:xfrm>
            <a:off x="5651640" y="1916280"/>
            <a:ext cx="3014640" cy="25239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утербродные Фантазии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4537080" cy="51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Такой забавный бутерброд «кит» сделать совсем прост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Верхнюю часть батона надо отрезать наискосок и сделать посередине надрез. Нанести сливочное масло и положить пластинку колбасы – это роти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omic Sans MS"/>
              </a:rPr>
              <a:t>Из кусочка колбасы делаем хвостик, глазки – из моркови, сверху закрепляем веточку зеленого лу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6" descr="кит"/>
          <p:cNvPicPr/>
          <p:nvPr/>
        </p:nvPicPr>
        <p:blipFill>
          <a:blip r:embed="rId1"/>
          <a:stretch/>
        </p:blipFill>
        <p:spPr>
          <a:xfrm>
            <a:off x="5435640" y="2349360"/>
            <a:ext cx="3313080" cy="27385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7" nodeType="after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71280" y="54900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 Sans MS"/>
              </a:rPr>
              <a:t>Материал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7921440" cy="41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Ткани окружают нас в жизни и широко используются в быту. Из них шьют одежду и белье, изготавливают палатки, парашюты, мешки, делают обивку для мебели. Все ли ткани одинаковые, как их изготавливают, из чего делают нитки, что такое волокна – все это мы узнаем на уроках материалове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8" descr="MCj02809750000[1]"/>
          <p:cNvPicPr/>
          <p:nvPr/>
        </p:nvPicPr>
        <p:blipFill>
          <a:blip r:embed="rId1"/>
          <a:stretch/>
        </p:blipFill>
        <p:spPr>
          <a:xfrm>
            <a:off x="7093080" y="5087880"/>
            <a:ext cx="1881000" cy="16430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9" descr="MCj02509770000[1]"/>
          <p:cNvPicPr/>
          <p:nvPr/>
        </p:nvPicPr>
        <p:blipFill>
          <a:blip r:embed="rId2"/>
          <a:stretch/>
        </p:blipFill>
        <p:spPr>
          <a:xfrm>
            <a:off x="324000" y="189000"/>
            <a:ext cx="2139840" cy="183348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561672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Comic Sans MS"/>
              </a:rPr>
              <a:t>Машиноведение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Comic Sans MS"/>
              </a:rPr>
              <a:t>На уроках машиноведения мы с вами познакомимся с историей создания швейных машин, узнаем, какие бывают машины и, конечно, научимся на них работа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344630000[1]"/>
          <p:cNvPicPr/>
          <p:nvPr/>
        </p:nvPicPr>
        <p:blipFill>
          <a:blip r:embed="rId1"/>
          <a:stretch/>
        </p:blipFill>
        <p:spPr>
          <a:xfrm>
            <a:off x="6948360" y="260280"/>
            <a:ext cx="1741680" cy="1611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BD07096_0000[1]"/>
          <p:cNvPicPr/>
          <p:nvPr/>
        </p:nvPicPr>
        <p:blipFill>
          <a:blip r:embed="rId2"/>
          <a:stretch/>
        </p:blipFill>
        <p:spPr>
          <a:xfrm>
            <a:off x="468360" y="4869000"/>
            <a:ext cx="2303280" cy="1774800"/>
          </a:xfrm>
          <a:prstGeom prst="rect">
            <a:avLst/>
          </a:prstGeom>
          <a:ln w="0">
            <a:noFill/>
          </a:ln>
        </p:spPr>
      </p:pic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848720" cy="130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mic Sans MS"/>
              </a:rPr>
              <a:t>Моделирование, конструирование и изготовление одежды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5" name="Picture 5" descr="MCj02344650000[1]"/>
          <p:cNvPicPr/>
          <p:nvPr/>
        </p:nvPicPr>
        <p:blipFill>
          <a:blip r:embed="rId1"/>
          <a:stretch/>
        </p:blipFill>
        <p:spPr>
          <a:xfrm>
            <a:off x="5796000" y="4365720"/>
            <a:ext cx="2184480" cy="17636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64360" cy="23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осле того, как мы научимся шить на швейной машине, мы попробуем сами изготовить швейное изделие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54:22Z</dcterms:created>
  <dc:creator>Ирина Анатольевна</dc:creator>
  <dc:description/>
  <cp:keywords/>
  <dc:language>en-US</dc:language>
  <cp:lastModifiedBy>LEGION</cp:lastModifiedBy>
  <dcterms:modified xsi:type="dcterms:W3CDTF">2015-03-31T08:41:38Z</dcterms:modified>
  <cp:revision>16</cp:revision>
  <dc:subject/>
  <dc:title>Материальная техноло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91049</vt:lpwstr>
  </property>
</Properties>
</file>