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ED5F-4AEB-4D41-84AC-0701C87F2C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клас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программе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.А.Лутцевой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УМК «Начальная школа ХХ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век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Шопина Наталья Никола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ОУ СОШ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Г. Коре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32A8-ABFF-47C4-A620-DC87F5C4D4B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олни задание 41 в рабочей тетра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ери одну из констру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еханизм вместе с друзьями. Порядок работы см. на с. 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C739-2200-4145-89DF-CC3F9B8C593B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ь модель изделия, имеющего передачу (это мож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ть транспортёр, подъёмный кран, мельница).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7F3E-32DA-4AD3-8087-C96768285216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ИТОГ 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ему я научился на уроке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Что мне этот урок дал для жизни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ивлек меня те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оказался интересным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Заставил задуматься……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760C-21D6-4145-BB6A-5E8ACB15A94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ь любую модель, которая тебе понрави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E8D3-4441-436B-B8BB-FB5602BAEA09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о    скорой встреч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33DE-B244-4367-9BAE-3B79281AC5FD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тцева Е.А. «Технология 3 класс. Сценарии уроков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ебник  «Технология 3 класс. Ступеньки к мастерств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имся мастерству. Рабочая тетрадь. 3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EDF7-CC9C-4D57-AD55-197F01286097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реобразование энергии сил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Устройство передаточ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иды передач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F57C-ACDB-40DB-8571-49A28DBCB5DD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работой двух шкивов, связанных между собой ременной пере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, как  вращение одного шкива передается друг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конструированию различных технических моделей с приводом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E2EE-CD9B-4242-BE67-395192348F96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стройство передаточного механиз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, как он устр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AA59-5E5E-44B3-A202-9D4B70BC6C4E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ветряной мельницы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   крылья; 2 — жернова; 3 — передаточ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C52-5954-4AC6-A7E3-ED69A9901928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Рассмотри рисунки видов передач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Найди эти передачи в технических устройствах — швейной машине, часах, велосип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5D1F-366F-4FCE-9EDC-8CE1AB3879F1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ередач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менная; 2 — цепна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— зубча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027D-0AFF-4750-B82C-975FB642C7D9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ак ты думаешь, для чего?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и исследования (например, своего велосипеда)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9B38-F664-44F1-B41C-E545F6BDA589}" type="slidenum">
              <a:rPr b="0" lang="uk-UA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24E-C9B0-4FB0-9D9F-EBC2BA93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C5F-FA69-4D09-B27E-2F24F855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49B-DB46-41C7-AC11-743B8B62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FAC-9A98-478C-9067-2C7A3C0A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EF73-DF8F-4CF9-9615-119130D8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C39A-A84D-4FBE-BDC1-0F1A310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BC46-272D-4274-8587-25AF1534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1FA5-952B-434F-B802-05CCAB9E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0579-432B-4261-ACE7-59AF599F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0866-E70F-4D6E-9249-F8A38057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423C-7A0B-454F-97B0-25FD166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212-B1E6-4FFD-8804-A8A4CD07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1D14-7B82-40AA-AF17-CE514BC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B08B-A4AB-4D46-87C2-E5078FB5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0FF9-91AD-4442-9CBC-33CEB2A0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3879-D2C9-4105-8BBD-83FB31E6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8210-5987-49EE-A49B-9F942F2E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B30-8840-44F8-A66B-52A07AB5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717-0AF3-4B9C-B8F5-5426CF6A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D0A-6ED3-4A88-B72A-147C701B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69B-367F-4FF9-9DB3-3CEE93C3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3DC-32D4-4736-9FDB-E0FCB2E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3A8-7F30-4348-B283-90CACA08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2B7-04F3-4E4B-BC5B-19919DA7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16D7-A61D-48DA-8531-F870955D19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AE9D-B33A-495B-B021-4418F472BFC7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printer.ru/books/1925963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sprinter.ru/books/1932300.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Технология </a:t>
            </a:r>
            <a:br>
              <a:rPr sz="2800"/>
            </a:b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 класс</a:t>
            </a:r>
            <a:br>
              <a:rPr sz="2800"/>
            </a:br>
            <a:r>
              <a:rPr b="1" lang="ru-RU" sz="2800" spc="-1" strike="noStrike">
                <a:solidFill>
                  <a:srgbClr val="ffcc99"/>
                </a:solidFill>
                <a:latin typeface="Arial"/>
              </a:rPr>
              <a:t>по программе  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Е.А.Лутцевой </a:t>
            </a:r>
            <a:br>
              <a:rPr sz="2800"/>
            </a:b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(УМК «Начальная школа ХХ</a:t>
            </a:r>
            <a:r>
              <a:rPr b="1" lang="en-US" sz="2800" spc="-1" strike="noStrike" u="sng">
                <a:solidFill>
                  <a:srgbClr val="ffcc99"/>
                </a:solidFill>
                <a:uFillTx/>
                <a:latin typeface="Times New Roman"/>
              </a:rPr>
              <a:t>I</a:t>
            </a:r>
            <a:r>
              <a:rPr b="1" lang="ru-RU" sz="2800" spc="-1" strike="noStrike" u="sng">
                <a:solidFill>
                  <a:srgbClr val="ffcc99"/>
                </a:solidFill>
                <a:uFillTx/>
                <a:latin typeface="Times New Roman"/>
              </a:rPr>
              <a:t> века»)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209680" y="43434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Шопина Наталья Николаевна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МОУ СОШ № 3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Г. Кореновск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Краснодарский край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Times New Roman"/>
              </a:rPr>
              <a:t>*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Выполни задание 41 в рабочей тетради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Рассмотри схемы ременных передач вращательного движения. Прямая передача — когда два колеса крутятся в одном направлении. Перекрёстная передача — когда колёса крутятся в разных направлениях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Попробуй догадаться, где какая схема. Обязательно докажи свой выбор практически. Для этого можно использовать готовый механизм или сделать по схеме модель передачи из любых подходящих материалов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Выбери одну из конструкций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cc99"/>
                </a:solidFill>
                <a:latin typeface="Arial Narrow"/>
              </a:rPr>
              <a:t>Изготовь механизм вместе с друзьями. Порядок работы см. на с. 36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632484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Изготовь модель изделия, имеющего передачу (это может </a:t>
            </a:r>
            <a:r>
              <a:rPr b="1" i="1" lang="ru-RU" sz="3200" spc="-1" strike="noStrike">
                <a:solidFill>
                  <a:srgbClr val="ff9966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быть транспортёр, подъёмный кран, мельница).</a:t>
            </a:r>
            <a:br>
              <a:rPr sz="4000"/>
            </a:b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71" name="Picture 6" descr="i?id=38838122&amp;tov=4"/>
          <p:cNvPicPr/>
          <p:nvPr/>
        </p:nvPicPr>
        <p:blipFill>
          <a:blip r:embed="rId1"/>
          <a:stretch/>
        </p:blipFill>
        <p:spPr>
          <a:xfrm>
            <a:off x="838080" y="2057400"/>
            <a:ext cx="289584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?id=46065175&amp;tov=7"/>
          <p:cNvPicPr/>
          <p:nvPr/>
        </p:nvPicPr>
        <p:blipFill>
          <a:blip r:embed="rId2"/>
          <a:stretch/>
        </p:blipFill>
        <p:spPr>
          <a:xfrm>
            <a:off x="5486400" y="1981080"/>
            <a:ext cx="3200400" cy="2438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i?id=49007400&amp;tov=0"/>
          <p:cNvPicPr/>
          <p:nvPr/>
        </p:nvPicPr>
        <p:blipFill>
          <a:blip r:embed="rId3"/>
          <a:stretch/>
        </p:blipFill>
        <p:spPr>
          <a:xfrm>
            <a:off x="3276720" y="4660920"/>
            <a:ext cx="2819160" cy="2197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47712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  <a:effectLst>
            <a:outerShdw dist="36147" dir="2700000" blurRad="0" rotWithShape="0">
              <a:srgbClr val="ff9966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Arial Narrow"/>
              </a:rPr>
              <a:t>ИТОГ  УРОКА</a:t>
            </a: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                    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ему я научился на уроке………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Что мне этот урок дал для жизни………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ривлек меня те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Показался интересным……….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ff9966"/>
                </a:solidFill>
                <a:latin typeface="Times New Roman"/>
              </a:rPr>
              <a:t>Заставил задуматься…………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Домашнее задание !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(по желанию)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изготовь любую модель, которая тебе понравилась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79" name="Picture 6" descr="i?id=38838122&amp;tov=4"/>
          <p:cNvPicPr/>
          <p:nvPr/>
        </p:nvPicPr>
        <p:blipFill>
          <a:blip r:embed="rId1"/>
          <a:stretch/>
        </p:blipFill>
        <p:spPr>
          <a:xfrm>
            <a:off x="685800" y="457200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?id=46065175&amp;tov=7"/>
          <p:cNvPicPr/>
          <p:nvPr/>
        </p:nvPicPr>
        <p:blipFill>
          <a:blip r:embed="rId2"/>
          <a:stretch/>
        </p:blipFill>
        <p:spPr>
          <a:xfrm>
            <a:off x="3200400" y="4495680"/>
            <a:ext cx="2438280" cy="18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i?id=49007400&amp;tov=0"/>
          <p:cNvPicPr/>
          <p:nvPr/>
        </p:nvPicPr>
        <p:blipFill>
          <a:blip r:embed="rId3"/>
          <a:stretch/>
        </p:blipFill>
        <p:spPr>
          <a:xfrm>
            <a:off x="6400800" y="4495680"/>
            <a:ext cx="2286000" cy="1781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99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о    скорой встречи!!!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84" name="Picture 3" descr="звон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268280"/>
            <a:ext cx="7920000" cy="55897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Ссылки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8240" y="16002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Лутцева Е.А. «Технология 3 класс. Сценарии уроков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ебник  «Технология 3 класс. Ступеньки к мастерству»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Narrow"/>
              </a:rPr>
              <a:t>Учимся мастерству. Рабочая тетрадь. 3 класс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88" name="Picture 6" descr="Технология. Ступеньки к мастерству. 3 класс. Учебник, Лутцева Еле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Учимся мастерству. Рабочая тетрадь. 3 класс, Лутцев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495680"/>
            <a:ext cx="15750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666880" y="1752480"/>
          <a:ext cx="5257800" cy="660600"/>
        </p:xfrm>
        <a:graphic>
          <a:graphicData uri="http://schemas.openxmlformats.org/drawingml/2006/table">
            <a:tbl>
              <a:tblPr/>
              <a:tblGrid>
                <a:gridCol w="254160"/>
                <a:gridCol w="5003640"/>
              </a:tblGrid>
              <a:tr h="29448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d6d5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681280" y="3881520"/>
          <a:ext cx="1212840" cy="1189080"/>
        </p:xfrm>
        <a:graphic>
          <a:graphicData uri="http://schemas.openxmlformats.org/drawingml/2006/table">
            <a:tbl>
              <a:tblPr/>
              <a:tblGrid>
                <a:gridCol w="12128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72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cc99"/>
                          </a:solidFill>
                          <a:latin typeface="Times New Roman"/>
                        </a:rPr>
                        <a:t>            </a:t>
                      </a:r>
                      <a:endParaRPr b="0" lang="en-US" sz="1800" spc="-1" strike="noStrike">
                        <a:solidFill>
                          <a:srgbClr val="ffcc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2" name="Picture 31" descr="Технология 3 класс. Сценарии уроков. Ступеньки к мастерству, Лутцева. Купить книгу. Издательство: Вентана-Граф"/>
          <p:cNvPicPr/>
          <p:nvPr/>
        </p:nvPicPr>
        <p:blipFill>
          <a:blip r:embed="rId5"/>
          <a:stretch/>
        </p:blipFill>
        <p:spPr>
          <a:xfrm>
            <a:off x="3581280" y="4572000"/>
            <a:ext cx="175284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«Преобразование энергии сил природы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Устройство передаточного механизма.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33"/>
                </a:solidFill>
                <a:latin typeface="Arial Narrow"/>
              </a:rPr>
              <a:t>Виды передач»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знакомить учащихся с работой двух шкивов, связанных между собой ременной передачей;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Показать, как  вращение одного шкива передается другому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Обучение конструированию различных технических моделей с приводом механизма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Устройство передаточного механизма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05740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Главная часть конструкции мельницы — передаточный механизм. Передаточный механизм — одно из замечательных изобретений человека.  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99"/>
                </a:solidFill>
                <a:latin typeface="Arial Narrow"/>
              </a:rPr>
              <a:t>Рассмотри, как он устроен.</a:t>
            </a:r>
            <a:endParaRPr b="0" lang="en-US" sz="36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Устройство ветряной мельницы: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   -   крылья; 2 — жернова; 3 — передаточный механизм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Сегодня передаточные механизмы используют в различных технических устройствах — от самых простых до сложных станков и машин.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Рассмотри рисунки видов передач. </a:t>
            </a: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   Найди эти передачи в технических устройствах — швейной машине, часах, велосипеде.</a:t>
            </a:r>
            <a:endParaRPr b="0" lang="en-US" sz="32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Виды передач:</a:t>
            </a:r>
            <a:br>
              <a:rPr sz="4000"/>
            </a:b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1 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- ременная; 2 — цепная;</a:t>
            </a:r>
            <a:br>
              <a:rPr sz="4000"/>
            </a:b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3 — зубчатая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7162920" cy="48769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Обрати внимание, что обычно одно зубчатое колесо (или шкив — колесо с желобком) большое, другое — маленькое 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 Как ты думаешь, для чего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Проведи исследования (например, своего велосипеда)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6868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uchportal.ru</dc:description>
  <dc:language>en-US</dc:language>
  <cp:lastModifiedBy>LEGION</cp:lastModifiedBy>
  <dcterms:modified xsi:type="dcterms:W3CDTF">2015-03-31T08:46:56Z</dcterms:modified>
  <cp:revision>11</cp:revision>
  <dc:subject/>
  <dc:title>Передаточный механ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a000000000001024140</vt:lpwstr>
  </property>
  <property fmtid="{D5CDD505-2E9C-101B-9397-08002B2CF9AE}" pid="3" name="Version">
    <vt:r8>1</vt:r8>
  </property>
</Properties>
</file>