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10.wmf" ContentType="image/x-wmf"/>
  <Override PartName="/ppt/media/image3.gif" ContentType="image/gif"/>
  <Override PartName="/ppt/media/image11.wmf" ContentType="image/x-wmf"/>
  <Override PartName="/ppt/media/image4.gif" ContentType="image/gif"/>
  <Override PartName="/ppt/media/image12.wmf" ContentType="image/x-wmf"/>
  <Override PartName="/ppt/media/image5.gif" ContentType="image/gif"/>
  <Override PartName="/ppt/media/image8.wmf" ContentType="image/x-wmf"/>
  <Override PartName="/ppt/media/image6.gif" ContentType="image/gif"/>
  <Override PartName="/ppt/media/image9.wmf" ContentType="image/x-wmf"/>
  <Override PartName="/ppt/media/image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1644-A87C-4F07-A1F1-901A58B48B8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 Black"/>
              </a:rPr>
              <a:t>ПРАКТИЧЕСКАЯ НАПРАВЛЕННОСТЬ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 Black"/>
              </a:rPr>
              <a:t>ЗАНЯТИЙ ПО ТЕМЕ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 Black"/>
              </a:rPr>
              <a:t>«ПРОИЗВОДСТВО, ТРУД И ТЕХНОЛОГИ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АГАПКИНА  О.П., учитель техноло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высшей катег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МОУ СОШ № 30 г.Энгель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2009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302F-7A93-41AF-B60B-EEE9421A0411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Факторы макро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6DA6-832E-419C-8B5F-9940B45C0A87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Факторы микро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99A7-AAD1-4FF7-B0B2-101A5C8F223C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Способы применения своей рабочей сил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- работа в обобществленном производстве (государственном или коллективном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- индивидуальная трудовая деятель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- наемный тру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5AB4-E911-4F7A-AF97-7EA0393987D1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Слабости ры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нестабильность, неустойчивость экономи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чередование подъема и спада производств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мены периодов экономического подъема экономическими кризис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768A-828E-4840-8802-CFDAC72D3FDC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Государственное регулиро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редельное упрощение налогов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оздание антимонопольного комите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ерераспределение доходов за счет социальной поддерж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оздание бирж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1753-9304-42C8-9757-80C0A8BA354D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Законодательная баз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т.7 Конституции РФ провозглашает, что Российская Федерация - социальное государство, политика которого направлена на создание условий, обеспечивающих достойную жизнь и свободное развитие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619C-ECD5-4996-9A26-9D0433D3AA53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Arial Black"/>
              </a:rPr>
              <a:t>ВЫБИРАЯ ПРОФЕССИЮ, МЫСЛИТЬ НУЖНО О БУДУЩЕМ, НО ДЕЙСТВОВАТЬ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Arial Black"/>
              </a:rPr>
              <a:t>    </a:t>
            </a:r>
            <a:r>
              <a:rPr b="1" lang="ru-RU" sz="1200" spc="-1" strike="noStrike">
                <a:solidFill>
                  <a:srgbClr val="1f497d"/>
                </a:solidFill>
                <a:latin typeface="Arial Black"/>
              </a:rPr>
              <a:t>В НАСТОЯЩ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8D56-7A78-4A03-A4B2-32E45AA041FE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Влияние новых технологий на  сферу материального производ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развивается  сфера услуг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высвобождаются рабочие кадры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индивидуализируется стиль жизни и тру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усиливается взаимосвязь между обществом и личность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5EB6-CD4E-48D6-855C-5B3B931A4DB8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Новые требования к профориентационной работе в школе: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гуманистическая направленнос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ризнание ученика основным субъектом процесса обуч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опора на его активную учебно-познавательную деятель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BB56-1DCA-4C8C-8CEE-6C15D9A79CC0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Задачи профильного и предпрофильного образования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одействие их общественному и гражданскому самоопределению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обеспечение функциональной грамотность и социальной адаптации обучающих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формирование личности, осознающей свои гражданские права и обяза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2005-A485-4A2B-BFE5-C9E8841DD18F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Условия успешности  обуч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рактическая направленнос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вязь с жизн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ознание обучающимися своих способностей, возможностей, ресурсов, а также потенциалов и ограничений их развития и приме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AB42-C7AE-4BAE-8894-6D17A2245224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Основные виды работ и професс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Директор, главный инженер, инженер по качеству, главный бухгалтер, бухгалтер, главный механик, инженер по комплектации оборудования, заведующий складом, начальник отдела кадров, инспектор по кадрам, </a:t>
            </a:r>
            <a:r>
              <a:rPr b="1" lang="ru-RU" sz="900" spc="-1" strike="noStrike">
                <a:solidFill>
                  <a:srgbClr val="000000"/>
                </a:solidFill>
                <a:latin typeface="Arial Black"/>
              </a:rPr>
              <a:t>МЕДИЦИНСКАЯ СЕСТРА, ЭЛЕКТРОГАЗОСВАРЩИК, УЧИТЕЛЬ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 Black"/>
              </a:rPr>
              <a:t>СТОРОЖ, ЛАБОРАНТ, ПЛОТНИК, СЛЕСАРЬ-САНТЕХНИК, СЛЕСАРЬ-СБОРЩИК, КРОВЕЛЬЩИК, ФРЕЗЕРОВЩИК,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дежурный слесарь, электромонтер, кладовщик, учетчик, станочник, каменщик, менеджер, артист эстрад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C738-906E-4116-BED0-CA146AEE398F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ВЫСШЕЕ ОБРАЗОВ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СТРАТЕГИЧЕСКАЯ НАПРАВЛЕННОСТЬ НА ИНТЕЛЛЕКТУАЛЬНОЕ РАЗВИТИЕ, ФОРМИРОВАНИЕ КУЛЬТУРЫ И МИРОВОЗЗ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1DF1-CBAB-4022-805F-B0930A0D3186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НАЧАЛЬНОЕ ПРОФЕССИОНАЛЬНОЕ ОБРАЗОВ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БЫСТРЫЙ ПУТЬ К ОСВОЕНИЮ ПРОФЕСС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ВОЗМОЖНОСТЬ ПОЛУЧЕНИЯ РЕАЛЬНОГО ЗАРАБО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6485-9E65-4D3A-BAC8-18719AE96AE2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Arial Black"/>
              </a:rPr>
              <a:t>ОРГАН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АМОСТОЯТЕЛЬНЫЙ ХОЗЯЙСТВЕННЫЙ СУБЪЕКТ, ПРЕДНАЗНАЧЕ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ДЛЯ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РОДУКЦ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ВЫПОЛ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РАБ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И ОКАЗ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6AB4-DC98-4E3D-97D1-C6F1B3077088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CAC1-7EA6-4471-B717-7C420E863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EBDB-3C11-41B3-9C4F-7AB67F11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F9A0-FB54-4B66-99B5-2E3B5BE9E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EE96-B30B-4942-BF0F-263D97653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B6EB-6DFB-4A64-AB12-522EB65C6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4F293-7DC4-43E0-8201-E9375CC8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1BB9-C1CC-4294-A156-5CBFD721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E7B3-AFF0-42B4-9C0C-994E790C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8438-B965-4310-87FE-0B0D7A7B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C561-DBC6-4DC6-A926-9C458D12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A2F2-BF1F-4BD0-8673-3D0EC813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4B80-0B36-4C56-A0F0-95A56D1C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1FD9-232F-49C6-B903-0C2133B1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ECE67-FA22-4B22-9DF2-8D4ADD56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F795-23AF-404E-AB69-7D4F2E89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2903-DDD9-4118-A8D8-F41246B79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A5F8-616A-400D-AF70-95949E478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7336-72B8-4D1E-B8E8-F6B2932C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37C1-447E-4EAE-B79B-8D029185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63F8-D903-43F0-9A8A-00658A37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D8E8-7247-4CAA-B493-43692A53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03B0-7741-4A42-922D-A06DEEF1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66A8-E6FD-418B-8B8B-64DE6599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DE87-2F15-4C0E-9720-CD1AAA5D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22B4-78C8-4383-BE60-B23420E9529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7A5D-7E43-41AE-AC5C-24843A1E26E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7.gi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63640" y="2781360"/>
            <a:ext cx="6168960" cy="115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 Black"/>
              </a:rPr>
              <a:t>ПРАКТИЧЕСКАЯ НАПРАВЛЕННОСТЬ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 Black"/>
              </a:rPr>
              <a:t>ЗАНЯТИЙ ПО ТЕМЕ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 Black"/>
              </a:rPr>
              <a:t>«ПРОИЗВОДСТВО, ТРУД И ТЕХНОЛОГИИ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34000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 Black"/>
              </a:rPr>
              <a:t>АГАПКИНА  О.П., учитель технологии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 Black"/>
              </a:rPr>
              <a:t>высшей категории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 Black"/>
              </a:rPr>
              <a:t>МОУ СОШ № 30 г.Энгельса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 Black"/>
              </a:rPr>
              <a:t>2009 год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35280" y="333000"/>
            <a:ext cx="705312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 Black"/>
              </a:rPr>
              <a:t>Факторы макросреды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2364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Oval 4"/>
          <p:cNvSpPr/>
          <p:nvPr/>
        </p:nvSpPr>
        <p:spPr>
          <a:xfrm>
            <a:off x="2987640" y="1916280"/>
            <a:ext cx="3168720" cy="18018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computr1"/>
          <p:cNvSpPr/>
          <p:nvPr/>
        </p:nvSpPr>
        <p:spPr>
          <a:xfrm>
            <a:off x="4500720" y="4797360"/>
            <a:ext cx="2385720" cy="15224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Documents"/>
          <p:cNvSpPr/>
          <p:nvPr/>
        </p:nvSpPr>
        <p:spPr>
          <a:xfrm>
            <a:off x="539640" y="1557360"/>
            <a:ext cx="135252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итика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8" name="Group 7"/>
          <p:cNvGrpSpPr/>
          <p:nvPr/>
        </p:nvGrpSpPr>
        <p:grpSpPr>
          <a:xfrm>
            <a:off x="6948360" y="1484280"/>
            <a:ext cx="2195280" cy="1584000"/>
            <a:chOff x="6948360" y="1484280"/>
            <a:chExt cx="2195280" cy="1584000"/>
          </a:xfrm>
        </p:grpSpPr>
        <p:sp>
          <p:nvSpPr>
            <p:cNvPr id="139" name="Gear"/>
            <p:cNvSpPr/>
            <p:nvPr/>
          </p:nvSpPr>
          <p:spPr>
            <a:xfrm>
              <a:off x="8165520" y="1484280"/>
              <a:ext cx="978120" cy="726480"/>
            </a:xfrm>
            <a:custGeom>
              <a:avLst/>
              <a:gdLst>
                <a:gd name="textAreaLeft" fmla="*/ 198000 w 978120"/>
                <a:gd name="textAreaRight" fmla="*/ 807840 w 978120"/>
                <a:gd name="textAreaTop" fmla="*/ 132840 h 726480"/>
                <a:gd name="textAreaBottom" fmla="*/ 593640 h 72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AutoShape 9"/>
            <p:cNvSpPr/>
            <p:nvPr/>
          </p:nvSpPr>
          <p:spPr>
            <a:xfrm>
              <a:off x="6948360" y="1783440"/>
              <a:ext cx="1169640" cy="868320"/>
            </a:xfrm>
            <a:custGeom>
              <a:avLst/>
              <a:gdLst>
                <a:gd name="textAreaLeft" fmla="*/ 236520 w 1169640"/>
                <a:gd name="textAreaRight" fmla="*/ 965880 w 1169640"/>
                <a:gd name="textAreaTop" fmla="*/ 159120 h 868320"/>
                <a:gd name="textAreaBottom" fmla="*/ 709200 h 86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AutoShape 10"/>
            <p:cNvSpPr/>
            <p:nvPr/>
          </p:nvSpPr>
          <p:spPr>
            <a:xfrm>
              <a:off x="7706880" y="2103840"/>
              <a:ext cx="1299960" cy="964440"/>
            </a:xfrm>
            <a:custGeom>
              <a:avLst/>
              <a:gdLst>
                <a:gd name="textAreaLeft" fmla="*/ 263520 w 1299960"/>
                <a:gd name="textAreaRight" fmla="*/ 1074240 w 1299960"/>
                <a:gd name="textAreaTop" fmla="*/ 176400 h 964440"/>
                <a:gd name="textAreaBottom" fmla="*/ 787320 h 96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2" name="Group 11"/>
          <p:cNvGrpSpPr/>
          <p:nvPr/>
        </p:nvGrpSpPr>
        <p:grpSpPr>
          <a:xfrm>
            <a:off x="2340000" y="4581360"/>
            <a:ext cx="2087280" cy="1368360"/>
            <a:chOff x="2340000" y="4581360"/>
            <a:chExt cx="2087280" cy="1368360"/>
          </a:xfrm>
        </p:grpSpPr>
        <p:sp>
          <p:nvSpPr>
            <p:cNvPr id="143" name="Film"/>
            <p:cNvSpPr/>
            <p:nvPr/>
          </p:nvSpPr>
          <p:spPr>
            <a:xfrm>
              <a:off x="2340000" y="4929840"/>
              <a:ext cx="870840" cy="1019880"/>
            </a:xfrm>
            <a:custGeom>
              <a:avLst/>
              <a:gdLst>
                <a:gd name="textAreaLeft" fmla="*/ 200160 w 870840"/>
                <a:gd name="textAreaRight" fmla="*/ 688680 w 870840"/>
                <a:gd name="textAreaTop" fmla="*/ 384120 h 1019880"/>
                <a:gd name="textAreaBottom" fmla="*/ 634320 h 101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close/>
                </a:path>
                <a:path w="21600" h="21600">
                  <a:moveTo>
                    <a:pt x="3014" y="21600"/>
                  </a:moveTo>
                  <a:lnTo>
                    <a:pt x="3014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3014" y="21600"/>
                  </a:lnTo>
                  <a:close/>
                </a:path>
                <a:path w="21600" h="21600">
                  <a:moveTo>
                    <a:pt x="21600" y="21600"/>
                  </a:moveTo>
                  <a:lnTo>
                    <a:pt x="21600" y="0"/>
                  </a:lnTo>
                  <a:lnTo>
                    <a:pt x="18586" y="0"/>
                  </a:lnTo>
                  <a:lnTo>
                    <a:pt x="18586" y="21600"/>
                  </a:lnTo>
                  <a:lnTo>
                    <a:pt x="21600" y="21600"/>
                  </a:lnTo>
                  <a:close/>
                </a:path>
                <a:path w="21600" h="21600">
                  <a:moveTo>
                    <a:pt x="6028" y="6574"/>
                  </a:moveTo>
                  <a:lnTo>
                    <a:pt x="15572" y="6574"/>
                  </a:lnTo>
                  <a:lnTo>
                    <a:pt x="16074" y="6574"/>
                  </a:lnTo>
                  <a:lnTo>
                    <a:pt x="16326" y="6457"/>
                  </a:lnTo>
                  <a:lnTo>
                    <a:pt x="16577" y="6339"/>
                  </a:lnTo>
                  <a:lnTo>
                    <a:pt x="16828" y="6222"/>
                  </a:lnTo>
                  <a:lnTo>
                    <a:pt x="17079" y="6222"/>
                  </a:lnTo>
                  <a:lnTo>
                    <a:pt x="17330" y="5987"/>
                  </a:lnTo>
                  <a:lnTo>
                    <a:pt x="17330" y="5870"/>
                  </a:lnTo>
                  <a:lnTo>
                    <a:pt x="17581" y="5635"/>
                  </a:lnTo>
                  <a:lnTo>
                    <a:pt x="17581" y="1526"/>
                  </a:lnTo>
                  <a:lnTo>
                    <a:pt x="17330" y="1291"/>
                  </a:lnTo>
                  <a:lnTo>
                    <a:pt x="17330" y="1174"/>
                  </a:lnTo>
                  <a:lnTo>
                    <a:pt x="17079" y="1057"/>
                  </a:lnTo>
                  <a:lnTo>
                    <a:pt x="16828" y="939"/>
                  </a:lnTo>
                  <a:lnTo>
                    <a:pt x="16577" y="822"/>
                  </a:lnTo>
                  <a:lnTo>
                    <a:pt x="16326" y="704"/>
                  </a:lnTo>
                  <a:lnTo>
                    <a:pt x="16074" y="704"/>
                  </a:lnTo>
                  <a:lnTo>
                    <a:pt x="15572" y="587"/>
                  </a:lnTo>
                  <a:lnTo>
                    <a:pt x="6028" y="587"/>
                  </a:lnTo>
                  <a:lnTo>
                    <a:pt x="5526" y="704"/>
                  </a:lnTo>
                  <a:lnTo>
                    <a:pt x="5274" y="704"/>
                  </a:lnTo>
                  <a:lnTo>
                    <a:pt x="5023" y="822"/>
                  </a:lnTo>
                  <a:lnTo>
                    <a:pt x="4772" y="939"/>
                  </a:lnTo>
                  <a:lnTo>
                    <a:pt x="4521" y="1057"/>
                  </a:lnTo>
                  <a:lnTo>
                    <a:pt x="4270" y="1174"/>
                  </a:lnTo>
                  <a:lnTo>
                    <a:pt x="4270" y="1291"/>
                  </a:lnTo>
                  <a:lnTo>
                    <a:pt x="4019" y="1526"/>
                  </a:lnTo>
                  <a:lnTo>
                    <a:pt x="4019" y="5635"/>
                  </a:lnTo>
                  <a:lnTo>
                    <a:pt x="4270" y="5870"/>
                  </a:lnTo>
                  <a:lnTo>
                    <a:pt x="4270" y="5987"/>
                  </a:lnTo>
                  <a:lnTo>
                    <a:pt x="4521" y="6222"/>
                  </a:lnTo>
                  <a:lnTo>
                    <a:pt x="4772" y="6222"/>
                  </a:lnTo>
                  <a:lnTo>
                    <a:pt x="5023" y="6339"/>
                  </a:lnTo>
                  <a:lnTo>
                    <a:pt x="5274" y="6457"/>
                  </a:lnTo>
                  <a:lnTo>
                    <a:pt x="5526" y="6574"/>
                  </a:lnTo>
                  <a:lnTo>
                    <a:pt x="6028" y="6574"/>
                  </a:lnTo>
                  <a:close/>
                </a:path>
                <a:path w="21600" h="21600">
                  <a:moveTo>
                    <a:pt x="6028" y="13617"/>
                  </a:moveTo>
                  <a:lnTo>
                    <a:pt x="15572" y="13617"/>
                  </a:lnTo>
                  <a:lnTo>
                    <a:pt x="16074" y="13617"/>
                  </a:lnTo>
                  <a:lnTo>
                    <a:pt x="16326" y="13617"/>
                  </a:lnTo>
                  <a:lnTo>
                    <a:pt x="16577" y="13500"/>
                  </a:lnTo>
                  <a:lnTo>
                    <a:pt x="16828" y="13383"/>
                  </a:lnTo>
                  <a:lnTo>
                    <a:pt x="17079" y="13265"/>
                  </a:lnTo>
                  <a:lnTo>
                    <a:pt x="17330" y="13148"/>
                  </a:lnTo>
                  <a:lnTo>
                    <a:pt x="17330" y="12913"/>
                  </a:lnTo>
                  <a:lnTo>
                    <a:pt x="17581" y="12796"/>
                  </a:lnTo>
                  <a:lnTo>
                    <a:pt x="17581" y="8687"/>
                  </a:lnTo>
                  <a:lnTo>
                    <a:pt x="17330" y="8452"/>
                  </a:lnTo>
                  <a:lnTo>
                    <a:pt x="17330" y="8335"/>
                  </a:lnTo>
                  <a:lnTo>
                    <a:pt x="17079" y="8217"/>
                  </a:lnTo>
                  <a:lnTo>
                    <a:pt x="16828" y="7983"/>
                  </a:lnTo>
                  <a:lnTo>
                    <a:pt x="16577" y="7983"/>
                  </a:lnTo>
                  <a:lnTo>
                    <a:pt x="16326" y="7865"/>
                  </a:lnTo>
                  <a:lnTo>
                    <a:pt x="16074" y="7865"/>
                  </a:lnTo>
                  <a:lnTo>
                    <a:pt x="15572" y="7748"/>
                  </a:lnTo>
                  <a:lnTo>
                    <a:pt x="6028" y="7748"/>
                  </a:lnTo>
                  <a:lnTo>
                    <a:pt x="5526" y="7865"/>
                  </a:lnTo>
                  <a:lnTo>
                    <a:pt x="5274" y="7865"/>
                  </a:lnTo>
                  <a:lnTo>
                    <a:pt x="5023" y="7983"/>
                  </a:lnTo>
                  <a:lnTo>
                    <a:pt x="4772" y="7983"/>
                  </a:lnTo>
                  <a:lnTo>
                    <a:pt x="4521" y="8217"/>
                  </a:lnTo>
                  <a:lnTo>
                    <a:pt x="4270" y="8335"/>
                  </a:lnTo>
                  <a:lnTo>
                    <a:pt x="4270" y="8452"/>
                  </a:lnTo>
                  <a:lnTo>
                    <a:pt x="4019" y="8687"/>
                  </a:lnTo>
                  <a:lnTo>
                    <a:pt x="4019" y="12796"/>
                  </a:lnTo>
                  <a:lnTo>
                    <a:pt x="4270" y="12913"/>
                  </a:lnTo>
                  <a:lnTo>
                    <a:pt x="4270" y="13148"/>
                  </a:lnTo>
                  <a:lnTo>
                    <a:pt x="4521" y="13265"/>
                  </a:lnTo>
                  <a:lnTo>
                    <a:pt x="4772" y="13383"/>
                  </a:lnTo>
                  <a:lnTo>
                    <a:pt x="5023" y="13500"/>
                  </a:lnTo>
                  <a:lnTo>
                    <a:pt x="5274" y="13617"/>
                  </a:lnTo>
                  <a:lnTo>
                    <a:pt x="5526" y="13617"/>
                  </a:lnTo>
                  <a:lnTo>
                    <a:pt x="6028" y="13617"/>
                  </a:lnTo>
                  <a:close/>
                </a:path>
                <a:path w="21600" h="21600">
                  <a:moveTo>
                    <a:pt x="6028" y="20778"/>
                  </a:moveTo>
                  <a:lnTo>
                    <a:pt x="15572" y="20778"/>
                  </a:lnTo>
                  <a:lnTo>
                    <a:pt x="16074" y="20778"/>
                  </a:lnTo>
                  <a:lnTo>
                    <a:pt x="16326" y="20661"/>
                  </a:lnTo>
                  <a:lnTo>
                    <a:pt x="16577" y="20661"/>
                  </a:lnTo>
                  <a:lnTo>
                    <a:pt x="16828" y="20543"/>
                  </a:lnTo>
                  <a:lnTo>
                    <a:pt x="17079" y="20426"/>
                  </a:lnTo>
                  <a:lnTo>
                    <a:pt x="17330" y="20309"/>
                  </a:lnTo>
                  <a:lnTo>
                    <a:pt x="17330" y="20074"/>
                  </a:lnTo>
                  <a:lnTo>
                    <a:pt x="17581" y="19957"/>
                  </a:lnTo>
                  <a:lnTo>
                    <a:pt x="17581" y="15730"/>
                  </a:lnTo>
                  <a:lnTo>
                    <a:pt x="17330" y="15613"/>
                  </a:lnTo>
                  <a:lnTo>
                    <a:pt x="17330" y="15378"/>
                  </a:lnTo>
                  <a:lnTo>
                    <a:pt x="17079" y="15378"/>
                  </a:lnTo>
                  <a:lnTo>
                    <a:pt x="16828" y="15143"/>
                  </a:lnTo>
                  <a:lnTo>
                    <a:pt x="16577" y="15026"/>
                  </a:lnTo>
                  <a:lnTo>
                    <a:pt x="16326" y="15026"/>
                  </a:lnTo>
                  <a:lnTo>
                    <a:pt x="16074" y="15026"/>
                  </a:lnTo>
                  <a:lnTo>
                    <a:pt x="15572" y="14909"/>
                  </a:lnTo>
                  <a:lnTo>
                    <a:pt x="6028" y="14909"/>
                  </a:lnTo>
                  <a:lnTo>
                    <a:pt x="5526" y="15026"/>
                  </a:lnTo>
                  <a:lnTo>
                    <a:pt x="5274" y="15026"/>
                  </a:lnTo>
                  <a:lnTo>
                    <a:pt x="5023" y="15026"/>
                  </a:lnTo>
                  <a:lnTo>
                    <a:pt x="4772" y="15143"/>
                  </a:lnTo>
                  <a:lnTo>
                    <a:pt x="4521" y="15378"/>
                  </a:lnTo>
                  <a:lnTo>
                    <a:pt x="4270" y="15378"/>
                  </a:lnTo>
                  <a:lnTo>
                    <a:pt x="4270" y="15613"/>
                  </a:lnTo>
                  <a:lnTo>
                    <a:pt x="4019" y="15730"/>
                  </a:lnTo>
                  <a:lnTo>
                    <a:pt x="4019" y="19957"/>
                  </a:lnTo>
                  <a:lnTo>
                    <a:pt x="4270" y="20074"/>
                  </a:lnTo>
                  <a:lnTo>
                    <a:pt x="4270" y="20309"/>
                  </a:lnTo>
                  <a:lnTo>
                    <a:pt x="4521" y="20426"/>
                  </a:lnTo>
                  <a:lnTo>
                    <a:pt x="4772" y="20543"/>
                  </a:lnTo>
                  <a:lnTo>
                    <a:pt x="5023" y="20661"/>
                  </a:lnTo>
                  <a:lnTo>
                    <a:pt x="5274" y="20661"/>
                  </a:lnTo>
                  <a:lnTo>
                    <a:pt x="5526" y="20778"/>
                  </a:lnTo>
                  <a:lnTo>
                    <a:pt x="6028" y="20778"/>
                  </a:lnTo>
                  <a:close/>
                </a:path>
                <a:path w="21600" h="21600">
                  <a:moveTo>
                    <a:pt x="753" y="1291"/>
                  </a:moveTo>
                  <a:lnTo>
                    <a:pt x="2260" y="1291"/>
                  </a:lnTo>
                  <a:lnTo>
                    <a:pt x="2260" y="235"/>
                  </a:lnTo>
                  <a:lnTo>
                    <a:pt x="753" y="235"/>
                  </a:lnTo>
                  <a:lnTo>
                    <a:pt x="753" y="1291"/>
                  </a:lnTo>
                  <a:close/>
                </a:path>
                <a:path w="21600" h="21600">
                  <a:moveTo>
                    <a:pt x="753" y="2700"/>
                  </a:moveTo>
                  <a:lnTo>
                    <a:pt x="2260" y="2700"/>
                  </a:lnTo>
                  <a:lnTo>
                    <a:pt x="2260" y="1643"/>
                  </a:lnTo>
                  <a:lnTo>
                    <a:pt x="753" y="1643"/>
                  </a:lnTo>
                  <a:lnTo>
                    <a:pt x="753" y="2700"/>
                  </a:lnTo>
                  <a:close/>
                </a:path>
                <a:path w="21600" h="21600">
                  <a:moveTo>
                    <a:pt x="753" y="4109"/>
                  </a:moveTo>
                  <a:lnTo>
                    <a:pt x="2260" y="4109"/>
                  </a:lnTo>
                  <a:lnTo>
                    <a:pt x="2260" y="3052"/>
                  </a:lnTo>
                  <a:lnTo>
                    <a:pt x="753" y="3052"/>
                  </a:lnTo>
                  <a:lnTo>
                    <a:pt x="753" y="4109"/>
                  </a:lnTo>
                  <a:close/>
                </a:path>
                <a:path w="21600" h="21600">
                  <a:moveTo>
                    <a:pt x="753" y="5517"/>
                  </a:moveTo>
                  <a:lnTo>
                    <a:pt x="2260" y="5517"/>
                  </a:lnTo>
                  <a:lnTo>
                    <a:pt x="2260" y="4461"/>
                  </a:lnTo>
                  <a:lnTo>
                    <a:pt x="753" y="4461"/>
                  </a:lnTo>
                  <a:lnTo>
                    <a:pt x="753" y="5517"/>
                  </a:lnTo>
                  <a:close/>
                </a:path>
                <a:path w="21600" h="21600">
                  <a:moveTo>
                    <a:pt x="753" y="6926"/>
                  </a:moveTo>
                  <a:lnTo>
                    <a:pt x="2260" y="6926"/>
                  </a:lnTo>
                  <a:lnTo>
                    <a:pt x="2260" y="5870"/>
                  </a:lnTo>
                  <a:lnTo>
                    <a:pt x="753" y="5870"/>
                  </a:lnTo>
                  <a:lnTo>
                    <a:pt x="753" y="6926"/>
                  </a:lnTo>
                  <a:close/>
                </a:path>
                <a:path w="21600" h="21600">
                  <a:moveTo>
                    <a:pt x="753" y="8335"/>
                  </a:moveTo>
                  <a:lnTo>
                    <a:pt x="2260" y="8335"/>
                  </a:lnTo>
                  <a:lnTo>
                    <a:pt x="2260" y="7278"/>
                  </a:lnTo>
                  <a:lnTo>
                    <a:pt x="753" y="7278"/>
                  </a:lnTo>
                  <a:lnTo>
                    <a:pt x="753" y="8335"/>
                  </a:lnTo>
                  <a:close/>
                </a:path>
                <a:path w="21600" h="21600">
                  <a:moveTo>
                    <a:pt x="753" y="9743"/>
                  </a:moveTo>
                  <a:lnTo>
                    <a:pt x="2260" y="9743"/>
                  </a:lnTo>
                  <a:lnTo>
                    <a:pt x="2260" y="8687"/>
                  </a:lnTo>
                  <a:lnTo>
                    <a:pt x="753" y="8687"/>
                  </a:lnTo>
                  <a:lnTo>
                    <a:pt x="753" y="9743"/>
                  </a:lnTo>
                  <a:close/>
                </a:path>
                <a:path w="21600" h="21600">
                  <a:moveTo>
                    <a:pt x="753" y="11152"/>
                  </a:moveTo>
                  <a:lnTo>
                    <a:pt x="2260" y="11152"/>
                  </a:lnTo>
                  <a:lnTo>
                    <a:pt x="2260" y="10096"/>
                  </a:lnTo>
                  <a:lnTo>
                    <a:pt x="753" y="10096"/>
                  </a:lnTo>
                  <a:lnTo>
                    <a:pt x="753" y="11152"/>
                  </a:lnTo>
                  <a:close/>
                </a:path>
                <a:path w="21600" h="21600">
                  <a:moveTo>
                    <a:pt x="753" y="12561"/>
                  </a:moveTo>
                  <a:lnTo>
                    <a:pt x="2260" y="12561"/>
                  </a:lnTo>
                  <a:lnTo>
                    <a:pt x="2260" y="11504"/>
                  </a:lnTo>
                  <a:lnTo>
                    <a:pt x="753" y="11504"/>
                  </a:lnTo>
                  <a:lnTo>
                    <a:pt x="753" y="12561"/>
                  </a:lnTo>
                  <a:close/>
                </a:path>
                <a:path w="21600" h="21600">
                  <a:moveTo>
                    <a:pt x="753" y="13970"/>
                  </a:moveTo>
                  <a:lnTo>
                    <a:pt x="2260" y="13970"/>
                  </a:lnTo>
                  <a:lnTo>
                    <a:pt x="2260" y="12913"/>
                  </a:lnTo>
                  <a:lnTo>
                    <a:pt x="753" y="12913"/>
                  </a:lnTo>
                  <a:lnTo>
                    <a:pt x="753" y="13970"/>
                  </a:lnTo>
                  <a:close/>
                </a:path>
                <a:path w="21600" h="21600">
                  <a:moveTo>
                    <a:pt x="753" y="15378"/>
                  </a:moveTo>
                  <a:lnTo>
                    <a:pt x="2260" y="15378"/>
                  </a:lnTo>
                  <a:lnTo>
                    <a:pt x="2260" y="14322"/>
                  </a:lnTo>
                  <a:lnTo>
                    <a:pt x="753" y="14322"/>
                  </a:lnTo>
                  <a:lnTo>
                    <a:pt x="753" y="15378"/>
                  </a:lnTo>
                  <a:close/>
                </a:path>
                <a:path w="21600" h="21600">
                  <a:moveTo>
                    <a:pt x="753" y="16787"/>
                  </a:moveTo>
                  <a:lnTo>
                    <a:pt x="2260" y="16787"/>
                  </a:lnTo>
                  <a:lnTo>
                    <a:pt x="2260" y="15730"/>
                  </a:lnTo>
                  <a:lnTo>
                    <a:pt x="753" y="15730"/>
                  </a:lnTo>
                  <a:lnTo>
                    <a:pt x="753" y="16787"/>
                  </a:lnTo>
                  <a:close/>
                </a:path>
                <a:path w="21600" h="21600">
                  <a:moveTo>
                    <a:pt x="753" y="18196"/>
                  </a:moveTo>
                  <a:lnTo>
                    <a:pt x="2260" y="18196"/>
                  </a:lnTo>
                  <a:lnTo>
                    <a:pt x="2260" y="17139"/>
                  </a:lnTo>
                  <a:lnTo>
                    <a:pt x="753" y="17139"/>
                  </a:lnTo>
                  <a:lnTo>
                    <a:pt x="753" y="18196"/>
                  </a:lnTo>
                  <a:close/>
                </a:path>
                <a:path w="21600" h="21600">
                  <a:moveTo>
                    <a:pt x="753" y="19604"/>
                  </a:moveTo>
                  <a:lnTo>
                    <a:pt x="2260" y="19604"/>
                  </a:lnTo>
                  <a:lnTo>
                    <a:pt x="2260" y="18548"/>
                  </a:lnTo>
                  <a:lnTo>
                    <a:pt x="753" y="18548"/>
                  </a:lnTo>
                  <a:lnTo>
                    <a:pt x="753" y="19604"/>
                  </a:lnTo>
                  <a:close/>
                </a:path>
                <a:path w="21600" h="21600">
                  <a:moveTo>
                    <a:pt x="753" y="21013"/>
                  </a:moveTo>
                  <a:lnTo>
                    <a:pt x="2260" y="21013"/>
                  </a:lnTo>
                  <a:lnTo>
                    <a:pt x="2260" y="19957"/>
                  </a:lnTo>
                  <a:lnTo>
                    <a:pt x="753" y="19957"/>
                  </a:lnTo>
                  <a:lnTo>
                    <a:pt x="753" y="21013"/>
                  </a:lnTo>
                  <a:close/>
                </a:path>
                <a:path w="21600" h="21600">
                  <a:moveTo>
                    <a:pt x="19340" y="1409"/>
                  </a:moveTo>
                  <a:lnTo>
                    <a:pt x="20595" y="1409"/>
                  </a:lnTo>
                  <a:lnTo>
                    <a:pt x="20595" y="352"/>
                  </a:lnTo>
                  <a:lnTo>
                    <a:pt x="19340" y="352"/>
                  </a:lnTo>
                  <a:lnTo>
                    <a:pt x="19340" y="1409"/>
                  </a:lnTo>
                  <a:close/>
                </a:path>
                <a:path w="21600" h="21600">
                  <a:moveTo>
                    <a:pt x="19340" y="2700"/>
                  </a:moveTo>
                  <a:lnTo>
                    <a:pt x="20595" y="2700"/>
                  </a:lnTo>
                  <a:lnTo>
                    <a:pt x="20595" y="1643"/>
                  </a:lnTo>
                  <a:lnTo>
                    <a:pt x="19340" y="1643"/>
                  </a:lnTo>
                  <a:lnTo>
                    <a:pt x="19340" y="2700"/>
                  </a:lnTo>
                  <a:close/>
                </a:path>
                <a:path w="21600" h="21600">
                  <a:moveTo>
                    <a:pt x="19340" y="4109"/>
                  </a:moveTo>
                  <a:lnTo>
                    <a:pt x="20595" y="4109"/>
                  </a:lnTo>
                  <a:lnTo>
                    <a:pt x="20595" y="3052"/>
                  </a:lnTo>
                  <a:lnTo>
                    <a:pt x="19340" y="3052"/>
                  </a:lnTo>
                  <a:lnTo>
                    <a:pt x="19340" y="4109"/>
                  </a:lnTo>
                  <a:close/>
                </a:path>
                <a:path w="21600" h="21600">
                  <a:moveTo>
                    <a:pt x="19340" y="5517"/>
                  </a:moveTo>
                  <a:lnTo>
                    <a:pt x="20595" y="5517"/>
                  </a:lnTo>
                  <a:lnTo>
                    <a:pt x="20595" y="4461"/>
                  </a:lnTo>
                  <a:lnTo>
                    <a:pt x="19340" y="4461"/>
                  </a:lnTo>
                  <a:lnTo>
                    <a:pt x="19340" y="5517"/>
                  </a:lnTo>
                  <a:close/>
                </a:path>
                <a:path w="21600" h="21600">
                  <a:moveTo>
                    <a:pt x="19340" y="6926"/>
                  </a:moveTo>
                  <a:lnTo>
                    <a:pt x="20595" y="6926"/>
                  </a:lnTo>
                  <a:lnTo>
                    <a:pt x="20595" y="5870"/>
                  </a:lnTo>
                  <a:lnTo>
                    <a:pt x="19340" y="5870"/>
                  </a:lnTo>
                  <a:lnTo>
                    <a:pt x="19340" y="6926"/>
                  </a:lnTo>
                  <a:close/>
                </a:path>
                <a:path w="21600" h="21600">
                  <a:moveTo>
                    <a:pt x="19340" y="8335"/>
                  </a:moveTo>
                  <a:lnTo>
                    <a:pt x="20595" y="8335"/>
                  </a:lnTo>
                  <a:lnTo>
                    <a:pt x="20595" y="7278"/>
                  </a:lnTo>
                  <a:lnTo>
                    <a:pt x="19340" y="7278"/>
                  </a:lnTo>
                  <a:lnTo>
                    <a:pt x="19340" y="8335"/>
                  </a:lnTo>
                  <a:close/>
                </a:path>
                <a:path w="21600" h="21600">
                  <a:moveTo>
                    <a:pt x="19340" y="9743"/>
                  </a:moveTo>
                  <a:lnTo>
                    <a:pt x="20595" y="9743"/>
                  </a:lnTo>
                  <a:lnTo>
                    <a:pt x="20595" y="8687"/>
                  </a:lnTo>
                  <a:lnTo>
                    <a:pt x="19340" y="8687"/>
                  </a:lnTo>
                  <a:lnTo>
                    <a:pt x="19340" y="9743"/>
                  </a:lnTo>
                  <a:close/>
                </a:path>
                <a:path w="21600" h="21600">
                  <a:moveTo>
                    <a:pt x="19340" y="11152"/>
                  </a:moveTo>
                  <a:lnTo>
                    <a:pt x="20595" y="11152"/>
                  </a:lnTo>
                  <a:lnTo>
                    <a:pt x="20595" y="10096"/>
                  </a:lnTo>
                  <a:lnTo>
                    <a:pt x="19340" y="10096"/>
                  </a:lnTo>
                  <a:lnTo>
                    <a:pt x="19340" y="11152"/>
                  </a:lnTo>
                  <a:close/>
                </a:path>
                <a:path w="21600" h="21600">
                  <a:moveTo>
                    <a:pt x="19340" y="12561"/>
                  </a:moveTo>
                  <a:lnTo>
                    <a:pt x="20595" y="12561"/>
                  </a:lnTo>
                  <a:lnTo>
                    <a:pt x="20595" y="11504"/>
                  </a:lnTo>
                  <a:lnTo>
                    <a:pt x="19340" y="11504"/>
                  </a:lnTo>
                  <a:lnTo>
                    <a:pt x="19340" y="12561"/>
                  </a:lnTo>
                  <a:close/>
                </a:path>
                <a:path w="21600" h="21600">
                  <a:moveTo>
                    <a:pt x="19340" y="13970"/>
                  </a:moveTo>
                  <a:lnTo>
                    <a:pt x="20595" y="13970"/>
                  </a:lnTo>
                  <a:lnTo>
                    <a:pt x="20595" y="12913"/>
                  </a:lnTo>
                  <a:lnTo>
                    <a:pt x="19340" y="12913"/>
                  </a:lnTo>
                  <a:lnTo>
                    <a:pt x="19340" y="13970"/>
                  </a:lnTo>
                  <a:close/>
                </a:path>
                <a:path w="21600" h="21600">
                  <a:moveTo>
                    <a:pt x="19340" y="15378"/>
                  </a:moveTo>
                  <a:lnTo>
                    <a:pt x="20595" y="15378"/>
                  </a:lnTo>
                  <a:lnTo>
                    <a:pt x="20595" y="14322"/>
                  </a:lnTo>
                  <a:lnTo>
                    <a:pt x="19340" y="14322"/>
                  </a:lnTo>
                  <a:lnTo>
                    <a:pt x="19340" y="15378"/>
                  </a:lnTo>
                  <a:close/>
                </a:path>
                <a:path w="21600" h="21600">
                  <a:moveTo>
                    <a:pt x="19340" y="16787"/>
                  </a:moveTo>
                  <a:lnTo>
                    <a:pt x="20595" y="16787"/>
                  </a:lnTo>
                  <a:lnTo>
                    <a:pt x="20595" y="15730"/>
                  </a:lnTo>
                  <a:lnTo>
                    <a:pt x="19340" y="15730"/>
                  </a:lnTo>
                  <a:lnTo>
                    <a:pt x="19340" y="16787"/>
                  </a:lnTo>
                  <a:close/>
                </a:path>
                <a:path w="21600" h="21600">
                  <a:moveTo>
                    <a:pt x="19340" y="18196"/>
                  </a:moveTo>
                  <a:lnTo>
                    <a:pt x="20595" y="18196"/>
                  </a:lnTo>
                  <a:lnTo>
                    <a:pt x="20595" y="17139"/>
                  </a:lnTo>
                  <a:lnTo>
                    <a:pt x="19340" y="17139"/>
                  </a:lnTo>
                  <a:lnTo>
                    <a:pt x="19340" y="18196"/>
                  </a:lnTo>
                  <a:close/>
                </a:path>
                <a:path w="21600" h="21600">
                  <a:moveTo>
                    <a:pt x="19340" y="19604"/>
                  </a:moveTo>
                  <a:lnTo>
                    <a:pt x="20595" y="19604"/>
                  </a:lnTo>
                  <a:lnTo>
                    <a:pt x="20595" y="18548"/>
                  </a:lnTo>
                  <a:lnTo>
                    <a:pt x="19340" y="18548"/>
                  </a:lnTo>
                  <a:lnTo>
                    <a:pt x="19340" y="19604"/>
                  </a:lnTo>
                  <a:close/>
                </a:path>
                <a:path w="21600" h="21600">
                  <a:moveTo>
                    <a:pt x="19340" y="21013"/>
                  </a:moveTo>
                  <a:lnTo>
                    <a:pt x="20595" y="21013"/>
                  </a:lnTo>
                  <a:lnTo>
                    <a:pt x="20595" y="19957"/>
                  </a:lnTo>
                  <a:lnTo>
                    <a:pt x="19340" y="19957"/>
                  </a:lnTo>
                  <a:lnTo>
                    <a:pt x="19340" y="21013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Sound"/>
            <p:cNvSpPr/>
            <p:nvPr/>
          </p:nvSpPr>
          <p:spPr>
            <a:xfrm>
              <a:off x="2843640" y="4581360"/>
              <a:ext cx="1209240" cy="676440"/>
            </a:xfrm>
            <a:custGeom>
              <a:avLst/>
              <a:gdLst>
                <a:gd name="textAreaLeft" fmla="*/ 12960 w 1209240"/>
                <a:gd name="textAreaRight" fmla="*/ 602280 w 1209240"/>
                <a:gd name="textAreaTop" fmla="*/ 237600 h 676440"/>
                <a:gd name="textAreaBottom" fmla="*/ 424440 h 67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7273"/>
                  </a:moveTo>
                  <a:lnTo>
                    <a:pt x="5824" y="7273"/>
                  </a:lnTo>
                  <a:lnTo>
                    <a:pt x="11164" y="0"/>
                  </a:lnTo>
                  <a:lnTo>
                    <a:pt x="11164" y="21159"/>
                  </a:lnTo>
                  <a:lnTo>
                    <a:pt x="5824" y="13885"/>
                  </a:lnTo>
                  <a:lnTo>
                    <a:pt x="0" y="13885"/>
                  </a:lnTo>
                  <a:lnTo>
                    <a:pt x="0" y="7273"/>
                  </a:lnTo>
                  <a:close/>
                </a:path>
                <a:path w="21600" h="21600">
                  <a:moveTo>
                    <a:pt x="13024" y="7273"/>
                  </a:moveTo>
                  <a:lnTo>
                    <a:pt x="13591" y="6722"/>
                  </a:lnTo>
                  <a:lnTo>
                    <a:pt x="13833" y="7548"/>
                  </a:lnTo>
                  <a:lnTo>
                    <a:pt x="14076" y="8485"/>
                  </a:lnTo>
                  <a:lnTo>
                    <a:pt x="14157" y="9367"/>
                  </a:lnTo>
                  <a:lnTo>
                    <a:pt x="14197" y="10524"/>
                  </a:lnTo>
                  <a:lnTo>
                    <a:pt x="14197" y="11406"/>
                  </a:lnTo>
                  <a:lnTo>
                    <a:pt x="14116" y="12012"/>
                  </a:lnTo>
                  <a:lnTo>
                    <a:pt x="13995" y="12728"/>
                  </a:lnTo>
                  <a:lnTo>
                    <a:pt x="13833" y="13444"/>
                  </a:lnTo>
                  <a:lnTo>
                    <a:pt x="13712" y="14106"/>
                  </a:lnTo>
                  <a:lnTo>
                    <a:pt x="13591" y="14546"/>
                  </a:lnTo>
                  <a:lnTo>
                    <a:pt x="13065" y="13885"/>
                  </a:lnTo>
                  <a:lnTo>
                    <a:pt x="13307" y="12893"/>
                  </a:lnTo>
                  <a:lnTo>
                    <a:pt x="13469" y="11791"/>
                  </a:lnTo>
                  <a:lnTo>
                    <a:pt x="13550" y="10910"/>
                  </a:lnTo>
                  <a:lnTo>
                    <a:pt x="13591" y="10138"/>
                  </a:lnTo>
                  <a:lnTo>
                    <a:pt x="13469" y="9367"/>
                  </a:lnTo>
                  <a:lnTo>
                    <a:pt x="13388" y="8595"/>
                  </a:lnTo>
                  <a:lnTo>
                    <a:pt x="13267" y="7934"/>
                  </a:lnTo>
                  <a:lnTo>
                    <a:pt x="13024" y="7273"/>
                  </a:lnTo>
                  <a:close/>
                </a:path>
                <a:path w="21600" h="21600">
                  <a:moveTo>
                    <a:pt x="16382" y="3967"/>
                  </a:moveTo>
                  <a:lnTo>
                    <a:pt x="16786" y="5179"/>
                  </a:lnTo>
                  <a:lnTo>
                    <a:pt x="17150" y="6612"/>
                  </a:lnTo>
                  <a:lnTo>
                    <a:pt x="17474" y="8651"/>
                  </a:lnTo>
                  <a:lnTo>
                    <a:pt x="17595" y="9753"/>
                  </a:lnTo>
                  <a:lnTo>
                    <a:pt x="17635" y="12012"/>
                  </a:lnTo>
                  <a:lnTo>
                    <a:pt x="17393" y="13665"/>
                  </a:lnTo>
                  <a:lnTo>
                    <a:pt x="17150" y="15208"/>
                  </a:lnTo>
                  <a:lnTo>
                    <a:pt x="16786" y="16310"/>
                  </a:lnTo>
                  <a:lnTo>
                    <a:pt x="16341" y="17687"/>
                  </a:lnTo>
                  <a:lnTo>
                    <a:pt x="15815" y="17081"/>
                  </a:lnTo>
                  <a:lnTo>
                    <a:pt x="16503" y="14602"/>
                  </a:lnTo>
                  <a:lnTo>
                    <a:pt x="16786" y="13169"/>
                  </a:lnTo>
                  <a:lnTo>
                    <a:pt x="16867" y="12012"/>
                  </a:lnTo>
                  <a:lnTo>
                    <a:pt x="16867" y="9642"/>
                  </a:lnTo>
                  <a:lnTo>
                    <a:pt x="16705" y="7989"/>
                  </a:lnTo>
                  <a:lnTo>
                    <a:pt x="16422" y="6612"/>
                  </a:lnTo>
                  <a:lnTo>
                    <a:pt x="16220" y="5675"/>
                  </a:lnTo>
                  <a:lnTo>
                    <a:pt x="15856" y="4518"/>
                  </a:lnTo>
                  <a:lnTo>
                    <a:pt x="16382" y="3967"/>
                  </a:lnTo>
                  <a:close/>
                </a:path>
                <a:path w="21600" h="21600">
                  <a:moveTo>
                    <a:pt x="18889" y="1377"/>
                  </a:moveTo>
                  <a:lnTo>
                    <a:pt x="19415" y="826"/>
                  </a:lnTo>
                  <a:lnTo>
                    <a:pt x="20194" y="2576"/>
                  </a:lnTo>
                  <a:lnTo>
                    <a:pt x="20831" y="4683"/>
                  </a:lnTo>
                  <a:lnTo>
                    <a:pt x="21357" y="7204"/>
                  </a:lnTo>
                  <a:lnTo>
                    <a:pt x="21650" y="9450"/>
                  </a:lnTo>
                  <a:lnTo>
                    <a:pt x="21600" y="12301"/>
                  </a:lnTo>
                  <a:lnTo>
                    <a:pt x="21215" y="15938"/>
                  </a:lnTo>
                  <a:lnTo>
                    <a:pt x="20629" y="18348"/>
                  </a:lnTo>
                  <a:lnTo>
                    <a:pt x="19415" y="21655"/>
                  </a:lnTo>
                  <a:lnTo>
                    <a:pt x="18889" y="21159"/>
                  </a:lnTo>
                  <a:lnTo>
                    <a:pt x="19901" y="18404"/>
                  </a:lnTo>
                  <a:lnTo>
                    <a:pt x="20467" y="15593"/>
                  </a:lnTo>
                  <a:lnTo>
                    <a:pt x="20791" y="12342"/>
                  </a:lnTo>
                  <a:lnTo>
                    <a:pt x="20871" y="9532"/>
                  </a:lnTo>
                  <a:lnTo>
                    <a:pt x="20629" y="7411"/>
                  </a:lnTo>
                  <a:lnTo>
                    <a:pt x="20062" y="4628"/>
                  </a:lnTo>
                  <a:lnTo>
                    <a:pt x="19415" y="2810"/>
                  </a:lnTo>
                  <a:lnTo>
                    <a:pt x="18889" y="1377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Photo"/>
            <p:cNvSpPr/>
            <p:nvPr/>
          </p:nvSpPr>
          <p:spPr>
            <a:xfrm>
              <a:off x="3304440" y="4982760"/>
              <a:ext cx="1122840" cy="612720"/>
            </a:xfrm>
            <a:custGeom>
              <a:avLst/>
              <a:gdLst>
                <a:gd name="textAreaLeft" fmla="*/ 404280 w 1122840"/>
                <a:gd name="textAreaRight" fmla="*/ 714960 w 1122840"/>
                <a:gd name="textAreaTop" fmla="*/ 233280 h 612720"/>
                <a:gd name="textAreaBottom" fmla="*/ 479160 h 6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3085"/>
                  </a:lnTo>
                  <a:lnTo>
                    <a:pt x="1542" y="3085"/>
                  </a:lnTo>
                  <a:lnTo>
                    <a:pt x="1542" y="1028"/>
                  </a:lnTo>
                  <a:lnTo>
                    <a:pt x="3857" y="1028"/>
                  </a:lnTo>
                  <a:lnTo>
                    <a:pt x="3857" y="3085"/>
                  </a:lnTo>
                  <a:lnTo>
                    <a:pt x="5400" y="3085"/>
                  </a:lnTo>
                  <a:lnTo>
                    <a:pt x="6942" y="0"/>
                  </a:lnTo>
                  <a:lnTo>
                    <a:pt x="14657" y="0"/>
                  </a:lnTo>
                  <a:lnTo>
                    <a:pt x="16200" y="3085"/>
                  </a:lnTo>
                  <a:lnTo>
                    <a:pt x="21600" y="3085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0" y="3085"/>
                  </a:moveTo>
                  <a:lnTo>
                    <a:pt x="21600" y="3085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3085"/>
                  </a:lnTo>
                  <a:close/>
                </a:path>
                <a:path w="21600" h="21600">
                  <a:moveTo>
                    <a:pt x="10800" y="4800"/>
                  </a:moveTo>
                  <a:lnTo>
                    <a:pt x="11925" y="4971"/>
                  </a:lnTo>
                  <a:lnTo>
                    <a:pt x="13017" y="5442"/>
                  </a:lnTo>
                  <a:lnTo>
                    <a:pt x="14046" y="6128"/>
                  </a:lnTo>
                  <a:lnTo>
                    <a:pt x="14914" y="7071"/>
                  </a:lnTo>
                  <a:lnTo>
                    <a:pt x="15621" y="8271"/>
                  </a:lnTo>
                  <a:lnTo>
                    <a:pt x="16167" y="9514"/>
                  </a:lnTo>
                  <a:lnTo>
                    <a:pt x="16425" y="11014"/>
                  </a:lnTo>
                  <a:lnTo>
                    <a:pt x="16585" y="12471"/>
                  </a:lnTo>
                  <a:lnTo>
                    <a:pt x="16489" y="14014"/>
                  </a:lnTo>
                  <a:lnTo>
                    <a:pt x="16135" y="15471"/>
                  </a:lnTo>
                  <a:lnTo>
                    <a:pt x="15621" y="16800"/>
                  </a:lnTo>
                  <a:lnTo>
                    <a:pt x="14914" y="18000"/>
                  </a:lnTo>
                  <a:lnTo>
                    <a:pt x="14046" y="18942"/>
                  </a:lnTo>
                  <a:lnTo>
                    <a:pt x="13050" y="19671"/>
                  </a:lnTo>
                  <a:lnTo>
                    <a:pt x="11925" y="20057"/>
                  </a:lnTo>
                  <a:lnTo>
                    <a:pt x="10832" y="20185"/>
                  </a:lnTo>
                  <a:lnTo>
                    <a:pt x="9675" y="20142"/>
                  </a:lnTo>
                  <a:lnTo>
                    <a:pt x="8582" y="19628"/>
                  </a:lnTo>
                  <a:lnTo>
                    <a:pt x="7553" y="18942"/>
                  </a:lnTo>
                  <a:lnTo>
                    <a:pt x="6717" y="17957"/>
                  </a:lnTo>
                  <a:lnTo>
                    <a:pt x="5946" y="16842"/>
                  </a:lnTo>
                  <a:lnTo>
                    <a:pt x="5464" y="15514"/>
                  </a:lnTo>
                  <a:lnTo>
                    <a:pt x="5078" y="14014"/>
                  </a:lnTo>
                  <a:lnTo>
                    <a:pt x="5014" y="12514"/>
                  </a:lnTo>
                  <a:lnTo>
                    <a:pt x="5110" y="11014"/>
                  </a:lnTo>
                  <a:lnTo>
                    <a:pt x="5528" y="9557"/>
                  </a:lnTo>
                  <a:lnTo>
                    <a:pt x="6010" y="8228"/>
                  </a:lnTo>
                  <a:lnTo>
                    <a:pt x="6750" y="7114"/>
                  </a:lnTo>
                  <a:lnTo>
                    <a:pt x="7650" y="6085"/>
                  </a:lnTo>
                  <a:lnTo>
                    <a:pt x="8614" y="5400"/>
                  </a:lnTo>
                  <a:lnTo>
                    <a:pt x="9707" y="4971"/>
                  </a:lnTo>
                  <a:lnTo>
                    <a:pt x="10800" y="4800"/>
                  </a:lnTo>
                  <a:close/>
                </a:path>
                <a:path w="21600" h="21600">
                  <a:moveTo>
                    <a:pt x="8003" y="8057"/>
                  </a:moveTo>
                  <a:lnTo>
                    <a:pt x="8807" y="7371"/>
                  </a:lnTo>
                  <a:lnTo>
                    <a:pt x="9546" y="6985"/>
                  </a:lnTo>
                  <a:lnTo>
                    <a:pt x="10446" y="6771"/>
                  </a:lnTo>
                  <a:lnTo>
                    <a:pt x="11217" y="6771"/>
                  </a:lnTo>
                  <a:lnTo>
                    <a:pt x="12053" y="7028"/>
                  </a:lnTo>
                  <a:lnTo>
                    <a:pt x="12889" y="7457"/>
                  </a:lnTo>
                  <a:lnTo>
                    <a:pt x="13628" y="8100"/>
                  </a:lnTo>
                  <a:lnTo>
                    <a:pt x="14175" y="8871"/>
                  </a:lnTo>
                  <a:lnTo>
                    <a:pt x="14625" y="9814"/>
                  </a:lnTo>
                  <a:lnTo>
                    <a:pt x="14978" y="10885"/>
                  </a:lnTo>
                  <a:lnTo>
                    <a:pt x="15171" y="12042"/>
                  </a:lnTo>
                  <a:lnTo>
                    <a:pt x="15107" y="13114"/>
                  </a:lnTo>
                  <a:lnTo>
                    <a:pt x="15042" y="14228"/>
                  </a:lnTo>
                  <a:lnTo>
                    <a:pt x="14689" y="15257"/>
                  </a:lnTo>
                  <a:lnTo>
                    <a:pt x="14207" y="16285"/>
                  </a:lnTo>
                  <a:lnTo>
                    <a:pt x="13596" y="17057"/>
                  </a:lnTo>
                  <a:lnTo>
                    <a:pt x="12889" y="17657"/>
                  </a:lnTo>
                  <a:lnTo>
                    <a:pt x="12053" y="18085"/>
                  </a:lnTo>
                  <a:lnTo>
                    <a:pt x="11185" y="18257"/>
                  </a:lnTo>
                  <a:lnTo>
                    <a:pt x="10414" y="18214"/>
                  </a:lnTo>
                  <a:lnTo>
                    <a:pt x="9546" y="18042"/>
                  </a:lnTo>
                  <a:lnTo>
                    <a:pt x="8742" y="17614"/>
                  </a:lnTo>
                  <a:lnTo>
                    <a:pt x="8003" y="17014"/>
                  </a:lnTo>
                  <a:lnTo>
                    <a:pt x="7457" y="16242"/>
                  </a:lnTo>
                  <a:lnTo>
                    <a:pt x="6975" y="15257"/>
                  </a:lnTo>
                  <a:lnTo>
                    <a:pt x="6653" y="14142"/>
                  </a:lnTo>
                  <a:lnTo>
                    <a:pt x="6492" y="13114"/>
                  </a:lnTo>
                  <a:lnTo>
                    <a:pt x="6525" y="11914"/>
                  </a:lnTo>
                  <a:lnTo>
                    <a:pt x="6621" y="10842"/>
                  </a:lnTo>
                  <a:lnTo>
                    <a:pt x="6942" y="9771"/>
                  </a:lnTo>
                  <a:lnTo>
                    <a:pt x="7457" y="8785"/>
                  </a:lnTo>
                  <a:lnTo>
                    <a:pt x="8003" y="8057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Music"/>
            <p:cNvSpPr/>
            <p:nvPr/>
          </p:nvSpPr>
          <p:spPr>
            <a:xfrm>
              <a:off x="3434040" y="5342400"/>
              <a:ext cx="921240" cy="591840"/>
            </a:xfrm>
            <a:custGeom>
              <a:avLst/>
              <a:gdLst>
                <a:gd name="textAreaLeft" fmla="*/ 340560 w 921240"/>
                <a:gd name="textAreaRight" fmla="*/ 892800 w 921240"/>
                <a:gd name="textAreaTop" fmla="*/ 25200 h 591840"/>
                <a:gd name="textAreaBottom" fmla="*/ 146880 h 59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7352" y="46"/>
                  </a:moveTo>
                  <a:lnTo>
                    <a:pt x="7373" y="9900"/>
                  </a:lnTo>
                  <a:lnTo>
                    <a:pt x="7352" y="16107"/>
                  </a:lnTo>
                  <a:lnTo>
                    <a:pt x="7103" y="15969"/>
                  </a:lnTo>
                  <a:lnTo>
                    <a:pt x="6729" y="15692"/>
                  </a:lnTo>
                  <a:lnTo>
                    <a:pt x="6355" y="15553"/>
                  </a:lnTo>
                  <a:lnTo>
                    <a:pt x="5981" y="15415"/>
                  </a:lnTo>
                  <a:lnTo>
                    <a:pt x="5607" y="15276"/>
                  </a:lnTo>
                  <a:lnTo>
                    <a:pt x="5109" y="15138"/>
                  </a:lnTo>
                  <a:lnTo>
                    <a:pt x="4735" y="15138"/>
                  </a:lnTo>
                  <a:lnTo>
                    <a:pt x="4236" y="15138"/>
                  </a:lnTo>
                  <a:lnTo>
                    <a:pt x="3364" y="15138"/>
                  </a:lnTo>
                  <a:lnTo>
                    <a:pt x="2616" y="15276"/>
                  </a:lnTo>
                  <a:lnTo>
                    <a:pt x="1869" y="15692"/>
                  </a:lnTo>
                  <a:lnTo>
                    <a:pt x="1246" y="15969"/>
                  </a:lnTo>
                  <a:lnTo>
                    <a:pt x="747" y="16523"/>
                  </a:lnTo>
                  <a:lnTo>
                    <a:pt x="373" y="17076"/>
                  </a:lnTo>
                  <a:lnTo>
                    <a:pt x="124" y="17630"/>
                  </a:lnTo>
                  <a:lnTo>
                    <a:pt x="0" y="18323"/>
                  </a:lnTo>
                  <a:lnTo>
                    <a:pt x="124" y="19015"/>
                  </a:lnTo>
                  <a:lnTo>
                    <a:pt x="373" y="19569"/>
                  </a:lnTo>
                  <a:lnTo>
                    <a:pt x="747" y="20123"/>
                  </a:lnTo>
                  <a:lnTo>
                    <a:pt x="1246" y="20676"/>
                  </a:lnTo>
                  <a:lnTo>
                    <a:pt x="1869" y="21092"/>
                  </a:lnTo>
                  <a:lnTo>
                    <a:pt x="2616" y="21369"/>
                  </a:lnTo>
                  <a:lnTo>
                    <a:pt x="3364" y="21507"/>
                  </a:lnTo>
                  <a:lnTo>
                    <a:pt x="4236" y="21646"/>
                  </a:lnTo>
                  <a:lnTo>
                    <a:pt x="5109" y="21507"/>
                  </a:lnTo>
                  <a:lnTo>
                    <a:pt x="5856" y="21369"/>
                  </a:lnTo>
                  <a:lnTo>
                    <a:pt x="6604" y="21092"/>
                  </a:lnTo>
                  <a:lnTo>
                    <a:pt x="7227" y="20676"/>
                  </a:lnTo>
                  <a:lnTo>
                    <a:pt x="7726" y="20123"/>
                  </a:lnTo>
                  <a:lnTo>
                    <a:pt x="8100" y="19569"/>
                  </a:lnTo>
                  <a:lnTo>
                    <a:pt x="8349" y="19015"/>
                  </a:lnTo>
                  <a:lnTo>
                    <a:pt x="8473" y="18323"/>
                  </a:lnTo>
                  <a:lnTo>
                    <a:pt x="8473" y="6276"/>
                  </a:lnTo>
                  <a:lnTo>
                    <a:pt x="20561" y="6276"/>
                  </a:lnTo>
                  <a:lnTo>
                    <a:pt x="20561" y="16107"/>
                  </a:lnTo>
                  <a:lnTo>
                    <a:pt x="20187" y="15830"/>
                  </a:lnTo>
                  <a:lnTo>
                    <a:pt x="19938" y="15692"/>
                  </a:lnTo>
                  <a:lnTo>
                    <a:pt x="19564" y="15553"/>
                  </a:lnTo>
                  <a:lnTo>
                    <a:pt x="19190" y="15415"/>
                  </a:lnTo>
                  <a:lnTo>
                    <a:pt x="18692" y="15276"/>
                  </a:lnTo>
                  <a:lnTo>
                    <a:pt x="18318" y="15138"/>
                  </a:lnTo>
                  <a:lnTo>
                    <a:pt x="17944" y="15138"/>
                  </a:lnTo>
                  <a:lnTo>
                    <a:pt x="17446" y="15138"/>
                  </a:lnTo>
                  <a:lnTo>
                    <a:pt x="16573" y="15138"/>
                  </a:lnTo>
                  <a:lnTo>
                    <a:pt x="15826" y="15276"/>
                  </a:lnTo>
                  <a:lnTo>
                    <a:pt x="15078" y="15692"/>
                  </a:lnTo>
                  <a:lnTo>
                    <a:pt x="14455" y="15969"/>
                  </a:lnTo>
                  <a:lnTo>
                    <a:pt x="13956" y="16523"/>
                  </a:lnTo>
                  <a:lnTo>
                    <a:pt x="13583" y="17076"/>
                  </a:lnTo>
                  <a:lnTo>
                    <a:pt x="13333" y="17630"/>
                  </a:lnTo>
                  <a:lnTo>
                    <a:pt x="13209" y="18323"/>
                  </a:lnTo>
                  <a:lnTo>
                    <a:pt x="13333" y="19015"/>
                  </a:lnTo>
                  <a:lnTo>
                    <a:pt x="13583" y="19569"/>
                  </a:lnTo>
                  <a:lnTo>
                    <a:pt x="13956" y="20123"/>
                  </a:lnTo>
                  <a:lnTo>
                    <a:pt x="14455" y="20676"/>
                  </a:lnTo>
                  <a:lnTo>
                    <a:pt x="15078" y="21092"/>
                  </a:lnTo>
                  <a:lnTo>
                    <a:pt x="15826" y="21369"/>
                  </a:lnTo>
                  <a:lnTo>
                    <a:pt x="16573" y="21507"/>
                  </a:lnTo>
                  <a:lnTo>
                    <a:pt x="17446" y="21646"/>
                  </a:lnTo>
                  <a:lnTo>
                    <a:pt x="18318" y="21507"/>
                  </a:lnTo>
                  <a:lnTo>
                    <a:pt x="19066" y="21369"/>
                  </a:lnTo>
                  <a:lnTo>
                    <a:pt x="19813" y="21092"/>
                  </a:lnTo>
                  <a:lnTo>
                    <a:pt x="20436" y="20676"/>
                  </a:lnTo>
                  <a:lnTo>
                    <a:pt x="20935" y="20123"/>
                  </a:lnTo>
                  <a:lnTo>
                    <a:pt x="21309" y="19569"/>
                  </a:lnTo>
                  <a:lnTo>
                    <a:pt x="21558" y="19015"/>
                  </a:lnTo>
                  <a:lnTo>
                    <a:pt x="21683" y="18323"/>
                  </a:lnTo>
                  <a:lnTo>
                    <a:pt x="21683" y="10061"/>
                  </a:lnTo>
                  <a:lnTo>
                    <a:pt x="21683" y="46"/>
                  </a:lnTo>
                  <a:lnTo>
                    <a:pt x="7352" y="4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" name="Tree"/>
          <p:cNvSpPr/>
          <p:nvPr/>
        </p:nvSpPr>
        <p:spPr>
          <a:xfrm>
            <a:off x="324000" y="3500280"/>
            <a:ext cx="1809720" cy="1810080"/>
          </a:xfrm>
          <a:custGeom>
            <a:avLst/>
            <a:gdLst>
              <a:gd name="textAreaLeft" fmla="*/ 63720 w 1809720"/>
              <a:gd name="textAreaRight" fmla="*/ 1765440 w 1809720"/>
              <a:gd name="textAreaTop" fmla="*/ 1881720 h 1810080"/>
              <a:gd name="textAreaBottom" fmla="*/ 2370240 h 18100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17" descr="j0297551"/>
          <p:cNvPicPr/>
          <p:nvPr/>
        </p:nvPicPr>
        <p:blipFill>
          <a:blip r:embed="rId1"/>
          <a:stretch/>
        </p:blipFill>
        <p:spPr>
          <a:xfrm>
            <a:off x="7093080" y="4005360"/>
            <a:ext cx="1195200" cy="18241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8"/>
          <p:cNvSpPr/>
          <p:nvPr/>
        </p:nvSpPr>
        <p:spPr>
          <a:xfrm>
            <a:off x="7164360" y="5805360"/>
            <a:ext cx="197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мографические факторы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6443640" y="3141720"/>
            <a:ext cx="232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учно-технические факторы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2124000" y="6021360"/>
            <a:ext cx="25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льтурное окружение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AutoShape 21"/>
          <p:cNvSpPr/>
          <p:nvPr/>
        </p:nvSpPr>
        <p:spPr>
          <a:xfrm rot="1305600">
            <a:off x="1834920" y="249228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66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AutoShape 22"/>
          <p:cNvSpPr/>
          <p:nvPr/>
        </p:nvSpPr>
        <p:spPr>
          <a:xfrm rot="20622600">
            <a:off x="5795640" y="234900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AutoShape 23"/>
          <p:cNvSpPr/>
          <p:nvPr/>
        </p:nvSpPr>
        <p:spPr>
          <a:xfrm rot="19687800">
            <a:off x="1834920" y="3644640"/>
            <a:ext cx="1214280" cy="485640"/>
          </a:xfrm>
          <a:prstGeom prst="leftRightArrow">
            <a:avLst>
              <a:gd name="adj1" fmla="val 50000"/>
              <a:gd name="adj2" fmla="val 49776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AutoShape 24"/>
          <p:cNvSpPr/>
          <p:nvPr/>
        </p:nvSpPr>
        <p:spPr>
          <a:xfrm rot="18380400">
            <a:off x="3128040" y="3937680"/>
            <a:ext cx="1214640" cy="486000"/>
          </a:xfrm>
          <a:prstGeom prst="leftRightArrow">
            <a:avLst>
              <a:gd name="adj1" fmla="val 50000"/>
              <a:gd name="adj2" fmla="val 49753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AutoShape 25"/>
          <p:cNvSpPr/>
          <p:nvPr/>
        </p:nvSpPr>
        <p:spPr>
          <a:xfrm rot="2833800">
            <a:off x="4639320" y="400896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AutoShape 26"/>
          <p:cNvSpPr/>
          <p:nvPr/>
        </p:nvSpPr>
        <p:spPr>
          <a:xfrm rot="1756800">
            <a:off x="5796000" y="371628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27"/>
          <p:cNvSpPr/>
          <p:nvPr/>
        </p:nvSpPr>
        <p:spPr>
          <a:xfrm>
            <a:off x="179280" y="5535720"/>
            <a:ext cx="18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родные факторы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 Box 28"/>
          <p:cNvSpPr/>
          <p:nvPr/>
        </p:nvSpPr>
        <p:spPr>
          <a:xfrm>
            <a:off x="0" y="5392800"/>
            <a:ext cx="21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Oval 29"/>
          <p:cNvSpPr/>
          <p:nvPr/>
        </p:nvSpPr>
        <p:spPr>
          <a:xfrm>
            <a:off x="2987640" y="1916280"/>
            <a:ext cx="3168720" cy="18018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Group 30"/>
          <p:cNvGrpSpPr/>
          <p:nvPr/>
        </p:nvGrpSpPr>
        <p:grpSpPr>
          <a:xfrm>
            <a:off x="6948360" y="1484280"/>
            <a:ext cx="2195280" cy="1584000"/>
            <a:chOff x="6948360" y="1484280"/>
            <a:chExt cx="2195280" cy="1584000"/>
          </a:xfrm>
        </p:grpSpPr>
        <p:sp>
          <p:nvSpPr>
            <p:cNvPr id="162" name="Gear"/>
            <p:cNvSpPr/>
            <p:nvPr/>
          </p:nvSpPr>
          <p:spPr>
            <a:xfrm>
              <a:off x="8165520" y="1484280"/>
              <a:ext cx="978120" cy="726480"/>
            </a:xfrm>
            <a:custGeom>
              <a:avLst/>
              <a:gdLst>
                <a:gd name="textAreaLeft" fmla="*/ 198000 w 978120"/>
                <a:gd name="textAreaRight" fmla="*/ 807840 w 978120"/>
                <a:gd name="textAreaTop" fmla="*/ 132840 h 726480"/>
                <a:gd name="textAreaBottom" fmla="*/ 593640 h 72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AutoShape 32"/>
            <p:cNvSpPr/>
            <p:nvPr/>
          </p:nvSpPr>
          <p:spPr>
            <a:xfrm>
              <a:off x="6948360" y="1783440"/>
              <a:ext cx="1169640" cy="868320"/>
            </a:xfrm>
            <a:custGeom>
              <a:avLst/>
              <a:gdLst>
                <a:gd name="textAreaLeft" fmla="*/ 236520 w 1169640"/>
                <a:gd name="textAreaRight" fmla="*/ 965880 w 1169640"/>
                <a:gd name="textAreaTop" fmla="*/ 159120 h 868320"/>
                <a:gd name="textAreaBottom" fmla="*/ 709200 h 86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AutoShape 33"/>
            <p:cNvSpPr/>
            <p:nvPr/>
          </p:nvSpPr>
          <p:spPr>
            <a:xfrm>
              <a:off x="7706880" y="2103840"/>
              <a:ext cx="1299960" cy="964440"/>
            </a:xfrm>
            <a:custGeom>
              <a:avLst/>
              <a:gdLst>
                <a:gd name="textAreaLeft" fmla="*/ 263520 w 1299960"/>
                <a:gd name="textAreaRight" fmla="*/ 1074240 w 1299960"/>
                <a:gd name="textAreaTop" fmla="*/ 176400 h 964440"/>
                <a:gd name="textAreaBottom" fmla="*/ 787320 h 96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02920" y="475920"/>
            <a:ext cx="705348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 Black"/>
              </a:rPr>
              <a:t>Факторы микросреды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7" name="Picture 3" descr="j0291984"/>
          <p:cNvPicPr/>
          <p:nvPr/>
        </p:nvPicPr>
        <p:blipFill>
          <a:blip r:embed="rId1"/>
          <a:stretch/>
        </p:blipFill>
        <p:spPr>
          <a:xfrm>
            <a:off x="971640" y="1989000"/>
            <a:ext cx="1807920" cy="19148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j0278882"/>
          <p:cNvPicPr/>
          <p:nvPr/>
        </p:nvPicPr>
        <p:blipFill>
          <a:blip r:embed="rId2"/>
          <a:stretch/>
        </p:blipFill>
        <p:spPr>
          <a:xfrm>
            <a:off x="6804000" y="2133720"/>
            <a:ext cx="1625760" cy="151128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3" descr="беседующие людиgif.gif"/>
          <p:cNvPicPr/>
          <p:nvPr/>
        </p:nvPicPr>
        <p:blipFill>
          <a:blip r:embed="rId3"/>
          <a:stretch/>
        </p:blipFill>
        <p:spPr>
          <a:xfrm>
            <a:off x="1403280" y="4292640"/>
            <a:ext cx="1944720" cy="1728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j0090386"/>
          <p:cNvPicPr/>
          <p:nvPr/>
        </p:nvPicPr>
        <p:blipFill>
          <a:blip r:embed="rId4"/>
          <a:stretch/>
        </p:blipFill>
        <p:spPr>
          <a:xfrm>
            <a:off x="6372360" y="4437000"/>
            <a:ext cx="1944720" cy="1656000"/>
          </a:xfrm>
          <a:prstGeom prst="rect">
            <a:avLst/>
          </a:prstGeom>
          <a:ln w="0">
            <a:noFill/>
          </a:ln>
        </p:spPr>
      </p:pic>
      <p:sp>
        <p:nvSpPr>
          <p:cNvPr id="171" name="Oval 7"/>
          <p:cNvSpPr/>
          <p:nvPr/>
        </p:nvSpPr>
        <p:spPr>
          <a:xfrm>
            <a:off x="3276720" y="2492280"/>
            <a:ext cx="3240000" cy="2016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AutoShape 8"/>
          <p:cNvSpPr/>
          <p:nvPr/>
        </p:nvSpPr>
        <p:spPr>
          <a:xfrm rot="1405200">
            <a:off x="2987640" y="29973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AutoShape 9"/>
          <p:cNvSpPr/>
          <p:nvPr/>
        </p:nvSpPr>
        <p:spPr>
          <a:xfrm rot="19948200">
            <a:off x="3276720" y="40762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AutoShape 10"/>
          <p:cNvSpPr/>
          <p:nvPr/>
        </p:nvSpPr>
        <p:spPr>
          <a:xfrm rot="20268600">
            <a:off x="5796000" y="2781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AutoShape 11"/>
          <p:cNvSpPr/>
          <p:nvPr/>
        </p:nvSpPr>
        <p:spPr>
          <a:xfrm rot="1837800">
            <a:off x="5508360" y="393336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755640" y="38797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и, задач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6804000" y="3735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ологи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5508720" y="603576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союзы, отдых, взаимоотношени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1549440" y="5877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др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Oval 16"/>
          <p:cNvSpPr/>
          <p:nvPr/>
        </p:nvSpPr>
        <p:spPr>
          <a:xfrm>
            <a:off x="3276720" y="2492280"/>
            <a:ext cx="3240000" cy="2016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 Black"/>
              </a:rPr>
              <a:t>Способы применения своей рабочей силы: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69800" y="1628640"/>
            <a:ext cx="7313400" cy="43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- работа в обобществленном производстве (государственном или коллективном)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- индивидуальная трудовая деятельность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- наемный труд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18920" y="301320"/>
            <a:ext cx="7064280" cy="89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 Black"/>
              </a:rPr>
              <a:t>Слабости рынка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856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нестабильность, неустойчивость экономики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чередование подъема и спада производства,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смены периодов экономического подъема экономическими кризисами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63640" y="301320"/>
            <a:ext cx="6919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 Black"/>
              </a:rPr>
              <a:t>Государственное регулирование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557360"/>
            <a:ext cx="731340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редельное упрощение налоговой систе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Создание антимонопольного комитета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ерераспределение доходов за счет социальной поддержк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Создание бирж труд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 Black"/>
              </a:rPr>
              <a:t>Законодательная баз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Ст.7 Конституции РФ провозглашает, что Российская Федерация - социальное государство, политика которого направлена на создание условий, обеспечивающих достойную жизнь и свободное развитие человек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196640"/>
            <a:ext cx="7313400" cy="47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Arial Black"/>
              </a:rPr>
              <a:t>ВЫБИРАЯ ПРОФЕССИЮ, МЫСЛИТЬ НУЖНО О БУДУЩЕМ, НО ДЕЙСТВОВАТЬ –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Arial Black"/>
              </a:rPr>
              <a:t>    </a:t>
            </a:r>
            <a:r>
              <a:rPr b="1" lang="ru-RU" sz="4800" spc="-1" strike="noStrike">
                <a:solidFill>
                  <a:srgbClr val="006666"/>
                </a:solidFill>
                <a:latin typeface="Arial Black"/>
              </a:rPr>
              <a:t>В НАСТОЯЩЕМ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76000" y="2060640"/>
            <a:ext cx="6837480" cy="111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 Black"/>
              </a:rPr>
              <a:t>Влияние новых технологий на  сферу материального производства</a:t>
            </a: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55640" y="3500280"/>
            <a:ext cx="71215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 Black"/>
              </a:rPr>
              <a:t>развивается  сфера услуг 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 Black"/>
              </a:rPr>
              <a:t>высвобождаются рабочие кадры 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 Black"/>
              </a:rPr>
              <a:t>индивидуализируется стиль жизни и труда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 Black"/>
              </a:rPr>
              <a:t>усиливается взаимосвязь между обществом и личностью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1440" y="1087200"/>
            <a:ext cx="7238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 Black"/>
              </a:rPr>
              <a:t>Новые требования к профориентационной работе в школе: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95280" y="2781000"/>
            <a:ext cx="8137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гуманистическая направленность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признание ученика основным субъектом процесса обучения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опора на его активную учебно-познавательную деятельность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 Black"/>
              </a:rPr>
              <a:t>Задачи профильного и предпрофильного образования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19280" y="2420640"/>
            <a:ext cx="842472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содействие их общественному и гражданскому самоопределению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обеспечение функциональной грамотность и социальной адаптации обучающихся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формирование личности, осознающей свои гражданские права и обязанност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 Black"/>
              </a:rPr>
              <a:t>Условия успешности  обучени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практическая направленность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связь с жизнью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познание обучающимися своих способностей, возможностей, ресурсов, а также потенциалов и ограничений их развития и применени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292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 Black"/>
              </a:rPr>
              <a:t>Основные виды работ и профессий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 Black"/>
              </a:rPr>
              <a:t>Директор, главный инженер, инженер по качеству, главный бухгалтер, бухгалтер, главный механик, инженер по комплектации оборудования, заведующий складом, начальник отдела кадров, инспектор по кадрам, </a:t>
            </a:r>
            <a:r>
              <a:rPr b="1" lang="ru-RU" sz="1500" spc="-1" strike="noStrike">
                <a:solidFill>
                  <a:srgbClr val="000000"/>
                </a:solidFill>
                <a:latin typeface="Arial Black"/>
              </a:rPr>
              <a:t>МЕДИЦИНСКАЯ СЕСТРА, ЭЛЕКТРОГАЗОСВАРЩИК, УЧИТЕЛЬ,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Black"/>
              </a:rPr>
              <a:t>СТОРОЖ, ЛАБОРАНТ, ПЛОТНИК, СЛЕСАРЬ-САНТЕХНИК, СЛЕСАРЬ-СБОРЩИК, КРОВЕЛЬЩИК, ФРЕЗЕРОВЩИК, </a:t>
            </a:r>
            <a:r>
              <a:rPr b="1" lang="ru-RU" sz="2500" spc="-1" strike="noStrike">
                <a:solidFill>
                  <a:srgbClr val="000000"/>
                </a:solidFill>
                <a:latin typeface="Arial Black"/>
              </a:rPr>
              <a:t>дежурный слесарь, электромонтер, кладовщик, учетчик, станочник, каменщик, менеджер, артист эстрады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Documents"/>
          <p:cNvSpPr/>
          <p:nvPr/>
        </p:nvSpPr>
        <p:spPr>
          <a:xfrm>
            <a:off x="3492360" y="1773360"/>
            <a:ext cx="2692440" cy="3816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ЕТКС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ЕДИНЫЙ ТАРИФНО-КВАЛИФИКА-ЦИОННЫЙ СПРАВОЧНИК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РАБОТ И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ПРОФЕССИЙ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71640" y="301320"/>
            <a:ext cx="5911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 Black"/>
              </a:rPr>
              <a:t>ВЫСШЕЕ ОБРАЗОВАНИЕ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СТРАТЕГИЧЕСКАЯ НАПРАВЛЕННОСТЬ НА ИНТЕЛЛЕКТУАЛЬНОЕ РАЗВИТИЕ, ФОРМИРОВАНИЕ КУЛЬТУРЫ И МИРОВОЗЗРЕ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83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 Black"/>
              </a:rPr>
              <a:t>НАЧАЛЬНОЕ ПРОФЕССИОНАЛЬНОЕ ОБРАЗОВАНИЕ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2491920"/>
            <a:ext cx="7313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БЫСТРЫЙ ПУТЬ К ОСВОЕНИЮ ПРОФЕССИЕ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ВОЗМОЖНОСТЬ ПОЛУЧЕНИЯ РЕАЛЬНОГО ЗАРАБОТ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8" descr="идущий человек.gif"/>
          <p:cNvPicPr/>
          <p:nvPr/>
        </p:nvPicPr>
        <p:blipFill>
          <a:blip r:embed="rId1"/>
          <a:stretch/>
        </p:blipFill>
        <p:spPr>
          <a:xfrm>
            <a:off x="-1000080" y="-121428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4" descr="бегущий человек.gif"/>
          <p:cNvPicPr/>
          <p:nvPr/>
        </p:nvPicPr>
        <p:blipFill>
          <a:blip r:embed="rId2"/>
          <a:stretch/>
        </p:blipFill>
        <p:spPr>
          <a:xfrm>
            <a:off x="1928880" y="0"/>
            <a:ext cx="952560" cy="178596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6" descr="Ves_v_zabotah.gif"/>
          <p:cNvPicPr/>
          <p:nvPr/>
        </p:nvPicPr>
        <p:blipFill>
          <a:blip r:embed="rId3"/>
          <a:stretch/>
        </p:blipFill>
        <p:spPr>
          <a:xfrm>
            <a:off x="6948360" y="189000"/>
            <a:ext cx="1357560" cy="13572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11" descr="человек с портфелем.gif"/>
          <p:cNvPicPr/>
          <p:nvPr/>
        </p:nvPicPr>
        <p:blipFill>
          <a:blip r:embed="rId4"/>
          <a:stretch/>
        </p:blipFill>
        <p:spPr>
          <a:xfrm>
            <a:off x="179280" y="4797360"/>
            <a:ext cx="1405080" cy="140508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9" descr="бегущая девушка.gif"/>
          <p:cNvPicPr/>
          <p:nvPr/>
        </p:nvPicPr>
        <p:blipFill>
          <a:blip r:embed="rId5">
            <a:grayscl/>
          </a:blip>
          <a:stretch/>
        </p:blipFill>
        <p:spPr>
          <a:xfrm>
            <a:off x="8393040" y="1357200"/>
            <a:ext cx="1501920" cy="150048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7" descr="S_gazetoy.gif"/>
          <p:cNvPicPr/>
          <p:nvPr/>
        </p:nvPicPr>
        <p:blipFill>
          <a:blip r:embed="rId6"/>
          <a:stretch/>
        </p:blipFill>
        <p:spPr>
          <a:xfrm>
            <a:off x="7786800" y="3500280"/>
            <a:ext cx="1357200" cy="13575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2" descr="беседующие людиgif.gif"/>
          <p:cNvPicPr/>
          <p:nvPr/>
        </p:nvPicPr>
        <p:blipFill>
          <a:blip r:embed="rId7"/>
          <a:stretch/>
        </p:blipFill>
        <p:spPr>
          <a:xfrm>
            <a:off x="2195640" y="4653000"/>
            <a:ext cx="1857240" cy="18334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2771640" y="476280"/>
            <a:ext cx="47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 Black"/>
              </a:rPr>
              <a:t>ОРГАНИЗАЦИЯ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900000" y="1484280"/>
            <a:ext cx="4751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САМОСТОЯТЕЛЬНЫЙ ХОЗЯЙСТВЕННЫЙ СУБЪЕКТ, ПРЕДНАЗНАЧЕННЫ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ДЛЯ ПРОИЗВОДСТВА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ПРОДУКЦИИ,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ВЫПОЛНЕНИЯ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РАБО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И ОКАЗАНИЯ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УСЛУ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11" descr="j0235319"/>
          <p:cNvPicPr/>
          <p:nvPr/>
        </p:nvPicPr>
        <p:blipFill>
          <a:blip r:embed="rId8"/>
          <a:stretch/>
        </p:blipFill>
        <p:spPr>
          <a:xfrm>
            <a:off x="3276720" y="1268280"/>
            <a:ext cx="4968720" cy="558972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788 -0.20287 C -0.11649 -0.19477 -0.11632 -0.19154 -0.11198 -0.18575 C -0.10903 -0.17488 -0.11319 -0.18807 -0.10729 -0.17627 C -0.1059 -0.17349 -0.10521 -0.16979 -0.10382 -0.16702 C -0.10121 -0.15314 -0.0941 -0.14481 -0.08489 -0.13879 C -0.08108 -0.13347 -0.07934 -0.13324 -0.0743 -0.13093 C -0.06632 -0.12353 -0.05781 -0.11682 -0.04844 -0.11358 C -0.04635 -0.11173 -0.04358 -0.11104 -0.04167 -0.10895 C -0.03507 -0.10201 -0.03038 -0.09346 -0.02378 -0.08698 C -0.02239 -0.07773 -0.02031 -0.07171 -0.01441 -0.06662 C -0.01233 -0.05876 -0.00972 -0.05853 -0.00486 -0.05413 C -0.00121 -0.05066 0.00191 -0.04603 0.00573 -0.04303 C 0.01493 -0.03563 0.02674 -0.02845 0.03733 -0.02591 C 0.04288 -0.02198 0.04896 -0.02082 0.05504 -0.01804 C 0.05747 -0.01481 0.05938 -0.01111 0.06215 -0.00856 C 0.06441 -0.00648 0.0691 -0.00231 0.0691 -0.00208 C 0.06945 0.02891 0.06198 0.07009 0.07396 0.10109 C 0.07535 0.11219 0.07604 0.12098 0.08455 0.12468 C 0.09427 0.13763 0.09826 0.14966 0.10208 0.16701 C 0.10261 0.16956 0.10278 0.17233 0.1033 0.17488 C 0.10399 0.17904 0.10573 0.18737 0.10573 0.1876 C 0.1059 0.19593 0.10035 0.2452 0.11389 0.25792 C 0.11806 0.26741 0.12083 0.27666 0.12656 0.28452 C 0.12708 0.28614 0.12743 0.28776 0.12795 0.28915 C 0.12865 0.29077 0.12969 0.29216 0.13038 0.29401 C 0.13177 0.29817 0.13195 0.30557 0.13264 0.30951 C 0.1342 0.31922 0.13629 0.32894 0.13976 0.33773 C 0.14063 0.34467 0.14132 0.3523 0.14445 0.35831 C 0.14531 0.36016 0.14688 0.36132 0.14774 0.36294 C 0.14913 0.36502 0.15052 0.36687 0.15139 0.36919 C 0.15955 0.38654 0.14688 0.36387 0.15729 0.38168 C 0.16129 0.40504 0.1717 0.41267 0.18559 0.42563 C 0.19427 0.44205 0.20833 0.44367 0.22188 0.4476 C 0.23281 0.45454 0.24566 0.45894 0.25504 0.46958 C 0.26146 0.47698 0.26285 0.48901 0.2691 0.49618 C 0.27778 0.50636 0.29097 0.51353 0.30208 0.51654 C 0.30747 0.52024 0.3132 0.52232 0.31858 0.52602 C 0.32448 0.52995 0.31979 0.5281 0.3257 0.53366 C 0.33299 0.5406 0.34149 0.54453 0.35035 0.54638 C 0.36979 0.55679 0.39045 0.56581 0.41042 0.5746 C 0.42535 0.58131 0.44392 0.58524 0.45851 0.59496 C 0.47136 0.60375 0.48229 0.61739 0.49497 0.62618 C 0.51059 0.63706 0.51215 0.63659 0.52656 0.64191 C 0.5625 0.67245 0.60608 0.67754 0.64566 0.69512 C 0.6783 0.70969 0.70781 0.72889 0.74219 0.73282 C 0.75191 0.73236 0.76181 0.73213 0.77153 0.7312 C 0.77813 0.73051 0.79149 0.7282 0.79149 0.72843 C 0.81285 0.72079 0.78368 0.73028 0.84445 0.72496 C 0.8474 0.72473 0.84983 0.72103 0.85278 0.72033 C 0.85504 0.71964 0.85972 0.71871 0.85972 0.71894 E">
                                      <p:cBhvr>
                                        <p:cTn id="6" dur="5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-1.11111E-006 C -0.05 0.00116 -0.08646 0.00347 -0.13576 0.00486 C -0.15069 0.00903 -0.15851 0.00995 -0.17622 0.01111 C -0.17934 0.01227 -0.1908 0.01875 -0.1941 0.01921 C -0.19931 0.01991 -0.20434 0.02014 -0.20955 0.0206 C -0.21406 0.02477 -0.21753 0.03495 -0.22135 0.0382 C -0.23455 0.04931 -0.25226 0.04236 -0.26788 0.04283 C -0.28003 0.04607 -0.29115 0.05185 -0.30365 0.05394 C -0.31076 0.05648 -0.31806 0.05903 -0.325 0.06204 C -0.33003 0.06852 -0.33472 0.06898 -0.33924 0.07778 C -0.34236 0.08426 -0.34323 0.09329 -0.34878 0.09699 C -0.35851 0.10324 -0.37014 0.09931 -0.3809 0.1 C -0.39184 0.10972 -0.40556 0.11181 -0.41788 0.11597 C -0.42049 0.11852 -0.42378 0.11968 -0.42622 0.12222 C -0.43194 0.12824 -0.43229 0.13218 -0.43802 0.13658 C -0.44549 0.14236 -0.45486 0.14861 -0.46302 0.15255 C -0.47031 0.15602 -0.47917 0.15579 -0.48698 0.15718 C -0.48941 0.15833 -0.49167 0.15926 -0.4941 0.16042 C -0.49722 0.16181 -0.50365 0.16366 -0.50365 0.16389 C -0.50816 0.16759 -0.5125 0.16852 -0.51788 0.16991 C -0.52413 0.17431 -0.52726 0.175 -0.53455 0.17616 C -0.53889 0.18009 -0.54253 0.18241 -0.54757 0.18426 C -0.57743 0.20903 -0.56059 0.19977 -0.61788 0.20162 C -0.6599 0.20972 -0.70972 0.20394 -0.74878 0.20324 C -0.75556 0.19653 -0.76302 0.18519 -0.77135 0.18264 C -0.77795 0.18079 -0.7849 0.18056 -0.79167 0.1794 C -0.80573 0.17454 -0.78472 0.18241 -0.80243 0.17315 C -0.80556 0.17153 -0.80885 0.1713 -0.81198 0.16991 C -0.81788 0.16435 -0.82378 0.16458 -0.8309 0.16366 C -0.83333 0.1625 -0.83854 0.16042 -0.84045 0.1588 C -0.84983 0.15093 -0.83906 0.15602 -0.84757 0.15255 C -0.85503 0.14607 -0.86389 0.14259 -0.87257 0.14144 C -0.87691 0.13565 -0.87986 0.13357 -0.88576 0.13171 C -0.9026 0.11713 -0.92344 0.12894 -0.94167 0.13333 C -0.94479 0.13403 -0.94809 0.13426 -0.95122 0.13495 C -0.9559 0.13588 -0.96545 0.1382 -0.96545 0.13843 C -0.97969 0.15093 -0.95747 0.13195 -0.97378 0.14283 C -0.97639 0.14445 -0.97847 0.14722 -0.9809 0.14931 C -0.98559 0.1537 -0.99323 0.15232 -0.99878 0.15394 C -1.00365 0.1581 -1.00833 0.15949 -1.01406 0.16204 C -1.01545 0.1625 -1.01771 0.16366 -1.01771 0.16389 C -1.06389 0.16111 -1.03003 0.16343 -1.06198 0.16042 C -1.06806 0.15972 -1.0809 0.1588 -1.0809 0.15903 E">
                                      <p:cBhvr>
                                        <p:cTn id="8" dur="5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3.7037E-006 C 0.00017 0.01851 -0.01198 0.11412 0.0158 0.13958 C 0.02032 0.15532 0.02518 0.1581 0.03681 0.16643 C 0.04254 0.17037 0.04532 0.17546 0.05174 0.17754 C 0.05764 0.18264 0.06337 0.18379 0.07032 0.18541 C 0.07865 0.19259 0.06858 0.18495 0.08143 0.19027 C 0.08264 0.19097 0.08369 0.19259 0.08507 0.19328 C 0.08681 0.19421 0.08855 0.19444 0.08994 0.1949 C 0.09723 0.20439 0.104 0.20995 0.11355 0.21389 C 0.1191 0.21921 0.12587 0.22129 0.13195 0.22523 C 0.1382 0.22916 0.14237 0.23472 0.14931 0.23796 C 0.1507 0.23958 0.15261 0.2412 0.15417 0.24236 C 0.15573 0.24375 0.15764 0.24444 0.15903 0.24583 C 0.16129 0.24768 0.16389 0.25254 0.1665 0.25347 C 0.1731 0.25648 0.18195 0.2574 0.18889 0.25856 C 0.19983 0.26342 0.21233 0.26226 0.22223 0.26967 C 0.22813 0.2743 0.23039 0.28426 0.23455 0.29143 C 0.23594 0.29467 0.23889 0.29652 0.24063 0.29953 C 0.25035 0.3162 0.25782 0.33518 0.27257 0.3456 C 0.2783 0.34953 0.28681 0.34953 0.29237 0.35046 C 0.30018 0.35393 0.29619 0.36018 0.30001 0.36643 C 0.30382 0.37338 0.30695 0.37476 0.3132 0.37754 C 0.31876 0.38171 0.3231 0.38703 0.32813 0.39143 C 0.32952 0.39259 0.33073 0.39259 0.33195 0.39328 C 0.33316 0.39421 0.33438 0.39514 0.33542 0.39676 C 0.33924 0.4037 0.34011 0.41018 0.34185 0.41898 C 0.34219 0.42106 0.34185 0.42384 0.34289 0.425 C 0.35122 0.43449 0.36146 0.43217 0.37153 0.43287 C 0.39601 0.44838 0.41685 0.4743 0.44185 0.48842 C 0.44757 0.49189 0.45504 0.49282 0.46164 0.49514 C 0.46841 0.50069 0.47587 0.50254 0.48351 0.50463 C 0.48994 0.51018 0.49723 0.51435 0.50226 0.52199 C 0.50643 0.5287 0.50782 0.53773 0.51216 0.54421 C 0.5158 0.54953 0.52275 0.55301 0.52796 0.55532 C 0.53872 0.56875 0.55261 0.57801 0.56511 0.58842 C 0.5974 0.61666 0.56997 0.59444 0.59237 0.61226 C 0.59879 0.61759 0.60313 0.62592 0.60851 0.63287 C 0.61459 0.6412 0.62379 0.64861 0.63195 0.65347 C 0.63751 0.66088 0.64948 0.67523 0.65764 0.67754 C 0.66858 0.68009 0.68108 0.68101 0.69219 0.68217 C 0.70955 0.6875 0.68004 0.6787 0.72674 0.68541 C 0.7283 0.68564 0.72917 0.68819 0.73073 0.68865 C 0.73334 0.68958 0.73612 0.68958 0.73924 0.69004 C 0.74393 0.69629 0.74619 0.70231 0.75018 0.70926 C 0.75869 0.73981 0.76546 0.76944 0.77501 0.79976 C 0.779 0.8118 0.78698 0.82453 0.79358 0.83472 C 0.81962 0.8743 0.85244 0.90393 0.89341 0.91088 C 0.90365 0.90972 0.91146 0.90833 0.92066 0.90277 C 0.92553 0.89953 0.92848 0.8949 0.93438 0.89351 C 0.95851 0.88796 1.00834 0.89004 1.0158 0.89004 C 1.03976 0.88564 1.05487 0.88518 1.0823 0.88518 E">
                                      <p:cBhvr>
                                        <p:cTn id="10" dur="10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6:23:02Z</dcterms:created>
  <dc:creator>ольга</dc:creator>
  <dc:description>uchportal.ru</dc:description>
  <dc:language>en-US</dc:language>
  <cp:lastModifiedBy>LEGION</cp:lastModifiedBy>
  <dcterms:modified xsi:type="dcterms:W3CDTF">2015-03-31T08:47:29Z</dcterms:modified>
  <cp:revision>15</cp:revision>
  <dc:subject/>
  <dc:title>Технология в школ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406000000000001024140</vt:lpwstr>
  </property>
</Properties>
</file>