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14E-5298-4219-A75D-4E617E8E80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ка и Программирование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urier New"/>
              </a:rPr>
              <a:t>Выполнил: Кармаков Евгений ИМ-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F1C8-977B-4D97-BC41-13E8D110CB9C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ограмма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reamweaver CS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0A6-F2F9-41C6-93E0-EC5DE26C0AB0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реда разработки электронного учеб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браузер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pera 9.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808-4BE8-4520-A8C5-C67751B5DD52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E40-454A-4846-AA04-C66C95699C35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Цель работы: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urier New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AEC9-5FA3-46D2-834B-F9E84B531246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 работе рассмотрены следующие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1. Понятие информационной техн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1. Структура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2. Принципы изложения матери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0A8C-3706-49BD-8DE5-5D623C11063E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A57B-9FCB-4895-A9D9-BF6064222747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уктура, содерж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ринцип из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материала при раз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электронного учеб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12B-4324-47C9-8C7F-D544B60DDD7B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dex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име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лед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8B34-9868-4D24-9450-B5614127ACF3}" type="slidenum">
              <a:rPr b="0" lang="uk-UA" sz="1200" spc="-1" strike="noStrike">
                <a:solidFill>
                  <a:srgbClr val="ffffff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CB5-7D11-4CD6-9EE1-E506324D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DAA-121E-4095-868E-2D69403E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92D-DF75-459F-9CC2-7C38DA4A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51A-D365-42F3-880B-5761F31A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6E3F-11D5-44C9-9BDC-07E44697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6747-26A6-41F7-8477-27900FE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0315-991D-4191-B13C-AB00995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3F74-7345-476B-A1FA-597304C3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C3DF-77C2-44B7-A22D-9B5E82A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D45F-33AE-4AEC-8007-5B90379C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F9AC-035F-4A82-8C95-E5D5C45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FC6-5688-4394-BEBD-2B75BBB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2E6-8AA3-4030-830C-755F0E0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399-B832-4642-9E31-5059BF81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44B-3879-4768-B2EC-7386AAA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6028-0B64-493F-8FBC-D6F5B4EF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5E80-AD42-45C9-92CB-47852B71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208-45BC-4EB5-900F-D9421D8A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D2A-F4F4-4839-AA99-316D3B65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997-FF72-419A-9C6B-90FE6CD7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E9F-9ADC-441A-980F-05578903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815-E743-4D28-9F10-44723872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F33-85C9-415A-A970-0227878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A1CB-D7D6-4B0B-8119-2E45C06A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44E-16A4-447C-ACA8-ECBA93B00D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urier New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urier New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8AB-9267-4CE3-831C-7FAC85D107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6340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Разработка электронного учебника по дисциплине 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Информатика и Программирование</a:t>
            </a:r>
            <a:r>
              <a:rPr b="0" lang="en-US" sz="4400" spc="-1" strike="noStrike">
                <a:solidFill>
                  <a:srgbClr val="ffffff"/>
                </a:solidFill>
                <a:latin typeface="Courier New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5725800"/>
            <a:ext cx="864072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ыполнил: Кармаков Евгений ИМ-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280" y="3141360"/>
            <a:ext cx="8075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Программа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Dreamweaver CS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dreamweaver2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реда разработки электронного учеб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браузер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Opera 9.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opera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736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urier New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данной курсовой работе рассматривалась разработке электронного учебного пособия по дисциплине «информатика и программирование», которая включает в себя базовые знания в области информатики и программир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Цель работы: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2400"/>
            </a:b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Разработать электронный учебник по дисциплине «Информатика и Программирова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urier New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Рассмотреть роль информационных технологии в образова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Так же рассмотреть структуру, содержание, принцип изложения материала при разработке электронного учебн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urier New"/>
              </a:rPr>
              <a:t>В работе рассмотрены следующие 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1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1. Понятие информационной техноло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2. Роль средств новых информационных технологий (СНИТ) в образов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3. Педагогические цели использования СН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1.4. Направления внедрения СНИТ в обра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Глава 2. Разработка электронного пособия по дисциплине инфор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1. Структура и содерж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2. Принципы изложения матери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2.3. Использования электронного пособия в учебном процессе</a:t>
            </a:r>
            <a:r>
              <a:rPr b="0" lang="ru-RU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Информационные технологии в образовани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urier New"/>
              </a:rPr>
              <a:t>Информатизация общества — это глобальный социальный процесс, особенность которого состоит в том, что доминирующим видом деятельности в сфере общественного производства является сбор, накопление, продуцирование, обработка, хранение, передача и использование информации, осуществляемые на основе современных средств микропроцессорной и вычислительной техники, а также на базе разнообразных средств информационного обм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Структура, содержан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принцип изло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материала при разрабо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urier New"/>
              </a:rPr>
              <a:t>электронного учебник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73844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тра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след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urier New"/>
              </a:rPr>
              <a:t>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allpart"/>
          <p:cNvPicPr/>
          <p:nvPr/>
        </p:nvPicPr>
        <p:blipFill>
          <a:blip r:embed="rId1"/>
          <a:stretch/>
        </p:blipFill>
        <p:spPr>
          <a:xfrm>
            <a:off x="2403360" y="404640"/>
            <a:ext cx="4265640" cy="604872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hat1"/>
          <p:cNvPicPr/>
          <p:nvPr/>
        </p:nvPicPr>
        <p:blipFill>
          <a:blip r:embed="rId1"/>
          <a:stretch/>
        </p:blipFill>
        <p:spPr>
          <a:xfrm>
            <a:off x="366840" y="2819520"/>
            <a:ext cx="8410320" cy="1218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hat2"/>
          <p:cNvPicPr/>
          <p:nvPr/>
        </p:nvPicPr>
        <p:blipFill>
          <a:blip r:embed="rId1"/>
          <a:stretch/>
        </p:blipFill>
        <p:spPr>
          <a:xfrm>
            <a:off x="380880" y="3062160"/>
            <a:ext cx="838224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allpart"/>
          <p:cNvPicPr/>
          <p:nvPr/>
        </p:nvPicPr>
        <p:blipFill>
          <a:blip r:embed="rId1"/>
          <a:stretch/>
        </p:blipFill>
        <p:spPr>
          <a:xfrm>
            <a:off x="2606760" y="260280"/>
            <a:ext cx="4397400" cy="6237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20:57:26Z</dcterms:created>
  <dc:creator>eugene</dc:creator>
  <dc:description/>
  <dc:language>en-US</dc:language>
  <cp:lastModifiedBy>LEGION</cp:lastModifiedBy>
  <dcterms:modified xsi:type="dcterms:W3CDTF">2015-04-01T06:53:46Z</dcterms:modified>
  <cp:revision>14</cp:revision>
  <dc:subject/>
  <dc:title>Разработка электронного учебника по дисциплине “Информатика и программирование”</dc:title>
</cp:coreProperties>
</file>