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452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56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3800" y="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3320"/>
            <a:ext cx="48862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368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B043-458E-4890-A0EF-BEEA0A5BF3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FA25-464B-4C2E-A702-72CA130DC9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ую систему рассматривают ка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форму организации денежн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жду всеми субъектами воспроизводственного процесса по распределению и перераспределению совокупного общественного продукта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инансы: Учебник/ под ред. Ковалева В.В.,  «Проспект»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F049-FD12-45D4-A8AC-EE9ED14ACE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рассматривается как в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финансов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ак система, в которой выделяются отдельные сферы и звенья финансов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инансы: Рабочая программа/ под ред. Филина  А.Г., «МГТА», М., 200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0E78-8931-4140-A6B4-73C072C83B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и звенья финансовых отношений взаимосвязаны, образуют в совокупности единую финансовую систему. Последняя имеет следующий ви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Финансы: Учебник/ под ред. Родионовой В.М., «Финансы и статистика» 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ализованные                                Децентрализ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                                                       финан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государственный бюджет              - финансы коммерческ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внебюджетные фонды                     - финансы некоммерческ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государственный кредит                - финансы обществ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страхование                                                       объ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а) социаль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б) лич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в) имуществен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г) страхование ответствен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д) страхование предприн-их риск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7B15-845E-4BB3-9E3F-8D35155AE2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совокупность финансовых рынков и финансовых посред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финансовых отношений: кредиторы и заемщ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AB27-075B-496F-B05B-299C848550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финансовую систему входят две подсистем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финансовых институтов …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органов и учрежд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EB79-E918-4A7B-B164-22E21A2C9F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истема может быть представлена как совокупность трех основных звенье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финан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ные финан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е финан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957F-8B29-4616-9B7E-DDF39C04EC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централизован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инанс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ы  Ю.Л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ы  Ф.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ентрализованные     финанс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юджетная систем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осударственный кре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небюджетные фо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C280-F798-4B70-92AA-376C38F087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ый Кодекс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система России, под. ред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. Б. Поля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, под. ред. А. М. Ковал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, под. ред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. А. Дробоз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финансов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. М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абан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A19D-571E-4493-8F4D-8FE2A011E8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авнение «денег» и «финанс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еньг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всеобщий стоимостной эквивал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и дене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а стоим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обращ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платеж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накоп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 день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CBCA-7767-4005-B5E3-CE8BF78B9F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историческая категория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м государ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самостоятельных хозяйствующих субъе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ое разделение труда и деление общества на социальны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DF7C-2B4E-4AB7-81AB-E13A02DA45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экономическая категор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экономико – денежных отношений, связанных с формированием, распределением и использованием финансовых ресурсов для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9CA5-CCB8-4995-9695-54F4674A8D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выступают в денежной форме, н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29C9-8980-402E-AF7A-77CDA08B02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ресур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изованные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ступившие в порядке перераспред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5475-1631-4A61-8AAC-71B09271DF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финан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ительная (перераспределительна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BACC-D050-49EF-AAB8-11CB48474E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ние темпы роста в промышленност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% в месяц, сезонный фактор устранен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2A97-6EF7-4C36-8A1A-D338B4D195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0B7-592C-43A5-A352-9CD1976C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72C-928E-4DAC-A3F3-8BCD8F79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E78-3EC3-4526-9E4A-E434EA8B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B0F0-360A-4E9B-A5C4-3BB413B6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939-47E9-4F85-83F6-07E5DC86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5FC-67C7-4162-9008-B44231D4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068C-523C-4852-95D1-5FEB5F34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0D7-D7EC-4733-AC1D-E7ABFCB3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A92-BCFB-401A-89D3-FDF7E65B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5B5-3E69-4D15-9602-6A64EC1A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CFC-92C9-4B55-B329-E4A994D9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8BD5-58A1-478D-87FD-8A2E7B8C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CDED-A241-4464-874C-9B32BBDB42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945F-9675-41E4-9DB0-B1566D43D9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нансы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C590-BC56-4727-9F64-B22BD926F2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1412640"/>
            <a:ext cx="813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ую систему рассматривают как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орму организации денежных 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жду всеми субъектами воспроизводственного процесса по распределению и перераспределению совокупного общественного продукта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нансы: Учебник/ под ред. Ковалева В.В.,  «Проспект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3A39-043E-4B63-BEA7-63746E04BD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рассматривается как вс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финансовых отношен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как система, в которой выделяются отдельные сферы и звенья финансовых отнош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ы: Рабочая программа/ под ред. Филина  А.Г., «МГТА», М., 200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F413-B635-4DE6-9D69-F36AEABD3F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ы и звенья финансовых отношений взаимосвязаны, образуют в совокупности единую финансовую систему. Последняя имеет следующи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ы: Учебник/ под ред. Родионовой В.М., «Финансы и статистика»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ализованные                                Децентрализ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ансы                                                        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государственный бюджет              - финансы коммерческ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внебюджетные фонды                     - финансы некоммерческ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государственный кредит                - финансы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страхование                                                       объеди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) соци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) ли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) имуществ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) страховани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) страхование предприн-их ри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5755-7955-4D94-9512-6AAF36264B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то совокупность финансовых рынков и финансовых посред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ники финансовых отношений: кредиторы и заемщи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16F7-28A2-432B-BEBC-3235932AE1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rganization Chart 5"/>
          <p:cNvGrpSpPr/>
          <p:nvPr/>
        </p:nvGrpSpPr>
        <p:grpSpPr>
          <a:xfrm>
            <a:off x="1301040" y="1303200"/>
            <a:ext cx="6469560" cy="2733840"/>
            <a:chOff x="1301040" y="1303200"/>
            <a:chExt cx="6469560" cy="2733840"/>
          </a:xfrm>
        </p:grpSpPr>
        <p:cxnSp>
          <p:nvCxnSpPr>
            <p:cNvPr id="98" name="_s1028"/>
            <p:cNvCxnSpPr>
              <a:stCxn id="99" idx="0"/>
              <a:endCxn id="100" idx="2"/>
            </p:cNvCxnSpPr>
            <p:nvPr/>
          </p:nvCxnSpPr>
          <p:spPr>
            <a:xfrm flipV="1" rot="16200000">
              <a:off x="5714640" y="2553840"/>
              <a:ext cx="229320" cy="908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029"/>
            <p:cNvCxnSpPr>
              <a:stCxn id="102" idx="0"/>
              <a:endCxn id="100" idx="2"/>
            </p:cNvCxnSpPr>
            <p:nvPr/>
          </p:nvCxnSpPr>
          <p:spPr>
            <a:xfrm flipH="1" flipV="1" rot="5400000">
              <a:off x="4807080" y="2553840"/>
              <a:ext cx="229320" cy="908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030"/>
            <p:cNvCxnSpPr>
              <a:stCxn id="104" idx="0"/>
              <a:endCxn id="105" idx="2"/>
            </p:cNvCxnSpPr>
            <p:nvPr/>
          </p:nvCxnSpPr>
          <p:spPr>
            <a:xfrm flipH="1" flipV="1" rot="5400000">
              <a:off x="4001400" y="1454400"/>
              <a:ext cx="229320" cy="839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1"/>
            <p:cNvCxnSpPr>
              <a:stCxn id="107" idx="0"/>
              <a:endCxn id="105" idx="2"/>
            </p:cNvCxnSpPr>
            <p:nvPr/>
          </p:nvCxnSpPr>
          <p:spPr>
            <a:xfrm flipV="1" rot="16200000">
              <a:off x="5679360" y="615600"/>
              <a:ext cx="229320" cy="2517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2"/>
            <p:cNvCxnSpPr>
              <a:stCxn id="100" idx="0"/>
              <a:endCxn id="105" idx="2"/>
            </p:cNvCxnSpPr>
            <p:nvPr/>
          </p:nvCxnSpPr>
          <p:spPr>
            <a:xfrm flipV="1" rot="16200000">
              <a:off x="4840920" y="1454040"/>
              <a:ext cx="229320" cy="840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33"/>
            <p:cNvCxnSpPr>
              <a:stCxn id="110" idx="0"/>
              <a:endCxn id="105" idx="2"/>
            </p:cNvCxnSpPr>
            <p:nvPr/>
          </p:nvCxnSpPr>
          <p:spPr>
            <a:xfrm flipH="1" flipV="1" rot="5400000">
              <a:off x="3163680" y="616320"/>
              <a:ext cx="229320" cy="2516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034"/>
            <p:cNvSpPr/>
            <p:nvPr/>
          </p:nvSpPr>
          <p:spPr>
            <a:xfrm>
              <a:off x="3519720" y="1303200"/>
              <a:ext cx="2033640" cy="457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ые рын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5"/>
            <p:cNvSpPr/>
            <p:nvPr/>
          </p:nvSpPr>
          <p:spPr>
            <a:xfrm>
              <a:off x="130104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алют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>
              <a:off x="4656240" y="1989000"/>
              <a:ext cx="143712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апита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7"/>
            <p:cNvSpPr/>
            <p:nvPr/>
          </p:nvSpPr>
          <p:spPr>
            <a:xfrm>
              <a:off x="633312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енеж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ред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8"/>
            <p:cNvSpPr/>
            <p:nvPr/>
          </p:nvSpPr>
          <p:spPr>
            <a:xfrm>
              <a:off x="297864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ол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9"/>
            <p:cNvSpPr/>
            <p:nvPr/>
          </p:nvSpPr>
          <p:spPr>
            <a:xfrm>
              <a:off x="3678120" y="3122640"/>
              <a:ext cx="1575720" cy="91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судн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апита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40"/>
            <p:cNvSpPr/>
            <p:nvPr/>
          </p:nvSpPr>
          <p:spPr>
            <a:xfrm>
              <a:off x="5493960" y="3122640"/>
              <a:ext cx="1575360" cy="91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ценных бума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F93F-6165-4F67-B563-CECD2EA22F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финансовую систему входят две подсист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окупность финансовых институтов …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органов и учрежд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C3C6-1FA9-4F2E-80D0-4CDB3A70F9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овая система может быть представлена как совокупность трех основных звень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ые финан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ные финан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ные финан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4079-71E8-4DA9-AA25-916503DB1F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централиз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нансы  Ю.Л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нансы  Ф.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ализованные     финан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юджетная систем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сударственный кре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небюджетные фо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692D-5907-4231-A6C5-3713654887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юджетный Кодекс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юджетная система России, под. ред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. Б. Поля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ы, под. ред. А. М. Ковале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ы, под. ред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. А. Дробоз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ия финансов 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. 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абан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81A1-92C1-4775-9E22-C8539A4C25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авнение «денег» и «финанс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еньг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всеобщий стоимостной эквивал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 дене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а стоим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обращ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платеж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накоп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вые день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52E7-4C36-45F7-93B1-833F6044C1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историческая категор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нием государ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явление самостоятельных хозяйствующих субъект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ственное разделение труда и деление общества на социальные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5FAA-EDB5-46AB-A654-4F102C0105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экономическая катег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окупность экономико – денежных отношений, связанных с формированием, распределением и использованием финансовых ресурсов дл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5903-1A1F-4754-B9D4-F58A0EDF4E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147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ансы выступают в денежной форме, н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9640" y="1341360"/>
          <a:ext cx="8280360" cy="424836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еньги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инанс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озникнов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озникнов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Круг экономических отнош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Круг экономических отнош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6A2E-F2CB-4D2E-BDFC-5BD4162E94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бственные сре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билизованные сре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ства, поступившие в порядке перераспредел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BC51-B928-486B-B7EE-DA23CB559B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и финанс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пределительная (перераспределительная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троль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A2E4-0581-4CEC-A238-EB2EC94D27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е темпы роста в промышленности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% в месяц, сезонный фактор устранен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981000"/>
          <a:ext cx="8229600" cy="4986360"/>
        </p:xfrm>
        <a:graphic>
          <a:graphicData uri="http://schemas.openxmlformats.org/drawingml/2006/table">
            <a:tbl>
              <a:tblPr/>
              <a:tblGrid>
                <a:gridCol w="5267160"/>
                <a:gridCol w="1368720"/>
                <a:gridCol w="1593720"/>
              </a:tblGrid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нь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 - Июнь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ыча полезных ископаем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атывающие произво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пищевых 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люлозно-бумажное производст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кокса и нефте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ое 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лургическое 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машин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электро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транспор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08:06:42Z</dcterms:created>
  <dc:creator>Riabova Elena</dc:creator>
  <dc:description/>
  <dc:language>en-US</dc:language>
  <cp:lastModifiedBy>LEGION</cp:lastModifiedBy>
  <dcterms:modified xsi:type="dcterms:W3CDTF">2014-11-10T12:15:02Z</dcterms:modified>
  <cp:revision>23</cp:revision>
  <dc:subject/>
  <dc:title>Слайд 1</dc:title>
</cp:coreProperties>
</file>