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645275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456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796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63800" y="0"/>
            <a:ext cx="28800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9120" y="733320"/>
            <a:ext cx="488628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83680"/>
            <a:ext cx="28796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9AF37-F9C3-4178-8F12-85E45F1617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нансы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нансовая сист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AC2E0-9AC0-40BC-983E-E626AE962F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ая сист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ую систему рассматривают как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форму организации денежных отношени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между всеми субъектами воспроизводственного процесса по распределению и перераспределению совокупного общественного продукта.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Финансы: Учебник/ под ред. Ковалева В.В.,  «Проспект»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3A543-15B6-426D-9C6E-488D6EB598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нансовая систем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рассматривается как вся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совокупность финансовых отношени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как система, в которой выделяются отдельные сферы и звенья финансовых отно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инансы: Рабочая программа/ под ред. Филина  А.Г., «МГТА», М., 2002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1EA10-BFF3-4D07-941F-7BC2D6B675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еры и звенья финансовых отношений взаимосвязаны, образуют в совокупности единую финансовую систему. Последняя имеет следующий ви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Финансы: Учебник/ под ред. Родионовой В.М., «Финансы и статистика» 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нансовая сист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нтрализованные                                Децентрализова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нансы                                                        финан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- государственный бюджет              - финансы коммерческих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ед-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- внебюджетные фонды                     - финансы некоммерческих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ед-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- государственный кредит                - финансы обществен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- страхование                                                       объедин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а) социально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б) лично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в) имущественно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г) страхование ответственност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д) страхование предприн-их риско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FE4F0-7897-43A2-8F8D-30D53A2204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нансовая систем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это совокупность финансовых рынков и финансовых посредни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ники финансовых отношений: кредиторы и заемщ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6F804-512D-423F-8EAB-FB8BA84063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 финансовую систему входят две подсистемы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окупность финансовых институтов …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окупность государственных органов и учрежд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488CB-E77B-4862-B4D4-EE8E40F729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ая система может быть представлена как совокупность трех основных звенье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ударственные финанс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стные финанс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ные финанс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BC10A-1E6B-475E-ADF0-402AA6AB5E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нансовая систем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ецентрализованны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финансы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финансы  Ю.Л.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финансы  Ф.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Централизованные     финансы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Бюджетная система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Государственный кред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небюджетные фон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DAC82-0BAF-4C69-AA9D-05F48CD7A7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юджетный Кодекс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юджетная система России, под. ред.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Г. Б. Поля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ы, под. ред. А. М. Ковалев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ы, под. ред.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Л. А. Дробози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финансов -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Б. М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абан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188D7-56FB-4406-BC79-163686D137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равнение «денег» и «финансов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Деньги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всеобщий стоимостной эквивален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ункции денег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ра стоим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ство обращ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ство платеж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ство накоп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ые день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69D83-B632-49AA-8554-CB305F71D8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инансы,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как историческая категория: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м государ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явление самостоятельных хозяйствующих субъект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ственное разделение труда и деление общества на социальные груп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13382-9F88-4729-A8E2-2EA8D58E6A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инансы,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как экономическая категория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окупность экономико – денежных отношений, связанных с формированием, распределением и использованием финансовых ресурсов для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FD7A9-F725-42D6-871D-2BCFDF9A0E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ы выступают в денежной форме, но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5AE0A-37DF-45CE-8248-A407E9416C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ые ресурс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ственные сред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билизованные сред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ства, поступившие в порядке перераспреде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591B4-5325-4912-987A-7CAC059687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финанс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пределительная (перераспределительная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улирующа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на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936FC-836F-4F40-95C5-C87AAA8656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редние темпы роста в промышленности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% в месяц, сезонный фактор устранен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C665E-D64F-461E-9F6C-E8F110F15B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C1A8-F76F-42D0-85CA-60D43831B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71C7-BBC4-4035-BFE9-1FE525D64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E081-925E-4EEC-B47A-995260515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5DAC-28B2-4024-B96E-C779F9CC4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E5FD-90B3-4462-AC12-6B53C0010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456A-F56F-4392-8C82-116B8C2AE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3C40-15B4-4293-A29D-F43EB3729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CA95-0BF1-4D96-A5D0-055555B64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FBC8-E1C0-494B-AEA6-81CD20BDB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7C6C-51AA-4B7C-B0F5-28F551D6C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A84C-702B-4613-A2E0-724F623CF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A4C3-F173-43D9-AE38-E19995FCC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1DB8E-3727-4B52-A00D-1E34DFFB3E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13BFB-BE39-498C-B342-53D83B83F1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инансы 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инансовая сист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40F3B-F440-4221-BC55-030B012269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инансовая сист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84000" y="1412640"/>
            <a:ext cx="81356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нансовую систему рассматривают как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форму организации денежных отношен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между всеми субъектами воспроизводственного процесса по распределению и перераспределению совокупного общественного продукта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Финансы: Учебник/ под ред. Ковалева В.В.,  «Проспект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F83F0-A3A8-4719-9A89-084C407E3C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Финансовая систем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рассматривается как вся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совокупность финансовых отношений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как система, в которой выделяются отдельные сферы и звенья финансовых отношен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нансы: Рабочая программа/ под ред. Филина  А.Г., «МГТА», М., 200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D4539-CE94-47E8-8BE9-E5A1C3FEE1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феры и звенья финансовых отношений взаимосвязаны, образуют в совокупности единую финансовую систему. Последняя имеет следующий ви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нансы: Учебник/ под ред. Родионовой В.М., «Финансы и статистика»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инансовая систе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нтрализованные                                Децентрализова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инансы                                                        финан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- государственный бюджет              - финансы коммерческих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ед-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- внебюджетные фонды                     - финансы некоммерческих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ед-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- государственный кредит                - финансы обществе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- страхование                                                       объедин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) социаль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) лич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) имуществен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) страхование ответств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) страхование предприн-их рис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8BB16-C2C4-4CA0-93B1-C78DBC0F50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Финансовая систем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это совокупность финансовых рынков и финансовых посредник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частники финансовых отношений: кредиторы и заемщик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80380-97A1-4BFA-BE34-F3BBF5A1B7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Organization Chart 5"/>
          <p:cNvGrpSpPr/>
          <p:nvPr/>
        </p:nvGrpSpPr>
        <p:grpSpPr>
          <a:xfrm>
            <a:off x="1301040" y="1303200"/>
            <a:ext cx="6469560" cy="2733840"/>
            <a:chOff x="1301040" y="1303200"/>
            <a:chExt cx="6469560" cy="2733840"/>
          </a:xfrm>
        </p:grpSpPr>
        <p:cxnSp>
          <p:nvCxnSpPr>
            <p:cNvPr id="98" name="_s1028"/>
            <p:cNvCxnSpPr>
              <a:stCxn id="99" idx="0"/>
              <a:endCxn id="100" idx="2"/>
            </p:cNvCxnSpPr>
            <p:nvPr/>
          </p:nvCxnSpPr>
          <p:spPr>
            <a:xfrm flipV="1" rot="16200000">
              <a:off x="5714640" y="2553840"/>
              <a:ext cx="229320" cy="9082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1" name="_s1029"/>
            <p:cNvCxnSpPr>
              <a:stCxn id="102" idx="0"/>
              <a:endCxn id="100" idx="2"/>
            </p:cNvCxnSpPr>
            <p:nvPr/>
          </p:nvCxnSpPr>
          <p:spPr>
            <a:xfrm flipH="1" flipV="1" rot="5400000">
              <a:off x="4807080" y="2553840"/>
              <a:ext cx="229320" cy="908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3" name="_s1030"/>
            <p:cNvCxnSpPr>
              <a:stCxn id="104" idx="0"/>
              <a:endCxn id="105" idx="2"/>
            </p:cNvCxnSpPr>
            <p:nvPr/>
          </p:nvCxnSpPr>
          <p:spPr>
            <a:xfrm flipH="1" flipV="1" rot="5400000">
              <a:off x="4001400" y="1454400"/>
              <a:ext cx="229320" cy="839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6" name="_s1031"/>
            <p:cNvCxnSpPr>
              <a:stCxn id="107" idx="0"/>
              <a:endCxn id="105" idx="2"/>
            </p:cNvCxnSpPr>
            <p:nvPr/>
          </p:nvCxnSpPr>
          <p:spPr>
            <a:xfrm flipV="1" rot="16200000">
              <a:off x="5679360" y="615600"/>
              <a:ext cx="229320" cy="25174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8" name="_s1032"/>
            <p:cNvCxnSpPr>
              <a:stCxn id="100" idx="0"/>
              <a:endCxn id="105" idx="2"/>
            </p:cNvCxnSpPr>
            <p:nvPr/>
          </p:nvCxnSpPr>
          <p:spPr>
            <a:xfrm flipV="1" rot="16200000">
              <a:off x="4840920" y="1454040"/>
              <a:ext cx="229320" cy="8402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9" name="_s1033"/>
            <p:cNvCxnSpPr>
              <a:stCxn id="110" idx="0"/>
              <a:endCxn id="105" idx="2"/>
            </p:cNvCxnSpPr>
            <p:nvPr/>
          </p:nvCxnSpPr>
          <p:spPr>
            <a:xfrm flipH="1" flipV="1" rot="5400000">
              <a:off x="3163680" y="616320"/>
              <a:ext cx="229320" cy="25160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5" name="_s1034"/>
            <p:cNvSpPr/>
            <p:nvPr/>
          </p:nvSpPr>
          <p:spPr>
            <a:xfrm>
              <a:off x="3519720" y="1303200"/>
              <a:ext cx="2033640" cy="457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160" rIns="8316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Финансовые рынк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1035"/>
            <p:cNvSpPr/>
            <p:nvPr/>
          </p:nvSpPr>
          <p:spPr>
            <a:xfrm>
              <a:off x="1301040" y="1989000"/>
              <a:ext cx="1437480" cy="9050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160" rIns="8316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Валютны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рыно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036"/>
            <p:cNvSpPr/>
            <p:nvPr/>
          </p:nvSpPr>
          <p:spPr>
            <a:xfrm>
              <a:off x="4656240" y="1989000"/>
              <a:ext cx="1437120" cy="9050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160" rIns="8316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Рыно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капитал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037"/>
            <p:cNvSpPr/>
            <p:nvPr/>
          </p:nvSpPr>
          <p:spPr>
            <a:xfrm>
              <a:off x="6333120" y="1989000"/>
              <a:ext cx="1437480" cy="9050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160" rIns="8316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Рыно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Денежны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средст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1038"/>
            <p:cNvSpPr/>
            <p:nvPr/>
          </p:nvSpPr>
          <p:spPr>
            <a:xfrm>
              <a:off x="2978640" y="1989000"/>
              <a:ext cx="1437480" cy="9050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160" rIns="8316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Рыно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золот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1039"/>
            <p:cNvSpPr/>
            <p:nvPr/>
          </p:nvSpPr>
          <p:spPr>
            <a:xfrm>
              <a:off x="3678120" y="3122640"/>
              <a:ext cx="1575720" cy="9144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Рыно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ссудного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капитал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040"/>
            <p:cNvSpPr/>
            <p:nvPr/>
          </p:nvSpPr>
          <p:spPr>
            <a:xfrm>
              <a:off x="5493960" y="3122640"/>
              <a:ext cx="1575360" cy="9144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Рынок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ценных бумаг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E8FD9-6800-446E-81ED-5E16971F70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финансовую систему входят две подсистем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вокупность финансовых институтов …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вокупность государственных органов и учрежден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EAF4C-2337-402D-AEA1-79973D281F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инансовая система может быть представлена как совокупность трех основных звенье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3068280"/>
            <a:ext cx="822960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сударственные финанс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стные финанс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стные финанс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51524-8E71-41B1-8D7D-06F281620B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Финансовая систем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384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централизова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нансы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финансы  Ю.Л.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финансы  Ф.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832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нтрализованные     финанс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Бюджетная система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Государственный кред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небюджетные фон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A0E10-905B-4386-B0BB-2871937049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юджетный Кодекс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юджетная система России, под. ред.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Г. Б. Поля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нансы, под. ред. А. М. Ковале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нансы, под. ред.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Л. А. Дробози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ория финансов -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Б. М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абан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0D940-3C50-4380-943F-FA61092B44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равнение «денег» и «финансов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Деньги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всеобщий стоимостной эквивален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ункции денег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ра стоим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едство обращ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едство платеж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едство накопл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ровые деньг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54147-DDA3-423C-9DEB-5D758D00B2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инансы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историческая категория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зданием государств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явление самостоятельных хозяйствующих субъектов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щественное разделение труда и деление общества на социальные групп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AD9AC-3271-476F-BD11-1733AF30AB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инансы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экономическая категор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вокупность экономико – денежных отношений, связанных с формированием, распределением и использованием финансовых ресурсов для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23CCA-CFD8-4A23-B5F3-547FF2272E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6840" y="260280"/>
            <a:ext cx="814716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нансы выступают в денежной форме, но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39640" y="1341360"/>
          <a:ext cx="8280360" cy="4248360"/>
        </p:xfrm>
        <a:graphic>
          <a:graphicData uri="http://schemas.openxmlformats.org/drawingml/2006/table">
            <a:tbl>
              <a:tblPr/>
              <a:tblGrid>
                <a:gridCol w="4141800"/>
                <a:gridCol w="4138560"/>
              </a:tblGrid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Деньги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Финансы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Определ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Определ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Функц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Функц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Возникнов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Возникнов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 Круг экономических отноше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 Круг экономических отноше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22178-E77D-40F7-917C-3CE8578E3C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инансовые ресур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бственные средств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обилизованные средств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редства, поступившие в порядке перераспределе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DC40E-9F58-48AC-B031-DDC0063163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ункции финанс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спределительная (перераспределительная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егулирующая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нтрольна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C35BF-2B41-4382-83E8-069948E651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едние темпы роста в промышленности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% в месяц, сезонный фактор устранен)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57200" y="981000"/>
          <a:ext cx="8229600" cy="4986360"/>
        </p:xfrm>
        <a:graphic>
          <a:graphicData uri="http://schemas.openxmlformats.org/drawingml/2006/table">
            <a:tbl>
              <a:tblPr/>
              <a:tblGrid>
                <a:gridCol w="5267160"/>
                <a:gridCol w="1368720"/>
                <a:gridCol w="1593720"/>
              </a:tblGrid>
              <a:tr h="85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юнь 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прель - Июнь 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быча полезных ископаем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батывающие производ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ство пищевых продук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люлозно-бумажное производств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ство кокса и нефтепродук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мическое производ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аллургическое производ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ство машин и обору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ство электрообору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3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ство транспортных сред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ство и распределение электроэнергии, газа и в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7T08:06:42Z</dcterms:created>
  <dc:creator>Riabova Elena</dc:creator>
  <dc:description/>
  <dc:language>en-US</dc:language>
  <cp:lastModifiedBy>LEGION</cp:lastModifiedBy>
  <dcterms:modified xsi:type="dcterms:W3CDTF">2014-11-10T12:15:02Z</dcterms:modified>
  <cp:revision>23</cp:revision>
  <dc:subject/>
  <dc:title>Слайд 1</dc:title>
</cp:coreProperties>
</file>