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08D6-85C6-4669-A628-7BE4BB1980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ОКОЛЕНИЯ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EA06-7F09-48DC-96C8-00A62E7C61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ТОРОЕ ПОКОЛЕНИЕ 1960-196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75D-B838-49E9-950A-145F2304DD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FFB4-37AC-4A10-8DC3-0F6F124C6F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A3A-5671-4BA6-A8E3-B1D4F41C21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C0AA-F66A-406F-BD06-CC0BDE652D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13B-BEDD-49B2-A1C0-6A6B1FABBC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89D-617E-4291-BABA-2FBBC8A982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E790-0D9C-43E4-BC34-4D483EA3E5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9A73-6151-444D-9BCC-C46C8727AE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0E92-240E-4A3E-83DC-6E9E2E1626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колений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3BE1-5777-4ABB-8E24-F773148C60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электронн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b2b2b2"/>
                </a:solidFill>
                <a:latin typeface="Arial"/>
                <a:ea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1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26CC-C6D0-4340-9B8A-EABB921CF4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водная табл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C37-8EDE-43EF-82D2-98E4B35D61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5DCA-C5C4-43E3-A2CF-9DB5AC010A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фон Нейм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9125-F6A8-4664-9180-10215CEE53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1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стройство ввода. Вводит и кодирует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арифметико-логическое устройство. Обрабатывает арифметическую и логическ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апоминающее устройство. Хранит данные, программу и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стройство управления. Управляет работой всех устройств и ходом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24E2-AEDE-4BF1-9BCB-4A8743A469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6EB9-36F9-4E24-B906-E5814B4DA2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7C7A-5503-490C-9D2B-8A13785AEB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F6FB-1178-4088-A0BA-C7739BF452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D651-3002-4F1E-BA3C-C4A0D9A7C4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75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whoosh.wav"/><Relationship Id="rId7" Type="http://schemas.openxmlformats.org/officeDocument/2006/relationships/audio" Target="../media/&#1041;&#1077;&#1081;&#1089;&#1073;&#1086;&#1083;%20-%20&#1074;&#1099;&#1093;&#1086;&#1076;%20&#1080;&#1079;%20Window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&#1055;&#1091;&#1090;&#1077;&#1096;&#1077;&#1089;&#1090;&#1074;&#1080;&#1103;%20-%20&#1074;&#1086;&#1087;&#1088;&#1086;&#1089;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komp37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шари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шар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шар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шар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шарик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шарик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шарик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Tranzist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диод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магнитный сердечник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6243518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9" descr="цифры2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i?id=6448969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1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2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5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магнитная лента1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Magnit_lent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магнитная лента2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накопители МЛ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Line 14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5" descr="магнитный диск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магнитный диск2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магнитный диск3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8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4" descr="бэсм6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esm-6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ruka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Kristal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o5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цифры2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AutoShape 12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пок3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шина ес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ес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1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пок4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двк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цифры2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схем1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4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komp35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Untitled-1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Untitled-2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5400" y="1143000"/>
          <a:ext cx="8953200" cy="535932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60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4" name="AutoShape 6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5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5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ENIAC-2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20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22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Altair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apple-1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9" name="AutoShape 8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ansistor&amp; rabit 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цифры2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радиоламп1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радиол2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78" name="WordArt 12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1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5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3" name="Rectangle 3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32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" name="AutoShape 3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бэсм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ebede2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trela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m2a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2d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2b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2c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ацпу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ерфокарта1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перфолента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6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перфолента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7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LEGION</cp:lastModifiedBy>
  <dcterms:modified xsi:type="dcterms:W3CDTF">2015-04-01T06:58:39Z</dcterms:modified>
  <cp:revision>53</cp:revision>
  <dc:subject/>
  <dc:title>Презентация PowerPoint</dc:title>
</cp:coreProperties>
</file>