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65EA-6B4B-429E-87A8-3B17090AC5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ОКОЛЕНИЯ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61C4-AE05-4795-AD13-9F04BDB783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ТОРОЕ ПОКОЛЕНИЕ 1960-1964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0266-D4D8-4B88-90D2-77A1E8BCFB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27FA-3FD9-4C1E-AF6A-9B74349A7F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BA57-98D0-4874-A78E-36675D87ED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B9D6-F6E3-41FE-AA4A-5534A13B84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821F-CC56-49D0-8CDD-C5AE2665C1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9B55-C69F-4768-BF09-4CCFEB2DCD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9D44-FAD2-4C55-952D-8E949A1326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F771-2664-4F51-8ABE-A3C59E0B88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5C37-90EC-400A-858F-8BCD4035AB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поколений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E5C1-6524-4F1E-8B75-156D85C938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электронн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pl-PL" sz="1200" spc="-1" strike="noStrike">
                <a:solidFill>
                  <a:srgbClr val="b2b2b2"/>
                </a:solidFill>
                <a:latin typeface="Arial"/>
                <a:ea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1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D6E3-1E8F-4F56-BD03-76142AAB31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водная табл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B3C6-DDBE-4083-B3F3-E100864BD7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8B6D-761D-46CB-B897-16417F3E59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фон Нейм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1DB8-B895-4651-93A7-3DEE8BBB97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а 1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стройство ввода. Вводит и кодирует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арифметико-логическое устройство. Обрабатывает арифметическую и логическую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апоминающее устройство. Хранит данные, программу и результ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стройство управления. Управляет работой всех устройств и ходом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41BE-3439-4FA2-B3FA-DB0A423BDA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CF04-19E0-40CF-A376-74F493A097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C104-B251-465E-930C-39A64AB367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8CC6-83D3-4D2C-9A46-A22A272B88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1021-DC59-4136-931E-525CD26710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9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675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audio" Target="../media/whoosh.wav"/><Relationship Id="rId7" Type="http://schemas.openxmlformats.org/officeDocument/2006/relationships/audio" Target="../media/&#1041;&#1077;&#1081;&#1089;&#1073;&#1086;&#1083;%20-%20&#1074;&#1099;&#1093;&#1086;&#1076;%20&#1080;&#1079;%20Window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&#1055;&#1091;&#1090;&#1077;&#1096;&#1077;&#1089;&#1090;&#1074;&#1080;&#1103;%20-%20&#1074;&#1086;&#1087;&#1088;&#1086;&#1089;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7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komp37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шари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шарик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шарик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шарик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шарик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шарик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0" descr="шарик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2" descr="Tranzist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диод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магнитный сердечник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?id=6243518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7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9" descr="цифры2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i?id=6448969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1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22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2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5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магнитная лента1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Magnit_lent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магнитная лента2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накопители МЛ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2" name="Line 14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5" descr="магнитный диск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магнитный диск2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магнитный диск3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8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1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4" descr="бэсм6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Besm-6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7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ruka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Kristal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1o5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цифры2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AutoShape 12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пок3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шина ес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ес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1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3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7" descr="пок4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двк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2" descr="цифры2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схем1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4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7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9" descr="komp35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19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Untitled-1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Untitled-2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95400" y="1143000"/>
          <a:ext cx="8953200" cy="535932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WordArt 60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4" name="AutoShape 6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5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5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8" descr="ENIAC-2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68" name="WordArt 20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AutoShape 22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Altair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apple-1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9" name="AutoShape 8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ransistor&amp; rabit f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цифры2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радиоламп1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радиол2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78" name="WordArt 12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1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5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3" name="Rectangle 3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0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3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7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3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32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" name="AutoShape 3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4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5" name="AutoShape 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бэсм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lebede2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strela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m2a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2d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m2b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m2c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" descr="ацпу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ерфокарта1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перфолента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6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перфолента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7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LEGION</cp:lastModifiedBy>
  <dcterms:modified xsi:type="dcterms:W3CDTF">2015-04-01T06:58:39Z</dcterms:modified>
  <cp:revision>53</cp:revision>
  <dc:subject/>
  <dc:title>Презентация PowerPoint</dc:title>
</cp:coreProperties>
</file>