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8865-A71E-443F-BC4D-F17E76B8215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A5FE-9837-4F0C-9FCC-AC9297B4A47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ный файл удобен при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хранении, копировании и перемещ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йлов. Однако в сжатом виде информация представлена так, что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текст не прочитать, рисунок не просмотреть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этому для работы с информацией требуется ее обратное преобразование – </a:t>
            </a: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РАЗАРХИВ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E0D5-9C4B-47AE-B2E8-D5462915B63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архивация (распаковк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становление файлов    из архивного файла в том виде, какой они име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омещения в арх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5427-9874-48F9-9C42-525287CF950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я –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паковка файлов с целью уменьшения объема данных, предназначенных для хранения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D083-CABE-4B5B-80D3-95D5AD8376E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данных существуют специальные служебн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ограммы-архиваторы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оторые вместо нескольких файлов создают один 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30B-D584-42E8-9F5C-AAD491EC6FC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иболее популярными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рограммами-архиваторам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38C7-9B90-46A1-957A-DA4C03A6A2A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66ff"/>
                </a:solidFill>
                <a:latin typeface="Calibri"/>
              </a:rPr>
              <a:t>В результате сжатия информация представляется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в нов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6736-C987-432B-A21D-FCF93C6F755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ТЕКСТОВЫЙ ФАЙ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, он, она – вместе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</a:t>
            </a:r>
            <a:r>
              <a:rPr b="1" lang="ru-RU" sz="1200" spc="-1" strike="noStrike">
                <a:solidFill>
                  <a:srgbClr val="ff00ff"/>
                </a:solidFill>
                <a:latin typeface="Calibri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она-вмесдруж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36FA-39DD-4EAF-87C0-D6801973A75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ff"/>
                </a:solidFill>
                <a:latin typeface="Calibri"/>
              </a:rPr>
              <a:t>ГРАФИЧЕСКИЙ  ФАЙ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8B5F-A8F0-48CA-A272-00371E5626E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ФО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Calibri"/>
              </a:rPr>
              <a:t>Сжимаю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очень незнач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Т.к. областей, состо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из точек одного и того же цв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чень ма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DF1D-96D1-4138-BF0D-72D2AC93CCF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величив изображение в сотни раз, можно увидеть, </a:t>
            </a: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располагающиеся рядом пиксели хоть незначительно, но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CFB4-3BA2-4A28-9F7E-43889DAA894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E18-DF3B-4467-837F-7C5D963E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DF4-E447-4CFC-8E1B-87C28D5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4BE-FBD4-466C-9CF5-EE1EDBF0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103-9071-4B82-92A3-022036B8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5488-3A1F-4881-9D7D-B88D6620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7494-D0A5-4A53-BFAB-16F19823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94B2-3226-4C65-8516-F61AC22D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F9A1-6F1B-43AA-A6A4-BFE2A01F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4C0A-8E8F-4640-BCFD-AB4AEC37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E2AD-0C23-454E-BAA1-9F3E790E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E801-B291-4AC3-9D21-3854301F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AFD-66F9-4D61-811C-2AAE6492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A67B-232B-454C-9749-02831D36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145F-218A-441D-9661-6A36CDF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2BF1-4B0F-433B-9927-25FF5375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2821-8F19-4DF4-B824-E419616A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092E-E124-431F-92E3-3E8B31E5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A03-0B5A-4EA7-A633-0F3C9D5A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A48-9DD5-42E2-B1AB-70E99AAE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670-28D1-4D58-AC22-3C1AD037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8F7-4DBC-4B9C-B250-C8272C45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96A-5619-4CDD-955A-385ABB4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7F2-B0D1-4F73-BA95-B52004E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EE6-D9B4-4190-A744-93EB51C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09A6-E8C9-4534-8F51-6284FE139DB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11E-8E3D-4901-82B0-2A83FC543A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7"/>
          <p:cNvSpPr txBox="1"/>
          <p:nvPr/>
        </p:nvSpPr>
        <p:spPr>
          <a:xfrm>
            <a:off x="1619280" y="220500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ХИВ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Н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хивный файл удобен при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хранении, копировании и перемещен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файлов. Однако в сжатом виде информация представлена так, что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текст не прочитать, рисунок не просмотреть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этому для работы с информацией требуется ее обратное преобразование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РАЗАРХИВ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азархивация (распаковка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становление файлов    из архивного файла в том виде, какой они име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 помещения в архи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1"/>
          <a:stretch/>
        </p:blipFill>
        <p:spPr>
          <a:xfrm>
            <a:off x="442764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2"/>
          <a:stretch/>
        </p:blipFill>
        <p:spPr>
          <a:xfrm>
            <a:off x="5580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3"/>
          <a:stretch/>
        </p:blipFill>
        <p:spPr>
          <a:xfrm>
            <a:off x="593892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"/>
          <p:cNvPicPr/>
          <p:nvPr/>
        </p:nvPicPr>
        <p:blipFill>
          <a:blip r:embed="rId4"/>
          <a:stretch/>
        </p:blipFill>
        <p:spPr>
          <a:xfrm>
            <a:off x="752328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5"/>
          <a:stretch/>
        </p:blipFill>
        <p:spPr>
          <a:xfrm>
            <a:off x="449892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6"/>
          <a:stretch/>
        </p:blipFill>
        <p:spPr>
          <a:xfrm>
            <a:off x="601200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"/>
          <p:cNvPicPr/>
          <p:nvPr/>
        </p:nvPicPr>
        <p:blipFill>
          <a:blip r:embed="rId7"/>
          <a:stretch/>
        </p:blipFill>
        <p:spPr>
          <a:xfrm>
            <a:off x="752328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"/>
          <p:cNvPicPr/>
          <p:nvPr/>
        </p:nvPicPr>
        <p:blipFill>
          <a:blip r:embed="rId8"/>
          <a:stretch/>
        </p:blipFill>
        <p:spPr>
          <a:xfrm>
            <a:off x="449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"/>
          <p:cNvPicPr/>
          <p:nvPr/>
        </p:nvPicPr>
        <p:blipFill>
          <a:blip r:embed="rId9"/>
          <a:stretch/>
        </p:blipFill>
        <p:spPr>
          <a:xfrm>
            <a:off x="593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"/>
          <p:cNvPicPr/>
          <p:nvPr/>
        </p:nvPicPr>
        <p:blipFill>
          <a:blip r:embed="rId10"/>
          <a:stretch/>
        </p:blipFill>
        <p:spPr>
          <a:xfrm>
            <a:off x="752328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"/>
          <p:cNvPicPr/>
          <p:nvPr/>
        </p:nvPicPr>
        <p:blipFill>
          <a:blip r:embed="rId11"/>
          <a:stretch/>
        </p:blipFill>
        <p:spPr>
          <a:xfrm>
            <a:off x="7236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"/>
          <p:cNvPicPr/>
          <p:nvPr/>
        </p:nvPicPr>
        <p:blipFill>
          <a:blip r:embed="rId12"/>
          <a:stretch/>
        </p:blipFill>
        <p:spPr>
          <a:xfrm>
            <a:off x="716436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"/>
          <p:cNvPicPr/>
          <p:nvPr/>
        </p:nvPicPr>
        <p:blipFill>
          <a:blip r:embed="rId13"/>
          <a:stretch/>
        </p:blipFill>
        <p:spPr>
          <a:xfrm>
            <a:off x="565164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"/>
          <p:cNvPicPr/>
          <p:nvPr/>
        </p:nvPicPr>
        <p:blipFill>
          <a:blip r:embed="rId14"/>
          <a:stretch/>
        </p:blipFill>
        <p:spPr>
          <a:xfrm>
            <a:off x="565164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15"/>
          <a:stretch/>
        </p:blipFill>
        <p:spPr>
          <a:xfrm>
            <a:off x="716436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5" descr=""/>
          <p:cNvPicPr/>
          <p:nvPr/>
        </p:nvPicPr>
        <p:blipFill>
          <a:blip r:embed="rId16"/>
          <a:stretch/>
        </p:blipFill>
        <p:spPr>
          <a:xfrm>
            <a:off x="971640" y="3213000"/>
            <a:ext cx="1800000" cy="1630440"/>
          </a:xfrm>
          <a:prstGeom prst="rect">
            <a:avLst/>
          </a:prstGeom>
          <a:ln w="0">
            <a:noFill/>
          </a:ln>
        </p:spPr>
      </p:pic>
      <p:sp>
        <p:nvSpPr>
          <p:cNvPr id="202" name="Line 37"/>
          <p:cNvSpPr/>
          <p:nvPr/>
        </p:nvSpPr>
        <p:spPr>
          <a:xfrm flipV="1">
            <a:off x="2843280" y="2637000"/>
            <a:ext cx="1512720" cy="129528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8"/>
          <p:cNvSpPr/>
          <p:nvPr/>
        </p:nvSpPr>
        <p:spPr>
          <a:xfrm>
            <a:off x="2843280" y="4005360"/>
            <a:ext cx="1584360" cy="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39"/>
          <p:cNvSpPr/>
          <p:nvPr/>
        </p:nvSpPr>
        <p:spPr>
          <a:xfrm>
            <a:off x="2843280" y="4076640"/>
            <a:ext cx="1584360" cy="122400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6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31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61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PA1822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4436640"/>
            <a:ext cx="80010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Архивация – </a:t>
            </a: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упаковка файлов с целью уменьшения объема данных, предназначенных для хранения. </a:t>
            </a: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Для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ации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данных существуют специальные служебные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рограммы-архиваторы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которые вместо нескольких файлов создают один -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539640" y="2133720"/>
          <a:ext cx="112392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5"/>
          <p:cNvGraphicFramePr/>
          <p:nvPr/>
        </p:nvGraphicFramePr>
        <p:xfrm>
          <a:off x="1692360" y="2637000"/>
          <a:ext cx="31428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2050920" y="2133720"/>
          <a:ext cx="112392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3635280" y="2133720"/>
          <a:ext cx="1123920" cy="11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611280" y="3500280"/>
          <a:ext cx="1123920" cy="11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9"/>
          <p:cNvGraphicFramePr/>
          <p:nvPr/>
        </p:nvGraphicFramePr>
        <p:xfrm>
          <a:off x="2124000" y="3500280"/>
          <a:ext cx="1123920" cy="119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400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635280" y="3500280"/>
          <a:ext cx="1123920" cy="119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611280" y="4869000"/>
          <a:ext cx="1123920" cy="11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2050920" y="4869000"/>
          <a:ext cx="1123920" cy="1190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092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3"/>
          <p:cNvGraphicFramePr/>
          <p:nvPr/>
        </p:nvGraphicFramePr>
        <p:xfrm>
          <a:off x="3635280" y="4869000"/>
          <a:ext cx="1123920" cy="1190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5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AutoShape 14"/>
          <p:cNvSpPr/>
          <p:nvPr/>
        </p:nvSpPr>
        <p:spPr>
          <a:xfrm>
            <a:off x="4859280" y="2060640"/>
            <a:ext cx="576360" cy="4105080"/>
          </a:xfrm>
          <a:custGeom>
            <a:avLst/>
            <a:gdLst>
              <a:gd name="textAreaLeft" fmla="*/ 0 w 576360"/>
              <a:gd name="textAreaRight" fmla="*/ 208080 w 57636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3348000" y="2637000"/>
          <a:ext cx="314280" cy="295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3276720" y="4005360"/>
          <a:ext cx="314280" cy="295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7672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9"/>
          <p:cNvGraphicFramePr/>
          <p:nvPr/>
        </p:nvGraphicFramePr>
        <p:xfrm>
          <a:off x="1763640" y="4005360"/>
          <a:ext cx="314280" cy="295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0"/>
          <p:cNvGraphicFramePr/>
          <p:nvPr/>
        </p:nvGraphicFramePr>
        <p:xfrm>
          <a:off x="1763640" y="5445000"/>
          <a:ext cx="314280" cy="29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Objec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6364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1"/>
          <p:cNvGraphicFramePr/>
          <p:nvPr/>
        </p:nvGraphicFramePr>
        <p:xfrm>
          <a:off x="3276720" y="5445000"/>
          <a:ext cx="314280" cy="295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Object 2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7672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4"/>
          <p:cNvGraphicFramePr/>
          <p:nvPr/>
        </p:nvGraphicFramePr>
        <p:xfrm>
          <a:off x="6443640" y="3284640"/>
          <a:ext cx="1558800" cy="1411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3640" y="3284640"/>
                    <a:ext cx="15588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76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76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76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аиболее популярными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рограммами-архиваторами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987640" y="3141720"/>
            <a:ext cx="30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latin typeface="Arial"/>
              </a:rPr>
              <a:t>Win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227640" y="486900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156b13"/>
                    </a:gs>
                  </a:gsLst>
                  <a:lin ang="5400000"/>
                </a:gradFill>
                <a:latin typeface="Arial"/>
              </a:rPr>
              <a:t>Win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156b1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6659640" y="1989000"/>
            <a:ext cx="1511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3399ff"/>
                    </a:gs>
                  </a:gsLst>
                  <a:lin ang="18900000"/>
                </a:gradFill>
                <a:latin typeface="Arial"/>
              </a:rPr>
              <a:t>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3399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900000" y="486900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00000"/>
                </a:gradFill>
                <a:latin typeface="Arial"/>
              </a:rPr>
              <a:t>ARJ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900000" y="1989000"/>
            <a:ext cx="129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9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5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ff"/>
                </a:solidFill>
                <a:latin typeface="Verdana"/>
              </a:rPr>
              <a:t>В результате сжатия информация представляется</a:t>
            </a: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в новом вид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ТЕКСТОВЫЙ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, он, она – вместе дружная семья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Посл</a:t>
            </a:r>
            <a:r>
              <a:rPr b="1" lang="ru-RU" sz="3000" spc="-1" strike="noStrike">
                <a:solidFill>
                  <a:srgbClr val="ff00ff"/>
                </a:solidFill>
                <a:latin typeface="Verdana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она-вмесдруж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3635280" y="292428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38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3708360" y="515772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Verdana"/>
              </a:rPr>
              <a:t>1</a:t>
            </a: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9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4" name="Прямая со стрелкой 8"/>
          <p:cNvCxnSpPr/>
          <p:nvPr/>
        </p:nvCxnSpPr>
        <p:spPr>
          <a:xfrm flipH="1">
            <a:off x="1283400" y="2714400"/>
            <a:ext cx="2520" cy="1788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5" name="Прямая со стрелкой 9"/>
          <p:cNvCxnSpPr/>
          <p:nvPr/>
        </p:nvCxnSpPr>
        <p:spPr>
          <a:xfrm flipH="1">
            <a:off x="1356840" y="2713680"/>
            <a:ext cx="6074640" cy="178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1356480" y="3214440"/>
            <a:ext cx="78660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H="1">
            <a:off x="1356840" y="2712960"/>
            <a:ext cx="6076080" cy="1788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" name="Овал 15"/>
          <p:cNvSpPr/>
          <p:nvPr/>
        </p:nvSpPr>
        <p:spPr>
          <a:xfrm>
            <a:off x="1071720" y="235728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Овал 16"/>
          <p:cNvSpPr/>
          <p:nvPr/>
        </p:nvSpPr>
        <p:spPr>
          <a:xfrm>
            <a:off x="7286760" y="242892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Овал 17"/>
          <p:cNvSpPr/>
          <p:nvPr/>
        </p:nvSpPr>
        <p:spPr>
          <a:xfrm>
            <a:off x="2000160" y="2857680"/>
            <a:ext cx="28584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Овал 20"/>
          <p:cNvSpPr/>
          <p:nvPr/>
        </p:nvSpPr>
        <p:spPr>
          <a:xfrm>
            <a:off x="1071720" y="4500720"/>
            <a:ext cx="35712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Ромб 22"/>
          <p:cNvSpPr/>
          <p:nvPr/>
        </p:nvSpPr>
        <p:spPr>
          <a:xfrm>
            <a:off x="3357720" y="2286000"/>
            <a:ext cx="28548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Ромб 23"/>
          <p:cNvSpPr/>
          <p:nvPr/>
        </p:nvSpPr>
        <p:spPr>
          <a:xfrm>
            <a:off x="264312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Ромб 24"/>
          <p:cNvSpPr/>
          <p:nvPr/>
        </p:nvSpPr>
        <p:spPr>
          <a:xfrm>
            <a:off x="685800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Ромб 25"/>
          <p:cNvSpPr/>
          <p:nvPr/>
        </p:nvSpPr>
        <p:spPr>
          <a:xfrm>
            <a:off x="2357280" y="43578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6" name="Прямая со стрелкой 27"/>
          <p:cNvCxnSpPr/>
          <p:nvPr/>
        </p:nvCxnSpPr>
        <p:spPr>
          <a:xfrm flipH="1">
            <a:off x="2499840" y="3000240"/>
            <a:ext cx="286560" cy="128664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7" name="Прямая со стрелкой 28"/>
          <p:cNvCxnSpPr/>
          <p:nvPr/>
        </p:nvCxnSpPr>
        <p:spPr>
          <a:xfrm flipH="1">
            <a:off x="2571120" y="2928600"/>
            <a:ext cx="857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8" name="Прямая со стрелкой 30"/>
          <p:cNvCxnSpPr/>
          <p:nvPr/>
        </p:nvCxnSpPr>
        <p:spPr>
          <a:xfrm flipH="1">
            <a:off x="2642760" y="2927880"/>
            <a:ext cx="4286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72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ГРАФИЧЕСКИЙ 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После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611280" y="2276640"/>
          <a:ext cx="331308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3130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6877080" y="3500280"/>
          <a:ext cx="100008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500280"/>
                    <a:ext cx="10000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Line 8"/>
          <p:cNvSpPr/>
          <p:nvPr/>
        </p:nvSpPr>
        <p:spPr>
          <a:xfrm>
            <a:off x="2411280" y="2924280"/>
            <a:ext cx="4608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1835280" y="3068640"/>
            <a:ext cx="540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0"/>
          <p:cNvSpPr/>
          <p:nvPr/>
        </p:nvSpPr>
        <p:spPr>
          <a:xfrm flipV="1">
            <a:off x="2627280" y="4221000"/>
            <a:ext cx="482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2340000" y="4437000"/>
            <a:ext cx="489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2"/>
          <p:cNvSpPr/>
          <p:nvPr/>
        </p:nvSpPr>
        <p:spPr>
          <a:xfrm flipV="1">
            <a:off x="2771640" y="4436640"/>
            <a:ext cx="4680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419640" y="4652640"/>
            <a:ext cx="381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8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99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ФО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Сжим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очень незначитель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Т.к. областей, состоя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из точек одного и того же цве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чень мал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Яна"/>
          <p:cNvPicPr/>
          <p:nvPr/>
        </p:nvPicPr>
        <p:blipFill>
          <a:blip r:embed="rId1"/>
          <a:stretch/>
        </p:blipFill>
        <p:spPr>
          <a:xfrm>
            <a:off x="1030320" y="2708280"/>
            <a:ext cx="2693880" cy="3384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6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величив изображение в сотни раз, можно увидеть,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что располагающиеся рядом пиксели хоть незначительно, но отличаются друг от дру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1039680" y="1752480"/>
          <a:ext cx="70549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752480"/>
                    <a:ext cx="70549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3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6:17:49Z</dcterms:created>
  <dc:creator>Васильева</dc:creator>
  <dc:description/>
  <dc:language>en-US</dc:language>
  <cp:lastModifiedBy>LEGION</cp:lastModifiedBy>
  <dcterms:modified xsi:type="dcterms:W3CDTF">2015-04-01T07:00:3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