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50E4-6F78-4C6C-8EA5-9D58F8C2ED8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DC2F-AAA0-48EE-B757-6E861F66201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вный файл удобен при </a:t>
            </a:r>
            <a:r>
              <a:rPr b="0" lang="ru-RU" sz="1200" spc="-1" strike="noStrike">
                <a:solidFill>
                  <a:srgbClr val="9966ff"/>
                </a:solidFill>
                <a:latin typeface="Calibri"/>
              </a:rPr>
              <a:t>хранении, копировании и перемещ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йлов. Однако в сжатом виде информация представлена так, что </a:t>
            </a:r>
            <a:r>
              <a:rPr b="0" lang="ru-RU" sz="1200" spc="-1" strike="noStrike">
                <a:solidFill>
                  <a:srgbClr val="9966ff"/>
                </a:solidFill>
                <a:latin typeface="Calibri"/>
              </a:rPr>
              <a:t>текст не прочитать, рисунок не просмотреть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этому для работы с информацией требуется ее обратное преобразование – </a:t>
            </a:r>
            <a:r>
              <a:rPr b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РАЗАРХИВ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9AF6-1235-44FD-95BA-A7E792FE7C9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архивация (распаковк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становление файлов    из архивного файла в том виде, какой они имел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омещения в арх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1305-0D30-45A3-AC6F-BCE9DF78459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ация –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паковка файлов с целью уменьшения объема данных, предназначенных для хранения.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64E5-044C-45BB-8F74-74C144E0500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аци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данных существуют специальные служебные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ограммы-архиваторы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оторые вместо нескольких файлов создают один -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рх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C625-3608-43C4-9449-26919522C03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Наиболее популярными </a:t>
            </a:r>
            <a:br>
              <a:rPr sz="1200"/>
            </a:b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программами-архиваторами явл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A9F4-75CC-4135-BCB2-D5513ADC3EC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66ff"/>
                </a:solidFill>
                <a:latin typeface="Calibri"/>
              </a:rPr>
              <a:t>В результате сжатия информация представляется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в новом в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D56C-895A-4C50-BF35-F698792568B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ТЕКСТОВЫЙ ФАЙ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Я, ты, он, она – вместе дружная семь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Посл</a:t>
            </a:r>
            <a:r>
              <a:rPr b="1" lang="ru-RU" sz="1200" spc="-1" strike="noStrike">
                <a:solidFill>
                  <a:srgbClr val="ff00ff"/>
                </a:solidFill>
                <a:latin typeface="Calibri"/>
              </a:rPr>
              <a:t>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Я, тыона-вмесдруж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9C65-B5C6-46BB-AE9E-7DF6AF1FBCA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66ff"/>
                </a:solidFill>
                <a:latin typeface="Calibri"/>
              </a:rPr>
              <a:t>ГРАФИЧЕСКИЙ  ФАЙ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Д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ff"/>
                </a:solidFill>
                <a:uFillTx/>
                <a:latin typeface="Calibri"/>
              </a:rPr>
              <a:t>Пос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жа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C79A-8512-445F-BEF6-E4BB603E92D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66ff"/>
                </a:solidFill>
                <a:latin typeface="Calibri"/>
              </a:rPr>
              <a:t>ФО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Calibri"/>
              </a:rPr>
              <a:t>Сжимаю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очень незначительн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Т.к. областей, состо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из точек одного и того же цв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чень мал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92AC-1BF8-46EB-AC84-5F12347359E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Увеличив изображение в сотни раз, можно увидеть, </a:t>
            </a:r>
            <a:br>
              <a:rPr sz="1200"/>
            </a:b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располагающиеся рядом пиксели хоть незначительно, но отличаются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63D3-65F2-4ABF-85A0-0A07C4628C3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D82-FB4B-4082-A85F-A0ADC7F1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F5E-222B-4FF7-9EB3-F22F257D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E59-65A3-4852-8BEE-F7347389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7AAB-8E8A-4616-AA1C-1A8A286A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7F13-208F-4D59-834C-04338ECC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F2A4-90FF-47F5-B0B7-4F3A3A56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F9E8-D371-4B6A-824A-77911E3D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B35A-215C-4A41-A50C-D8DB9224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F3ED-4A71-4559-B957-40E29B95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2A6F-4337-4C8F-A974-2285C039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3D02-205A-4B07-8DB4-F0B11702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9EC-E8E1-4C94-AF0F-B49D9FB6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CBB7-318F-4518-AB4B-AFB504E1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7FC7-CF20-45F2-8A41-A3C85E07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C285-D00B-46EC-8A8A-7AE17C70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78CA-22E5-450D-9E0C-BC8B3494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EEBF-0DAC-45CF-A3EE-EEB6145E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2160-9364-414E-AD27-A0E1429C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24A-F637-4588-9022-187DC411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8403-DCB2-4AE2-B1AC-A816F37C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8524-C862-4048-9470-0FE5492C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6531-06B7-4E31-A0A3-05598A5B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B98-14B9-43C8-AB30-336F1AD5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233-85CA-4745-942A-B799BD1F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9ECB-A06D-49FC-B56F-4A57FCF43D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5F82-A5AD-4DD0-8E31-94DEF8C98A6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.png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png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7"/>
          <p:cNvSpPr txBox="1"/>
          <p:nvPr/>
        </p:nvSpPr>
        <p:spPr>
          <a:xfrm>
            <a:off x="1619280" y="2205000"/>
            <a:ext cx="6048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ХИВ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Н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хивный файл удобен при </a:t>
            </a:r>
            <a:r>
              <a:rPr b="0" lang="ru-RU" sz="2800" spc="-1" strike="noStrike">
                <a:solidFill>
                  <a:srgbClr val="9966ff"/>
                </a:solidFill>
                <a:latin typeface="Verdana"/>
              </a:rPr>
              <a:t>хранении, копировании и перемещени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файлов. Однако в сжатом виде информация представлена так, что </a:t>
            </a:r>
            <a:r>
              <a:rPr b="0" lang="ru-RU" sz="2800" spc="-1" strike="noStrike">
                <a:solidFill>
                  <a:srgbClr val="9966ff"/>
                </a:solidFill>
                <a:latin typeface="Verdana"/>
              </a:rPr>
              <a:t>текст не прочитать, рисунок не просмотреть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этому для работы с информацией требуется ее обратное преобразование –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Verdana"/>
              </a:rPr>
              <a:t>РАЗАРХИВАЦ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Разархивация (распаковка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становление файлов    из архивного файла в том виде, какой они име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 помещения в архи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19" descr=""/>
          <p:cNvPicPr/>
          <p:nvPr/>
        </p:nvPicPr>
        <p:blipFill>
          <a:blip r:embed="rId1"/>
          <a:stretch/>
        </p:blipFill>
        <p:spPr>
          <a:xfrm>
            <a:off x="442764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0" descr=""/>
          <p:cNvPicPr/>
          <p:nvPr/>
        </p:nvPicPr>
        <p:blipFill>
          <a:blip r:embed="rId2"/>
          <a:stretch/>
        </p:blipFill>
        <p:spPr>
          <a:xfrm>
            <a:off x="5580000" y="249408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1" descr=""/>
          <p:cNvPicPr/>
          <p:nvPr/>
        </p:nvPicPr>
        <p:blipFill>
          <a:blip r:embed="rId3"/>
          <a:stretch/>
        </p:blipFill>
        <p:spPr>
          <a:xfrm>
            <a:off x="593892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2" descr=""/>
          <p:cNvPicPr/>
          <p:nvPr/>
        </p:nvPicPr>
        <p:blipFill>
          <a:blip r:embed="rId4"/>
          <a:stretch/>
        </p:blipFill>
        <p:spPr>
          <a:xfrm>
            <a:off x="7523280" y="199080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3" descr=""/>
          <p:cNvPicPr/>
          <p:nvPr/>
        </p:nvPicPr>
        <p:blipFill>
          <a:blip r:embed="rId5"/>
          <a:stretch/>
        </p:blipFill>
        <p:spPr>
          <a:xfrm>
            <a:off x="449892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4" descr=""/>
          <p:cNvPicPr/>
          <p:nvPr/>
        </p:nvPicPr>
        <p:blipFill>
          <a:blip r:embed="rId6"/>
          <a:stretch/>
        </p:blipFill>
        <p:spPr>
          <a:xfrm>
            <a:off x="601200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"/>
          <p:cNvPicPr/>
          <p:nvPr/>
        </p:nvPicPr>
        <p:blipFill>
          <a:blip r:embed="rId7"/>
          <a:stretch/>
        </p:blipFill>
        <p:spPr>
          <a:xfrm>
            <a:off x="7523280" y="335772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"/>
          <p:cNvPicPr/>
          <p:nvPr/>
        </p:nvPicPr>
        <p:blipFill>
          <a:blip r:embed="rId8"/>
          <a:stretch/>
        </p:blipFill>
        <p:spPr>
          <a:xfrm>
            <a:off x="449892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"/>
          <p:cNvPicPr/>
          <p:nvPr/>
        </p:nvPicPr>
        <p:blipFill>
          <a:blip r:embed="rId9"/>
          <a:stretch/>
        </p:blipFill>
        <p:spPr>
          <a:xfrm>
            <a:off x="593892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"/>
          <p:cNvPicPr/>
          <p:nvPr/>
        </p:nvPicPr>
        <p:blipFill>
          <a:blip r:embed="rId10"/>
          <a:stretch/>
        </p:blipFill>
        <p:spPr>
          <a:xfrm>
            <a:off x="7523280" y="4726080"/>
            <a:ext cx="1123920" cy="1190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"/>
          <p:cNvPicPr/>
          <p:nvPr/>
        </p:nvPicPr>
        <p:blipFill>
          <a:blip r:embed="rId11"/>
          <a:stretch/>
        </p:blipFill>
        <p:spPr>
          <a:xfrm>
            <a:off x="7236000" y="249408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0" descr=""/>
          <p:cNvPicPr/>
          <p:nvPr/>
        </p:nvPicPr>
        <p:blipFill>
          <a:blip r:embed="rId12"/>
          <a:stretch/>
        </p:blipFill>
        <p:spPr>
          <a:xfrm>
            <a:off x="7164360" y="386244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1" descr=""/>
          <p:cNvPicPr/>
          <p:nvPr/>
        </p:nvPicPr>
        <p:blipFill>
          <a:blip r:embed="rId13"/>
          <a:stretch/>
        </p:blipFill>
        <p:spPr>
          <a:xfrm>
            <a:off x="5651640" y="3862440"/>
            <a:ext cx="314280" cy="295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"/>
          <p:cNvPicPr/>
          <p:nvPr/>
        </p:nvPicPr>
        <p:blipFill>
          <a:blip r:embed="rId14"/>
          <a:stretch/>
        </p:blipFill>
        <p:spPr>
          <a:xfrm>
            <a:off x="5651640" y="5302080"/>
            <a:ext cx="314280" cy="295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"/>
          <p:cNvPicPr/>
          <p:nvPr/>
        </p:nvPicPr>
        <p:blipFill>
          <a:blip r:embed="rId15"/>
          <a:stretch/>
        </p:blipFill>
        <p:spPr>
          <a:xfrm>
            <a:off x="7164360" y="5302080"/>
            <a:ext cx="314280" cy="295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5" descr=""/>
          <p:cNvPicPr/>
          <p:nvPr/>
        </p:nvPicPr>
        <p:blipFill>
          <a:blip r:embed="rId16"/>
          <a:stretch/>
        </p:blipFill>
        <p:spPr>
          <a:xfrm>
            <a:off x="971640" y="3213000"/>
            <a:ext cx="1800000" cy="1630440"/>
          </a:xfrm>
          <a:prstGeom prst="rect">
            <a:avLst/>
          </a:prstGeom>
          <a:ln w="0">
            <a:noFill/>
          </a:ln>
        </p:spPr>
      </p:pic>
      <p:sp>
        <p:nvSpPr>
          <p:cNvPr id="202" name="Line 37"/>
          <p:cNvSpPr/>
          <p:nvPr/>
        </p:nvSpPr>
        <p:spPr>
          <a:xfrm flipV="1">
            <a:off x="2843280" y="2637000"/>
            <a:ext cx="1512720" cy="129528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38"/>
          <p:cNvSpPr/>
          <p:nvPr/>
        </p:nvSpPr>
        <p:spPr>
          <a:xfrm>
            <a:off x="2843280" y="4005360"/>
            <a:ext cx="1584360" cy="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Line 39"/>
          <p:cNvSpPr/>
          <p:nvPr/>
        </p:nvSpPr>
        <p:spPr>
          <a:xfrm>
            <a:off x="2843280" y="4076640"/>
            <a:ext cx="1584360" cy="1224000"/>
          </a:xfrm>
          <a:prstGeom prst="line">
            <a:avLst/>
          </a:prstGeom>
          <a:ln w="34920">
            <a:solidFill>
              <a:srgbClr val="00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3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100"/>
                            </p:stCondLst>
                            <p:childTnLst>
                              <p:par>
                                <p:cTn id="3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6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3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6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3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3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3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100"/>
                            </p:stCondLst>
                            <p:childTnLst>
                              <p:par>
                                <p:cTn id="3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3100"/>
                            </p:stCondLst>
                            <p:childTnLst>
                              <p:par>
                                <p:cTn id="3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41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100"/>
                            </p:stCondLst>
                            <p:childTnLst>
                              <p:par>
                                <p:cTn id="3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6100"/>
                            </p:stCondLst>
                            <p:childTnLst>
                              <p:par>
                                <p:cTn id="3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3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281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1" descr="PA18224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0920" y="4436640"/>
            <a:ext cx="8001000" cy="158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Verdana"/>
              </a:rPr>
              <a:t>Архивация – </a:t>
            </a: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упаковка файлов с целью уменьшения объема данных, предназначенных для хранения. </a:t>
            </a:r>
            <a:br>
              <a:rPr sz="3400"/>
            </a:b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Для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архивации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 данных существуют специальные служебные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программы-архиваторы</a:t>
            </a:r>
            <a:r>
              <a:rPr b="0" lang="ru-RU" sz="2000" spc="-1" strike="noStrike">
                <a:solidFill>
                  <a:srgbClr val="336699"/>
                </a:solidFill>
                <a:latin typeface="Verdana"/>
              </a:rPr>
              <a:t>, которые вместо нескольких файлов создают один -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архив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539640" y="2133720"/>
          <a:ext cx="112392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5"/>
          <p:cNvGraphicFramePr/>
          <p:nvPr/>
        </p:nvGraphicFramePr>
        <p:xfrm>
          <a:off x="1692360" y="2637000"/>
          <a:ext cx="314280" cy="2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63700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6"/>
          <p:cNvGraphicFramePr/>
          <p:nvPr/>
        </p:nvGraphicFramePr>
        <p:xfrm>
          <a:off x="2050920" y="2133720"/>
          <a:ext cx="1123920" cy="119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7"/>
          <p:cNvGraphicFramePr/>
          <p:nvPr/>
        </p:nvGraphicFramePr>
        <p:xfrm>
          <a:off x="3635280" y="2133720"/>
          <a:ext cx="1123920" cy="119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213372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611280" y="3500280"/>
          <a:ext cx="1123920" cy="119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9"/>
          <p:cNvGraphicFramePr/>
          <p:nvPr/>
        </p:nvGraphicFramePr>
        <p:xfrm>
          <a:off x="2124000" y="3500280"/>
          <a:ext cx="1123920" cy="1190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2400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635280" y="3500280"/>
          <a:ext cx="1123920" cy="1190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3500280"/>
                    <a:ext cx="1123920" cy="11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1"/>
          <p:cNvGraphicFramePr/>
          <p:nvPr/>
        </p:nvGraphicFramePr>
        <p:xfrm>
          <a:off x="611280" y="4869000"/>
          <a:ext cx="1123920" cy="1190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2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28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2"/>
          <p:cNvGraphicFramePr/>
          <p:nvPr/>
        </p:nvGraphicFramePr>
        <p:xfrm>
          <a:off x="2050920" y="4869000"/>
          <a:ext cx="1123920" cy="1190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4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5092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3"/>
          <p:cNvGraphicFramePr/>
          <p:nvPr/>
        </p:nvGraphicFramePr>
        <p:xfrm>
          <a:off x="3635280" y="4869000"/>
          <a:ext cx="1123920" cy="1190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6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635280" y="4869000"/>
                    <a:ext cx="112392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AutoShape 14"/>
          <p:cNvSpPr/>
          <p:nvPr/>
        </p:nvSpPr>
        <p:spPr>
          <a:xfrm>
            <a:off x="4859280" y="2060640"/>
            <a:ext cx="576360" cy="4105080"/>
          </a:xfrm>
          <a:custGeom>
            <a:avLst/>
            <a:gdLst>
              <a:gd name="textAreaLeft" fmla="*/ 0 w 576360"/>
              <a:gd name="textAreaRight" fmla="*/ 208080 w 576360"/>
              <a:gd name="textAreaTop" fmla="*/ 106920 h 4105080"/>
              <a:gd name="textAreaBottom" fmla="*/ 3998160 h 41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Object 17"/>
          <p:cNvGraphicFramePr/>
          <p:nvPr/>
        </p:nvGraphicFramePr>
        <p:xfrm>
          <a:off x="3348000" y="2637000"/>
          <a:ext cx="314280" cy="295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263700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3276720" y="4005360"/>
          <a:ext cx="314280" cy="295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76720" y="400536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9"/>
          <p:cNvGraphicFramePr/>
          <p:nvPr/>
        </p:nvGraphicFramePr>
        <p:xfrm>
          <a:off x="1763640" y="4005360"/>
          <a:ext cx="314280" cy="295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3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63640" y="4005360"/>
                    <a:ext cx="3142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20"/>
          <p:cNvGraphicFramePr/>
          <p:nvPr/>
        </p:nvGraphicFramePr>
        <p:xfrm>
          <a:off x="1763640" y="5445000"/>
          <a:ext cx="314280" cy="2955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" name="Object 2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763640" y="5445000"/>
                    <a:ext cx="31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21"/>
          <p:cNvGraphicFramePr/>
          <p:nvPr/>
        </p:nvGraphicFramePr>
        <p:xfrm>
          <a:off x="3276720" y="5445000"/>
          <a:ext cx="314280" cy="2955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7" name="Object 2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276720" y="5445000"/>
                    <a:ext cx="3142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24"/>
          <p:cNvGraphicFramePr/>
          <p:nvPr/>
        </p:nvGraphicFramePr>
        <p:xfrm>
          <a:off x="6443640" y="3284640"/>
          <a:ext cx="1558800" cy="1411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29" name="Object 24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443640" y="3284640"/>
                    <a:ext cx="15588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76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76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976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76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76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176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76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3760"/>
                            </p:stCondLst>
                            <p:childTnLst>
                              <p:par>
                                <p:cTn id="8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76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Наиболее популярными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программами-архиваторами являю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2987640" y="3141720"/>
            <a:ext cx="3097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latin typeface="Arial"/>
              </a:rPr>
              <a:t>WinR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6227640" y="486900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100000">
                      <a:srgbClr val="156b13"/>
                    </a:gs>
                  </a:gsLst>
                  <a:lin ang="5400000"/>
                </a:gradFill>
                <a:latin typeface="Arial"/>
              </a:rPr>
              <a:t>WinZI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100000">
                    <a:srgbClr val="156b1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6659640" y="1989000"/>
            <a:ext cx="1511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3399ff"/>
                    </a:gs>
                  </a:gsLst>
                  <a:lin ang="18900000"/>
                </a:gradFill>
                <a:latin typeface="Arial"/>
              </a:rPr>
              <a:t>RA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3399ff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900000" y="4869000"/>
            <a:ext cx="136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2700000"/>
                </a:gradFill>
                <a:latin typeface="Arial"/>
              </a:rPr>
              <a:t>ARJ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136" name="WordArt 11"/>
          <p:cNvSpPr txBox="1"/>
          <p:nvPr/>
        </p:nvSpPr>
        <p:spPr>
          <a:xfrm>
            <a:off x="900000" y="1989000"/>
            <a:ext cx="1295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ZI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9000">
    <p:dissolv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6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5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105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66ff"/>
                </a:solidFill>
                <a:latin typeface="Verdana"/>
              </a:rPr>
              <a:t>В результате сжатия информация представляется</a:t>
            </a:r>
            <a:r>
              <a:rPr b="1" lang="ru-RU" sz="5400" spc="-1" strike="noStrike">
                <a:solidFill>
                  <a:srgbClr val="990099"/>
                </a:solidFill>
                <a:latin typeface="Verdan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Verdana"/>
              </a:rPr>
              <a:t>в новом вид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7000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ТЕКСТОВЫЙ ФАЙ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ff"/>
                </a:solidFill>
                <a:uFillTx/>
                <a:latin typeface="Verdana"/>
              </a:rPr>
              <a:t>До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Я, ты, он, она – вместе дружная семья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ff00ff"/>
                </a:solidFill>
                <a:uFillTx/>
                <a:latin typeface="Verdana"/>
              </a:rPr>
              <a:t>Посл</a:t>
            </a:r>
            <a:r>
              <a:rPr b="1" lang="ru-RU" sz="3000" spc="-1" strike="noStrike">
                <a:solidFill>
                  <a:srgbClr val="ff00ff"/>
                </a:solidFill>
                <a:latin typeface="Verdana"/>
              </a:rPr>
              <a:t>е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Я, тыона-вмесдружь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3635280" y="2924280"/>
            <a:ext cx="223200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ff"/>
                </a:solidFill>
                <a:uFillTx/>
                <a:latin typeface="Verdana"/>
              </a:rPr>
              <a:t>38 симво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3708360" y="5157720"/>
            <a:ext cx="223200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Verdana"/>
              </a:rPr>
              <a:t>1</a:t>
            </a:r>
            <a:r>
              <a:rPr b="1" lang="ru-RU" sz="1800" spc="-1" strike="noStrike" u="sng">
                <a:solidFill>
                  <a:srgbClr val="ff00ff"/>
                </a:solidFill>
                <a:uFillTx/>
                <a:latin typeface="Verdana"/>
              </a:rPr>
              <a:t>9 симво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4" name="Прямая со стрелкой 8"/>
          <p:cNvCxnSpPr/>
          <p:nvPr/>
        </p:nvCxnSpPr>
        <p:spPr>
          <a:xfrm flipH="1">
            <a:off x="1283400" y="2714400"/>
            <a:ext cx="2520" cy="1788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5" name="Прямая со стрелкой 9"/>
          <p:cNvCxnSpPr/>
          <p:nvPr/>
        </p:nvCxnSpPr>
        <p:spPr>
          <a:xfrm flipH="1">
            <a:off x="1356840" y="2713680"/>
            <a:ext cx="6074640" cy="178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6" name="Прямая со стрелкой 11"/>
          <p:cNvCxnSpPr/>
          <p:nvPr/>
        </p:nvCxnSpPr>
        <p:spPr>
          <a:xfrm flipH="1">
            <a:off x="1356480" y="3214440"/>
            <a:ext cx="78660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Прямая со стрелкой 12"/>
          <p:cNvCxnSpPr/>
          <p:nvPr/>
        </p:nvCxnSpPr>
        <p:spPr>
          <a:xfrm flipH="1">
            <a:off x="1356840" y="2712960"/>
            <a:ext cx="6076080" cy="1788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8" name="Овал 15"/>
          <p:cNvSpPr/>
          <p:nvPr/>
        </p:nvSpPr>
        <p:spPr>
          <a:xfrm>
            <a:off x="1071720" y="2357280"/>
            <a:ext cx="357120" cy="42876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Овал 16"/>
          <p:cNvSpPr/>
          <p:nvPr/>
        </p:nvSpPr>
        <p:spPr>
          <a:xfrm>
            <a:off x="7286760" y="2428920"/>
            <a:ext cx="357120" cy="42876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Овал 17"/>
          <p:cNvSpPr/>
          <p:nvPr/>
        </p:nvSpPr>
        <p:spPr>
          <a:xfrm>
            <a:off x="2000160" y="2857680"/>
            <a:ext cx="285840" cy="42840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Овал 20"/>
          <p:cNvSpPr/>
          <p:nvPr/>
        </p:nvSpPr>
        <p:spPr>
          <a:xfrm>
            <a:off x="1071720" y="4500720"/>
            <a:ext cx="357120" cy="428400"/>
          </a:xfrm>
          <a:prstGeom prst="ellipse">
            <a:avLst/>
          </a:prstGeom>
          <a:solidFill>
            <a:srgbClr val="ccccff">
              <a:alpha val="62000"/>
            </a:srgbClr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Ромб 22"/>
          <p:cNvSpPr/>
          <p:nvPr/>
        </p:nvSpPr>
        <p:spPr>
          <a:xfrm>
            <a:off x="3357720" y="2286000"/>
            <a:ext cx="28548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Ромб 23"/>
          <p:cNvSpPr/>
          <p:nvPr/>
        </p:nvSpPr>
        <p:spPr>
          <a:xfrm>
            <a:off x="2643120" y="22860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Ромб 24"/>
          <p:cNvSpPr/>
          <p:nvPr/>
        </p:nvSpPr>
        <p:spPr>
          <a:xfrm>
            <a:off x="6858000" y="22860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Ромб 25"/>
          <p:cNvSpPr/>
          <p:nvPr/>
        </p:nvSpPr>
        <p:spPr>
          <a:xfrm>
            <a:off x="2357280" y="4357800"/>
            <a:ext cx="285840" cy="642960"/>
          </a:xfrm>
          <a:prstGeom prst="diamond">
            <a:avLst/>
          </a:prstGeom>
          <a:solidFill>
            <a:srgbClr val="68fc81">
              <a:alpha val="55000"/>
            </a:srgbClr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6" name="Прямая со стрелкой 27"/>
          <p:cNvCxnSpPr/>
          <p:nvPr/>
        </p:nvCxnSpPr>
        <p:spPr>
          <a:xfrm flipH="1">
            <a:off x="2499840" y="3000240"/>
            <a:ext cx="286560" cy="128664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57" name="Прямая со стрелкой 28"/>
          <p:cNvCxnSpPr/>
          <p:nvPr/>
        </p:nvCxnSpPr>
        <p:spPr>
          <a:xfrm flipH="1">
            <a:off x="2571120" y="2928600"/>
            <a:ext cx="857880" cy="14295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158" name="Прямая со стрелкой 30"/>
          <p:cNvCxnSpPr/>
          <p:nvPr/>
        </p:nvCxnSpPr>
        <p:spPr>
          <a:xfrm flipH="1">
            <a:off x="2642760" y="2927880"/>
            <a:ext cx="4286880" cy="1429560"/>
          </a:xfrm>
          <a:prstGeom prst="straightConnector1">
            <a:avLst/>
          </a:prstGeom>
          <a:ln w="936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72" nodeType="afterEffect" fill="hold" presetClass="entr" presetID="45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ГРАФИЧЕСКИЙ  ФАЙ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ff"/>
                </a:solidFill>
                <a:uFillTx/>
                <a:latin typeface="Verdana"/>
              </a:rPr>
              <a:t>Д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сжат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ff"/>
                </a:solidFill>
                <a:uFillTx/>
                <a:latin typeface="Verdana"/>
              </a:rPr>
              <a:t>После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жатия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611280" y="2276640"/>
          <a:ext cx="3313080" cy="42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276640"/>
                    <a:ext cx="331308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7"/>
          <p:cNvGraphicFramePr/>
          <p:nvPr/>
        </p:nvGraphicFramePr>
        <p:xfrm>
          <a:off x="6877080" y="3500280"/>
          <a:ext cx="1000080" cy="13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3500280"/>
                    <a:ext cx="1000080" cy="13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Line 8"/>
          <p:cNvSpPr/>
          <p:nvPr/>
        </p:nvSpPr>
        <p:spPr>
          <a:xfrm>
            <a:off x="2411280" y="2924280"/>
            <a:ext cx="4608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1835280" y="3068640"/>
            <a:ext cx="5400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10"/>
          <p:cNvSpPr/>
          <p:nvPr/>
        </p:nvSpPr>
        <p:spPr>
          <a:xfrm flipV="1">
            <a:off x="2627280" y="4221000"/>
            <a:ext cx="4824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2340000" y="4437000"/>
            <a:ext cx="489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2"/>
          <p:cNvSpPr/>
          <p:nvPr/>
        </p:nvSpPr>
        <p:spPr>
          <a:xfrm flipV="1">
            <a:off x="2771640" y="4436640"/>
            <a:ext cx="468000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3"/>
          <p:cNvSpPr/>
          <p:nvPr/>
        </p:nvSpPr>
        <p:spPr>
          <a:xfrm flipV="1">
            <a:off x="3419640" y="4652640"/>
            <a:ext cx="381636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8000"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39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99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19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39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ff"/>
                </a:solidFill>
                <a:latin typeface="Verdana"/>
              </a:rPr>
              <a:t>ФОТ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Verdana"/>
              </a:rPr>
              <a:t>Сжимаютс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очень незначительн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Т.к. областей, состоя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из точек одного и того же цвета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чень мало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Яна"/>
          <p:cNvPicPr/>
          <p:nvPr/>
        </p:nvPicPr>
        <p:blipFill>
          <a:blip r:embed="rId1"/>
          <a:stretch/>
        </p:blipFill>
        <p:spPr>
          <a:xfrm>
            <a:off x="1030320" y="2708280"/>
            <a:ext cx="2693880" cy="33847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26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300"/>
                            </p:stCondLst>
                            <p:childTnLst>
                              <p:par>
                                <p:cTn id="270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277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Увеличив изображение в сотни раз, можно увидеть, </a:t>
            </a:r>
            <a:br>
              <a:rPr sz="2000"/>
            </a:b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что располагающиеся рядом пиксели хоть незначительно, но отличаются друг от друг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Object 5"/>
          <p:cNvGraphicFramePr/>
          <p:nvPr/>
        </p:nvGraphicFramePr>
        <p:xfrm>
          <a:off x="1039680" y="1752480"/>
          <a:ext cx="70549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752480"/>
                    <a:ext cx="70549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2000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293" nodeType="afterEffect" fill="hold" presetClass="entr" presetID="10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29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6:17:49Z</dcterms:created>
  <dc:creator>Васильева</dc:creator>
  <dc:description/>
  <dc:language>en-US</dc:language>
  <cp:lastModifiedBy>LEGION</cp:lastModifiedBy>
  <dcterms:modified xsi:type="dcterms:W3CDTF">2015-04-01T07:00:3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