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10.wmf" ContentType="image/x-wmf"/>
  <Override PartName="/ppt/media/image31.jpeg" ContentType="image/jpeg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13.jpeg" ContentType="image/jpeg"/>
  <Override PartName="/ppt/media/image8.jpeg" ContentType="image/jpeg"/>
  <Override PartName="/ppt/media/image29.jpeg" ContentType="image/jpeg"/>
  <Override PartName="/ppt/media/image18.wmf" ContentType="image/x-wmf"/>
  <Override PartName="/ppt/media/image2.jpeg" ContentType="image/jpeg"/>
  <Override PartName="/ppt/media/image25.wmf" ContentType="image/x-wmf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99D4-5EF7-47C9-96B8-36FF4683AE8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стория ЭВ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9BB6-FFC4-4695-933D-F75E4E82BBC1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К 1900-у году ранние механические калькуляторы, кассовые аппараты и счётные машины были перепроектированы с использованием электрических двигателей с представлением положения переменной как позиции шестерни. С 1930-х такие компании как Friden, Marchant и Monro начали выпускать настольные механические калькуляторы, которые могли складывать, вычитать, умножать и делить. Словом «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computer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» (буквально — «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вычислитель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») называлась должность — это были люди, которые использовали калькуляторы для выполнения математических вычислени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6C1D-8B05-4631-80AD-D214270B5022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948 году появился 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Curta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 — небольшой механический калькулятор, который можно было держать в одной ру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C05E-0AF1-4386-B507-85F06B822748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950-х — 1960-х годах на западном рынке появилось несколько марок подобных устройств. Первым полностью электронным настольным калькулятором был британский ANITA Мк. VI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FDBD-5E12-4080-8842-6C0F4D46B8AA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936 году, работая в изоляции в нацистской Германии, Конрад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 Цузе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начал работу над своим первым вычислителем сериии Z, имеющим память и (пока ограниченную) возможность программирования. Созданная, в основном, на механической основе, но уже на базе двоичной логики, модель Z1, завершённая в 1938 году, так и не заработала достаточно надёжно, из-за недостаточной точности выполнения составных ча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1F25-902C-4F24-B218-B649BC476E5B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ледующая машина Цузе — Z3, была завершена в 1941 году. Она была построена на телефонных реле и работала вполне удовлетворительно. Тем самым, Z3 стала первым работающим компьютером, управляемым программой. Во многих отношениях Z3 была подобна современным машин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88EF-5435-498C-ABD0-E77847B060A6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939 году Джон Винсент Атанасов и Клиффорд Берри из Университета штата Айова разработали Atanasoff-Berry Computer (ABC). Это был первый в мире электронный цифровой компьютер. Конструкция насчитывала более 300 электровакуумных ламп, в качестве памяти использовался вращающийся барабан. Несмотря на то, что машина ABC не была программируемой, она была первой, использующей электронные лампы в сумматор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EC37-7CCC-4818-AA37-AFCB53453BFB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Американский ENIAC, который часто называют первым электронным компьютером общего назначения, публично доказал применимость электроники для масштабных вычислений. Это стало ключевым моментом в разработке вычислительных машин, прежде всего из-за огромного прироста в скорости вычислений, но также и по причине появившихся возможностей для миниатюризации. Созданная под руководством Джона Мочли и Дж. Преспера Эккерта, эта машина была в 1000 раз быстрее, чем все другие машины того времени. Разработка «ЭНИАК» продлилась с 1943 до 1945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CC97-F52E-4A90-AEA8-3DE7F2046D75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На ENIAC удавалось выполнять несколько тысяч операций в секунду в течение нескольких часов, до очередного сбоя из-за сгоревшей ламп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9E47-390A-4203-88E9-4174E3794B72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ервой работающей машиной с архитектурой фон Неймана стал манчестерский «Baby» — Small-Scale Experimental Machine (Малая экспериментальная машина), созданный в Манчестерском университете в 1948 году; в 1949 году за ним последовал компьютер Манчестерский Марк 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17B9-6A17-44A9-9EF6-8305D2E97079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ервыми приспособлениями для вычислений были, вероятно, всем известные счётные палочки, которые и сегодня используются в начальных классах многих школ для обучения счёту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6764-2A89-4E18-B3FB-C7165DB19A36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955 году Морис Уилкс изобретает микропрограммирование, принцип, который позднее широко используется в микропроцессорах самых различных компьютеров. Микропрограммирование позволяет определять или расширять базовый набор команд с помощью встроенных программ, которые носят названия </a:t>
            </a:r>
            <a:r>
              <a:rPr b="0" i="1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микропрограмма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C4CD-31F9-4DC9-8890-67B19C628E13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ледующим крупным шагом в истории компьютерной техники, стало изобретение транзистора в 1947 году. Они стали заменой хрупким и энергоёмким лампам. О компьютерах 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на транзисторах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обычно говорят как о «втором поколении», которое доминировало 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в 1950-х и начале 1960-х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 Благодаря транзисторам и печатным платам, было достигнуто значительное уменьшение размеров и объёмов потребляемой энергии, а также повышение надёжности. Однако компьютеры второго поколения по-прежнему были довольно дороги и поэтому использовались только университетами, правительствами, крупными корпорациям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DECF-1AF4-4602-B4D0-47430009A7E6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«Сетунь»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была первым компьютером на основе троичной логики, разработана в 1958 году в Советском Союз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108B-91A4-4B41-AE0A-A47D70E6AC20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Бурный рост использования компьютеров начался с т. н. «3-им поколением» вычислительных машин. Начало этому положило изобретение интегральных схем, которые независимо друг от друга изобрели лауреат Нобелевской премии Джек Килби и Роберт Нойс. Позже это привело к изобретению микропроцессора Тэдом Хоффом (компания Intel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A6F2-0BA9-4528-A36F-9420F778683D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оявление микропроцессоров привело к разработке микрокомпьютеров — небольших недорогих компьютеров, которыми могли владеть небольшие компании или отдельные люди. Микрокомпьютеры, представители четвёртого поколения, первые из которых появился в 1970-х, стали повсеместным явлением в 1980-х и позже. 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Стив</a:t>
            </a:r>
            <a:r>
              <a:rPr b="1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Возняк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, один из основателей Apple Computer, стал известен как разработчик первого массового домашнего компьютера, а позже — первого персонального компьютера. Компьютеры на основе микрокомпьютерной архитектуры, с возможностями, добавленными от их больших собратьев, сейчас доминируют в большинстве сегментов ры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7C9E-7FF5-4943-829A-AEC3D6A8E2AB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977 году появился первый массовый персональный компьютер Apple II, что явилось предвестником бума всеобщей компьютеризаци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Домашние компьютеры стали более удобными и требовали от своих пользователей уже гораздо меньшего количества технических навыков. В августе 1981 года IBM выпустила компьютерную систему IBM PC, положившую начало эпохе современных персональных компьюте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3BA8-1F7A-4ACF-8168-8D81A4526AEE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январе 1984 года начались продажи Apple Macintosh, ставшего первым по-настоящему массовым ПК с GUI. 23 июля 1985 года появился первый в мире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мультимедийный персональный компьютер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Amiga (Amiga 1000). Персональные компьютеры Amiga, наряду с макинтошами, оставались самыми популярными и продаваемыми машинами для домашнего исполь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AD1E-DDD4-4B5A-9DAA-F225DAD72DE0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овременный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 ПК и его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разновид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DB17-9B03-4D09-A30D-A5E9DD0AB9E3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Ноутб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225C-EC2F-4642-823C-1D6953DDD5F2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Когда людям надоело вести счёт при помощи загибания пальцев и перекладывания палочек, они изобрели 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абак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(счёты)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Количество подсчитываемых предметов соответствовало числу передвинутых костяшек этого инструмента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AF9C-73B5-40FD-8A7C-01379F6D0B5D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Список вопро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Первое приспособление для вычисления? (По-другому «счёты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Кто разработал ткацкий станок, в котором вышиваемый узор определялся перфокарт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Что обозначает слово «computer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Небольшой механический калькулятор, который можно было держать в одной ру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</a:t>
            </a: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строенные программы</a:t>
            </a: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расширяющие базовый набор команд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Когда доминировало «второе поколение» компьютеров? На чём они работа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Первый компьютер на основе троичной логики, разработанный в 1958 году в Советском Союз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Один из основателей Apple Computer, ставший известным как разработчик первого массового домашнего компьют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CE0A-9A3C-46AA-AADA-3A08753E8939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Отве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Аба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Жозеф Мари Жакк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Вычисл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Cur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Микропрограм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1950-ые, начало1960-ых гг. На транзисто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«Сетун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Стив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озня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2282-F7C3-40BA-BC3C-E8D4BC4AD765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623 году Вильгельм Шикард придумал «Считающие часы» — первый механический калькулятор, умевший выполнять четыре арифметических действия. Считающими часами устройство было названо потому, что как и в настоящих часах работа механизма была основана на использовании звёздочек и шестерёнок. Практическое использование это изобретение нашло в руках друга Шикарда, философа и астронома Иоганна Кеплер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138A-98C3-4129-8B14-970EDB41E82D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За этим последовали машины Блеза Паскаля («Паскалина», 1642 г.) и Готфрида Вильгельма Лейбница. Примерно в 1820 году создал первый удачный, серийно выпускаемый механический калькулятор — Арифмометр Томаса, который мог складывать, вычитать, умножать и делить. В основном, он был основан на работе Лейбница. Механические калькуляторы, считающие десятичные числа, использовались до 1970-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3067-36F4-4030-AA88-05B0AD1B5132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аска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ADF3-B6FC-4ABA-852F-46C00080A63D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801 году 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Жозеф Мари Жаккар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разработал ткацкий станок, в котором вышиваемый узор определялся перфокартами. Серия карт могла быть заменена, и смена узора не требовала изменений в механике станка. Это было важной вехой в истории программ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BDE0-BB5D-4CD6-83E1-40B2F691F424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838 году Чарльз Бэббидж перешёл от разработки Разностной машины к проектированию более сложной аналитической машины, принципы программирования которой напрямую восходят к перфокартам Жакк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F03F-214A-4D43-9DA5-16388314B1A8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890 году Бюро Переписи США использовало перфокарты и механизмы сортировки, разработанные  Германом Холлеритом, чтобы обработать поток данных десятилетней перепис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Компания Холлерита в конечном счёте стала ядром IBM. Эта корпорация развила технологию перфокарт в мощный инструмент для деловой обработки данных и выпустила обширную линию специализированного оборудования для их записи. К 1950 году технология IBM стала вездесущей в промышленности и правительстве. Предупреждение, напечатанное на большинстве карт, «не сворачивать, не скручивать и не рвать», стало девизом послевоенной эры.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5D19-2BCF-4150-98F4-23AAAED5E2FE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A183-EA0B-42ED-B660-57786329E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DD38-EAE3-4453-ACC9-00EA62A7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B6E0-A288-4CFE-9AD6-7D3395F1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F701-423A-4BF5-8CA2-5CA8256E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C5110-6CC9-4B01-81E2-ABEDB7EDF0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EB4DB-4CF2-48A5-8F89-1310470D93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8254D-03A8-4F7D-883F-A63012309E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1EA96-EA3D-4587-B846-67EF9F57F7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9E323-05DD-40D0-8593-3B1E7C6496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59BB2-C9AE-4620-B6B6-22228AD3A3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97F37-BD5B-44D4-A9E5-6EAED0AC1A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AE74-7167-4033-A9D6-55913FBD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605C4-D1FF-42BF-BF77-E6CEDDE635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04221-8E3D-409D-B698-8204B68DFE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CD803-E55C-46A8-9290-CF40B87EED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CF014-1330-4CFD-94FC-FC661A3F33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8FDF2-A447-43CF-BF20-E953AC6B5E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6D28-67EC-467D-973C-842AEF3C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1708-4778-4CCD-8AC0-799F5068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F1AC-0BC0-45A7-8664-B67C2303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637F-C379-4842-A700-875B6E4A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B7AC-2979-4EA0-B834-0363C5BD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C58D-22FC-4264-904C-62474830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D71D-CE03-4925-B89A-E3700D52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0400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DCD2-9892-4B0B-B335-E8B5A59FAA91}" type="slidenum"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783A-7BF8-40B8-BB29-F25F8A7A5577}" type="slidenum"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6408720" cy="16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История ЭВМ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042920" y="3716280"/>
            <a:ext cx="6296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ила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отич Екатерин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6084720" y="5388120"/>
            <a:ext cx="30592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ица 11класса</a:t>
            </a:r>
            <a:br>
              <a:rPr sz="2400"/>
            </a:b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90" name="Picture 9" descr="or_39x"/>
          <p:cNvPicPr/>
          <p:nvPr/>
        </p:nvPicPr>
        <p:blipFill>
          <a:blip r:embed="rId2"/>
          <a:stretch/>
        </p:blipFill>
        <p:spPr>
          <a:xfrm>
            <a:off x="5940360" y="1844640"/>
            <a:ext cx="320364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2916360" y="1557360"/>
            <a:ext cx="3508200" cy="445284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1900-у году ранние механические калькуляторы, кассовые аппараты и счётные машины были перепроектированы с использованием электрических двигателей с представлением положения переменной как позиции шестерни. С 1930-х такие компании как Friden, Marchant и Monro начали выпускать настольные механические калькуляторы, которые могли складывать, вычитать, умножать и делить. Словом «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comput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(буквально — «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числи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) называлась должность — это были люди, которые использовали калькуляторы для выполнения математических вычислений.</a:t>
            </a: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22" name="Picture 4" descr="j0292020"/>
          <p:cNvPicPr/>
          <p:nvPr/>
        </p:nvPicPr>
        <p:blipFill>
          <a:blip r:embed="rId1"/>
          <a:stretch/>
        </p:blipFill>
        <p:spPr>
          <a:xfrm>
            <a:off x="0" y="0"/>
            <a:ext cx="1868400" cy="177336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38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948 году появил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Curt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небольшой механический калькулятор, который можно было держать в одной руке.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26" name="Picture 7" descr="468px-Curta01"/>
          <p:cNvPicPr/>
          <p:nvPr/>
        </p:nvPicPr>
        <p:blipFill>
          <a:blip r:embed="rId1"/>
          <a:stretch/>
        </p:blipFill>
        <p:spPr>
          <a:xfrm rot="21259200">
            <a:off x="5508720" y="2205000"/>
            <a:ext cx="2824200" cy="361332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952280"/>
            <a:ext cx="4259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50-х — 1960-х годах на западном рынке появилось несколько марок подобных устройств. Первым полностью электронным настольным калькулятором был британский ANITA Мк. VII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30" name="Picture 7" descr="674px-AnitaMk8-01"/>
          <p:cNvPicPr/>
          <p:nvPr/>
        </p:nvPicPr>
        <p:blipFill>
          <a:blip r:embed="rId1"/>
          <a:stretch/>
        </p:blipFill>
        <p:spPr>
          <a:xfrm rot="228000">
            <a:off x="5579640" y="2612520"/>
            <a:ext cx="2952720" cy="262908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936 году, работая в изоляции в нацистской Германии, Конрад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Цуз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чал работу над своим первым вычислителем сериии Z, имеющим память и (пока ограниченную) возможность программирования. Созданная, в основном, на механической основе, но уже на базе двоичной логики, модель Z1, завершённая в 1938 году, так и не заработала достаточно надёжно, из-за недостаточной точности выполнения составных частей.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33" name="Picture 5" descr="j0286034"/>
          <p:cNvPicPr/>
          <p:nvPr/>
        </p:nvPicPr>
        <p:blipFill>
          <a:blip r:embed="rId1"/>
          <a:stretch/>
        </p:blipFill>
        <p:spPr>
          <a:xfrm>
            <a:off x="8224920" y="5972040"/>
            <a:ext cx="919080" cy="88596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7640" y="1483920"/>
            <a:ext cx="410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ующая машина Цузе — Z3, была завершена в 1941 году. Она была построена на телефонных реле и работала вполне удовлетворительно. Тем самым, Z3 стала первым работающим компьютером, управляемым программой. Во многих отношениях Z3 была подобна современным машинам</a:t>
            </a: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36" name="Picture 7" descr="800px-Z3_Deutsches_Museum"/>
          <p:cNvPicPr/>
          <p:nvPr/>
        </p:nvPicPr>
        <p:blipFill>
          <a:blip r:embed="rId1"/>
          <a:stretch/>
        </p:blipFill>
        <p:spPr>
          <a:xfrm rot="21383400">
            <a:off x="4427640" y="2276280"/>
            <a:ext cx="4316400" cy="32367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4248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39 году Джон Винсент Атанасов и Клиффорд Берри из Университета штата Айова разработали Atanasoff-Berry Computer (ABC). Это был первый в мире электронный цифровой компьютер. Конструкция насчитывала более 300 электровакуумных ламп, в качестве памяти использовался вращающийся барабан. Несмотря на то, что машина ABC не была программируемой, она была первой, использующей электронные лампы в сумматоре.</a:t>
            </a:r>
            <a:r>
              <a:rPr b="0" lang="ru-RU" sz="20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39" name="Picture 7" descr="800px-Atanasoff-Berry_Computer_at_Durhum_Center"/>
          <p:cNvPicPr/>
          <p:nvPr/>
        </p:nvPicPr>
        <p:blipFill>
          <a:blip r:embed="rId1"/>
          <a:stretch/>
        </p:blipFill>
        <p:spPr>
          <a:xfrm>
            <a:off x="4356000" y="2060640"/>
            <a:ext cx="4619880" cy="34653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628280"/>
            <a:ext cx="82296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мериканский ENIAC, который часто называют первым электронным компьютером общего назначения, публично доказал применимость электроники для масштабных вычислений. Это стало ключевым моментом в разработке вычислительных машин, прежде всего из-за огромного прироста в скорости вычислений, но также и по причине появившихся возможностей для миниатюризации. Созданная под руководством Джона Мочли и Дж. Преспера Эккерта, эта машина была в 1000 раз быстрее, чем все другие машины того времени. Разработка «ЭНИАК» продлилась с 1943 до 1945 года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42" name="Picture 4" descr="j0234657"/>
          <p:cNvPicPr/>
          <p:nvPr/>
        </p:nvPicPr>
        <p:blipFill>
          <a:blip r:embed="rId1"/>
          <a:stretch/>
        </p:blipFill>
        <p:spPr>
          <a:xfrm>
            <a:off x="0" y="0"/>
            <a:ext cx="1712880" cy="16686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40384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9770a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ENIAC удавалось выполнять несколько тысяч операций в секунду в течение нескольких часов, до очередного сбоя из-за сгоревшей лампы.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45" name="Picture 7" descr="785px-Eniac"/>
          <p:cNvPicPr/>
          <p:nvPr/>
        </p:nvPicPr>
        <p:blipFill>
          <a:blip r:embed="rId1"/>
          <a:stretch/>
        </p:blipFill>
        <p:spPr>
          <a:xfrm rot="270000">
            <a:off x="4500360" y="2060280"/>
            <a:ext cx="4244760" cy="367344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4038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й работающей машиной с архитектурой фон Неймана стал манчестерский «Baby» — Small-Scale Experimental Machine (Малая экспериментальная машина), созданный в Манчестерском университете в 1948 году; в 1949 году за ним последовал компьютер Манчестерский Марк I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48" name="Picture 10" descr="800px-SSEM_Replica"/>
          <p:cNvPicPr/>
          <p:nvPr/>
        </p:nvPicPr>
        <p:blipFill>
          <a:blip r:embed="rId1"/>
          <a:stretch/>
        </p:blipFill>
        <p:spPr>
          <a:xfrm rot="21385800">
            <a:off x="5148000" y="333360"/>
            <a:ext cx="3673440" cy="263052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pic>
        <p:nvPicPr>
          <p:cNvPr id="149" name="Picture 11" descr="Manchester_Mark2"/>
          <p:cNvPicPr/>
          <p:nvPr/>
        </p:nvPicPr>
        <p:blipFill>
          <a:blip r:embed="rId2"/>
          <a:stretch/>
        </p:blipFill>
        <p:spPr>
          <a:xfrm rot="338400">
            <a:off x="5076720" y="3573000"/>
            <a:ext cx="3673440" cy="292428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выми приспособлениями для вычислений были, вероятно, всем известные счётные палочки, которые и сегодня используются в начальных классах многих школ для обучения счёту.</a:t>
            </a:r>
            <a:r>
              <a:rPr b="0" lang="ru-RU" sz="32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92" name="Picture 6" descr="1185918034_lifted_1"/>
          <p:cNvPicPr/>
          <p:nvPr/>
        </p:nvPicPr>
        <p:blipFill>
          <a:blip r:embed="rId1"/>
          <a:stretch/>
        </p:blipFill>
        <p:spPr>
          <a:xfrm rot="21155400">
            <a:off x="179280" y="188640"/>
            <a:ext cx="2700360" cy="184464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7640" y="1341360"/>
            <a:ext cx="4319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55 году Морис Уилкс изобретает микропрограммирование, принцип, который позднее широко используется в микропроцессорах самых различных компьютеров. Микропрограммирование позволяет определять или расширять базовый набор команд с помощью встроенных программ, которые носят названия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икропрограмм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52" name="Picture 8" descr="621985495"/>
          <p:cNvPicPr/>
          <p:nvPr/>
        </p:nvPicPr>
        <p:blipFill>
          <a:blip r:embed="rId1"/>
          <a:stretch/>
        </p:blipFill>
        <p:spPr>
          <a:xfrm>
            <a:off x="4643280" y="1773360"/>
            <a:ext cx="4245120" cy="403200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ующим крупным шагом в истории компьютерной техники, стало изобретение транзистора в 1947 году. Они стали заменой хрупким и энергоёмким лампам. О компьютерах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 транзистор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ычно говорят как о «втором поколении», которое доминировал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1950-х и начале 1960-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Благодаря транзисторам и печатным платам, было достигнуто значительное уменьшение размеров и объёмов потребляемой энергии, а также повышение надёжности. Однако компьютеры второго поколения по-прежнему были довольно дороги и поэтому использовались только университетами, правительствами, крупными корпорациями.</a:t>
            </a: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55" name="Picture 5" descr="j0287005"/>
          <p:cNvPicPr/>
          <p:nvPr/>
        </p:nvPicPr>
        <p:blipFill>
          <a:blip r:embed="rId1"/>
          <a:stretch/>
        </p:blipFill>
        <p:spPr>
          <a:xfrm>
            <a:off x="0" y="0"/>
            <a:ext cx="1357200" cy="23320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78920" y="1916280"/>
            <a:ext cx="40388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9770a"/>
                </a:solidFill>
                <a:latin typeface="Arial"/>
              </a:rPr>
              <a:t>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Сетунь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ыла первым компьютером на основе троичной логики, разработана в 1958 году в Советском Союзе.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58" name="Picture 7" descr="Снимок_Сетунь"/>
          <p:cNvPicPr/>
          <p:nvPr/>
        </p:nvPicPr>
        <p:blipFill>
          <a:blip r:embed="rId1"/>
          <a:stretch/>
        </p:blipFill>
        <p:spPr>
          <a:xfrm rot="412800">
            <a:off x="4716360" y="2133720"/>
            <a:ext cx="4056120" cy="304308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844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9770a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рный рост использования компьютеров начался с т. н. «3-им поколением» вычислительных машин. Начало этому положило изобретение интегральных схем, которые независимо друг от друга изобрели лауреат Нобелевской премии Джек Килби и Роберт Нойс. Позже это привело к изобретению микропроцессора Тэдом Хоффом (компания Intel).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61" name="Picture 4" descr="j0293844"/>
          <p:cNvPicPr/>
          <p:nvPr/>
        </p:nvPicPr>
        <p:blipFill>
          <a:blip r:embed="rId1"/>
          <a:stretch/>
        </p:blipFill>
        <p:spPr>
          <a:xfrm>
            <a:off x="7405560" y="5030640"/>
            <a:ext cx="1738440" cy="18273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ление микропроцессоров привело к разработке микрокомпьютеров — небольших недорогих компьютеров, которыми могли владеть небольшие компании или отдельные люди. Микрокомпьютеры, представители четвёртого поколения, первые из которых появился в 1970-х, стали повсеместным явлением в 1980-х и позже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ив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озня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дин из основателей Apple Computer, стал известен как разработчик первого массового домашнего компьютера, а позже — первого персонального компьютера. Компьютеры на основе микрокомпьютерной архитектуры, с возможностями, добавленными от их больших собратьев, сейчас доминируют в большинстве сегментов рынка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64" name="Picture 4" descr="j0195384"/>
          <p:cNvPicPr/>
          <p:nvPr/>
        </p:nvPicPr>
        <p:blipFill>
          <a:blip r:embed="rId1"/>
          <a:stretch/>
        </p:blipFill>
        <p:spPr>
          <a:xfrm>
            <a:off x="0" y="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4248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77 году появился первый массовый персональный компьютер Apple II, что явилось предвестником бума всеобщей компьютеризации населения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машние компьютеры стали более удобными и требовали от своих пользователей уже гораздо меньшего количества технических навыков. В августе 1981 года IBM выпустила компьютерную систему IBM PC, положившую начало эпохе современных персональных компьютеров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67" name="Picture 6" descr="800px-IBзщM_PC_5150"/>
          <p:cNvPicPr/>
          <p:nvPr/>
        </p:nvPicPr>
        <p:blipFill>
          <a:blip r:embed="rId1"/>
          <a:stretch/>
        </p:blipFill>
        <p:spPr>
          <a:xfrm rot="21334800">
            <a:off x="4572000" y="2133360"/>
            <a:ext cx="4208400" cy="330192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4465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770a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январе 1984 года начались продажи Apple Macintosh, ставшего первым по-настоящему массовым ПК с GUI. 23 июля 1985 года появился первый в мир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ультимедийный персональный компьют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Amiga (Amiga 1000). Персональные компьютеры Amiga, наряду с макинтошами, оставались самыми популярными и продаваемыми машинами для домашнего использования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70" name="Picture 6" descr="704px-Amiga_1000DP"/>
          <p:cNvPicPr/>
          <p:nvPr/>
        </p:nvPicPr>
        <p:blipFill>
          <a:blip r:embed="rId1"/>
          <a:stretch/>
        </p:blipFill>
        <p:spPr>
          <a:xfrm rot="892800">
            <a:off x="5292360" y="2421000"/>
            <a:ext cx="3278160" cy="27939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02920" y="2204640"/>
            <a:ext cx="644364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овременный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  ПК и его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разновидности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8" descr="Computer 4"/>
          <p:cNvPicPr/>
          <p:nvPr/>
        </p:nvPicPr>
        <p:blipFill>
          <a:blip r:embed="rId1"/>
          <a:stretch/>
        </p:blipFill>
        <p:spPr>
          <a:xfrm>
            <a:off x="1692360" y="1989000"/>
            <a:ext cx="5472000" cy="36975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8" descr="645px-IBM_Thinkpad_R51"/>
          <p:cNvPicPr/>
          <p:nvPr/>
        </p:nvPicPr>
        <p:blipFill>
          <a:blip r:embed="rId1"/>
          <a:stretch/>
        </p:blipFill>
        <p:spPr>
          <a:xfrm rot="481200">
            <a:off x="539280" y="2349000"/>
            <a:ext cx="3168720" cy="294804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оутбуки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10" descr="738px-Laptop-crank"/>
          <p:cNvPicPr/>
          <p:nvPr/>
        </p:nvPicPr>
        <p:blipFill>
          <a:blip r:embed="rId2"/>
          <a:stretch/>
        </p:blipFill>
        <p:spPr>
          <a:xfrm rot="20875200">
            <a:off x="4356000" y="691920"/>
            <a:ext cx="3168720" cy="257652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pic>
        <p:nvPicPr>
          <p:cNvPr id="178" name="Picture 11" descr="computer_kids"/>
          <p:cNvPicPr/>
          <p:nvPr/>
        </p:nvPicPr>
        <p:blipFill>
          <a:blip r:embed="rId3"/>
          <a:stretch/>
        </p:blipFill>
        <p:spPr>
          <a:xfrm rot="886800">
            <a:off x="5813280" y="4011120"/>
            <a:ext cx="2913120" cy="242100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8000" y="1628280"/>
            <a:ext cx="8245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людям надоело вести счёт при помощи загибания пальцев и перекладывания палочек, они изобрел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ба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счёты).</a:t>
            </a:r>
            <a:r>
              <a:rPr b="0" lang="ru-RU" sz="32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920" y="3141360"/>
            <a:ext cx="49690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о подсчитываемых предметов соответствовало числу передвинутых костяшек этого инструмента.</a:t>
            </a: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 rot="436200">
            <a:off x="4716360" y="3284640"/>
            <a:ext cx="4103640" cy="323064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8" descr="657px-AcerN10Wiki"/>
          <p:cNvPicPr/>
          <p:nvPr/>
        </p:nvPicPr>
        <p:blipFill>
          <a:blip r:embed="rId1"/>
          <a:stretch/>
        </p:blipFill>
        <p:spPr>
          <a:xfrm>
            <a:off x="324000" y="1844640"/>
            <a:ext cx="4248000" cy="40323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pic>
        <p:nvPicPr>
          <p:cNvPr id="181" name="Picture 9" descr="Toshiba_Portege_3500_Tablet_PC"/>
          <p:cNvPicPr/>
          <p:nvPr/>
        </p:nvPicPr>
        <p:blipFill>
          <a:blip r:embed="rId2"/>
          <a:stretch/>
        </p:blipFill>
        <p:spPr>
          <a:xfrm>
            <a:off x="5076720" y="1844640"/>
            <a:ext cx="3816360" cy="40323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82" name="Text Box 11"/>
          <p:cNvSpPr/>
          <p:nvPr/>
        </p:nvSpPr>
        <p:spPr>
          <a:xfrm>
            <a:off x="5944680" y="1413000"/>
            <a:ext cx="30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аншетный ПК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255240" y="1413000"/>
            <a:ext cx="279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рманный ПК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616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писок вопросов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69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ервое приспособление для вычисления? (По-другому «счёты»)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Кто разработал ткацкий станок, в котором вышиваемый узор определялся перфокартами?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Что обозначает слово «computer»?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ебольшой механический калькулятор, который можно было держать в одной руке?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роенные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ширяющие базовый набор команд?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Когда доминировало «второе поколение» компьютеров? На чём они работали?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ервый компьютер на основе троичной логики, разработанный в 1958 году в Советском Союзе?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дин из основателей Apple Computer, ставший известным как разработчик первого массового домашнего компьютера?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Абак</a:t>
            </a:r>
            <a:r>
              <a:rPr b="0" lang="ru-RU" sz="20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770a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e9770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озеф Мари Жаккар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ычислитель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Curta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Микропрограмма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1950-ые, начало1960-ых гг. На транзисторах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«Сетунь»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ти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няк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compu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WordArt 12"/>
          <p:cNvSpPr txBox="1"/>
          <p:nvPr/>
        </p:nvSpPr>
        <p:spPr>
          <a:xfrm>
            <a:off x="1476360" y="2276640"/>
            <a:ext cx="590544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Конец</a:t>
            </a:r>
            <a:endParaRPr b="1" lang="en-US" sz="9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623 году Вильгельм Шикард придумал «Считающие часы» — первый механический калькулятор, умевший выполнять четыре арифметических действия. Считающими часами устройство было названо потому, что как и в настоящих часах работа механизма была основана на использовании звёздочек и шестерёнок. Практическое использование это изобретение нашло в руках друга Шикарда, философа и астронома Иоганна Кеплера.</a:t>
            </a:r>
            <a:r>
              <a:rPr b="0" lang="ru-RU" sz="28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grpSp>
        <p:nvGrpSpPr>
          <p:cNvPr id="99" name="Group 8"/>
          <p:cNvGrpSpPr/>
          <p:nvPr/>
        </p:nvGrpSpPr>
        <p:grpSpPr>
          <a:xfrm>
            <a:off x="-20880" y="5105520"/>
            <a:ext cx="1663560" cy="1658160"/>
            <a:chOff x="-20880" y="5105520"/>
            <a:chExt cx="1663560" cy="1658160"/>
          </a:xfrm>
        </p:grpSpPr>
        <p:sp>
          <p:nvSpPr>
            <p:cNvPr id="100" name="Gear"/>
            <p:cNvSpPr/>
            <p:nvPr/>
          </p:nvSpPr>
          <p:spPr>
            <a:xfrm rot="3823800">
              <a:off x="912240" y="5760000"/>
              <a:ext cx="609480" cy="647640"/>
            </a:xfrm>
            <a:custGeom>
              <a:avLst/>
              <a:gdLst>
                <a:gd name="textAreaLeft" fmla="*/ 123480 w 609480"/>
                <a:gd name="textAreaRight" fmla="*/ 503640 w 609480"/>
                <a:gd name="textAreaTop" fmla="*/ 118440 h 647640"/>
                <a:gd name="textAreaBottom" fmla="*/ 52920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01" name="AutoShape 10"/>
            <p:cNvSpPr/>
            <p:nvPr/>
          </p:nvSpPr>
          <p:spPr>
            <a:xfrm rot="3823800">
              <a:off x="247320" y="5216400"/>
              <a:ext cx="729000" cy="774360"/>
            </a:xfrm>
            <a:custGeom>
              <a:avLst/>
              <a:gdLst>
                <a:gd name="textAreaLeft" fmla="*/ 147240 w 729000"/>
                <a:gd name="textAreaRight" fmla="*/ 601920 w 729000"/>
                <a:gd name="textAreaTop" fmla="*/ 142200 h 774360"/>
                <a:gd name="textAreaBottom" fmla="*/ 632160 h 77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02" name="AutoShape 11"/>
            <p:cNvSpPr/>
            <p:nvPr/>
          </p:nvSpPr>
          <p:spPr>
            <a:xfrm rot="3823800">
              <a:off x="138960" y="5779440"/>
              <a:ext cx="810360" cy="860400"/>
            </a:xfrm>
            <a:custGeom>
              <a:avLst/>
              <a:gdLst>
                <a:gd name="textAreaLeft" fmla="*/ 164160 w 810360"/>
                <a:gd name="textAreaRight" fmla="*/ 669600 w 810360"/>
                <a:gd name="textAreaTop" fmla="*/ 157680 h 860400"/>
                <a:gd name="textAreaBottom" fmla="*/ 702360 h 86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</p:grpSp>
      <p:sp>
        <p:nvSpPr>
          <p:cNvPr id="103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9770a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этим последовали машины Блеза Паскаля («Паскалина», 1642 г.) и Готфрида Вильгельма Лейбница. Примерно в 1820 году создал первый удачный, серийно выпускаемый механический калькулятор — Арифмометр Томаса, который мог складывать, вычитать, умножать и делить. В основном, он был основан на работе Лейбница. Механические калькуляторы, считающие десятичные числа, использовались до 1970-х.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5" name="computr2"/>
          <p:cNvSpPr/>
          <p:nvPr/>
        </p:nvSpPr>
        <p:spPr>
          <a:xfrm>
            <a:off x="179280" y="115920"/>
            <a:ext cx="1584360" cy="1665360"/>
          </a:xfrm>
          <a:custGeom>
            <a:avLst/>
            <a:gdLst>
              <a:gd name="textAreaLeft" fmla="*/ 454320 w 1584360"/>
              <a:gd name="textAreaRight" fmla="*/ 1141920 w 1584360"/>
              <a:gd name="textAreaTop" fmla="*/ 147240 h 1665360"/>
              <a:gd name="textAreaBottom" fmla="*/ 751320 h 166536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скалин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7" descr="800px-Arts_et_Metiers_Pascaline_dsc03869"/>
          <p:cNvPicPr/>
          <p:nvPr/>
        </p:nvPicPr>
        <p:blipFill>
          <a:blip r:embed="rId1"/>
          <a:stretch/>
        </p:blipFill>
        <p:spPr>
          <a:xfrm>
            <a:off x="888840" y="1952640"/>
            <a:ext cx="7364520" cy="40323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4392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01 году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Жозеф Мари Жакк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работал ткацкий станок, в котором вышиваемый узор определялся перфокартами. Серия карт могла быть заменена, и смена узора не требовала изменений в механике станка. Это было важной вехой в истории программирования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11" name="Picture 7" descr="Punch-card-blue"/>
          <p:cNvPicPr/>
          <p:nvPr/>
        </p:nvPicPr>
        <p:blipFill>
          <a:blip r:embed="rId1"/>
          <a:stretch/>
        </p:blipFill>
        <p:spPr>
          <a:xfrm>
            <a:off x="4643280" y="2852640"/>
            <a:ext cx="4316400" cy="219708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920" y="1773000"/>
            <a:ext cx="40384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38 году Чарльз Бэббидж перешёл от разработки Разностной машины к проектированию более сложной аналитической машины, принципы программирования которой напрямую восходят к перфокартам Жаккара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14" name="Picture 7" descr="BabbageDifferenceEngine"/>
          <p:cNvPicPr/>
          <p:nvPr/>
        </p:nvPicPr>
        <p:blipFill>
          <a:blip r:embed="rId1"/>
          <a:stretch/>
        </p:blipFill>
        <p:spPr>
          <a:xfrm rot="21434400">
            <a:off x="4572000" y="2133360"/>
            <a:ext cx="4316400" cy="332100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8000" y="1699920"/>
            <a:ext cx="850752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90 году Бюро Переписи США использовало перфокарты и механизмы сортировки, разработанные  Германом Холлеритом, чтобы обработать поток данных десятилетней переписи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Холлерита в конечном счёте стала ядром IBM. Эта корпорация развила технологию перфокарт в мощный инструмент для деловой обработки данных и выпустила обширную линию специализированного оборудования для их записи. К 1950 году технология IBM стала вездесущей в промышленности и правительстве. Предупреждение, напечатанное на большинстве карт, «не сворачивать, не скручивать и не рвать», стало девизом послевоенной эр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17" name="Picture 6" descr="j0292982"/>
          <p:cNvPicPr/>
          <p:nvPr/>
        </p:nvPicPr>
        <p:blipFill>
          <a:blip r:embed="rId1"/>
          <a:stretch/>
        </p:blipFill>
        <p:spPr>
          <a:xfrm>
            <a:off x="0" y="0"/>
            <a:ext cx="1692360" cy="167004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3:07:21Z</dcterms:created>
  <dc:creator>Zver</dc:creator>
  <dc:description/>
  <cp:keywords>"PowerLexis" - Презентационное агентство</cp:keywords>
  <dc:language>en-US</dc:language>
  <cp:lastModifiedBy>LEGION</cp:lastModifiedBy>
  <dcterms:modified xsi:type="dcterms:W3CDTF">2015-04-01T07:04:05Z</dcterms:modified>
  <cp:revision>10</cp:revision>
  <dc:subject/>
  <dc:title>   История ЭВ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40e000000000001023620</vt:lpwstr>
  </property>
</Properties>
</file>