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10.wmf" ContentType="image/x-wmf"/>
  <Override PartName="/ppt/media/image31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13.jpeg" ContentType="image/jpeg"/>
  <Override PartName="/ppt/media/image8.jpeg" ContentType="image/jpeg"/>
  <Override PartName="/ppt/media/image29.jpeg" ContentType="image/jpeg"/>
  <Override PartName="/ppt/media/image18.wmf" ContentType="image/x-wmf"/>
  <Override PartName="/ppt/media/image2.jpeg" ContentType="image/jpeg"/>
  <Override PartName="/ppt/media/image25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AAB6-BF2D-41CD-8B84-45244960E7A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стория ЭВ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90C5-5E92-4435-B491-56992D9AB799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 1900-у году ранние механические калькуляторы, кассовые аппараты и счётные машины были перепроектированы с использованием электрических двигателей с представлением положения переменной как позиции шестерни. С 1930-х такие компании как Friden, Marchant и Monro начали выпускать настольные механические калькуляторы, которые могли складывать, вычитать, умножать и делить. Словом «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computer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» (буквально — «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вычислитель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») называлась должность — это были люди, которые использовали калькуляторы для выполнения математических вычислен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E895-ADFF-4E0A-96D2-8469E71C78E5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48 году появился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Curta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 — небольшой механический калькулятор, который можно было держать в одной ру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3D0A-1148-40F7-AA20-9A9C4538D104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50-х — 1960-х годах на западном рынке появилось несколько марок подобных устройств. Первым полностью электронным настольным калькулятором был британский ANITA Мк. V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71EE-2249-4402-8939-CF2D0FDDFAC4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36 году, работая в изоляции в нацистской Германии, Конрад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 Цузе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начал работу над своим первым вычислителем сериии Z, имеющим память и (пока ограниченную) возможность программирования. Созданная, в основном, на механической основе, но уже на базе двоичной логики, модель Z1, завершённая в 1938 году, так и не заработала достаточно надёжно, из-за недостаточной точности выполнения составных ча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D31B-1A25-4BA8-B092-5E367168E2A6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ледующая машина Цузе — Z3, была завершена в 1941 году. Она была построена на телефонных реле и работала вполне удовлетворительно. Тем самым, Z3 стала первым работающим компьютером, управляемым программой. Во многих отношениях Z3 была подобна современным машин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E0E6-0897-4AB2-B1A1-35F54FAA42FA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39 году Джон Винсент Атанасов и Клиффорд Берри из Университета штата Айова разработали Atanasoff-Berry Computer (ABC). Это был первый в мире электронный цифровой компьютер. Конструкция насчитывала более 300 электровакуумных ламп, в качестве памяти использовался вращающийся барабан. Несмотря на то, что машина ABC не была программируемой, она была первой, использующей электронные лампы в сумматор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BDB7-B765-42AA-B9FA-3796FDBD358A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Американский ENIAC, который часто называют первым электронным компьютером общего назначения, публично доказал применимость электроники для масштабных вычислений. Это стало ключевым моментом в разработке вычислительных машин, прежде всего из-за огромного прироста в скорости вычислений, но также и по причине появившихся возможностей для миниатюризации. Созданная под руководством Джона Мочли и Дж. Преспера Эккерта, эта машина была в 1000 раз быстрее, чем все другие машины того времени. Разработка «ЭНИАК» продлилась с 1943 до 1945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30FE-C33E-485A-B01E-56BC9955681A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а ENIAC удавалось выполнять несколько тысяч операций в секунду в течение нескольких часов, до очередного сбоя из-за сгоревшей лам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13AD-D5C5-4F51-8B18-8B4913AB3B86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рвой работающей машиной с архитектурой фон Неймана стал манчестерский «Baby» — Small-Scale Experimental Machine (Малая экспериментальная машина), созданный в Манчестерском университете в 1948 году; в 1949 году за ним последовал компьютер Манчестерский Марк 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1760-6F07-4330-994D-49222B45A213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рвыми приспособлениями для вычислений были, вероятно, всем известные счётные палочки, которые и сегодня используются в начальных классах многих школ для обучения счёту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AFC3-B7D1-4682-B5BB-EFFDAB12C5A7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55 году Морис Уилкс изобретает микропрограммирование, принцип, который позднее широко используется в микропроцессорах самых различных компьютеров. Микропрограммирование позволяет определять или расширять базовый набор команд с помощью встроенных программ, которые носят названия </a:t>
            </a:r>
            <a:r>
              <a:rPr b="0" i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микропрограмма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70C9-06B9-4F12-917C-F3EDB105E960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ледующим крупным шагом в истории компьютерной техники, стало изобретение транзистора в 1947 году. Они стали заменой хрупким и энергоёмким лампам. О компьютерах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на транзисторах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обычно говорят как о «втором поколении», которое доминировало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в 1950-х и начале 1960-х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 Благодаря транзисторам и печатным платам, было достигнуто значительное уменьшение размеров и объёмов потребляемой энергии, а также повышение надёжности. Однако компьютеры второго поколения по-прежнему были довольно дороги и поэтому использовались только университетами, правительствами, крупными корпорациям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059F-196E-4F85-80CF-E536150663A3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«Сетунь»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была первым компьютером на основе троичной логики, разработана в 1958 году в Советском Союз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02A6-C0CD-4C81-A599-8E529739B32C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Бурный рост использования компьютеров начался с т. н. «3-им поколением» вычислительных машин. Начало этому положило изобретение интегральных схем, которые независимо друг от друга изобрели лауреат Нобелевской премии Джек Килби и Роберт Нойс. Позже это привело к изобретению микропроцессора Тэдом Хоффом (компания Intel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FA8D-FA59-495F-940B-26AE02697A22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явление микропроцессоров привело к разработке микрокомпьютеров — небольших недорогих компьютеров, которыми могли владеть небольшие компании или отдельные люди. Микрокомпьютеры, представители четвёртого поколения, первые из которых появился в 1970-х, стали повсеместным явлением в 1980-х и позже.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Стив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Возняк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, один из основателей Apple Computer, стал известен как разработчик первого массового домашнего компьютера, а позже — первого персонального компьютера. Компьютеры на основе микрокомпьютерной архитектуры, с возможностями, добавленными от их больших собратьев, сейчас доминируют в большинстве сегментов ры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7893-19FE-4213-A6FF-99315056B576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77 году появился первый массовый персональный компьютер Apple II, что явилось предвестником бума всеобщей компьютеризаци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омашние компьютеры стали более удобными и требовали от своих пользователей уже гораздо меньшего количества технических навыков. В августе 1981 года IBM выпустила компьютерную систему IBM PC, положившую начало эпохе современных персональных компьют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68A8-E45B-4405-9E27-C78DA13923BD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январе 1984 года начались продажи Apple Macintosh, ставшего первым по-настоящему массовым ПК с GUI. 23 июля 1985 года появился первый в мире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мультимедийный персональный компьютер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Amiga (Amiga 1000). Персональные компьютеры Amiga, наряду с макинтошами, оставались самыми популярными и продаваемыми машинами для домашнего ис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CEA7-2B70-48E0-8AC2-6787C9C1AA2D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овременный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ПК и его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разнови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2A89-F820-45E8-B256-57C55A057D5F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оутб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5B8F-11E1-446A-AB18-63436AAD0C3E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огда людям надоело вести счёт при помощи загибания пальцев и перекладывания палочек, они изобрели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абак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счёты)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оличество подсчитываемых предметов соответствовало числу передвинутых костяшек этого инструмента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00B5-008C-463C-BA15-7C6251CDA8E8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Список вопро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Первое приспособление для вычисления? (По-другому «счёты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Кто разработал ткацкий станок, в котором вышиваемый узор определялся перфокарт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Что обозначает слово «computer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Небольшой механический калькулятор, который можно было держать в одной ру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строенные программы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асширяющие базовый набор коман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Когда доминировало «второе поколение» компьютеров? На чём они работа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Первый компьютер на основе троичной логики, разработанный в 1958 году в Советском Союз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Один из основателей Apple Computer, ставший известным как разработчик первого массового домашнего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E1DD-526E-4E00-AEF6-2397AA8F02D3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тве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Аба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Жозеф Мари Жакк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Вычисл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Cur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Микропр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1950-ые, начало1960-ых гг. На транзисто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«Сету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Стив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озн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C907-D346-4988-B6BA-B5CC59C317AC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623 году Вильгельм Шикард придумал «Считающие часы» — первый механический калькулятор, умевший выполнять четыре арифметических действия. Считающими часами устройство было названо потому, что как и в настоящих часах работа механизма была основана на использовании звёздочек и шестерёнок. Практическое использование это изобретение нашло в руках друга Шикарда, философа и астронома Иоганна Кепле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D606-F893-48C7-8ABA-6F565FDB6ED2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За этим последовали машины Блеза Паскаля («Паскалина», 1642 г.) и Готфрида Вильгельма Лейбница. Примерно в 1820 году создал первый удачный, серийно выпускаемый механический калькулятор — Арифмометр Томаса, который мог складывать, вычитать, умножать и делить. В основном, он был основан на работе Лейбница. Механические калькуляторы, считающие десятичные числа, использовались до 1970-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2C15-2BF9-4899-9FE0-C8CD131A39EE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аска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AEE1-0A71-4E15-99CC-302AFAD2E0ED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801 году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Жозеф Мари Жаккар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разработал ткацкий станок, в котором вышиваемый узор определялся перфокартами. Серия карт могла быть заменена, и смена узора не требовала изменений в механике станка. Это было важной вехой в истории программ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A276-0A89-49BE-B07D-C1E3B67C787A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838 году Чарльз Бэббидж перешёл от разработки Разностной машины к проектированию более сложной аналитической машины, принципы программирования которой напрямую восходят к перфокартам Жакк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8EBD-478D-44A5-B446-C21C7478EDC0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890 году Бюро Переписи США использовало перфокарты и механизмы сортировки, разработанные  Германом Холлеритом, чтобы обработать поток данных десятилетней перепис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омпания Холлерита в конечном счёте стала ядром IBM. Эта корпорация развила технологию перфокарт в мощный инструмент для деловой обработки данных и выпустила обширную линию специализированного оборудования для их записи. К 1950 году технология IBM стала вездесущей в промышленности и правительстве. Предупреждение, напечатанное на большинстве карт, «не сворачивать, не скручивать и не рвать», стало девизом послевоенной эры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E688-C3FD-469F-B037-E524E69C73A1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202-5663-4BA1-9CD3-8C194756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A9B-1773-4E64-9E38-03CD1289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237A-ED86-4DFF-8438-D7F1AF28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B283-FD31-4BFF-9DED-27F9F081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47AF6-A9B2-44A1-8DC8-5B043221C8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3DE9C-5FC2-4B3D-9476-BECA67FCE2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AC116-CA39-4166-AC5F-92772BE709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69E3F-BD54-4C0E-91B8-76FECA74FF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E3395-0D5F-4669-A58E-A824A3D3AE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3E47B-B0E6-47A6-81E9-C92D9CC9AA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DCD88-7701-4BB0-A879-2F1A59511A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025C-8660-4A4C-A55F-873CB805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B12E2-D3A9-4996-9B25-CA2923CAB0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B9CDF-E144-48F6-9B73-966A0689E2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2A380-055B-4C84-9550-C98213721C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87E1B-ABA0-4D0C-8AF7-224D3CAA31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2D11F-05DE-4E43-9ABA-D25E757CCA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21DF-FE81-480A-AE25-FB38AE24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7B4-53C1-437B-AB05-0304311A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AFA-CE2E-45F0-AC40-CD339B3E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E362-BBD4-496E-AB6D-1650AB42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7542-25F8-4808-BF8D-A8D8E862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5E64-1EB4-4DC1-9D3D-D781CBF8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BE6-339D-45D4-A786-50EB1163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A42E-F668-4A09-8625-E0D864E64659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12FA-DFF9-494B-8A78-1BE2AFD9046C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6408720" cy="16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История ЭВМ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042920" y="3716280"/>
            <a:ext cx="62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тич Екатери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084720" y="5388120"/>
            <a:ext cx="3059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ца 11класса</a:t>
            </a:r>
            <a:br>
              <a:rPr sz="2400"/>
            </a:b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0" name="Picture 9" descr="or_39x"/>
          <p:cNvPicPr/>
          <p:nvPr/>
        </p:nvPicPr>
        <p:blipFill>
          <a:blip r:embed="rId2"/>
          <a:stretch/>
        </p:blipFill>
        <p:spPr>
          <a:xfrm>
            <a:off x="5940360" y="1844640"/>
            <a:ext cx="32036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3508200" cy="44528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1900-у году ранние механические калькуляторы, кассовые аппараты и счётные машины были перепроектированы с использованием электрических двигателей с представлением положения переменной как позиции шестерни. С 1930-х такие компании как Friden, Marchant и Monro начали выпускать настольные механические калькуляторы, которые могли складывать, вычитать, умножать и делить. Словом «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comput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(буквально — «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числ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) называлась должность — это были люди, которые использовали калькуляторы для выполнения математических вычислений.</a:t>
            </a: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2" name="Picture 4" descr="j0292020"/>
          <p:cNvPicPr/>
          <p:nvPr/>
        </p:nvPicPr>
        <p:blipFill>
          <a:blip r:embed="rId1"/>
          <a:stretch/>
        </p:blipFill>
        <p:spPr>
          <a:xfrm>
            <a:off x="0" y="0"/>
            <a:ext cx="1868400" cy="17733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48 году появил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Curt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небольшой механический калькулятор, который можно было держать в одной руке.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6" name="Picture 7" descr="468px-Curta01"/>
          <p:cNvPicPr/>
          <p:nvPr/>
        </p:nvPicPr>
        <p:blipFill>
          <a:blip r:embed="rId1"/>
          <a:stretch/>
        </p:blipFill>
        <p:spPr>
          <a:xfrm rot="21259200">
            <a:off x="5508720" y="2205000"/>
            <a:ext cx="2824200" cy="36133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259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50-х — 1960-х годах на западном рынке появилось несколько марок подобных устройств. Первым полностью электронным настольным калькулятором был британский ANITA Мк. VII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0" name="Picture 7" descr="674px-AnitaMk8-01"/>
          <p:cNvPicPr/>
          <p:nvPr/>
        </p:nvPicPr>
        <p:blipFill>
          <a:blip r:embed="rId1"/>
          <a:stretch/>
        </p:blipFill>
        <p:spPr>
          <a:xfrm rot="228000">
            <a:off x="5579640" y="2612520"/>
            <a:ext cx="2952720" cy="26290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36 году, работая в изоляции в нацистской Германии, Конрад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Цуз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чал работу над своим первым вычислителем сериии Z, имеющим память и (пока ограниченную) возможность программирования. Созданная, в основном, на механической основе, но уже на базе двоичной логики, модель Z1, завершённая в 1938 году, так и не заработала достаточно надёжно, из-за недостаточной точности выполнения составных частей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3" name="Picture 5" descr="j0286034"/>
          <p:cNvPicPr/>
          <p:nvPr/>
        </p:nvPicPr>
        <p:blipFill>
          <a:blip r:embed="rId1"/>
          <a:stretch/>
        </p:blipFill>
        <p:spPr>
          <a:xfrm>
            <a:off x="8224920" y="5972040"/>
            <a:ext cx="919080" cy="8859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7640" y="1483920"/>
            <a:ext cx="410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ая машина Цузе — Z3, была завершена в 1941 году. Она была построена на телефонных реле и работала вполне удовлетворительно. Тем самым, Z3 стала первым работающим компьютером, управляемым программой. Во многих отношениях Z3 была подобна современным машинам</a:t>
            </a: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6" name="Picture 7" descr="800px-Z3_Deutsches_Museum"/>
          <p:cNvPicPr/>
          <p:nvPr/>
        </p:nvPicPr>
        <p:blipFill>
          <a:blip r:embed="rId1"/>
          <a:stretch/>
        </p:blipFill>
        <p:spPr>
          <a:xfrm rot="21383400">
            <a:off x="4427640" y="2276280"/>
            <a:ext cx="4316400" cy="32367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4248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39 году Джон Винсент Атанасов и Клиффорд Берри из Университета штата Айова разработали Atanasoff-Berry Computer (ABC). Это был первый в мире электронный цифровой компьютер. Конструкция насчитывала более 300 электровакуумных ламп, в качестве памяти использовался вращающийся барабан. Несмотря на то, что машина ABC не была программируемой, она была первой, использующей электронные лампы в сумматоре.</a:t>
            </a: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9" name="Picture 7" descr="800px-Atanasoff-Berry_Computer_at_Durhum_Center"/>
          <p:cNvPicPr/>
          <p:nvPr/>
        </p:nvPicPr>
        <p:blipFill>
          <a:blip r:embed="rId1"/>
          <a:stretch/>
        </p:blipFill>
        <p:spPr>
          <a:xfrm>
            <a:off x="4356000" y="2060640"/>
            <a:ext cx="4619880" cy="3465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82296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ериканский ENIAC, который часто называют первым электронным компьютером общего назначения, публично доказал применимость электроники для масштабных вычислений. Это стало ключевым моментом в разработке вычислительных машин, прежде всего из-за огромного прироста в скорости вычислений, но также и по причине появившихся возможностей для миниатюризации. Созданная под руководством Джона Мочли и Дж. Преспера Эккерта, эта машина была в 1000 раз быстрее, чем все другие машины того времени. Разработка «ЭНИАК» продлилась с 1943 до 1945 года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42" name="Picture 4" descr="j0234657"/>
          <p:cNvPicPr/>
          <p:nvPr/>
        </p:nvPicPr>
        <p:blipFill>
          <a:blip r:embed="rId1"/>
          <a:stretch/>
        </p:blipFill>
        <p:spPr>
          <a:xfrm>
            <a:off x="0" y="0"/>
            <a:ext cx="1712880" cy="16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ENIAC удавалось выполнять несколько тысяч операций в секунду в течение нескольких часов, до очередного сбоя из-за сгоревшей лампы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45" name="Picture 7" descr="785px-Eniac"/>
          <p:cNvPicPr/>
          <p:nvPr/>
        </p:nvPicPr>
        <p:blipFill>
          <a:blip r:embed="rId1"/>
          <a:stretch/>
        </p:blipFill>
        <p:spPr>
          <a:xfrm rot="270000">
            <a:off x="4500360" y="2060280"/>
            <a:ext cx="4244760" cy="36734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й работающей машиной с архитектурой фон Неймана стал манчестерский «Baby» — Small-Scale Experimental Machine (Малая экспериментальная машина), созданный в Манчестерском университете в 1948 году; в 1949 году за ним последовал компьютер Манчестерский Марк I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48" name="Picture 10" descr="800px-SSEM_Replica"/>
          <p:cNvPicPr/>
          <p:nvPr/>
        </p:nvPicPr>
        <p:blipFill>
          <a:blip r:embed="rId1"/>
          <a:stretch/>
        </p:blipFill>
        <p:spPr>
          <a:xfrm rot="21385800">
            <a:off x="5148000" y="333360"/>
            <a:ext cx="3673440" cy="26305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pic>
        <p:nvPicPr>
          <p:cNvPr id="149" name="Picture 11" descr="Manchester_Mark2"/>
          <p:cNvPicPr/>
          <p:nvPr/>
        </p:nvPicPr>
        <p:blipFill>
          <a:blip r:embed="rId2"/>
          <a:stretch/>
        </p:blipFill>
        <p:spPr>
          <a:xfrm rot="338400">
            <a:off x="5076720" y="3573000"/>
            <a:ext cx="3673440" cy="29242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выми приспособлениями для вычислений были, вероятно, всем известные счётные палочки, которые и сегодня используются в начальных классах многих школ для обучения счёту.</a:t>
            </a: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2" name="Picture 6" descr="1185918034_lifted_1"/>
          <p:cNvPicPr/>
          <p:nvPr/>
        </p:nvPicPr>
        <p:blipFill>
          <a:blip r:embed="rId1"/>
          <a:stretch/>
        </p:blipFill>
        <p:spPr>
          <a:xfrm rot="21155400">
            <a:off x="179280" y="188640"/>
            <a:ext cx="2700360" cy="18446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7640" y="1341360"/>
            <a:ext cx="4319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55 году Морис Уилкс изобретает микропрограммирование, принцип, который позднее широко используется в микропроцессорах самых различных компьютеров. Микропрограммирование позволяет определять или расширять базовый набор команд с помощью встроенных программ, которые носят названи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икропрограмм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52" name="Picture 8" descr="621985495"/>
          <p:cNvPicPr/>
          <p:nvPr/>
        </p:nvPicPr>
        <p:blipFill>
          <a:blip r:embed="rId1"/>
          <a:stretch/>
        </p:blipFill>
        <p:spPr>
          <a:xfrm>
            <a:off x="4643280" y="1773360"/>
            <a:ext cx="4245120" cy="403200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им крупным шагом в истории компьютерной техники, стало изобретение транзистора в 1947 году. Они стали заменой хрупким и энергоёмким лампам. О компьютерах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транзистор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ычно говорят как о «втором поколении», которое доминировал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1950-х и начале 1960-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Благодаря транзисторам и печатным платам, было достигнуто значительное уменьшение размеров и объёмов потребляемой энергии, а также повышение надёжности. Однако компьютеры второго поколения по-прежнему были довольно дороги и поэтому использовались только университетами, правительствами, крупными корпорациями.</a:t>
            </a: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55" name="Picture 5" descr="j0287005"/>
          <p:cNvPicPr/>
          <p:nvPr/>
        </p:nvPicPr>
        <p:blipFill>
          <a:blip r:embed="rId1"/>
          <a:stretch/>
        </p:blipFill>
        <p:spPr>
          <a:xfrm>
            <a:off x="0" y="0"/>
            <a:ext cx="1357200" cy="23320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78920" y="1916280"/>
            <a:ext cx="40388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Сетунь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ыла первым компьютером на основе троичной логики, разработана в 1958 году в Советском Союзе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58" name="Picture 7" descr="Снимок_Сетунь"/>
          <p:cNvPicPr/>
          <p:nvPr/>
        </p:nvPicPr>
        <p:blipFill>
          <a:blip r:embed="rId1"/>
          <a:stretch/>
        </p:blipFill>
        <p:spPr>
          <a:xfrm rot="412800">
            <a:off x="4716360" y="2133720"/>
            <a:ext cx="4056120" cy="30430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рный рост использования компьютеров начался с т. н. «3-им поколением» вычислительных машин. Начало этому положило изобретение интегральных схем, которые независимо друг от друга изобрели лауреат Нобелевской премии Джек Килби и Роберт Нойс. Позже это привело к изобретению микропроцессора Тэдом Хоффом (компания Intel)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61" name="Picture 4" descr="j0293844"/>
          <p:cNvPicPr/>
          <p:nvPr/>
        </p:nvPicPr>
        <p:blipFill>
          <a:blip r:embed="rId1"/>
          <a:stretch/>
        </p:blipFill>
        <p:spPr>
          <a:xfrm>
            <a:off x="7405560" y="5030640"/>
            <a:ext cx="1738440" cy="1827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ление микропроцессоров привело к разработке микрокомпьютеров — небольших недорогих компьютеров, которыми могли владеть небольшие компании или отдельные люди. Микрокомпьютеры, представители четвёртого поколения, первые из которых появился в 1970-х, стали повсеместным явлением в 1980-х и позже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ив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озня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дин из основателей Apple Computer, стал известен как разработчик первого массового домашнего компьютера, а позже — первого персонального компьютера. Компьютеры на основе микрокомпьютерной архитектуры, с возможностями, добавленными от их больших собратьев, сейчас доминируют в большинстве сегментов рынка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64" name="Picture 4" descr="j0195384"/>
          <p:cNvPicPr/>
          <p:nvPr/>
        </p:nvPicPr>
        <p:blipFill>
          <a:blip r:embed="rId1"/>
          <a:stretch/>
        </p:blipFill>
        <p:spPr>
          <a:xfrm>
            <a:off x="0" y="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4248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77 году появился первый массовый персональный компьютер Apple II, что явилось предвестником бума всеобщей компьютеризации населения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ашние компьютеры стали более удобными и требовали от своих пользователей уже гораздо меньшего количества технических навыков. В августе 1981 года IBM выпустила компьютерную систему IBM PC, положившую начало эпохе современных персональных компьютеров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67" name="Picture 6" descr="800px-IBзщM_PC_5150"/>
          <p:cNvPicPr/>
          <p:nvPr/>
        </p:nvPicPr>
        <p:blipFill>
          <a:blip r:embed="rId1"/>
          <a:stretch/>
        </p:blipFill>
        <p:spPr>
          <a:xfrm rot="21334800">
            <a:off x="4572000" y="2133360"/>
            <a:ext cx="4208400" cy="33019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4465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январе 1984 года начались продажи Apple Macintosh, ставшего первым по-настоящему массовым ПК с GUI. 23 июля 1985 года появился первый в мир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ультимедийный персональный компьют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Amiga (Amiga 1000). Персональные компьютеры Amiga, наряду с макинтошами, оставались самыми популярными и продаваемыми машинами для домашнего использования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70" name="Picture 6" descr="704px-Amiga_1000DP"/>
          <p:cNvPicPr/>
          <p:nvPr/>
        </p:nvPicPr>
        <p:blipFill>
          <a:blip r:embed="rId1"/>
          <a:stretch/>
        </p:blipFill>
        <p:spPr>
          <a:xfrm rot="892800">
            <a:off x="5292360" y="2421000"/>
            <a:ext cx="3278160" cy="27939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02920" y="2204640"/>
            <a:ext cx="64436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овременный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ПК и его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разновидности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8" descr="Computer 4"/>
          <p:cNvPicPr/>
          <p:nvPr/>
        </p:nvPicPr>
        <p:blipFill>
          <a:blip r:embed="rId1"/>
          <a:stretch/>
        </p:blipFill>
        <p:spPr>
          <a:xfrm>
            <a:off x="1692360" y="1989000"/>
            <a:ext cx="5472000" cy="36975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645px-IBM_Thinkpad_R51"/>
          <p:cNvPicPr/>
          <p:nvPr/>
        </p:nvPicPr>
        <p:blipFill>
          <a:blip r:embed="rId1"/>
          <a:stretch/>
        </p:blipFill>
        <p:spPr>
          <a:xfrm rot="481200">
            <a:off x="539280" y="2349000"/>
            <a:ext cx="3168720" cy="29480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оутбуки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10" descr="738px-Laptop-crank"/>
          <p:cNvPicPr/>
          <p:nvPr/>
        </p:nvPicPr>
        <p:blipFill>
          <a:blip r:embed="rId2"/>
          <a:stretch/>
        </p:blipFill>
        <p:spPr>
          <a:xfrm rot="20875200">
            <a:off x="4356000" y="691920"/>
            <a:ext cx="3168720" cy="25765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pic>
        <p:nvPicPr>
          <p:cNvPr id="178" name="Picture 11" descr="computer_kids"/>
          <p:cNvPicPr/>
          <p:nvPr/>
        </p:nvPicPr>
        <p:blipFill>
          <a:blip r:embed="rId3"/>
          <a:stretch/>
        </p:blipFill>
        <p:spPr>
          <a:xfrm rot="886800">
            <a:off x="5813280" y="4011120"/>
            <a:ext cx="2913120" cy="242100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8000" y="1628280"/>
            <a:ext cx="8245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людям надоело вести счёт при помощи загибания пальцев и перекладывания палочек, они изобрел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ба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чёты).</a:t>
            </a: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3141360"/>
            <a:ext cx="49690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подсчитываемых предметов соответствовало числу передвинутых костяшек этого инструмента.</a:t>
            </a: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 rot="436200">
            <a:off x="4716360" y="3284640"/>
            <a:ext cx="4103640" cy="32306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8" descr="657px-AcerN10Wiki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032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pic>
        <p:nvPicPr>
          <p:cNvPr id="181" name="Picture 9" descr="Toshiba_Portege_3500_Tablet_PC"/>
          <p:cNvPicPr/>
          <p:nvPr/>
        </p:nvPicPr>
        <p:blipFill>
          <a:blip r:embed="rId2"/>
          <a:stretch/>
        </p:blipFill>
        <p:spPr>
          <a:xfrm>
            <a:off x="5076720" y="1844640"/>
            <a:ext cx="3816360" cy="4032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82" name="Text Box 11"/>
          <p:cNvSpPr/>
          <p:nvPr/>
        </p:nvSpPr>
        <p:spPr>
          <a:xfrm>
            <a:off x="5944680" y="1413000"/>
            <a:ext cx="30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шетный ПК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55240" y="1413000"/>
            <a:ext cx="279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манный ПК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616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писок вопросов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ервое приспособление для вычисления? (По-другому «счёты»)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то разработал ткацкий станок, в котором вышиваемый узор определялся перфокартами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то обозначает слово «computer»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ебольшой механический калькулятор, который можно было держать в одной руке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оенные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яющие базовый набор команд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огда доминировало «второе поколение» компьютеров? На чём они работали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ервый компьютер на основе троичной логики, разработанный в 1958 году в Советском Союзе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дин из основателей Apple Computer, ставший известным как разработчик первого массового домашнего компьютера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Абак</a:t>
            </a: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озеф Мари Жаккар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числитель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Curta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икропрограмма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1950-ые, начало1960-ых гг. На транзисторах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Сетунь»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ти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няк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compu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WordArt 12"/>
          <p:cNvSpPr txBox="1"/>
          <p:nvPr/>
        </p:nvSpPr>
        <p:spPr>
          <a:xfrm>
            <a:off x="1476360" y="2276640"/>
            <a:ext cx="59054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Конец</a:t>
            </a:r>
            <a:endParaRPr b="1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623 году Вильгельм Шикард придумал «Считающие часы» — первый механический калькулятор, умевший выполнять четыре арифметических действия. Считающими часами устройство было названо потому, что как и в настоящих часах работа механизма была основана на использовании звёздочек и шестерёнок. Практическое использование это изобретение нашло в руках друга Шикарда, философа и астронома Иоганна Кеплера.</a:t>
            </a: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grpSp>
        <p:nvGrpSpPr>
          <p:cNvPr id="99" name="Group 8"/>
          <p:cNvGrpSpPr/>
          <p:nvPr/>
        </p:nvGrpSpPr>
        <p:grpSpPr>
          <a:xfrm>
            <a:off x="-20880" y="5105520"/>
            <a:ext cx="1663560" cy="1658160"/>
            <a:chOff x="-20880" y="5105520"/>
            <a:chExt cx="1663560" cy="1658160"/>
          </a:xfrm>
        </p:grpSpPr>
        <p:sp>
          <p:nvSpPr>
            <p:cNvPr id="100" name="Gear"/>
            <p:cNvSpPr/>
            <p:nvPr/>
          </p:nvSpPr>
          <p:spPr>
            <a:xfrm rot="3823800">
              <a:off x="912240" y="5760000"/>
              <a:ext cx="609480" cy="647640"/>
            </a:xfrm>
            <a:custGeom>
              <a:avLst/>
              <a:gdLst>
                <a:gd name="textAreaLeft" fmla="*/ 123480 w 609480"/>
                <a:gd name="textAreaRight" fmla="*/ 503640 w 609480"/>
                <a:gd name="textAreaTop" fmla="*/ 118440 h 647640"/>
                <a:gd name="textAreaBottom" fmla="*/ 5292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01" name="AutoShape 10"/>
            <p:cNvSpPr/>
            <p:nvPr/>
          </p:nvSpPr>
          <p:spPr>
            <a:xfrm rot="3823800">
              <a:off x="247320" y="5216400"/>
              <a:ext cx="729000" cy="774360"/>
            </a:xfrm>
            <a:custGeom>
              <a:avLst/>
              <a:gdLst>
                <a:gd name="textAreaLeft" fmla="*/ 147240 w 729000"/>
                <a:gd name="textAreaRight" fmla="*/ 601920 w 729000"/>
                <a:gd name="textAreaTop" fmla="*/ 142200 h 774360"/>
                <a:gd name="textAreaBottom" fmla="*/ 632160 h 77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02" name="AutoShape 11"/>
            <p:cNvSpPr/>
            <p:nvPr/>
          </p:nvSpPr>
          <p:spPr>
            <a:xfrm rot="3823800">
              <a:off x="138960" y="5779440"/>
              <a:ext cx="810360" cy="860400"/>
            </a:xfrm>
            <a:custGeom>
              <a:avLst/>
              <a:gdLst>
                <a:gd name="textAreaLeft" fmla="*/ 164160 w 810360"/>
                <a:gd name="textAreaRight" fmla="*/ 669600 w 810360"/>
                <a:gd name="textAreaTop" fmla="*/ 157680 h 860400"/>
                <a:gd name="textAreaBottom" fmla="*/ 702360 h 86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</p:grpSp>
      <p:sp>
        <p:nvSpPr>
          <p:cNvPr id="10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этим последовали машины Блеза Паскаля («Паскалина», 1642 г.) и Готфрида Вильгельма Лейбница. Примерно в 1820 году создал первый удачный, серийно выпускаемый механический калькулятор — Арифмометр Томаса, который мог складывать, вычитать, умножать и делить. В основном, он был основан на работе Лейбница. Механические калькуляторы, считающие десятичные числа, использовались до 1970-х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5" name="computr2"/>
          <p:cNvSpPr/>
          <p:nvPr/>
        </p:nvSpPr>
        <p:spPr>
          <a:xfrm>
            <a:off x="179280" y="115920"/>
            <a:ext cx="1584360" cy="1665360"/>
          </a:xfrm>
          <a:custGeom>
            <a:avLst/>
            <a:gdLst>
              <a:gd name="textAreaLeft" fmla="*/ 454320 w 1584360"/>
              <a:gd name="textAreaRight" fmla="*/ 1141920 w 1584360"/>
              <a:gd name="textAreaTop" fmla="*/ 147240 h 1665360"/>
              <a:gd name="textAreaBottom" fmla="*/ 751320 h 166536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скалин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800px-Arts_et_Metiers_Pascaline_dsc03869"/>
          <p:cNvPicPr/>
          <p:nvPr/>
        </p:nvPicPr>
        <p:blipFill>
          <a:blip r:embed="rId1"/>
          <a:stretch/>
        </p:blipFill>
        <p:spPr>
          <a:xfrm>
            <a:off x="888840" y="1952640"/>
            <a:ext cx="7364520" cy="4032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439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01 году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озеф Мари Жакк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аботал ткацкий станок, в котором вышиваемый узор определялся перфокартами. Серия карт могла быть заменена, и смена узора не требовала изменений в механике станка. Это было важной вехой в истории программирования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1" name="Picture 7" descr="Punch-card-blue"/>
          <p:cNvPicPr/>
          <p:nvPr/>
        </p:nvPicPr>
        <p:blipFill>
          <a:blip r:embed="rId1"/>
          <a:stretch/>
        </p:blipFill>
        <p:spPr>
          <a:xfrm>
            <a:off x="4643280" y="2852640"/>
            <a:ext cx="4316400" cy="21970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773000"/>
            <a:ext cx="40384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38 году Чарльз Бэббидж перешёл от разработки Разностной машины к проектированию более сложной аналитической машины, принципы программирования которой напрямую восходят к перфокартам Жаккара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4" name="Picture 7" descr="BabbageDifferenceEngine"/>
          <p:cNvPicPr/>
          <p:nvPr/>
        </p:nvPicPr>
        <p:blipFill>
          <a:blip r:embed="rId1"/>
          <a:stretch/>
        </p:blipFill>
        <p:spPr>
          <a:xfrm rot="21434400">
            <a:off x="4572000" y="2133360"/>
            <a:ext cx="4316400" cy="332100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8000" y="1699920"/>
            <a:ext cx="85075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90 году Бюро Переписи США использовало перфокарты и механизмы сортировки, разработанные  Германом Холлеритом, чтобы обработать поток данных десятилетней переписи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Холлерита в конечном счёте стала ядром IBM. Эта корпорация развила технологию перфокарт в мощный инструмент для деловой обработки данных и выпустила обширную линию специализированного оборудования для их записи. К 1950 году технология IBM стала вездесущей в промышленности и правительстве. Предупреждение, напечатанное на большинстве карт, «не сворачивать, не скручивать и не рвать», стало девизом послевоенной эр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7" name="Picture 6" descr="j0292982"/>
          <p:cNvPicPr/>
          <p:nvPr/>
        </p:nvPicPr>
        <p:blipFill>
          <a:blip r:embed="rId1"/>
          <a:stretch/>
        </p:blipFill>
        <p:spPr>
          <a:xfrm>
            <a:off x="0" y="0"/>
            <a:ext cx="1692360" cy="16700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3:07:21Z</dcterms:created>
  <dc:creator>Zver</dc:creator>
  <dc:description/>
  <cp:keywords>"PowerLexis" - Презентационное агентство</cp:keywords>
  <dc:language>en-US</dc:language>
  <cp:lastModifiedBy>LEGION</cp:lastModifiedBy>
  <dcterms:modified xsi:type="dcterms:W3CDTF">2015-04-01T07:04:05Z</dcterms:modified>
  <cp:revision>10</cp:revision>
  <dc:subject/>
  <dc:title>   История ЭВ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e000000000001023620</vt:lpwstr>
  </property>
</Properties>
</file>