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7D53-2897-4487-905A-CA60186448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libri"/>
              </a:rPr>
              <a:t>Microsoft Office 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5EFF-D7AF-4401-8767-C72102768B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Что такое базы дан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ы да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211A-1CDA-457E-953D-941A6AC2EA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7F9D-C491-443C-8674-66436E6E1F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лассификац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характеру храни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пособу хранен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труктуре реализаци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яционн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937B-C7E4-4A08-8E22-2562D673D4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 характеру хранимой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представлены в краткой форме и в строго фиксированном форм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2AEE-4FAE-426A-8D42-90475BFAA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 способу хранения Б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одном компьютере к которому имеют доступ все пользов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разных компьютерах локальной или глобальной 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E33F-AEF7-4A82-AE23-A3D580C00A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структуре реализации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еляционная БД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се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7357-9F1E-4E79-8F0D-7F4DF31E60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ип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чик (целые 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 (65535 зна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вой (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, время (дата,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(денежные зна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й (да и 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объек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ультимеди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0065-0FCB-4C47-B855-C5F2F5FE02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558-1BA8-4B04-A13A-7118D9CB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D4E-C7FD-4CCF-989D-7263A433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B9F-86AB-4214-95DD-B148AA6E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2AC-C0D3-4B97-BC1C-F04C038C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2C4-5F1C-4AE6-BECE-7FE57E7E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A58-3FC9-4A98-BBB1-00394750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554-8DBB-491E-ADDB-3A87A4EF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460-05A9-4F78-B047-077051F4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F1D-0566-42DE-9BB9-46704E03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803-67AC-4267-862C-C8166768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818-E39F-46EF-89E8-32372CA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82F-6586-441F-AA2C-F878EA8E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EB1A-6FA7-4F73-B313-FCC37C138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Microsoft Office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84360" y="692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такое базы дан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ы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У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ификация 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 характеру храним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 способу хранени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 структуре реализаци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яционн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ерархическ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 характеру храним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редставлены в краткой форме и в строго фиксированном форм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 док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способу хранения Б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одном компьютере к которому имеют доступ все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разных компьютерах локальной или глоб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структуре реализаци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еляционная БД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Иерархическ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етев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ая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5744880" cy="177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1933560" cy="184788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1835280" y="206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3780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403280" y="22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чик (целые 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 (65535 зн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ой (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, время (дата,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ый (денежные зна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й (да и н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объ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ультимеди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2:13:58Z</dcterms:created>
  <dc:creator>48-6</dc:creator>
  <dc:description/>
  <dc:language>en-US</dc:language>
  <cp:lastModifiedBy>LEGION</cp:lastModifiedBy>
  <dcterms:modified xsi:type="dcterms:W3CDTF">2015-04-01T07:04:25Z</dcterms:modified>
  <cp:revision>7</cp:revision>
  <dc:subject/>
  <dc:title>Microsoft Office Access</dc:title>
</cp:coreProperties>
</file>