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C41C-8236-4138-98D6-953D280BA1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кция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Lucida Sans"/>
              </a:rPr>
              <a:t>Delp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EBFB-CBEA-4CB0-AF05-A5B887185B0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Сохране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того, чтобы сохранить проект,  в главном меню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Save Project A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му проекту имя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Компи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к процесса компиляции выполняется по коман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/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mpile&lt;Project1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3E29-75C6-4EB3-933A-A5C687614B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пуск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тить проект  на выполнение можно из сред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из среды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Windows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Из среды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уществляется коман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 нажатием клавиш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9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ельзя запустить вторую копию приложения при уже запущенном при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должить разработку проекта можно только после завершения работы при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Program Reset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клавиш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Ctrl&gt;+&lt;F2&gt;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B471-9B15-4833-BB86-3CDDC0CB7BD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1F2E-0FD6-46C9-A604-56549973CA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редактора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редактора код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Unit1.pas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конструктора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кно конструктора формы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(Form1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инспектора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тображает свойства и события объектов  для текущей формы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Form1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можно отобразить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View / Object Inspector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лавиш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11&gt;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 имеет 2 вкладки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perties</a:t>
            </a: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войства) и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Events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Собы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DBF4-E351-43D4-9070-555AF818828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Расширения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p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новный файл проекта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fm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йл формы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Pa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модуля Паскаля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Re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ресурсов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!(создает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при первом сохранении)</a:t>
            </a:r>
            <a:r>
              <a:rPr b="1" lang="ru-RU" sz="1200" spc="-1" strike="noStrike">
                <a:solidFill>
                  <a:srgbClr val="ccff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Op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параметров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~*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зервные копии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r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Delphi Component Resourc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u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компилированный файл моду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m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межуточный к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ll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динамических библиот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k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нфигурация рабоч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Exe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сполняемые фай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E22B-2A82-4808-87D6-BB4847A0CA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мер прост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здание нового приложения начинается с того, что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Delph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предлагает пустое окно - форму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m1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терфейс приложения составляют компоненты, которые можно выбирать из 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Палитры компонен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 размещать  их  на форме и изменять их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и  после этого щелкнуть на форме. На  ней  появится  выбранны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размещения компонента на форм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вносит  изменения  в  файл модуля, т.е. добавляется  стр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вание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ип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нешний вид компонента опред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свойства, которые доступны в ок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Инспектора объек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когда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 форме выде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F6FC-BC87-43D0-9E35-37CB9FD555E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 окне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приводятся названия всех свойств и их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ойства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представляют  собой  атрибуты, определяющие способ отображения и функци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й кнопке другой заголо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пишем в строке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Calibri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Button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Cursor:TCurso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изображение мыши при наведен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 кнопку (например: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crHandPoint          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Default:Boolean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жатие кнопки выполняется по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        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клавише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Enter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, если значение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Default=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Font:TFont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шриф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Height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высот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Width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ширин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Left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Top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91D5-EA63-422C-BDB0-A9EF2C1812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процедуру обработки событ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этого нужно сделать двойной щелчок в области событ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OnClick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или  двойной  щелчок  по  кнопке 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About Form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 результат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модул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заготовку 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оцедуры-обработч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еперь при нажатии на кнопку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будет появляться е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одна форма по имен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которую мы опишем в модуле 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Unit2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DA11-481A-4E55-9F82-95A78ADA5B4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пишем вторую форму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Unit2.pas.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главном меню 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New /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дадим этой форме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местим на форму кнопку 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 загол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компоненту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торый пр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тавляет  собой  простой текст,  который 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дактируется при выполнен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Текст вводится в пол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Caption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toSize:Boolea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ая коррекция размера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зависимости от текста над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ligment: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ligment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пособ выравнивания текста внутри компонента, может принимать следующие зна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LeftJustify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выравнивание по ле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Cente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центрирование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RightJustify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 выравнивание по пра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WordWrap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автоматический перенос слов на другую ст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Transparent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прозрачная надпись или закрашенная. Ц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ашивания устанавливается свойств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lo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8EA9-7130-4E86-A549-2D1DFAC0D47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нажатии на кнопку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делаем так, чтобы форма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ыв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procedure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TAbout.Button1Click(Sender: TObjec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  нажатии кнопки 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.к.  из  модуля 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implementatio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дуля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местим  код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uses Uni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eeece1"/>
                </a:solidFill>
                <a:latin typeface="Comic Sans MS"/>
              </a:rPr>
              <a:t>File / Use Uni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4EF4-690F-4F2B-87F6-DABF33F26B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474-3156-4909-A682-43F2705C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B74-E7EB-47A6-8F0D-A2D3F0A4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43F13-FA65-4DA9-B8C1-99C25118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FBFD5-D545-4403-A72E-C21CD3B0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15DF-D196-400D-A5B7-B0B0550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F7416-C5F8-4775-8430-E822F993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6ECA5-AE94-43C5-B745-837AD9EB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DA671-B854-4FBA-B047-EFAB77D0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D77EF-099C-443D-B167-CAFB0FB6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2D9B-2A0B-451E-A136-B0C1ACEE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3E624-0A6E-44B3-B273-18950C90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03783-0CD7-4E9C-9C19-5627E40F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DAA-7753-46B2-81F0-D02BFACC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A2222-F07A-418B-8F4A-C423269C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E948E-97C8-4DDC-930B-BA66628A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0D0C6-BCBF-49BD-91C4-1EAE1C2B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91A8B-DC21-4FC4-A632-2C82C09A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0533A-5F07-40B7-93A3-9954901E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C8093-1BA5-4A81-8E00-4B18D03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05635-C768-4B0B-80B3-3A424B77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0DC50-8EF1-4B1F-8BF3-336CD8D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A121A-5972-424A-9632-C972E59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EC4F-DD28-4FB0-969B-E59D058B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2E1-265D-43A5-AE05-EB8893F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FEBA9-3B6D-43C4-BD94-E645413D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43F7F-2289-4A2C-898C-08BE9CED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23024-33A6-47DD-9991-3FFCE2CA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2CC47-D2B3-417A-AFA4-4C05CA27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4E5C7-B124-428A-8403-DF991A5F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DAAC1-95BF-49CC-88A5-8E05B20E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4EC07-8FC5-4F7A-9F9E-53C44A04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DD120-47AC-4976-BC95-3AF9341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DCCC7-AB64-494D-A6B1-1A31D4E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C4E08-4058-4A93-853C-B77F84DF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739-0888-49A0-A08F-3ECF0843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5863-DA05-4FB9-880D-1B91A523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32F38-31D9-4144-989D-8AEC8623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F802D-3A80-4957-AE32-2332E125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524CC-07F2-4F47-856C-B296EB51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C7486-CDED-48F3-A747-FEBED608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15E5D-E6E5-4377-BB6F-B43DE4ED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74CF2-E76D-4B03-8A42-BCA953D1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2C818-EDA8-47C3-8424-15BDD9A4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03F7B-CDA0-47C2-8D66-FB8FDE6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1D10E-C1A8-4E2D-A9F0-B32F386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9B2A-AB9E-40C1-88DB-C86F5FB4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212FB-4A44-4863-807D-5354ACA1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8E7FC-FCEB-42B5-92BD-5203F6A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9600F-F682-496F-87CE-FE9FD3DB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345E0-9B1F-49F0-B04B-72644497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86987-0D4F-49C6-8E6C-AA5C54E3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EEA5-6BE9-43F1-B104-932ADF4E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7E67-30EA-4775-84B4-4DC23DA7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C65-9921-4DB3-8167-2253C270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8C2C-B49E-4D92-978F-7FA0A4B0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671A-13F2-430B-8AD0-70D306E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BF0-0748-4C6E-9306-B5B6E638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C32-480F-4FE5-BB89-F0BDF1D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EE5-BADE-4270-9210-449355D6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0522-5D74-486B-9BF1-B4160B8E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C2F9-A98F-4F49-B14C-916EF4C3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54C-1453-453F-A611-2C4E9910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6BE4-E0CF-478E-881A-616A0038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BF44-2C76-4980-900D-5202C957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407E-3501-47FC-A71A-92E5E957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15ED-0F4C-4902-927E-8B22C709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4EFB-97A7-4DCD-8178-037B91B7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99D-46E0-4E34-A74F-221B2459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AE62-4D80-47DF-BEF0-BB9FCAAA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7C65-6D7C-4E7B-AB3E-DB3F6C3C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4478-3E8A-4447-B214-75F004C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7273-5263-4CF9-A842-92EC9BF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0F02-5FA6-46C3-9AFB-56F9823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EC1B-EF1C-4F50-87D3-1FCBE741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C186-6808-441E-AC3F-D8F18ACA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0C52-2B9E-4520-A89C-661219C5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2A96-BD1B-4D41-ACE5-C17FB567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1CF0-356F-41CF-A96D-7D0FDA61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5ED-2187-4D73-A72C-F8E3E86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344F-863C-4AFF-B1A6-C59B590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A433-FE2A-4A99-ABDD-8D722AC6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8CC7D-7F18-417E-B742-DEA381AC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E119-464E-450E-AFEA-437DF8B8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9ADD-997C-4D3D-9C01-2E2F67B4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8B5A-E37E-447D-BC44-3396CF4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61FB-5485-41C1-B117-4C468482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B4C59-0330-4D8E-A7FD-AD7AF552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8057A-F7D2-4637-9EFC-36B7E4DC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83457-9D86-43F3-8134-1FE7F8AB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98B-C8D2-487F-94C6-C15E3897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1F2B-9C60-48BA-9BE1-F3624115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020A-0004-4069-8A20-175CF23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0953-67D9-439B-8BD3-5200A3A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EC0B-5A48-42FD-A5AA-9475E3CC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0085-F943-4C3F-AD8B-2715C85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2ABA-9B61-4BF1-8FCE-81D2467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6095-52B4-4CB3-8EFB-DD5C95F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6B09B-1BA8-4E54-836C-0367963C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7222-B1F7-4B73-BA3B-50EFD4DA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276A7-0FCF-470E-99B5-8251AE87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F3C-0DD8-4728-8ACC-89ACF08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DD246-9A6A-4895-8163-CFAAD71E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88DB-E0F7-4DE4-BAEB-270DA7B0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3A23-E96B-4682-97CA-66B966DF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7203-FE73-450B-AF9F-1DA7CAA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550D-0104-4558-AEC0-E890CB0E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E8D9-480E-4EB8-9BA6-1DDB9C03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BF26-01E8-4DFD-AA41-03517F50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A17B-70CF-41DD-80DF-71E935F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40CF-81F4-4E27-88CB-C4E18537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3075E-D98A-46E9-BC82-AAAF304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D6C-FA6F-46CE-9945-8F9E3C84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CCFC8-D103-48E8-A5B2-24EDF27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E954B-0C84-482C-A788-861BD578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DAE2-81AA-4A8B-A8DB-C39D204F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9C2E-EB32-4AD6-A555-836FA228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2519-4C44-4246-80B3-364747E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2EB35-5C47-4F75-AEBA-BE2AF56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DCB1-5C1D-420B-BE8A-D6BE44B9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534D6-41D6-49E9-9A91-52FDDAC4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56365-BDD5-4DC9-A0AC-26EA187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6F9A5-FB11-4FBC-AF34-C647511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46B-B864-4A6D-B86F-480881C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AC2B9-7DD6-4A21-A15A-5A6B82F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B93F3-7BE6-4B52-BFE1-52E1CE5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DD324-A01A-413C-BC74-FE1634CC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2B01-0DA0-40A3-81F0-04F22356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822CD-56C3-4119-AFB0-894CC591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B67BF-E120-4B7B-8266-CFAEB61F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FE2A3-7D43-4FBA-9643-D7C7B5ED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D29F7-F4CE-4068-8D79-3913AFF1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4F825-915D-45E6-A4C2-76099CC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1849C-90D3-4A97-89FA-7F7BADD7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A3C-E876-450C-BD1C-6358C1F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9D7B-465F-4512-949D-11BB9C2B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B7CF7-5056-486B-A615-16868AA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7534B-583B-4467-BEFD-9BDE2A0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887B-20F5-4295-95B6-4F84D86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CFF9B-920A-4FA6-8A39-58678F9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2DB87-20F0-465B-B86D-7417D921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E36E-600F-4F45-B9F9-3579AB40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F3895-7AB3-4593-9816-0E553F6C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D73C1-8DBB-4170-8048-B53304E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E911D-9954-45F1-B818-99748653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1974-9F52-43A2-9DAD-AE47AC8C5D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240E-9A79-4911-81B4-C1CB5EA59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D54E-BEA9-4EF0-934E-A44B7A7AC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C51-4998-458D-984F-6079871EC2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DA6-E500-447E-ACF2-687D204104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0437-3A30-4089-8653-EEDD222212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6C4C-6892-42F3-8BEB-C6D212BE0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DCC6-5299-4FE2-9AA4-EB84ABB80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EF36-1BE6-44C0-A778-C8106F6535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7ED3-EF22-495B-8B94-B0C11F41ED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CC8D-3DB7-406F-95F9-4614BA1D8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B596-4C03-48AC-85AB-7295132A03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33"/>
                </a:solidFill>
                <a:latin typeface="Arial"/>
              </a:rPr>
              <a:t>Лекция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057040" y="21333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"/>
              </a:rPr>
              <a:t>Delph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228600" y="68580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того, чтобы сохранить проект,  в главном меню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ile / Save Project As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457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71360" y="122400"/>
            <a:ext cx="34815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охран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6" descr="D:\usu\Курсовая\Рисунки\сохранение.bmp"/>
          <p:cNvPicPr/>
          <p:nvPr/>
        </p:nvPicPr>
        <p:blipFill>
          <a:blip r:embed="rId1"/>
          <a:stretch/>
        </p:blipFill>
        <p:spPr>
          <a:xfrm>
            <a:off x="0" y="1523880"/>
            <a:ext cx="3429000" cy="510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2" name="Text Box 7"/>
          <p:cNvSpPr/>
          <p:nvPr/>
        </p:nvSpPr>
        <p:spPr>
          <a:xfrm>
            <a:off x="3655080" y="1295280"/>
            <a:ext cx="47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му проекту имя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81280" y="2174760"/>
            <a:ext cx="5562720" cy="448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к процесса компиляции выполняется по команд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/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mpile&lt;Project1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645000" y="1752480"/>
            <a:ext cx="22381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Компиля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0" descr="D:\usu\Курсовая\Рисунки\exe.bmp"/>
          <p:cNvPicPr/>
          <p:nvPr/>
        </p:nvPicPr>
        <p:blipFill>
          <a:blip r:embed="rId2"/>
          <a:stretch/>
        </p:blipFill>
        <p:spPr>
          <a:xfrm>
            <a:off x="5943600" y="632448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72840" y="122400"/>
            <a:ext cx="2663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пуск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685800"/>
            <a:ext cx="8702640" cy="1160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e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тить проект  на выполнение можно из среды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 из среды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Windows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.  Из среды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осуществляется командо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Run / R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ли  нажатием клавиш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&lt;F9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401000" y="1981080"/>
            <a:ext cx="19850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12760" y="232740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267080" y="2438280"/>
            <a:ext cx="458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ельзя запустить вторую копию приложения при уже запущенном приложен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одолжить разработку проекта можно только после завершения работы прилож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Run / Program Reset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ли нажатия клавиш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Ctrl&gt;+&lt;F2&gt;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Oval 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D:\usu\Курсовая\Рисунки\run.bmp"/>
          <p:cNvPicPr/>
          <p:nvPr/>
        </p:nvPicPr>
        <p:blipFill>
          <a:blip r:embed="rId1"/>
          <a:stretch/>
        </p:blipFill>
        <p:spPr>
          <a:xfrm>
            <a:off x="0" y="190512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118080" y="385920"/>
            <a:ext cx="84909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4" descr="D:\usu\Курсовая\Рисунки\Form21.bmp"/>
          <p:cNvPicPr/>
          <p:nvPr/>
        </p:nvPicPr>
        <p:blipFill>
          <a:blip r:embed="rId1"/>
          <a:stretch/>
        </p:blipFill>
        <p:spPr>
          <a:xfrm>
            <a:off x="533520" y="1143000"/>
            <a:ext cx="7848360" cy="5334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C:\Мои документы\Безымянный.bmp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819520"/>
          </a:xfrm>
          <a:prstGeom prst="rect">
            <a:avLst/>
          </a:prstGeom>
          <a:ln w="0">
            <a:noFill/>
          </a:ln>
        </p:spPr>
      </p:pic>
      <p:sp>
        <p:nvSpPr>
          <p:cNvPr id="6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usu\Курсовая\Рисунки\вид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5943600" y="4724280"/>
            <a:ext cx="3008160" cy="179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Палитра компонен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редактора к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конструктора форм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инспектора о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H="1" flipV="1">
            <a:off x="1676160" y="1600200"/>
            <a:ext cx="426708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 flipH="1" flipV="1">
            <a:off x="3733920" y="2438280"/>
            <a:ext cx="2209680" cy="335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 flipH="1" flipV="1">
            <a:off x="5029200" y="1752120"/>
            <a:ext cx="914400" cy="358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609588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304920" y="2362320"/>
            <a:ext cx="49528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28600" y="6858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редактора кода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Unit1.pas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кно конструктора форм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Form1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ображает свойства и события объектов  для текущей формы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rm1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го можно отобразить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View / Object Inspe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ли нажатия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лавиш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F11&gt;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 имеет 2 вклад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Propertie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ойства) и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vents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Событ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24200" y="23623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конструктора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167760" y="228600"/>
            <a:ext cx="41720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редактора к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304920" y="4191120"/>
            <a:ext cx="510516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185760" y="41911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инспектора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533520"/>
            <a:ext cx="8534520" cy="61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pr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новный файл проекта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fm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йл формы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Pa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модуля Паскаля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Re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ресурсов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!(созд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первом сохранении)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Opt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параметров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~*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ервные копии фай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r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Delphi Component Resourc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u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мпилированный файл моду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m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межуточный к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ll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динамических библиот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k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фигурация рабоч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Exe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сполняемые 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56520" y="0"/>
            <a:ext cx="46231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асширения фай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791320" y="685800"/>
            <a:ext cx="380880" cy="1752480"/>
          </a:xfrm>
          <a:custGeom>
            <a:avLst/>
            <a:gdLst>
              <a:gd name="textAreaLeft" fmla="*/ 0 w 380880"/>
              <a:gd name="textAreaRight" fmla="*/ 13752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411240" y="8380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язате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работ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23120" y="228600"/>
            <a:ext cx="672012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имер простого при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760" y="879480"/>
            <a:ext cx="8702640" cy="5214600"/>
          </a:xfrm>
          <a:prstGeom prst="rect">
            <a:avLst/>
          </a:prstGeom>
          <a:gradFill rotWithShape="0">
            <a:gsLst>
              <a:gs pos="0">
                <a:srgbClr val="e9e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оздание нового приложения начинается с того, что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Delphi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предлагает пустое окно - форму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orm1.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нтерфейс приложения составляют компоненты, которые можно выбирать из 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Палитры компонен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 размещать  их  на форме и изменять их свойств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и  после этого щелкнуть на форме. На  ней  появится  выбранны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сле размещения компонента на форм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вносит  изменения  в  файл модуля, т.е. добавляется  строч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Название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: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Тип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нешний вид компонента определяю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его свойства, которые доступны в ок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Инспектора объек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когда компонен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 форме выделен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7" descr="D:\usu\Курсовая\Рисунки\строка.bmp"/>
          <p:cNvPicPr/>
          <p:nvPr/>
        </p:nvPicPr>
        <p:blipFill>
          <a:blip r:embed="rId1"/>
          <a:stretch/>
        </p:blipFill>
        <p:spPr>
          <a:xfrm>
            <a:off x="5791320" y="4114800"/>
            <a:ext cx="2971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D:\usu\Курсовая\Рисунки\кнопка.bmp"/>
          <p:cNvPicPr/>
          <p:nvPr/>
        </p:nvPicPr>
        <p:blipFill>
          <a:blip r:embed="rId2"/>
          <a:stretch/>
        </p:blipFill>
        <p:spPr>
          <a:xfrm>
            <a:off x="5486400" y="4876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563" name="Line 9"/>
          <p:cNvSpPr/>
          <p:nvPr/>
        </p:nvSpPr>
        <p:spPr>
          <a:xfrm flipV="1">
            <a:off x="2743200" y="5562720"/>
            <a:ext cx="3200400" cy="38088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5181480" y="4419720"/>
            <a:ext cx="838440" cy="152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C:\Мои документы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048120" y="117360"/>
            <a:ext cx="6095880" cy="692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В окне 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 приводятся названия всех свойств и их знач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 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Свойства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представляют  собой  атрибуты, определяющие способ отображения и функцио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й кнопке другой заголовок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пишем в строк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 u="sng">
                <a:solidFill>
                  <a:srgbClr val="990000"/>
                </a:solidFill>
                <a:uFillTx/>
                <a:latin typeface="Times New Roman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mic Sans MS"/>
              </a:rPr>
              <a:t>Button</a:t>
            </a: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Cursor:TCurso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зображение мыши при наведени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 кнопку (например: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rHandPoint          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Default:Boolean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жатие кнопки выполняется по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клавише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Enter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, если значение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fault=Tr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Font:TFont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шриф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Height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ысот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Width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ширин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Left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Top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7"/>
          <p:cNvSpPr/>
          <p:nvPr/>
        </p:nvSpPr>
        <p:spPr>
          <a:xfrm flipH="1" flipV="1">
            <a:off x="2437920" y="1981080"/>
            <a:ext cx="685800" cy="106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D:\usu\Курсовая\Рисунки\Рука.bmp"/>
          <p:cNvPicPr/>
          <p:nvPr/>
        </p:nvPicPr>
        <p:blipFill>
          <a:blip r:embed="rId2"/>
          <a:stretch/>
        </p:blipFill>
        <p:spPr>
          <a:xfrm>
            <a:off x="7010280" y="3886200"/>
            <a:ext cx="619200" cy="53352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8" descr="D:\usu\Курсовая\Рисунки\OnClick.bmp"/>
          <p:cNvPicPr/>
          <p:nvPr/>
        </p:nvPicPr>
        <p:blipFill>
          <a:blip r:embed="rId1"/>
          <a:stretch/>
        </p:blipFill>
        <p:spPr>
          <a:xfrm>
            <a:off x="0" y="320040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D:\usu\Курсовая\Рисунки\события.bmp"/>
          <p:cNvPicPr/>
          <p:nvPr/>
        </p:nvPicPr>
        <p:blipFill>
          <a:blip r:embed="rId2"/>
          <a:stretch/>
        </p:blipFill>
        <p:spPr>
          <a:xfrm>
            <a:off x="0" y="0"/>
            <a:ext cx="5181480" cy="2057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181480" y="0"/>
            <a:ext cx="3962520" cy="2044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900" spc="-1" strike="noStrike">
                <a:solidFill>
                  <a:srgbClr val="ff0033"/>
                </a:solidFill>
                <a:latin typeface="Comic Sans MS"/>
              </a:rPr>
              <a:t>процедуру обработки событ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133720"/>
            <a:ext cx="9144000" cy="1374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4d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этого нужно сделать двойной щелчок в области события </a:t>
            </a:r>
            <a:r>
              <a:rPr b="0" lang="en-US" sz="2100" spc="-1" strike="noStrike">
                <a:solidFill>
                  <a:srgbClr val="ff0033"/>
                </a:solidFill>
                <a:latin typeface="Comic Sans MS"/>
              </a:rPr>
              <a:t>OnClick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(или  двойной  щелчок  по  кнопке  </a:t>
            </a:r>
            <a:r>
              <a:rPr b="1" lang="en-US" sz="2100" spc="-1" strike="noStrike">
                <a:solidFill>
                  <a:srgbClr val="990000"/>
                </a:solidFill>
                <a:latin typeface="Times New Roman"/>
              </a:rPr>
              <a:t>About Form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 результат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оздает 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модул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формы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заготовку  </a:t>
            </a:r>
            <a:r>
              <a:rPr b="0" lang="ru-RU" sz="2100" spc="-1" strike="noStrike">
                <a:solidFill>
                  <a:srgbClr val="ff0033"/>
                </a:solidFill>
                <a:latin typeface="Comic Sans MS"/>
              </a:rPr>
              <a:t>процедуры-обработчи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"/>
          <p:cNvSpPr/>
          <p:nvPr/>
        </p:nvSpPr>
        <p:spPr>
          <a:xfrm>
            <a:off x="1828800" y="1219320"/>
            <a:ext cx="5715000" cy="1066680"/>
          </a:xfrm>
          <a:custGeom>
            <a:avLst/>
            <a:gdLst/>
            <a:ahLst/>
            <a:rect l="l" t="t" r="r" b="b"/>
            <a:pathLst>
              <a:path w="3696" h="720">
                <a:moveTo>
                  <a:pt x="3696" y="720"/>
                </a:moveTo>
                <a:cubicBezTo>
                  <a:pt x="3112" y="676"/>
                  <a:pt x="2528" y="632"/>
                  <a:pt x="1968" y="576"/>
                </a:cubicBezTo>
                <a:cubicBezTo>
                  <a:pt x="1408" y="520"/>
                  <a:pt x="664" y="480"/>
                  <a:pt x="336" y="384"/>
                </a:cubicBezTo>
                <a:cubicBezTo>
                  <a:pt x="8" y="288"/>
                  <a:pt x="56" y="6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3276720" y="2971800"/>
            <a:ext cx="635040" cy="1066680"/>
          </a:xfrm>
          <a:custGeom>
            <a:avLst/>
            <a:gdLst/>
            <a:ahLst/>
            <a:rect l="l" t="t" r="r" b="b"/>
            <a:pathLst>
              <a:path w="400" h="720">
                <a:moveTo>
                  <a:pt x="96" y="0"/>
                </a:moveTo>
                <a:cubicBezTo>
                  <a:pt x="248" y="132"/>
                  <a:pt x="400" y="264"/>
                  <a:pt x="384" y="384"/>
                </a:cubicBezTo>
                <a:cubicBezTo>
                  <a:pt x="368" y="504"/>
                  <a:pt x="64" y="656"/>
                  <a:pt x="0" y="72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699160" y="4038480"/>
            <a:ext cx="3444840" cy="173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var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About: TAbo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:=TAbout.Create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.Sho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Book Antiqua"/>
              </a:rPr>
              <a:t>e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3"/>
          <p:cNvSpPr/>
          <p:nvPr/>
        </p:nvSpPr>
        <p:spPr>
          <a:xfrm>
            <a:off x="5410080" y="40384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 flipV="1">
            <a:off x="761760" y="4647960"/>
            <a:ext cx="4647960" cy="75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79280" y="5491080"/>
            <a:ext cx="84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еперь при нажатии на кнопку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удет появляться ещ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форма по имен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торую мы опишем в модул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t2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840280" y="3675240"/>
            <a:ext cx="3213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пишем в процеду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28600" y="0"/>
            <a:ext cx="8610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Опишем вторую форму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.pas.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главном меню 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File / New /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дадим этой форме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местим на форму кнопку 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 заголов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компоненту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торый пред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тавляет  собой  простой текст,  который  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редактируется при выполнении программы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Текст вводится в пол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Caption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" descr="D:\usu\Курсовая\Рисунки\about.bmp"/>
          <p:cNvPicPr/>
          <p:nvPr/>
        </p:nvPicPr>
        <p:blipFill>
          <a:blip r:embed="rId1"/>
          <a:stretch/>
        </p:blipFill>
        <p:spPr>
          <a:xfrm>
            <a:off x="5943600" y="10666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241920" y="2712960"/>
            <a:ext cx="3820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оторые свойств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Labe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8600" y="3200400"/>
            <a:ext cx="8686800" cy="3934440"/>
          </a:xfrm>
          <a:prstGeom prst="rect">
            <a:avLst/>
          </a:prstGeom>
          <a:gradFill rotWithShape="0">
            <a:gsLst>
              <a:gs pos="0">
                <a:srgbClr val="b3c6ff"/>
              </a:gs>
              <a:gs pos="50000">
                <a:srgbClr val="3366ff"/>
              </a:gs>
              <a:gs pos="100000">
                <a:srgbClr val="b3c6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utoSize:Boolea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ая коррекция размера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зависимости от текста надпис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ligment: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А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ligment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пособ выравнивания текста внутри компонента, может принимать следующие значения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LeftJustify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выравнивание по ле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Cente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центрирование текст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RightJustify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 выравнивание по пра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WordWrap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автоматический перенос слов на другую строк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Transparent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прозрачная надпись или закрашенная. Цве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крашивания устанавливается свойств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lo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753680" y="609480"/>
            <a:ext cx="79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7009920" y="914400"/>
            <a:ext cx="76212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228600"/>
            <a:ext cx="8610480" cy="2180880"/>
          </a:xfrm>
          <a:prstGeom prst="rect">
            <a:avLst/>
          </a:prstGeom>
          <a:gradFill rotWithShape="0">
            <a:gsLst>
              <a:gs pos="0">
                <a:srgbClr val="b9caff"/>
              </a:gs>
              <a:gs pos="50000">
                <a:srgbClr val="3366ff"/>
              </a:gs>
              <a:gs pos="100000">
                <a:srgbClr val="b9ca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ри нажатии на кнопку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ru-RU" sz="2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делаем так, чтобы форма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b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крывалас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procedure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TAbout.Button1Click(Sender: TObjec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beg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0033"/>
                </a:solidFill>
                <a:latin typeface="Comic Sans MS"/>
              </a:rPr>
              <a:t>Clos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D:\usu\Курсовая\Рисунки\unit2.bmp"/>
          <p:cNvPicPr/>
          <p:nvPr/>
        </p:nvPicPr>
        <p:blipFill>
          <a:blip r:embed="rId1"/>
          <a:stretch/>
        </p:blipFill>
        <p:spPr>
          <a:xfrm>
            <a:off x="3733920" y="16765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0" y="2438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ш модуль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меет ви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143000" y="2895480"/>
            <a:ext cx="29718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04920" y="2971800"/>
            <a:ext cx="3504960" cy="320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  нажатии кнопки 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About Form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Т.к.  из  модуля 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implementation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одуля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оместим  код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uses Uni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ile / Use Unit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36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12" descr="D:\usu\Курсовая\Рисунки\implementation.bmp"/>
          <p:cNvPicPr/>
          <p:nvPr/>
        </p:nvPicPr>
        <p:blipFill>
          <a:blip r:embed="rId2"/>
          <a:stretch/>
        </p:blipFill>
        <p:spPr>
          <a:xfrm>
            <a:off x="609480" y="6019920"/>
            <a:ext cx="2971800" cy="609480"/>
          </a:xfrm>
          <a:prstGeom prst="rect">
            <a:avLst/>
          </a:prstGeom>
          <a:ln w="0">
            <a:noFill/>
          </a:ln>
        </p:spPr>
      </p:pic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29:04Z</dcterms:created>
  <dc:creator>User</dc:creator>
  <dc:description/>
  <dc:language>en-US</dc:language>
  <cp:lastModifiedBy>LEGION</cp:lastModifiedBy>
  <dcterms:modified xsi:type="dcterms:W3CDTF">2015-04-01T07:07:1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