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C550-5C4A-4C9E-B436-3C6250B9000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екция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ece1"/>
                </a:solidFill>
                <a:latin typeface="Lucida Sans"/>
              </a:rPr>
              <a:t>Delph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0B26-18C8-4DB4-9407-B6B01729C3F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Сохранение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ля того, чтобы сохранить проект,  в главном меню выберем пун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File / Save Project A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адим нашему проекту имя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roject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Компи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пуск процесса компиляции выполняется по коман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rojec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/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ompile&lt;Project1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мпиляция проекта для получения приложения  может быть выполнена на любой  стадии  разработки 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Это удобно для проверки вида и правильности    функционирования отдельных компонентов формы, а также для  проверки  создаваемого  к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осле компиляции проекта  создается исполняемый файл приложения с именем файла проект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6761-B704-48E3-AD6E-33F7AFF8D01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Запуск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пустить проект  на выполнение можно из среды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 из среды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Windows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  Из среды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существляется команд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Run / Ru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ли  нажатием клавиш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&lt;F9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ельзя запустить вторую копию приложения при уже запущенном прило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одолжить разработку проекта можно только после завершения работы при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и зацикливании (зависании) приложения завершение его работы необходимо выполнять средствами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с помощью команды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Run / Program Reset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ли нажатия клавиш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&lt;Ctrl&gt;+&lt;F2&gt;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467B-4519-47CD-B8A8-3F7615C4A77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Приложение которое мы создали будет иметь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551C-DA9B-4C13-A39C-D2C1EFF3FB5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Окно редактора к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кно редактора код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(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Unit1.pas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создает   исходный   текст модуля  разрабатываемого приложения.  Каждый   редактируемый  файл  находится на отдельной странице,  доступ  к которой можно получить, щелкнув на ее ярлы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Окно конструктора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кно конструктора формы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(Form1)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в  нем  выполняется  проектирование формы. Для  чего  на форму  из  Палитры   компонентов помещаются необходим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Окно инспектора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кно инспектора объектов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тображает свойства и события объектов  для текущей формы 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Form1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Его можно отобразить с помощью команды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View / Object Inspector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ли нажатия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лавиши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&lt;F11&gt;.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кно инспектора объектов имеет 2 вкладки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roperties</a:t>
            </a: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войства) и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Events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(Собы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1983-C245-4DCD-B427-C3E4236FF9E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Расширения ф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pr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сновный файл проекта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fm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Ф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йл формы 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Pas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 модуля Паскаля 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Res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ы ресурсов 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!(создаетс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                             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при первом сохранении)</a:t>
            </a:r>
            <a:r>
              <a:rPr b="1" lang="ru-RU" sz="1200" spc="-1" strike="noStrike">
                <a:solidFill>
                  <a:srgbClr val="ccff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Op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 параметров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~*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Резервные копии ф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cr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Delphi Component Resource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cu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компилированный файл моду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sm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омежуточный к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ll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ы динамических библиот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sk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нфигурация рабоче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Exe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сполняемые фай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3F3B-6A14-47E6-8A77-C15D443461F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Пример простого при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оздание нового приложения начинается с того, что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Delph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и предлагает пустое окно - форму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Form1.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нтерфейс приложения составляют компоненты, которые можно выбирать из 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Палитры компонентов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,  размещать  их  на форме и изменять их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ыбор компонента в Палитре выполняется щелчком мыши на нужном компоненте,  например,  кнопке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Button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и  после этого щелкнуть на форме. На  ней  появится  выбранный компон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осле размещения компонента на форме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и вносит  изменения  в  файл модуля, т.е. добавляется  строч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l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звание компонента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l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ип компонента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нешний вид компонента опреде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его свойства, которые доступны в ок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Инспектора объектов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, когда компон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а форме выдел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0C9D-5112-4735-A12E-46AD494DF17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 окне 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Инспектора объектов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приводятся названия всех свойств и их 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войства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представляют  собой  атрибуты, определяющие способ отображения и функци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ирования компонентов при выполнении приложения. Изменять значения свойств можно непосредственно в Инспекторе, при этом сразу же изменяется соответствующий компон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адим нашей кнопке другой заголов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апишем в строке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 u="sng">
                <a:solidFill>
                  <a:srgbClr val="990000"/>
                </a:solidFill>
                <a:uFillTx/>
                <a:latin typeface="Calibri"/>
              </a:rPr>
              <a:t>Caption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Некоторые свойства 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Comic Sans MS"/>
              </a:rPr>
              <a:t>Button</a:t>
            </a: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Cursor:TCurso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изображение мыши при наведени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на кнопку (например: 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crHandPoint           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Default:Boolean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нажатие кнопки выполняется по 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        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клавише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Enter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, если значение 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Default=Tr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Font:TFont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шриф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Height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высота кнопки в пикселя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Width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 ширина кнопки в пикселя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Left 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 горизонтальная координата левого верхнего угл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Top 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 вертикальная координата левого верхнего угл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99E5-2658-48BF-9AC7-6B2FFFC43DB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 кнопка   могла реагировать  на  какое  либо событие,  необходимо  указать </a:t>
            </a: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процедуру обработки событ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которая будет вызываться при возникновении  данного со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ля этого нужно сделать двойной щелчок в области события 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OnClick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(или  двойной  щелчок  по  кнопке  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About Form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 результате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и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создает  в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модуле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ормы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заготовку 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процедуры-обработч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Теперь при нажатии на кнопку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 Form</a:t>
            </a:r>
            <a:r>
              <a:rPr b="1" lang="en-US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будет появляться ещ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одна форма по имени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, 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которую мы опишем в модуле </a:t>
            </a:r>
            <a:r>
              <a:rPr b="1" lang="en-US" sz="1200" spc="-1" strike="noStrike">
                <a:solidFill>
                  <a:srgbClr val="eeece1"/>
                </a:solidFill>
                <a:latin typeface="Calibri"/>
              </a:rPr>
              <a:t>Unit2</a:t>
            </a:r>
            <a:r>
              <a:rPr b="1" lang="ru-RU" sz="1200" spc="-1" strike="noStrike">
                <a:solidFill>
                  <a:srgbClr val="eeece1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B811-878A-4720-BAF3-7AAE5E17E5B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пишем вторую форму в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Unit2.pas.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главном меню  выберем пун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File / New /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дадим этой форме </a:t>
            </a:r>
            <a:r>
              <a:rPr b="1" lang="en-US" sz="1200" spc="-1" strike="noStrike">
                <a:solidFill>
                  <a:srgbClr val="990000"/>
                </a:solidFill>
                <a:latin typeface="Comic Sans MS"/>
              </a:rPr>
              <a:t>Caption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 </a:t>
            </a:r>
            <a:r>
              <a:rPr b="1" lang="en-US" sz="1200" spc="-1" strike="noStrike">
                <a:solidFill>
                  <a:srgbClr val="990000"/>
                </a:solidFill>
                <a:latin typeface="Comic Sans MS"/>
              </a:rPr>
              <a:t>Name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оместим на форму кнопку  </a:t>
            </a:r>
            <a:r>
              <a:rPr b="1" lang="en-US" sz="1200" spc="-1" strike="noStrike">
                <a:solidFill>
                  <a:srgbClr val="990099"/>
                </a:solidFill>
                <a:latin typeface="Comic Sans MS"/>
              </a:rPr>
              <a:t>Button</a:t>
            </a:r>
            <a:r>
              <a:rPr b="1" lang="ru-RU" sz="12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 заголо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м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lose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 компоненту </a:t>
            </a:r>
            <a:r>
              <a:rPr b="1" lang="en-US" sz="12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1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торый пред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тавляет  собой  простой текст,  который  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редактируется при выполнен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Текст вводится в поле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Caption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utoSize:Boolean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ая коррекция размера </a:t>
            </a:r>
            <a:r>
              <a:rPr b="1" lang="en-US" sz="12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,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зависимости от текста над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ligment: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ligment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-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пособ выравнивания текста внутри компонента, может принимать следующие знач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990099"/>
                </a:solidFill>
                <a:latin typeface="Calibri"/>
              </a:rPr>
              <a:t>taLeftJustify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- выравнивание по левому к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990099"/>
                </a:solidFill>
                <a:latin typeface="Calibri"/>
              </a:rPr>
              <a:t>taCenter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-центрирование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990099"/>
                </a:solidFill>
                <a:latin typeface="Calibri"/>
              </a:rPr>
              <a:t>taRightJustify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- выравнивание по правому к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WordWrap:Boolean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-автоматический перенос слов на другую ст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Transparent:Boolean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- прозрачная надпись или закрашенная. Цв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крашивания устанавливается свойством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olor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4BEC-25EC-4798-836C-3978B83BC3E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и нажатии на кнопку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lose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делаем так, чтобы форма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крывала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Arial Black"/>
              </a:rPr>
              <a:t>procedure</a:t>
            </a:r>
            <a:r>
              <a:rPr b="1" lang="ru-RU" sz="1200" spc="-1" strike="noStrike">
                <a:solidFill>
                  <a:srgbClr val="6633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TAbout.Button1Click(Sender: TObject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Arial Black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Arial Black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Clos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 Black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Arial Black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ри  нажатии кнопки 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About Form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ервой формы на экране отображается вторая форма, которая до этого была невиди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.к.  из  модуля  </a:t>
            </a: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Unit1</a:t>
            </a:r>
            <a:r>
              <a:rPr b="1" lang="ru-RU" sz="1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существляется операция со второй формой, то в разделе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800080"/>
                </a:solidFill>
                <a:latin typeface="Tahoma"/>
              </a:rPr>
              <a:t>implementatio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модуля</a:t>
            </a:r>
            <a:r>
              <a:rPr b="1" lang="ru-RU" sz="1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Unit1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местим  код </a:t>
            </a:r>
            <a:r>
              <a:rPr b="1" lang="en-US" sz="1200" spc="-1" strike="noStrike">
                <a:solidFill>
                  <a:srgbClr val="800080"/>
                </a:solidFill>
                <a:latin typeface="Tahoma"/>
              </a:rPr>
              <a:t>uses Unit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1" lang="ru-RU" sz="1200" spc="-1" strike="noStrike">
                <a:solidFill>
                  <a:srgbClr val="eeece1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eeece1"/>
                </a:solidFill>
                <a:latin typeface="Comic Sans MS"/>
              </a:rPr>
              <a:t>File / Use Uni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15F4-116E-40C3-91AB-3AC57A6BE19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A79-5FB5-47BE-B11E-9502378E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B4A-7AAD-4EEF-9470-2B0D6EBB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C4C8A-97A8-4531-B35E-946C6D75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775E8-03C7-406A-8886-0F2A3CDB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C9977-A47C-4243-9843-62075B2F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6BD1F-80F2-43FB-8000-0CED5E11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96F2D-1CF8-4259-AECC-88A20A0C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9B6BC-0043-421C-94C5-AC2D7619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4C48C-0A79-4651-B92E-8ED56733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EBA9C-1DFD-4FCA-925E-0CAAE3E9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93A37-1640-413D-9067-76E1385D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3E698-2313-4121-A65E-C62977CB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B0B5-9841-4673-8401-40504A5E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B5E86-2765-46A1-B657-0C14B629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D91E6-A101-4279-AC71-3E2BB204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0EB75-EA87-44B6-BB40-5F49226E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6A9F5-F49D-4211-BCEE-E15702F1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A14AE-F51B-4ABA-938F-743BF901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3F4D7-C569-4E2B-8422-7EF51AA1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9A8FE-D6F1-4A3A-8984-18920453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713FF-8731-46C5-BA7E-7A068980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F4060-4AC3-487A-9671-F7E449F8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E12C6-E633-45D3-A87C-C870034A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D695-7EE4-4FC6-A6EE-988BCF08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5B67D-4623-4458-A6D6-4D27443D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59DDC-0A5C-4EEE-8975-F7A47085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DCACE-B36F-44F7-9D9B-58B3BD13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70C56-59BF-4D74-95B8-EDD65A5E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A27E2-D42C-4D65-8FBC-4321A0B0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E4802-F3AA-4B13-81D2-4D89FF3B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54A60-AD20-44E4-805F-2D5D3EAF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FA271-8EDE-44C5-846E-0313FA0C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894BA-47DA-4595-936A-E702E690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AE6A4-D8B6-42C6-9AA2-4883293E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199D-C02D-485A-A6B0-4B2F3ECF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09E8F-77D6-41C8-A6EF-6653E8A2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A881C-AC13-4122-8B53-AF33A6F0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6E4AF-4B71-4677-AC84-9E0459F7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DD750-F14C-47FD-85B7-D61FC2D0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1D1D4-27B7-4ABD-B635-09EEBE5F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43469-5A4B-4D20-B211-A664B054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C7828-DD3B-4894-98FB-B3FE4A60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AA6F1-04DE-46FC-92E5-E9D48C9A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9650D-EE6E-422B-9DE3-EF0F7084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EF8BB-DD2D-4D90-9B09-5E41E3AC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2EEF-8654-4C73-A968-D9585C92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74F52-15A9-4718-BF0E-AAD19751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BB529-562C-4A4E-953D-9DB0A678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8AD5F-3F21-4FA2-A35B-1FB763DA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5A393-9F15-4582-AAA5-7AB2720A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06FE4-A409-48EF-925C-26B09878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5E66-1540-417F-98CA-70EA3449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C5EA-6F4B-4BCA-914F-DA7118F4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E2DE-D576-4DB0-B38F-96B275FA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B384-D40D-4FEC-AD67-F1C01A4A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F9EB-8A94-4CF8-8217-1C28D9F2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E3E2-9CB8-49ED-8B52-2D56E57A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F34D-5D59-47D1-AC07-3664FF30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1F40-95F2-414B-8CAA-5135BF56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4FA2-A128-473E-B4DE-68C7E8F7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E49D-3D82-4C2A-81A2-66CA84D8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FBCF-2395-47D3-8113-A6E52F8A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0032C-EE44-49FC-B9FD-D1368600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0BBC3-0452-4821-A3DD-D911462A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10667-CED9-46B5-AF59-11300394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00C2D-7F44-4F3B-B670-054D90EB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510EF-70BE-4C0F-9C8E-922C0287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3001-EB8F-42CB-BF23-3701E4F4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A940B-A25E-4A5C-84BE-32BD1C8D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04732-45EB-46D5-93ED-7E1F7FB8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4200D-CDC0-496E-972B-58DDFF9A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2A19F-7578-4FF4-9264-7288AAA5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1C8B0-5073-4CE8-BD0D-4B2E0449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B407F-F929-47B6-9001-749C32E7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9A863-9E94-4183-A5DC-2452C82C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2E2C1-9E22-4082-BDCE-719CC9DF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500E3-8D95-4903-9B38-D74D61D9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33677-B308-4BEA-806A-BD9A165E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99C-EBB0-40C1-BAD8-818A3A6D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2772A-4864-4D48-9201-8FC88F3E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AED50-8735-48F1-B62A-2A1891F8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EF76D-1B50-42E2-B525-46575A3A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8C98F-EDD0-42EA-9DAC-5F7E3DA4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509CC-0AC2-47BC-BB61-AB52A7D5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DE8AD-81EA-4C57-ABC7-10BCD8D1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AB075-C3DC-4C59-8743-5893FD4F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98EEE-5879-4669-89C0-A3F2946C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D26DC-3462-4CB5-ADCB-A0572DAA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29113-0FEF-4FEC-B0F5-DC3D51C8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7C8-7791-485D-813F-168A0D8A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784A6-3AAE-4F05-BD54-8B64EADA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8F0C5-6DAC-42BD-B1F4-08BD657F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F44D1-85B4-4399-8C7F-AA569A31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F8678-40A4-410A-8CD7-F437B0BB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4BC79-9CE5-45EB-A0EF-63B467F0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BDCF0-64C7-42A0-8B84-AA79811C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A5456-B2EA-4781-AFD8-6010CD3A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30A10-6F73-4419-AAF7-2B8425BD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B03E1-9780-4D8D-A900-3EDC2283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95E9F-EDCB-4DD1-BB78-132B6730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91D-F479-404C-8AF6-F92C584A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AE987-515D-4F78-AB62-CF52E31B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69BA6-2555-4A32-99CD-9F644CE2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09714-E2E6-4938-A753-AF756758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E8BD0-8D2C-45E8-9B0E-DBFFAA74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44A3A-EB4E-4B8F-82B5-E4424542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A3AFC-7360-40CB-B080-B6F87DF5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7B76B-81CA-4F74-9F43-FE8AADD2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F68A8-04E4-4B87-A9D1-022CA35B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9B6AD-45CE-4CF3-B42F-424C39AD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56AB2-ADD4-467A-B967-1A5E7476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DEA-104A-4099-B319-0A24BBFC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71649-209B-4F05-B579-2607E6E2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D0674-13E4-499E-AAB9-7CE88A6B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79F01-C3E1-40DB-B307-2D1B2767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BD6DA-D0F8-4B5E-AB07-1DCC2167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B9675-A495-4950-9169-E0A151FD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70A8D-3A4E-4FB5-9C33-BB243364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4FA32-4B62-4FD4-8AD1-08A229FC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D3083-A3E9-4FC7-BDD1-A8CE12AF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E8490-4416-4500-9A05-02F42F64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F58B7-F8CC-4A6D-8AB7-17625B91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FF7-AB0C-4E07-BB6D-33FA508A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7A731-545A-4E87-AF0A-E06A7DB2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71B2E-4E06-427A-ABC9-351A98E2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6798E-414D-4D04-8B16-A1291520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1217D-4A73-4194-BA4D-0D55CC40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19434-6AE4-413C-BBE2-ACAA0EA6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34CB5-8D40-4BB5-8BE2-883B7863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9F413-144D-45B1-9389-8B47A569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46861-310E-47A8-964B-6F352676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29ADE-91D8-4704-8818-1E126B55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06008-E522-471E-8C04-AE42739D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4F55-F3E5-4B56-8227-8DAFF3EB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34873-BA07-41D4-8A7D-5724F37C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BB337-BAE9-4883-9BA7-96B76322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97439-639A-4547-AE9D-87DDF1EB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6396B-6379-49E4-B0C7-F1124A3C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CBBE2-18DB-4CF5-9266-632CA85E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46B90-C725-4386-8143-3136979D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8A0D6-78F2-468C-B966-DFA57A4B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02647-728A-421D-B093-4F40C45A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0A4BB-AC7A-41E2-9963-3DD57C50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5134A-6408-4E00-BDE9-BCE94EEA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B573-1901-418C-BDDE-9C0A62105E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CFFD-DA04-4FD0-A5A5-4A380F7F4B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F85E-CDC8-47DA-BA01-7C786CEE7E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86F1-8DD4-4F76-A2F3-AAB65111664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A27A-A6E8-4BBB-969F-66E69D328D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ACAE-C6B8-47CE-AEEF-96604EB76E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1B1F-05A9-4ED2-8B38-9F418C4F19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B4CA-A829-4560-8764-5AC3CD4A62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D0E6-59B3-4CEE-A3A7-EBF2928C95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F28B-4305-4236-B204-ABD1034273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1FB0-898E-4E4C-9D73-15F790C702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5A25-1170-4C15-8252-D73840DC0E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655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33"/>
                </a:solidFill>
                <a:latin typeface="Arial"/>
              </a:rPr>
              <a:t>Лекция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2057040" y="213336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Lucida Sans"/>
              </a:rPr>
              <a:t>Delphi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228600" y="685800"/>
            <a:ext cx="8610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ля того, чтобы сохранить проект,  в главном меню выберем пун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File / Save Project As…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4572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171360" y="122400"/>
            <a:ext cx="348156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Сохранение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Picture 6" descr="D:\usu\Курсовая\Рисунки\сохранение.bmp"/>
          <p:cNvPicPr/>
          <p:nvPr/>
        </p:nvPicPr>
        <p:blipFill>
          <a:blip r:embed="rId1"/>
          <a:stretch/>
        </p:blipFill>
        <p:spPr>
          <a:xfrm>
            <a:off x="0" y="1523880"/>
            <a:ext cx="3429000" cy="51055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602" name="Text Box 7"/>
          <p:cNvSpPr/>
          <p:nvPr/>
        </p:nvSpPr>
        <p:spPr>
          <a:xfrm>
            <a:off x="3655080" y="1295280"/>
            <a:ext cx="473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адим нашему проекту имя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Project1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3581280" y="2174760"/>
            <a:ext cx="5562720" cy="4481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Запуск процесса компиляции выполняется по команде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Project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/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Compile&lt;Project1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Компиляция проекта для получения приложения  может быть выполнена на любой  стадии  разработки  проекта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Это удобно для проверки вида и правильности    функционирования отдельных компонентов формы, а также для  проверки  создаваемого  код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После компиляции проекта  создается исполняемый файл приложения с именем файла проекта 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3645000" y="1752480"/>
            <a:ext cx="22381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Компиля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5" name="Picture 10" descr="D:\usu\Курсовая\Рисунки\exe.bmp"/>
          <p:cNvPicPr/>
          <p:nvPr/>
        </p:nvPicPr>
        <p:blipFill>
          <a:blip r:embed="rId2"/>
          <a:stretch/>
        </p:blipFill>
        <p:spPr>
          <a:xfrm>
            <a:off x="5943600" y="632448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6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672840" y="122400"/>
            <a:ext cx="26632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Запуск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228600" y="685800"/>
            <a:ext cx="8702640" cy="1160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dee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Запустить проект  на выполнение можно из среды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Delphi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и из среды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Windows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.  Из среды 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Delphi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осуществляется командой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Run / Ru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или  нажатием клавиш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&lt;F9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4401000" y="1981080"/>
            <a:ext cx="1985040" cy="45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Замеч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212760" y="2327400"/>
            <a:ext cx="862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4267080" y="2438280"/>
            <a:ext cx="4587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ельзя запустить вторую копию приложения при уже запущенном приложении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родолжить разработку проекта можно только после завершения работы приложения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ри зацикливании (зависании) приложения завершение его работы необходимо выполнять средствами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elphi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с помощью команды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Run / Program Reset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ли нажатия клавиш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&lt;Ctrl&gt;+&lt;F2&gt;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 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Oval 7"/>
          <p:cNvSpPr/>
          <p:nvPr/>
        </p:nvSpPr>
        <p:spPr>
          <a:xfrm>
            <a:off x="4267080" y="2590920"/>
            <a:ext cx="152640" cy="15228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Oval 8"/>
          <p:cNvSpPr/>
          <p:nvPr/>
        </p:nvSpPr>
        <p:spPr>
          <a:xfrm>
            <a:off x="4267080" y="3505320"/>
            <a:ext cx="152640" cy="15228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Oval 9"/>
          <p:cNvSpPr/>
          <p:nvPr/>
        </p:nvSpPr>
        <p:spPr>
          <a:xfrm>
            <a:off x="4267080" y="4495680"/>
            <a:ext cx="152640" cy="15264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Picture 10" descr="D:\usu\Курсовая\Рисунки\run.bmp"/>
          <p:cNvPicPr/>
          <p:nvPr/>
        </p:nvPicPr>
        <p:blipFill>
          <a:blip r:embed="rId1"/>
          <a:stretch/>
        </p:blipFill>
        <p:spPr>
          <a:xfrm>
            <a:off x="0" y="1905120"/>
            <a:ext cx="4191120" cy="4724280"/>
          </a:xfrm>
          <a:prstGeom prst="rect">
            <a:avLst/>
          </a:prstGeom>
          <a:ln w="0">
            <a:noFill/>
          </a:ln>
        </p:spPr>
      </p:pic>
      <p:sp>
        <p:nvSpPr>
          <p:cNvPr id="6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3"/>
          <p:cNvSpPr/>
          <p:nvPr/>
        </p:nvSpPr>
        <p:spPr>
          <a:xfrm>
            <a:off x="118080" y="385920"/>
            <a:ext cx="849096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Приложение которое мы создали будет иметь ви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8" name="Picture 4" descr="D:\usu\Курсовая\Рисунки\Form21.bmp"/>
          <p:cNvPicPr/>
          <p:nvPr/>
        </p:nvPicPr>
        <p:blipFill>
          <a:blip r:embed="rId1"/>
          <a:stretch/>
        </p:blipFill>
        <p:spPr>
          <a:xfrm>
            <a:off x="533520" y="1143000"/>
            <a:ext cx="7848360" cy="53341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C:\Мои документы\Безымянный.bmp"/>
          <p:cNvPicPr/>
          <p:nvPr/>
        </p:nvPicPr>
        <p:blipFill>
          <a:blip r:embed="rId2"/>
          <a:stretch/>
        </p:blipFill>
        <p:spPr>
          <a:xfrm>
            <a:off x="3429000" y="3809880"/>
            <a:ext cx="5105520" cy="2819520"/>
          </a:xfrm>
          <a:prstGeom prst="rect">
            <a:avLst/>
          </a:prstGeom>
          <a:ln w="0">
            <a:noFill/>
          </a:ln>
        </p:spPr>
      </p:pic>
      <p:sp>
        <p:nvSpPr>
          <p:cNvPr id="6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D:\usu\Курсовая\Рисунки\вид1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5943600" y="4724280"/>
            <a:ext cx="3008160" cy="1798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Палитра компонен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Окно редактора код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Окно конструктора формы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Окно инспектора объек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Line 5"/>
          <p:cNvSpPr/>
          <p:nvPr/>
        </p:nvSpPr>
        <p:spPr>
          <a:xfrm flipH="1" flipV="1">
            <a:off x="1676160" y="1600200"/>
            <a:ext cx="4267080" cy="45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Line 6"/>
          <p:cNvSpPr/>
          <p:nvPr/>
        </p:nvSpPr>
        <p:spPr>
          <a:xfrm flipH="1" flipV="1">
            <a:off x="3733920" y="2438280"/>
            <a:ext cx="2209680" cy="335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Line 7"/>
          <p:cNvSpPr/>
          <p:nvPr/>
        </p:nvSpPr>
        <p:spPr>
          <a:xfrm flipH="1" flipV="1">
            <a:off x="5029200" y="1752120"/>
            <a:ext cx="914400" cy="358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Line 8"/>
          <p:cNvSpPr/>
          <p:nvPr/>
        </p:nvSpPr>
        <p:spPr>
          <a:xfrm flipV="1">
            <a:off x="6095880" y="11430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6"/>
          <p:cNvSpPr/>
          <p:nvPr/>
        </p:nvSpPr>
        <p:spPr>
          <a:xfrm>
            <a:off x="304920" y="2362320"/>
            <a:ext cx="495288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228600" y="685800"/>
            <a:ext cx="8686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кно редактора кода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Unit1.pas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создает   исходный   текст модуля  разрабатываемого приложения.  Каждый   редактируемый  файл  находится на отдельной странице,  доступ  к которой можно получить, щелкнув на ее ярлыч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Times New Roman"/>
              </a:rPr>
              <a:t>Окно конструктора формы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Form1)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  нем  выполняется  проектирование формы. Для  чего  на форму  из  Палитры   компонентов помещаются необходимые элемен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кно инспектора объект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тображает свойства и события объектов  для текущей формы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Form1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Его можно отобразить с помощью команды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View / Object Inspector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ли нажатия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лавиши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&lt;F11&gt;.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кно инспектора объектов имеет 2 вкладк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Properties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войства) и 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vents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(Событи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18"/>
          <p:cNvSpPr/>
          <p:nvPr/>
        </p:nvSpPr>
        <p:spPr>
          <a:xfrm>
            <a:off x="124200" y="236232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кно конструктора фор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78476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167760" y="228600"/>
            <a:ext cx="417204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кно редактора к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13"/>
          <p:cNvSpPr/>
          <p:nvPr/>
        </p:nvSpPr>
        <p:spPr>
          <a:xfrm>
            <a:off x="304920" y="4191120"/>
            <a:ext cx="510516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185760" y="4191120"/>
            <a:ext cx="52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кно инспектора объе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228600" y="533520"/>
            <a:ext cx="8534520" cy="619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pr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сновный файл проекта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fm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Ф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айл формы 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Pas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 модуля Паскаля 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Res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ы ресурсов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!(создает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первом сохранении)</a:t>
            </a:r>
            <a:r>
              <a:rPr b="1" lang="ru-RU" sz="2400" spc="-1" strike="noStrike">
                <a:solidFill>
                  <a:srgbClr val="ccff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Opt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 параметров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~*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езервные копии файл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cr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Delphi Component Resource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cu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компилированный файл моду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sm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ромежуточный к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ll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ы динамических библиоте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sk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онфигурация рабочей обла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Exe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сполняемые фай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956520" y="0"/>
            <a:ext cx="462312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Расширения файл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5791320" y="685800"/>
            <a:ext cx="380880" cy="1752480"/>
          </a:xfrm>
          <a:custGeom>
            <a:avLst/>
            <a:gdLst>
              <a:gd name="textAreaLeft" fmla="*/ 0 w 380880"/>
              <a:gd name="textAreaRight" fmla="*/ 137520 w 3808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6411240" y="838080"/>
            <a:ext cx="19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бязательн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файл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ля работ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ло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3"/>
          <p:cNvSpPr/>
          <p:nvPr/>
        </p:nvSpPr>
        <p:spPr>
          <a:xfrm>
            <a:off x="28908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123120" y="228600"/>
            <a:ext cx="672012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Пример простого прило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212760" y="879480"/>
            <a:ext cx="8702640" cy="5214600"/>
          </a:xfrm>
          <a:prstGeom prst="rect">
            <a:avLst/>
          </a:prstGeom>
          <a:gradFill rotWithShape="0">
            <a:gsLst>
              <a:gs pos="0">
                <a:srgbClr val="e9e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оздание нового приложения начинается с того, что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Delphi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и предлагает пустое окно - форму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Form1.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нтерфейс приложения составляют компоненты, которые можно выбирать из  </a:t>
            </a: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Палитры компонентов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,  размещать  их  на форме и изменять их свойства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ыбор компонента в Палитре выполняется щелчком мыши на нужном компоненте,  например,  кнопке 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Button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и  после этого щелкнуть на форме. На  ней  появится  выбранный компонент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осле размещения компонента на форме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elphi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и вносит  изменения  в  файл модуля, т.е. добавляется  строчка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lt;</a:t>
            </a:r>
            <a:r>
              <a:rPr b="1" lang="ru-RU" sz="2100" spc="-1" strike="noStrike">
                <a:solidFill>
                  <a:srgbClr val="ff0033"/>
                </a:solidFill>
                <a:latin typeface="Times New Roman"/>
              </a:rPr>
              <a:t>Название компонента</a:t>
            </a: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gt;</a:t>
            </a:r>
            <a:r>
              <a:rPr b="1" lang="ru-RU" sz="2100" spc="-1" strike="noStrike">
                <a:solidFill>
                  <a:srgbClr val="ff0033"/>
                </a:solidFill>
                <a:latin typeface="Times New Roman"/>
              </a:rPr>
              <a:t>:</a:t>
            </a: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lt;</a:t>
            </a:r>
            <a:r>
              <a:rPr b="1" lang="ru-RU" sz="2100" spc="-1" strike="noStrike">
                <a:solidFill>
                  <a:srgbClr val="ff0033"/>
                </a:solidFill>
                <a:latin typeface="Times New Roman"/>
              </a:rPr>
              <a:t>Тип компонента</a:t>
            </a: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нешний вид компонента определяют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его свойства, которые доступны в окн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Инспектора объектов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, когда компонент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а форме выделен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1" name="Picture 7" descr="D:\usu\Курсовая\Рисунки\строка.bmp"/>
          <p:cNvPicPr/>
          <p:nvPr/>
        </p:nvPicPr>
        <p:blipFill>
          <a:blip r:embed="rId1"/>
          <a:stretch/>
        </p:blipFill>
        <p:spPr>
          <a:xfrm>
            <a:off x="5791320" y="4114800"/>
            <a:ext cx="2971800" cy="6858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" descr="D:\usu\Курсовая\Рисунки\кнопка.bmp"/>
          <p:cNvPicPr/>
          <p:nvPr/>
        </p:nvPicPr>
        <p:blipFill>
          <a:blip r:embed="rId2"/>
          <a:stretch/>
        </p:blipFill>
        <p:spPr>
          <a:xfrm>
            <a:off x="5486400" y="4876920"/>
            <a:ext cx="3429000" cy="1676160"/>
          </a:xfrm>
          <a:prstGeom prst="rect">
            <a:avLst/>
          </a:prstGeom>
          <a:ln w="0">
            <a:noFill/>
          </a:ln>
        </p:spPr>
      </p:pic>
      <p:sp>
        <p:nvSpPr>
          <p:cNvPr id="563" name="Line 9"/>
          <p:cNvSpPr/>
          <p:nvPr/>
        </p:nvSpPr>
        <p:spPr>
          <a:xfrm flipV="1">
            <a:off x="2743200" y="5562720"/>
            <a:ext cx="3200400" cy="380880"/>
          </a:xfrm>
          <a:prstGeom prst="line">
            <a:avLst/>
          </a:prstGeom>
          <a:ln w="28440">
            <a:solidFill>
              <a:srgbClr val="cc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Line 10"/>
          <p:cNvSpPr/>
          <p:nvPr/>
        </p:nvSpPr>
        <p:spPr>
          <a:xfrm>
            <a:off x="5181480" y="4419720"/>
            <a:ext cx="838440" cy="15228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3" descr="C:\Мои документы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30481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4"/>
          <p:cNvSpPr/>
          <p:nvPr/>
        </p:nvSpPr>
        <p:spPr>
          <a:xfrm>
            <a:off x="3048120" y="117360"/>
            <a:ext cx="6095880" cy="69231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В окне </a:t>
            </a:r>
            <a:r>
              <a:rPr b="1" lang="ru-RU" sz="2100" spc="-1" strike="noStrike">
                <a:solidFill>
                  <a:srgbClr val="000066"/>
                </a:solidFill>
                <a:latin typeface="Comic Sans MS"/>
              </a:rPr>
              <a:t>Инспектора объектов</a:t>
            </a: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 приводятся названия всех свойств и их значения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   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Свойства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представляют  собой  атрибуты, определяющие способ отображения и функцио-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ирования компонентов при выполнении приложения. Изменять значения свойств можно непосредственно в Инспекторе, при этом сразу же изменяется соответствующий компонент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адим нашей кнопке другой заголовок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апишем в строке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100" spc="-1" strike="noStrike" u="sng">
                <a:solidFill>
                  <a:srgbClr val="990000"/>
                </a:solidFill>
                <a:uFillTx/>
                <a:latin typeface="Times New Roman"/>
              </a:rPr>
              <a:t>Caption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 Form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ffffff"/>
                </a:solidFill>
                <a:uFillTx/>
                <a:latin typeface="Comic Sans MS"/>
              </a:rPr>
              <a:t>Некоторые свойства </a:t>
            </a:r>
            <a:r>
              <a:rPr b="1" i="1" lang="en-US" sz="1700" spc="-1" strike="noStrike" u="sng">
                <a:solidFill>
                  <a:srgbClr val="ffffff"/>
                </a:solidFill>
                <a:uFillTx/>
                <a:latin typeface="Comic Sans MS"/>
              </a:rPr>
              <a:t>Button</a:t>
            </a:r>
            <a:r>
              <a:rPr b="1" i="1" lang="ru-RU" sz="1700" spc="-1" strike="noStrike" u="sng">
                <a:solidFill>
                  <a:srgbClr val="ffffff"/>
                </a:solidFill>
                <a:uFillTx/>
                <a:latin typeface="Comic Sans M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Cursor:TCurso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изображение мыши при наведении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на кнопку (например: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crHandPoint           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Default:Boolean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нажатие кнопки выполняется по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клавише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Enter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, если значение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Default=Tru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Font:TFont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шрифт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Height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высота кнопки в пикселях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Width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ширина кнопки в пикселях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Left 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горизонтальная координата левого верхнего угл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Top 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вертикальная координата левого верхнего угл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Line 7"/>
          <p:cNvSpPr/>
          <p:nvPr/>
        </p:nvSpPr>
        <p:spPr>
          <a:xfrm flipH="1" flipV="1">
            <a:off x="2437920" y="1981080"/>
            <a:ext cx="685800" cy="1067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8" descr="D:\usu\Курсовая\Рисунки\Рука.bmp"/>
          <p:cNvPicPr/>
          <p:nvPr/>
        </p:nvPicPr>
        <p:blipFill>
          <a:blip r:embed="rId2"/>
          <a:stretch/>
        </p:blipFill>
        <p:spPr>
          <a:xfrm>
            <a:off x="7010280" y="3886200"/>
            <a:ext cx="619200" cy="533520"/>
          </a:xfrm>
          <a:prstGeom prst="rect">
            <a:avLst/>
          </a:prstGeom>
          <a:ln w="0">
            <a:noFill/>
          </a:ln>
        </p:spPr>
      </p:pic>
      <p:sp>
        <p:nvSpPr>
          <p:cNvPr id="5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8" descr="D:\usu\Курсовая\Рисунки\OnClick.bmp"/>
          <p:cNvPicPr/>
          <p:nvPr/>
        </p:nvPicPr>
        <p:blipFill>
          <a:blip r:embed="rId1"/>
          <a:stretch/>
        </p:blipFill>
        <p:spPr>
          <a:xfrm>
            <a:off x="0" y="3200400"/>
            <a:ext cx="5715000" cy="2286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" descr="D:\usu\Курсовая\Рисунки\события.bmp"/>
          <p:cNvPicPr/>
          <p:nvPr/>
        </p:nvPicPr>
        <p:blipFill>
          <a:blip r:embed="rId2"/>
          <a:stretch/>
        </p:blipFill>
        <p:spPr>
          <a:xfrm>
            <a:off x="0" y="0"/>
            <a:ext cx="5181480" cy="20574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3"/>
          <p:cNvSpPr/>
          <p:nvPr/>
        </p:nvSpPr>
        <p:spPr>
          <a:xfrm>
            <a:off x="5181480" y="0"/>
            <a:ext cx="3962520" cy="2044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бы  кнопка   могла реагировать  на  какое  либо событие,  необходимо  указать </a:t>
            </a:r>
            <a:r>
              <a:rPr b="1" lang="ru-RU" sz="1900" spc="-1" strike="noStrike">
                <a:solidFill>
                  <a:srgbClr val="ff0033"/>
                </a:solidFill>
                <a:latin typeface="Comic Sans MS"/>
              </a:rPr>
              <a:t>процедуру обработки событ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которая будет вызываться при возникновении  данного собы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0" y="2133720"/>
            <a:ext cx="9144000" cy="13741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d4d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ля этого нужно сделать двойной щелчок в области события </a:t>
            </a:r>
            <a:r>
              <a:rPr b="0" lang="en-US" sz="2100" spc="-1" strike="noStrike">
                <a:solidFill>
                  <a:srgbClr val="ff0033"/>
                </a:solidFill>
                <a:latin typeface="Comic Sans MS"/>
              </a:rPr>
              <a:t>OnClick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(или  двойной  щелчок  по  кнопке  </a:t>
            </a:r>
            <a:r>
              <a:rPr b="1" lang="en-US" sz="2100" spc="-1" strike="noStrike">
                <a:solidFill>
                  <a:srgbClr val="990000"/>
                </a:solidFill>
                <a:latin typeface="Times New Roman"/>
              </a:rPr>
              <a:t>About Form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  результате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elphi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и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создает  в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модуле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формы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заготовку  </a:t>
            </a:r>
            <a:r>
              <a:rPr b="0" lang="ru-RU" sz="2100" spc="-1" strike="noStrike">
                <a:solidFill>
                  <a:srgbClr val="ff0033"/>
                </a:solidFill>
                <a:latin typeface="Comic Sans MS"/>
              </a:rPr>
              <a:t>процедуры-обработчика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Freeform 7"/>
          <p:cNvSpPr/>
          <p:nvPr/>
        </p:nvSpPr>
        <p:spPr>
          <a:xfrm>
            <a:off x="1828800" y="1219320"/>
            <a:ext cx="5715000" cy="1066680"/>
          </a:xfrm>
          <a:custGeom>
            <a:avLst/>
            <a:gdLst/>
            <a:ahLst/>
            <a:rect l="l" t="t" r="r" b="b"/>
            <a:pathLst>
              <a:path w="3696" h="720">
                <a:moveTo>
                  <a:pt x="3696" y="720"/>
                </a:moveTo>
                <a:cubicBezTo>
                  <a:pt x="3112" y="676"/>
                  <a:pt x="2528" y="632"/>
                  <a:pt x="1968" y="576"/>
                </a:cubicBezTo>
                <a:cubicBezTo>
                  <a:pt x="1408" y="520"/>
                  <a:pt x="664" y="480"/>
                  <a:pt x="336" y="384"/>
                </a:cubicBezTo>
                <a:cubicBezTo>
                  <a:pt x="8" y="288"/>
                  <a:pt x="56" y="64"/>
                  <a:pt x="0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9"/>
          <p:cNvSpPr/>
          <p:nvPr/>
        </p:nvSpPr>
        <p:spPr>
          <a:xfrm>
            <a:off x="3276720" y="2971800"/>
            <a:ext cx="635040" cy="1066680"/>
          </a:xfrm>
          <a:custGeom>
            <a:avLst/>
            <a:gdLst/>
            <a:ahLst/>
            <a:rect l="l" t="t" r="r" b="b"/>
            <a:pathLst>
              <a:path w="400" h="720">
                <a:moveTo>
                  <a:pt x="96" y="0"/>
                </a:moveTo>
                <a:cubicBezTo>
                  <a:pt x="248" y="132"/>
                  <a:pt x="400" y="264"/>
                  <a:pt x="384" y="384"/>
                </a:cubicBezTo>
                <a:cubicBezTo>
                  <a:pt x="368" y="504"/>
                  <a:pt x="64" y="656"/>
                  <a:pt x="0" y="72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699160" y="4038480"/>
            <a:ext cx="3444840" cy="1739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33"/>
                </a:solidFill>
                <a:latin typeface="Book Antiqua"/>
              </a:rPr>
              <a:t>var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About: TAbou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1800" spc="-1" strike="noStrike">
                <a:solidFill>
                  <a:srgbClr val="ff0033"/>
                </a:solidFill>
                <a:latin typeface="Book Antiqua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About:=TAbout.Create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About.Show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Book Antiqua"/>
              </a:rPr>
              <a:t>e</a:t>
            </a:r>
            <a:r>
              <a:rPr b="1" lang="ru-RU" sz="1800" spc="-1" strike="noStrike">
                <a:solidFill>
                  <a:srgbClr val="ff0033"/>
                </a:solidFill>
                <a:latin typeface="Book Antiqua"/>
              </a:rPr>
              <a:t>n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AutoShape 13"/>
          <p:cNvSpPr/>
          <p:nvPr/>
        </p:nvSpPr>
        <p:spPr>
          <a:xfrm>
            <a:off x="5410080" y="4038480"/>
            <a:ext cx="381240" cy="1447920"/>
          </a:xfrm>
          <a:custGeom>
            <a:avLst/>
            <a:gdLst>
              <a:gd name="textAreaLeft" fmla="*/ 243720 w 381240"/>
              <a:gd name="textAreaRight" fmla="*/ 381600 w 3812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 flipV="1">
            <a:off x="761760" y="4647960"/>
            <a:ext cx="4647960" cy="75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79280" y="5491080"/>
            <a:ext cx="842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Теперь при нажатии на кнопку 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 Form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будет появляться ещ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дна форма по имени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,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которую мы опишем в модуле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Unit2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5840280" y="3675240"/>
            <a:ext cx="321336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апишем в процедур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228600" y="0"/>
            <a:ext cx="861048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Опишем вторую форму в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Unit2.pas.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 главном меню  выберем пун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File / New /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Зададим этой форме </a:t>
            </a:r>
            <a:r>
              <a:rPr b="1" lang="en-US" sz="2100" spc="-1" strike="noStrike">
                <a:solidFill>
                  <a:srgbClr val="990000"/>
                </a:solidFill>
                <a:latin typeface="Comic Sans MS"/>
              </a:rPr>
              <a:t>Caption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 </a:t>
            </a:r>
            <a:r>
              <a:rPr b="1" lang="en-US" sz="2100" spc="-1" strike="noStrike">
                <a:solidFill>
                  <a:srgbClr val="990000"/>
                </a:solidFill>
                <a:latin typeface="Comic Sans MS"/>
              </a:rPr>
              <a:t>Name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оместим на форму кнопку  </a:t>
            </a:r>
            <a:r>
              <a:rPr b="1" lang="en-US" sz="2100" spc="-1" strike="noStrike">
                <a:solidFill>
                  <a:srgbClr val="990099"/>
                </a:solidFill>
                <a:latin typeface="Comic Sans MS"/>
              </a:rPr>
              <a:t>Button</a:t>
            </a:r>
            <a:r>
              <a:rPr b="1" lang="ru-RU" sz="21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 заголов-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ком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Close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 компоненту </a:t>
            </a:r>
            <a:r>
              <a:rPr b="1" lang="en-US" sz="21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21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который пред-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тавляет  собой  простой текст,  который  н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редактируется при выполнении программы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Текст вводится в поле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Caption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4" name="Picture 3" descr="D:\usu\Курсовая\Рисунки\about.bmp"/>
          <p:cNvPicPr/>
          <p:nvPr/>
        </p:nvPicPr>
        <p:blipFill>
          <a:blip r:embed="rId1"/>
          <a:stretch/>
        </p:blipFill>
        <p:spPr>
          <a:xfrm>
            <a:off x="5943600" y="10666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4"/>
          <p:cNvSpPr/>
          <p:nvPr/>
        </p:nvSpPr>
        <p:spPr>
          <a:xfrm>
            <a:off x="241920" y="2712960"/>
            <a:ext cx="38203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екоторые свойств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ffff00"/>
                </a:solidFill>
                <a:latin typeface="Comic Sans MS"/>
              </a:rPr>
              <a:t>Labe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228600" y="3200400"/>
            <a:ext cx="8686800" cy="3934440"/>
          </a:xfrm>
          <a:prstGeom prst="rect">
            <a:avLst/>
          </a:prstGeom>
          <a:gradFill rotWithShape="0">
            <a:gsLst>
              <a:gs pos="0">
                <a:srgbClr val="b3c6ff"/>
              </a:gs>
              <a:gs pos="50000">
                <a:srgbClr val="3366ff"/>
              </a:gs>
              <a:gs pos="100000">
                <a:srgbClr val="b3c6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utoSize:Boolean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ая коррекция размера </a:t>
            </a:r>
            <a:r>
              <a:rPr b="1" lang="en-US" sz="21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2100" spc="-1" strike="noStrike">
                <a:solidFill>
                  <a:srgbClr val="990099"/>
                </a:solidFill>
                <a:latin typeface="Times New Roman"/>
              </a:rPr>
              <a:t>,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 зависимости от текста надписи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ligment:T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А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ligment</a:t>
            </a:r>
            <a:r>
              <a:rPr b="1" lang="ru-RU" sz="2100" spc="-1" strike="noStrike">
                <a:solidFill>
                  <a:srgbClr val="000066"/>
                </a:solidFill>
                <a:latin typeface="Comic Sans MS"/>
              </a:rPr>
              <a:t>-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пособ выравнивания текста внутри компонента, может принимать следующие значения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100" spc="-1" strike="noStrike">
                <a:solidFill>
                  <a:srgbClr val="990099"/>
                </a:solidFill>
                <a:latin typeface="Times New Roman"/>
              </a:rPr>
              <a:t>taLeftJustify</a:t>
            </a:r>
            <a:r>
              <a:rPr b="1" lang="ru-RU" sz="21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- выравнивание по левому краю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100" spc="-1" strike="noStrike">
                <a:solidFill>
                  <a:srgbClr val="990099"/>
                </a:solidFill>
                <a:latin typeface="Times New Roman"/>
              </a:rPr>
              <a:t>taCenter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-центрирование текста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100" spc="-1" strike="noStrike">
                <a:solidFill>
                  <a:srgbClr val="990099"/>
                </a:solidFill>
                <a:latin typeface="Times New Roman"/>
              </a:rPr>
              <a:t>taRightJustify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- выравнивание по правому краю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WordWrap:Boolean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-автоматический перенос слов на другую строку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Transparent:Boolean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- прозрачная надпись или закрашенная. Цвет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закрашивания устанавливается свойством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Color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.                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7753680" y="609480"/>
            <a:ext cx="799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Line 8"/>
          <p:cNvSpPr/>
          <p:nvPr/>
        </p:nvSpPr>
        <p:spPr>
          <a:xfrm flipH="1">
            <a:off x="7009920" y="914400"/>
            <a:ext cx="76212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228600" y="228600"/>
            <a:ext cx="8610480" cy="2180880"/>
          </a:xfrm>
          <a:prstGeom prst="rect">
            <a:avLst/>
          </a:prstGeom>
          <a:gradFill rotWithShape="0">
            <a:gsLst>
              <a:gs pos="0">
                <a:srgbClr val="b9caff"/>
              </a:gs>
              <a:gs pos="50000">
                <a:srgbClr val="3366ff"/>
              </a:gs>
              <a:gs pos="100000">
                <a:srgbClr val="b9ca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При нажатии на кнопку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33"/>
                </a:solidFill>
                <a:latin typeface="Comic Sans MS"/>
              </a:rPr>
              <a:t>Close</a:t>
            </a:r>
            <a:r>
              <a:rPr b="1" lang="ru-RU" sz="2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сделаем так, чтобы форма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Abou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закрывалась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 Black"/>
              </a:rPr>
              <a:t>procedure</a:t>
            </a:r>
            <a:r>
              <a:rPr b="1" lang="ru-RU" sz="2300" spc="-1" strike="noStrike">
                <a:solidFill>
                  <a:srgbClr val="663300"/>
                </a:solidFill>
                <a:latin typeface="Arial Black"/>
              </a:rPr>
              <a:t> </a:t>
            </a:r>
            <a:r>
              <a:rPr b="1" lang="ru-RU" sz="2300" spc="-1" strike="noStrike">
                <a:solidFill>
                  <a:srgbClr val="663300"/>
                </a:solidFill>
                <a:latin typeface="Times New Roman"/>
              </a:rPr>
              <a:t>TAbout.Button1Click(Sender: TObject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300" spc="-1" strike="noStrike">
                <a:solidFill>
                  <a:srgbClr val="000000"/>
                </a:solidFill>
                <a:latin typeface="Arial Black"/>
              </a:rPr>
              <a:t>begi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300" spc="-1" strike="noStrike">
                <a:solidFill>
                  <a:srgbClr val="ff0033"/>
                </a:solidFill>
                <a:latin typeface="Comic Sans MS"/>
              </a:rPr>
              <a:t>Close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63300"/>
                </a:solidFill>
                <a:latin typeface="Arial Black"/>
              </a:rPr>
              <a:t>   </a:t>
            </a:r>
            <a:r>
              <a:rPr b="1" lang="ru-RU" sz="2300" spc="-1" strike="noStrike">
                <a:solidFill>
                  <a:srgbClr val="663300"/>
                </a:solidFill>
                <a:latin typeface="Arial Black"/>
              </a:rPr>
              <a:t>end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Picture 6" descr="D:\usu\Курсовая\Рисунки\unit2.bmp"/>
          <p:cNvPicPr/>
          <p:nvPr/>
        </p:nvPicPr>
        <p:blipFill>
          <a:blip r:embed="rId1"/>
          <a:stretch/>
        </p:blipFill>
        <p:spPr>
          <a:xfrm>
            <a:off x="3733920" y="1676520"/>
            <a:ext cx="5410080" cy="518148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7"/>
          <p:cNvSpPr/>
          <p:nvPr/>
        </p:nvSpPr>
        <p:spPr>
          <a:xfrm>
            <a:off x="0" y="2438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аш модуль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Unit2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меет вид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Line 8"/>
          <p:cNvSpPr/>
          <p:nvPr/>
        </p:nvSpPr>
        <p:spPr>
          <a:xfrm>
            <a:off x="1143000" y="2895480"/>
            <a:ext cx="29718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304920" y="2971800"/>
            <a:ext cx="3504960" cy="3204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ри  нажатии кнопки </a:t>
            </a:r>
            <a:r>
              <a:rPr b="1" lang="en-US" sz="1700" spc="-1" strike="noStrike">
                <a:solidFill>
                  <a:srgbClr val="ffff00"/>
                </a:solidFill>
                <a:latin typeface="Comic Sans MS"/>
              </a:rPr>
              <a:t>About Form</a:t>
            </a: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ервой формы на экране отображается вторая форма, которая до этого была невидима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Т.к.  из  модуля  </a:t>
            </a:r>
            <a:r>
              <a:rPr b="1" lang="en-US" sz="1700" spc="-1" strike="noStrike">
                <a:solidFill>
                  <a:srgbClr val="ff0033"/>
                </a:solidFill>
                <a:latin typeface="Tahoma"/>
              </a:rPr>
              <a:t>Unit1</a:t>
            </a:r>
            <a:r>
              <a:rPr b="1" lang="ru-RU" sz="1700" spc="-1" strike="noStrike">
                <a:solidFill>
                  <a:srgbClr val="ff0033"/>
                </a:solidFill>
                <a:latin typeface="Tahoma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осуществляется операция со второй формой, то в разделе </a:t>
            </a: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implementation</a:t>
            </a: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модуля</a:t>
            </a:r>
            <a:r>
              <a:rPr b="1" lang="ru-RU" sz="1700" spc="-1" strike="noStrike">
                <a:solidFill>
                  <a:srgbClr val="ff0033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ff0033"/>
                </a:solidFill>
                <a:latin typeface="Tahoma"/>
              </a:rPr>
              <a:t>Unit1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оместим  код </a:t>
            </a: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uses Unit2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Или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File / Use Unit…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1364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12" descr="D:\usu\Курсовая\Рисунки\implementation.bmp"/>
          <p:cNvPicPr/>
          <p:nvPr/>
        </p:nvPicPr>
        <p:blipFill>
          <a:blip r:embed="rId2"/>
          <a:stretch/>
        </p:blipFill>
        <p:spPr>
          <a:xfrm>
            <a:off x="609480" y="6019920"/>
            <a:ext cx="2971800" cy="609480"/>
          </a:xfrm>
          <a:prstGeom prst="rect">
            <a:avLst/>
          </a:prstGeom>
          <a:ln w="0">
            <a:noFill/>
          </a:ln>
        </p:spPr>
      </p:pic>
      <p:sp>
        <p:nvSpPr>
          <p:cNvPr id="5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2T13:29:04Z</dcterms:created>
  <dc:creator>User</dc:creator>
  <dc:description/>
  <dc:language>en-US</dc:language>
  <cp:lastModifiedBy>LEGION</cp:lastModifiedBy>
  <dcterms:modified xsi:type="dcterms:W3CDTF">2015-04-01T07:07:15Z</dcterms:modified>
  <cp:revision>3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4140</vt:lpwstr>
  </property>
</Properties>
</file>