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674-B06D-4688-9D53-5E29D2DE8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21A8-C798-4992-A269-35B8BC486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7E73-985E-4C7C-84F7-7D03D6401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A2C-FEDA-4C4E-8A26-531C7D96D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F551-EB71-4DB1-9205-275ED838F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D5A6-521B-4C57-BD36-D5529AEBE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69FD-29BC-44F9-BF2F-48F13B05EF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ED01-7D92-4028-8D89-68DF392F8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4457-B307-4B45-B143-B2FF936489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9442-6792-4BFA-868A-36BC95074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8B5D-A92C-461D-8349-3D87FAAC1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78CF-A468-4605-9E4D-DBCBB707E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5EE-23DB-4728-9024-876A6B46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0B2-04F8-4E14-A2B9-AC2463E8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F39-4E89-4450-9919-4EFB18F5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BCC-E22E-433C-B003-4755CA27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38F-D384-4598-ABAB-7F878BA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85A-837D-4098-8CDA-F6608AF5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4E3-74A1-42BC-B462-3285731E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265-3754-444E-AD3A-ED7AF769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5BE-D6B8-4CE5-8BA8-B90EF7F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AD7-2C91-4E53-ABC9-08990B1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F46-5C3E-4023-A94B-70F9D3AB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F65-F004-448B-AADD-9FACE578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73b"/>
            </a:gs>
            <a:gs pos="100000">
              <a:srgbClr val="ff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EE39-E1B4-4A64-9051-ED853AD0F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9144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 rot="19020000">
            <a:off x="1680840" y="388584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иния абсолютного 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1828800" y="6172200"/>
            <a:ext cx="3733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881800" y="61326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ния абсолю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 rot="16200000">
            <a:off x="5013360" y="46317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/>
          <p:cNvSpPr/>
          <p:nvPr/>
        </p:nvSpPr>
        <p:spPr>
          <a:xfrm>
            <a:off x="190512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744" y="2252"/>
                  <a:pt x="1488" y="2248"/>
                  <a:pt x="1872" y="1872"/>
                </a:cubicBezTo>
                <a:cubicBezTo>
                  <a:pt x="2256" y="1496"/>
                  <a:pt x="2232" y="312"/>
                  <a:pt x="2304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9"/>
          <p:cNvSpPr/>
          <p:nvPr/>
        </p:nvSpPr>
        <p:spPr>
          <a:xfrm>
            <a:off x="182880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456" y="1940"/>
                  <a:pt x="912" y="1624"/>
                  <a:pt x="1296" y="1248"/>
                </a:cubicBezTo>
                <a:cubicBezTo>
                  <a:pt x="1680" y="872"/>
                  <a:pt x="2136" y="208"/>
                  <a:pt x="2304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24382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к изменилось неравенство в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476" y="2156"/>
                  <a:pt x="952" y="2056"/>
                  <a:pt x="1344" y="1680"/>
                </a:cubicBezTo>
                <a:cubicBezTo>
                  <a:pt x="1736" y="1304"/>
                  <a:pt x="2184" y="280"/>
                  <a:pt x="2352" y="0"/>
                </a:cubicBez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1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716" y="1892"/>
                  <a:pt x="1432" y="1528"/>
                  <a:pt x="1824" y="1152"/>
                </a:cubicBezTo>
                <a:cubicBezTo>
                  <a:pt x="2216" y="776"/>
                  <a:pt x="2264" y="192"/>
                  <a:pt x="2352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362320" y="15238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 изменилось неравенство дохо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066680" y="5791320"/>
            <a:ext cx="0" cy="3045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523880" y="5410080"/>
            <a:ext cx="0" cy="60984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828800" y="5105520"/>
            <a:ext cx="0" cy="8380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3720" y="4800600"/>
            <a:ext cx="0" cy="10666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362320" y="457200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590920" y="43434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5"/>
          <p:cNvSpPr/>
          <p:nvPr/>
        </p:nvSpPr>
        <p:spPr>
          <a:xfrm>
            <a:off x="2819520" y="41148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3048120" y="39625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37339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3505320" y="3505320"/>
            <a:ext cx="0" cy="9903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3733920" y="3276720"/>
            <a:ext cx="0" cy="6858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1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4"/>
          <p:cNvSpPr/>
          <p:nvPr/>
        </p:nvSpPr>
        <p:spPr>
          <a:xfrm>
            <a:off x="3352680" y="4876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2209680" y="5867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 rot="16200000">
            <a:off x="685440" y="2590200"/>
            <a:ext cx="3581640" cy="3733920"/>
          </a:xfrm>
          <a:prstGeom prst="rtTriangle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87692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--------------------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541008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ощадь фигуры О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484960" y="30988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лощадь фигуры О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4267080" y="16365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бсолютное равенство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4343400" y="2666520"/>
            <a:ext cx="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609480" y="6248520"/>
            <a:ext cx="37339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4648320" y="2932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 = 1 =&gt;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бсолютное неравенство доходов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6156360" y="461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5257800" y="42670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Black"/>
              </a:rPr>
              <a:t>0 &lt; G 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49528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0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%</a:t>
            </a: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 &lt; G  &lt; 1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174360" y="5029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4-11-10T12:16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