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03A6-C34B-42EB-96DC-2ABE9CB42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204D-7DF3-444B-8F22-B34DFD74FB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Налогооб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1. Пропорцион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 изменяет нераве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2. Прогрессивное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меньшает нераве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3. Регрессивное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еличивает нераве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87CA-9924-4705-8A7C-A8C4A6368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Благодар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просмотр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C575-96ED-4095-846F-A417621299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Arial Black"/>
              </a:rPr>
              <a:t>Цель:</a:t>
            </a: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Отработка навыков решения задач по 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Arial Black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актуализировать теоретические знания по данной тем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выделить типы задач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разработать алгоритм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A412-30C8-49A6-BB74-E71903C570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графический показатель, характеризующий реальное распределение доходов в условиях рыноч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кривая, каждая точка которой показывает степень отклонения реального распределения доходов от абсолютного раве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F923-A490-4EF8-B28C-877E0E9B86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10F5-2A40-448B-A807-88D9504754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C7B4-036A-49FA-82C5-BC6C305C76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B510-0074-4B6D-9595-1203B040AC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индексный показатель, характеризующий степень неравенства доходов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5990-69C1-4FC2-A3A9-9BF76A218C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5F23-7A9B-4C63-8D65-DC82512AB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ED6E-2A96-442F-A23C-5524A6594A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2E5-4DB0-41AD-926C-4E50C070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667-BD3F-4CB7-999E-A596AED5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C7E-8517-4D43-9745-C79DB9DA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3B4-9BBE-4B7D-B893-5A22425F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5C1-0078-43D2-819F-5AB23C51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F6D-696C-45FD-8AA3-B74E3B1B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8E5-EADB-47DE-A058-B87D453C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BA5-42DD-4263-BBFB-BAF4A184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26E-FB03-4988-BCCD-CA8AD2BC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2B71-0C4F-4DE9-9296-F9E34C8F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D31-5C4D-4667-80BF-7721A4BB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182-6EBC-42EB-BFDA-A6E0D90F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c73b"/>
            </a:gs>
            <a:gs pos="100000">
              <a:srgbClr val="ff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B1CB-369D-496C-9893-05031A7E3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Налогооб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1. Пропорцион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е изменяет нераве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2. Прогрессивное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меньшает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3. Регрессивно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величивает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6"/>
          <p:cNvSpPr/>
          <p:nvPr/>
        </p:nvSpPr>
        <p:spPr>
          <a:xfrm>
            <a:off x="914400" y="1295280"/>
            <a:ext cx="7543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Благодар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з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просмотр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 Black"/>
              </a:rPr>
              <a:t>Цель:</a:t>
            </a:r>
            <a:r>
              <a:rPr b="0" lang="ru-RU" sz="3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тработка навыков решения задач по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 Black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ктуализировать теоретические знания по данной т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ыделить типы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азработать алгоритм решения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графический показатель, характеризующий реальное распределение доходов в условиях рыночной эконом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кривая, каждая точка которой показывает степень отклонения реального распределения доходов от абсолютного рав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 rot="19020000">
            <a:off x="1680840" y="388584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Линия абсолютного 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1828800" y="6172200"/>
            <a:ext cx="37339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881800" y="613260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Линия абсолю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 rot="16200000">
            <a:off x="5013360" y="463176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е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2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572" y="2012"/>
                  <a:pt x="1144" y="1768"/>
                  <a:pt x="1536" y="1392"/>
                </a:cubicBezTo>
                <a:cubicBezTo>
                  <a:pt x="1928" y="1016"/>
                  <a:pt x="2216" y="232"/>
                  <a:pt x="2352" y="0"/>
                </a:cubicBezTo>
              </a:path>
            </a:pathLst>
          </a:cu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66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7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572" y="2012"/>
                  <a:pt x="1144" y="1768"/>
                  <a:pt x="1536" y="1392"/>
                </a:cubicBezTo>
                <a:cubicBezTo>
                  <a:pt x="1928" y="1016"/>
                  <a:pt x="2216" y="232"/>
                  <a:pt x="2352" y="0"/>
                </a:cubicBezTo>
              </a:path>
            </a:pathLst>
          </a:cu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8"/>
          <p:cNvSpPr/>
          <p:nvPr/>
        </p:nvSpPr>
        <p:spPr>
          <a:xfrm>
            <a:off x="1905120" y="2590920"/>
            <a:ext cx="3657600" cy="35812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04" h="2256">
                <a:moveTo>
                  <a:pt x="0" y="2256"/>
                </a:moveTo>
                <a:cubicBezTo>
                  <a:pt x="744" y="2252"/>
                  <a:pt x="1488" y="2248"/>
                  <a:pt x="1872" y="1872"/>
                </a:cubicBezTo>
                <a:cubicBezTo>
                  <a:pt x="2256" y="1496"/>
                  <a:pt x="2232" y="312"/>
                  <a:pt x="2304" y="0"/>
                </a:cubicBez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9"/>
          <p:cNvSpPr/>
          <p:nvPr/>
        </p:nvSpPr>
        <p:spPr>
          <a:xfrm>
            <a:off x="1828800" y="2590920"/>
            <a:ext cx="3657600" cy="35812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04" h="2256">
                <a:moveTo>
                  <a:pt x="0" y="2256"/>
                </a:moveTo>
                <a:cubicBezTo>
                  <a:pt x="456" y="1940"/>
                  <a:pt x="912" y="1624"/>
                  <a:pt x="1296" y="1248"/>
                </a:cubicBezTo>
                <a:cubicBezTo>
                  <a:pt x="1680" y="872"/>
                  <a:pt x="2136" y="208"/>
                  <a:pt x="2304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2438280" y="1523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ак изменилось неравенство в общест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66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0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476" y="2156"/>
                  <a:pt x="952" y="2056"/>
                  <a:pt x="1344" y="1680"/>
                </a:cubicBezTo>
                <a:cubicBezTo>
                  <a:pt x="1736" y="1304"/>
                  <a:pt x="2184" y="280"/>
                  <a:pt x="2352" y="0"/>
                </a:cubicBezTo>
              </a:path>
            </a:pathLst>
          </a:custGeom>
          <a:noFill/>
          <a:ln w="572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1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716" y="1892"/>
                  <a:pt x="1432" y="1528"/>
                  <a:pt x="1824" y="1152"/>
                </a:cubicBezTo>
                <a:cubicBezTo>
                  <a:pt x="2216" y="776"/>
                  <a:pt x="2264" y="192"/>
                  <a:pt x="2352" y="0"/>
                </a:cubicBez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2362320" y="15238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к изменилось неравенство доход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это индексный показатель, характеризующий степень неравенства доходов в общ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 flipV="1">
            <a:off x="609480" y="21337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609480" y="6248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40" y="1676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725720" y="62164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H="1">
            <a:off x="609480" y="26668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4343400" y="26668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404100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30040" y="624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3434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44215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5241960" y="18651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1066680" y="5791320"/>
            <a:ext cx="0" cy="30456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295280" y="5638680"/>
            <a:ext cx="0" cy="457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523880" y="5410080"/>
            <a:ext cx="0" cy="60984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828800" y="5105520"/>
            <a:ext cx="0" cy="83808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2133720" y="4800600"/>
            <a:ext cx="0" cy="106668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>
            <a:off x="2362320" y="457200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2590920" y="4343400"/>
            <a:ext cx="0" cy="12193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5"/>
          <p:cNvSpPr/>
          <p:nvPr/>
        </p:nvSpPr>
        <p:spPr>
          <a:xfrm>
            <a:off x="2819520" y="4114800"/>
            <a:ext cx="0" cy="12193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6"/>
          <p:cNvSpPr/>
          <p:nvPr/>
        </p:nvSpPr>
        <p:spPr>
          <a:xfrm>
            <a:off x="3048120" y="396252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3276720" y="373392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>
            <a:off x="3505320" y="3505320"/>
            <a:ext cx="0" cy="99036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3733920" y="3276720"/>
            <a:ext cx="0" cy="6858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1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2195640" y="582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341496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4"/>
          <p:cNvSpPr/>
          <p:nvPr/>
        </p:nvSpPr>
        <p:spPr>
          <a:xfrm>
            <a:off x="3352680" y="48769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>
            <a:off x="2209680" y="5867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6"/>
          <p:cNvSpPr/>
          <p:nvPr/>
        </p:nvSpPr>
        <p:spPr>
          <a:xfrm rot="16200000">
            <a:off x="685440" y="2590200"/>
            <a:ext cx="3581640" cy="3733920"/>
          </a:xfrm>
          <a:prstGeom prst="rtTriangle">
            <a:avLst/>
          </a:prstGeom>
          <a:solidFill>
            <a:srgbClr val="0080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4876920" y="2743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--------------------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5410080" y="2666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лощадь фигуры ОА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0"/>
          <p:cNvSpPr/>
          <p:nvPr/>
        </p:nvSpPr>
        <p:spPr>
          <a:xfrm>
            <a:off x="548640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1"/>
          <p:cNvSpPr/>
          <p:nvPr/>
        </p:nvSpPr>
        <p:spPr>
          <a:xfrm>
            <a:off x="5484960" y="30988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лощадь фигуры О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 flipV="1">
            <a:off x="609480" y="21337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609480" y="6248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40" y="1676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725720" y="62164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H="1">
            <a:off x="609480" y="26668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343400" y="26668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04100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230040" y="624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3434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4215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5241960" y="18651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2195640" y="582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41496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548640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1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2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3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4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4267080" y="163656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G =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бсолютное равенство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7"/>
          <p:cNvSpPr/>
          <p:nvPr/>
        </p:nvSpPr>
        <p:spPr>
          <a:xfrm flipV="1">
            <a:off x="4343400" y="2666520"/>
            <a:ext cx="0" cy="3581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8"/>
          <p:cNvSpPr/>
          <p:nvPr/>
        </p:nvSpPr>
        <p:spPr>
          <a:xfrm>
            <a:off x="609480" y="6248520"/>
            <a:ext cx="37339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9"/>
          <p:cNvSpPr/>
          <p:nvPr/>
        </p:nvSpPr>
        <p:spPr>
          <a:xfrm>
            <a:off x="4648320" y="2932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 = 1 =&gt;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абсолютное неравенство доходов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0"/>
          <p:cNvSpPr/>
          <p:nvPr/>
        </p:nvSpPr>
        <p:spPr>
          <a:xfrm>
            <a:off x="6156360" y="461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1"/>
          <p:cNvSpPr/>
          <p:nvPr/>
        </p:nvSpPr>
        <p:spPr>
          <a:xfrm>
            <a:off x="5257800" y="426708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 Black"/>
              </a:rPr>
              <a:t>0 &lt; G 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4952880" y="5562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0</a:t>
            </a:r>
            <a:r>
              <a:rPr b="1" lang="ru-RU" sz="2800" spc="-1" strike="noStrike">
                <a:solidFill>
                  <a:srgbClr val="993300"/>
                </a:solidFill>
                <a:latin typeface="Arial Black"/>
              </a:rPr>
              <a:t>%</a:t>
            </a: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 &lt; G  &lt; 1</a:t>
            </a:r>
            <a:r>
              <a:rPr b="1" lang="ru-RU" sz="2800" spc="-1" strike="noStrike">
                <a:solidFill>
                  <a:srgbClr val="993300"/>
                </a:solidFill>
                <a:latin typeface="Arial Black"/>
              </a:rPr>
              <a:t>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6174360" y="50292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4-11-10T12:16:0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