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13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1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B3208-5AD9-4EE7-AB47-ADBCDA1178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" Target="../slides/slide10.xml"/><Relationship Id="rId5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" Target="../slides/slide11.xml"/><Relationship Id="rId5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slide" Target="../slides/slide9.xml"/><Relationship Id="rId8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4059D-FAC1-4570-8D64-F46B8005999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хитектура компьют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Слайд-шо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Главные страниц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ая структура П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системного бл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гистрально-модульное устройство П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нская(системная) пла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ройства долговременной памяти (ПЗУ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ройства ввод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ройства вывод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тевые устрой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ройства вывод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ff"/>
                </a:solidFill>
                <a:latin typeface="Arial"/>
              </a:rPr>
              <a:t>Монитор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стройство для вывода текстовой, числовой и графической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ff"/>
                </a:solidFill>
                <a:latin typeface="Arial"/>
              </a:rPr>
              <a:t>Принте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стройство для вывода на бумагу текстовой, числовой и графической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ff"/>
                </a:solidFill>
                <a:latin typeface="Arial"/>
              </a:rPr>
              <a:t>Акустические колонки и наушник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стройства для вывода зву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15218-264D-4918-BD69-27882A4358C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тевые устрой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Сетевой адапте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устройство для передачи и приёма информации по се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Моде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устройство для передачи, модуляции и демодуляции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Витая пар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устройство для соединения компьютеров в Л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320F3-6FEA-4040-AC24-6FC45C16010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Arial"/>
              </a:rPr>
              <a:t>Ну вот и познакомились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DF423-BA4C-4631-ABD6-650744B677B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Архитектура</a:t>
            </a:r>
            <a:br>
              <a:rPr sz="1200"/>
            </a:b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компьют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17A02-E8E5-4260-B34F-757797387F3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структура П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истемный бл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они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лави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ыш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олонки, науш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инт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кан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620DF-415B-41CC-8E50-3D99F7E193C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руктур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истемног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ло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Процесс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Материнская пла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Оперативная память (ОЗУ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Винчестер (</a:t>
            </a:r>
            <a:r>
              <a:rPr b="0" lang="en-US" sz="1200" spc="-1" strike="noStrike">
                <a:solidFill>
                  <a:srgbClr val="ff0066"/>
                </a:solidFill>
                <a:latin typeface="Arial"/>
              </a:rPr>
              <a:t>HDD</a:t>
            </a: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Видеок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Звуковая к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Блок пит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Дисковод 3,5</a:t>
            </a:r>
            <a:r>
              <a:rPr b="0" lang="en-US" sz="1200" spc="-1" strike="noStrike">
                <a:solidFill>
                  <a:srgbClr val="ff0066"/>
                </a:solidFill>
                <a:latin typeface="Arial"/>
              </a:rPr>
              <a:t>”</a:t>
            </a: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ff0066"/>
                </a:solidFill>
                <a:latin typeface="Arial"/>
              </a:rPr>
              <a:t>FDD</a:t>
            </a: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Дисковод </a:t>
            </a:r>
            <a:r>
              <a:rPr b="0" lang="en-US" sz="1200" spc="-1" strike="noStrike">
                <a:solidFill>
                  <a:srgbClr val="ff0066"/>
                </a:solidFill>
                <a:latin typeface="Arial"/>
              </a:rPr>
              <a:t>CD/DVD-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Сетевая к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Внутренний мод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38563-69D5-457E-9FA8-ECFE2C7D2C8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гистрально-модульное устройство П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Шина данны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шина для передачи данных между различными устройств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Шина адрес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шина для выбора устройства или ячейки памяти, куда пересылаются или откуда считываются данные по шине дан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Шина управлен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шина для передачи сигналов, определяющих характер обмена информацией по магистра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06154-F2A3-4EB6-8108-6580E7E79A7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цесс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00ff"/>
              </a:buClr>
              <a:buFont typeface="Wingdings" charset="2"/>
              <a:buChar char="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ff"/>
                </a:solidFill>
                <a:latin typeface="Arial"/>
              </a:rPr>
              <a:t>Процессор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– устройство, выполняющее обработку данных и управляющее П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Основные характеристики процессор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cc00"/>
                </a:solidFill>
                <a:uFillTx/>
                <a:latin typeface="Arial"/>
              </a:rPr>
              <a:t>Тактовая частот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количество тактов в секун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cc00"/>
                </a:solidFill>
                <a:uFillTx/>
                <a:latin typeface="Arial"/>
              </a:rPr>
              <a:t>Разряд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количество двоичных разрядов, которые могут передаваться или обрабатываться процессором одновремен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cc00"/>
                </a:solidFill>
                <a:uFillTx/>
                <a:latin typeface="Arial"/>
              </a:rPr>
              <a:t>Производитель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скорость выполнения определённых операций в какой-либо программной сред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95EE7-3E3D-4940-9CCE-B6275FBD0C7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теринская(системная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ла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99"/>
                </a:solidFill>
                <a:latin typeface="Arial"/>
              </a:rPr>
              <a:t>Основным аппаратным компонентом компьютера является системная плата. На системной плате реализована магистраль обмена информацией, имеются разъёмы для установки процессора и оперативной памяти, а также слоты для установки контроллеров внешних устрой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D3E7A-F00D-4DC2-BD1D-8C827FB71CF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ройства долговременной памяти (ПЗУ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39AC0-A39D-4C0E-BDEC-717EAF2135A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стройства ввода информ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Клавиатура</a:t>
            </a: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стройство ввода текстовой и числовой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Arial"/>
              </a:rPr>
              <a:t>Графический планшет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– устройство для рисования и ввода рукописного текс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Скане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стройство для преобразования графической информации из аналоговой формы в цифрову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Цифровая камер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стройство для получения фото и видео непосредственно в цифровом форма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Микрофон + звуковая карт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стройство для перевода звука из аналоговой формы в цифрову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Мышь, трекбол, джойсти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анипулято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C153D-89C7-4351-A031-90104F8694C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7B81-56A9-4677-A21B-69A60B90A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8ACE-884F-4A2E-A652-818E8D042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B4F8-2EF5-4BED-B8C2-ECA70BC37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D3FC-093C-464C-BB2F-D7A4AB04D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9E7AE-51F8-4CB2-83D2-47690F3D3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11005-A863-432F-885E-86B435F89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DC96F-5CA6-4F99-BBAA-223BD9A56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72455-7D81-48EA-AFD6-C5E582A5A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F209D-78F6-4834-9E6A-A6D10BBF5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BCB15-9C05-48A3-AA22-2BA4010C0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9EB2F-1290-4A7F-BCEF-F93EF72A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8776-7797-48DE-97E0-119CF4A4F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7D6D8-E576-40F5-8435-38F75BEA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DA6D0-8B0A-49EB-BFD9-8DAF5621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34191-7092-420D-8A8C-C02832FE2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66547-1F51-4485-97FF-6B64FAAD5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E2AA9-E9A6-4382-825E-9FC79D7F5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9089-DFF9-4683-909E-BF6B43DE7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6E2C-9722-4BA1-83D6-D48EBB1D2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C983-4FFC-49D2-A179-59AA3133E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1566-FE71-4036-9CD5-5670C2CD5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DB62-A5DB-4A47-B353-C358CCA8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AB29-7FC5-441F-A657-01790F99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1C85-4BBA-4B05-8639-2DAC81B8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DC3BA-87A9-4DA8-A302-66AFA03E2C4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334C1-0208-4D8F-ABBD-C419F169421F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" Target="slide17.xml"/><Relationship Id="rId4" Type="http://schemas.openxmlformats.org/officeDocument/2006/relationships/slide" Target="slide17.xml"/><Relationship Id="rId5" Type="http://schemas.openxmlformats.org/officeDocument/2006/relationships/slide" Target="slide17.xml"/><Relationship Id="rId6" Type="http://schemas.openxmlformats.org/officeDocument/2006/relationships/slide" Target="slide17.xml"/><Relationship Id="rId7" Type="http://schemas.openxmlformats.org/officeDocument/2006/relationships/slide" Target="slide17.xml"/><Relationship Id="rId8" Type="http://schemas.openxmlformats.org/officeDocument/2006/relationships/slide" Target="slide17.xml"/><Relationship Id="rId9" Type="http://schemas.openxmlformats.org/officeDocument/2006/relationships/slide" Target="slide17.xml"/><Relationship Id="rId10" Type="http://schemas.openxmlformats.org/officeDocument/2006/relationships/slide" Target="slide17.xml"/><Relationship Id="rId11" Type="http://schemas.openxmlformats.org/officeDocument/2006/relationships/slide" Target="slide17.xml"/><Relationship Id="rId12" Type="http://schemas.openxmlformats.org/officeDocument/2006/relationships/image" Target="../media/image2.png"/><Relationship Id="rId13" Type="http://schemas.openxmlformats.org/officeDocument/2006/relationships/slide" Target="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" Target="slide9.xml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3.png"/><Relationship Id="rId3" Type="http://schemas.openxmlformats.org/officeDocument/2006/relationships/slide" Target="slide3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3.png"/><Relationship Id="rId3" Type="http://schemas.openxmlformats.org/officeDocument/2006/relationships/slide" Target="slide4.xml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8.xml"/><Relationship Id="rId3" Type="http://schemas.openxmlformats.org/officeDocument/2006/relationships/image" Target="../media/image3.png"/><Relationship Id="rId4" Type="http://schemas.openxmlformats.org/officeDocument/2006/relationships/slide" Target="slide6.xm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4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" Target="slide8.xml"/><Relationship Id="rId8" Type="http://schemas.openxmlformats.org/officeDocument/2006/relationships/image" Target="../media/image4.png"/><Relationship Id="rId9" Type="http://schemas.openxmlformats.org/officeDocument/2006/relationships/slide" Target="slide10.xml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Архитектура компьютер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cc"/>
                </a:solidFill>
                <a:uFillTx/>
                <a:latin typeface="Arial"/>
                <a:hlinkClick r:id="rId2" action="ppaction://hlinksldjump"/>
              </a:rPr>
              <a:t>Слайд-шо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Главные страниц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3" action="ppaction://hlinksldjump"/>
              </a:rPr>
              <a:t>Основная структура П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4" action="ppaction://hlinksldjump"/>
              </a:rPr>
              <a:t>Структура системного бло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5" action="ppaction://hlinksldjump"/>
              </a:rPr>
              <a:t>Магистрально-модульное устройство П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6" action="ppaction://hlinksldjump"/>
              </a:rPr>
              <a:t>Процесс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7" action="ppaction://hlinksldjump"/>
              </a:rPr>
              <a:t>Материнская(системная) пла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8" action="ppaction://hlinksldjump"/>
              </a:rPr>
              <a:t>Устройства долговременной памяти (ПЗУ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9" action="ppaction://hlinksldjump"/>
              </a:rPr>
              <a:t>Устройства ввода информ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0" action="ppaction://hlinksldjump"/>
              </a:rPr>
              <a:t>Устройства вывода информ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1" action="ppaction://hlinksldjump"/>
              </a:rPr>
              <a:t>Сетевые устрой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16" descr="BD21377_"/>
          <p:cNvPicPr/>
          <p:nvPr/>
        </p:nvPicPr>
        <p:blipFill>
          <a:blip r:embed="rId12"/>
          <a:stretch/>
        </p:blipFill>
        <p:spPr>
          <a:xfrm>
            <a:off x="7867800" y="491796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7" descr="BD21377_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9029880" y="6743880"/>
            <a:ext cx="114120" cy="11412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Устройства вывода информаци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ff"/>
                </a:solidFill>
                <a:latin typeface="Arial"/>
              </a:rPr>
              <a:t>Монитор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устройство для вывода текстовой, числовой и графической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ff"/>
                </a:solidFill>
                <a:latin typeface="Arial"/>
              </a:rPr>
              <a:t>Принтер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устройство для вывода на бумагу текстовой, числовой и графической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ff"/>
                </a:solidFill>
                <a:latin typeface="Arial"/>
              </a:rPr>
              <a:t>Акустические колонки и наушник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устройства для вывода зву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4" descr="BD21298_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BD21298_"/>
          <p:cNvPicPr/>
          <p:nvPr/>
        </p:nvPicPr>
        <p:blipFill>
          <a:blip r:embed="rId6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7000">
    <p:wheel spokes="8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3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3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Сетевые устройства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66"/>
                </a:solidFill>
                <a:uFillTx/>
                <a:latin typeface="Arial"/>
              </a:rPr>
              <a:t>Сетевой адаптер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устройство для передачи и приёма информации по се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66"/>
                </a:solidFill>
                <a:uFillTx/>
                <a:latin typeface="Arial"/>
              </a:rPr>
              <a:t>Модем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устройство для передачи, модуляции и демодуляции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66"/>
                </a:solidFill>
                <a:uFillTx/>
                <a:latin typeface="Arial"/>
              </a:rPr>
              <a:t>Витая пар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устройство для соединения компьютеров в Л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4" descr="BD21298_"/>
          <p:cNvPicPr/>
          <p:nvPr/>
        </p:nvPicPr>
        <p:blipFill>
          <a:blip r:embed="rId4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BD21298_"/>
          <p:cNvPicPr/>
          <p:nvPr/>
        </p:nvPicPr>
        <p:blipFill>
          <a:blip r:embed="rId5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6000">
    <p:wheel spokes="8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3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3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3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3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3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8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3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3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3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5" descr="j0195384"/>
          <p:cNvPicPr/>
          <p:nvPr/>
        </p:nvPicPr>
        <p:blipFill>
          <a:blip r:embed="rId1"/>
          <a:stretch/>
        </p:blipFill>
        <p:spPr>
          <a:xfrm>
            <a:off x="1403280" y="189000"/>
            <a:ext cx="6531120" cy="6669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5280" y="2205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ff"/>
                </a:solidFill>
                <a:latin typeface="Arial"/>
              </a:rPr>
              <a:t>Ну вот и познакомились!!!</a:t>
            </a:r>
            <a:endParaRPr b="0" lang="en-US" sz="7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8" descr="j0292982"/>
          <p:cNvPicPr/>
          <p:nvPr/>
        </p:nvPicPr>
        <p:blipFill>
          <a:blip r:embed="rId1"/>
          <a:stretch/>
        </p:blipFill>
        <p:spPr>
          <a:xfrm>
            <a:off x="755640" y="333360"/>
            <a:ext cx="3745080" cy="3697200"/>
          </a:xfrm>
          <a:prstGeom prst="rect">
            <a:avLst/>
          </a:prstGeom>
          <a:ln w="0">
            <a:noFill/>
          </a:ln>
        </p:spPr>
      </p:pic>
      <p:sp>
        <p:nvSpPr>
          <p:cNvPr id="169" name="WordArt 5"/>
          <p:cNvSpPr txBox="1"/>
          <p:nvPr/>
        </p:nvSpPr>
        <p:spPr>
          <a:xfrm>
            <a:off x="3924360" y="2997360"/>
            <a:ext cx="482436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THE END</a:t>
            </a:r>
            <a:endParaRPr b="0" lang="en-US" sz="72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WordArt 6"/>
          <p:cNvSpPr txBox="1"/>
          <p:nvPr/>
        </p:nvSpPr>
        <p:spPr>
          <a:xfrm>
            <a:off x="826920" y="1413000"/>
            <a:ext cx="76107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езентацию выполнил :</a:t>
            </a:r>
            <a:endParaRPr b="0" i="1" lang="en-US" sz="7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2" name="WordArt 7"/>
          <p:cNvSpPr txBox="1"/>
          <p:nvPr/>
        </p:nvSpPr>
        <p:spPr>
          <a:xfrm>
            <a:off x="2050920" y="3068640"/>
            <a:ext cx="491328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ражкин А. В.</a:t>
            </a:r>
            <a:endParaRPr b="1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4"/>
          <p:cNvSpPr txBox="1"/>
          <p:nvPr/>
        </p:nvSpPr>
        <p:spPr>
          <a:xfrm>
            <a:off x="395280" y="333360"/>
            <a:ext cx="446400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Слайд-шоу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75" name="WordArt 5"/>
          <p:cNvSpPr txBox="1"/>
          <p:nvPr/>
        </p:nvSpPr>
        <p:spPr>
          <a:xfrm>
            <a:off x="1835280" y="2060640"/>
            <a:ext cx="48258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разработано  в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76" name="WordArt 6"/>
          <p:cNvSpPr txBox="1"/>
          <p:nvPr/>
        </p:nvSpPr>
        <p:spPr>
          <a:xfrm>
            <a:off x="2411280" y="3933720"/>
            <a:ext cx="6607440" cy="24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icrosoft  PowerPoint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6" descr="Рисунок1"/>
          <p:cNvPicPr/>
          <p:nvPr/>
        </p:nvPicPr>
        <p:blipFill>
          <a:blip r:embed="rId1"/>
          <a:stretch/>
        </p:blipFill>
        <p:spPr>
          <a:xfrm>
            <a:off x="4284720" y="3554280"/>
            <a:ext cx="4572000" cy="3303720"/>
          </a:xfrm>
          <a:prstGeom prst="rect">
            <a:avLst/>
          </a:prstGeom>
          <a:ln w="0">
            <a:noFill/>
          </a:ln>
        </p:spPr>
      </p:pic>
      <p:sp>
        <p:nvSpPr>
          <p:cNvPr id="179" name="WordArt 4"/>
          <p:cNvSpPr txBox="1"/>
          <p:nvPr/>
        </p:nvSpPr>
        <p:spPr>
          <a:xfrm>
            <a:off x="755640" y="620640"/>
            <a:ext cx="7704000" cy="2881440"/>
          </a:xfrm>
          <a:prstGeom prst="rect">
            <a:avLst/>
          </a:prstGeom>
        </p:spPr>
        <p:txBody>
          <a:bodyPr wrap="none" lIns="90000" rIns="90000" tIns="46800" bIns="46800" anchor="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 п а с и б о  з а  п р о с м о т р  !</a:t>
            </a:r>
            <a:endParaRPr b="0" lang="en-US" sz="7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0" name="Picture 16" descr="j0293240"/>
          <p:cNvPicPr/>
          <p:nvPr/>
        </p:nvPicPr>
        <p:blipFill>
          <a:blip r:embed="rId2"/>
          <a:stretch/>
        </p:blipFill>
        <p:spPr>
          <a:xfrm>
            <a:off x="395280" y="6381720"/>
            <a:ext cx="504720" cy="37296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17"/>
          <p:cNvSpPr/>
          <p:nvPr/>
        </p:nvSpPr>
        <p:spPr>
          <a:xfrm>
            <a:off x="179280" y="6643800"/>
            <a:ext cx="945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0066"/>
                </a:solidFill>
                <a:latin typeface="Arial"/>
              </a:rPr>
              <a:t>Смотреть снова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21" descr="BD14579_"/>
          <p:cNvPicPr/>
          <p:nvPr/>
        </p:nvPicPr>
        <p:blipFill>
          <a:blip r:embed="rId3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22"/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2421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ff"/>
                </a:solidFill>
                <a:latin typeface="Arial"/>
              </a:rPr>
              <a:t>Архитектура</a:t>
            </a:r>
            <a:br>
              <a:rPr sz="9600"/>
            </a:br>
            <a:r>
              <a:rPr b="0" lang="ru-RU" sz="9600" spc="-1" strike="noStrike">
                <a:solidFill>
                  <a:srgbClr val="0000ff"/>
                </a:solidFill>
                <a:latin typeface="Arial"/>
              </a:rPr>
              <a:t>компьютера</a:t>
            </a:r>
            <a:endParaRPr b="0" lang="en-US" sz="9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Основная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структура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ПК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Системный бл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Монит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Клавиату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Мыш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Колонки, наушн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ринт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Скан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20" descr="BD21298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1" descr="BD21298_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2" descr="j0205582"/>
          <p:cNvPicPr/>
          <p:nvPr/>
        </p:nvPicPr>
        <p:blipFill>
          <a:blip r:embed="rId5"/>
          <a:stretch/>
        </p:blipFill>
        <p:spPr>
          <a:xfrm>
            <a:off x="4788000" y="2852640"/>
            <a:ext cx="4176720" cy="383400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Group 5"/>
          <p:cNvGrpSpPr/>
          <p:nvPr/>
        </p:nvGrpSpPr>
        <p:grpSpPr>
          <a:xfrm>
            <a:off x="4211640" y="2349360"/>
            <a:ext cx="4257720" cy="3629160"/>
            <a:chOff x="4211640" y="2349360"/>
            <a:chExt cx="4257720" cy="3629160"/>
          </a:xfrm>
        </p:grpSpPr>
        <p:sp>
          <p:nvSpPr>
            <p:cNvPr id="119" name="Gear"/>
            <p:cNvSpPr/>
            <p:nvPr/>
          </p:nvSpPr>
          <p:spPr>
            <a:xfrm>
              <a:off x="6572160" y="2349360"/>
              <a:ext cx="1897200" cy="1663920"/>
            </a:xfrm>
            <a:custGeom>
              <a:avLst/>
              <a:gdLst>
                <a:gd name="textAreaLeft" fmla="*/ 384120 w 1897200"/>
                <a:gd name="textAreaRight" fmla="*/ 1567080 w 1897200"/>
                <a:gd name="textAreaTop" fmla="*/ 304560 h 1663920"/>
                <a:gd name="textAreaBottom" fmla="*/ 1359360 h 1663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AutoShape 7"/>
            <p:cNvSpPr/>
            <p:nvPr/>
          </p:nvSpPr>
          <p:spPr>
            <a:xfrm>
              <a:off x="4211640" y="3035160"/>
              <a:ext cx="2268360" cy="1989360"/>
            </a:xfrm>
            <a:custGeom>
              <a:avLst/>
              <a:gdLst>
                <a:gd name="textAreaLeft" fmla="*/ 458640 w 2268360"/>
                <a:gd name="textAreaRight" fmla="*/ 1873080 w 2268360"/>
                <a:gd name="textAreaTop" fmla="*/ 365040 h 1989360"/>
                <a:gd name="textAreaBottom" fmla="*/ 1624320 h 198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AutoShape 8"/>
            <p:cNvSpPr/>
            <p:nvPr/>
          </p:nvSpPr>
          <p:spPr>
            <a:xfrm>
              <a:off x="5682960" y="3768840"/>
              <a:ext cx="2521080" cy="2209680"/>
            </a:xfrm>
            <a:custGeom>
              <a:avLst/>
              <a:gdLst>
                <a:gd name="textAreaLeft" fmla="*/ 511200 w 2521080"/>
                <a:gd name="textAreaRight" fmla="*/ 2082960 w 2521080"/>
                <a:gd name="textAreaTop" fmla="*/ 404640 h 2209680"/>
                <a:gd name="textAreaBottom" fmla="*/ 1803600 h 220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Структура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системного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блока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Процесс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Материнская пла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Оперативная память (ОЗУ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инчестер (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HDD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идеока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Звуковая ка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Блок пит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Дисковод 3,5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”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FDD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Дисковод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CD/DVD-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Сетевая ка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нутренний мод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11" descr="BD21298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2" descr="BD21298_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2000">
    <p:checker dir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70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76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7400"/>
                            </p:stCondLst>
                            <p:childTnLst>
                              <p:par>
                                <p:cTn id="82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9700"/>
                            </p:stCondLst>
                            <p:childTnLst>
                              <p:par>
                                <p:cTn id="88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1600"/>
                            </p:stCondLst>
                            <p:childTnLst>
                              <p:par>
                                <p:cTn id="94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3800"/>
                            </p:stCondLst>
                            <p:childTnLst>
                              <p:par>
                                <p:cTn id="100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5800"/>
                            </p:stCondLst>
                            <p:childTnLst>
                              <p:par>
                                <p:cTn id="106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8400"/>
                            </p:stCondLst>
                            <p:childTnLst>
                              <p:par>
                                <p:cTn id="112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1100"/>
                            </p:stCondLst>
                            <p:childTnLst>
                              <p:par>
                                <p:cTn id="118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3200"/>
                            </p:stCondLst>
                            <p:childTnLst>
                              <p:par>
                                <p:cTn id="124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Магистрально-модульное устройство ПК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66"/>
                </a:solidFill>
                <a:uFillTx/>
                <a:latin typeface="Arial"/>
              </a:rPr>
              <a:t>Шина данных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 шина для передачи данных между различными устройств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66"/>
                </a:solidFill>
                <a:uFillTx/>
                <a:latin typeface="Arial"/>
              </a:rPr>
              <a:t>Шина адрес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 шина для выбора устройства или ячейки памяти, куда пересылаются или откуда считываются данные по шине данны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66"/>
                </a:solidFill>
                <a:uFillTx/>
                <a:latin typeface="Arial"/>
              </a:rPr>
              <a:t>Шина управлен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 шина для передачи сигналов, определяющих характер обмена информацией по магистра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9" descr="BD21298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BD21298_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2" descr="Безымянный"/>
          <p:cNvPicPr/>
          <p:nvPr/>
        </p:nvPicPr>
        <p:blipFill>
          <a:blip r:embed="rId5"/>
          <a:stretch/>
        </p:blipFill>
        <p:spPr>
          <a:xfrm>
            <a:off x="1116000" y="692280"/>
            <a:ext cx="6993000" cy="316224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3000">
    <p:strips dir="rd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15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905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045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Процессор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ff"/>
                </a:solidFill>
                <a:latin typeface="Arial"/>
              </a:rPr>
              <a:t>Процессор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– устройство, выполняющее обработку данных и управляющее П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Основные характеристики процессор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cc00"/>
                </a:solidFill>
                <a:uFillTx/>
                <a:latin typeface="Arial"/>
              </a:rPr>
              <a:t>Тактовая частот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количество тактов в секунд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cc00"/>
                </a:solidFill>
                <a:uFillTx/>
                <a:latin typeface="Arial"/>
              </a:rPr>
              <a:t>Разрядност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количество двоичных разрядов, которые могут передаваться или обрабатываться процессором одновремен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cc00"/>
                </a:solidFill>
                <a:uFillTx/>
                <a:latin typeface="Arial"/>
              </a:rPr>
              <a:t>Производительност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скорость выполнения определённых операций в какой-либо программной сред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982" descr="Безымянный456"/>
          <p:cNvPicPr/>
          <p:nvPr/>
        </p:nvPicPr>
        <p:blipFill>
          <a:blip r:embed="rId1"/>
          <a:stretch/>
        </p:blipFill>
        <p:spPr>
          <a:xfrm>
            <a:off x="324000" y="4149720"/>
            <a:ext cx="8496000" cy="2104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83" descr="BD21298_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84" descr="BD21298_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0">
    <p:pull dir="d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440"/>
                            </p:stCondLst>
                            <p:childTnLst>
                              <p:par>
                                <p:cTn id="15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8540"/>
                            </p:stCondLst>
                            <p:childTnLst>
                              <p:par>
                                <p:cTn id="16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2740"/>
                            </p:stCondLst>
                            <p:childTnLst>
                              <p:par>
                                <p:cTn id="16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7740"/>
                            </p:stCondLst>
                            <p:childTnLst>
                              <p:par>
                                <p:cTn id="17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9040"/>
                            </p:stCondLst>
                            <p:childTnLst>
                              <p:par>
                                <p:cTn id="18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-3164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Материнская(системная)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плата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18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Основным аппаратным компонентом компьютера является системная плата. На системной плате реализована магистраль обмена информацией, имеются разъёмы для установки процессора и оперативной памяти, а также слоты для установки контроллеров внешних устройст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13" descr="БезымянныйРПСОЛПОПН"/>
          <p:cNvPicPr/>
          <p:nvPr/>
        </p:nvPicPr>
        <p:blipFill>
          <a:blip r:embed="rId1"/>
          <a:stretch/>
        </p:blipFill>
        <p:spPr>
          <a:xfrm>
            <a:off x="1116000" y="2637000"/>
            <a:ext cx="6551640" cy="40179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BD21298_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5" descr="BD21298_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0"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Устройства долговременной памяти (ПЗУ)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6" name="Picture 154" descr="BD21298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55" descr="BD21298_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8" name=""/>
          <p:cNvGraphicFramePr/>
          <p:nvPr/>
        </p:nvGraphicFramePr>
        <p:xfrm>
          <a:off x="468360" y="1557360"/>
          <a:ext cx="8229600" cy="4173480"/>
        </p:xfrm>
        <a:graphic>
          <a:graphicData uri="http://schemas.openxmlformats.org/drawingml/2006/table">
            <a:tbl>
              <a:tblPr/>
              <a:tblGrid>
                <a:gridCol w="2301840"/>
                <a:gridCol w="2317680"/>
                <a:gridCol w="3610080"/>
              </a:tblGrid>
              <a:tr h="7174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Наименование устрой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Информационная ёмко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Опасн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воздейств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6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FD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1,4 М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Магнитные поля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         </a:t>
                      </a: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высокая температу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02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HD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500 Г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Удары при установк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                 </a:t>
                      </a: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и эксплуат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843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CD-R/RW дис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700 М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Царапины; загрязнене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858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DVD-R/RW дис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8,5 Г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Царапины; загрязнене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840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Flash-памя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8 Г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Неправильное отключ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-171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Устройства ввода информаци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Клавиатура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устройство ввода текстовой и числовой информ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Графический планшет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– устройство для рисования и ввода рукописного текс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Скане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устройство для преобразования графической информации из аналоговой формы в цифрову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Цифровая камер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устройство для получения фото и видео непосредственно в цифровом формат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Микрофон + звуковая карт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устройство для перевода звука из аналоговой формы в цифрову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Мышь, трекбол, джойстик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манипулято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9" descr="BD21298_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BD21298_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0000">
    <p:fad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3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3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3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3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3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1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3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3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3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3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3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3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3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3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11:03:31Z</dcterms:created>
  <dc:creator>Александр</dc:creator>
  <dc:description/>
  <dc:language>en-US</dc:language>
  <cp:lastModifiedBy>LEGION</cp:lastModifiedBy>
  <dcterms:modified xsi:type="dcterms:W3CDTF">2015-04-01T07:19:53Z</dcterms:modified>
  <cp:revision>8</cp:revision>
  <dc:subject/>
  <dc:title>Архитектура компьютера</dc:title>
</cp:coreProperties>
</file>