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0E2E-468E-4CA2-A489-A80E7856FA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" Target="../slides/slide10.xml"/><Relationship Id="rId5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" Target="../slides/slide11.xml"/><Relationship Id="rId5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" Target="../slides/slide9.xml"/><Relationship Id="rId8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81C5-05A5-4472-8502-4498B199BC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хитектура компьют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Слайд-ш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Главные страниц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ая структура 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истемного бл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гистрально-модульное устройство 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нская(системная) пл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долговременной памяти (П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ввод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вывод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ые устро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вывод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а для вывода зву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EA81-30CE-4527-A277-122136EA2A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ые устро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4B7F-5DFA-447E-A116-A20561A241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Ну вот и познакомились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3747-DEF0-4720-8C4B-BFEE6A85D8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мпьют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D774-EC0F-42C7-BE6D-82298BA21C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структура 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они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лонки, науш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кан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BCB4-0E12-44F3-B4C3-18557CBCCE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ног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A2E6-BF3A-4D14-B29E-041DF7179F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истрально-модульное устройство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C1D0-12F6-4F99-ADAC-399D2DA56C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личество тактов в секун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A3CC-2454-4F07-8F4B-F3EAE42DFA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еринская(системная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Основным аппаратным компонентом компьютера является системная плата. На системной плате реализована магистраль обмена информацией, имеются разъёмы для установки процессора и оперативной памяти, а также слоты для установки контроллеров внешних устрой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17EC-3DDB-4704-BE08-6C888D3820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долговременной памяти (П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72A5-65FB-4A67-BCA3-EB1B675CBE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ройства ввода 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нипуля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C419-AA6A-4EE4-9EEE-7DA12A2D68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E17B-6273-489D-9569-B81CADD9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85F0-D90F-4C56-BF3C-C40AC7BE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BFC2-486B-49F3-9A6E-50F03011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211B-DD20-47D9-BF75-5FA7E257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FB71-0D4A-4929-9618-21F4AD70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6917-03EA-4207-985F-8C1B65DB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828F-983B-4E1B-B4CA-C202EDA6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8038-83DB-4B41-AE55-D32D42A7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F543-E8BA-43FB-BF7B-6703334D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06CE-545C-4AAD-84E9-8C843416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EECE-0534-48D3-9A78-A276C0AD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4388-238D-4B59-B3E3-FAED0D54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5B45-465A-4670-BDB6-EA1CF7DC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C7A1-ADDF-4CDF-AE62-4844D8AE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FC70-5B19-4860-9F15-C9451968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19F7-9CFA-484E-9FC1-FB86EADD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EBBE-D8B8-43EC-B848-85A10A8F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8AC5-73DD-4255-9883-7510E4EB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7D62-3E22-460C-B6BF-B9D519E2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8EE-AFB2-4760-83E1-912F253E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8D79-D5AB-4254-8FE3-BEAB56FE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982C-35D8-40E7-9EBB-7B617821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D325-CA30-4F3A-BFB1-930B9C89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8A13-4773-410B-96E8-DCC734DB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5963-53F0-4CCF-96F6-9CF9F7E0AAF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2A68-8B22-4F4A-AA2C-215E1A7A64B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17.xml"/><Relationship Id="rId12" Type="http://schemas.openxmlformats.org/officeDocument/2006/relationships/image" Target="../media/image2.png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9.xml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8.xml"/><Relationship Id="rId8" Type="http://schemas.openxmlformats.org/officeDocument/2006/relationships/image" Target="../media/image4.png"/><Relationship Id="rId9" Type="http://schemas.openxmlformats.org/officeDocument/2006/relationships/slide" Target="slide10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Архитектура компьюте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Слайд-ш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Главные страниц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Основная структура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Структура системного бл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Магистрально-модульное устройство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Процесс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Материнская(системная) пл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Устройства долговременной памяти (ПЗ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Устройства в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Устройства вы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Сетевые у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6" descr="BD21377_"/>
          <p:cNvPicPr/>
          <p:nvPr/>
        </p:nvPicPr>
        <p:blipFill>
          <a:blip r:embed="rId12"/>
          <a:stretch/>
        </p:blipFill>
        <p:spPr>
          <a:xfrm>
            <a:off x="7867800" y="49179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BD21377_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9029880" y="674388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BD21298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BD21298_"/>
          <p:cNvPicPr/>
          <p:nvPr/>
        </p:nvPicPr>
        <p:blipFill>
          <a:blip r:embed="rId6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7000">
    <p:wheel spokes="8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BD21298_"/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BD21298_"/>
          <p:cNvPicPr/>
          <p:nvPr/>
        </p:nvPicPr>
        <p:blipFill>
          <a:blip r:embed="rId5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j0195384"/>
          <p:cNvPicPr/>
          <p:nvPr/>
        </p:nvPicPr>
        <p:blipFill>
          <a:blip r:embed="rId1"/>
          <a:stretch/>
        </p:blipFill>
        <p:spPr>
          <a:xfrm>
            <a:off x="1403280" y="189000"/>
            <a:ext cx="6531120" cy="6669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ff"/>
                </a:solidFill>
                <a:latin typeface="Arial"/>
              </a:rPr>
              <a:t>Ну вот и познакомились!!!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j0292982"/>
          <p:cNvPicPr/>
          <p:nvPr/>
        </p:nvPicPr>
        <p:blipFill>
          <a:blip r:embed="rId1"/>
          <a:stretch/>
        </p:blipFill>
        <p:spPr>
          <a:xfrm>
            <a:off x="755640" y="333360"/>
            <a:ext cx="3745080" cy="3697200"/>
          </a:xfrm>
          <a:prstGeom prst="rect">
            <a:avLst/>
          </a:prstGeom>
          <a:ln w="0">
            <a:noFill/>
          </a:ln>
        </p:spPr>
      </p:pic>
      <p:sp>
        <p:nvSpPr>
          <p:cNvPr id="169" name="WordArt 5"/>
          <p:cNvSpPr txBox="1"/>
          <p:nvPr/>
        </p:nvSpPr>
        <p:spPr>
          <a:xfrm>
            <a:off x="3924360" y="2997360"/>
            <a:ext cx="482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END</a:t>
            </a:r>
            <a:endParaRPr b="0" lang="en-US" sz="7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6"/>
          <p:cNvSpPr txBox="1"/>
          <p:nvPr/>
        </p:nvSpPr>
        <p:spPr>
          <a:xfrm>
            <a:off x="826920" y="1413000"/>
            <a:ext cx="761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ю выполнил :</a:t>
            </a:r>
            <a:endParaRPr b="0" i="1" lang="en-US" sz="7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WordArt 7"/>
          <p:cNvSpPr txBox="1"/>
          <p:nvPr/>
        </p:nvSpPr>
        <p:spPr>
          <a:xfrm>
            <a:off x="2050920" y="3068640"/>
            <a:ext cx="4913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ражкин А. В.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395280" y="333360"/>
            <a:ext cx="446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Слайд-шоу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1835280" y="2060640"/>
            <a:ext cx="4825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разработано  в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2411280" y="3933720"/>
            <a:ext cx="660744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crosoft  PowerPoint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Рисунок1"/>
          <p:cNvPicPr/>
          <p:nvPr/>
        </p:nvPicPr>
        <p:blipFill>
          <a:blip r:embed="rId1"/>
          <a:stretch/>
        </p:blipFill>
        <p:spPr>
          <a:xfrm>
            <a:off x="4284720" y="3554280"/>
            <a:ext cx="4572000" cy="3303720"/>
          </a:xfrm>
          <a:prstGeom prst="rect">
            <a:avLst/>
          </a:prstGeom>
          <a:ln w="0">
            <a:noFill/>
          </a:ln>
        </p:spPr>
      </p:pic>
      <p:sp>
        <p:nvSpPr>
          <p:cNvPr id="179" name="WordArt 4"/>
          <p:cNvSpPr txBox="1"/>
          <p:nvPr/>
        </p:nvSpPr>
        <p:spPr>
          <a:xfrm>
            <a:off x="755640" y="620640"/>
            <a:ext cx="7704000" cy="288144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п а с и б о  з а  п р о с м о т р  !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16" descr="j0293240"/>
          <p:cNvPicPr/>
          <p:nvPr/>
        </p:nvPicPr>
        <p:blipFill>
          <a:blip r:embed="rId2"/>
          <a:stretch/>
        </p:blipFill>
        <p:spPr>
          <a:xfrm>
            <a:off x="395280" y="6381720"/>
            <a:ext cx="504720" cy="3729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7"/>
          <p:cNvSpPr/>
          <p:nvPr/>
        </p:nvSpPr>
        <p:spPr>
          <a:xfrm>
            <a:off x="179280" y="664380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66"/>
                </a:solidFill>
                <a:latin typeface="Arial"/>
              </a:rPr>
              <a:t>Смотреть снов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1" descr="BD14579_"/>
          <p:cNvPicPr/>
          <p:nvPr/>
        </p:nvPicPr>
        <p:blipFill>
          <a:blip r:embed="rId3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22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br>
              <a:rPr sz="9600"/>
            </a:br>
            <a:r>
              <a:rPr b="0" lang="ru-RU" sz="9600" spc="-1" strike="noStrike">
                <a:solidFill>
                  <a:srgbClr val="0000ff"/>
                </a:solidFill>
                <a:latin typeface="Arial"/>
              </a:rPr>
              <a:t>компьютера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0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j0205582"/>
          <p:cNvPicPr/>
          <p:nvPr/>
        </p:nvPicPr>
        <p:blipFill>
          <a:blip r:embed="rId5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5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19" name="Gear"/>
            <p:cNvSpPr/>
            <p:nvPr/>
          </p:nvSpPr>
          <p:spPr>
            <a:xfrm>
              <a:off x="6572160" y="2349360"/>
              <a:ext cx="1897200" cy="1663920"/>
            </a:xfrm>
            <a:custGeom>
              <a:avLst/>
              <a:gdLst>
                <a:gd name="textAreaLeft" fmla="*/ 384120 w 1897200"/>
                <a:gd name="textAreaRight" fmla="*/ 1567080 w 1897200"/>
                <a:gd name="textAreaTop" fmla="*/ 304560 h 1663920"/>
                <a:gd name="textAreaBottom" fmla="*/ 1359360 h 166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>
              <a:off x="4211640" y="3035160"/>
              <a:ext cx="2268360" cy="1989360"/>
            </a:xfrm>
            <a:custGeom>
              <a:avLst/>
              <a:gdLst>
                <a:gd name="textAreaLeft" fmla="*/ 458640 w 2268360"/>
                <a:gd name="textAreaRight" fmla="*/ 1873080 w 2268360"/>
                <a:gd name="textAreaTop" fmla="*/ 365040 h 1989360"/>
                <a:gd name="textAreaBottom" fmla="*/ 1624320 h 198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utoShape 8"/>
            <p:cNvSpPr/>
            <p:nvPr/>
          </p:nvSpPr>
          <p:spPr>
            <a:xfrm>
              <a:off x="5682960" y="3768840"/>
              <a:ext cx="2521080" cy="2209680"/>
            </a:xfrm>
            <a:custGeom>
              <a:avLst/>
              <a:gdLst>
                <a:gd name="textAreaLeft" fmla="*/ 511200 w 2521080"/>
                <a:gd name="textAreaRight" fmla="*/ 2082960 w 2521080"/>
                <a:gd name="textAreaTop" fmla="*/ 404640 h 2209680"/>
                <a:gd name="textAreaBottom" fmla="*/ 180360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1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2000"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32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9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Безымянный"/>
          <p:cNvPicPr/>
          <p:nvPr/>
        </p:nvPicPr>
        <p:blipFill>
          <a:blip r:embed="rId5"/>
          <a:stretch/>
        </p:blipFill>
        <p:spPr>
          <a:xfrm>
            <a:off x="1116000" y="692280"/>
            <a:ext cx="6993000" cy="31622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3000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45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982" descr="Безымянный456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83" descr="BD21298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84" descr="BD21298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0">
    <p:pull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54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740"/>
                            </p:stCondLst>
                            <p:childTnLst>
                              <p:par>
                                <p:cTn id="1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774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904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Материнская(системная)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лат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сновным аппаратным компонентом компьютера является системная плата. На системной плате реализована магистраль обмена информацией, имеются разъёмы для установки процессора и оперативной памяти, а также слоты для установки контроллеров внешних устрой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3" descr="БезымянныйРПСОЛПОПН"/>
          <p:cNvPicPr/>
          <p:nvPr/>
        </p:nvPicPr>
        <p:blipFill>
          <a:blip r:embed="rId1"/>
          <a:stretch/>
        </p:blipFill>
        <p:spPr>
          <a:xfrm>
            <a:off x="1116000" y="2637000"/>
            <a:ext cx="6551640" cy="401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BD21298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BD21298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6" name="Picture 154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5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468360" y="1557360"/>
          <a:ext cx="8229600" cy="4173480"/>
        </p:xfrm>
        <a:graphic>
          <a:graphicData uri="http://schemas.openxmlformats.org/drawingml/2006/table">
            <a:tbl>
              <a:tblPr/>
              <a:tblGrid>
                <a:gridCol w="2301840"/>
                <a:gridCol w="2317680"/>
                <a:gridCol w="3610080"/>
              </a:tblGrid>
              <a:tr h="7174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аименование 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нформационная 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6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Магнитные пол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0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H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Удары при установ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        </a:t>
                      </a: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C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58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DV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0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lash-памя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9" descr="BD21298_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BD21298_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1:03:31Z</dcterms:created>
  <dc:creator>Александр</dc:creator>
  <dc:description/>
  <dc:language>en-US</dc:language>
  <cp:lastModifiedBy>LEGION</cp:lastModifiedBy>
  <dcterms:modified xsi:type="dcterms:W3CDTF">2015-04-01T07:19:53Z</dcterms:modified>
  <cp:revision>8</cp:revision>
  <dc:subject/>
  <dc:title>Архитектура компьютера</dc:title>
</cp:coreProperties>
</file>