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2F10-67A7-4565-8A7D-5D8328D70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57EC-B5A7-4CFD-A265-BB7E5357C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ерская программа «Бизнес-информа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2150-CC68-442C-B169-6D3311D7D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правление жизненным циклом информационных сист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FDD6-2DB1-46EC-BFCC-6A7311CEC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19B2-CF75-4E38-8CAE-F866C9E2D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рхитектура предприят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F0CF-12DB-44D8-928A-363A100010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CD56-93E2-41FA-84D9-076B59B3E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ю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ников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должны создавать архитектуру предприятий, непрерывно совершенств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ддерживать ее в состоянии развития, предопределять риски деятель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изировать их и управлять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54D0-F692-47BA-80E7-73B0B9195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да чаще всего идут работать выпуск-ники магистерской програм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магистерской программы работаю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рпоративных структурах, в департаментах компаний, курирующих бизнес-аналит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DC97-5DAB-4970-8B5C-1244E69BD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аким базовым образованием стоит поступать на программу «Бизнес-информатик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F8EE-F296-470F-B103-AF4BEB9EE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экзамены нужно сд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ступл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ены конкурсом портфоли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E77D-2E8D-495D-BD1F-615D09EBA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рганизован конкурс портфолио на факульт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6A03-A584-4E6C-9763-6DE9A4BF04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1B14-42CA-4306-8961-96017B1E04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магистерской программы «Бизнес-информати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птимизацией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5FDD-E0D1-4720-A1B5-6CDDA7C3E9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с какими оценками студент окончил бакалаври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диплом — это значительное пре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D683-37FF-45DC-BD82-482A2F96B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еще, кроме диплома, абитуриент может включить в портфоли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271B-BA9E-4A3A-95FA-8B4D1D618E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еще учитывае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тфоли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имней школе ГУ-ВШЭ — это тоже плю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840E-2C50-44B7-BDF2-F1E764F90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ли альтернатива для выпускников бакалавриата, которые не имеют научные публика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7CB9-E33C-4835-9B15-B7EE84CBDF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абитуриентом рекомендаций для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662D-644A-460E-8D5E-16EA99B60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актико-ориентированная программа с большой исследовательской составляю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7088-8E0C-4E2D-864F-2509BE282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и магистерск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2086-039F-4F1F-88E3-9C5811F72F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 «Информационная бизнес-анали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бизнес-аналитика — это комплекс методологических, техн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инструментальных средств, направлен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ддержку принятия решений в сфере управления эффективностью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A47B-0511-4D2D-B026-B21A5D252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базовых кафе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99CD-8820-4039-8BAC-5556ABF24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качества абитуриентов магистратуры особенно важ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5214-AEA9-4411-A704-2962700C7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знес-аналитик — основная должность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3C41-8E0F-42DB-92D5-94F61B10A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бизнес-ана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087DE-6B57-4E98-9C97-4F36F9D10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DC1D-89D0-4E8E-8865-17F330EB4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807F-1F76-41AA-8BDD-4B9CD23A5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F21D-B240-4751-9066-3595C358C5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3751-88E9-411E-B25E-8131AF3D7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9CA0-293E-4237-8005-9A04346C4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4465-43E6-406B-A1CF-24A45DF30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92FE-3022-448E-A77E-189461712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8CAF-DFAE-4102-80E7-A877C79AA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B3C3-5D0C-4B47-9A53-CE889C473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7FD1-E6FF-4AF7-8125-F1F877607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E198-C040-4AF3-81AE-1113025F3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844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27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лайд </a:t>
            </a:r>
            <a:fld id="{1FC33339-9601-4755-B498-2262FCBD9970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1447920"/>
            <a:ext cx="8362800" cy="3636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1"/>
          <p:cNvSpPr/>
          <p:nvPr/>
        </p:nvSpPr>
        <p:spPr>
          <a:xfrm>
            <a:off x="457200" y="6308640"/>
            <a:ext cx="8362800" cy="0"/>
          </a:xfrm>
          <a:prstGeom prst="line">
            <a:avLst/>
          </a:prstGeom>
          <a:ln w="381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388800" y="6029280"/>
            <a:ext cx="6488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2556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агистерская программа «Бизнес-информатика»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2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Управление жизненным циклом информационных систем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Особенность специализации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Архитектура предприятия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называют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ыпускников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менно они должны создавать архитектуру предприятий, непрерывно совершенствов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оддерживать ее в состоянии развития, предопределять риски деятельно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инимизировать их и управлять и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уда чаще всего идут работать выпуск-ники магистерской программы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магистерской программы работаю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корпоративных структурах, в департаментах компаний, курирующих бизнес-аналити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 помощью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С каким базовым образованием стоит поступать на программу «Бизнес-информатика»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экзамены нужно сдать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и поступлен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аменены конкурсом портфоли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организован конкурс портфолио на факультете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сновная задача магистерской программы «Бизнес-информатика»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оптимизацией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с какими оценками студент окончил бакалавриа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расный диплом — это значительное преимуществ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Что еще, кроме диплома, абитуриент может включить в портфолио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Что еще учитываетс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 портфолио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астие в Зимней школе ГУ-ВШЭ — это тоже плюс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84924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Есть ли альтернатива для выпускников бакалавриата, которые не имеют научные публикации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олучение абитуриентом рекомендаций для портфолио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практико-ориентированная программа с большой исследовательской составляющ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и магистерской программы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52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 «Информационная бизнес-аналитика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нформационная бизнес-аналитика — это комплекс методологических, технологически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инструментальных средств, направленн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поддержку принятия решений в сфере управления эффективностью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Роль базовых кафедр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качества абитуриентов магистратуры особенно важны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для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Бизнес-аналитик — основная должность выпускника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Специфика бизнес-аналитика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1:04:00Z</dcterms:created>
  <dc:creator>Igoresqu</dc:creator>
  <dc:description/>
  <dc:language>en-US</dc:language>
  <cp:lastModifiedBy>LEGION</cp:lastModifiedBy>
  <dcterms:modified xsi:type="dcterms:W3CDTF">2015-04-01T07:20:43Z</dcterms:modified>
  <cp:revision>47</cp:revision>
  <dc:subject/>
  <dc:title>Слайд 1</dc:title>
</cp:coreProperties>
</file>