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F90A-CBFE-46BE-806A-E52731FB1F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44C8-5C5B-4FAE-BEBB-0838096BF2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ерская программа «Бизнес-информа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73C7-1B96-4940-8719-84EED92D85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правление жизненным циклом информационных сист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38E5-AAA9-444B-994C-E11C6A02C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0AE6-D14B-4459-A8D2-B6F1B926F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рхитектура предприят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4B04-D77B-4EE0-AE5F-2526EC2F9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505F-0C33-48A6-967A-0D52F4858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ю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ов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должны создавать архитектуру предприятий, непрерывно совершенств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ддерживать ее в состоянии развития, предопределять риски деятель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изировать их и управлять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8B19-50C0-434A-8E0A-477468395C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да чаще всего идут работать выпуск-ники магистерской програм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магистерской программы работаю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рпоративных структурах, в департаментах компаний, курирующих бизнес-аналит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FC33-0D48-49D8-89A7-731298F3E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аким базовым образованием стоит поступать на программу «Бизнес-информатик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8516-4A93-441E-9D01-4F5CD338F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экзамены нужно сд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ступл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ены конкурсом портфоли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0F4D-54B9-4F72-9C2A-982676116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рганизован конкурс портфолио на факульт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D629-D1F8-4B32-A83F-2CA3D1C2E1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797D-0623-407B-A807-39F56D72F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магистерской программы «Бизнес-информат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птимизацией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5FBA-2655-4FFC-B1A5-818D95AD3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с какими оценками студент окончил бакалаври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диплом — это значительное пре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D1CC-EEF6-45D1-9AB7-9C2A27225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еще, кроме диплома, абитуриент может включить в портфоли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AF98-0192-428A-90DF-8A8DDCD39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еще учитывае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тфоли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имней школе ГУ-ВШЭ — это тоже плю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1F14-D494-406E-8DA4-93A839BA4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ли альтернатива для выпускников бакалавриата, которые не имеют научные публика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80B1-562E-4FA6-A6D8-DE862CFC4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абитуриентом рекомендаций для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4335-2BC1-40A6-B4C5-51CC09762D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актико-ориентированная программа с большой исследовательской составляю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0640-4432-4CCF-BBB0-AC85B12BF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и магистерск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6383-37E1-45D8-BC4C-71AD09297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 «Информационная бизнес-анали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бизнес-аналитика — это комплекс методологических, техн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инструментальных средств, направлен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ддержку принятия решений в сфере управления эффективностью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2F72-9735-4293-A906-684A177B9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базовых кафе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F328-A697-441D-AF50-60B672183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качества абитуриентов магистратуры особенно важ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CFE8-CF96-46A2-BFD3-CFD5EAF99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знес-аналитик — основная должность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1B78-14C1-45B3-9173-256F9DD5E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бизнес-ана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807A-550B-4430-B8F7-48291383E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F4C03-AD59-4573-AAF9-F027D17AD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8AC1-D547-4E33-9E02-15280D608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FFB4-1BD7-4DCE-A7A1-B0CB7465CD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265C-8492-424B-BDBA-81667E7990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3563-9080-4364-B7A7-7365003A1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A82B-D48B-4212-9CB9-B9DBBEDB8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C145-0BE9-4E25-94CD-6DDE03D19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A58BA-A805-4ECB-9F84-88C85BC98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8C45-8CCF-480D-A05C-7C0961EE5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FA22-FC05-4726-BB3A-0AF74C50A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A939-2409-4246-A99B-6F67F0B68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844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27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лайд </a:t>
            </a:r>
            <a:fld id="{F5D20F91-83C9-4D81-BB9F-19BF12656D54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1447920"/>
            <a:ext cx="8362800" cy="3636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1"/>
          <p:cNvSpPr/>
          <p:nvPr/>
        </p:nvSpPr>
        <p:spPr>
          <a:xfrm>
            <a:off x="457200" y="6308640"/>
            <a:ext cx="8362800" cy="0"/>
          </a:xfrm>
          <a:prstGeom prst="line">
            <a:avLst/>
          </a:prstGeom>
          <a:ln w="381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388800" y="6029280"/>
            <a:ext cx="6488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255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агистерская программа «Бизнес-информатика»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2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Управление жизненным циклом информационных систем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собенность специализации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Архитектура предприятия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называют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ыпускников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менно они должны создавать архитектуру предприятий, непрерывно совершенствов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оддерживать ее в состоянии развития, предопределять риски деятельно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инимизировать их и управлять и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уда чаще всего идут работать выпуск-ники магистерской программы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магистерской программы работаю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корпоративных структурах, в департаментах компаний, курирующих бизнес-аналити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 помощью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С каким базовым образованием стоит поступать на программу «Бизнес-информатика»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экзамены нужно сдать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и поступлен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менены конкурсом портфоли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организован конкурс портфолио на факультете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сновная задача магистерской программы «Бизнес-информатика»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оптимизацией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с какими оценками студент окончил бакалавриа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расный диплом — это значительное преимуществ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Что еще, кроме диплома, абитуриент может включить в портфолио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Что еще учитываетс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портфолио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астие в Зимней школе ГУ-ВШЭ — это тоже плю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84924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Есть ли альтернатива для выпускников бакалавриата, которые не имеют научные публикации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олучение абитуриентом рекомендаций для портфолио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практико-ориентированная программа с большой исследовательской составляющ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и магистерской программы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52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 «Информационная бизнес-аналитика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формационная бизнес-аналитика — это комплекс методологических, технологическ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инструментальных средств, направле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поддержку принятия решений в сфере управления эффективностью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Роль базовых кафедр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качества абитуриентов магистратуры особенно важны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для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Бизнес-аналитик — основная должность выпускника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Специфика бизнес-аналитика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04:00Z</dcterms:created>
  <dc:creator>Igoresqu</dc:creator>
  <dc:description/>
  <dc:language>en-US</dc:language>
  <cp:lastModifiedBy>LEGION</cp:lastModifiedBy>
  <dcterms:modified xsi:type="dcterms:W3CDTF">2015-04-01T07:20:43Z</dcterms:modified>
  <cp:revision>47</cp:revision>
  <dc:subject/>
  <dc:title>Слайд 1</dc:title>
</cp:coreProperties>
</file>