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E7EB-47F9-4E78-95C4-5873F9D25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C9EE-570A-44A8-9433-7E5F8C9C7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ерская программа «Бизнес-информа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D52B-3331-404E-B632-6D926CACE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правление жизненным циклом информационных сист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A4DD-57C2-4876-AE3C-891213E86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D58C-1850-42F7-B3EE-08A7ED90F9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рхитектура предприя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EB9B-EEEF-49DD-9A1E-177ED333EC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1F9A-1ED9-4498-8E94-E07A8623D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ю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ов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должны создавать архитектуру предприятий, непрерывно совершенств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ддерживать ее в состоянии развития, предопределять риски деятель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изировать их и управлять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83CB-A68E-48E5-BCB4-A9BD41A3D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да чаще всего идут работать выпуск-ники магистерской програм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магистерской программы работаю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рпоративных структурах, в департаментах компаний, курирующих бизнес-аналит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ED5B-54DA-47EC-9170-9B64419B0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ким базовым образованием стоит поступать на программу «Бизнес-информатик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247-F541-4C2D-B597-32069512F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экзамены нужно сд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тупл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ены конкурсом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2C0A-C1BE-4889-95DC-D0E1713C5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рганизован конкурс портфолио на факульт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5333-0881-4B8B-8E73-4D2443226F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2707-8324-4A8E-A4E1-AC3194F38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магистерской программы «Бизнес-информ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тимизацией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40CD-57EF-4B22-ABDD-AC19FBA61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с какими оценками студент окончил бакалаври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диплом — это значительное пре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318C-44BF-419A-BC58-462493A80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еще, кроме диплома, абитуриент может включить в портфоли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9DFD-9AA7-4823-B6AE-E58025CBD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ще учитыв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оли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имней школе ГУ-ВШЭ — это тоже плю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9EA8-0753-4C9B-BA4A-6114DB190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ли альтернатива для выпускников бакалавриата, которые не имеют научные публика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9A0E-1290-49C4-87BD-7F4FE7CD9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абитуриентом рекомендаций для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302-E9B7-433F-8751-8B0F5BE0B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ктико-ориентированная программа с большой исследовательской составляю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16F8-F6F1-4EF8-9EC0-FB327CA98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и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B03D-CE3A-426F-AD84-853D203BD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 «Информационная бизнес-анали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бизнес-аналитика — это комплекс методологических, техн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инструментальных средств, направлен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ддержку принятия решений в сфере управления эффективностью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F7E7-D52F-4DF9-90B4-CC6595052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базовых кафе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AB68-3D33-428F-8973-05A01A0D7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качества абитуриентов магистратуры особенно важ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BFBF-01D0-492D-A757-C15D59A43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 — основная должност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765E-A624-40A8-93DA-9EE2FA574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бизнес-ана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546D-0A9A-4F64-9584-1DCD2383A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42E8-F616-4146-AE2C-14CDB1D22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7A1D-C1A7-4A49-B980-1C6443267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281C-71ED-44B2-AF7B-1F5537E01C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99E7-A758-4F54-BB70-07F092AC4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2CE1-FED9-4D4B-BEBE-E40FA978A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9CA5-A616-4BFE-B004-1024D8862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8DF2-D024-4235-940F-EB4EAED39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5D2F-BEE8-4245-A07F-21993AD48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C6F2-24C5-4F6D-BD60-58F5FF9B5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C353-9010-424D-B37A-3BB4A3CCA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5ED6-A0C4-4323-955C-CCC182944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44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7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лайд </a:t>
            </a:r>
            <a:fld id="{553A8212-2F76-47E6-B131-72C6829492FA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362800" cy="3636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1"/>
          <p:cNvSpPr/>
          <p:nvPr/>
        </p:nvSpPr>
        <p:spPr>
          <a:xfrm>
            <a:off x="457200" y="6308640"/>
            <a:ext cx="8362800" cy="0"/>
          </a:xfrm>
          <a:prstGeom prst="line">
            <a:avLst/>
          </a:prstGeom>
          <a:ln w="381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388800" y="6029280"/>
            <a:ext cx="6488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255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агистерская программа «Бизнес-информатика»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правление жизненным циклом информационных систем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собенность специализации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Архитектура предприятия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называют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ыпускников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менно они должны создавать архитектуру предприятий, непрерывно совершенствов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оддерживать ее в состоянии развития, предопределять риски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инимизировать их и управлять и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уда чаще всего идут работать выпуск-ники магистерской программы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магистерской программы работ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корпоративных структурах, в департаментах компаний, курирующих бизнес-аналити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 помощью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С каким базовым образованием стоит поступать на программу «Бизнес-информатика»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экзамены нужно сдать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и поступлен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менены конкурсом портфоли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организован конкурс портфолио на факультете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сновная задача магистерской программы «Бизнес-информатика»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оптимизацией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с какими оценками студент окончил бакалавриа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расный диплом — это значительное преимуществ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еще, кроме диплома, абитуриент может включить в портфолио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еще учитываетс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портфолио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стие в Зимней школе ГУ-ВШЭ — это тоже плю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849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Есть ли альтернатива для выпускников бакалавриата, которые не имеют научные публикации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олучение абитуриентом рекомендаций для портфолио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актико-ориентированная программа с большой исследовательской составляющ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и магистерской программы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 «Информационная бизнес-аналитика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онная бизнес-аналитика — это комплекс методологических, технологичес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инструментальных средств, направл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поддержку принятия решений в сфере управления эффективностью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оль базовых кафедр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качества абитуриентов магистратуры особенно важны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для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Бизнес-аналитик — основная должность выпускника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Специфика бизнес-аналитика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04:00Z</dcterms:created>
  <dc:creator>Igoresqu</dc:creator>
  <dc:description/>
  <dc:language>en-US</dc:language>
  <cp:lastModifiedBy>LEGION</cp:lastModifiedBy>
  <dcterms:modified xsi:type="dcterms:W3CDTF">2015-04-01T07:20:43Z</dcterms:modified>
  <cp:revision>47</cp:revision>
  <dc:subject/>
  <dc:title>Слайд 1</dc:title>
</cp:coreProperties>
</file>