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608C-FDC3-44A1-A129-80CE9D3035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74A4-1869-4385-A81F-FBD38B146F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истерская программа «Бизнес-информат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D291-3153-4112-AD37-B3A7EE6237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правление жизненным циклом информационных систе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в основном связана с организацией и управлением использования информационных технологий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7E2C-2DEE-4492-B8E9-923197BD13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пециализации — менеджеры, способные организовать разработку и эксплуатацию информацион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4189-B4E0-4DC5-ABA1-B0DE3D1E6C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значает ли это, что студенты специа-лизации в большей степени должны получать технологические зна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пециализации должны быть способны руководить бригадами, группами, выполняющими комплексные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ть проектированием и внедрением инфор-мационных систем, обладая только технологичес-кими знаниями, практически невозможно — необходимы знания проектного менеджмента, тео-рии управления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рхитектура предприят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«Архитектура предприятия» имеет отношение не только к сфере ИТ. Речь идет об архитектуре бизнеса, но термин «архитектура предприятия» сейчас является общепринят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е время его действительно использовали только в связи с ИТ, но постепенно в него стали включать другие компоненты: архитектуру бизнес-процессов, вопросы, связанные с их анализом и оптимиза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E4D0-65AD-49C7-A04F-E2E4E15E3F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23B9-A5E6-4E9C-AE32-35107FBAAD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называю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ников специал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сегодня, в зависимости от преференций руководства, их называют «системными архитекторами», «структурными архитекторами предприятий» и даже «архитекторами стратегического развит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они должны создавать архитектуру предприятий, непрерывно совершенствова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ддерживать ее в состоянии развития, предопределять риски деятельност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изировать их и управлять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DE3C-804A-4860-8D07-AE97377A3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да чаще всего идут работать выпуск-ники магистерской программ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магистерской программы работаю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рпоративных структурах, в департаментах компаний, курирующих бизнес-аналитик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инятие решений, ИТ-консалтинг и бизнес-консалтинг, связанный с реорганизацией бизне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466A-25F7-49FE-8FBE-DD157AC4DC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аким базовым образованием стоит поступать на программу «Бизнес-информатика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факультет могут поступать выпускники бакалавриатов с экономико-управленческим, физико-математическим и инженерным образованием и прежде всего студенты, получившие образование по бизнес-информа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8F7B-8DAF-4F3C-8251-EF802304FA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экзамены нужно сда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ступле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году впервые на факультете бизнес-информатики при наборе в магистратуру традиционные вступительные испыт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ены конкурсом портфоли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F022-C745-45AF-B880-351395CFF3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организован конкурс портфолио на факульт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итуриент должен предоставить необходимый пакет документов, содержащийся в Правилах при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итуриент включает в портфолио сертификат, подтверждающий высокий уровень знаний по иностранному языку, или сдает квалификационный экзамен по язы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764F-210D-4D49-A920-71C29DC01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достижения абитуриента учи-тываются при отборе на факульт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е требование — это степень соответствия базового образования, полученного в бакалавриате, образовательному стандарту по направлению бизнес-информатика по трем образовательным блокам: математическому, информационно-технологическому и экономико-менеджериальн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E07D-D1E7-4D4B-AB80-CC7FFA907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ая задача магистерской программы «Бизнес-информати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задача программы — подготовка специалистов, способных управлять бизнесом с помощью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выпускников связана с поддержкой принятия решений, проектированием и внедрением корпоративных систем, реорганизаци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птимизацией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03E7-BE21-4E43-87C4-61C8E42037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достижения абитуриента учи-тываются при отборе на факульт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ся, с какими оценками студент окончил бакалаври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й диплом — это значительное пре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A971-23D6-4025-99E3-7C8435551E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еще, кроме диплома, абитуриент может включить в портфоли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публикации, сертификаты о повышении квалификации, сертификаты, выданные по результатам обучения в компаниях, которые работают в сфере 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9275-887B-44DF-BB94-95BABD5B91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еще учитываетс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ртфоли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ся, был ли абитуриент победителем или призером конкурсов и олимпиад — вузовских, межвузовских, национальных, международ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Зимней школе ГУ-ВШЭ — это тоже плю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B8ED-779C-4B69-848B-EC2B38C498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ли альтернатива для выпускников бакалавриата, которые не имеют научные публикац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авне с публикациями рассматриваются рукописи ограниченного объема (10 печатных страниц), которые студент готов предоста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6B68-C533-4AF7-A82F-F1AF1F6F62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ие абитуриентом рекомендаций для портфол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ю для поступления в магистратуру может дать не только преподаватель, но и любой значимый специа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DDBA-7886-4238-80B0-01151E3BD1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Бизнес-информатика» — это в большей мере исследовательская или прикладная магистерская программ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актико-ориентированная программа с большой исследовательской составляю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проект — это в определенной мере исследование, и его участник должен иметь навык исследовательск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C7F4-F437-4E13-A931-6601843F29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и магистерско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программы предусмотрены три специализации — «Информационная бизнес-аналитика», «Управление жизненным циклом информационных систем» и «Архитектура предприятия», — одну из которых будущие магистры выбирают на первом году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8FAA-9476-4F2A-8A48-60E7D2A1B3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 «Информационная бизнес-аналит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бизнес-аналитика — это комплекс методологических, технологи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инструментальных средств, направлен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оддержку принятия решений в сфере управления эффективностью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3B5B-38F8-4B6B-8D8E-F78E4D8A07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базовых кафед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эффективностью бизнеса и поддержка принятия решений осуществляется с помощью современных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ую помощь в организации учебного процесса оказывают базовые кафедры, открытые крупными ИТ — компаниями ЛАНИТ, 1-С, SAP, I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F958-7A28-4DD2-8580-BB5E4B9CF7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качества абитуриентов магистратуры особенно важн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пециал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подготовка, в частности, в области теории принятия решений, а также экономическая подготовка, особенно, в части управленческого учета и финансового 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F83A-26C6-4085-95EB-91FA4D91CE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знес-аналитик — основная должность выпуск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-аналити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посредником между организаторами проекта с целью выявления, анализа, согласования и утверждения требований к изменениям, вносимым в бизнес-процессы, политики и информационные системы; владеет проблемами бизнеса и предлагает решения, позволяющие организации достичь поставленных ц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11B8-3C71-475D-A634-092A1064BF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бизнес-ана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-аналитики в основном отвечают за определение и управление областью поиска решения в противоположность менеджерам проектов, которые ответственны за область работ, необходимых для исполнения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6AEBC-85BB-402E-909C-8C59D5647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BAF27-0CA2-44F4-B607-8E25CCCED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1070-95BC-4C4A-98F2-1A55269F6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CB14-9E94-4C37-9930-239133C0FF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2EF56-A866-4F10-AAAC-F07A07E80C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37B0F-C87B-4CA3-B87C-12FA82F9A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D878B-E316-4120-BAFA-DA33BFA29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EC264-A784-47BA-970D-5D4DA79A5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8C52A-AF4A-4E44-87AF-CC7D3B136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A1A8-B28D-4E25-A735-8A245C329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B0A77-4E20-42D0-93D9-91B572B94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4BDC-722E-4D21-BE35-7AE7A2797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844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7640" y="6327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лайд </a:t>
            </a:r>
            <a:fld id="{9A8F2110-6DB4-43FE-B4D2-2261BA1B5BA8}" type="slidenum">
              <a:rPr b="0" lang="ru-RU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1447920"/>
            <a:ext cx="8362800" cy="3636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1"/>
          <p:cNvSpPr/>
          <p:nvPr/>
        </p:nvSpPr>
        <p:spPr>
          <a:xfrm>
            <a:off x="457200" y="6308640"/>
            <a:ext cx="8362800" cy="0"/>
          </a:xfrm>
          <a:prstGeom prst="line">
            <a:avLst/>
          </a:prstGeom>
          <a:ln w="381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3"/>
          <p:cNvSpPr/>
          <p:nvPr/>
        </p:nvSpPr>
        <p:spPr>
          <a:xfrm>
            <a:off x="388800" y="6029280"/>
            <a:ext cx="64882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2556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Магистерская программа «Бизнес-информатика»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20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«Управление жизненным циклом информационных систем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пециализация в основном связана с организацией и управлением использования информационных технологий в бизнес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Особенность специализации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специализации — менеджеры, способные организовать разработку и эксплуатацию информационной систем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5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Означает ли это, что студенты специа-лизации в большей степени должны получать технологические знания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специализации должны быть способны руководить бригадами, группами, выполняющими комплексные задач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правлять проектированием и внедрением инфор-мационных систем, обладая только технологичес-кими знаниями, практически невозможно — необходимы знания проектного менеджмента, тео-рии управления организационными изменениям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«Архитектура предприятия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Термин «Архитектура предприятия» имеет отношение не только к сфере ИТ. Речь идет об архитектуре бизнеса, но термин «архитектура предприятия» сейчас является общеприняты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олгое время его действительно использовали только в связи с ИТ, но постепенно в него стали включать другие компоненты: архитектуру бизнес-процессов, вопросы, связанные с их анализом и оптимизацие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 называют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ыпускников специализац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же сегодня, в зависимости от преференций руководства, их называют «системными архитекторами», «структурными архитекторами предприятий» и даже «архитекторами стратегического развития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менно они должны создавать архитектуру предприятий, непрерывно совершенствова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поддерживать ее в состоянии развития, предопределять риски деятельност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инимизировать их и управлять им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уда чаще всего идут работать выпуск-ники магистерской программы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магистерской программы работаю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корпоративных структурах, в департаментах компаний, курирующих бизнес-аналитик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принятие решений, ИТ-консалтинг и бизнес-консалтинг, связанный с реорганизацией бизнес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 помощью информационных технологи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84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С каким базовым образованием стоит поступать на программу «Бизнес-информатика»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 факультет могут поступать выпускники бакалавриатов с экономико-управленческим, физико-математическим и инженерным образованием и прежде всего студенты, получившие образование по бизнес-информатик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ие экзамены нужно сдать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и поступлен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этом году впервые на факультете бизнес-информатики при наборе в магистратуру традиционные вступительные испыт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заменены конкурсом портфоли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 организован конкурс портфолио на факультете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битуриент должен предоставить необходимый пакет документов, содержащийся в Правилах прием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битуриент включает в портфолио сертификат, подтверждающий высокий уровень знаний по иностранному языку, или сдает квалификационный экзамен по язык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акие достижения абитуриента учи-тываются при отборе на факультете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сновное требование — это степень соответствия базового образования, полученного в бакалавриате, образовательному стандарту по направлению бизнес-информатика по трем образовательным блокам: математическому, информационно-технологическому и экономико-менеджериальном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Основная задача магистерской программы «Бизнес-информатика»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сновная задача программы — подготовка специалистов, способных управлять бизнесом с помощью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еятельность выпускников связана с поддержкой принятия решений, проектированием и внедрением корпоративных систем, реорганизаци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оптимизацией бизнес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акие достижения абитуриента учи-тываются при отборе на факультете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итывается, с какими оценками студент окончил бакалавриа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Красный диплом — это значительное преимуществ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Что еще, кроме диплома, абитуриент может включить в портфолио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учные публикации, сертификаты о повышении квалификации, сертификаты, выданные по результатам обучения в компаниях, которые работают в сфере И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Что еще учитываетс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 портфолио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итывается, был ли абитуриент победителем или призером конкурсов и олимпиад — вузовских, межвузовских, национальных, международны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астие в Зимней школе ГУ-ВШЭ — это тоже плюс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84924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Есть ли альтернатива для выпускников бакалавриата, которые не имеют научные публикации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равне с публикациями рассматриваются рукописи ограниченного объема (10 печатных страниц), которые студент готов предоставить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олучение абитуриентом рекомендаций для портфолио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екомендацию для поступления в магистратуру может дать не только преподаватель, но и любой значимый специалис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84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«Бизнес-информатика» — это в большей мере исследовательская или прикладная магистерская программа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Это практико-ориентированная программа с большой исследовательской составляюще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Любой проект — это в определенной мере исследование, и его участник должен иметь навык исследовательской работ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и магистерской программы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рамках программы предусмотрены три специализации — «Информационная бизнес-аналитика», «Управление жизненным циклом информационных систем» и «Архитектура предприятия», — одну из которых будущие магистры выбирают на первом году обуче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520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 «Информационная бизнес-аналитика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нформационная бизнес-аналитика — это комплекс методологических, технологически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инструментальных средств, направленны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 поддержку принятия решений в сфере управления эффективностью бизнес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Роль базовых кафедр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правление эффективностью бизнеса и поддержка принятия решений осуществляется с помощью современных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ольшую помощь в организации учебного процесса оказывают базовые кафедры, открытые крупными ИТ — компаниями ЛАНИТ, 1-С, SAP, IB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ие качества абитуриентов магистратуры особенно важны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для специализац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атематическая подготовка, в частности, в области теории принятия решений, а также экономическая подготовка, особенно, в части управленческого учета и финансового анализ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Бизнес-аналитик — основная должность выпускника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изнес-аналитик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лужит посредником между организаторами проекта с целью выявления, анализа, согласования и утверждения требований к изменениям, вносимым в бизнес-процессы, политики и информационные системы; владеет проблемами бизнеса и предлагает решения, позволяющие организации достичь поставленных целе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Специфика бизнес-аналитика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изнес-аналитики в основном отвечают за определение и управление областью поиска решения в противоположность менеджерам проектов, которые ответственны за область работ, необходимых для исполнения реше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1:04:00Z</dcterms:created>
  <dc:creator>Igoresqu</dc:creator>
  <dc:description/>
  <dc:language>en-US</dc:language>
  <cp:lastModifiedBy>LEGION</cp:lastModifiedBy>
  <dcterms:modified xsi:type="dcterms:W3CDTF">2015-04-01T07:20:43Z</dcterms:modified>
  <cp:revision>47</cp:revision>
  <dc:subject/>
  <dc:title>Слайд 1</dc:title>
</cp:coreProperties>
</file>