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6CCA-BC1E-4445-A5D4-9A5C4539B9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FD59-D23C-4FD4-80CF-F134BF707D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ы для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нятие об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.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. Предмет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. Виды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. Хранение цифр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. 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7. 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3A4F-CD87-4051-9292-5704694437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Что такое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43B4-76AF-4A62-A07F-284473A9D1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ойств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5CF0-4F4F-4C68-9437-1C1424310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мет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B151-D1E8-46E7-8D6F-E0C0B04592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6103-2B5A-4DC8-8D0E-D0CA1BB524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Хранение цифров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ифров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ранится в виде числового кода, который называется дво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2175-DA31-4AF8-A4F4-1036E1C26A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группа из </a:t>
            </a: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осьм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жно выразит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56 разных знач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Байт принимает значения от 0 до 2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5FB9-6F8A-4283-B3F4-D332CFDAC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ай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9DB2-36E7-41D3-8CAC-B69D29A08D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A4E-D42C-48C4-B454-C90AF6F4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EAD-5F4C-4B6B-98EB-31125F77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B10-F661-4213-B68E-D29E830E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4F1-8619-4DF8-A468-686C1332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272-A46F-4912-A052-68480DCA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177-076C-4C31-A571-F5D5F423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F86-FD85-4E84-8D80-6D0BE47F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717-5D26-473C-933F-9EB704F7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911-ACB6-4171-BC7E-2E876D2E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098-1730-43E0-B208-4E505419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5F8-A346-4631-AD3C-672F63B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FD9-9024-4FF7-AB7C-9F22CD3C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A502-6CA6-47ED-A2F1-179068105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85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ведение в информати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aptop"/>
          <p:cNvSpPr/>
          <p:nvPr/>
        </p:nvSpPr>
        <p:spPr>
          <a:xfrm>
            <a:off x="2556000" y="3219480"/>
            <a:ext cx="4321080" cy="3249720"/>
          </a:xfrm>
          <a:custGeom>
            <a:avLst/>
            <a:gdLst>
              <a:gd name="textAreaLeft" fmla="*/ 889200 w 4321080"/>
              <a:gd name="textAreaRight" fmla="*/ 3463200 w 4321080"/>
              <a:gd name="textAreaTop" fmla="*/ 279360 h 3249720"/>
              <a:gd name="textAreaBottom" fmla="*/ 1854000 h 32497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опросы для рассмо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об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войства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едмет инфор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иды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Хранение цифров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т битов к бай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От байтов к фай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такое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войства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92360" y="1628640"/>
            <a:ext cx="597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формацию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324000" y="3357720"/>
            <a:ext cx="309564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з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258920" y="5157720"/>
            <a:ext cx="30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4643280" y="5157720"/>
            <a:ext cx="3167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292720" y="3284640"/>
            <a:ext cx="35640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рабат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3635280" y="2565360"/>
            <a:ext cx="93672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4572000" y="2565360"/>
            <a:ext cx="79200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2843280" y="2565360"/>
            <a:ext cx="1728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572000" y="256536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" action="ppaction://hlinkshowjump?jump=nextslide"/>
          </p:cNvPr>
          <p:cNvSpPr/>
          <p:nvPr/>
        </p:nvSpPr>
        <p:spPr>
          <a:xfrm>
            <a:off x="738036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6899" y="3794"/>
                </a:moveTo>
                <a:lnTo>
                  <a:pt x="20912" y="10800"/>
                </a:lnTo>
                <a:lnTo>
                  <a:pt x="689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>
            <a:hlinkClick r:id="rId1" action="ppaction://hlinksldjump"/>
          </p:cNvPr>
          <p:cNvSpPr/>
          <p:nvPr/>
        </p:nvSpPr>
        <p:spPr>
          <a:xfrm>
            <a:off x="8101080" y="6093000"/>
            <a:ext cx="576360" cy="5029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52" h="21600">
                <a:moveTo>
                  <a:pt x="0" y="0"/>
                </a:moveTo>
                <a:lnTo>
                  <a:pt x="24752" y="0"/>
                </a:lnTo>
                <a:lnTo>
                  <a:pt x="24752" y="21600"/>
                </a:lnTo>
                <a:lnTo>
                  <a:pt x="0" y="21600"/>
                </a:lnTo>
                <a:close/>
              </a:path>
              <a:path fill="lightenLess" w="24752" h="21600">
                <a:moveTo>
                  <a:pt x="0" y="0"/>
                </a:moveTo>
                <a:lnTo>
                  <a:pt x="24752" y="0"/>
                </a:lnTo>
                <a:lnTo>
                  <a:pt x="23352" y="1400"/>
                </a:lnTo>
                <a:lnTo>
                  <a:pt x="1400" y="1400"/>
                </a:lnTo>
                <a:close/>
              </a:path>
              <a:path fill="darken" w="24752" h="21600">
                <a:moveTo>
                  <a:pt x="24752" y="0"/>
                </a:moveTo>
                <a:lnTo>
                  <a:pt x="24752" y="21600"/>
                </a:lnTo>
                <a:lnTo>
                  <a:pt x="23352" y="20200"/>
                </a:lnTo>
                <a:lnTo>
                  <a:pt x="23352" y="1400"/>
                </a:lnTo>
                <a:close/>
              </a:path>
              <a:path fill="darkenLess" w="24752" h="21600">
                <a:moveTo>
                  <a:pt x="24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2" y="20200"/>
                </a:lnTo>
                <a:close/>
              </a:path>
              <a:path fill="lighten" w="24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2" h="21600">
                <a:moveTo>
                  <a:pt x="12376" y="3837"/>
                </a:moveTo>
                <a:lnTo>
                  <a:pt x="14952" y="6448"/>
                </a:ln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lnTo>
                  <a:pt x="19339" y="10800"/>
                </a:lnTo>
                <a:lnTo>
                  <a:pt x="17685" y="10800"/>
                </a:lnTo>
                <a:lnTo>
                  <a:pt x="17685" y="17989"/>
                </a:lnTo>
                <a:lnTo>
                  <a:pt x="7067" y="17989"/>
                </a:lnTo>
                <a:lnTo>
                  <a:pt x="7067" y="10800"/>
                </a:lnTo>
                <a:lnTo>
                  <a:pt x="5413" y="10800"/>
                </a:lnTo>
                <a:close/>
              </a:path>
              <a:path fill="darkenLess" w="24752" h="21600">
                <a:moveTo>
                  <a:pt x="14952" y="6448"/>
                </a:move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close/>
              </a:path>
              <a:path fill="darkenLess" w="24752" h="21600">
                <a:moveTo>
                  <a:pt x="11453" y="14299"/>
                </a:moveTo>
                <a:lnTo>
                  <a:pt x="13299" y="14299"/>
                </a:lnTo>
                <a:lnTo>
                  <a:pt x="13299" y="17989"/>
                </a:lnTo>
                <a:lnTo>
                  <a:pt x="17685" y="17989"/>
                </a:lnTo>
                <a:lnTo>
                  <a:pt x="17685" y="10800"/>
                </a:lnTo>
                <a:lnTo>
                  <a:pt x="7067" y="10800"/>
                </a:lnTo>
                <a:lnTo>
                  <a:pt x="7067" y="17989"/>
                </a:lnTo>
                <a:lnTo>
                  <a:pt x="11453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дмет 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т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ды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700360" y="1413000"/>
            <a:ext cx="4103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826920" y="2924280"/>
            <a:ext cx="338472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налог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076720" y="2852640"/>
            <a:ext cx="3456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ифр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3779640" y="2349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471636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0920" y="4005360"/>
            <a:ext cx="871380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алогово-цифровое преобразование (АЦП)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бразование аналог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формации в цифр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211640" y="3284640"/>
            <a:ext cx="865080" cy="360360"/>
          </a:xfrm>
          <a:prstGeom prst="rightArrow">
            <a:avLst>
              <a:gd name="adj1" fmla="val 50000"/>
              <a:gd name="adj2" fmla="val 6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nextslide"/>
          </p:cNvPr>
          <p:cNvSpPr/>
          <p:nvPr/>
        </p:nvSpPr>
        <p:spPr>
          <a:xfrm>
            <a:off x="7308720" y="616572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6897" y="3794"/>
                </a:moveTo>
                <a:lnTo>
                  <a:pt x="20910" y="10800"/>
                </a:lnTo>
                <a:lnTo>
                  <a:pt x="689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>
            <a:hlinkClick r:id="rId1" action="ppaction://hlinksldjump"/>
          </p:cNvPr>
          <p:cNvSpPr/>
          <p:nvPr/>
        </p:nvSpPr>
        <p:spPr>
          <a:xfrm>
            <a:off x="802800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Хранение цифров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фров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ранится в виде числового кода, который называется дво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итов к байт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группа из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сьми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выраз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56 разн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айт принимает значения от 0 до 2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752472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rId1" action="ppaction://hlinksldjump"/>
          </p:cNvPr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айтов к фай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й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437000"/>
            <a:ext cx="26636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780000" y="4437000"/>
            <a:ext cx="2663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32720" y="4292640"/>
            <a:ext cx="2160360" cy="1441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132000" y="501336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443640" y="5013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9:28:58Z</dcterms:created>
  <dc:creator>Дима</dc:creator>
  <dc:description/>
  <dc:language>en-US</dc:language>
  <cp:lastModifiedBy>LEGION</cp:lastModifiedBy>
  <dcterms:modified xsi:type="dcterms:W3CDTF">2015-04-01T07:21:04Z</dcterms:modified>
  <cp:revision>5</cp:revision>
  <dc:subject/>
  <dc:title>Введение в информатику</dc:title>
</cp:coreProperties>
</file>