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30B-7345-4EE1-8E6A-0F4D555C5B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D297-C552-403F-AE9C-806B9CDB97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ы для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нятие об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.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. Предмет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4. Виды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. Хранение цифр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. 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7. 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4EC0-6F32-440D-AFB7-04DC7DF1B2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Что такое информ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0356-3FA3-41CB-827E-DAAC88E56C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ойств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45CC-6A7D-4615-92E9-B247A6B6A7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мет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нформа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9276-5C32-4A4B-960A-90BC1039FA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7598-4866-41F0-B317-4DDC7A3A87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Хранение цифровой информ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ифров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ранится в виде числового кода, который называется дво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98B5-3974-4695-BCDC-6C61A6671B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итов к бай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группа из </a:t>
            </a: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осьм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б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ай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жно выразить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256 разных знач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Байт принимает значения от 0 до 2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424A-E341-48E1-AB6C-EAA33F5019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т байтов к фай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ай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9DE7-62BC-427C-B527-540BEA242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95C-150D-4292-9E5B-5DFD3377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49F-9FEB-4402-9151-04EF8F9D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294-3D4E-41C2-94BD-112C8885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86FB-FD72-4FB3-94A3-8D4CE0BC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5C5-1379-4212-81D7-639DD7F1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924-0DEE-488E-8188-E5EC5385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11D-95CD-4C52-A32F-0253851C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B02-F9BA-4019-9937-B8BCF9A6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7ED-C356-4DB9-8804-35704BAD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8F8-C43D-41FB-9CA4-3162F577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B18-16D2-401B-B458-FDDA655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D22-1115-4E5F-9E6E-20756BD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2AE2-48B4-4847-94DA-DBAF66C2E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385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ведение в информати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aptop"/>
          <p:cNvSpPr/>
          <p:nvPr/>
        </p:nvSpPr>
        <p:spPr>
          <a:xfrm>
            <a:off x="2556000" y="3219480"/>
            <a:ext cx="4321080" cy="3249720"/>
          </a:xfrm>
          <a:custGeom>
            <a:avLst/>
            <a:gdLst>
              <a:gd name="textAreaLeft" fmla="*/ 889200 w 4321080"/>
              <a:gd name="textAreaRight" fmla="*/ 3463200 w 4321080"/>
              <a:gd name="textAreaTop" fmla="*/ 279360 h 3249720"/>
              <a:gd name="textAreaBottom" fmla="*/ 1854000 h 3249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опросы для рассмо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об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войства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едмет информа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Хранение цифров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т битов к бай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От байтов к файл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такое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сведения, которые человек получает в общении с природой и общество с помощью своих органов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войства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692360" y="1628640"/>
            <a:ext cx="597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формацию мо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24000" y="3357720"/>
            <a:ext cx="309564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з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258920" y="5157720"/>
            <a:ext cx="302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4643280" y="5157720"/>
            <a:ext cx="316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5292720" y="3284640"/>
            <a:ext cx="35640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рабат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3635280" y="2565360"/>
            <a:ext cx="93672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4572000" y="2565360"/>
            <a:ext cx="79200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H="1">
            <a:off x="2843280" y="2565360"/>
            <a:ext cx="1728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572000" y="256536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>
            <a:hlinkClick r:id="" action="ppaction://hlinkshowjump?jump=nextslide"/>
          </p:cNvPr>
          <p:cNvSpPr/>
          <p:nvPr/>
        </p:nvSpPr>
        <p:spPr>
          <a:xfrm>
            <a:off x="738036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6899" y="3794"/>
                </a:moveTo>
                <a:lnTo>
                  <a:pt x="20912" y="10800"/>
                </a:lnTo>
                <a:lnTo>
                  <a:pt x="689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>
            <a:hlinkClick r:id="rId1" action="ppaction://hlinksldjump"/>
          </p:cNvPr>
          <p:cNvSpPr/>
          <p:nvPr/>
        </p:nvSpPr>
        <p:spPr>
          <a:xfrm>
            <a:off x="8101080" y="6093000"/>
            <a:ext cx="576360" cy="5029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52" h="21600">
                <a:moveTo>
                  <a:pt x="0" y="0"/>
                </a:moveTo>
                <a:lnTo>
                  <a:pt x="24752" y="0"/>
                </a:lnTo>
                <a:lnTo>
                  <a:pt x="24752" y="21600"/>
                </a:lnTo>
                <a:lnTo>
                  <a:pt x="0" y="21600"/>
                </a:lnTo>
                <a:close/>
              </a:path>
              <a:path fill="lightenLess" w="24752" h="21600">
                <a:moveTo>
                  <a:pt x="0" y="0"/>
                </a:moveTo>
                <a:lnTo>
                  <a:pt x="24752" y="0"/>
                </a:lnTo>
                <a:lnTo>
                  <a:pt x="23352" y="1400"/>
                </a:lnTo>
                <a:lnTo>
                  <a:pt x="1400" y="1400"/>
                </a:lnTo>
                <a:close/>
              </a:path>
              <a:path fill="darken" w="24752" h="21600">
                <a:moveTo>
                  <a:pt x="24752" y="0"/>
                </a:moveTo>
                <a:lnTo>
                  <a:pt x="24752" y="21600"/>
                </a:lnTo>
                <a:lnTo>
                  <a:pt x="23352" y="20200"/>
                </a:lnTo>
                <a:lnTo>
                  <a:pt x="23352" y="1400"/>
                </a:lnTo>
                <a:close/>
              </a:path>
              <a:path fill="darkenLess" w="24752" h="21600">
                <a:moveTo>
                  <a:pt x="24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2" y="20200"/>
                </a:lnTo>
                <a:close/>
              </a:path>
              <a:path fill="lighten" w="24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2" h="21600">
                <a:moveTo>
                  <a:pt x="12376" y="3837"/>
                </a:moveTo>
                <a:lnTo>
                  <a:pt x="14952" y="6448"/>
                </a:ln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lnTo>
                  <a:pt x="19339" y="10800"/>
                </a:lnTo>
                <a:lnTo>
                  <a:pt x="17685" y="10800"/>
                </a:lnTo>
                <a:lnTo>
                  <a:pt x="17685" y="17989"/>
                </a:lnTo>
                <a:lnTo>
                  <a:pt x="7067" y="17989"/>
                </a:lnTo>
                <a:lnTo>
                  <a:pt x="7067" y="10800"/>
                </a:lnTo>
                <a:lnTo>
                  <a:pt x="5413" y="10800"/>
                </a:lnTo>
                <a:close/>
              </a:path>
              <a:path fill="darkenLess" w="24752" h="21600">
                <a:moveTo>
                  <a:pt x="14952" y="6448"/>
                </a:moveTo>
                <a:lnTo>
                  <a:pt x="14952" y="4707"/>
                </a:lnTo>
                <a:lnTo>
                  <a:pt x="16728" y="4707"/>
                </a:lnTo>
                <a:lnTo>
                  <a:pt x="16728" y="8224"/>
                </a:lnTo>
                <a:close/>
              </a:path>
              <a:path fill="darkenLess" w="24752" h="21600">
                <a:moveTo>
                  <a:pt x="11453" y="14299"/>
                </a:moveTo>
                <a:lnTo>
                  <a:pt x="13299" y="14299"/>
                </a:lnTo>
                <a:lnTo>
                  <a:pt x="13299" y="17989"/>
                </a:lnTo>
                <a:lnTo>
                  <a:pt x="17685" y="17989"/>
                </a:lnTo>
                <a:lnTo>
                  <a:pt x="17685" y="10800"/>
                </a:lnTo>
                <a:lnTo>
                  <a:pt x="7067" y="10800"/>
                </a:lnTo>
                <a:lnTo>
                  <a:pt x="7067" y="17989"/>
                </a:lnTo>
                <a:lnTo>
                  <a:pt x="11453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дмет 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формат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техническая наука, систематизирующая приемы создания, хранения, обработки и передачи информации средствами вычислительной техники, а также принципы функционирования этих средств и методы управлени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700360" y="1413000"/>
            <a:ext cx="4103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826920" y="2924280"/>
            <a:ext cx="338472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Аналог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076720" y="2852640"/>
            <a:ext cx="345600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ифр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3779640" y="2349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4716360" y="2349360"/>
            <a:ext cx="7192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0920" y="4005360"/>
            <a:ext cx="8713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алогово-цифровое преобразование (АЦП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ние аналог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формации в цифров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11640" y="3284640"/>
            <a:ext cx="865080" cy="360360"/>
          </a:xfrm>
          <a:prstGeom prst="rightArrow">
            <a:avLst>
              <a:gd name="adj1" fmla="val 50000"/>
              <a:gd name="adj2" fmla="val 60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" action="ppaction://hlinkshowjump?jump=nextslide"/>
          </p:cNvPr>
          <p:cNvSpPr/>
          <p:nvPr/>
        </p:nvSpPr>
        <p:spPr>
          <a:xfrm>
            <a:off x="7308720" y="6165720"/>
            <a:ext cx="648000" cy="503280"/>
          </a:xfrm>
          <a:custGeom>
            <a:avLst/>
            <a:gdLst>
              <a:gd name="textAreaLeft" fmla="*/ 32400 w 648000"/>
              <a:gd name="textAreaRight" fmla="*/ 615600 w 64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07" h="21600">
                <a:moveTo>
                  <a:pt x="0" y="0"/>
                </a:moveTo>
                <a:lnTo>
                  <a:pt x="27807" y="0"/>
                </a:lnTo>
                <a:lnTo>
                  <a:pt x="27807" y="21600"/>
                </a:lnTo>
                <a:lnTo>
                  <a:pt x="0" y="21600"/>
                </a:lnTo>
                <a:close/>
              </a:path>
              <a:path fill="lightenLess" w="27807" h="21600">
                <a:moveTo>
                  <a:pt x="0" y="0"/>
                </a:moveTo>
                <a:lnTo>
                  <a:pt x="27807" y="0"/>
                </a:lnTo>
                <a:lnTo>
                  <a:pt x="26407" y="1400"/>
                </a:lnTo>
                <a:lnTo>
                  <a:pt x="1400" y="1400"/>
                </a:lnTo>
                <a:close/>
              </a:path>
              <a:path fill="darken" w="27807" h="21600">
                <a:moveTo>
                  <a:pt x="27807" y="0"/>
                </a:moveTo>
                <a:lnTo>
                  <a:pt x="27807" y="21600"/>
                </a:lnTo>
                <a:lnTo>
                  <a:pt x="26407" y="20200"/>
                </a:lnTo>
                <a:lnTo>
                  <a:pt x="26407" y="1400"/>
                </a:lnTo>
                <a:close/>
              </a:path>
              <a:path fill="darkenLess" w="27807" h="21600">
                <a:moveTo>
                  <a:pt x="278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07" y="20200"/>
                </a:lnTo>
                <a:close/>
              </a:path>
              <a:path fill="lighten" w="278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07" h="21600">
                <a:moveTo>
                  <a:pt x="6897" y="3794"/>
                </a:moveTo>
                <a:lnTo>
                  <a:pt x="20910" y="10800"/>
                </a:lnTo>
                <a:lnTo>
                  <a:pt x="6897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>
            <a:hlinkClick r:id="rId1" action="ppaction://hlinksldjump"/>
          </p:cNvPr>
          <p:cNvSpPr/>
          <p:nvPr/>
        </p:nvSpPr>
        <p:spPr>
          <a:xfrm>
            <a:off x="802800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Хранение цифров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фров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ранится в виде числового кода, который называется дво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информации, которая выражает логическое значение ДА или НЕТ и обозначается двоичным числом 1 или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rId1" action="ppaction://hlinksldjump"/>
          </p:cNvPr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итов к байт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группа из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сьми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би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й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выразит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56 разных знач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Байт принимает значения от 0 до 2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7524720" y="602136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>
            <a:hlinkClick r:id="rId1" action="ppaction://hlinksldjump"/>
          </p:cNvPr>
          <p:cNvSpPr/>
          <p:nvPr/>
        </p:nvSpPr>
        <p:spPr>
          <a:xfrm>
            <a:off x="817236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т байтов к файла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й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о наименьшая единица хранения информации, содержащая последовательность байтов и имеющая уникальн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437000"/>
            <a:ext cx="26636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й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780000" y="4437000"/>
            <a:ext cx="2663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732720" y="4292640"/>
            <a:ext cx="2160360" cy="1441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132000" y="501336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443640" y="5013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>
            <a:hlinkClick r:id="" action="ppaction://hlinkshowjump?jump=nextslide"/>
          </p:cNvPr>
          <p:cNvSpPr/>
          <p:nvPr/>
        </p:nvSpPr>
        <p:spPr>
          <a:xfrm>
            <a:off x="702000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7740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9:28:58Z</dcterms:created>
  <dc:creator>Дима</dc:creator>
  <dc:description/>
  <dc:language>en-US</dc:language>
  <cp:lastModifiedBy>LEGION</cp:lastModifiedBy>
  <dcterms:modified xsi:type="dcterms:W3CDTF">2015-04-01T07:21:04Z</dcterms:modified>
  <cp:revision>5</cp:revision>
  <dc:subject/>
  <dc:title>Введение в информатику</dc:title>
</cp:coreProperties>
</file>