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7C4F-2DAC-4D1C-B229-FEA064BA06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использования компьютерной техники в офиса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6C86-EB2E-4E04-A21C-1D59DC62910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мостоятельная рабо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F822-C0CE-4966-B796-8E53282A8CC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ROSOFT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F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18EE-B1C3-4094-8345-0B288A2115E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зываются документами): писем, отчётов, книг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E101-DEC6-4635-989F-07DB2FA5F7C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зываются рабочими кни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8542-44BA-4308-83A9-B0A35EA0B98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создания презентаций, которая во многом напомина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66D5-B987-4BDD-AF08-82275C1705D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личный электронный секретарь, незаменимый в любом офисе.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lock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FEC9-02B7-476D-BF80-82A6400872A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управления реляционными базами данных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сто позволяет создавать таблицы данных и оперировать 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74E6-C022-4893-8FCD-E3257BF515B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F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E39A-E1A7-4F03-84FD-D764B49CADD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прикладных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кстовый процесс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грамма электронных таб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создания презент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й электронный секрета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управления реляционны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0D15-24B1-4D21-8249-20C2C06CDEC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C086-CA89-4BD5-84A4-F979FBA6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B8B-0F02-4318-997F-AC40F011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7EF-9B35-49F1-9C0D-E63D971F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968-2A91-4377-9041-713C42F5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972A-34C9-42F6-8AA3-E8C872D9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6270-1375-4E2B-A198-9A9BCEA0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C639-CB7A-4262-9BE7-B5FC4953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7907-E07C-45B7-AAFA-3511D3E8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5989-2D54-405F-ACE7-2EE73302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BDDF-808E-4356-8ED7-4BBCC74C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D6FB-C4EE-4689-BEFF-90A8E9B3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9B6-6B8C-4162-94FD-4ED95881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955F-901A-4D41-B5A5-0F188171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3312-6DBF-4E86-8019-8BBC2D98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9FBA-9FA9-4604-8889-CC4DB972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6D44-B8FB-4162-A9E3-05C953BE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D763-9C41-4771-ACBE-3005BE22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8CE-283B-4BF7-982C-35C7EC78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47A-C608-496A-AAA6-CD3B8EFD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7B3-7A96-4184-9D35-E0850105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308-3B80-483D-A424-0A5AF85D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1D9-38A0-4E4A-9D69-78D5F660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0AB-B248-4A90-A39A-4194554E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89A-9E0B-4D15-AB08-CC8F97C6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E8FC-8477-498F-AEC0-556BECC7F83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5151-8D68-4C76-B00B-C52A97D1EF1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LEGION</cp:lastModifiedBy>
  <dcterms:modified xsi:type="dcterms:W3CDTF">2015-04-01T07:21:26Z</dcterms:modified>
  <cp:revision>7</cp:revision>
  <dc:subject/>
  <dc:title>Возможности использования компьютерной техники в офисах фирм.</dc:title>
</cp:coreProperties>
</file>