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5BAA-7E35-4537-B487-470EE6613C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использования компьютерной техники в офиса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5C6E-AE55-4A5F-B740-7B32DBD4466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мостоятельная рабо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854C-0301-4578-A269-11503F5CF83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ROSOFT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FI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FC98-2583-422D-A863-B8CA674C6F4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зываются документами): писем, отчётов, книг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6F11-6C79-41E3-8BC5-9DBB98DF2EB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зываются рабочими кни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03CC-6240-4091-9C80-D79D5B16B41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создания презентаций, которая во многом напомина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0D3B-A940-4692-B118-144171E2303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личный электронный секретарь, незаменимый в любом офисе.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lock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D115-91B1-4A7F-9871-FB5E0F71DDA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управления реляционными базами данных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сто позволяет создавать таблицы данных и оперировать 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BB11-55AD-4514-8CF1-CDCE43FEF08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F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FA2F-A834-40B3-A305-747F46507DE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прикладных про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кстовый процесс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грамма электронных таб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создания презент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й электронный секретар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управления реляционными да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AD6C-7C64-4762-A26A-8649153E5F4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E9C-8197-4C46-A471-F0D8845B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BC9-9038-489B-9A52-930162E7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8D90-5A1A-43D8-9F3A-3A7186F7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80A-6A33-44D5-8561-50679236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1E5E-ECE0-4714-B8CF-8E072101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79AA-776C-4DE3-8789-5E56B123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058D-688C-4AF3-BF8F-C494A8B8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739B-234E-44EC-B2F7-5B55EBF5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6EC3-C897-4F34-A3AA-D80AC6DD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FE1D-68D3-48C2-A569-89A06414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79FE-026A-4FD5-8DC7-27BE2140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814-A0E3-4CE7-9F5B-E356A992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1E6A-BDD8-4647-B923-BA9B9398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55AF-34AC-4AD8-8D65-150713E5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28A5-DB03-4130-B219-D0D6D8A3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8A57-5664-4F67-8DDC-5F64FD30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5B3A-B397-4647-AAF4-20039C2B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2C9-E1B6-41BF-B243-FB949B34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56C-3157-45B3-8296-6107AEF8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315-5E30-4DAC-B566-66E61F3D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C528-748D-4F94-BFEC-1DFD8FB4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B341-DBDE-4127-A573-2D751677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0BA-2D5B-401E-ABE0-571D8068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4B56-7BB0-4CBB-B1E8-A834221F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6529-940C-43B8-8FE1-56B58D530A4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65D2-C826-410A-90DF-8E16A911A55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озможности использования компьютерной техники в офисах фирм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16360" y="3573360"/>
            <a:ext cx="410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БОУ Ново-Павловская СО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ыполнил: Учитель технологии Пятилокотова О.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012000" y="59500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амостоятельная работ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ROSOFT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Exce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Word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называются документами): писем, отчётов, книг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Excel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азываются рабочими кн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Power Point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создания презентаций, которая во многом напомин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Outlock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личный электронный секретарь, незаменимый в любом офисе.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lock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ccess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базами данных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осто позволяет создавать таблицы данных и оперировать и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F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ffice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кет прикладных програм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текстовый процессо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Excel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грамма электронных таблиц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создания презент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utlock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й электронный секрет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Access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да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16:25Z</dcterms:created>
  <dc:creator>www.PHILka.RU</dc:creator>
  <dc:description/>
  <dc:language>en-US</dc:language>
  <cp:lastModifiedBy>LEGION</cp:lastModifiedBy>
  <dcterms:modified xsi:type="dcterms:W3CDTF">2015-04-01T07:21:26Z</dcterms:modified>
  <cp:revision>7</cp:revision>
  <dc:subject/>
  <dc:title>Возможности использования компьютерной техники в офисах фирм.</dc:title>
</cp:coreProperties>
</file>