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9BD2-9439-4972-8AB4-98CF81A4E96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и использования компьютерной техники в офисах фи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2A94-1BC4-4180-A5F6-716D91D3A17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амостоятельная рабо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ите, какие офисные принадлежности могут быть с успехом заменены компьютерной техн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ите преимущества замены устаревших офисных «орудий труда» компьютерной техн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ите, какие на ваш взгляд, недостатки имеет компьютерная техника по сравнению с традиционными методами работы в офи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, какие прикладные программы и как вы могли бы использовать в своей учеб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4040-0EDB-4E22-991F-D83A88C3B85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CROSOFT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FI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Word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Exce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Power Poin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utlock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Acc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E898-892E-4E07-9F48-BC6DACAD1A6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Word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ЕКСТОВЫЙ ПРЦЕССОР, КОТОРЫЙ ИСПОЛЬЗУЕТСЯ ДЛЯ СОЗДАНИЯ ТЕКСТОВЫХ ДОКУМЕНТОВ (ФАЙЛЫ, СОЗДАВАЕМЫЕ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азываются документами): писем, отчётов, книг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5DD8-E025-4D08-91F9-F579F33DEB6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Excel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грамма электронных таблиц, которая позволяет проводить числовой анализ. Это великолепный способ выполнения самых разнообразных расчётов. Файлы, создаваемые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e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азываются рабочими книг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38F1-2CF0-473D-8020-3A79029C18B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Power Point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грамма создания презентаций, которая во многом напоминае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о только вместо текстового документа в данном случае создаются цветные слайды.Эти слайды затем можно вывести на 35-мм цветную плёнку для демонстрации с помощью проектора ,для показа на экране компьютера, т.е. презент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D83E-F0E1-4798-B195-B042280E29C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utlock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личный электронный секретарь, незаменимый в любом офисе.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lock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ходит удобная программа работы с электронной почтой, которую можно использовать, если компьютер, установленный в офисе, подключен к сети Интернет или любой диалоговой сервисной служ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F5AF-6EDE-407E-8EDD-692C091F252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Access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грамма управления реляционными базами данных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s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сто позволяет создавать таблицы данных и оперировать и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F537-37E9-4AB5-B7F7-3B5F3B7CDFA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ня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ff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Power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utlo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Fc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BBAD-51FB-48A8-8B14-9CF0664855A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ня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ffice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кет прикладных програм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Word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кстовый процессо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Excel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грамма электронных табли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Power Point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 создания презент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Outlock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й электронный секретар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oft Access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грамма управления реляционными да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DABB-1E8C-466D-A1D5-874FC11641D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A188-8655-49B6-8D3D-F93289987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F15E-ABD7-4743-B9A7-B10AD5E4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D182-44E9-4926-8BD8-7E68D327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444D-E563-4F8B-8EC0-3D6E638FE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9449-18C8-48AB-9207-2A832B407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E3419-11B2-4FA7-AC64-A183A6BE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C79D4-23C5-422F-A4E7-BECCF74B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4AC3-F2E7-4FC5-BD2F-D70F6645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F1A5-48A9-405C-B8C4-9E046225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0255-8DD0-4B4C-A05A-0745A93E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7CBCF-25AD-41B0-965D-2532ED33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0AC8-0AEF-4C1B-AC78-B22AF9E2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6BF3-9E41-465E-A84F-B692E317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0C76-7059-4391-8795-19BA05F0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6B18-6588-4E80-9F65-1EE5ACFA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EC49-65FC-453F-A6AF-8DFEFD27A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F79B-A669-4EDF-A5E3-EF97B4C23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2ABC-ED55-4D36-B1EA-2F81775B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526A-4961-43D8-AEC6-956A58B9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A12A-5641-498E-B820-A2F50F50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E1A3-66D1-4C24-BBC6-05329904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3360-E166-47B4-B473-EC6A6A72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E04A-CD59-449F-982C-E7A05C38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FFDA-0E2C-41A9-A6C5-776EB2C5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CBEF-8C31-475F-9FAD-E5723CF8265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7555-AA53-49F8-B6EC-6008FFB81B6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Возможности использования компьютерной техники в офисах фирм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716360" y="3573360"/>
            <a:ext cx="4105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БОУ Ново-Павловская СОШ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ыполнил: Учитель технологии Пятилокотова О.П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012000" y="595008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10 класс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Самостоятельная работа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еречислите, какие офисные принадлежности могут быть с успехом заменены компьютерной технико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еречислите преимущества замены устаревших офисных «орудий труда» компьютерной технико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еречислите, какие на ваш взгляд, недостатки имеет компьютерная техника по сравнению с традиционными методами работы в офиса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зовите , какие прикладные программы и как вы могли бы использовать в своей учебной деятельност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CROSOFT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FIS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Word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Excel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Power Point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utlock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Acc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Word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О ТЕКСТОВЫЙ ПРЦЕССОР, КОТОРЫЙ ИСПОЛЬЗУЕТСЯ ДЛЯ СОЗДАНИЯ ТЕКСТОВЫХ ДОКУМЕНТОВ (ФАЙЛЫ, СОЗДАВАЕМЫЕ В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ord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называются документами): писем, отчётов, книг и т.д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Excel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электронных таблиц, которая позволяет проводить числовой анализ. Это великолепный способ выполнения самых разнообразных расчётов. Файлы, создаваемые 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cel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называются рабочими книгам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Power Point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создания презентаций, которая во многом напоминает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d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но только вместо текстового документа в данном случае создаются цветные слайды.Эти слайды затем можно вывести на 35-мм цветную плёнку для демонстрации с помощью проектора ,для показа на экране компьютера, т.е. презентаци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Outlock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личный электронный секретарь, незаменимый в любом офисе. 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utlock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ходит удобная программа работы с электронной почтой, которую можно использовать, если компьютер, установленный в офисе, подключен к сети Интернет или любой диалоговой сервисной служб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Access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управления реляционными базами данных.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ess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просто позволяет создавать таблицы данных и оперировать им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новные понят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ff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Wo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Power Po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utlo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Fcc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новные понят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Office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акет прикладных програм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Word-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текстовый процессор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Excel-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рограмма электронных таблиц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Power Point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грамма создания презентаци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Outlock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ичный электронный секретарь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Access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о программа управления реляционными данны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3:16:25Z</dcterms:created>
  <dc:creator>www.PHILka.RU</dc:creator>
  <dc:description/>
  <dc:language>en-US</dc:language>
  <cp:lastModifiedBy>LEGION</cp:lastModifiedBy>
  <dcterms:modified xsi:type="dcterms:W3CDTF">2015-04-01T07:21:26Z</dcterms:modified>
  <cp:revision>7</cp:revision>
  <dc:subject/>
  <dc:title>Возможности использования компьютерной техники в офисах фирм.</dc:title>
</cp:coreProperties>
</file>