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FDAA-E6F9-44BF-B8BB-AA62E0E71F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ательск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7c80"/>
                </a:solidFill>
                <a:latin typeface="Calibri"/>
              </a:rPr>
              <a:t>PageMak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E245-A576-4355-916B-0158F9B5C6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итра инстру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ерстке макета необходимо сообщать PageMaker о том, какого рода операции вы собираетесь делать: размещать элементы макета, редактировать текст, рисовать линии и фигуры и т. п. Сообщить это вы можете, выбрав соответствующий инструмент в палитре инстру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ы ее не видите, то включите ее отображение командо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how Tool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казать инструменты) из мен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Window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кно)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BFBF-B98E-4902-8930-1E1DC87EA6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нструменты палитр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Pointer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Стрелка). Используется при размещении элементов макета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Text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Текст). Используется для локального форматирования текста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Rotating Tool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Поворот). Предназначен для поворота элементов макета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Cropping Tool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Рамка). Позволяет производить обрезку имеющихся в публикации изображений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Lin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Линия). Используется для рисования линий с произвольным углом наклона </a:t>
            </a:r>
            <a:r>
              <a:rPr b="0" i="1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Constrained Lin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Перпендикуляр). То же, что и 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Lin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Линия), но для создания вертикальных и горизонтальных линий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Rectangl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Прямоугольник). Предназначен для рисования прямоугольников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Ellips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Эллипс). Служит для рисования эллипсов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Polygon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Многоугольник). Предназначен для рисования многоугольников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Rectangle Fram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Прямоугольный фрейм). Создает прямоугольный фрейм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Ellipse Fram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Овальный фрейм). Предназначен для создания овального фрейма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Polygon Fram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Многоугольный фрейм). Создает многоугольный фрейм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Hand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Рука). Позволяет перемещать изображение страницы внутри окна документа при работе в крупном масштабе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Zoom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Масштаб). Изменяет масштаб отображения страницы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9E03-8347-4352-9F01-17E1FE8E9E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сштаб отображения страницы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кончательного позиционирования, редактирования и форматирования текста, рисования мелких элементов и т. п. требуется увеличение масштаба. Масштабирование проводят командами мен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смотр), с помощью контекстного меню или инструменто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Zoom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асштаб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иболее необходимы следующие комбинации клавиш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5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масштаба 50%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7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масштаба 75%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1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масштаба 100%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2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масштаба 200%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4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масштаба 400%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+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команд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Zoom I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величить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- 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команд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Zoom Out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меньш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141D-3376-4C28-9A11-86977A4B74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стольная издательская система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PageMak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программа для создания различной типографской продукции: книг, журналов, газет, буклето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7c80"/>
                </a:solidFill>
                <a:latin typeface="Calibri"/>
              </a:rPr>
              <a:t>Возмож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ное позиционирование объ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ка межсловных и межбуквенных интерв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ое размещение , поворот и отражение отдельных текстовых бло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орот, отражение, масштабирование, наклон графических объ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льное обтекание графики текс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ение текста и граф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590E-02F7-4A31-B6E2-F8AA3C0304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новой публ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ачала работы нужно либо открыть существующую публикацию, либо создать новую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рав команд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Ope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ткрыть) мен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File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айл) вы откроете стандартное диалоговое окно выбора файл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B330-13BD-4D06-9D35-E6067D97E3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Чтобы создать новую, пустую публикацию, выберите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команду New (Новый) меню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File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(Файл)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диалоговом окне 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Document Setup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Параметры документа) укажите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формат публикации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риентацию листов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спользование двусторонней печати, отображение на экране разворота публикации или одиночных страниц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оличество страниц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омер первой страницы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меры полей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едполагаемое устройство вывода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решающую способность устройства вывода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ПРИМЕЧАНИЕ</a:t>
            </a: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: эта информация абсолютно необходима PageMaker, и если вы не ввели какое-либо значение из приведенного списка, будут приняты значения по умолчанию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65AA-10E6-475B-A8A4-4A7D9E2271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кна документов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1E7E-6327-4CC0-A622-9ECB146349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ерехода от одной страницы к другой служат пиктограммы с номерами страниц, в нижней левой части окна документа (слева от полосы прокрутки)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Щелкните мышью на пиктограмме с номером страницы, и она будет открыта. Если пиктограмма нужной страницы не видна на экране, до нее можно добраться с помощью полос прокрутки, расположенных слева и справа от списка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ECC2-77D4-42CF-B154-4C4B795A7A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алит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литр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это небольшие немодальные окна, в которых собраны элементы управления программой или отображается какая-либо текущая информация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иды палитр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палитра инструментов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 тип выполняемой работ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правляющая палитр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ет быстрый доступ к функциям форматирования абзацев и символ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палитра цветов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воляет назначать цвет элементам макета и определять цве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палитра стилей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коряет доступ к функциям форматирования абзацев с помощью стил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палитра слоев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воляет создавать многослойные макеты и управлять слоя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7c8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палитра шаблон-страниц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назначена для создания шаблон-страниц и назначения их страницам публик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палитра гиперссылок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воляет создавать перекрестные ссылки внутри и между элементами публикаци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1D32-9FE5-4340-8E0C-568FB9BC32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мещение палит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итры можно размещать произвольным образом и в любой момент можно убрать любую из них с экрана и вернуть обрат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ображение палитр включается соответствующими команд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how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&lt;имя палитры&gt;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казать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&lt;имя палитры&gt;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мен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Window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кно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алитра уже отображается на экране, то имени палитры предшествует слов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ide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прятать). Выбрав этот пункт, вы уберете соответствующую палитру с экра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ЧАНИЕ: PageMaker запоминает положение палитр на экране, и палитры в момент открытия программы появляются в тех местах, в которых они находились в момент закрыт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стро убрать все палитры с экрана можно клавишей табуляции при активном инструмент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Pointer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трелка)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бинация клавиш &lt;Shift&gt;+&lt;Tab&gt; также убирает все палитры, кроме палитры инструмент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3C6C-F288-4761-AF92-7EDCDC9256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867A-943E-4081-8AD8-42C004287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81AD-F4F6-4FC3-AB51-535BC34E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4EA9-0937-476A-8711-E77E54551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615A-A280-47AA-9682-CEA3F2422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3089-043F-4E65-8E1F-A62132946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4623-0C1E-40B9-A249-BF9EEF1C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E81E-3369-431A-BA46-73A35DDB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8D45-B99E-4B8E-8624-46A656AC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8C7F-58E6-4AA2-BE16-C26B44DE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9060-A8D4-4FB9-BB4A-3F8D1749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BA5B-DC7F-46F3-AC01-8140C205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0A8A-1F33-4524-81D8-E6699297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FECF-D61B-484E-A96F-E21927A0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C6F5-65D4-4C2F-A11C-8F6BDF4E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4C1A-F655-4A26-93E0-923D5697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7B3F-3322-4C60-9A70-EF5D63556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6237C-E489-4F87-95DA-1E4F0F91C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6349-DCA2-472F-87C6-1B7A3246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6507-6C4F-4163-A66F-334BE220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E7BA-2286-4BEA-A4F8-0665C630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6B07-9A59-41D8-A7F0-72C2EAF7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513C-D13A-47BF-AB5F-23CC2AEF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FCE9-C636-4D30-A599-0630525C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52FA-2651-4548-B201-D2C10F4B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1F80-CD51-4BF6-B17D-D936B5D99FD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751A-CB59-4300-9E45-E86C04A1393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4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5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6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7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8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9.png"/><Relationship Id="rId29" Type="http://schemas.openxmlformats.org/officeDocument/2006/relationships/slideLayout" Target="../slideLayouts/slideLayout1.xml"/><Relationship Id="rId3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42472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33"/>
                </a:solidFill>
                <a:latin typeface="Arial"/>
              </a:rPr>
              <a:t>Издательская система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63640" y="306864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7c80"/>
                </a:solidFill>
                <a:latin typeface="Arial"/>
              </a:rPr>
              <a:t>PageMak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ижний колонтитул 5"/>
          <p:cNvSpPr/>
          <p:nvPr/>
        </p:nvSpPr>
        <p:spPr>
          <a:xfrm>
            <a:off x="3124080" y="6000840"/>
            <a:ext cx="28958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Абрамкина Татьяна Николаевн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учитель информатики сш №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г. Петропавловск, Казахст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алитра инструменто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8355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ерстке макета необходимо сообщать PageMaker о том, какого рода операции вы собираетесь делать: размещать элементы макета, редактировать текст, рисовать линии и фигуры и т. п. Сообщить это вы можете, выбрав соответствующий инструмент в палитре инструм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вы ее не видите, то включите ее отображение командо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Show Tools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казать инструменты) из мен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Window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кно)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9"/>
          <p:cNvPicPr/>
          <p:nvPr/>
        </p:nvPicPr>
        <p:blipFill>
          <a:blip r:embed="rId1"/>
          <a:stretch/>
        </p:blipFill>
        <p:spPr>
          <a:xfrm>
            <a:off x="6516720" y="1052640"/>
            <a:ext cx="1244520" cy="44654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1"/>
          <p:cNvSpPr/>
          <p:nvPr/>
        </p:nvSpPr>
        <p:spPr>
          <a:xfrm>
            <a:off x="1403280" y="966600"/>
            <a:ext cx="741672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Pointer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трелка). Используется при размещении элементов макет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Tex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Текст). Используется для локального форматирования текст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Rotating Tool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ворот). Предназначен для поворота элементов макет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Cropping Tool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амка). Позволяет производить обрезку имеющихся в публикации изображ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Lin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иния). Используется для рисования линий с произвольным углом наклона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Constrained Lin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ерпендикуляр). То же, что 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Lin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иния), но для создания вертикальных и горизонтальных линий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Rectangl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ямоугольник). Предназначен для рисования прямоугольник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Ellips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Эллипс). Служит для рисования эллипс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Polygon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ногоугольник). Предназначен для рисования многоугольник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Rectangle Fram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ямоугольный фрейм). Создает прямоугольный фрейм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Ellipse Fram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вальный фрейм). Предназначен для создания овального фрейма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Polygon Fram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ногоугольный фрейм). Создает многоугольный фрейм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Hand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ука). Позволяет перемещать изображение страницы внутри окна документа при работе в крупном масштабе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Zoom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асштаб). Изменяет масштаб отображения страниц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Инструменты палитр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42" name="Object 27"/>
          <p:cNvGraphicFramePr/>
          <p:nvPr/>
        </p:nvGraphicFramePr>
        <p:xfrm>
          <a:off x="1042920" y="1730520"/>
          <a:ext cx="390600" cy="31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30520"/>
                    <a:ext cx="39060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22"/>
          <p:cNvGraphicFramePr/>
          <p:nvPr/>
        </p:nvGraphicFramePr>
        <p:xfrm>
          <a:off x="1042920" y="907920"/>
          <a:ext cx="399960" cy="35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907920"/>
                    <a:ext cx="3999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24"/>
          <p:cNvGraphicFramePr/>
          <p:nvPr/>
        </p:nvGraphicFramePr>
        <p:xfrm>
          <a:off x="1073160" y="1341360"/>
          <a:ext cx="352440" cy="33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Object 2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73160" y="1341360"/>
                    <a:ext cx="35244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29"/>
          <p:cNvGraphicFramePr/>
          <p:nvPr/>
        </p:nvGraphicFramePr>
        <p:xfrm>
          <a:off x="1042920" y="2090880"/>
          <a:ext cx="409680" cy="333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" name="Object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42920" y="2090880"/>
                    <a:ext cx="40968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31"/>
          <p:cNvGraphicFramePr/>
          <p:nvPr/>
        </p:nvGraphicFramePr>
        <p:xfrm>
          <a:off x="1042920" y="2492280"/>
          <a:ext cx="390600" cy="333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1" name="Object 3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42920" y="2492280"/>
                    <a:ext cx="3906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32"/>
          <p:cNvGraphicFramePr/>
          <p:nvPr/>
        </p:nvGraphicFramePr>
        <p:xfrm>
          <a:off x="1042920" y="2852640"/>
          <a:ext cx="409680" cy="343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3" name="Object 3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42920" y="2852640"/>
                    <a:ext cx="409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33"/>
          <p:cNvGraphicFramePr/>
          <p:nvPr/>
        </p:nvGraphicFramePr>
        <p:xfrm>
          <a:off x="1042920" y="3286080"/>
          <a:ext cx="343080" cy="304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5" name="Object 3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42920" y="3286080"/>
                    <a:ext cx="3430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34"/>
          <p:cNvGraphicFramePr/>
          <p:nvPr/>
        </p:nvGraphicFramePr>
        <p:xfrm>
          <a:off x="1042920" y="4351320"/>
          <a:ext cx="362160" cy="361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7" name="Object 3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042920" y="4351320"/>
                    <a:ext cx="3621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35"/>
          <p:cNvGraphicFramePr/>
          <p:nvPr/>
        </p:nvGraphicFramePr>
        <p:xfrm>
          <a:off x="1042920" y="3645000"/>
          <a:ext cx="352440" cy="314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9" name="Object 3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042920" y="3645000"/>
                    <a:ext cx="3524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36"/>
          <p:cNvGraphicFramePr/>
          <p:nvPr/>
        </p:nvGraphicFramePr>
        <p:xfrm>
          <a:off x="1042920" y="4740120"/>
          <a:ext cx="352440" cy="295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61" name="Object 3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42920" y="4740120"/>
                    <a:ext cx="352440" cy="2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37"/>
          <p:cNvGraphicFramePr/>
          <p:nvPr/>
        </p:nvGraphicFramePr>
        <p:xfrm>
          <a:off x="1116000" y="4019400"/>
          <a:ext cx="324000" cy="324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3" name="Object 3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116000" y="4019400"/>
                    <a:ext cx="32400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38"/>
          <p:cNvGraphicFramePr/>
          <p:nvPr/>
        </p:nvGraphicFramePr>
        <p:xfrm>
          <a:off x="1042920" y="5113440"/>
          <a:ext cx="343080" cy="3045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65" name="Object 3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042920" y="5113440"/>
                    <a:ext cx="34308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39"/>
          <p:cNvGraphicFramePr/>
          <p:nvPr/>
        </p:nvGraphicFramePr>
        <p:xfrm>
          <a:off x="1042920" y="5516640"/>
          <a:ext cx="362160" cy="314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67" name="Object 39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042920" y="5516640"/>
                    <a:ext cx="36216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40"/>
          <p:cNvGraphicFramePr/>
          <p:nvPr/>
        </p:nvGraphicFramePr>
        <p:xfrm>
          <a:off x="1042920" y="5950080"/>
          <a:ext cx="371520" cy="295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69" name="Object 40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042920" y="5950080"/>
                    <a:ext cx="37152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Масштаб отображения страницы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468360" y="105264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окончательного позиционирования, редактирования и форматирования текста, рисования мелких элементов и т. п. требуется увеличение масштаба. Масштабирование проводят командами меню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View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росмотр), с помощью контекстного меню или инструменто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Zoo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Масштаб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684360" y="2924280"/>
            <a:ext cx="720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иболее необходимы следующие комбинации клавиш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5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масштаба 50%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7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масштаба 75%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1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масштаба 100%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2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масштаба 200%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4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масштаба 400%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+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команд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Zoom In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величить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- 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команд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Zoom Out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меньш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395280" y="54936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стольная издательская система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geMak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это программа для создания различной типографской продукции: книг, журналов, газет, буклетов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50920" y="1773360"/>
            <a:ext cx="86407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7c80"/>
                </a:solidFill>
                <a:latin typeface="Arial"/>
              </a:rPr>
              <a:t>Возмож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ное позиционирование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ка межсловных и межбуквенных интерв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бодное размещение , поворот и отражение отдельных текстовых бло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орот, отражение, масштабирование, наклон графических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звольное обтекание графики текс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ожение текста и граф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4100"/>
            </a:br>
            <a:br>
              <a:rPr sz="4100"/>
            </a:br>
            <a:endParaRPr b="0" lang="en-US" sz="4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900000" y="3333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7c80"/>
                </a:solidFill>
                <a:latin typeface="Arial"/>
              </a:rPr>
              <a:t>Интерфейс пользова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-533880" y="1348200"/>
            <a:ext cx="10213560" cy="41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3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2"/>
          <p:cNvPicPr/>
          <p:nvPr/>
        </p:nvPicPr>
        <p:blipFill>
          <a:blip r:embed="rId1"/>
          <a:stretch/>
        </p:blipFill>
        <p:spPr>
          <a:xfrm>
            <a:off x="971640" y="1125360"/>
            <a:ext cx="7273800" cy="52279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2627280" y="39337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литра инстр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 flipH="1" flipV="1">
            <a:off x="2268360" y="2997000"/>
            <a:ext cx="50328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788000" y="2492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рока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0"/>
          <p:cNvSpPr/>
          <p:nvPr/>
        </p:nvSpPr>
        <p:spPr>
          <a:xfrm flipH="1" flipV="1">
            <a:off x="5148000" y="1628280"/>
            <a:ext cx="43164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4479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2843280" y="3068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правляющая пан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3"/>
          <p:cNvSpPr/>
          <p:nvPr/>
        </p:nvSpPr>
        <p:spPr>
          <a:xfrm flipV="1">
            <a:off x="4356000" y="206028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оздание новой публикаци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696080" cy="14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ля начала работы нужно либо открыть существующую публикацию, либо создать новую.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ыбрав команду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Open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Открыть) меню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File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Файл) вы откроете стандартное диалоговое окно выбора файлов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3"/>
          <p:cNvPicPr/>
          <p:nvPr/>
        </p:nvPicPr>
        <p:blipFill>
          <a:blip r:embed="rId1"/>
          <a:stretch/>
        </p:blipFill>
        <p:spPr>
          <a:xfrm>
            <a:off x="1547640" y="2637000"/>
            <a:ext cx="6480360" cy="36208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353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создать новую, пустую публикацию, выбери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анду New (Новый) мен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Fil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Файл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диалоговом окне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ocument Setup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Параметры документа) укажите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ат публикаци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иентацию листов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ование двусторонней печати, отображение на экране разворота публикации или одиночных страниц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ичество страниц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мер первой страниц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меры поле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полагаемое устройство вывод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решающую способность устройства выв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ИМЕЧАНИЕ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: эта информация абсолютно необходима PageMaker, и если вы не ввели какое-либо значение из приведенного списка, будут приняты значения по умолчанию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418608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кна документов 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9" name="Picture 6" descr="5"/>
          <p:cNvPicPr/>
          <p:nvPr/>
        </p:nvPicPr>
        <p:blipFill>
          <a:blip r:embed="rId1"/>
          <a:stretch/>
        </p:blipFill>
        <p:spPr>
          <a:xfrm>
            <a:off x="324000" y="981000"/>
            <a:ext cx="7488000" cy="568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7"/>
          <p:cNvSpPr/>
          <p:nvPr/>
        </p:nvSpPr>
        <p:spPr>
          <a:xfrm>
            <a:off x="3419640" y="3429000"/>
            <a:ext cx="172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ая страница публик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6516720" y="3500280"/>
            <a:ext cx="8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й сто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1187280" y="566100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рительные линей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0"/>
          <p:cNvSpPr/>
          <p:nvPr/>
        </p:nvSpPr>
        <p:spPr>
          <a:xfrm flipH="1" flipV="1">
            <a:off x="684360" y="5805000"/>
            <a:ext cx="5745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1"/>
          <p:cNvSpPr/>
          <p:nvPr/>
        </p:nvSpPr>
        <p:spPr>
          <a:xfrm flipV="1">
            <a:off x="1835280" y="2276280"/>
            <a:ext cx="360360" cy="33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13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ля перехода от одной страницы к другой служат пиктограммы с номерами страниц, в нижней левой части окна документа (слева от полосы прокрутки)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Щелкните мышью на пиктограмме с номером страницы, и она будет открыта. Если пиктограмма нужной страницы не видна на экране, до нее можно добраться с помощью полос прокрутки, расположенных слева и справа от списка. 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800" y="4500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6"/>
          <p:cNvPicPr/>
          <p:nvPr/>
        </p:nvPicPr>
        <p:blipFill>
          <a:blip r:embed="rId1"/>
          <a:stretch/>
        </p:blipFill>
        <p:spPr>
          <a:xfrm>
            <a:off x="3132000" y="4292640"/>
            <a:ext cx="2880000" cy="15303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b812f"/>
                </a:solidFill>
                <a:latin typeface="Garamond"/>
              </a:rPr>
              <a:t>Палитры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95280" y="981000"/>
            <a:ext cx="8459640" cy="58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литр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это небольшие немодальные окна, в которых собраны элементы управления программой или отображается какая-либо текущая информация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иды палит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палитра инструменто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ет тип выполняемой работ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правляющая палитра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ет быстрый доступ к функциям форматирования абзацев и символ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палитра цвето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воляет назначать цвет элементам макета и определять цве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палитра стиле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коряет доступ к функциям форматирования абзацев с помощью стиле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палитра слое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воляет создавать многослойные макеты и управлять слоя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палитра шаблон-страниц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назначена для создания шаблон-страниц и назначения их страницам публикац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палитра гиперссылок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воляет создавать перекрестные ссылки внутри и между элементами публикаци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Размещение палитр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литры можно размещать произвольным образом и в любой момент можно убрать любую из них с экрана и вернуть обра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ображение палитр включается соответствующими команд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Show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&lt;имя палитры&gt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казат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&lt;имя палитры&gt;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меню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Window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кно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алитра уже отображается на экране, то имени палитры предшествует слов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ide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прятать). Выбрав этот пункт, вы уберете соответствующую палитру с экра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ЧАНИЕ: PageMaker запоминает положение палитр на экране, и палитры в момент открытия программы появляются в тех местах, в которых они находились в момент закрыт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стро убрать все палитры с экрана можно клавишей табуляции при активном инструмент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ointer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трелка)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бинация клавиш &lt;Shift&gt;+&lt;Tab&gt; также убирает все палитры, кроме палитры инструментов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7:34:51Z</dcterms:created>
  <dc:creator>Абрамкина</dc:creator>
  <dc:description/>
  <dc:language>en-US</dc:language>
  <cp:lastModifiedBy>LEGION</cp:lastModifiedBy>
  <dcterms:modified xsi:type="dcterms:W3CDTF">2015-04-01T07:22:10Z</dcterms:modified>
  <cp:revision>7</cp:revision>
  <dc:subject/>
  <dc:title>Издательская система</dc:title>
</cp:coreProperties>
</file>