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7D58-25F0-47AA-AE1D-E84A701EAC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сквозного курса информатики 7-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лёв Сергей Григорьевич, учитель физики и информатики школы №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8C8F-7012-4657-B1B1-C4C0F94DA5C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, определяющие содержание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и рабочие програм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Э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й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3A51-A656-4A64-A50F-5015E446249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даментальное ядро содержания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ческая теория информации и модели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ретное (в том числе двоичное) представлен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количества информации. Сжат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и деко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 по формальным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. Способы записи алгоритмов; блок-схемы. Логические зна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, выражения. Алгоритмические конструкции (имена, ветвление, цик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ение задачи на подзадачи, вспомогательные алгорит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обрабатываемых объектов. Примеры алгорит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ная стратегия в иг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мые функции, формализация понятия вычислимой фун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та формализации. Сложность вычисления и сл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го объекта. Несуществование алгоритм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пере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C5F2-5152-4D7F-8CEF-4348E1DC786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и рабочие программы (УМК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(8-9 кл) - И.Г. Семакин, Л.А. Залогова, С.В. Русаков, Л.В. Шест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К: учебник, задачник- практикум и электронный практикум (Ц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Информатики  и вычислительной техники (10 – 11 кл) - Угринович Н.Д.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551F-328B-4B35-883C-4A5D5EE5A21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едставление о компьютере и его возможностях. Практическое знакомство с компьютером и его основными устройствами. Техника безопасности и правила работы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и человек. Восприятие и представление информации.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едставление о файловой системе и фай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операционной системой, пользовательским интерфейсом: рабочий стол, папка, доку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. Запуск различных программ (клавиатурные тренажеры, развивающие игр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текстовой информации на компьютере. Текстовый редактор. Основные возможности по созданию и редактированию текстов. Вывод текста на принтер. Запись и считывание текстов с д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графической информации на компьютере. Графический редактор. Система графических меню. Основные возможности по созданию и редактированию изображений. Вывод графики на принтер. Запись и считывание изображений с д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медиа технологии. Диафильмы и компьютерные презен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7CF2-C191-4735-9A2E-2FE6D7EB81D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и знания. Количество информации. Единицы информации. Виды информации. Ко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как инструмент обработки информации. История чисел и счета. История развития вычислительных средств и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числовой информации на компьютере. Электронные таблицы. Структура таблиц. Ввод чисел, формул и текстов в ячейки таблицы. Стандартные функции. Диа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и Исполнитель. Система команд исполнителя. Понятие об алгоритме. Примеры исполнителей и алгоритмов. Способы описания алгорит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 алгоритм. Непосредственный и программный способ исполнения алгоритма. Вспомогательный алгорит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яющийся алгоритм. Усло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й алгоритм. Тело цикла и условия его выпол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A6AB-BE5F-4E08-AF47-2834995D284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как единый программно-аппаратный комплекс. Магистрально-модульный принцип построения компьютера. Внешние устр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ая операционная система WIND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ты различного назначения. Архиваторы. Антивирусны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ети. Передача информации в сетях. Сервисы и протоколы. Интернет. Поиск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и моделирование. Виды информационных моделей. Простейшее моделирование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базами данных (СУБД). Упорядоченное хранение больших объемов информации в табличной форме в памяти компьютера. Представление баз данных в форме картотеки. Структура баз данных. Заполнение баз данных и редактирование записей, сортировка и поиск информации. Запись и считывание баз данных с д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алгоритмизации и программ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новные типы алгоритмов (линейный, разветвляющийся, циклический) и их реализация на языке программирова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Графические возможности языка программирования. Основные графические примитивы (точка, линия, прямоугольник, окружность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спомогательные алгоритмы. Сценарии многоэлементных изображений и их реализация с помощью вспомогательных алгоритмов. Циклические алгоритмы и программы построения изображений. Реализация движения объектов на экран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5CEE-1C6B-4150-BB49-07A65B0DB00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формация, единицы измерения информации, представление различных типов информации (числовой, текстовой, графической, звуковой) в компьютер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ифметические и логические основы компьют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ифметические основы компьютера. Позиционные системы счисления (десятичная, двоичная, шестнадцатиричная). Перевод чисел из одной системы счисления в другую. Двоичная арифметика. Машинные коды чисел: прямой, обратный, дополнительный. Действия с кодами двоичных чисел. Представление в компьютере целых и вещественных чисел. Формат числа с плавающей точкой и проблемы вычислений с плавающей точкой. Машинные единицы информации. Логические основы компьютера. Основные понятия и область применения алгебры логики. Элементарные логические операции. Логические функции. Построение таблиц истинности. Базовые логические элементы компьютера ("И", "ИЛИ", "НЕ") и логические функции. Конструирование основных логических блоков компьютера (сумматор, тригер).Структурная организация и функционирование компьютера. Функциональные узлы компьютера: регистры, сумматоры. Организация памяти и процессора. Понятие об арифметико- логическом устройстве и устройстве управления. Организация автоматического исполнения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алгоритмизации и программир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нейный алгоритм. Простые вычислительные алгоритмы. Понятие переменной: имя и значение. Семантический смысл операторов Разветвляющийся алгоритм.. Циклический алгоритм. Понятие сценария. Вложенные циклы. Массивы. Понятие таблицы и массива. Различные типы массивов и их описание. Алгоритм работы с массивами. Способы заполнения и распечатки массивов. Поиск, выбор и сортировка. Разветвляющиеся алгоритмы с символьными переменными Функции работы с символьными переменными ("склеивание", "вырезка", длина и т.д.). Алгоритмы и программы работы с эти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0E5B-0926-4A8B-BC34-8FE739FD990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ное обесп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ификация. Прикладное П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ф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ы, представление и об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фисные приложения и автоматиз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лог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ы (аксиомы) алгебры логики. Вычисление логических выражений при заданных наборах переменных. Упрощение логических выражений (на основе законов алгебры и их следствий). Логические задачи. Выигрышная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делирование и решение задач на компьютер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ы решения задачи: построение математической модели, разработка и кодирование алгоритма, отладка программы. Проведение компьютерного эксперимента. Графики функций и численные методы в математике. Построение графиков функций и их исследование. Решение уравнений графическим методом. Итерационные методы. Решение уравнений методом половинного деления и методом касательных. Вероятностные математические модели (метод Монте-Карло). Моделирование динамических процессов. Физические процессы и их моделирование. Графическое представление физических объектов и процессов. Биологические процессы и их моделирование. Исследование развития популя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пьютерные телекоммуникационные сети Информационные се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кальные, региональные, глобальные информационные сети. Назначение и возможности.Аппаратные и программные компоненты информационной сети. Линии связи. Протоколы связи. Сетевое программное обеспечение.Формы использования компьютерных сетей. Организация информационных потоков в сетях. Электронная почта. Электронные конференции и электронные доски объявлений. Информационно-справочные системы. Практическая работа абонента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5040-D96D-4266-B1DE-7679C8304AE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79A-CAA2-46BD-B109-6CDA04F2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FBD1-897B-4408-85E8-F3F870F6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F5B-5265-4BB4-8494-275CB108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A87-EDAE-44C0-95CF-FDD2294E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F7A1-1316-4997-A118-5931DDEB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A1FB-89B8-4D1E-8024-20CC277B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EDDF-F0CC-43CA-9D37-636AEF06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612C-35CF-4D6B-B504-7E080D62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C6E5-D3C8-43A7-82AF-20AA5EF1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6600-C050-406B-B598-50698EAA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EAB5-3F19-4402-89DA-2E10B301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773-754E-406C-987C-D404FADF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0376-A2B3-45BF-9348-176910F5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3F73-464B-4D9A-8C8E-9F039E0B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7ABF-640F-46AB-B882-A3E258DE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A42B-5077-44D6-AAC1-8DEBEE3C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472F-C708-42F0-80CF-4E1482DD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A24-B87E-4231-94AC-BE447DC4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FB3-1E9D-4412-8FE2-2CC9F1E8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D37-57CB-4232-8901-DF34782F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E5E-36C1-4EB2-BDA0-6D9102D1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388-B0BD-43B5-A749-DA712152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A67-825E-4DBD-B9DA-BD588143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9A21-35BA-46B1-830A-163A5CAC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66DE-EB29-4320-A9D3-B26D9DB7C3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3095-6962-412C-87E4-9B1444F82C0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 сквозного курса информатики 7-11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8000" y="4292280"/>
            <a:ext cx="5864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лёв Сергей Григорьевич, учитель физики и информатики школы № 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кументы, определяющие содержание обучения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ндарт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ные и рабочие програм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Э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бный пла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«Фундаментальное ядро содержания образ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матическая теория информации и модели информа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кретное (в том числе двоичное) представление информ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диницы измерения количества информации. Сжатие информ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дирование и декодиров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образование информации по формальным правил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горитмы. Способы записи алгоритмов; блок-схемы. Логические значени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ерации, выражения. Алгоритмические конструкции (имена, ветвление, цикл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биение задачи на подзадачи, вспомогательные алгоритм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ипы обрабатываемых объектов. Примеры алгоритм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игрышная стратегия в игр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числимые функции, формализация понятия вычислимой функци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нота формализации. Сложность вычисления и слож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объекта. Несуществование алгоритмов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блема перебо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рные и рабочие программы (УМК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8343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атика и ИКТ(8-9 кл) - И.Г. Семакин, Л.А. Залогова, С.В. Русаков, Л.В. Шестак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К: учебник, задачник- практикум и электронный практикум (ЦОР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ы Информатики  и вычислительной техники (10 – 11 кл) - Угринович Н.Д. и др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7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представление о компьютере и его возможностях. Практическое знакомство с компьютером и его основными устройствами. Техника безопасности и правила работы на компьютер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 и человек. Восприятие и представление информации. Информационные процес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представление о файловой системе и файл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комство с операционной системой, пользовательским интерфейсом: рабочий стол, папка, доку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ое обеспечение. Запуск различных программ (клавиатурные тренажеры, развивающие игр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ботка текстовой информации на компьютере. Текстовый редактор. Основные возможности по созданию и редактированию текстов. Вывод текста на принтер. Запись и считывание текстов с ди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ботка графической информации на компьютере. Графический редактор. Система графических меню. Основные возможности по созданию и редактированию изображений. Вывод графики на принтер. Запись и считывание изображений с ди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льтимедиа технологии. Диафильмы и компьютерные презент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8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формация и знания. Количество информации. Единицы информации. Виды информации. Кодиров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 как инструмент обработки информации. История чисел и счета. История развития вычислительных средств и ЭВ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работка числовой информации на компьютере. Электронные таблицы. Структура таблиц. Ввод чисел, формул и текстов в ячейки таблицы. Стандартные функции. Диаграм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правление и Исполнитель. Система команд исполнителя. Понятие об алгоритме. Примеры исполнителей и алгоритмов. Способы описания алгоритм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нейный алгоритм. Непосредственный и программный способ исполнения алгоритма. Вспомогательный алгорит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етвляющийся алгоритм. Услов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иклический алгоритм. Тело цикла и условия его выполн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пьютер как единый программно-аппаратный комплекс. Магистрально-модульный принцип построения компьютера. Внешние устройств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рафическая операционная система WINDOW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тилиты различного назначения. Архиваторы. Антивирусны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пьютерные сети. Передача информации в сетях. Сервисы и протоколы. Интернет. Поиск информац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дели и моделирование. Виды информационных моделей. Простейшее моделирование на компьютер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управления базами данных (СУБД). Упорядоченное хранение больших объемов информации в табличной форме в памяти компьютера. Представление баз данных в форме картотеки. Структура баз данных. Заполнение баз данных и редактирование записей, сортировка и поиск информации. Запись и считывание баз данных с дис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лементы алгоритмизации и программиро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ые типы алгоритмов (линейный, разветвляющийся, циклический) и их реализация на языке программир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афические возможности языка программирования. Основные графические примитивы (точка, линия, прямоугольник, окружность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огательные алгоритмы. Сценарии многоэлементных изображений и их реализация с помощью вспомогательных алгоритмов. Циклические алгоритмы и программы построения изображений. Реализация движения объектов на экран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0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, единицы измерения информации, представление различных типов информации (числовой, текстовой, графической, звуковой) в компьютер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рифметические и логические основы компьютер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ифметические основы компьютера. Позиционные системы счисления (десятичная, двоичная, шестнадцатиричная). Перевод чисел из одной системы счисления в другую. Двоичная арифметика. Машинные коды чисел: прямой, обратный, дополнительный. Действия с кодами двоичных чисел. Представление в компьютере целых и вещественных чисел. Формат числа с плавающей точкой и проблемы вычислений с плавающей точкой. Машинные единицы информации. Логические основы компьютера. Основные понятия и область применения алгебры логики. Элементарные логические операции. Логические функции. Построение таблиц истинности. Базовые логические элементы компьютера ("И", "ИЛИ", "НЕ") и логические функции. Конструирование основных логических блоков компьютера (сумматор, тригер).Структурная организация и функционирование компьютера. Функциональные узлы компьютера: регистры, сумматоры. Организация памяти и процессора. Понятие об арифметико- логическом устройстве и устройстве управления. Организация автоматического исполнения программы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ы алгоритмизации и программир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нейный алгоритм. Простые вычислительные алгоритмы. Понятие переменной: имя и значение. Семантический смысл операторов Разветвляющийся алгоритм.. Циклический алгоритм. Понятие сценария. Вложенные циклы. Массивы. Понятие таблицы и массива. Различные типы массивов и их описание. Алгоритм работы с массивами. Способы заполнения и распечатки массивов. Поиск, выбор и сортировка. Разветвляющиеся алгоритмы с символьными переменными Функции работы с символьными переменными ("склеивание", "вырезка", длина и т.д.). Алгоритмы и программы работы с этими функц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1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ое обеспечение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Классификация. Прикладное ПО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а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виды, представление и обработк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фисные приложения и автоматиз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ы логики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ы (аксиомы) алгебры логики. Вычисление логических выражений при заданных наборах переменных. Упрощение логических выражений (на основе законов алгебры и их следствий). Логические задачи. Выигрышная стратег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делирование и решение задач на компьютере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апы решения задачи: построение математической модели, разработка и кодирование алгоритма, отладка программы. Проведение компьютерного эксперимента. Графики функций и численные методы в математике. Построение графиков функций и их исследование. Решение уравнений графическим методом. Итерационные методы. Решение уравнений методом половинного деления и методом касательных. Вероятностные математические модели (метод Монте-Карло). Моделирование динамических процессов. Физические процессы и их моделирование. Графическое представление физических объектов и процессов. Биологические процессы и их моделирование. Исследование развития популяц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пьютерные телекоммуникационные сети Информационные сети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окальные, региональные, глобальные информационные сети. Назначение и возможности.Аппаратные и программные компоненты информационной сети. Линии связи. Протоколы связи. Сетевое программное обеспечение.Формы использования компьютерных сетей. Организация информационных потоков в сетях. Электронная почта. Электронные конференции и электронные доски объявлений. Информационно-справочные системы. Практическая работа абонента се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4:13Z</dcterms:created>
  <dc:creator>Сергей</dc:creator>
  <dc:description/>
  <dc:language>en-US</dc:language>
  <cp:lastModifiedBy>LEGION</cp:lastModifiedBy>
  <dcterms:modified xsi:type="dcterms:W3CDTF">2015-04-01T07:24:32Z</dcterms:modified>
  <cp:revision>5</cp:revision>
  <dc:subject/>
  <dc:title>Содержание сквозного курса информатики 7-11 класс</dc:title>
</cp:coreProperties>
</file>