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F05A-9B55-40B8-9F76-8123736E6D9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тика в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ман Елена Васильев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МОУ ОСОШ 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3DF3-7A5C-4A06-91BD-B5D46C5E52D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чение информатике в начальной школе подготовит учащихся к самостоятельному использованию в учебной деятельности информационных источников, сформирует элементарные умения работы на компьютере, подготовит к работе с информацией с использованием средств коммуникаций, расширит круг понятий и кругозор учащихся в области 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жно, что практические задания и проекты, которые учащиеся выполняют в начальной школе по курсу информатики, позволят им получить опыт учебной деятельности с использованием ТСО и средств ИКТ и применить его при выполнении подобных заданий по другим предме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пособствует вхождению учащихся в информационное образовательное простра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FD32-ECDE-4C3A-8FC6-A8C3583583A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00080"/>
                </a:solidFill>
                <a:latin typeface="Arial"/>
                <a:ea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992F-B6AB-43FF-862B-7F27512873F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подавание информатики в начальных класс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данном материале рассматриваются условия, при соблюдении которых доверяется ведение информатики в начальных классах. В материале представлен опыт работы по УМК Матвеевой Н.В., его преиму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2007 началось  обучение информатики в начальной школе с 3 клас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созданы условия для активного применения средств информационных и коммуникационных технологий в обучении информатики в начальной школе, так как происходит реализация программ информатизации образования: в школу поступили компьютеры, электронные учебные материалы, школа подключилась к Интерн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1860-CF9F-4634-AFA9-9015C70F811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ая задача информатики в начальной школе – заложить основы грамотной работы с информацией и сформировать у школьников понятийный аппарат и первоначальные навыки использования средств ИКТ познавательной и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ы для преподавания информатики в начальной школе отводятся за счет часов регионального компонента по 1 часу в неделю во 2,3,4 клас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565D-AC92-462C-8623-07F71A83DAC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подавание информатики осуществляется по программе Н.В. Матвее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нная программа лучше других обеспечивает непрерывность изучения предмета и даёт необходимую теоретическую и практическую подготовку учащихся к изучению базового курса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ый материал подобран в соответствии с возрастными особенностями младшего школьника и уровнем его знаний, представлен в виде учебно – методического комплекта для трёхлетнего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224A-0F52-4011-BD4D-3149325B812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УМК входят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учебники для 2,3,4 клас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рабочие тетради (по две на каждый год обучени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тетрадь для выполнения контрольных работ и тестовых зад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электронное пособие (на CD), содержащее учебные и игровые программы ко всему трёхлетнему курсу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E92C-14A1-4C46-B514-FCCD255231F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можно использование для обеспечения практической составляющей и других компьютерных програм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«Азы информатики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«Роботландия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· «Мир информатики» (Кирилл и Мефод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ью обучения информатики в начальной школе является постепенное наращивание компьютерной составляющей кур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4C0C-6C78-4C9B-ACBC-C0641E950CB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ретьем классе учащиеся знакомятся с видами информацио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ьютерная составляющая обучения состоит в первичном знакомстве с основными внешними устройствами компьютера, ознакомительной работой с простейшими обучающими программами игрового характ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щиеся обучаются элементам клавиатурного письма, графического интерфейса, учатся  пользоваться манипулятором «мышь», узнают о видах информационных объектов, большую часть занятий составляют задания, использующие технические средства обучения (ТС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B1AE-50DA-4DCB-B736-E411CD9D01B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комендуется выделить следующие этапы урока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 (до 5 минут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новой темы (примерно 7 минут, с использованием технических средств обучения, в том числе телевизора, компьютер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епление материала (около 7 минут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ктическое или проектное задание (примерно 10 минут с использованием технических средств обучения и инструментов исследовательской и конструкторской деятельности, с использованием одного компьютера в классе в качестве электронной доски в режиме эстафеты, выступления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суждение результатов (5 мину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ечение урока необходимо проводить      физкультминутку (1-3 мину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470B-316C-45DA-A2D7-C1AD50C839F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проведения уроков информатики в компьютерном кабинете возможно привлекать дополнительное оборудов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льтимедийный проекто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те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не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лонки компьютерны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ческий планшет для рис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ифровой фотоаппарат или видеокам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DF11-D0EF-4748-A7AD-CB8BAD5F73D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B845-2DA6-421A-A1A5-A098DAD6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DE41-1083-4208-B74D-401303CB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3496-4D8C-40F8-992A-705DD7DB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8FDA-A49C-4172-9FBC-B772C11B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6261-3176-42AF-9CA3-77720330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93D3-5436-4BA3-8708-0C59D739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3BDB-1EF4-4C61-95E9-8C6CD201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63E2-BCDE-4C5E-9A9E-D0064B19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C736-7121-45BA-87C0-292F161E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0322-F284-4D9F-B6E1-C00326B6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EE76-8F92-4861-B3AD-1C8301F1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AF35-2109-46C6-94D8-CE353CC1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94DE-3342-4091-BB9B-BF6F5C58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E4EE-395B-486C-81C6-D4C45FD4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0FB9-9DB8-48CE-A3B8-9E8F8D79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A67A-5EBA-4E87-8258-A2B7C180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B0C9-95AA-4444-BD15-E6E93F4E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7C05-EB62-44C3-A2C0-69D3BE1D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5D98-6A29-4876-8443-94F68FD6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FD46-2FFD-497D-BC3B-D2ED6A6F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4D06-41CE-42CA-B770-88A87248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DC9D-EF64-4938-82AF-88BABFD6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4F80-0BF4-4218-B98F-CBAE07A9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F7C6-0A73-4756-9277-721BF864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ef66"/>
            </a:gs>
            <a:gs pos="100000">
              <a:srgbClr val="99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D9B1-A0FB-4764-B660-906F6B64F9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ef66"/>
            </a:gs>
            <a:gs pos="100000">
              <a:srgbClr val="99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4170-7F6B-4C8E-ACFD-1D66D2FDCF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Информатика в начальной школ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оман Елена Васильевна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итель МОУ ОСОШ №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-227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5640" y="549360"/>
            <a:ext cx="726444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бучение информатике в начальной школе подготовит учащихся к самостоятельному использованию в учебной деятельности информационных источников, сформирует элементарные умения работы на компьютере, подготовит к работе с информацией с использованием средств коммуникаций, расширит круг понятий и кругозор учащихся в области ИК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ажно, что практические задания и проекты, которые учащиеся выполняют в начальной школе по курсу информатики, позволят им получить опыт учебной деятельности с использованием ТСО и средств ИКТ и применить его при выполнении подобных заданий по другим предметам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о способствует вхождению учащихся в информационное образовательное пространств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600120" y="3008160"/>
            <a:ext cx="7943760" cy="847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Arial"/>
              </a:rPr>
              <a:t>Спасибо за внимание!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Arial"/>
              <a:ea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-1688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7632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Преподавание информатики в начальных класса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данном материале рассматриваются условия, при соблюдении которых доверяется ведение информатики в начальных классах. В материале представлен опыт работы по УМК Матвеевой Н.В., его преимуществ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2007 началось  обучение информатики в начальной школе с 3 класс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настоящее время созданы условия для активного применения средств информационных и коммуникационных технологий в обучении информатики в начальной школе, так как происходит реализация программ информатизации образования: в школу поступили компьютеры, электронные учебные материалы, школа подключилась к Интернет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сновная задача информатики в начальной школе – заложить основы грамотной работы с информацией и сформировать у школьников понятийный аппарат и первоначальные навыки использования средств ИКТ познавательной и практ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асы для преподавания информатики в начальной школе отводятся за счет часов регионального компонента по 1 часу в неделю во 2,3,4 класса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-83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еподавание информатики осуществляется по программе Н.В. Матвеевой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анная программа лучше других обеспечивает непрерывность изучения предмета и даёт необходимую теоретическую и практическую подготовку учащихся к изучению базового курса информати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чебный материал подобран в соответствии с возрастными особенностями младшего школьника и уровнем его знаний, представлен в виде учебно – методического комплекта для трёхлетнего обуч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В УМК входят –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учебники для 2,3,4 классов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рабочие тетради (по две на каждый год обучения)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тетрадь для выполнения контрольных работ и тестовых заданий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электронное пособие (на CD), содержащее учебные и игровые программы ко всему трёхлетнему курсу обуч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15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47498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зможно использование для обеспечения практической составляющей и других компьютерных программ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«Азы информатики»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«Роботландия»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· «Мир информатики» (Кирилл и Мефодий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собенностью обучения информатики в начальной школе является постепенное наращивание компьютерной составляющей кур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6176880" y="2462040"/>
          <a:ext cx="63828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6880" y="2462040"/>
                    <a:ext cx="6382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7"/>
          <p:cNvGraphicFramePr/>
          <p:nvPr/>
        </p:nvGraphicFramePr>
        <p:xfrm>
          <a:off x="6229440" y="4367160"/>
          <a:ext cx="53316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9440" y="4367160"/>
                    <a:ext cx="5331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-299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третьем классе учащиеся знакомятся с видами информационной деятель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мпьютерная составляющая обучения состоит в первичном знакомстве с основными внешними устройствами компьютера, ознакомительной работой с простейшими обучающими программами игрового характер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чащиеся обучаются элементам клавиатурного письма, графического интерфейса, учатся  пользоваться манипулятором «мышь», узнают о видах информационных объектов, большую часть занятий составляют задания, использующие технические средства обучения (ТСО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-370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00000" y="475920"/>
            <a:ext cx="77868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Рекомендуется выделить следующие этапы урока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верка домашнего задания (до 5 минут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зучение новой темы (примерно 7 минут, с использованием технических средств обучения, в том числе телевизора, компьютера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крепление материала (около 7 минут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актическое или проектное задание (примерно 10 минут с использованием технических средств обучения и инструментов исследовательской и конструкторской деятельности, с использованием одного компьютера в классе в качестве электронной доски в режиме эстафеты, выступления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бсуждение результатов (5 минут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течение урока необходимо проводить      физкультминутку (1-3 минуты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ля проведения уроков информатики в компьютерном кабинете возможно привлекать дополнительное оборудова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ультимедийный проектор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нтер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канер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лонки компьютерные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рафический планшет для рисования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цифровой фотоаппарат или видеокаме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9:05:02Z</dcterms:created>
  <dc:creator>1</dc:creator>
  <dc:description/>
  <dc:language>en-US</dc:language>
  <cp:lastModifiedBy>LEGION</cp:lastModifiedBy>
  <dcterms:modified xsi:type="dcterms:W3CDTF">2015-04-01T07:24:58Z</dcterms:modified>
  <cp:revision>10</cp:revision>
  <dc:subject/>
  <dc:title>Информатика в начальной школе</dc:title>
</cp:coreProperties>
</file>