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DAEE-7775-471E-92F4-9D982F67DB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svobodainfo.org/info/?tid=&amp;nd=901817757&amp;prevDoc=901713616" TargetMode="External"/><Relationship Id="rId2" Type="http://schemas.openxmlformats.org/officeDocument/2006/relationships/hyperlink" Target="http://www.svobodainfo.org/info/?tid=&amp;nd=901790693&amp;prevDoc=901713616" TargetMode="External"/><Relationship Id="rId3" Type="http://schemas.openxmlformats.org/officeDocument/2006/relationships/hyperlink" Target="http://www.svobodainfo.org/info/?tid=&amp;nd=901910577&amp;prevDoc=901713616" TargetMode="External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e92611"/>
                </a:solidFill>
                <a:latin typeface="Arial"/>
              </a:rPr>
              <a:t>Регулирование рынка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6CBA-504A-4E7B-A5BA-C0A5A19F59A2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ffcc"/>
                </a:solidFill>
                <a:latin typeface="Arial"/>
              </a:rPr>
              <a:t>Правами регулирования в области государственных ценных бумаг обладает Министерство финансов России. Минфин РФ, ранее выполнявшее почти все функции по регулированию рынка ценных бумаг в настоящее время имеет полномочия только в области регулирования рынка государственных ценных бумаг. Однако,  возможны случаи, когда эмитентом ценной бумаги от правительства может выступить любое другое министерство или ведомство. В России таких случаев пока не бы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B483-5472-40F2-A812-07AAE3D07D28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ff33"/>
                </a:solidFill>
                <a:latin typeface="Arial"/>
              </a:rPr>
              <a:t>Второй орган - центральный банк. Центральный банк РФ может исполнять роль финансового  агента правительства. Центральный банк также  особенно  заинтересован  в  рынке государственных займов  из-за  неизбежной связи между денежной политикой, банковской системой и рынком государственных ценных бумаг. Вовлечение  центрального банка в роль финансового агента, а также его участие в проведении денежной политики  позволяет органам,  регулирующим  денежное обращение,  быть в курсе событий, происходящих на рынках,  реагировать на  них  должным образом и  тем самым более эффективно выполнять свою роль надзора над банковской системой и системой платеж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CB8A-E00B-4AB1-9512-A6BFE5E99308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ffff"/>
                </a:solidFill>
                <a:latin typeface="Arial"/>
              </a:rPr>
              <a:t>Рынок государственных ценных бумаг является частью рынка ценных бумаг, поэтому законодательные нормы, регулирующие рынок ценных бумаг регулируют и рынок государственных ценных бумаг. Основными законодательными актами, которыми регулируется российский рынок ценных бумаг,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Гражданский кодекс РФ, части </a:t>
            </a:r>
            <a:r>
              <a:rPr b="0" lang="en-US" sz="1200" spc="-1" strike="noStrike">
                <a:solidFill>
                  <a:srgbClr val="ff66ff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ff66ff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 (1995—1996 г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банках и банковской деятельности» (1990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Центральном банке Российской Федерации» (1995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приватизации государственных и муниципальных предприятий в РСФСР» (1991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товарных биржах и биржевой торговле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валютном регулировании и валютном контроле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государственном внутреннем долге Российской Федерации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об акционерных обществах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о рынке ценных бумаг (1996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Указы Президента по развитию рынка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CFFF-AB0E-4729-AE63-315FBEEDF30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cccc00"/>
                </a:solidFill>
                <a:latin typeface="Arial"/>
              </a:rPr>
              <a:t>Минфин издает множество приказов для регулирования государственных ценных бумаг. Ниже представлены некоторые из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фина РФ от 27.04.2002 № 37н "Об утверждении Условий эмиссии и обращения  облигаций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каз Минфина РФ от 15.06.2001 № 45н "Об утверждении условий эмиссии и обращения облигаций государственного сберегательного займа Российской Федерации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каз Минфина России от 21.09.2004 № 86н "Об утверждении Условий эмиссии и обращения облигаций государственных нерыночных займов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C790-9D9C-434A-9D46-7AF67842C36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Еще один аспект рассматриваемого вопроса связан с разработкой и установлением ответственности за правонарушение в сфере выпуска и обращения государственных ценных бумаг.</a:t>
            </a:r>
            <a:br>
              <a:rPr sz="1000"/>
            </a:b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 В связи с</a:t>
            </a:r>
            <a:r>
              <a:rPr b="0" i="1" lang="ru-RU" sz="1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этим можно выделить следующие категории субъектов нарушений и оснований ответственности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должностные лица эмитента ценных бумаг — в случаях нарушения условий выпуска и обращения, а также исполнения обязательств по ценной бум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-   владельцы ценных бумаг - при нарушении условий обращения ценных бумаг (например, вывоз за пределы Российской Федерации ценных бумаг, запрещенных к перемещению за границ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-   иные лица - при совершении противоправных деяний, препятствующих нормальному функционированию системы выпуска и обращения государственных ценных бумаг (например, уголовная ответственность физических лиц за подделку государственных ценных бумаг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32CA-9DDB-4805-AC71-1E3921EACFC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егулирование участия на рынке государственных ценных    бумаг может быть направлено на то,  чтобы ограничить  распространение рисков, которые принимают на себя маркетмейкеры, а также гарантировать, что дилеры и другие участники рынка имеют соответствующее финансовое  состояние для того,  чтобы покрыть потенциальные финансовые потер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5ed755"/>
                </a:solidFill>
                <a:latin typeface="Arial"/>
              </a:rPr>
              <a:t>Положения о регулировании могут быть установлены  для  отслеживания  и  ограничения  следующих классов рис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РЫНОЧНЫЙ РИСК -   риск потерь, проистекающих от колебания цен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РИСК ЛИКВИДНОСТИ -  риск того, что ценные бумаги не могут быть куплены и проданы быстро без существенных изменений в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КРЕДИТНЫЙ РИСК - риск потерь, проистекающий от неплатежеспособности контраг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БИЗНЕС-РИСК - риск потерь, проистекающих от неадекватных систем управления и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71F6-EFC2-4779-874B-2C1AA3F6D7F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Одной из главной причин выпуска государственных ценных бумаг является обслуживание государственного долга. Отказ от инфляционных методов финансирования дефицита бюджета обусловил развитие рынка государственных ценных бумаг в России и рост государственного дол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8CF5-702F-488F-87C0-731A40C16E1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e7ee86"/>
                </a:solidFill>
                <a:latin typeface="Arial"/>
              </a:rPr>
              <a:t>Государственный долг- это вся сумма задолженности по обязательствам государства, проценты по ней и неисполненные финансовые обязательства государства перед субъектами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Для государства на федеральном и региональном уровнях возможно применение двух видов долговых обязательств: внутреннего или внешнего долга. Для муниципалитетов называется возможность применения только одного вида – внутреннего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Критерием разграничения долговых обязательств на внутренние и внешние вступает валюта займа. Если деньги берутся взаймы у российских или иностранных субъектов в иностранной валюте, то возникают отношения внешнего долга. Если деньги берутся в валюте России, то возникают отношения внутреннего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ECE1-5E95-4E3C-BFA4-09B019F81686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Arial"/>
              </a:rPr>
              <a:t>По структуре государственный долг РФ состоит из нескольких групп долговых обязательств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олженности Минфина перед ЦБ по кредитам на финансирование дефицита бюдж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олженности, появившейся вследствие взятого на себя государством обязательства по восстановлению сбережений граждан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й задолженности бывшего СССР, принятой на себя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овь возникшая задолженность РФ перед иностранными государствами, международными организациями и фирмами (Парижскому клубу, Лондонскому клубу, Международному валютному фонду (МВФ) и Всемирному или Международному банку реконструкции и развития (ВБРР или МБРР)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76AE-41CF-4928-9642-436852971112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 России понятие государственного внутреннего долга определяется в Законе РФ от 13.11.1992 г. № 3877-1 «О государственном внутреннем долге» и ст.817 Гражданского кодекса (ГК) Р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 настоящее время долг Российской Федерации в рыночной форме представлен облигациями государственных внешних заимствований (еврооблигациями) со сроками погашения с 2003 по 2030 год, а также облигациями внутреннего валютного займа со сроком погашения 2003 - 2011 годы. При этом выпуск еврооблигаций со сроками погашения до 2010 и до 2030 годов был связан с урегулированием задолженности бывшего СССР Лондонскому клубу кредиторов и коммерческой задолженности бывшего СССР, а ОВГВЗ - 3, 4, 5 и 8 серий - урегулированием внутреннего валютного долга бывшего ССС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нешний долг состоит из долга Правительства РФ (долг международным организациям, бонды, кредиты по правительственной линии, коммерческие кредиты), долга бывшего СССР (бонды, кредиты по правительственной линии, коммерческие кредиты) и бондов Минфина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B01B-4525-4C69-950E-D948D16E4BD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Государственные ценные бумаг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это бумаги, которые выпуска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и обеспечиваются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и используются для пополнения государственного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5F40-500D-4F8B-9CB2-E9A978B7CC1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Для федерального уровня долговых обязательств государства Бюджетный кодекс устанавливает верхний предел государственного внутреннего долга, верхний предел государственного внешнего долга и отдельно предел государственных внешних заимствований на очередной финансовый год. Указанные предельные показатели долговых обязательств устанавливаются для всех уровней бюджетной системы. На федеральном уровне конкретные  цифры предельных объемов государственного внутреннего  и внешнего долга, а также отдельно предельные показатели внешних заимствований устанавливаются федеральным законом о бюджете на очередной год, в котором показатели долговых обязательств подлежат конкретизации по формам обесп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A487-DD4D-4054-8A0A-620B49DA2FE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Оперативное управление государственным долгом осуществляет исполнительная власть (Министерство финансов РФ и Центральный банк РФ, если заемщиком выступает государство как суверен, и соответствующие органы субъекта РФ, если заемщиком является субъект РФ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A49C-089F-4A0A-8A17-E6EA7A9A434F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Управление государственным долгом представляет собой комплекс мер, предпринимаемых государством в лице его уполномоченных органов по определению мест и условий размещения и погашения государственных займов, а также обеспечению гармонизации интересов заемщика, инвесторов и кредитор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Одним из широко распространенных методов управления государственным долгом является рефинансирование государственного долга, то есть погашение основной задолженности и процентов за счет средств, полученных от размещения новых зай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DCE5-862C-4F20-88E8-879D958501A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ледим динамику внутреннего и внешнего долга в период с 1998 по 2006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4A7E-3E92-413C-854E-0B021454753F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Из таблицы видно, что государственный внутренний долг увеличивается, а внешний уменьшается. Но так как внешний долг исчисляется в миллиардах долларов, а не рублей, то внешний долг значительно преобладает над внутрен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Многократное преобладание долга, номинированного в иностранной валюте, является серьезным фактором риска, ставящего управление долгом в жесткую зависимость от валютной политики и состояния платежного баланса, что предполагает необходимость постепенного замещения внешнего долга внутренним. При этом следует учитывать сохраняющиеся риски ограничения доступа на внешние рынки заимствований по независящим от Российской Федерации причин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В этой связи приоритет при осуществлении государственных заимствований должен быть отдан в долгосрочном плане внутренним заимствованиям. Возможность этого создает постепенное выравнивание условий привлечения внутренних и внешних заимств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0428-2420-4173-81C0-57157FE64CC5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ценка изменения государственного внутреннего долга, выраженного в ценных бумагах в 2005-201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E0C6-BA29-4482-BC47-A24E23BCB1B0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Рассмотрим основные цели политики в области государственного внешнего долга на среднесрочную перспектив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обеспечение стабильного доступа Российской Федерации на рынки внешних заимствований на выгодных условия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сширение объемов внешних заимствований на цели рефинансирования внешнего долг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активное управление внешней задолженностью с целью сокращения стоимости ее обслуживания, а также сглаживания имеющихся "пиков платежей" по государственному внешнему долгу в 2005 и 2008 год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существенное сокращение долга бывшего СССР, задолженности Российской Федерации перед правительствами иностранных государств и международными финансовыми организац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наращивание рыночной составляющей внешнего долга Российской Фед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проведение сбалансированной политики в области внешних заимствований с целью сохранения и дальнейшего улучшения платежной репутаци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EB3D-B06B-4DB0-8AA9-CF10997F7393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99"/>
                </a:solidFill>
                <a:latin typeface="Arial"/>
              </a:rPr>
              <a:t>Вывод: государственные ценные бума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являются самостоятельным видом ценных бумаг. Большинство из них имеют долговой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Государство, выпуская ценные бумаги, выступает в роли заемщика, принимает на себя обязанности по обслуживанию государственного долга, а владелец ценной бумаги приобретает право предъявить ее для погашения в установленном поряд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Выпуск государственных ценных (облигаций) является формой государственного кред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30F5-3386-413D-8601-FA7F9B8EA1E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9ff09"/>
                </a:solidFill>
                <a:latin typeface="Arial"/>
              </a:rPr>
              <a:t>В мире централизованный выпуск ценных бумаг  используется  в  качестве инструмента государственного регулирования экономики: как рычаг  воздействия на денежное обращение и управления  объемом  денежной  массы;  а  также  как средство  неэмиссионного  покрытия  дефицита  государственного  и   местного бюджетов, способ привлечения денежных средств предприятий  и  населения  для решения тех или иных конкретных задач. Накоплен богатый  опыт  моделирования и выпуска разнообразных финансовых гособязательств, отвечающих  потребностям и   запросам   различных   инвесторов   (потенциальных    вкладчиков)    в государственные ценные бумаги</a:t>
            </a:r>
            <a:r>
              <a:rPr b="1" lang="ru-RU" sz="12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ccff33"/>
                </a:solidFill>
                <a:latin typeface="Arial"/>
              </a:rPr>
              <a:t>Важно, что политика развития регулирования рынка  государственных ценных бумаг должна осуществляться в рамках более общей задачи формирования и развития единого национального финансового рынка как эффективного механизма аккумулирования и перераспределения денежных ресурсов в рыночной эконом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6B8D-6BC3-444F-9946-E5F37F1AE7A8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bed43"/>
                </a:solidFill>
                <a:latin typeface="Arial"/>
              </a:rPr>
              <a:t>Различают следующие виды государственных ценных бум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1. наличные и безналич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2. документарные и бездокументар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3. гарантированные и доход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4. рыночные и нерыночные (в зависимости от того, обращаются ли они на свободном  рынке  (первичном  и вторичном) или не  входят  во  вторичное  обращение  на  биржах  и  свободно возвращаются  эмитенту  до  истечения  срока  их  действия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5. именные и на предъявит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EAB0-5ACF-429F-8B99-AD4E10AB06D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5f52b"/>
                </a:solidFill>
                <a:latin typeface="Arial"/>
              </a:rPr>
              <a:t>Государственные ценные бумаги могут выполнять такие функции, к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налоговое освобож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обслуживание государственного долг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финансирование непредвиденных государственных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B593-CBB0-4DED-AD9C-F4D5325B655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А) Государственными долгосрочными облигациями (ГДО)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щены в 1991 году со сроком обращения 30 лет. Объем займа – 80 млрд. рублей. Номинал облигации – 100 тыс. рублей. Выпускаются в бланковом виде с набором купонов. Купонный доход – 15% от номинала, выплачивается один раз в год – 1 ию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Б) Государственными краткосрочными облигациями (ГК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Срок обращения – 3,6 и 12 месяцев. Выпускаются на безбумажной основе в виде записей на счетах «депо». Номинал – 1 млн. рублей. Распространяются на аукционах с дисконтом от номи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28A5-08CD-4C0C-86D7-43F96BC1FB9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)Облигациями федеральных займов с переменным купонным доходом (ОФЗ-ПК) и постоянным купонным доходом (ОФЗ-П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Относятся к среднесрочным государственным ценным бумагам. Срок их обращения от 1 года до 5 лет. Выпускаются на безбумажной основе в виде записи на счетах «депо». Номинал – 1млн. руб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Г) Облигациями государственного сберегательного займа (ОГС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Срок обращения – 1 год. Объем выпуска – 10 тр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Номинал – 100 и 500 тыс. рублей. Выпускаются в бланковом виде на предъявителя с набором из 4 купонов, выплачиваемых ежеквартально. Размер купона определяется по последней официально объявленной ставке купонного дохода по ОФЗ-ПК плюс премия, определяемая Минфином РФ. Предназначены для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DF09-C090-4FDF-A436-6C0BA79A1C3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Д)Облигациями внутреннего государственного валютного займа (ОВГВ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щены в 1993 году. Валюта займа – доллары США. Номиналы – 1, 10, 100 тыс. долларов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Е)Облигациями государственного нерыночного займа (ОГН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скаются в бездокументарной форме. Объем выпуска в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году – 15 трлн. рублей. Номинал – 1 млн. рублей. Предназначены   для   страховых компаний, пенсионных и внебюджетных фон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Ж) Государственными жилищными сертификатами (ГЖ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Являются документарными именными не обращаемыми ценными бумагами. Эмитируются по решению Правительства РФ для граждан РФ, лишившихся жилья в результате чрезвычайных ситуаций и стихийных бедствий. Номинированы в квадратных метрах жилой площади. Срок предъявления к погашению – 1 год с момента вы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A3E7-5724-4559-AE31-B6A325A1C7F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Государственные ценные бумаги эмитируются как центральным правительством, так и местными органами власти. Эмитентом вышеперечисленных государственных ценных бумаг является Министерство финансов РФ. Погашает эти ценные бумаги также Минфин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Эмитентом может выступать и ЦБ РФ, соответственно различают облигации банка России (ОБР) - инструменты денежно-кредитной политики, выпускаемые ЦБ РФ с сентября 1998 г. Обслуживание и погашение выпусков осуществляет ЦБ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5AFA-E884-4426-BDDA-CDBF5C14BE6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66"/>
                </a:solidFill>
                <a:latin typeface="Arial"/>
              </a:rPr>
              <a:t>Рынок государственных ценных бумаг подвергается жесткому контролю и регулированию со стороны органов как законодательной, так и исполнительной власт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ec9ed9"/>
                </a:solidFill>
                <a:latin typeface="Arial"/>
              </a:rPr>
              <a:t>Методами подобного регулирования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разработка и принятие законодательных ме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наделение полномочиями существующих и создание новых структур регулир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использование методов налогового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5876-4F47-42CE-BFBE-D16CCADD8D5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DDA-B54A-46DA-8AFD-99EBCD8D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425-3729-407D-BE61-FEC4A652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0CB-98EF-4A4A-AB00-955A2789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350-252C-4FDC-B754-9A21F80D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34B1-CC4F-4F6F-9546-73E27172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F95A-4B99-4501-9E20-B2416A27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1228-F052-43DD-8209-3D2D2B5D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A555-76FE-4B64-B48F-72FF4CCC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6197-840B-42A1-8153-3EE8CE11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80B2-CBBC-47D2-8A03-3BF3B92A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489C-296B-4BDF-8878-474E004E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7B1-8672-4BB6-ACEA-98DB48E1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5425-5C25-4BDA-A8A1-308DE765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9623-A57D-41A9-95F4-D665F927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BBAF-5783-40C7-BD0B-CF5C5EA1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A715-4925-44D9-ABBA-FDAB7E0F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152C-6C90-4CA8-AEC0-95723D63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97BA-599E-4F73-A17A-F2F7371D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786-B857-487F-BE77-98A0376F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42F-9671-497D-8BBD-09781354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6A3-DD94-4F65-90EF-19D204ED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1DE-5791-4A06-B450-49B1893C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208-498F-40A9-9A16-343B7A23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6F4-CF16-4080-9DDD-F8E7B6C4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E15F-85A2-43A7-BDD7-79597B3D421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41E6-06E8-44FF-8DD8-F6CCC30D3762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vobodainfo.org/info/?tid=&amp;nd=901817757&amp;prevDoc=901713616" TargetMode="External"/><Relationship Id="rId2" Type="http://schemas.openxmlformats.org/officeDocument/2006/relationships/hyperlink" Target="http://www.svobodainfo.org/info/?tid=&amp;nd=901790693&amp;prevDoc=901713616" TargetMode="External"/><Relationship Id="rId3" Type="http://schemas.openxmlformats.org/officeDocument/2006/relationships/hyperlink" Target="http://www.svobodainfo.org/info/?tid=&amp;nd=901910577&amp;prevDoc=901713616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e92611"/>
                </a:solidFill>
                <a:latin typeface="Arial Black"/>
              </a:rPr>
              <a:t>Регулирование рынка государственных ценных бумаг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095880"/>
            <a:ext cx="289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758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99ffcc"/>
                </a:solidFill>
                <a:latin typeface="Arial"/>
              </a:rPr>
              <a:t>Правами регулирования в области государственных ценных бумаг обладает Министерство финансов России. Минфин РФ, ранее выполнявшее почти все функции по регулированию рынка ценных бумаг в настоящее время имеет полномочия только в области регулирования рынка государственных ценных бумаг. Однако,  возможны случаи, когда эмитентом ценной бумаги от правительства может выступить любое другое министерство или ведомство. В России таких случаев пока не было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3924360" y="0"/>
            <a:ext cx="1942920" cy="1125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ff33"/>
                </a:solidFill>
                <a:latin typeface="Arial"/>
              </a:rPr>
              <a:t>Второй орган - центральный банк. Центральный банк РФ может исполнять роль финансового  агента правительства. Центральный банк также  особенно  заинтересован  в  рынке государственных займов  из-за  неизбежной связи между денежной политикой, банковской системой и рынком государственных ценных бумаг. Вовлечение  центрального банка в роль финансового агента, а также его участие в проведении денежной политики  позволяет органам,  регулирующим  денежное обращение,  быть в курсе событий, происходящих на рынках,  реагировать на  них  должным образом и  тем самым более эффективно выполнять свою роль надзора над банковской системой и системой платежей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260280"/>
            <a:ext cx="868680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Рынок государственных ценных бумаг является частью рынка ценных бумаг, поэтому законодательные нормы, регулирующие рынок ценных бумаг регулируют и рынок государственных ценных бумаг. Основными законодательными актами, которыми регулируется российский рынок ценных бумаг, являются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Гражданский кодекс РФ, части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 (1995—1996 г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банках и банковской деятельности» (1990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Центральном банке Российской Федерации» (1995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приватизации государственных и муниципальных предприятий в РСФСР» (1991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товарных биржах и биржевой торговле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валютном регулировании и валютном контроле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государственном внутреннем долге Российской Федерации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об акционерных обществах (1996 г.)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о рынке ценных бумаг (1996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Указы Президента по развитию рынка ценных бумаг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cc00"/>
                </a:solidFill>
                <a:latin typeface="Arial"/>
              </a:rPr>
              <a:t>Минфин издает множество приказов для регулирования государственных ценных бумаг. Ниже представлены некоторые из ни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фина РФ от 27.04.2002 № 37н "Об утверждении Условий эмиссии и обращения  облигаций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каз Минфина РФ от 15.06.2001 № 45н "Об утверждении условий эмиссии и обращения облигаций государственного сберегательного займа Российской Федерации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каз Минфина России от 21.09.2004 № 86н "Об утверждении Условий эмиссии и обращения облигаций государственных нерыночных займов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Еще один аспект рассматриваемого вопроса связан с разработкой и установлением ответственности за правонарушение в сфере выпуска и обращения государственных ценных бумаг.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 В связи с</a:t>
            </a:r>
            <a:r>
              <a:rPr b="0" i="1" lang="ru-RU" sz="1800" spc="-1" strike="noStrike">
                <a:solidFill>
                  <a:srgbClr val="ff99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этим можно выделить следующие категории субъектов нарушений и оснований ответственности:</a:t>
            </a:r>
            <a:br>
              <a:rPr sz="1800"/>
            </a:b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-   </a:t>
            </a: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должностные лица эмитента ценных бумаг — в случаях нарушения условий выпуска и обращения, а также исполнения обязательств по ценной бумаге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-   владельцы ценных бумаг - при нарушении условий обращения ценных бумаг (например, вывоз за пределы Российской Федерации ценных бумаг, запрещенных к перемещению за границу)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-   иные лица - при совершении противоправных деяний, препятствующих нормальному функционированию системы выпуска и обращения государственных ценных бумаг (например, уголовная ответственность физических лиц за подделку государственных ценных бумаг)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гулирование участия на рынке государственных ценных    бумаг может быть направлено на то,  чтобы ограничить  распространение рисков, которые принимают на себя маркетмейкеры, а также гарантировать, что дилеры и другие участники рынка имеют соответствующее финансовое  состояние для того,  чтобы покрыть потенциальные финансовые потери.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8686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5ed755"/>
                </a:solidFill>
                <a:latin typeface="Arial"/>
              </a:rPr>
              <a:t>Положения о регулировании могут быть установлены  для  отслеживания  и  ограничения  следующих классов риска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РЫНОЧНЫЙ РИСК -   риск потерь, проистекающих от колебания цен на рынк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РИСК ЛИКВИДНОСТИ -  риск того, что ценные бумаги не могут быть куплены и проданы быстро без существенных изменений в цен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КРЕДИТНЫЙ РИСК - риск потерь, проистекающий от неплатежеспособности контрагента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БИЗНЕС-РИСК - риск потерь, проистекающих от неадекватных систем управления и контроля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1341000"/>
            <a:ext cx="86868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Одной из главной причин выпуска государственных ценных бумаг является обслуживание государственного долга. Отказ от инфляционных методов финансирования дефицита бюджета обусловил развитие рынка государственных ценных бумаг в России и рост государственного долга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476280"/>
            <a:ext cx="86868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7ee86"/>
                </a:solidFill>
                <a:latin typeface="Arial"/>
              </a:rPr>
              <a:t>Государственный долг- это вся сумма задолженности по обязательствам государства, проценты по ней и неисполненные финансовые обязательства государства перед субъектами экономики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Для государства на федеральном и региональном уровнях возможно применение двух видов долговых обязательств: внутреннего или внешнего долга. Для муниципалитетов называется возможность применения только одного вида – внутреннего долг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ритерием разграничения долговых обязательств на внутренние и внешние вступает валюта займа. Если деньги берутся взаймы у российских или иностранных субъектов в иностранной валюте, то возникают отношения внешнего долга. Если деньги берутся в валюте России, то возникают отношения внутреннего долг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 Black"/>
              </a:rPr>
              <a:t>По структуре государственный долг РФ состоит из нескольких групп долговых обязательств: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олженности Минфина перед ЦБ по кредитам на финансирование дефицита бюджета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олженности, появившейся вследствие взятого на себя государством обязательства по восстановлению сбережений граждан;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ей задолженности бывшего СССР, принятой на себя РФ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овь возникшая задолженность РФ перед иностранными государствами, международными организациями и фирмами (Парижскому клубу, Лондонскому клубу, Международному валютному фонду (МВФ) и Всемирному или Международному банку реконструкции и развития (ВБРР или МБРР)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09080" cy="2872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686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 России понятие государственного внутреннего долга определяется в Законе РФ от 13.11.1992 г. № 3877-1 «О государственном внутреннем долге» и ст.817 Гражданского кодекса (ГК) РФ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 настоящее время долг Российской Федерации в рыночной форме представлен облигациями государственных внешних заимствований (еврооблигациями) со сроками погашения с 2003 по 2030 год, а также облигациями внутреннего валютного займа со сроком погашения 2003 - 2011 годы. При этом выпуск еврооблигаций со сроками погашения до 2010 и до 2030 годов был связан с урегулированием задолженности бывшего СССР Лондонскому клубу кредиторов и коммерческой задолженности бывшего СССР, а ОВГВЗ - 3, 4, 5 и 8 серий - урегулированием внутреннего валютного долга бывшего СССР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нешний долг состоит из долга Правительства РФ (долг международным организациям, бонды, кредиты по правительственной линии, коммерческие кредиты), долга бывшего СССР (бонды, кредиты по правительственной линии, коммерческие кредиты) и бондов Минфина РФ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Государственные ценные бумаги –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это бумаги, которые выпускаются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и обеспечиваются государством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и используются для пополнения государственного бюджета.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Для федерального уровня долговых обязательств государства Бюджетный кодекс устанавливает верхний предел государственного внутреннего долга, верхний предел государственного внешнего долга и отдельно предел государственных внешних заимствований на очередной финансовый год. Указанные предельные показатели долговых обязательств устанавливаются для всех уровней бюджетной системы. На федеральном уровне конкретные  цифры предельных объемов государственного внутреннего  и внешнего долга, а также отдельно предельные показатели внешних заимствований устанавливаются федеральным законом о бюджете на очередной год, в котором показатели долговых обязательств подлежат конкретизации по формам обеспечения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Оперативное управление государственным долгом осуществляет исполнительная власть (Министерство финансов РФ и Центральный банк РФ, если заемщиком выступает государство как суверен, и соответствующие органы субъекта РФ, если заемщиком является субъект РФ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8200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9ee8"/>
                </a:solidFill>
                <a:latin typeface="Arial Black"/>
              </a:rPr>
              <a:t>Управление государственным долгом представляет собой комплекс мер, предпринимаемых государством в лице его уполномоченных органов по определению мест и условий размещения и погашения государственных займов, а также обеспечению гармонизации интересов заемщика, инвесторов и кредиторов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89ee8"/>
                </a:solidFill>
                <a:latin typeface="Arial Black"/>
              </a:rPr>
              <a:t>Одним из широко распространенных методов управления государственным долгом является рефинансирование государственного долга, то есть погашение основной задолженности и процентов за счет средств, полученных от размещения новых займов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907560"/>
            <a:ext cx="86868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Проследим динамику внутреннего и внешнего долга в период с 1998 по 2006 гг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916280"/>
          <a:ext cx="9144000" cy="3309840"/>
        </p:xfrm>
        <a:graphic>
          <a:graphicData uri="http://schemas.openxmlformats.org/drawingml/2006/table">
            <a:tbl>
              <a:tblPr/>
              <a:tblGrid>
                <a:gridCol w="912960"/>
                <a:gridCol w="915840"/>
                <a:gridCol w="914400"/>
                <a:gridCol w="915840"/>
                <a:gridCol w="912960"/>
                <a:gridCol w="912960"/>
                <a:gridCol w="915840"/>
                <a:gridCol w="914400"/>
                <a:gridCol w="915840"/>
                <a:gridCol w="912960"/>
              </a:tblGrid>
              <a:tr h="13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 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прогноз)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утренний долг (млрд.руб.)</a:t>
                      </a:r>
                      <a:endParaRPr b="0" lang="en-US" sz="1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8,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7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,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4,5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2,1 (на 1.12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8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ешний долг (млрд.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,5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2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,1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,7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,1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,8 (на 1.10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,2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Из таблицы видно, что государственный внутренний долг увеличивается, а внешний уменьшается. Но так как внешний долг исчисляется в миллиардах долларов, а не рублей, то внешний долг значительно преобладает над внутренним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Многократное преобладание долга, номинированного в иностранной валюте, является серьезным фактором риска, ставящего управление долгом в жесткую зависимость от валютной политики и состояния платежного баланса, что предполагает необходимость постепенного замещения внешнего долга внутренним. При этом следует учитывать сохраняющиеся риски ограничения доступа на внешние рынки заимствований по независящим от Российской Федерации причинам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В этой связи приоритет при осуществлении государственных заимствований должен быть отдан в долгосрочном плане внутренним заимствованиям. Возможность этого создает постепенное выравнивание условий привлечения внутренних и внешних заимствований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eff1"/>
                </a:solidFill>
                <a:latin typeface="Arial"/>
              </a:rPr>
              <a:t>Оценка изменения государственного внутреннего долга, выраженного в ценных бумагах в 2005-2010 гг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53" name="Объект 4"/>
          <p:cNvGraphicFramePr/>
          <p:nvPr/>
        </p:nvGraphicFramePr>
        <p:xfrm>
          <a:off x="0" y="990720"/>
          <a:ext cx="9144000" cy="58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907560"/>
            <a:ext cx="86868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Рассмотрим основные цели политики в области государственного внешнего долга на среднесрочную перспективу: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обеспечение стабильного доступа Российской Федерации на рынки внешних заимствований на выгодных условиях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расширение объемов внешних заимствований на цели рефинансирования внешнего долга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активное управление внешней задолженностью с целью сокращения стоимости ее обслуживания, а также сглаживания имеющихся "пиков платежей" по государственному внешнему долгу в 2005 и 2008 годах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существенное сокращение долга бывшего СССР, задолженности Российской Федерации перед правительствами иностранных государств и международными финансовыми организациями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наращивание рыночной составляющей внешнего долга Российской Федерации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проведение сбалансированной политики в области внешних заимствований с целью сохранения и дальнейшего улучшения платежной репутации Росси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 Black"/>
              </a:rPr>
              <a:t>Вывод: государственные ценные бумаги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являются самостоятельным видом ценных бумаг. Большинство из них имеют долговой характер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Государство, выпуская ценные бумаги, выступает в роли заемщика, принимает на себя обязанности по обслуживанию государственного долга, а владелец ценной бумаги приобретает право предъявить ее для погашения в установленном порядке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Выпуск государственных ценных (облигаций) является формой государственного кредита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9ff09"/>
                </a:solidFill>
                <a:latin typeface="Arial"/>
              </a:rPr>
              <a:t>В мире централизованный выпуск ценных бумаг  используется  в  качестве инструмента государственного регулирования экономики: как рычаг  воздействия на денежное обращение и управления  объемом  денежной  массы;  а  также  как средство  неэмиссионного  покрытия  дефицита  государственного  и   местного бюджетов, способ привлечения денежных средств предприятий  и  населения  для решения тех или иных конкретных задач. Накоплен богатый  опыт  моделирования и выпуска разнообразных финансовых гособязательств, отвечающих  потребностям и   запросам   различных   инвесторов   (потенциальных    вкладчиков)    в государственные ценные бумаги</a:t>
            </a: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ff33"/>
                </a:solidFill>
                <a:latin typeface="Arial"/>
              </a:rPr>
              <a:t>Важно, что политика развития регулирования рынка  государственных ценных бумаг должна осуществляться в рамках более общей задачи формирования и развития единого национального финансового рынка как эффективного механизма аккумулирования и перераспределения денежных ресурсов в рыночной экономике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86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bed43"/>
                </a:solidFill>
                <a:latin typeface="Arial Black"/>
              </a:rPr>
              <a:t>Различают следующие виды государственных ценных бумаг: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1. наличные и безналич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2. документарные и бездокументар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3. гарантированные и доход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4. рыночные и нерыночные (в зависимости от того, обращаются ли они на свободном  рынке  (первичном  и вторичном) или не  входят  во  вторичное  обращение  на  биржах  и  свободно возвращаются  эмитенту  до  истечения  срока  их  действия);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5. именные и на предъявителя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5f52b"/>
                </a:solidFill>
                <a:latin typeface="Arial Black"/>
              </a:rPr>
              <a:t>Государственные ценные бумаги могут выполнять такие функции, как: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налоговое освобождение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обслуживание государственного долга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финансирование непредвиденных государственных расходов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А) Государственными долгосрочными облигациями (ГДО).                                              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Выпущены в 1991 году со сроком обращения 30 лет. Объем займа – 80 млрд. рублей. Номинал облигации – 100 тыс. рублей. Выпускаются в бланковом виде с набором купонов. Купонный доход – 15% от номинала, выплачивается один раз в год – 1 июля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Б) Государственными краткосрочными облигациями (ГКО)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Срок обращения – 3,6 и 12 месяцев. Выпускаются на безбумажной основе в виде записей на счетах «депо». Номинал – 1 млн. рублей. Распространяются на аукционах с дисконтом от номинал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137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)Облигациями федеральных займов с переменным купонным доходом (ОФЗ-ПК) и постоянным купонным доходом (ОФЗ-ПК)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Относятся к среднесрочным государственным ценным бумагам. Срок их обращения от 1 года до 5 лет. Выпускаются на безбумажной основе в виде записи на счетах «депо». Номинал – 1млн. рублей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Г) Облигациями государственного сберегательного займа (ОГС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Срок обращения – 1 год. Объем выпуска – 10 трлн. рубле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Номинал – 100 и 500 тыс. рублей. Выпускаются в бланковом виде на предъявителя с набором из 4 купонов, выплачиваемых ежеквартально. Размер купона определяется по последней официально объявленной ставке купонного дохода по ОФЗ-ПК плюс премия, определяемая Минфином РФ. Предназначены для населения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Д)Облигациями внутреннего государственного валютного займа (ОВГВ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ыпущены в 1993 году. Валюта займа – доллары США. Номиналы – 1, 10, 100 тыс. долларов СШ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Е)Облигациями государственного нерыночного займа (ОГН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ыпускаются в бездокументарной форме. Объем выпуска в 1996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году – 15 трлн. рублей. Номинал – 1 млн. рублей. Предназначены   для   страховых компаний, пенсионных и внебюджетных фондов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Ж) Государственными жилищными сертификатами (ГЖС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Являются документарными именными не обращаемыми ценными бумагами. Эмитируются по решению Правительства РФ для граждан РФ, лишившихся жилья в результате чрезвычайных ситуаций и стихийных бедствий. Номинированы в квадратных метрах жилой площади. Срок предъявления к погашению – 1 год с момента выдачи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05264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Государственные ценные бумаги эмитируются как центральным правительством, так и местными органами власти. Эмитентом вышеперечисленных государственных ценных бумаг является Министерство финансов РФ. Погашает эти ценные бумаги также Минфин РФ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митентом может выступать и ЦБ РФ, соответственно различают облигации банка России (ОБР) - инструменты денежно-кредитной политики, выпускаемые ЦБ РФ с сентября 1998 г. Обслуживание и погашение выпусков осуществляет ЦБ РФ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66"/>
                </a:solidFill>
                <a:latin typeface="Arial Black"/>
              </a:rPr>
              <a:t>Рынок государственных ценных бумаг подвергается жесткому контролю и регулированию со стороны органов как законодательной, так и исполнительной власт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ec9ed9"/>
                </a:solidFill>
                <a:latin typeface="Arial Black"/>
              </a:rPr>
              <a:t>Методами подобного регулирования являются: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349000"/>
            <a:ext cx="86868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азработка и принятие законодательных мер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аделение полномочиями существующих и создание новых структур регулирования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спользование методов налогового воздействия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16:28:52Z</dcterms:created>
  <dc:creator>Танюшка</dc:creator>
  <dc:description/>
  <dc:language>en-US</dc:language>
  <cp:lastModifiedBy>LEGION</cp:lastModifiedBy>
  <dcterms:modified xsi:type="dcterms:W3CDTF">2014-11-10T12:17:26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