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34DA-8438-4D2B-B516-7E45B37CA5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0" lang="ru-RU" sz="1200" spc="-1" strike="noStrike">
                <a:solidFill>
                  <a:srgbClr val="e92611"/>
                </a:solidFill>
                <a:latin typeface="Arial"/>
              </a:rPr>
              <a:t>Регулирование рынка государственных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817E-EE0C-45C5-B502-8413ABBBBAD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50D-0276-4CAE-8AEC-73BD8EAAF7D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6156-F118-483D-B748-7993585BFFE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12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9956-1611-41DB-A59E-5F3C40171EF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FCE2-EF61-4532-8382-AC295252CE1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000"/>
            </a:b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 В связи с</a:t>
            </a:r>
            <a:r>
              <a:rPr b="0" i="1" lang="ru-RU" sz="1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ff9900"/>
                </a:solidFill>
                <a:latin typeface="Arial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 </a:t>
            </a: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EBF8-0A93-4651-B531-FD19D83BD60C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62DB-EB42-4C99-9726-6167FF1781A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73A56-F3C0-4FBD-9968-6E846EBD5F6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3F9-AF0B-4A3C-B3A9-2AB893D2E0B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ff00"/>
                </a:solidFill>
                <a:latin typeface="Arial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D209-D56E-4F51-977D-81DA8F57ED60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60AB-9716-4608-8FCE-8A30B7596D8D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5412A-196D-44F2-9B8D-8755586B27E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B5D0-96D6-48E1-8451-E3ED05C2409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FCF7-1BC0-47BF-9898-195AA865AE9F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5F662-7749-4A8F-B955-2F624332792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едим динамику внутреннего и внешнего долга в период с 1998 по 2006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697-ED59-44CE-A0A9-43E78ECE06B7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C827-AF8F-44B0-A08A-FDF19FD40BA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BAF7-36D0-41F8-A2CE-D67DC8295A7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A235-80F5-4D80-858D-D80ED072E7B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ff99"/>
                </a:solidFill>
                <a:latin typeface="Arial"/>
              </a:rPr>
              <a:t>Вывод: государственные ценные бумаг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250E-5E97-4902-987D-2CFF86AE50F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737C-1076-44C3-B8C5-99EFFCC6D0D1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bed43"/>
                </a:solidFill>
                <a:latin typeface="Arial"/>
              </a:rPr>
              <a:t>Различают следующие виды государственных ценных бумаг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CCB2-2878-43DB-870B-BBB3FB4389E3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f5f52b"/>
                </a:solidFill>
                <a:latin typeface="Arial"/>
              </a:rPr>
              <a:t>Государственные ценные бумаги могут выполнять такие функции, как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CA15-07C0-4D0D-BBC4-94C6862CC82A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2A799-BE5F-4B93-8114-6A9CCF0CDDE4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8D16-0119-41D2-B399-B3E111949BD6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cff"/>
                </a:solidFill>
                <a:latin typeface="Arial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9E6C-8CBA-4BB8-8E8F-0D3E3B6B353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D67C-5C72-455F-86B7-0B2C28248BCE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66"/>
                </a:solidFill>
                <a:latin typeface="Arial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ec9ed9"/>
                </a:solidFill>
                <a:latin typeface="Arial"/>
              </a:rPr>
              <a:t>Методами подобного регулирования являю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82A3-0696-4A55-B1B2-CD6306E48598}" type="slidenum">
              <a:rPr b="0" lang="ru-RU" sz="12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176-4D64-4084-A863-13D83F3E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1B2-7FF6-433D-8EF2-464C9742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FE1-56F7-484B-A1C3-5E0E52E47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1B12-1465-4CDA-8219-ED1164D8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8586-83F6-4E94-B724-3E2FD269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47D5A-A659-4C66-9681-70FE0343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C663-A1C6-420B-99D5-FD54D1006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06FA-C724-4E96-A969-7A87BFF3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9050-8503-4263-BA06-B666C8769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F77A-D8C3-4DF6-8D00-C1866F9F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EEC0-C642-492B-BF1C-5C7AFB6F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0DBD-CB5C-48DB-A3C9-0CF21E1A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FB4C7-9393-46B5-9C14-BD1C17C4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1793-6507-47C8-9910-CCDACD09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4CACC-5E87-4CE5-84FF-B1C2B1ED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F34B-E34F-410B-AF16-1418D6438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6476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DCF0-45B8-48CB-83C1-E788A11D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406-E266-4993-BCA0-BDF4C1FB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A084-0E17-4598-94F3-F252092E0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12C8-2464-4CE5-806D-D9BE2F17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9AF2-910B-457C-B1B2-5BDABF75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EFD2-4B01-4C15-AC08-BF6C627D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06476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50DE-B0C1-4946-B276-534F9294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06476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904-7E60-4AED-B1E6-4A9B87AF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324120"/>
            <a:ext cx="19047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5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3241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E26C-3E5C-492B-A0C3-B05FA871D98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eff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6969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696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6969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9552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095520"/>
            <a:ext cx="19051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BFB91-6DDF-4120-A48E-8399B7D9E667}" type="slidenum">
              <a:rPr b="0" lang="ru-RU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vobodainfo.org/info/?tid=&amp;nd=901817757&amp;prevDoc=901713616" TargetMode="External"/><Relationship Id="rId2" Type="http://schemas.openxmlformats.org/officeDocument/2006/relationships/hyperlink" Target="http://www.svobodainfo.org/info/?tid=&amp;nd=901790693&amp;prevDoc=901713616" TargetMode="External"/><Relationship Id="rId3" Type="http://schemas.openxmlformats.org/officeDocument/2006/relationships/hyperlink" Target="http://www.svobodainfo.org/info/?tid=&amp;nd=901910577&amp;prevDoc=901713616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e92611"/>
                </a:solidFill>
                <a:latin typeface="Arial Black"/>
              </a:rPr>
              <a:t>Регулирование рынка государственных ценных бумаг</a:t>
            </a:r>
            <a:endParaRPr b="0" lang="en-US" sz="4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095880"/>
            <a:ext cx="28958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58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99ffcc"/>
                </a:solidFill>
                <a:latin typeface="Arial"/>
              </a:rPr>
              <a:t>Правами регулирования в области государственных ценных бумаг обладает Министерство финансов России. Минфин РФ, ранее выполнявшее почти все функции по регулированию рынка ценных бумаг в настоящее время имеет полномочия только в области регулирования рынка государственных ценных бумаг. Однако,  возможны случаи, когда эмитентом ценной бумаги от правительства может выступить любое другое министерство или ведомство. В России таких случаев пока не было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3924360" y="0"/>
            <a:ext cx="1942920" cy="1125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99ff33"/>
                </a:solidFill>
                <a:latin typeface="Arial"/>
              </a:rPr>
              <a:t>Второй орган - центральный банк. Центральный банк РФ может исполнять роль финансового  агента правительства. Центральный банк также  особенно  заинтересован  в  рынке государственных займов  из-за  неизбежной связи между денежной политикой, банковской системой и рынком государственных ценных бумаг. Вовлечение  центрального банка в роль финансового агента, а также его участие в проведении денежной политики  позволяет органам,  регулирующим  денежное обращение,  быть в курсе событий, происходящих на рынках,  реагировать на  них  должным образом и  тем самым более эффективно выполнять свою роль надзора над банковской системой и системой платежей.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28600" y="260280"/>
            <a:ext cx="868680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ffff"/>
                </a:solidFill>
                <a:latin typeface="Arial"/>
              </a:rPr>
              <a:t>Рынок государственных ценных бумаг является частью рынка ценных бумаг, поэтому законодательные нормы, регулирующие рынок ценных бумаг регулируют и рынок государственных ценных бумаг. Основными законодательными актами, которыми регулируется российский рынок ценных бумаг, являются: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Гражданский кодекс РФ, част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и </a:t>
            </a:r>
            <a:r>
              <a:rPr b="0" lang="en-US" sz="2000" spc="-1" strike="noStrike">
                <a:solidFill>
                  <a:srgbClr val="ff66ff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 (1995—1996 г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банках и банковской деятельности» (1990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Центральном банке Российской Федерации» (1995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приватизации государственных и муниципальных предприятий в РСФСР» (1991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товарных биржах и биржевой торгов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валютном регулировании и валютном контроле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«О государственном внутреннем долге Российской Федерации» (1992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б акционерных обществах (1996 г.)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Закон о рынке ценных бумаг (1996 г.);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Указы Президента по развитию рынка ценных бумаг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cccc00"/>
                </a:solidFill>
                <a:latin typeface="Arial"/>
              </a:rPr>
              <a:t>Минфин издает множество приказов для регулирования государственных ценных бумаг. Ниже представлены некоторые из них: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иказ Минфина РФ от 27.04.2002 № 37н "Об утверждении Условий эмиссии и обращения  облигаций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приказ Минфина РФ от 15.06.2001 № 45н "Об утверждении условий эмиссии и обращения облигаций государственного сберегательного займа Российской Федерации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риказ Минфина России от 21.09.2004 № 86н "Об утверждении Условий эмиссии и обращения облигаций государственных нерыночных займов"</a:t>
            </a: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76464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Еще один аспект рассматриваемого вопроса связан с разработкой и установлением ответственности за правонарушение в сфере выпуска и обращения государственных ценных бумаг.</a:t>
            </a:r>
            <a:br>
              <a:rPr sz="1800"/>
            </a:b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 В связи с</a:t>
            </a:r>
            <a:r>
              <a:rPr b="0" i="1" lang="ru-RU" sz="1800" spc="-1" strike="noStrike">
                <a:solidFill>
                  <a:srgbClr val="ff9900"/>
                </a:solidFill>
                <a:latin typeface="Arial Black"/>
              </a:rPr>
              <a:t> </a:t>
            </a:r>
            <a:r>
              <a:rPr b="0" lang="ru-RU" sz="1800" spc="-1" strike="noStrike">
                <a:solidFill>
                  <a:srgbClr val="ff9900"/>
                </a:solidFill>
                <a:latin typeface="Arial Black"/>
              </a:rPr>
              <a:t>этим можно выделить следующие категории субъектов нарушений и оснований ответственности:</a:t>
            </a:r>
            <a:br>
              <a:rPr sz="1800"/>
            </a:br>
            <a:endParaRPr b="0" lang="en-US" sz="1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-   </a:t>
            </a: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должностные лица эмитента ценных бумаг — в случаях нарушения условий выпуска и обращения, а также исполнения обязательств по ценной бумаге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владельцы ценных бумаг - при нарушении условий обращения ценных бумаг (например, вывоз за пределы Российской Федерации ценных бумаг, запрещенных к перемещению за границу);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f3d39"/>
                </a:solidFill>
                <a:latin typeface="Arial"/>
              </a:rPr>
              <a:t>-   иные лица - при совершении противоправных деяний, препятствующих нормальному функционированию системы выпуска и обращения государственных ценных бумаг (например, уголовная ответственность физических лиц за подделку государственных ценных бумаг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24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гулирование участия на рынке государственных ценных    бумаг может быть направлено на то,  чтобы ограничить  распространение рисков, которые принимают на себя маркетмейкеры, а также гарантировать, что дилеры и другие участники рынка имеют соответствующее финансовое  состояние для того,  чтобы покрыть потенциальные финансовые потери.</a:t>
            </a:r>
            <a:r>
              <a:rPr b="0" lang="ru-RU" sz="3600" spc="-1" strike="noStrike">
                <a:solidFill>
                  <a:srgbClr val="99eff1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421000"/>
            <a:ext cx="8686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5ed755"/>
                </a:solidFill>
                <a:latin typeface="Arial"/>
              </a:rPr>
              <a:t>Положения о регулировании могут быть установлены  для  отслеживания  и  ограничения  следующих классов риска: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ЫНОЧНЫЙ РИСК -   риск потерь, проистекающих от колебания цен на рынк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РИСК ЛИКВИДНОСТИ -  риск того, что ценные бумаги не могут быть куплены и проданы быстро без существенных изменений в цене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КРЕДИТНЫЙ РИСК - риск потерь, проистекающий от неплатежеспособности контрагента,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БИЗНЕС-РИСК - риск потерь, проистекающих от неадекватных систем управления и контроля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28600" y="1341000"/>
            <a:ext cx="86868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ccff"/>
                </a:solidFill>
                <a:latin typeface="Arial"/>
              </a:rPr>
              <a:t>Одной из главной причин выпуска государственных ценных бумаг является обслуживание государственного долга. Отказ от инфляционных методов финансирования дефицита бюджета обусловил развитие рынка государственных ценных бумаг в России и рост государственного долга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28600" y="476280"/>
            <a:ext cx="868680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e7ee86"/>
                </a:solidFill>
                <a:latin typeface="Arial"/>
              </a:rPr>
              <a:t>Государственный долг- это вся сумма задолженности по обязательствам государства, проценты по ней и неисполненные финансовые обязательства государства перед субъектами экономики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Для государства на федеральном и региональном уровнях возможно применение двух видов долговых обязательств: внутреннего или внешнего долга. Для муниципалитетов называется возможность применения только одного вида –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Критерием разграничения долговых обязательств на внутренние и внешние вступает валюта займа. Если деньги берутся взаймы у российских или иностранных субъектов в иностранной валюте, то возникают отношения внешнего долга. Если деньги берутся в валюте России, то возникают отношения внутреннего долг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00"/>
                </a:solidFill>
                <a:latin typeface="Arial Black"/>
              </a:rPr>
              <a:t>По структуре государственный долг РФ состоит из нескольких групп долговых обязательств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686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 Минфина перед ЦБ по кредитам на финансирование дефицита бюджета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олженности, появившейся вследствие взятого на себя государством обязательства по восстановлению сбережений граждан;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ей задолженности бывшего СССР, принятой на себя РФ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овь возникшая задолженность РФ перед иностранными государствами, международными организациями и фирмами (Парижскому клубу, Лондонскому клубу, Международному валютному фонду (МВФ) и Всемирному или Международному банку реконструкции и развития (ВБРР или МБРР))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pic>
        <p:nvPicPr>
          <p:cNvPr id="136" name="Рисунок 4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209080" cy="28728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250920" y="907560"/>
            <a:ext cx="8686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России понятие государственного внутреннего долга определяется в Законе РФ от 13.11.1992 г. № 3877-1 «О государственном внутреннем долге» и ст.817 Гражданского кодекса (ГК) РФ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 настоящее время долг Российской Федерации в рыночной форме представлен облигациями государственных внешних заимствований (еврооблигациями) со сроками погашения с 2003 по 2030 год, а также облигациями внутреннего валютного займа со сроком погашения 2003 - 2011 годы. При этом выпуск еврооблигаций со сроками погашения до 2010 и до 2030 годов был связан с урегулированием задолженности бывшего СССР Лондонскому клубу кредиторов и коммерческой задолженности бывшего СССР, а ОВГВЗ - 3, 4, 5 и 8 серий - урегулированием внутреннего валютного долга бывшего СССР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ccff"/>
                </a:solidFill>
                <a:latin typeface="Arial"/>
              </a:rPr>
              <a:t>Внешний долг состоит из долга Правительства РФ (долг международным организациям, бонды, кредиты по правительственной линии, коммерческие кредиты), долга бывшего СССР (бонды, кредиты по правительственной линии, коммерческие кредиты) и бондов Минфина РФ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Государственные ценные бумаги –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это бумаги, которые выпускаются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обеспечиваются государством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ff99ff"/>
                </a:solidFill>
                <a:latin typeface="Arial"/>
              </a:rPr>
              <a:t>и используются для пополнения государственного бюджета.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cc66ff"/>
                </a:solidFill>
                <a:latin typeface="Arial"/>
              </a:rPr>
              <a:t>Для федерального уровня долговых обязательств государства Бюджетный кодекс устанавливает верхний предел государственного внутреннего долга, верхний предел государственного внешнего долга и отдельно предел государственных внешних заимствований на очередной финансовый год. Указанные предельные показатели долговых обязательств устанавливаются для всех уровней бюджетной системы. На федеральном уровне конкретные  цифры предельных объемов государственного внутреннего  и внешнего долга, а также отдельно предельные показатели внешних заимствований устанавливаются федеральным законом о бюджете на очередной год, в котором показатели долговых обязательств подлежат конкретизации по формам обеспечени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ccffff"/>
                </a:solidFill>
                <a:latin typeface="Arial"/>
              </a:rPr>
              <a:t>Оперативное управление государственным долгом осуществляет исполнительная власть (Министерство финансов РФ и Центральный банк РФ, если заемщиком выступает государство как суверен, и соответствующие органы субъекта РФ, если заемщиком является субъект РФ)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1413000"/>
            <a:ext cx="88200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Управление государственным долгом представляет собой комплекс мер, предпринимаемых государством в лице его уполномоченных органов по определению мест и условий размещения и погашения государственных займов, а также обеспечению гармонизации интересов заемщика, инвесторов и кредиторов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89ee8"/>
                </a:solidFill>
                <a:latin typeface="Arial Black"/>
              </a:rPr>
              <a:t>Одним из широко распространенных методов управления государственным долгом является рефинансирование государственного долга, то есть погашение основной задолженности и процентов за счет средств, полученных от размещения новых займов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69696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Проследим динамику внутреннего и внешнего долга в период с 1998 по 2006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916280"/>
          <a:ext cx="9144000" cy="3309840"/>
        </p:xfrm>
        <a:graphic>
          <a:graphicData uri="http://schemas.openxmlformats.org/drawingml/2006/table">
            <a:tbl>
              <a:tblPr/>
              <a:tblGrid>
                <a:gridCol w="912960"/>
                <a:gridCol w="915840"/>
                <a:gridCol w="914400"/>
                <a:gridCol w="915840"/>
                <a:gridCol w="912960"/>
                <a:gridCol w="912960"/>
                <a:gridCol w="915840"/>
                <a:gridCol w="914400"/>
                <a:gridCol w="915840"/>
                <a:gridCol w="912960"/>
              </a:tblGrid>
              <a:tr h="13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969696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8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9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1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4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5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6 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прогноз)</a:t>
                      </a:r>
                      <a:endParaRPr b="0" lang="en-US" sz="18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1368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утренний долг (млрд.руб.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8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7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,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0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4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2,1 (на 1.12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8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3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нешний долг (млрд.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$</a:t>
                      </a: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1,5 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8,4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,7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4,1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,8 (на 1.10)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9,2</a:t>
                      </a:r>
                      <a:endParaRPr b="0" lang="en-US" sz="2000" spc="-1" strike="noStrike">
                        <a:solidFill>
                          <a:srgbClr val="9696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1368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13680">
                      <a:solidFill>
                        <a:srgbClr val="96969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981000"/>
            <a:ext cx="868680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Из таблицы видно, что государственный внутренний долг увеличивается, а внешний уменьшается. Но так как внешний долг исчисляется в миллиардах долларов, а не рублей, то внешний долг значительно преобладает над внутренним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Многократное преобладание долга, номинированного в иностранной валюте, является серьезным фактором риска, ставящего управление долгом в жесткую зависимость от валютной политики и состояния платежного баланса, что предполагает необходимость постепенного замещения внешнего долга внутренним. При этом следует учитывать сохраняющиеся риски ограничения доступа на внешние рынки заимствований по независящим от Российской Федерации причинам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В этой связи приоритет при осуществлении государственных заимствований должен быть отдан в долгосрочном плане внутренним заимствованиям. Возможность этого создает постепенное выравнивание условий привлечения внутренних и внешних заимствовани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eff1"/>
                </a:solidFill>
                <a:latin typeface="Arial"/>
              </a:rPr>
              <a:t>Оценка изменения государственного внутреннего долга, выраженного в ценных бумагах в 2005-2010 гг.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graphicFrame>
        <p:nvGraphicFramePr>
          <p:cNvPr id="153" name="Объект 4"/>
          <p:cNvGraphicFramePr/>
          <p:nvPr/>
        </p:nvGraphicFramePr>
        <p:xfrm>
          <a:off x="0" y="990720"/>
          <a:ext cx="9144000" cy="5808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44000" cy="580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907560"/>
            <a:ext cx="8686800" cy="534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Arial"/>
              </a:rPr>
              <a:t>Рассмотрим основные цели политики в области государственного внешнего долга на среднесрочную перспективу: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) обеспечение стабильного доступа Российской Федерации на рынки внешних заимствований на выгодных условия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) расширение объемов внешних заимствований на цели рефинансирования внешнего долга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) активное управление внешней задолженностью с целью сокращения стоимости ее обслуживания, а также сглаживания имеющихся "пиков платежей" по государственному внешнему долгу в 2005 и 2008 годах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) существенное сокращение долга бывшего СССР, задолженности Российской Федерации перед правительствами иностранных государств и международными финансовыми организациям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) наращивание рыночной составляющей внешнего долга Российской Федерации;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6) проведение сбалансированной политики в области внешних заимствований с целью сохранения и дальнейшего улучшения платежной репутации России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99"/>
                </a:solidFill>
                <a:latin typeface="Arial Black"/>
              </a:rPr>
              <a:t>Вывод: государственные ценные бумаги</a:t>
            </a:r>
            <a:endParaRPr b="0" lang="en-US" sz="32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97000"/>
            <a:ext cx="868680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являются самостоятельным видом ценных бумаг. Большинство из них имеют долговой характер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Государство, выпуская ценные бумаги, выступает в роли заемщика, принимает на себя обязанности по обслуживанию государственного долга, а владелец ценной бумаги приобретает право предъявить ее для погашения в установленном порядке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89ee8"/>
                </a:solidFill>
                <a:latin typeface="Arial"/>
              </a:rPr>
              <a:t>Выпуск государственных ценных (облигаций) является формой государственного кредита.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9ff09"/>
                </a:solidFill>
                <a:latin typeface="Arial"/>
              </a:rPr>
              <a:t>В мире централизованный выпуск ценных бумаг  используется  в  качестве инструмента государственного регулирования экономики: как рычаг  воздействия на денежное обращение и управления  объемом  денежной  массы;  а  также  как средство  неэмиссионного  покрытия  дефицита  государственного  и   местного бюджетов, способ привлечения денежных средств предприятий  и  населения  для решения тех или иных конкретных задач. Накоплен богатый  опыт  моделирования и выпуска разнообразных финансовых гособязательств, отвечающих  потребностям и   запросам   различных   инвесторов   (потенциальных    вкладчиков)    в государственные ценные бумаги</a:t>
            </a: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ff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69696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ccff33"/>
                </a:solidFill>
                <a:latin typeface="Arial"/>
              </a:rPr>
              <a:t>Важно, что политика развития регулирования рынка  государственных ценных бумаг должна осуществляться в рамках более общей задачи формирования и развития единого национального финансового рынка как эффективного механизма аккумулирования и перераспределения денежных ресурсов в рыночной экономике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868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bed43"/>
                </a:solidFill>
                <a:latin typeface="Arial Black"/>
              </a:rPr>
              <a:t>Различают следующие виды государственных ценных бумаг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1. наличные и безналич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2. документарные и бездокументар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3. гарантированные и доходные;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4. рыночные и нерыночные (в зависимости от того, обращаются ли они на свободном  рынке  (первичном  и вторичном) или не  входят  во  вторичное  обращение  на  биржах  и  свободно возвращаются  эмитенту  до  истечения  срока  их  действия); 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99ff"/>
                </a:solidFill>
                <a:latin typeface="Arial"/>
              </a:rPr>
              <a:t>5. именные и на предъявителя. </a:t>
            </a:r>
            <a:endParaRPr b="0" lang="en-US" sz="28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f5f52b"/>
                </a:solidFill>
                <a:latin typeface="Arial Black"/>
              </a:rPr>
              <a:t>Государственные ценные бумаги могут выполнять такие функции, как:</a:t>
            </a:r>
            <a:endParaRPr b="0" lang="en-US" sz="36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налоговое освобождение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обслуживание государственного долга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7c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7c80"/>
                </a:solidFill>
                <a:latin typeface="Arial"/>
              </a:rPr>
              <a:t>финансирование непредвиденных государственных расходов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686800" cy="13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А) Государственными долгосрочными облигациями (ГДО).                                               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Выпущены в 1991 году со сроком обращения 30 лет. Объем займа – 80 млрд. рублей. Номинал облигации – 100 тыс. рублей. Выпускаются в бланковом виде с набором купонов. Купонный доход – 15% от номинала, выплачивается один раз в год – 1 июля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Б) Государственными краткосрочными облигациями (ГКО)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9966ff"/>
                </a:solidFill>
                <a:latin typeface="Arial"/>
              </a:rPr>
              <a:t>Срок обращения – 3,6 и 12 месяцев. Выпускаются на безбумажной основе в виде записей на счетах «депо». Номинал – 1 млн. рублей. Распространяются на аукционах с дисконтом от номинала. 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61372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484280"/>
            <a:ext cx="868680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)Облигациями федеральных займов с переменным купонным доходом (ОФЗ-ПК) и постоянным купонным доходом (ОФЗ-ПК)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Относятся к среднесрочным государственным ценным бумагам. Срок их обращения от 1 года до 5 лет. Выпускаются на безбумажной основе в виде записи на счетах «депо». Номинал – 1млн. рублей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) Облигациями государственного сберегательного займа (ОГС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Срок обращения – 1 год. Объем выпуска – 10 трлн. рублей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Номинал – 100 и 500 тыс. рублей. Выпускаются в бланковом виде на предъявителя с набором из 4 купонов, выплачиваемых ежеквартально. Размер купона определяется по последней официально объявленной ставке купонного дохода по ОФЗ-ПК плюс премия, определяемая Минфином РФ. Предназначены для населения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ff"/>
                </a:solidFill>
                <a:latin typeface="Arial Black"/>
              </a:rPr>
              <a:t>В 1998 году основные федеральные долговые обязательства были представлены следующими бумагами:</a:t>
            </a:r>
            <a:endParaRPr b="0" lang="en-US" sz="28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Д)Облигациями внутреннего государственного валютного займа (ОВГВ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щены в 1993 году. Валюта займа – доллары США. Номиналы – 1, 10, 100 тыс. долларов США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Е)Облигациями государственного нерыночного займа (ОГНЗ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Выпускаются в бездокументарной форме. Объем выпуска в 1996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году – 15 трлн. рублей. Номинал – 1 млн. рублей. Предназначены   для   страховых компаний, пенсионных и внебюджетных фондов. 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Ж) Государственными жилищными сертификатами (ГЖС)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9966ff"/>
                </a:solidFill>
                <a:latin typeface="Arial"/>
              </a:rPr>
              <a:t>Являются документарными именными не обращаемыми ценными бумагами. Эмитируются по решению Правительства РФ для граждан РФ, лишившихся жилья в результате чрезвычайных ситуаций и стихийных бедствий. Номинированы в квадратных метрах жилой площади. Срок предъявления к погашению – 1 год с момента выдачи.</a:t>
            </a:r>
            <a:endParaRPr b="0" lang="en-US" sz="20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600" y="1052640"/>
            <a:ext cx="8686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Государственные ценные бумаги эмитируются как центральным правительством, так и местными органами власти. Эмитентом вышеперечисленных государственных ценных бумаг является Министерство финансов РФ. Погашает эти ценные бумаги также Минфин РФ</a:t>
            </a:r>
            <a:r>
              <a:rPr b="0" lang="ru-RU" sz="3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Эмитентом может выступать и ЦБ РФ, соответственно различают облигации банка России (ОБР) - инструменты денежно-кредитной политики, выпускаемые ЦБ РФ с сентября 1998 г. Обслуживание и погашение выпусков осуществляет ЦБ РФ.</a:t>
            </a:r>
            <a:endParaRPr b="0" lang="en-US" sz="24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66"/>
                </a:solidFill>
                <a:latin typeface="Arial Black"/>
              </a:rPr>
              <a:t>Рынок государственных ценных бумаг подвергается жесткому контролю и регулированию со стороны органов как законодательной, так и исполнительной власти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99eff1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ec9ed9"/>
                </a:solidFill>
                <a:latin typeface="Arial Black"/>
              </a:rPr>
              <a:t>Методами подобного регулирования являются:</a:t>
            </a:r>
            <a:endParaRPr b="0" lang="en-US" sz="2400" spc="-1" strike="noStrike">
              <a:solidFill>
                <a:srgbClr val="99eff1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2349000"/>
            <a:ext cx="86868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разработка и принятие законодательных мер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наделение полномочиями существующих и создание новых структур регулирования; 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99"/>
                </a:solidFill>
                <a:latin typeface="Arial"/>
              </a:rPr>
              <a:t>использование методов налогового воздействия</a:t>
            </a:r>
            <a:endParaRPr b="0" lang="en-US" sz="3200" spc="-1" strike="noStrike">
              <a:solidFill>
                <a:srgbClr val="969696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200400" y="6324480"/>
            <a:ext cx="2895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96969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6T16:28:52Z</dcterms:created>
  <dc:creator>Танюшка</dc:creator>
  <dc:description/>
  <dc:language>en-US</dc:language>
  <cp:lastModifiedBy>LEGION</cp:lastModifiedBy>
  <dcterms:modified xsi:type="dcterms:W3CDTF">2014-11-10T12:17:26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