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27.png" ContentType="image/png"/>
  <Override PartName="/ppt/media/image24.png" ContentType="image/png"/>
  <Override PartName="/ppt/media/image28.jpeg" ContentType="image/jpeg"/>
  <Override PartName="/ppt/media/image20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8.png" ContentType="image/png"/>
  <Override PartName="/ppt/media/image6.jpeg" ContentType="image/jpeg"/>
  <Override PartName="/ppt/media/image11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7.jpeg" ContentType="image/jpeg"/>
  <Override PartName="/ppt/media/image1.wmf" ContentType="image/x-wmf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146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77040" y="-360"/>
            <a:ext cx="13809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67160"/>
            <a:ext cx="2104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6379920" y="8842320"/>
            <a:ext cx="477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 u="sng">
                <a:solidFill>
                  <a:srgbClr val="000000"/>
                </a:solidFill>
                <a:uFillTx/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A14B-E16E-4DB0-987C-4289ECFDEC25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3336-1C1F-45E7-B2A4-BC9D23D038A9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1030320" cy="37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Times New Roman"/>
              </a:rPr>
              <a:t>С Е М И Н А 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МОДЕЛИ ОБУЧ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НА БАЗЕ УЧЕБНО-МЕТОДИЧЕСКОГО КОМПЛЕКТА «ИНФОРМАТИКА и ИКТ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9"/>
                </a:solidFill>
                <a:latin typeface="Times New Roman"/>
              </a:rPr>
              <a:t>(БАЗОВЫЙ УРОВЕНЬ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заданий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4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AED5-43CA-4930-9AE9-A356D88141AF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баллов за задания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4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5678-0C91-47B9-944B-8A9DDAEC6669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заданий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5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B046-6C5D-4BB2-ADB5-0D541B775309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баллов за задания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5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50FB-5AE8-48D6-BF5B-5897221140FE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Анализ требований стандарта по линии «Алгоритмизация и программирование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Алгоритмизация упоминается в стандарте для основной школы. Дидактические единицы, посвященные алгоритмизации занимают  4 строки из 100 в стандарте для основной школы и 1,5 строки из 38 в стандарте для основной школы (базовый уровень), что в обоих случаях составляет 4% дидактических единиц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ограммирование в стандарте для основной школы не упоминаетс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ограммирование в стандарте для  старшей школы (базовый уровень) не упомин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277A-8BFA-4E0C-811B-1977346709E0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Задания ЕГЭ не соответствуют требованиям стандарта ни по содержанию, ни по удельному весу дидактических единиц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и тех часах, что отводятся на изучение курса информатики и ИКТ по базисному учебному плану, научить алгоритмизации и программированию невозмож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Успешно справиться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 заданиями ЕГЭ могут только учащиеся физико-математического и информационно-технологического профил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Нельзя делать ЕГЭ по информатике обязательным, что пытались сделать в 2006 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8CF8-7F3B-41E9-BF1C-9197E84031F3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Модернизация програм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и учебно-методического компле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9A15-FA6C-403B-8399-7D1402A92E94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рограмма непрерывного обучени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о дисциплине «Информатика и И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CEAC-87CD-4217-A5BC-BD598CD52750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Основные цели обуч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оспитание ответственного отношения к соблюдению этических и правовых норм информа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0FD5-7E7F-499C-90C3-8682614B6EC9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69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чебно-методический комплек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 Программа  для базового уровня (системно-информационная концепц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Учебник. 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Рабочая тетрадь № 1.  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Рабочая тетрадь № 2.  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СНОВНАЯ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Учебник. Теория. 7-9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нформатика и ИКТ. Практикум. 7-9 классы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8080"/>
                </a:solidFill>
                <a:uFillTx/>
                <a:latin typeface="Arial"/>
              </a:rPr>
              <a:t>Информатика и ИКТ. Задачник по моделированию. 9-11 классы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. Методическое пособие для учителей. 7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. Методическое пособие для учителей. 8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. Методическое пособие для учителей. 9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ТАРШАЯ ШКОЛА –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10 класс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11 класс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нформатика и ИКТ. Практикум по программированию. 10-11 классы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омпьютерное делопроизводство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(элективный кур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ABC2-030A-4C6B-8ABB-C7B6E22A8477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0D7F-FB72-4935-A6A5-006C8BF63D84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040" y="4338360"/>
            <a:ext cx="1630440" cy="54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семин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Требования Государственного образовательного стандарта «Информатика и ИКТ» для среднего (полного)  общего образования и ЕГ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Модернизация программы и  учебно-методического компле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Модели темат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Развитие линии алгоритмизации и программирования в учебно-методическом комплекте по информатике и ИК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               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- в основной школ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               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- в старшей школе – базовый уровен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ccff"/>
                </a:solidFill>
                <a:latin typeface="Times New Roman"/>
              </a:rPr>
              <a:t>УЧЕБНО-МЕТОДИЧЕСКИЙ </a:t>
            </a:r>
            <a:br>
              <a:rPr sz="1200"/>
            </a:br>
            <a:r>
              <a:rPr b="1" lang="ru-RU" sz="1200" spc="-1" strike="noStrike">
                <a:solidFill>
                  <a:srgbClr val="ccccff"/>
                </a:solidFill>
                <a:latin typeface="Times New Roman"/>
              </a:rPr>
              <a:t>КОМПЛ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7CBC-4B1E-4FA2-AA92-B6F4C8CC0189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Моде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тематическ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план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1D39-9DFC-4633-B9F6-5326394A9DE9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19BD-55DC-403F-A3F1-5A83E797F810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Начальный уровень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16B4-391A-42A3-8367-F5CE5D8EFC69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Основная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B3A8-F591-4A5A-BF1E-DC0328F0AE94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2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Тео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ормация. 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картина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ическое обеспечение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граммное обеспечение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рия, современное состояние и перспективы компьютерной техни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FBE4-5DB0-429B-B5B8-B6751C1DF194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7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орматика и ИКТ   7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Times New Roman"/>
              </a:rPr>
              <a:t>Практику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истемной среды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реды графического редакт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реды текстового процесс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реды табличного процесс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ммуникации в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8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граммирование в среде Л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E711-8ACD-487F-87F0-90EC2F6861EC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4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Требования государствен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образовательного стандарта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"Информатика и ИКТ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для среднего (полного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общего образования и ЕГ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C482-1BE5-411F-9D3E-57F0329A656A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6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орматика и ИКТ  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cccff"/>
                </a:solidFill>
                <a:latin typeface="Times New Roman"/>
              </a:rPr>
              <a:t>(базовый уровень)</a:t>
            </a:r>
            <a:br>
              <a:rPr sz="1200"/>
            </a:br>
            <a:r>
              <a:rPr b="0" i="1" lang="ru-RU" sz="1200" spc="-1" strike="noStrike">
                <a:solidFill>
                  <a:srgbClr val="000099"/>
                </a:solidFill>
                <a:latin typeface="Times New Roman"/>
              </a:rPr>
              <a:t>Задачник по моделирова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среде графического редакт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среде  текстового процесс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электро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блиц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модели в база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F2E4-DA4D-4197-8C24-177B4AFEA3D8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етодические пособ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ля уч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6A55-6D49-4388-B337-D29745491955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Основная школа – </a:t>
            </a:r>
            <a:r>
              <a:rPr b="1" lang="ru-RU" sz="11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1" lang="en-US" sz="1100" spc="-1" strike="noStrike">
                <a:solidFill>
                  <a:srgbClr val="ff0000"/>
                </a:solidFill>
                <a:latin typeface="Verdana"/>
              </a:rPr>
              <a:t>/8/9</a:t>
            </a:r>
            <a:r>
              <a:rPr b="1" lang="ru-RU" sz="11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A10C-BDAB-4F3B-9371-F4CE204734C5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571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Информационная картина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7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ятие об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б объектах окружающего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модель объе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б объектах окружающего мира (повтор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модель объекта (продолжени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основы процессов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модель объекта (повтор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системе объе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моде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программных средах: графическом редакторе, текстовом процессоре, база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классификации объе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мод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624B-C176-4358-9509-122CBBDC6DF1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80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рограммное обеспечение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7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ная сред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ческий редакт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овый процесс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программ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а программирования ЛОГО  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а программирования ЛОГО  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ная сред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бличный процесс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ая характеристика прикладной сред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ции в глобальной сет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програм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управления базой дан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323C-D30E-43F8-A085-956075B878B8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2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ехническое обеспечение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7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компьюте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ройство памя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ройства ввода и вывода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микропроцессо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устройств компью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дирование информации в компьюте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рия развития компьют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компьют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ппаратное обеспечение работы компьютерных се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ческие основы построения компью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167A-13F5-4A92-96DB-AEB53837078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Основная школа – </a:t>
            </a:r>
            <a:r>
              <a:rPr b="1" lang="en-US" sz="1100" spc="-1" strike="noStrike">
                <a:solidFill>
                  <a:srgbClr val="ff0000"/>
                </a:solidFill>
                <a:latin typeface="Verdana"/>
              </a:rPr>
              <a:t>8/9</a:t>
            </a:r>
            <a:r>
              <a:rPr b="1" lang="ru-RU" sz="11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8B53-4038-4D80-B101-C2ACD5798CC6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Старшая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FCB7-D9E2-483A-9786-57A154913CC1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Старшая школа –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DE2A-07A6-4E17-8660-FDD82468ED13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Старшая школа –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базовый уровень -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 10 класс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D0AB-BDD2-4A63-A291-6C9AC71ACB4C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06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Государственный стандарт общего образования включает три компонента:</a:t>
            </a:r>
            <a:br>
              <a:rPr sz="14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федеральный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компонент – устанавливается Российской Федер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егиональный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(национально-региональный) компонент – устанавливается субъектом Российской Федер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омпонент образовательного учреждения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– самостоятельно устанавливается образовательным учрежден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D656-62CF-412D-A746-5FE396CE9430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Старшая школа –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базовый уровень -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 11 класс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AF7A-EE7D-4164-8281-622CDC6B3A88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Элективный курс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Компьютерное делопроизвод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ый разде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главы 1-12) – теоретические знания по основам дело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торой  разде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главы 13-18) – практическое руководство по делопроизводству в электронном офис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D252-0554-41EF-BD5C-81CCF956292A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Модели об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5013-C6D7-4729-925B-D023E2A6AAF8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Макарова Наталья</a:t>
            </a:r>
            <a:r>
              <a:rPr b="0" lang="en-US" sz="1200" spc="-1" strike="noStrike">
                <a:solidFill>
                  <a:srgbClr val="160ce2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Владими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(812) </a:t>
            </a:r>
            <a:r>
              <a:rPr b="0" lang="en-US" sz="1200" spc="-1" strike="noStrike">
                <a:solidFill>
                  <a:srgbClr val="160ce2"/>
                </a:solidFill>
                <a:latin typeface="Times New Roman"/>
              </a:rPr>
              <a:t>571</a:t>
            </a: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-60-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ff"/>
                </a:solidFill>
                <a:latin typeface="Times New Roman"/>
              </a:rPr>
              <a:t>makarova@ibi.metrocom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0C8D-F139-40FC-9C5F-A21E18171FC7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3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ребования стандарт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знать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оним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сновные технологии создания, редактирования, оформления, сохранения, передачи информационных объектов различного типа с помощью современных программных средств информационных и коммуник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Назначение и виды информационных моделей, описывающих реальные объекты и процесс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Назначение и функции операционных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0227-4BAC-4D1C-9556-41EFCFA8A7C8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5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ребования стандарта</a:t>
            </a:r>
            <a:br>
              <a:rPr sz="11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ум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перировать различными видами информационных объектов и соотносить результаты с реальными объе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Распознавать и описывать 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Использовать готовые информационные модели и оценивать их соответствие реальному объекту и целя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ценивать достоверность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Иллюстрировать учебные работы с использованием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Создавать информационные объекты сложной струк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Создавать, редактировать и пр. записи в база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Наглядно представлять числовые показатели с помощью деловой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040A-242D-4C67-8C91-3814EF688066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8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ребования стандарта</a:t>
            </a:r>
            <a:br>
              <a:rPr sz="1100"/>
            </a:br>
            <a:br>
              <a:rPr sz="11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использовать в практ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Эффективно применять информационные образовательные ресурсы в учебн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риентироваться в информационном простран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Автоматизировать коммуникационную деяте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Соблюдать этические и правовые нормы при работе с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Эффективно организовывать индивидуальное информационное простран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5451-1CB7-4C4C-945D-1CEFA41674C4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нализ заданий ЕГЭ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соответствие требованиям стандарт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по данным за 2004, 2005 год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7B6E-B7E2-4EEF-BCDB-12C794E2CAC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619E-4574-4155-996F-C281B178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2C1-9C89-4782-8C95-D1C2A08A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E6A-ED00-4CF5-A8C4-187F9DC6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5736-A446-4855-9134-1D91B163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CEF9-34B0-4BD4-837F-D365B1E5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409C-261A-44BE-B2BD-0AD8054B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0A65-5E05-4FBC-A2BF-ABD53616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EA8-7E98-4DDC-834E-8CD33AD7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9D4-EEB0-4CEC-8313-18518FAF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5C4-88CC-4AAB-9DDA-72F0FF7E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F44-4788-44B5-AB0A-D2959014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6AC-0A27-4BBF-9117-6E045AEA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40B5-1C7F-4D2E-AFB7-35896D62D8CC}" type="slidenum"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7.xm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" Target="slide4.xml"/><Relationship Id="rId7" Type="http://schemas.openxmlformats.org/officeDocument/2006/relationships/image" Target="../media/image11.png"/><Relationship Id="rId8" Type="http://schemas.openxmlformats.org/officeDocument/2006/relationships/slide" Target="slide5.xml"/><Relationship Id="rId9" Type="http://schemas.openxmlformats.org/officeDocument/2006/relationships/image" Target="../media/image12.png"/><Relationship Id="rId10" Type="http://schemas.openxmlformats.org/officeDocument/2006/relationships/slide" Target="slide6.xml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1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303120"/>
            <a:ext cx="914400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 Е М И Н А 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МОДЕЛИ ОБУЧЕНИЯ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НА БАЗЕ УЧЕБНО-МЕТОДИЧЕСКОГО КОМПЛЕКТА «ИНФОРМАТИКА и ИКТ»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(БАЗОВЫЙ УРОВЕНЬ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4564080"/>
            <a:ext cx="860400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227160"/>
            <a:ext cx="8915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4205160"/>
            <a:ext cx="914400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едущие:</a:t>
            </a:r>
            <a:br>
              <a:rPr sz="2400"/>
            </a:b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талья  Владимировна   Макарова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- руководитель авторского коллектива </a:t>
            </a:r>
            <a:br>
              <a:rPr sz="18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рофессор, доктор педагогических наук</a:t>
            </a: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Юлияна   Францевна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итова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 -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член авторского коллектива     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                    доцент,   кандидат педагогических наук</a:t>
            </a:r>
            <a:br>
              <a:rPr sz="2400"/>
            </a:b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заданий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4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0" name="Object 1027"/>
          <p:cNvGraphicFramePr/>
          <p:nvPr/>
        </p:nvGraphicFramePr>
        <p:xfrm>
          <a:off x="-1828800" y="993600"/>
          <a:ext cx="9043920" cy="522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8800" y="993600"/>
                    <a:ext cx="9043920" cy="522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1028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баллов за задания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4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5" name="Object 0"/>
          <p:cNvGraphicFramePr/>
          <p:nvPr/>
        </p:nvGraphicFramePr>
        <p:xfrm>
          <a:off x="20520" y="1135080"/>
          <a:ext cx="5127840" cy="50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135080"/>
                    <a:ext cx="512784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заданий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5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0" name="Object 3"/>
          <p:cNvGraphicFramePr/>
          <p:nvPr/>
        </p:nvGraphicFramePr>
        <p:xfrm>
          <a:off x="3240" y="1192320"/>
          <a:ext cx="5540400" cy="51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92320"/>
                    <a:ext cx="5540400" cy="51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баллов за задания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5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5" name="Object 1027"/>
          <p:cNvGraphicFramePr/>
          <p:nvPr/>
        </p:nvGraphicFramePr>
        <p:xfrm>
          <a:off x="-390600" y="1227240"/>
          <a:ext cx="6059520" cy="580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0600" y="1227240"/>
                    <a:ext cx="6059520" cy="58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1028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Анализ требований стандарта по линии «Алгоритмизация и программирование»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горитмизация упоминается в стандарте для основной школы. Дидактические единицы, посвященные алгоритмизации занимают  4 строки из 100 в стандарте для основной школы и 1,5 строки из 38 в стандарте для основной школы (базовый уровень), что в обоих случаях составляет 4% дидактических единиц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ирование в стандарте для основной школы не упоминается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ирование в стандарте для  старшей школы (базовый уровень) не упоминае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я ЕГЭ не соответствуют требованиям стандарта ни по содержанию, ни по удельному весу дидактических единиц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тех часах, что отводятся на изучение курса информатики и ИКТ по базисному учебному плану, научить алгоритмизации и программированию невозможн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пешно справитьс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даниями ЕГЭ могут только учащиеся физико-математического и информационно-технологического профил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льзя делать ЕГЭ по информатике обязательным, что пытались сделать в 2006 го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737160" y="45720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асть 2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914400" y="1828800"/>
            <a:ext cx="7467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Модернизация программы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и учебно-методического комплекта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рограмма непрерывного обучения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о дисциплине «Информатика и ИК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5" descr="picture"/>
          <p:cNvPicPr/>
          <p:nvPr/>
        </p:nvPicPr>
        <p:blipFill>
          <a:blip r:embed="rId1"/>
          <a:stretch/>
        </p:blipFill>
        <p:spPr>
          <a:xfrm>
            <a:off x="2438280" y="2209680"/>
            <a:ext cx="3657600" cy="44960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Основные цели обучения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60195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ответственного отношения к соблюдению этических и правовых норм информационной деятель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609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информационной культуры школь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вень которой определяют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990720" y="1295280"/>
            <a:ext cx="8153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а базовых знаний, отражающих вклад информатики в формирование        современной научной картины мира, роль информационных процессов в обществе и различных системах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ния и умения целенаправленной работы с информацией на основе системного подхода к анализу структуры объектов, создания и исследования информационных моделей;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ия применять, анализировать, преобразовывать информационные модели реальных объектов и процессов на базе современных информационно-коммуникационных  технологий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41148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логического мышления, творческого и познавательного потенциала школьника, его коммуникативных способностей на базе современного компьютерного инструментария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0" y="5181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ретение опыта использования информационных технологий в индивидуальной и коллективной, в том числе проектной деятельности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Учебно-методический комплек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05280" y="685440"/>
            <a:ext cx="9448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 Программа  для базового уровня (системно-информационная концепция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Учебник. 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Рабочая тетрадь № 1.  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Рабочая тетрадь № 2.  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СНОВНАЯ ШКО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Учебник. Теория. 7-9 класс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форматика и ИКТ. Практикум. 7-9 классы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нформатика и ИКТ. Задачник по моделированию. 9-11 классы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. Методическое пособие для учителей. 7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. Методическое пособие для учителей. 8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. Методическое пособие для учителей. 9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ТАРШАЯ ШКОЛА –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10 класс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11 класс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форматика и ИКТ. Практикум по программированию. 10-11 классы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мпьютерное делопроизводство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(элективный курс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457200" y="3276720"/>
            <a:ext cx="0" cy="1447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57200" y="4724280"/>
            <a:ext cx="129528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457200" y="3276720"/>
            <a:ext cx="15228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3"/>
          <p:cNvSpPr txBox="1"/>
          <p:nvPr/>
        </p:nvSpPr>
        <p:spPr>
          <a:xfrm>
            <a:off x="2057400" y="228600"/>
            <a:ext cx="5029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Содержание семинара</a:t>
            </a:r>
            <a:endParaRPr b="1" lang="en-US" sz="3200" spc="1" strike="noStrike">
              <a:ln w="936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9907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Требования Государственного образовательного стандарта «Информатика и ИКТ» для среднего (полного)  общего образования и ЕГ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0" y="2666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Модернизация программы и  учебно-методического комплект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0" y="3657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Модели тематического планирования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0" y="4572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Развитие линии алгоритмизации и программирования в учебно-методическом комплекте по информатике и ИКТ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                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- в основной школе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                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- в старшей школе – базовый уровень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5" descr="Методика 9 класс-1"/>
          <p:cNvPicPr/>
          <p:nvPr/>
        </p:nvPicPr>
        <p:blipFill>
          <a:blip r:embed="rId1"/>
          <a:stretch/>
        </p:blipFill>
        <p:spPr>
          <a:xfrm>
            <a:off x="7238880" y="3886200"/>
            <a:ext cx="1739880" cy="2514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Методика 8 класс-1"/>
          <p:cNvPicPr/>
          <p:nvPr/>
        </p:nvPicPr>
        <p:blipFill>
          <a:blip r:embed="rId2"/>
          <a:stretch/>
        </p:blipFill>
        <p:spPr>
          <a:xfrm>
            <a:off x="6934320" y="1981080"/>
            <a:ext cx="1643040" cy="24717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866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УЧЕБНО-МЕТОДИЧЕСКИЙ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ОМПЛЕК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09480" y="914400"/>
            <a:ext cx="624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«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Verdana"/>
                <a:hlinkClick r:id="rId3" action="ppaction://hlinksldjump"/>
              </a:rPr>
              <a:t>ИНФОРМАТИКА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 И ИКТ»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Rab-tetr5"/>
          <p:cNvPicPr/>
          <p:nvPr/>
        </p:nvPicPr>
        <p:blipFill>
          <a:blip r:embed="rId4"/>
          <a:stretch/>
        </p:blipFill>
        <p:spPr>
          <a:xfrm>
            <a:off x="2154240" y="1766880"/>
            <a:ext cx="1685880" cy="2255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Rab-tetr6"/>
          <p:cNvPicPr/>
          <p:nvPr/>
        </p:nvPicPr>
        <p:blipFill>
          <a:blip r:embed="rId5"/>
          <a:stretch/>
        </p:blipFill>
        <p:spPr>
          <a:xfrm>
            <a:off x="4130640" y="1766880"/>
            <a:ext cx="1812960" cy="2266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7-9teor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4267080"/>
            <a:ext cx="1747800" cy="2292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Praktikum7-9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438280" y="4267080"/>
            <a:ext cx="1754280" cy="2281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Zadachnik7-9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648320" y="4267080"/>
            <a:ext cx="1739880" cy="2266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Nach-kurs5-6"/>
          <p:cNvPicPr/>
          <p:nvPr/>
        </p:nvPicPr>
        <p:blipFill>
          <a:blip r:embed="rId12"/>
          <a:stretch/>
        </p:blipFill>
        <p:spPr>
          <a:xfrm>
            <a:off x="182520" y="1725480"/>
            <a:ext cx="1730520" cy="2252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Методика 7 класс-1"/>
          <p:cNvPicPr/>
          <p:nvPr/>
        </p:nvPicPr>
        <p:blipFill>
          <a:blip r:embed="rId13"/>
          <a:stretch/>
        </p:blipFill>
        <p:spPr>
          <a:xfrm>
            <a:off x="7315200" y="228600"/>
            <a:ext cx="1654200" cy="23414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4200" y="28872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7" name="Picture 3" descr="10-11"/>
          <p:cNvPicPr/>
          <p:nvPr/>
        </p:nvPicPr>
        <p:blipFill>
          <a:blip r:embed="rId1"/>
          <a:stretch/>
        </p:blipFill>
        <p:spPr>
          <a:xfrm>
            <a:off x="533520" y="2209680"/>
            <a:ext cx="1800000" cy="238464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2438280" y="2895480"/>
            <a:ext cx="1578240" cy="936720"/>
          </a:xfrm>
          <a:prstGeom prst="rightArrow">
            <a:avLst>
              <a:gd name="adj1" fmla="val 50000"/>
              <a:gd name="adj2" fmla="val 4212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590920" y="380988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05-2006 г.г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10" descr="Практикум программ-10-11"/>
          <p:cNvPicPr/>
          <p:nvPr/>
        </p:nvPicPr>
        <p:blipFill>
          <a:blip r:embed="rId2"/>
          <a:stretch/>
        </p:blipFill>
        <p:spPr>
          <a:xfrm>
            <a:off x="5334120" y="1828800"/>
            <a:ext cx="3581280" cy="293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10 кл-обложка-2"/>
          <p:cNvPicPr/>
          <p:nvPr/>
        </p:nvPicPr>
        <p:blipFill>
          <a:blip r:embed="rId3"/>
          <a:stretch/>
        </p:blipFill>
        <p:spPr>
          <a:xfrm>
            <a:off x="4648320" y="838080"/>
            <a:ext cx="2017440" cy="2614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11-2"/>
          <p:cNvPicPr/>
          <p:nvPr/>
        </p:nvPicPr>
        <p:blipFill>
          <a:blip r:embed="rId4"/>
          <a:stretch/>
        </p:blipFill>
        <p:spPr>
          <a:xfrm>
            <a:off x="4724280" y="3809880"/>
            <a:ext cx="1949400" cy="2590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26"/>
          <p:cNvSpPr/>
          <p:nvPr/>
        </p:nvSpPr>
        <p:spPr>
          <a:xfrm>
            <a:off x="3124080" y="1447920"/>
            <a:ext cx="2971800" cy="49528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ИЧЕСКО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ЫХ ПРОЦЕСС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рхитектура компьютер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цессор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енняя памят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ешняя памят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иферийные устройств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ная сет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дирование информации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ические основы построения компьютер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027"/>
          <p:cNvSpPr/>
          <p:nvPr/>
        </p:nvSpPr>
        <p:spPr>
          <a:xfrm>
            <a:off x="0" y="1447920"/>
            <a:ext cx="3048120" cy="510516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ИНА МИ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онный процесс                 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ъект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ификация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дел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онная модел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делирование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ный 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сперимент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1028"/>
          <p:cNvSpPr/>
          <p:nvPr/>
        </p:nvSpPr>
        <p:spPr>
          <a:xfrm>
            <a:off x="6134040" y="1447920"/>
            <a:ext cx="3009960" cy="4957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ЫХ ПРОЦЕСС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айл, папк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ная сред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а программировани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струментарий программировани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кладная сред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ный документ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дактирование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атирование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029"/>
          <p:cNvSpPr/>
          <p:nvPr/>
        </p:nvSpPr>
        <p:spPr>
          <a:xfrm>
            <a:off x="457200" y="228600"/>
            <a:ext cx="8458200" cy="6094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ТИКА и  ИК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Group 1030"/>
          <p:cNvGrpSpPr/>
          <p:nvPr/>
        </p:nvGrpSpPr>
        <p:grpSpPr>
          <a:xfrm>
            <a:off x="1219320" y="838080"/>
            <a:ext cx="6994440" cy="614160"/>
            <a:chOff x="1219320" y="838080"/>
            <a:chExt cx="6994440" cy="614160"/>
          </a:xfrm>
        </p:grpSpPr>
        <p:sp>
          <p:nvSpPr>
            <p:cNvPr id="149" name="Line 1031"/>
            <p:cNvSpPr/>
            <p:nvPr/>
          </p:nvSpPr>
          <p:spPr>
            <a:xfrm>
              <a:off x="1219320" y="1150200"/>
              <a:ext cx="6994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1032"/>
            <p:cNvSpPr/>
            <p:nvPr/>
          </p:nvSpPr>
          <p:spPr>
            <a:xfrm>
              <a:off x="4494600" y="115020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1033"/>
            <p:cNvSpPr/>
            <p:nvPr/>
          </p:nvSpPr>
          <p:spPr>
            <a:xfrm>
              <a:off x="1228680" y="115020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1034"/>
            <p:cNvSpPr/>
            <p:nvPr/>
          </p:nvSpPr>
          <p:spPr>
            <a:xfrm>
              <a:off x="8204400" y="115020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Line 1035"/>
            <p:cNvSpPr/>
            <p:nvPr/>
          </p:nvSpPr>
          <p:spPr>
            <a:xfrm>
              <a:off x="4494600" y="83808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4" name="Text Box 1036"/>
          <p:cNvSpPr/>
          <p:nvPr/>
        </p:nvSpPr>
        <p:spPr>
          <a:xfrm>
            <a:off x="5321160" y="576252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ЛОК 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037"/>
          <p:cNvSpPr/>
          <p:nvPr/>
        </p:nvSpPr>
        <p:spPr>
          <a:xfrm>
            <a:off x="6477120" y="2895480"/>
            <a:ext cx="2286000" cy="0"/>
          </a:xfrm>
          <a:prstGeom prst="line">
            <a:avLst/>
          </a:prstGeom>
          <a:ln w="15840">
            <a:solidFill>
              <a:srgbClr val="b8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038"/>
          <p:cNvSpPr/>
          <p:nvPr/>
        </p:nvSpPr>
        <p:spPr>
          <a:xfrm>
            <a:off x="222120" y="2819520"/>
            <a:ext cx="2286000" cy="0"/>
          </a:xfrm>
          <a:prstGeom prst="line">
            <a:avLst/>
          </a:prstGeom>
          <a:ln w="15840">
            <a:solidFill>
              <a:srgbClr val="b8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1039"/>
          <p:cNvSpPr/>
          <p:nvPr/>
        </p:nvSpPr>
        <p:spPr>
          <a:xfrm>
            <a:off x="3352680" y="2852640"/>
            <a:ext cx="2286000" cy="0"/>
          </a:xfrm>
          <a:prstGeom prst="line">
            <a:avLst/>
          </a:prstGeom>
          <a:ln w="15840">
            <a:solidFill>
              <a:srgbClr val="b8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737160" y="45720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асть 3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1295280" y="1828800"/>
            <a:ext cx="6324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Модели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тематического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планирования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3"/>
          <p:cNvSpPr txBox="1"/>
          <p:nvPr/>
        </p:nvSpPr>
        <p:spPr>
          <a:xfrm>
            <a:off x="762120" y="18288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Начальный уровень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Rab-tetr5"/>
          <p:cNvPicPr/>
          <p:nvPr/>
        </p:nvPicPr>
        <p:blipFill>
          <a:blip r:embed="rId1"/>
          <a:stretch/>
        </p:blipFill>
        <p:spPr>
          <a:xfrm rot="19123800">
            <a:off x="533160" y="4343040"/>
            <a:ext cx="1685880" cy="2255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Rab-tetr6"/>
          <p:cNvPicPr/>
          <p:nvPr/>
        </p:nvPicPr>
        <p:blipFill>
          <a:blip r:embed="rId2"/>
          <a:stretch/>
        </p:blipFill>
        <p:spPr>
          <a:xfrm rot="1770600">
            <a:off x="2895120" y="4343040"/>
            <a:ext cx="1812960" cy="2266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Nach-kurs5-6"/>
          <p:cNvPicPr/>
          <p:nvPr/>
        </p:nvPicPr>
        <p:blipFill>
          <a:blip r:embed="rId3"/>
          <a:stretch/>
        </p:blipFill>
        <p:spPr>
          <a:xfrm>
            <a:off x="6553080" y="4267080"/>
            <a:ext cx="1730520" cy="22528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5"/>
          <p:cNvSpPr txBox="1"/>
          <p:nvPr/>
        </p:nvSpPr>
        <p:spPr>
          <a:xfrm>
            <a:off x="914400" y="152280"/>
            <a:ext cx="7620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</a:t>
            </a:r>
            <a:endParaRPr b="1" lang="en-US" sz="2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533520" y="1219320"/>
            <a:ext cx="7543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(начальный уровень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80880" y="1828800"/>
          <a:ext cx="8382240" cy="1757520"/>
        </p:xfrm>
        <a:graphic>
          <a:graphicData uri="http://schemas.openxmlformats.org/drawingml/2006/table">
            <a:tbl>
              <a:tblPr/>
              <a:tblGrid>
                <a:gridCol w="1909800"/>
                <a:gridCol w="6472440"/>
              </a:tblGrid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мся работать на компьютер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график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а программирования ЛогоМир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WordArt 24"/>
          <p:cNvSpPr txBox="1"/>
          <p:nvPr/>
        </p:nvSpPr>
        <p:spPr>
          <a:xfrm>
            <a:off x="838080" y="3733920"/>
            <a:ext cx="42674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6">
                    <a:alphaModFix amt="48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абочие тетради</a:t>
            </a:r>
            <a:endParaRPr b="1" lang="en-US" sz="2800" spc="1" strike="noStrike">
              <a:ln w="0">
                <a:noFill/>
              </a:ln>
              <a:blipFill rotWithShape="0">
                <a:blip r:embed="rId7">
                  <a:alphaModFix amt="48000"/>
                </a:blip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25"/>
          <p:cNvSpPr txBox="1"/>
          <p:nvPr/>
        </p:nvSpPr>
        <p:spPr>
          <a:xfrm>
            <a:off x="5791320" y="3809880"/>
            <a:ext cx="3047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92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8">
                    <a:alphaModFix amt="48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Учебник</a:t>
            </a:r>
            <a:endParaRPr b="1" lang="en-US" sz="2800" spc="1" strike="noStrike">
              <a:ln w="0">
                <a:noFill/>
              </a:ln>
              <a:blipFill rotWithShape="0">
                <a:blip r:embed="rId9">
                  <a:alphaModFix amt="48000"/>
                </a:blip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Начальный уровень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80880" y="530280"/>
          <a:ext cx="8763120" cy="5965920"/>
        </p:xfrm>
        <a:graphic>
          <a:graphicData uri="http://schemas.openxmlformats.org/drawingml/2006/table">
            <a:tbl>
              <a:tblPr/>
              <a:tblGrid>
                <a:gridCol w="542880"/>
                <a:gridCol w="5427720"/>
                <a:gridCol w="932040"/>
                <a:gridCol w="1022400"/>
                <a:gridCol w="838080"/>
              </a:tblGrid>
              <a:tr h="425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учение работе на компьютер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dow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Блокнот, Калькулятор, составной документ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ьютерная графика как средство развития творческого потенциала (алгоритм, точное построение графических объектов, конструирование из мозаики, моделирование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а программирования Лого Миры как средство развития алгоритмического и логического мышл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762120" y="1828800"/>
            <a:ext cx="7467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Основная школа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7-9teo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2880" y="990720"/>
            <a:ext cx="1917720" cy="2514600"/>
          </a:xfrm>
          <a:prstGeom prst="rect">
            <a:avLst/>
          </a:prstGeom>
          <a:ln w="0">
            <a:noFill/>
          </a:ln>
        </p:spPr>
      </p:pic>
      <p:sp>
        <p:nvSpPr>
          <p:cNvPr id="179" name="WordArt 3"/>
          <p:cNvSpPr txBox="1"/>
          <p:nvPr/>
        </p:nvSpPr>
        <p:spPr>
          <a:xfrm>
            <a:off x="457200" y="228600"/>
            <a:ext cx="8001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7-9</a:t>
            </a:r>
            <a:endParaRPr b="1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80880" y="3429000"/>
          <a:ext cx="8452080" cy="3211560"/>
        </p:xfrm>
        <a:graphic>
          <a:graphicData uri="http://schemas.openxmlformats.org/drawingml/2006/table">
            <a:tbl>
              <a:tblPr/>
              <a:tblGrid>
                <a:gridCol w="1822680"/>
                <a:gridCol w="66294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я. Информационные процесс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ая картина ми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ое обеспечение И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4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 И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рия, современное состояние и перспективы компьютерной техники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Теор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914400" y="1371600"/>
            <a:ext cx="39625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Практику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380880" y="0"/>
            <a:ext cx="795816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7-9</a:t>
            </a:r>
            <a:endParaRPr b="1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2590920"/>
          <a:ext cx="8404200" cy="4078080"/>
        </p:xfrm>
        <a:graphic>
          <a:graphicData uri="http://schemas.openxmlformats.org/drawingml/2006/table">
            <a:tbl>
              <a:tblPr/>
              <a:tblGrid>
                <a:gridCol w="1566720"/>
                <a:gridCol w="6837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истемной среды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dow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реды графического редакт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реды текстового процесс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4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реды табличного процесс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УБД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6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ции в Интерне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7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8.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ирование в среде ЛОГ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алгоритмизац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Picture 41" descr="практикум 7-9"/>
          <p:cNvPicPr/>
          <p:nvPr/>
        </p:nvPicPr>
        <p:blipFill>
          <a:blip r:embed="rId4"/>
          <a:stretch/>
        </p:blipFill>
        <p:spPr>
          <a:xfrm>
            <a:off x="7010280" y="990720"/>
            <a:ext cx="1781280" cy="21524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027"/>
          <p:cNvSpPr/>
          <p:nvPr/>
        </p:nvSpPr>
        <p:spPr>
          <a:xfrm>
            <a:off x="3737160" y="45720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асть 1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WordArt 1028"/>
          <p:cNvSpPr txBox="1"/>
          <p:nvPr/>
        </p:nvSpPr>
        <p:spPr>
          <a:xfrm>
            <a:off x="1066680" y="1752480"/>
            <a:ext cx="70866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Требования государственного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образовательного стандарта   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"Информатика и ИКТ"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для среднего (полного)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общего образования и ЕГЭ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457200" y="22860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9-11</a:t>
            </a:r>
            <a:endParaRPr b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9144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(базовый уровень)</a:t>
            </a:r>
            <a:br>
              <a:rPr sz="3600"/>
            </a:b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Задачник по моделированию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-228600" y="5873760"/>
            <a:ext cx="937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04640" y="2489040"/>
          <a:ext cx="8224920" cy="3743640"/>
        </p:xfrm>
        <a:graphic>
          <a:graphicData uri="http://schemas.openxmlformats.org/drawingml/2006/table">
            <a:tbl>
              <a:tblPr/>
              <a:tblGrid>
                <a:gridCol w="1903680"/>
                <a:gridCol w="63212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рование в среде графического редакт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рование в среде  текстового процесс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рование в электронны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блица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4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ые модели в базах данны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219320" y="533520"/>
            <a:ext cx="6748200" cy="22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етодические пособия </a:t>
            </a:r>
            <a:endParaRPr b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для учителей</a:t>
            </a:r>
            <a:endParaRPr b="1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Picture 3" descr="Методика 7 класс-1"/>
          <p:cNvPicPr/>
          <p:nvPr/>
        </p:nvPicPr>
        <p:blipFill>
          <a:blip r:embed="rId5"/>
          <a:stretch/>
        </p:blipFill>
        <p:spPr>
          <a:xfrm>
            <a:off x="1393920" y="3475080"/>
            <a:ext cx="1854000" cy="2624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Методика 8 класс-1"/>
          <p:cNvPicPr/>
          <p:nvPr/>
        </p:nvPicPr>
        <p:blipFill>
          <a:blip r:embed="rId6"/>
          <a:stretch/>
        </p:blipFill>
        <p:spPr>
          <a:xfrm>
            <a:off x="3795840" y="3427560"/>
            <a:ext cx="1841400" cy="2770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Методика 9 класс-1"/>
          <p:cNvPicPr/>
          <p:nvPr/>
        </p:nvPicPr>
        <p:blipFill>
          <a:blip r:embed="rId7"/>
          <a:stretch/>
        </p:blipFill>
        <p:spPr>
          <a:xfrm>
            <a:off x="6172200" y="3429000"/>
            <a:ext cx="1949400" cy="28177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Основная школа –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/8/9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709560"/>
          <a:ext cx="9144000" cy="5988240"/>
        </p:xfrm>
        <a:graphic>
          <a:graphicData uri="http://schemas.openxmlformats.org/drawingml/2006/table">
            <a:tbl>
              <a:tblPr/>
              <a:tblGrid>
                <a:gridCol w="380880"/>
                <a:gridCol w="5486400"/>
                <a:gridCol w="838440"/>
                <a:gridCol w="990360"/>
                <a:gridCol w="762120"/>
                <a:gridCol w="685800"/>
              </a:tblGrid>
              <a:tr h="40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формационная картина ми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3 года – 54 час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граммное обеспечение информационных технологи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3 года – 116 час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ническое обеспечение информационных технолог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3 года – 23 час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Информационная картина мира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0" y="380880"/>
            <a:ext cx="9829800" cy="70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нятие об информ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деятельность человек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ые процессы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б объектах окружающего ми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модель объект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8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б объектах окружающего мира (повтор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модель объекта (продолжение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ые основы процессов управления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9 клас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модель объекта (повтор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системе объект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ые этапы моделирования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елирование в программных средах: графическом редакторе, текстовом процессоре, базах данных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классификации объект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ассификация моделе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рограммное обеспечение информационных технологий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0" y="793800"/>
            <a:ext cx="8763120" cy="61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ная сред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афический редактор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i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кстовый процессор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or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алгоритмиз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программ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а программирования ЛОГО 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----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8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алгоритмиз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а программирования ЛОГО 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----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ная сред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абличный процессор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c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щая характеристика прикладной среды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ммуникации в глобальной сети Интерне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9 клас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алгоритмиз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ассификация программ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а управления базой данных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ехническое обеспечение информационных технологий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0" y="1143000"/>
            <a:ext cx="914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компьютер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стройство памят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стройства ввода и вывода информ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8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микропроцессор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заимодействие устройств компьюте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дирование информации в компьютер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тория развития компьютер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ассификация компьютер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9 клас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ппаратное обеспечение работы компьютерных сете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огические основы построения компьюте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Основная школа –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8/9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709560"/>
          <a:ext cx="9144000" cy="5988240"/>
        </p:xfrm>
        <a:graphic>
          <a:graphicData uri="http://schemas.openxmlformats.org/drawingml/2006/table">
            <a:tbl>
              <a:tblPr/>
              <a:tblGrid>
                <a:gridCol w="380880"/>
                <a:gridCol w="5486400"/>
                <a:gridCol w="838440"/>
                <a:gridCol w="990360"/>
                <a:gridCol w="762120"/>
                <a:gridCol w="685800"/>
              </a:tblGrid>
              <a:tr h="40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формационная картина ми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2 года – 32 час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граммное обеспечение информационных технологий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2 года – 81 час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ническое обеспечение информационных технолог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2 года – 15 час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2"/>
          <p:cNvSpPr txBox="1"/>
          <p:nvPr/>
        </p:nvSpPr>
        <p:spPr>
          <a:xfrm>
            <a:off x="762120" y="1828800"/>
            <a:ext cx="7696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Старшая школа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Старшая школа – базовый уровень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6" name="Picture 10" descr="Практикум программ-10-11"/>
          <p:cNvPicPr/>
          <p:nvPr/>
        </p:nvPicPr>
        <p:blipFill>
          <a:blip r:embed="rId1"/>
          <a:stretch/>
        </p:blipFill>
        <p:spPr>
          <a:xfrm>
            <a:off x="4724280" y="3270240"/>
            <a:ext cx="4267440" cy="3282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10 кл-обложка-2"/>
          <p:cNvPicPr/>
          <p:nvPr/>
        </p:nvPicPr>
        <p:blipFill>
          <a:blip r:embed="rId2"/>
          <a:stretch/>
        </p:blipFill>
        <p:spPr>
          <a:xfrm>
            <a:off x="457200" y="990720"/>
            <a:ext cx="2881440" cy="3733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11-2"/>
          <p:cNvPicPr/>
          <p:nvPr/>
        </p:nvPicPr>
        <p:blipFill>
          <a:blip r:embed="rId3"/>
          <a:stretch/>
        </p:blipFill>
        <p:spPr>
          <a:xfrm>
            <a:off x="3429000" y="2362320"/>
            <a:ext cx="2666880" cy="350496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Старшая школа –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базовый уровень -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10 класс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457200"/>
          <a:ext cx="9144000" cy="6296040"/>
        </p:xfrm>
        <a:graphic>
          <a:graphicData uri="http://schemas.openxmlformats.org/drawingml/2006/table">
            <a:tbl>
              <a:tblPr/>
              <a:tblGrid>
                <a:gridCol w="457200"/>
                <a:gridCol w="5181480"/>
                <a:gridCol w="914400"/>
                <a:gridCol w="990720"/>
                <a:gridCol w="762120"/>
                <a:gridCol w="838080"/>
              </a:tblGrid>
              <a:tr h="40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ые процессы, модели, объект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работы  с объектами текстового документ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о-коммуникационные              технологии в компьютерной се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/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представле-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ния информации в виде презентац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обработки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данных в среде табличного процессор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разработки проект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Основы программирования в среде </a:t>
                      </a:r>
                      <a:r>
                        <a:rPr b="1" lang="en-US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Visual Basi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/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/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6/2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2/4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Государственный стандарт общего образования включает три компонента:</a:t>
            </a:r>
            <a:br>
              <a:rPr sz="24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едераль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нент – устанавливается Российской Федераци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гиональ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ционально-региональный) компонент – устанавливается субъектом Российской Федерац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мпонент образовательного учрежд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амостоятельно устанавливается образовательным учрежден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57200" y="5867280"/>
            <a:ext cx="8458200" cy="398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00"/>
              </a:gs>
            </a:gsLst>
            <a:lin ang="5400000"/>
          </a:gra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ЦЕНТРИЧЕСКИЙ ПРИНЦИП ОБУЧЕНИЯ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Старшая школа –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базовый уровень -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11 класс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457200"/>
          <a:ext cx="9144000" cy="6031080"/>
        </p:xfrm>
        <a:graphic>
          <a:graphicData uri="http://schemas.openxmlformats.org/drawingml/2006/table">
            <a:tbl>
              <a:tblPr/>
              <a:tblGrid>
                <a:gridCol w="457200"/>
                <a:gridCol w="5181480"/>
                <a:gridCol w="914400"/>
                <a:gridCol w="990720"/>
                <a:gridCol w="762120"/>
                <a:gridCol w="838080"/>
              </a:tblGrid>
              <a:tr h="40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Основы социальной информати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ые системы и технологи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автоматизированной обработки текстовых документ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хранения данных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Основы программирования в среде </a:t>
                      </a:r>
                      <a:r>
                        <a:rPr b="1" lang="en-US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Visual Basi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Подготовка к экзаменам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/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6/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2/2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0/5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Элективный курс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Компьютерное делопроизводство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505320" y="1981080"/>
            <a:ext cx="510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ервый раздел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(главы 1-12) – теоретические знания по основам делопроизводств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200400" y="3886200"/>
            <a:ext cx="57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Второй  раздел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(главы 13-18) – практическое руководство по делопроизводству в электронном офис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8" descr="picture"/>
          <p:cNvPicPr/>
          <p:nvPr/>
        </p:nvPicPr>
        <p:blipFill>
          <a:blip r:embed="rId1"/>
          <a:stretch/>
        </p:blipFill>
        <p:spPr>
          <a:xfrm>
            <a:off x="304920" y="1447920"/>
            <a:ext cx="3047760" cy="43988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Модели обучения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1066680"/>
          <a:ext cx="8839080" cy="5168880"/>
        </p:xfrm>
        <a:graphic>
          <a:graphicData uri="http://schemas.openxmlformats.org/drawingml/2006/table">
            <a:tbl>
              <a:tblPr/>
              <a:tblGrid>
                <a:gridCol w="2111400"/>
                <a:gridCol w="477720"/>
                <a:gridCol w="614520"/>
                <a:gridCol w="473040"/>
                <a:gridCol w="703080"/>
                <a:gridCol w="704880"/>
                <a:gridCol w="703440"/>
                <a:gridCol w="704880"/>
                <a:gridCol w="703080"/>
                <a:gridCol w="625680"/>
                <a:gridCol w="1017360"/>
              </a:tblGrid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. тетради (5-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. тетради (5-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. тетради (5-6) + Лого (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6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стандарт (10-1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стандарту 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зовый уровен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+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33" name="Line 592"/>
          <p:cNvSpPr/>
          <p:nvPr/>
        </p:nvSpPr>
        <p:spPr>
          <a:xfrm>
            <a:off x="1143000" y="4648320"/>
            <a:ext cx="30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3"/>
          <p:cNvSpPr/>
          <p:nvPr/>
        </p:nvSpPr>
        <p:spPr>
          <a:xfrm>
            <a:off x="684360" y="1628640"/>
            <a:ext cx="7848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Макарова Наталья</a:t>
            </a:r>
            <a:r>
              <a:rPr b="1" lang="en-US" sz="3200" spc="-1" strike="noStrike">
                <a:solidFill>
                  <a:srgbClr val="160ce2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Владимировн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(812) </a:t>
            </a:r>
            <a:r>
              <a:rPr b="1" lang="en-US" sz="3200" spc="-1" strike="noStrike">
                <a:solidFill>
                  <a:srgbClr val="160ce2"/>
                </a:solidFill>
                <a:latin typeface="Verdana"/>
              </a:rPr>
              <a:t>571</a:t>
            </a: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-60-44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makarova@ibi.metrocom.ru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8459640" y="6291360"/>
            <a:ext cx="684360" cy="566640"/>
          </a:xfrm>
          <a:custGeom>
            <a:avLst/>
            <a:gdLst>
              <a:gd name="textAreaLeft" fmla="*/ 36720 w 684360"/>
              <a:gd name="textAreaRight" fmla="*/ 647640 w 68436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26085" h="21600">
                <a:moveTo>
                  <a:pt x="0" y="0"/>
                </a:moveTo>
                <a:lnTo>
                  <a:pt x="26085" y="0"/>
                </a:lnTo>
                <a:lnTo>
                  <a:pt x="26085" y="21600"/>
                </a:lnTo>
                <a:lnTo>
                  <a:pt x="0" y="21600"/>
                </a:lnTo>
                <a:close/>
              </a:path>
              <a:path fill="lightenLess" w="26085" h="21600">
                <a:moveTo>
                  <a:pt x="0" y="0"/>
                </a:moveTo>
                <a:lnTo>
                  <a:pt x="26085" y="0"/>
                </a:lnTo>
                <a:lnTo>
                  <a:pt x="24685" y="1400"/>
                </a:lnTo>
                <a:lnTo>
                  <a:pt x="1400" y="1400"/>
                </a:lnTo>
                <a:close/>
              </a:path>
              <a:path fill="darken" w="26085" h="21600">
                <a:moveTo>
                  <a:pt x="26085" y="0"/>
                </a:moveTo>
                <a:lnTo>
                  <a:pt x="26085" y="21600"/>
                </a:lnTo>
                <a:lnTo>
                  <a:pt x="24685" y="20200"/>
                </a:lnTo>
                <a:lnTo>
                  <a:pt x="24685" y="1400"/>
                </a:lnTo>
                <a:close/>
              </a:path>
              <a:path fill="darkenLess" w="26085" h="21600">
                <a:moveTo>
                  <a:pt x="260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5" y="20200"/>
                </a:lnTo>
                <a:close/>
              </a:path>
              <a:path fill="lighten" w="260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5" h="21600">
                <a:moveTo>
                  <a:pt x="6036" y="7493"/>
                </a:moveTo>
                <a:lnTo>
                  <a:pt x="9543" y="7493"/>
                </a:lnTo>
                <a:lnTo>
                  <a:pt x="9543" y="12828"/>
                </a:lnTo>
                <a:cubicBezTo>
                  <a:pt x="9543" y="13751"/>
                  <a:pt x="10344" y="14482"/>
                  <a:pt x="11380" y="14482"/>
                </a:cubicBezTo>
                <a:lnTo>
                  <a:pt x="13042" y="14482"/>
                </a:lnTo>
                <a:cubicBezTo>
                  <a:pt x="14078" y="14482"/>
                  <a:pt x="14879" y="13751"/>
                  <a:pt x="14879" y="12828"/>
                </a:cubicBezTo>
                <a:lnTo>
                  <a:pt x="14879" y="7493"/>
                </a:lnTo>
                <a:lnTo>
                  <a:pt x="13042" y="7493"/>
                </a:lnTo>
                <a:lnTo>
                  <a:pt x="16550" y="3985"/>
                </a:lnTo>
                <a:lnTo>
                  <a:pt x="20223" y="7493"/>
                </a:lnTo>
                <a:lnTo>
                  <a:pt x="18386" y="7493"/>
                </a:lnTo>
                <a:lnTo>
                  <a:pt x="18386" y="12828"/>
                </a:lnTo>
                <a:cubicBezTo>
                  <a:pt x="18386" y="15596"/>
                  <a:pt x="15810" y="18155"/>
                  <a:pt x="13042" y="18155"/>
                </a:cubicBezTo>
                <a:lnTo>
                  <a:pt x="11380" y="18155"/>
                </a:lnTo>
                <a:cubicBezTo>
                  <a:pt x="8612" y="18155"/>
                  <a:pt x="6036" y="15596"/>
                  <a:pt x="6036" y="12828"/>
                </a:cubicBez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ребования стандарта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знать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онимать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28600" y="1447920"/>
            <a:ext cx="822960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сновные технологии создания, редактирования, оформления, сохранения, передачи информационных объектов различного типа с помощью современных программных средств информационных и коммуникационных технологи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Назначение и виды информационных моделей, описывающих реальные объекты и процессы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Назначение и функции операционных систем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ребования стандарта</a:t>
            </a: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уметь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8600" y="609480"/>
            <a:ext cx="891540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перировать различными видами информационных объектов и соотносить результаты с реальными объектам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Распознавать и описывать информационные процесс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Использовать готовые информационные модели и оценивать их соответствие реальному объекту и целям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ценивать достоверность информаци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Иллюстрировать учебные работы с использованием И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Создавать информационные объекты сложной структур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Создавать, редактировать и пр. записи в базах данных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Наглядно представлять числовые показатели с помощью деловой график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ребования стандарта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использовать в практической деятельности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57200" y="1371600"/>
            <a:ext cx="868680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Эффективно применять информационные образовательные ресурсы в учебной деятельност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риентироваться в информационном пространстве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Автоматизировать коммуникационную деятельност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Соблюдать этические и правовые нормы при работе с информацие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Эффективно организовывать индивидуальное информационное пространств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28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Анализ заданий ЕГЭ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на соответствие требованиям стандарта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(по данным за 2004, 2005 годы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0"/>
          <a:ext cx="9144000" cy="6954840"/>
        </p:xfrm>
        <a:graphic>
          <a:graphicData uri="http://schemas.openxmlformats.org/drawingml/2006/table">
            <a:tbl>
              <a:tblPr/>
              <a:tblGrid>
                <a:gridCol w="4664160"/>
                <a:gridCol w="1297080"/>
                <a:gridCol w="973080"/>
                <a:gridCol w="1236600"/>
                <a:gridCol w="97308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Элементы содержания,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проверяемые заданиями ЕГ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Задан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Бал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Задан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Бал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Информация и ее кодиров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Алгоритмизация и программиров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Основы логик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Моделирование и компьютерный эксп-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Социальная информати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Основные устройства ИК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Программные средства ИК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об-ки текстовой информаци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обр-ки граф-й и зву-й ин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об-ки инф в электр-х таб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хранения, поиска и сортировки информации в базах данны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лекоммуникационные технологи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Итог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5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3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5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0:50:39Z</dcterms:created>
  <dc:creator>MNV</dc:creator>
  <dc:description/>
  <dc:language>en-US</dc:language>
  <cp:lastModifiedBy>LEGION</cp:lastModifiedBy>
  <dcterms:modified xsi:type="dcterms:W3CDTF">2015-04-01T07:31:47Z</dcterms:modified>
  <cp:revision>348</cp:revision>
  <dc:subject/>
  <dc:title>Презентация PowerPoint</dc:title>
</cp:coreProperties>
</file>